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98E-F041-4E9B-A462-6A46A2ED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7EF-C4AC-4D31-BBF1-037A3564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FC5-95C4-4A99-84DB-2B879936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982-D2D7-460E-866E-C268A929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730D-60FD-4F0B-AA05-32CD50FB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AAEA-764E-4DFB-9AB6-F6FC4EA5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CD9B-6212-4F10-B0F7-47FA45F6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EB39-1922-4C9E-A85B-1D29A4E6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1751-9BA2-43FE-A660-B3AD8630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28FE-3B27-47D8-A4D8-A8A39BA4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94D3-6D21-4111-AF89-99F82AF0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4EA-9FE3-45A6-8BAE-DDCE2270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70A8-E481-45E8-BCD7-8051C724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CAB-7E53-4E18-AAA5-1824E6B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2AF1-3719-4626-9EA7-A2384C34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1DED-2A49-45BB-8A7C-DBB0BBFC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C72A-E23E-40FC-B7BF-02FC5663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5B4-ACC5-412D-9F38-17B3619F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523-1BE0-45CA-B7A2-3A0FB397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09C-F1BD-47A6-A594-75997A60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084-D158-4658-8DBB-0B6F9C35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2EC-03B9-4659-9218-E420988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623-2C27-4C7E-99C1-988509E6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32E-883E-4FA1-AA1D-70EFA5CD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A068-B30F-4C60-B314-382D21B43CBC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17E1-5E69-40E4-BC78-36017EEF76F8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62000" y="1599840"/>
            <a:ext cx="754848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科级院感管理小组由科主任负责并由科室相关人员组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立与科室功能相关制度及记录文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检查整改措施落实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科级院感染管理小组定期召开工作会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半年召开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有文字记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紫外线消毒管理：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紫外线消毒登记本（日期、时间、累计时间、签名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灯管保持清洁，定期用酒精棉球擦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的紫外线强度监测指示卡，应取得卫生许可批件，并在有效期内使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紫外线消毒室内空气时，房间内应保持清洁干燥，减少尘埃和水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管理委员会：（防护</a:t>
            </a: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8082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立员工健康档案。（比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员工定期健康检查的机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员工“乙肝”等相关项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防接种制度与落实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员工遭受感染、化学损伤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化学污染的紧急处理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248520" y="2514600"/>
          <a:ext cx="2590560" cy="342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2514600"/>
                    <a:ext cx="25905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锐器伤的预防</a:t>
            </a: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不慎被锐器刺伤，应立即采取相应保护措施，清创，对创面进行严格消毒处理，并进行血源性传播疾病的检查和随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BV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阳性病人血液、体液污染的锐器刺伤，应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时内注射乙肝免疫高价球蛋白，同时进行血液乙肝标志物检查，阴性者皮下注射乙肝疫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间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医院感染管理委员会：</a:t>
            </a:r>
            <a:br>
              <a:rPr sz="4000"/>
            </a:b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（传染病防治管理措施）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548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立传染病报告制度并明确责任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年对传染病疫情报告执行情况自查次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查传染病漏报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对“院感”突发事件的应急预案及报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关科室传染病登记本、卡片、信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空气传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A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可疑病人及流感可疑病人必须有对应的方法、向相关员工明确通报及相应对策和明确规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必要时设立“隔离房间”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A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麻疹、流腮、流行性角膜炎等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暴露环境工作的医师、护师、技师等每个人的结核菌素皮内试验反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护用品的适宜、可靠。（口罩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医院各相关部门在院感管理中</a:t>
            </a:r>
            <a:br>
              <a:rPr sz="3600"/>
            </a:b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职责分工明确（文字材料）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68580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院感染管理委员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务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护理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务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药剂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检验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临床科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52880" y="2971800"/>
          <a:ext cx="3505320" cy="281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2971800"/>
                    <a:ext cx="35053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3520" y="198072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具有相应的学识水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实际工作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主治医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年住院医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专职担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609480"/>
            <a:ext cx="96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医院感染管理负责人（要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rcRect l="-11624" t="-11614" r="37216" b="37212"/>
          <a:stretch/>
        </p:blipFill>
        <p:spPr>
          <a:xfrm flipH="1">
            <a:off x="5638680" y="31240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管理委员会：（权限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明确的职责与管理权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立相关的工作制度与记录文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能参与医院质量管理决策的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院要建立医院感染管理年度专项工作经费预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专项经费能够得到切实的落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管理委员会：（手册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防院感所采取的方针、对策、相关技术编成手册或指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册要能定期进行修订（记录修订日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修订应以科学为依据，进行必要的讨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册的内容能迅速推广相应的具体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册中必须是标准的预防规范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具体的院感对策及职业感染对策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管理委员会：（制度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相关科室的医院感染管理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抗生素管理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次性物品管理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毒隔离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疗废弃物管理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传染病管理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防员工院内感染管理制度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委员会：（培训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期对全体员工进行院感管理知识培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医院感染的重点部门、重点岗位、重点责任人予以重点教育与考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传染病防治的培训。对防护用品的合理正确使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“院感”突发事件能进行定期的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抗生素适宜使用的相关计划与教育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新员工上岗前培训符合“院感管理规定”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员工进行遭受感染（含化学损伤）时紧急处理程序的教育及相关基本知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医院感染管理专职人员培训时间每年不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时，其他管理与医务人员培训时间每年不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时，工勤人员每年不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核记录医、护、技、卫生工（试卷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各级各类相关工作人员培训与考核合格后上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管理委员会：（监测</a:t>
            </a: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院感染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记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切口感染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5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随访记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院感染漏报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记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住院病人的抗生素使用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7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期对消毒灭菌装置用生物学等检测方法进行效果评价（记录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院污水、污物处理达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医院感染 管理 措施</cp:keywords>
  <dc:language>en-US</dc:language>
  <cp:lastModifiedBy/>
  <cp:revision>0</cp:revision>
  <dc:subject/>
  <dc:title/>
</cp:coreProperties>
</file>