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073F-2F20-47F7-99B1-F57A464A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6289-2DFD-40A3-82D3-2FE7D297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5B4-BF11-4CCE-9517-8B84C3AD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15A8-9471-43DA-B493-55134706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DF21-DEA3-4A7C-B816-9E5F1462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9C3B-245C-4744-B6EB-E8925307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EED2-0937-414F-9A22-3304D460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4FFD-72E7-48A8-A758-4D5DDCDF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F3BE-65AE-4261-81CB-51B38411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CEEA-C6A6-4FD3-9D79-EC7C7F5B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1368-F6A2-4003-B5E8-483F04AD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CD9-621D-4A23-9169-73ACF2AB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F9AC-6947-4A38-90C9-D9F91E19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7BE7-A98E-4A98-9C3C-0AEA3884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5743-5A59-4390-8277-E64B3CE3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EDC3-D7B0-4D84-BC41-DFFF7944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883F-494A-4FC6-AA68-E261BFC6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05D-0AF4-4068-A053-3B2E5DBE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C91D-4B09-4367-A658-08A438EB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51B-03B0-451C-8F5A-8D761B10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D22-92A9-43B6-B348-DDD19E51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8BD-ED01-439B-A803-E11FE019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14B-7686-40F5-A1A9-59ACB69D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48B6-49AF-4D8A-B008-41818ECF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E614-D4D1-4144-ABD1-9FEC674C8ACD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5B42-1937-4A36-A7A2-82050A62DA4D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092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资金的等值计算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资金的时间价值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②</a:t>
            </a:r>
            <a:r>
              <a:rPr b="1" lang="zh-CN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复利法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核心：以本金与累计利息之和为基数计算利息，即“利上加利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本利和公式推导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技术经济分析中时间价值一般采用复利法，充分反应资金的时间价值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、利息率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概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简称利率，是一定时期内利息总额与本金的比率 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资金价格：国家的一种宏观调控手段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77724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（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）不同计息周期利率换算问题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994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年利率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÷12=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月利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年利率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÷360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＝日利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月利率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÷30=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日利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月利率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×12=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年利率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例：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按月记息，月利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%——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年利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2%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每月记息一次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按年记息，年利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2%——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年利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2%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每年记息一次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如果本金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000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元，求在单、复利计算下一年后各自的本息和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、名义利率和实际利率（年利）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名义利率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=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一个计息周期的利率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*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每年计息周期次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名义利率和实际利率公式推倒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有效年利率（实际）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＝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+r/m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m-1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设：名义利率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实际利率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一年中计息次数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本金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例：年名义利率为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24%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时，当计息周期分别为年、半年、季、月、连续时的年实际利率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$3    </a:t>
            </a: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资金等值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概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在考虑资金时间价值的情况下，绝对值数额不等的若干资金，在不同的时间，可能具有相同的经济价值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例如，年初的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元和年底的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1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元，在单利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％的情况下是等值的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、几个概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等值资金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在利率一定的条件下，我们把不同时间（时期、时点）上绝对数额不等，而经济价值相等的若干资金，称为等值资金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现值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Present Valu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现值”并非专指一笔资金“现在”的价值，它是一个相对的概念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一般地说，将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k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个时点上发生的资金折现到第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个时点，所得的等值金额就是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k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个时点上的资金金额的现值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常用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表示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终值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Future Val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与现值等价的将来某时点的资金值称为“终值”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等年值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分期等额收支的资金值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$4</a:t>
            </a: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资金时间价值计算公式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针对不同类型的现金流量图归纳公式，故公式一定要与图对应学习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一、一次收付终值和现值公式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含义：一次收付又称整收整付，是指所分析系统的现金流量，无论是流入还是流出，均在一个时间点上发生。 （现金流量图类型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引例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资金价值会随时间变化；变化原因：资金增殖、通货膨胀、个人储蓄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414440"/>
            <a:ext cx="777708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、一次收付现值公式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问题刚好和一次收付终值相反，即在已知利率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的条件下，要想在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期期未得到资金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期初应一次投入多少资金？其现金流量图如图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2-3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一次收付现值公式为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=F[1/(1+i)</a:t>
            </a:r>
            <a:r>
              <a:rPr b="0" lang="zh-CN" sz="2800" spc="-1" strike="noStrike" baseline="30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]=F(P/F,i,n)--------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／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2800" spc="-1" strike="noStrike" baseline="30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：一次收付现值系数，并用符号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F/P,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表示，其系数值可查复利系数表求得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71640" y="1692360"/>
            <a:ext cx="69850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二、等额收付系列公式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等额收付终值公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若每期期末支付同等的数额资金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在利率为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情况下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期后的未来值应该是多少？其现金流量图如图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-4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所示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利用一次收付终值公式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，分别计算每期期末投资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到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期期末的本利和，总和即为未来值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2185920"/>
            <a:ext cx="66960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370720" cy="53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第一期期末投资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期期末的本利和为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n-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第二期期末投资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期期末的本利和为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n-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依次类推，第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n-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期期末投资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期期末的本利和为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；第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期期末的投资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到期末的本利和为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。所以，在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期中，每期期末投资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期后的本利和为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F=A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n-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）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n-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5b5249"/>
                </a:solidFill>
                <a:latin typeface="宋体"/>
              </a:rPr>
              <a:t>…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即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F=A[1+(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i)+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5b5249"/>
                </a:solidFill>
                <a:latin typeface="宋体"/>
              </a:rPr>
              <a:t>…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n-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＋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n-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两边同乘以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+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=A[(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i)+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5b5249"/>
                </a:solidFill>
                <a:latin typeface="宋体"/>
              </a:rPr>
              <a:t>…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n-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＋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两式相减得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-F=A[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+i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-1]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即：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F=A[[1+i]</a:t>
            </a:r>
            <a:r>
              <a:rPr b="0" lang="zh-CN" sz="2400" spc="-1" strike="noStrike" baseline="30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-1]/i]_____________(9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370720" cy="53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[[1+i]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-1]/i]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称为等额收付终值系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Uniform-Series Compound Amount Factor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用符号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F/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表示。这样可进一步写成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F/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-------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由公式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(9)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可直接求得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F=331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万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也可查复利系数表得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％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＝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31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故得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＝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00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％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＝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000×3.31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31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万元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即投产时需一次还清本利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31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万元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、等额收付偿债基金公式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等额收付偿债基金公式是等额收付终值公式的逆运算。由公式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9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变换后可直接导出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F[[i/1+i]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-1]]-----(11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式中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／［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-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］称为等额收付偿债基金系数，也叫基金存储系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Sinking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Fund Deposit Factor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，用符号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表示。这样式（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11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又可写成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-----(12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这是已知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。其现金流量图如图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-5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所示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Times New Roman"/>
              </a:rPr>
              <a:t>资金的时间价值</a:t>
            </a:r>
            <a:br>
              <a:rPr sz="4000"/>
            </a:b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Time Value of  Money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概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资金随时间的变化而引起的价值量的变化，称为资金的时间价值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如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某项目投资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万元，建成投产后，每年可得利润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万元，即为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万元在特定生产经营活动中所产生的时间价值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77744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解：由公式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(11)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可直接求得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F[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-1]]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5000×0.181=905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万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也可查复利系数表得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％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＝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0.18096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故求得：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／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＝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500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％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＝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5000×0.18096≈905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万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即每年年末应等额存入银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905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万元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注意点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：采用公式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(9)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(11)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进行复利计算时，现金流分布必须符合图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-4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与图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-5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形式，即连续的等额收付序列值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必须发生在第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期期末至第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期期末，否则必须进行一定的变换和换算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：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改为年初借款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、等额收付现值公式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若在每年年末等额收付资金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在利率为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条件下与之经济等值的现值为多少？其现金流量图如图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-6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所示。将公式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(9)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代入公式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(8)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得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=A[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-1]/[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]_____(13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00000" y="1658880"/>
            <a:ext cx="712800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8154720" cy="51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当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趋于无穷大时，近似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=A/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。某些股票用此公式计算价格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式中［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-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］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［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］称为等额收付现值系数，也叫年金现值系数，用符号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表示。此时公式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可写成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=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,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___________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4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用此公式不仅求现值，也可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等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0920" y="980640"/>
            <a:ext cx="822780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由公式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3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可直接求得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2×6.1446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2.289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万元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也可查复利系数表得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％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＝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6.1446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故求得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＝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％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＝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2×6.1446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2.289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万元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计算表明，如果每年要等额收回本利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万元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年总计收回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万元，那么在年利率为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％、复利计息的条件下，则开始时的期初投资应为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2.289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万元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8154720" cy="51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对公式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整理，得偿还年限公式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=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［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-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］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［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］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［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-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］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=P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=A/(A-Pi)=(1-Pi/A)-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边取对数得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                            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-----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4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已知投资现值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8.9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亿元，利率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-8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％，年利润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=7.78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亿元，代入公式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4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6.64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年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492360" y="3581280"/>
                <a:ext cx="208764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、等额收付资金回收公式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等额收付资金回收公式是等额收付现值公式的逆运算。即已知现值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求与之等值的等额年金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。由公式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可直接导得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［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］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［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-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］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---(15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式中［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］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［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 baseline="30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-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］称为等额收付资金回收系数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用符号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/P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表示。则公式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(15)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可简写成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---------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6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、资金时间价值表现形式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一是资金投入生产或流通领域产生的增值称为利润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rofit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或收益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ncome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二是把资金存入银行或向银行借贷所得到或付出的增值额称为利息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Interest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71640" y="1692360"/>
            <a:ext cx="72007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根据公式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5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可直接求得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［］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=7514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即每年年末回收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7514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.5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年内可将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000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元连本代理全部回收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三、等差收付系列公式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等差收付现值公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现金流特征：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每年金额均发生在年末，等差值为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G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第一年年未收付为零，第二年年末收付是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G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依次类推，第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年年末收付是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G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。其现金流量图如图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-8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所示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计算思路：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一年一年分别计算现值，然而求其总和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58920" y="1730520"/>
            <a:ext cx="712944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37160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等差收付年值公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先把等差收付现金流折算为现值，再将现值折算为年值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四、等比系列公式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等比序列现金流现值公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现金流特征；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各期的现金流量总是按照一个固定的比值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比前一期增加或减少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1" lang="zh-CN" sz="3200" spc="-1" strike="noStrike" baseline="-25000">
                <a:solidFill>
                  <a:srgbClr val="5b5249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=A</a:t>
            </a:r>
            <a:r>
              <a:rPr b="1" lang="zh-CN" sz="32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1+r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1" lang="zh-CN" sz="3200" spc="-1" strike="noStrike" baseline="30000">
                <a:solidFill>
                  <a:srgbClr val="5b5249"/>
                </a:solidFill>
                <a:latin typeface="Times New Roman"/>
              </a:rPr>
              <a:t>t-1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计算思路：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将各年末的金额作为终值，分别求现值，并求和，则得总现值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37160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等比收付终值公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现求现值，再换算成终值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五、资金时间价值公式汇总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前面我们介绍了资金时间价值计算的基本公式，每个公式中都含有一个复利系数。为了便于理解和记忆，现将它们汇总，可见各复利系数之间有以下关系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一次收付终值系数与一次收付现值系数互为倒数，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＝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／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等额收付终值系数与等额收付偿债基金系数互为倒数，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＝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／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/F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67564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等额收付现值系数与等额收付资金回收系数互为例数，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＝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／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等额收付资金回收系数减等额收付偿债基金系数，其差恰好为利率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＝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此外，根据公式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9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及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2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还可推导出下列关系式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＝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G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＋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G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＋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／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）＝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、资金时间价值衡量尺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利息、利润或收益是资金投入后在一定时期内产生的增值，或者视为使用资金的报酬，这是衡量资金的时间价值的绝对尺度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、资金时间价值意义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项目的经济评价中，必须增强资金的时间观念，考虑资金的时间价值，采用动态分析方法将不同的费用或效益折算成同一时点来进行比较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5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、资金时间价值计算方法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和银行利息计算方法一样，放利息计算中讲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119700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$2     </a:t>
            </a: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利息和利率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利息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概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贷款人向借款人让渡资金使用权而得到的一种报酬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Times New Roman"/>
              </a:rPr>
              <a:t> ①</a:t>
            </a:r>
            <a:r>
              <a:rPr b="1" lang="zh-CN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  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单利法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核心：以借款本金为基数计息，不论计息期数多少，利息不再生息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本利和公式推导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P-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为本金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n-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为计息期数（通常为年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-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代表利率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代表所付或所收的总利息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代表本利和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评价：资金时间价值不完善，利息没转入记息基数。如国库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资金 等值计算</cp:keywords>
  <dc:language>en-US</dc:language>
  <cp:lastModifiedBy/>
  <cp:revision>0</cp:revision>
  <dc:subject/>
  <dc:title/>
</cp:coreProperties>
</file>