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D1A2-FF53-454F-9FB8-4321B3561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1CFD0-E787-4563-90F5-1116F904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C439-9965-4433-A3E0-D73C573E5E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6CAB-A20B-4B0F-B5F7-A18D16A84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01B60-E7E3-43E5-BF58-EB8742BC5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540F-0797-40C9-9E7F-B15857894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DFB7F-D403-4A02-9F85-74FCF7F98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75B6-83E7-481F-A7A6-AE79D4562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4A64-4DE3-4127-90FA-E45328A8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DA947-47C6-4948-B705-87A98AF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2B50-48FA-4660-8216-0145DCC57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43BD-5477-4364-A09D-514B6B11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C2A1D-DDA3-4C66-88BF-4E85F67158BB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01DA8-8A15-4AD9-8DDD-CB0E6A20BD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F9EC-8CFB-4DDC-9C8D-8FE19C0614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376280"/>
            <a:ext cx="8424720" cy="478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----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-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4"/>
          <p:cNvSpPr/>
          <p:nvPr/>
        </p:nvSpPr>
        <p:spPr>
          <a:xfrm>
            <a:off x="541440" y="4222800"/>
            <a:ext cx="8281800" cy="180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1T12:16:46Z</dcterms:modified>
  <cp:revision>4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