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386-A2BF-4216-9A7C-AFD5963D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334-0E9A-40AE-9594-3499CD9E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40F9-9074-435A-96B4-1F9ECA69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335A-7B35-4844-A39F-B530918E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1E37-08E7-4117-9AA8-485F86EF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D2AC-023E-4C85-992F-C7C90775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02D8-86C5-49E1-8411-64F87F29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8F52-E771-42B3-9E21-ABB34147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6262-1B65-413D-A866-E154455A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8C04-6701-4A84-BC19-9F5DF2BA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3871-332D-4029-84D5-F0CEDBF7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782-04B9-455D-8066-4457DED6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D25F-7FB2-45D3-AFDC-9307C2E0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4535-1961-4AB3-A35E-B0D121DD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C07D-84F6-42E1-BF7C-CFD26A51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8188-0BA8-4C5C-B074-85E87A28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414A-405C-43D5-A916-87AD4BB3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7E8A0-DCEF-47C0-9772-3FF76DC6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EEE2-8425-4CD1-8DEF-6C2BCDB9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A9E76-932E-4E0B-BBF5-84777BF3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6BCEC-60D0-4FB0-8C3C-64B210AC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6B884-5335-4719-8E1A-1B955E19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561-689A-4ED8-8383-9FF18A2A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A2C9D-7DF5-4688-8BAB-32A34002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B5541-FD88-4538-ABDA-B60706EC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6FC32-EEF9-411B-AE61-F146E0B8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B3076-AB14-43B2-B27D-1F979E58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AA8E8-A348-4499-9B3C-B12B3030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37AF-6999-4FC9-9940-B3844DA9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E131A-4853-478D-9165-1C052901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576F7-3A71-44A8-B3DC-63D5247B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0A7FD-9757-485B-90DB-7CEAFB38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2B0BC-C038-4F62-941D-D010874B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5ED-B2CC-4377-9223-BC4CE5E3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0D496-1CE2-4B99-A723-ACE98CA7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1ABDE-2F84-48B6-8AA4-912AA094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A00FB-05FE-4521-B6F6-EECD1AAD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CE32C-7EE4-4208-A1E2-56424132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DEAD6-935E-4A39-901F-B3C6C2D9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08A09-31A9-4966-AD4D-67E29541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B9F4D-BBFC-4C34-A0CD-EB318456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4FF65-B673-4E6D-A3EA-520A0C27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1F0EA-E789-4B05-AE5B-E9BCE41C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83B8F-48CF-40AA-AF4E-7FE2113E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204-F6D9-4645-A3FA-475C5699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006E4-74A3-4C9C-BCA4-E03C84D5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15DCD-DA50-4F49-B48F-1193CE55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4BB20-2DED-48B9-8811-CD0CEB15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CBAB2-EC80-4ABF-92ED-09BB62F6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EED2C-F7AD-4DC0-8CD2-4605066D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7EB87-278B-4ACF-8B5B-A44A54CB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D91A4-AB92-4BD6-A485-E149439D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94006-B9B4-4D0B-994E-C7733F1A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EF318-57C4-4744-8D6E-3257B563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53792-C570-4388-B8D3-5B12C9B5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CB1-1C27-4F44-B853-8BAB7AC4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C1C75-3EA8-4EE0-BB79-B42D43CF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C13-433B-4D92-93F1-F436D008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E8E3-1BA2-43CD-BAD4-318A08E0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C09F-A154-46FF-BEFA-62C33EA6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194E-67DA-4689-A816-2CBE43F20A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DA94-A4D9-4D31-8531-E2708B485B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D421-4310-4EF1-96D0-311DC4EDD1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3BAE-512E-4F01-9818-39E81FB5D0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01C4-ED1D-4446-B92F-C01ABE9C56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07" name="WordArt 10"/>
          <p:cNvSpPr txBox="1"/>
          <p:nvPr/>
        </p:nvSpPr>
        <p:spPr>
          <a:xfrm>
            <a:off x="1835280" y="2133720"/>
            <a:ext cx="5400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扁鹊治病</a:t>
            </a:r>
            <a:endParaRPr b="0" lang="en-US" sz="4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6597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之家 </a:t>
            </a:r>
            <a:r>
              <a:rPr b="1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611280" y="1484280"/>
            <a:ext cx="8064360" cy="35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王，据我看来，您皮肤上有点小病。要是不治，恐怕会向体内发展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您的病已经发展到皮肉之间了，要不治还会加深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630360" y="620640"/>
            <a:ext cx="806436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王，据我看来，您皮肤上有点小病。要是不治，恐怕会向体内发展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您的病已经发展到皮肉之间了，要不治还会加深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您的病已经发展到肠胃里，再不治会更加严重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蔡桓公的表现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蔡桓公说：“我的身体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很好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什么病也没有。”扁鹊走后，蔡桓公对左右的人说：“这些做医生的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总喜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给没有病的人治病。医治没有病的人，才容易显示自己的高明。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23640" y="1052640"/>
            <a:ext cx="851508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您的病已经发展到皮肉之间了，要不治还会加深。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蔡桓公听了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很不高兴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没有理睬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他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341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您的病已经发展到肠胃里，再不治会更加严重。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蔡桓公听了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非常不高兴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789200" y="1834560"/>
            <a:ext cx="4143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9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扁鹊治病"/>
          <p:cNvPicPr/>
          <p:nvPr/>
        </p:nvPicPr>
        <p:blipFill>
          <a:blip r:embed="rId2"/>
          <a:stretch/>
        </p:blipFill>
        <p:spPr>
          <a:xfrm>
            <a:off x="611280" y="0"/>
            <a:ext cx="7885080" cy="6794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水印logo"/>
          <p:cNvPicPr/>
          <p:nvPr/>
        </p:nvPicPr>
        <p:blipFill>
          <a:blip r:embed="rId3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880920" y="69228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皮肤病用热水敷烫就能够治好；发展到皮肉之间，用扎针的方法可以治好；即使发展到肠胃里，服几剂汤药也还能治好；一旦深入骨髓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5"/>
          <p:cNvSpPr/>
          <p:nvPr/>
        </p:nvSpPr>
        <p:spPr>
          <a:xfrm>
            <a:off x="880920" y="692280"/>
            <a:ext cx="779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用热水敷烫就能够治好；发展到皮肉之间，用扎针的方法可以治好；即使发展到肠胃里，服几剂汤药也还能治好；一旦深入骨髓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5"/>
          <p:cNvSpPr/>
          <p:nvPr/>
        </p:nvSpPr>
        <p:spPr>
          <a:xfrm>
            <a:off x="947880" y="69228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用热水敷烫就能够治好；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之间，用扎针的方法可以治好；即使发展到肠胃里，服几剂汤药也还能治好；一旦深入骨髓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880920" y="692280"/>
            <a:ext cx="756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用热水敷烫就能够治好；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之间，用扎针的方法可以治好；即使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肠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里，服几剂汤药也还能治好；一旦深入骨髓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1042920" y="1487520"/>
            <a:ext cx="7237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救死扶伤  药到病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妙手回春  对症下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起死回生  杏林春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971640" y="692280"/>
            <a:ext cx="756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用热水敷烫就能够治好；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之间，用扎针的方法可以治好；即使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肠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里，服几剂汤药也还能治好；一旦深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骨髓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6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5"/>
          <p:cNvSpPr/>
          <p:nvPr/>
        </p:nvSpPr>
        <p:spPr>
          <a:xfrm>
            <a:off x="971640" y="620640"/>
            <a:ext cx="756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用热水敷烫就能够治好；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之间，用扎针的方法可以治好；即使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肠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里，服几剂汤药也还能治好；一旦深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骨髓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"/>
          <p:cNvSpPr/>
          <p:nvPr/>
        </p:nvSpPr>
        <p:spPr>
          <a:xfrm>
            <a:off x="5292720" y="1413000"/>
            <a:ext cx="194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9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966960" y="692280"/>
            <a:ext cx="756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用热水敷烫就能够治好；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之间，用扎针的方法可以治好；即使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肠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里，服几剂汤药也还能治好；一旦深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骨髓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1835280" y="1374840"/>
            <a:ext cx="4760280" cy="1550880"/>
            <a:chOff x="1835280" y="1374840"/>
            <a:chExt cx="4760280" cy="1550880"/>
          </a:xfrm>
        </p:grpSpPr>
        <p:sp>
          <p:nvSpPr>
            <p:cNvPr id="288" name="Line 6"/>
            <p:cNvSpPr/>
            <p:nvPr/>
          </p:nvSpPr>
          <p:spPr>
            <a:xfrm>
              <a:off x="4652640" y="1374840"/>
              <a:ext cx="1942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7"/>
            <p:cNvSpPr/>
            <p:nvPr/>
          </p:nvSpPr>
          <p:spPr>
            <a:xfrm>
              <a:off x="1835280" y="2925720"/>
              <a:ext cx="1007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Picture 10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9"/>
          <p:cNvGrpSpPr/>
          <p:nvPr/>
        </p:nvGrpSpPr>
        <p:grpSpPr>
          <a:xfrm>
            <a:off x="880920" y="833400"/>
            <a:ext cx="7561440" cy="2955960"/>
            <a:chOff x="880920" y="833400"/>
            <a:chExt cx="7561440" cy="2955960"/>
          </a:xfrm>
        </p:grpSpPr>
        <p:sp>
          <p:nvSpPr>
            <p:cNvPr id="295" name="Text Box 5"/>
            <p:cNvSpPr/>
            <p:nvPr/>
          </p:nvSpPr>
          <p:spPr>
            <a:xfrm>
              <a:off x="880920" y="833400"/>
              <a:ext cx="756144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皮肤</a:t>
              </a: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病用热水敷烫就能够治好；发展到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皮肉</a:t>
              </a: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之间，用扎针的方法可以治好；即使发展到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肠胃</a:t>
              </a: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里，服几剂汤药也还能治好；一旦深入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骨髓</a:t>
              </a: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，只能等死，医生再也无能为力了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6"/>
            <p:cNvSpPr/>
            <p:nvPr/>
          </p:nvSpPr>
          <p:spPr>
            <a:xfrm>
              <a:off x="4427280" y="1557360"/>
              <a:ext cx="1943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7"/>
            <p:cNvSpPr/>
            <p:nvPr/>
          </p:nvSpPr>
          <p:spPr>
            <a:xfrm>
              <a:off x="1763640" y="299700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8"/>
            <p:cNvSpPr/>
            <p:nvPr/>
          </p:nvSpPr>
          <p:spPr>
            <a:xfrm>
              <a:off x="6084720" y="3789360"/>
              <a:ext cx="1943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Picture 10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5"/>
          <p:cNvSpPr/>
          <p:nvPr/>
        </p:nvSpPr>
        <p:spPr>
          <a:xfrm>
            <a:off x="971640" y="765000"/>
            <a:ext cx="756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用热水敷烫就能够治好；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之间，用扎针的方法可以治好；即使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肠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里，服几剂汤药也还能治好；一旦深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骨髓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4570560" y="1557360"/>
            <a:ext cx="19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1824120" y="299736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8"/>
          <p:cNvSpPr/>
          <p:nvPr/>
        </p:nvSpPr>
        <p:spPr>
          <a:xfrm>
            <a:off x="6589800" y="3716280"/>
            <a:ext cx="1654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1"/>
          <p:cNvSpPr/>
          <p:nvPr/>
        </p:nvSpPr>
        <p:spPr>
          <a:xfrm>
            <a:off x="1908000" y="5877000"/>
            <a:ext cx="71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2"/>
          <p:cNvSpPr/>
          <p:nvPr/>
        </p:nvSpPr>
        <p:spPr>
          <a:xfrm>
            <a:off x="7610400" y="1557360"/>
            <a:ext cx="114480" cy="100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3"/>
          <p:cNvSpPr/>
          <p:nvPr/>
        </p:nvSpPr>
        <p:spPr>
          <a:xfrm flipV="1">
            <a:off x="1389240" y="2205000"/>
            <a:ext cx="11556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4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971640" y="765000"/>
            <a:ext cx="756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用热水敷烫就能够治好；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之间，用扎针的方法可以治好；即使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肠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里，服几剂汤药也还能治好；一旦深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骨髓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4645080" y="1557360"/>
            <a:ext cx="19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7"/>
          <p:cNvSpPr/>
          <p:nvPr/>
        </p:nvSpPr>
        <p:spPr>
          <a:xfrm>
            <a:off x="1812960" y="299736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8"/>
          <p:cNvSpPr/>
          <p:nvPr/>
        </p:nvSpPr>
        <p:spPr>
          <a:xfrm>
            <a:off x="6589800" y="3716280"/>
            <a:ext cx="19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9"/>
          <p:cNvSpPr/>
          <p:nvPr/>
        </p:nvSpPr>
        <p:spPr>
          <a:xfrm>
            <a:off x="1908000" y="5877000"/>
            <a:ext cx="71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2"/>
          <p:cNvGrpSpPr/>
          <p:nvPr/>
        </p:nvGrpSpPr>
        <p:grpSpPr>
          <a:xfrm>
            <a:off x="7359480" y="1557360"/>
            <a:ext cx="647640" cy="100080"/>
            <a:chOff x="7359480" y="1557360"/>
            <a:chExt cx="647640" cy="100080"/>
          </a:xfrm>
        </p:grpSpPr>
        <p:sp>
          <p:nvSpPr>
            <p:cNvPr id="320" name="Oval 10"/>
            <p:cNvSpPr/>
            <p:nvPr/>
          </p:nvSpPr>
          <p:spPr>
            <a:xfrm>
              <a:off x="7359480" y="1557360"/>
              <a:ext cx="11448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1"/>
            <p:cNvSpPr/>
            <p:nvPr/>
          </p:nvSpPr>
          <p:spPr>
            <a:xfrm>
              <a:off x="7893000" y="1557360"/>
              <a:ext cx="11412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13"/>
          <p:cNvGrpSpPr/>
          <p:nvPr/>
        </p:nvGrpSpPr>
        <p:grpSpPr>
          <a:xfrm>
            <a:off x="4944960" y="2946240"/>
            <a:ext cx="647640" cy="100080"/>
            <a:chOff x="4944960" y="2946240"/>
            <a:chExt cx="647640" cy="100080"/>
          </a:xfrm>
        </p:grpSpPr>
        <p:sp>
          <p:nvSpPr>
            <p:cNvPr id="323" name="Oval 14"/>
            <p:cNvSpPr/>
            <p:nvPr/>
          </p:nvSpPr>
          <p:spPr>
            <a:xfrm>
              <a:off x="4944960" y="2946240"/>
              <a:ext cx="11448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5"/>
            <p:cNvSpPr/>
            <p:nvPr/>
          </p:nvSpPr>
          <p:spPr>
            <a:xfrm>
              <a:off x="5478480" y="2946240"/>
              <a:ext cx="11412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16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5"/>
          <p:cNvSpPr/>
          <p:nvPr/>
        </p:nvSpPr>
        <p:spPr>
          <a:xfrm>
            <a:off x="971640" y="692280"/>
            <a:ext cx="756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用热水敷烫就能够治好；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之间，用扎针的方法可以治好；即使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肠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里，服几剂汤药也还能治好；一旦深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骨髓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"/>
          <p:cNvSpPr/>
          <p:nvPr/>
        </p:nvSpPr>
        <p:spPr>
          <a:xfrm>
            <a:off x="4587840" y="1496880"/>
            <a:ext cx="194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"/>
          <p:cNvSpPr/>
          <p:nvPr/>
        </p:nvSpPr>
        <p:spPr>
          <a:xfrm>
            <a:off x="175572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6531120" y="3645000"/>
            <a:ext cx="19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1908000" y="5877000"/>
            <a:ext cx="71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0"/>
          <p:cNvGrpSpPr/>
          <p:nvPr/>
        </p:nvGrpSpPr>
        <p:grpSpPr>
          <a:xfrm>
            <a:off x="7121520" y="1397160"/>
            <a:ext cx="647640" cy="99720"/>
            <a:chOff x="7121520" y="1397160"/>
            <a:chExt cx="647640" cy="99720"/>
          </a:xfrm>
        </p:grpSpPr>
        <p:sp>
          <p:nvSpPr>
            <p:cNvPr id="335" name="Oval 11"/>
            <p:cNvSpPr/>
            <p:nvPr/>
          </p:nvSpPr>
          <p:spPr>
            <a:xfrm>
              <a:off x="7121520" y="1397160"/>
              <a:ext cx="114480" cy="99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2"/>
            <p:cNvSpPr/>
            <p:nvPr/>
          </p:nvSpPr>
          <p:spPr>
            <a:xfrm>
              <a:off x="7655040" y="1397160"/>
              <a:ext cx="114120" cy="99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13"/>
          <p:cNvGrpSpPr/>
          <p:nvPr/>
        </p:nvGrpSpPr>
        <p:grpSpPr>
          <a:xfrm>
            <a:off x="5040360" y="2832120"/>
            <a:ext cx="647640" cy="100080"/>
            <a:chOff x="5040360" y="2832120"/>
            <a:chExt cx="647640" cy="100080"/>
          </a:xfrm>
        </p:grpSpPr>
        <p:sp>
          <p:nvSpPr>
            <p:cNvPr id="338" name="Oval 14"/>
            <p:cNvSpPr/>
            <p:nvPr/>
          </p:nvSpPr>
          <p:spPr>
            <a:xfrm>
              <a:off x="5040360" y="2832120"/>
              <a:ext cx="11448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5"/>
            <p:cNvSpPr/>
            <p:nvPr/>
          </p:nvSpPr>
          <p:spPr>
            <a:xfrm>
              <a:off x="5573880" y="2832120"/>
              <a:ext cx="11412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16"/>
          <p:cNvGrpSpPr/>
          <p:nvPr/>
        </p:nvGrpSpPr>
        <p:grpSpPr>
          <a:xfrm>
            <a:off x="2627280" y="4437000"/>
            <a:ext cx="647640" cy="100080"/>
            <a:chOff x="2627280" y="4437000"/>
            <a:chExt cx="647640" cy="100080"/>
          </a:xfrm>
        </p:grpSpPr>
        <p:sp>
          <p:nvSpPr>
            <p:cNvPr id="341" name="Oval 17"/>
            <p:cNvSpPr/>
            <p:nvPr/>
          </p:nvSpPr>
          <p:spPr>
            <a:xfrm>
              <a:off x="2627280" y="4437000"/>
              <a:ext cx="11448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8"/>
            <p:cNvSpPr/>
            <p:nvPr/>
          </p:nvSpPr>
          <p:spPr>
            <a:xfrm>
              <a:off x="3160800" y="4437000"/>
              <a:ext cx="11412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3" name="Picture 19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B1BC-E76A-4C3D-9A76-149ACE7C5D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5"/>
          <p:cNvSpPr/>
          <p:nvPr/>
        </p:nvSpPr>
        <p:spPr>
          <a:xfrm>
            <a:off x="971640" y="765000"/>
            <a:ext cx="756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病用热水敷烫就能够治好；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之间，用扎针的方法可以治好；即使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肠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里，服几剂汤药也还能治好；一旦深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骨髓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只能等死，医生再也无能为力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4716360" y="1557360"/>
            <a:ext cx="194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1839960" y="299736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8"/>
          <p:cNvSpPr/>
          <p:nvPr/>
        </p:nvSpPr>
        <p:spPr>
          <a:xfrm>
            <a:off x="6445080" y="3789360"/>
            <a:ext cx="194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9"/>
          <p:cNvSpPr/>
          <p:nvPr/>
        </p:nvSpPr>
        <p:spPr>
          <a:xfrm>
            <a:off x="1908000" y="5877000"/>
            <a:ext cx="71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0"/>
          <p:cNvGrpSpPr/>
          <p:nvPr/>
        </p:nvGrpSpPr>
        <p:grpSpPr>
          <a:xfrm>
            <a:off x="7750080" y="1457280"/>
            <a:ext cx="647640" cy="100080"/>
            <a:chOff x="7750080" y="1457280"/>
            <a:chExt cx="647640" cy="100080"/>
          </a:xfrm>
        </p:grpSpPr>
        <p:sp>
          <p:nvSpPr>
            <p:cNvPr id="356" name="Oval 11"/>
            <p:cNvSpPr/>
            <p:nvPr/>
          </p:nvSpPr>
          <p:spPr>
            <a:xfrm>
              <a:off x="7750080" y="1457280"/>
              <a:ext cx="11448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2"/>
            <p:cNvSpPr/>
            <p:nvPr/>
          </p:nvSpPr>
          <p:spPr>
            <a:xfrm>
              <a:off x="8283600" y="1457280"/>
              <a:ext cx="11412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13"/>
          <p:cNvGrpSpPr/>
          <p:nvPr/>
        </p:nvGrpSpPr>
        <p:grpSpPr>
          <a:xfrm>
            <a:off x="5040360" y="2997360"/>
            <a:ext cx="647640" cy="99720"/>
            <a:chOff x="5040360" y="2997360"/>
            <a:chExt cx="647640" cy="99720"/>
          </a:xfrm>
        </p:grpSpPr>
        <p:sp>
          <p:nvSpPr>
            <p:cNvPr id="359" name="Oval 14"/>
            <p:cNvSpPr/>
            <p:nvPr/>
          </p:nvSpPr>
          <p:spPr>
            <a:xfrm>
              <a:off x="5040360" y="2997360"/>
              <a:ext cx="114480" cy="99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5"/>
            <p:cNvSpPr/>
            <p:nvPr/>
          </p:nvSpPr>
          <p:spPr>
            <a:xfrm>
              <a:off x="5573880" y="2997360"/>
              <a:ext cx="114120" cy="99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19"/>
          <p:cNvGrpSpPr/>
          <p:nvPr/>
        </p:nvGrpSpPr>
        <p:grpSpPr>
          <a:xfrm>
            <a:off x="2505240" y="4437000"/>
            <a:ext cx="647640" cy="100080"/>
            <a:chOff x="2505240" y="4437000"/>
            <a:chExt cx="647640" cy="100080"/>
          </a:xfrm>
        </p:grpSpPr>
        <p:sp>
          <p:nvSpPr>
            <p:cNvPr id="362" name="Oval 20"/>
            <p:cNvSpPr/>
            <p:nvPr/>
          </p:nvSpPr>
          <p:spPr>
            <a:xfrm>
              <a:off x="2505240" y="4437000"/>
              <a:ext cx="11448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3038760" y="4437000"/>
              <a:ext cx="11412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2"/>
          <p:cNvGrpSpPr/>
          <p:nvPr/>
        </p:nvGrpSpPr>
        <p:grpSpPr>
          <a:xfrm>
            <a:off x="1955880" y="5927760"/>
            <a:ext cx="647640" cy="100080"/>
            <a:chOff x="1955880" y="5927760"/>
            <a:chExt cx="647640" cy="100080"/>
          </a:xfrm>
        </p:grpSpPr>
        <p:sp>
          <p:nvSpPr>
            <p:cNvPr id="365" name="Oval 23"/>
            <p:cNvSpPr/>
            <p:nvPr/>
          </p:nvSpPr>
          <p:spPr>
            <a:xfrm>
              <a:off x="1955880" y="5927760"/>
              <a:ext cx="11448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2489400" y="5927760"/>
              <a:ext cx="11412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25"/>
          <p:cNvGrpSpPr/>
          <p:nvPr/>
        </p:nvGrpSpPr>
        <p:grpSpPr>
          <a:xfrm>
            <a:off x="1422360" y="5927760"/>
            <a:ext cx="647640" cy="100080"/>
            <a:chOff x="1422360" y="5927760"/>
            <a:chExt cx="647640" cy="100080"/>
          </a:xfrm>
        </p:grpSpPr>
        <p:sp>
          <p:nvSpPr>
            <p:cNvPr id="368" name="Oval 26"/>
            <p:cNvSpPr/>
            <p:nvPr/>
          </p:nvSpPr>
          <p:spPr>
            <a:xfrm>
              <a:off x="1422360" y="5927760"/>
              <a:ext cx="11448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27"/>
            <p:cNvSpPr/>
            <p:nvPr/>
          </p:nvSpPr>
          <p:spPr>
            <a:xfrm>
              <a:off x="1955880" y="5927760"/>
              <a:ext cx="114120" cy="10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AutoShape 28"/>
          <p:cNvSpPr/>
          <p:nvPr/>
        </p:nvSpPr>
        <p:spPr>
          <a:xfrm>
            <a:off x="7956720" y="5950080"/>
            <a:ext cx="431640" cy="431640"/>
          </a:xfrm>
          <a:custGeom>
            <a:avLst/>
            <a:gdLst>
              <a:gd name="textAreaLeft" fmla="*/ 27000 w 431640"/>
              <a:gd name="textAreaRight" fmla="*/ 405000 w 431640"/>
              <a:gd name="textAreaTop" fmla="*/ 27000 h 431640"/>
              <a:gd name="textAreaBottom" fmla="*/ 405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800"/>
                </a:moveTo>
                <a:lnTo>
                  <a:pt x="13390" y="6425"/>
                </a:ln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lnTo>
                  <a:pt x="17800" y="10800"/>
                </a:lnTo>
                <a:lnTo>
                  <a:pt x="16138" y="10800"/>
                </a:lnTo>
                <a:lnTo>
                  <a:pt x="16138" y="18028"/>
                </a:lnTo>
                <a:lnTo>
                  <a:pt x="5463" y="18028"/>
                </a:lnTo>
                <a:lnTo>
                  <a:pt x="5463" y="10800"/>
                </a:lnTo>
                <a:lnTo>
                  <a:pt x="3800" y="10800"/>
                </a:lnTo>
                <a:close/>
              </a:path>
              <a:path fill="darkenLess" w="21600" h="21600">
                <a:moveTo>
                  <a:pt x="13390" y="6425"/>
                </a:move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close/>
              </a:path>
              <a:path fill="darkenLess" w="21600" h="21600">
                <a:moveTo>
                  <a:pt x="9873" y="14318"/>
                </a:moveTo>
                <a:lnTo>
                  <a:pt x="11728" y="14318"/>
                </a:lnTo>
                <a:lnTo>
                  <a:pt x="11728" y="18028"/>
                </a:lnTo>
                <a:lnTo>
                  <a:pt x="16138" y="18028"/>
                </a:lnTo>
                <a:lnTo>
                  <a:pt x="16138" y="10800"/>
                </a:lnTo>
                <a:lnTo>
                  <a:pt x="5463" y="10800"/>
                </a:lnTo>
                <a:lnTo>
                  <a:pt x="5463" y="18028"/>
                </a:lnTo>
                <a:lnTo>
                  <a:pt x="9873" y="180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9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想对蔡桓公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想对扁鹊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想对自己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想对同学们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0000"/>
          <p:cNvPicPr/>
          <p:nvPr/>
        </p:nvPicPr>
        <p:blipFill>
          <a:blip r:embed="rId2"/>
          <a:stretch/>
        </p:blipFill>
        <p:spPr>
          <a:xfrm>
            <a:off x="2268360" y="765000"/>
            <a:ext cx="4964400" cy="540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0"/>
          <p:cNvSpPr/>
          <p:nvPr/>
        </p:nvSpPr>
        <p:spPr>
          <a:xfrm>
            <a:off x="2760840" y="112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扁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1" descr="水印logo"/>
          <p:cNvPicPr/>
          <p:nvPr/>
        </p:nvPicPr>
        <p:blipFill>
          <a:blip r:embed="rId3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68000" y="333000"/>
            <a:ext cx="8280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防患于未然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见棺材不落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亡羊补牢，犹未晚矣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千里之堤，溃于蚁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洞不补，大洞吃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听老人言，吃亏在眼前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宁可信其有，不可信其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77770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蔡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桓公  理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睬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肠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胃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敷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烫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   医治   几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剂汤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药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无能为力   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扁鹊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治病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7" name="Picture 4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扁鹊治病过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扁鹊在蔡桓公身边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站了一会儿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，说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大王，据我看来，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肤上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有点小病。要是不治，恐怕会走向体内发展。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过了十来天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，扁鹊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又来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拜见蔡桓公，说道：“您的病已经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皮肉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之间了，要不治还会加深。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十来天后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，扁鹊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再一次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来拜见，对蔡桓公说：“您的病已经发展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肠胃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了，再不治会更加严重。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又过了十几天，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扁鹊老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望见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蔡桓公，只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看了几眼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，就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掉头跑了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611280" y="1484280"/>
            <a:ext cx="806436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大王，据我看来，您皮肤上有点小病。要是不治，恐怕会向体内发展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水印logo"/>
          <p:cNvPicPr/>
          <p:nvPr/>
        </p:nvPicPr>
        <p:blipFill>
          <a:blip r:embed="rId2"/>
          <a:stretch/>
        </p:blipFill>
        <p:spPr>
          <a:xfrm>
            <a:off x="7380360" y="6093000"/>
            <a:ext cx="129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4:14:53Z</dcterms:created>
  <dc:creator/>
  <dc:description/>
  <cp:keywords>幻灯片之家 http:/www.eeppt.com</cp:keywords>
  <dc:language>en-US</dc:language>
  <cp:lastModifiedBy/>
  <dcterms:modified xsi:type="dcterms:W3CDTF">2015-07-19T02:40:33Z</dcterms:modified>
  <cp:revision>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