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B89-E3FD-4E34-AD84-465CF30F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4B5-EF6E-4C9A-8251-4430F24F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A23-B461-4DC6-AE6E-CEB42EEA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ED9-030E-4259-8364-36A7B7E4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E57-B27D-41FE-B2CA-13AF1F61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802-E89A-4F65-A13C-5D7969FE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686-CBDA-4959-9E9E-AFEACB7F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95A-41FE-4350-AC45-351936F2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B24-0530-429B-8AC9-D27E64B0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201-584F-4CE4-A97B-647BE92E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E3C-D147-4A85-B16D-73CFE6E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338-3DE4-4B40-AC23-E29592C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D2BE-D4C4-46E1-AD48-21489157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25840" y="2709720"/>
            <a:ext cx="277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《船长》课件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116000" y="234936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哪些词句看出险情的严重性？当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面你能用一些什么词语来形容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749400" y="155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被撞遇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059280" y="3933720"/>
            <a:ext cx="309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钧一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危在旦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细读感悟"/>
          <p:cNvPicPr/>
          <p:nvPr/>
        </p:nvPicPr>
        <p:blipFill>
          <a:blip r:embed="rId2"/>
          <a:stretch/>
        </p:blipFill>
        <p:spPr>
          <a:xfrm>
            <a:off x="611280" y="907920"/>
            <a:ext cx="1944720" cy="520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A8D-4ABA-4523-B2D0-2123AAA569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细读感悟"/>
          <p:cNvPicPr/>
          <p:nvPr/>
        </p:nvPicPr>
        <p:blipFill>
          <a:blip r:embed="rId2"/>
          <a:stretch/>
        </p:blipFill>
        <p:spPr>
          <a:xfrm>
            <a:off x="611280" y="907920"/>
            <a:ext cx="1944720" cy="520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900000" y="242100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哈尔威船长做了哪些事？从中你发现他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什么样的人，是文中的哪些词句向你传递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些信息，请圈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348000" y="1628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指挥援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细读感悟"/>
          <p:cNvPicPr/>
          <p:nvPr/>
        </p:nvPicPr>
        <p:blipFill>
          <a:blip r:embed="rId2"/>
          <a:stretch/>
        </p:blipFill>
        <p:spPr>
          <a:xfrm>
            <a:off x="611280" y="907920"/>
            <a:ext cx="1944720" cy="5209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894120" y="184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以身殉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050920" y="278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自己喜欢的方式阅读，说说你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小女孩"/>
          <p:cNvPicPr/>
          <p:nvPr/>
        </p:nvPicPr>
        <p:blipFill>
          <a:blip r:embed="rId3"/>
          <a:stretch/>
        </p:blipFill>
        <p:spPr>
          <a:xfrm>
            <a:off x="727200" y="3213000"/>
            <a:ext cx="1708200" cy="28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8000" y="558972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87280" y="2852640"/>
            <a:ext cx="70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摘抄积累自己喜欢的有积累价值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选做：观察一个场境，进行场面描写练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练习或作业"/>
          <p:cNvPicPr/>
          <p:nvPr/>
        </p:nvPicPr>
        <p:blipFill>
          <a:blip r:embed="rId2"/>
          <a:stretch/>
        </p:blipFill>
        <p:spPr>
          <a:xfrm>
            <a:off x="755640" y="1628640"/>
            <a:ext cx="1000080" cy="762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763640" y="170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2700360" y="2492280"/>
            <a:ext cx="322092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1763640" y="198900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7c80"/>
                </a:solidFill>
                <a:latin typeface="方正姚体"/>
                <a:ea typeface="方正姚体"/>
              </a:rPr>
              <a:t>雨  果  简  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0640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克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雨果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2—188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十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国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师，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人、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家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作家、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艺评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家、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誉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西的民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浪漫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义文学运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DFKai-SB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领袖。小说代表作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三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巴黎圣母院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悲惨世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DFKai-SB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ugo00"/>
          <p:cNvPicPr/>
          <p:nvPr/>
        </p:nvPicPr>
        <p:blipFill>
          <a:blip r:embed="rId20"/>
          <a:stretch/>
        </p:blipFill>
        <p:spPr>
          <a:xfrm>
            <a:off x="826920" y="1557360"/>
            <a:ext cx="3353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7c80"/>
                </a:solidFill>
                <a:latin typeface="方正姚体"/>
                <a:ea typeface="方正姚体"/>
              </a:rPr>
              <a:t>雨  果  简  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7208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_x000b__x000c_"/>
              </a:rPr>
              <a:t>188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雨果在巴黎与世长辞</a:t>
            </a:r>
            <a:r>
              <a:rPr b="1" lang="en-US" sz="2800" spc="-1" strike="noStrike">
                <a:solidFill>
                  <a:srgbClr val="000000"/>
                </a:solidFill>
                <a:latin typeface="_x000b__x000c_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法兰西举国为他志哀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年来，法国人民和世界各国人民一直缅怀这位伟大的法国文化先驱者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巴黎圣母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悲惨世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次被拍成电影，在世界上广为流传，成为经典之作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3868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china.org.cn/images/ch/yg/10.jpg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334120" y="155736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方正姚体"/>
              </a:rPr>
              <a:t>作品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巴黎圣母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是雨果第一部大型浪漫主义小说。它以离奇和对比手法写了一个发生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纪法国的故事：巴黎圣母院 副主教克罗德道貌岸然、蛇蝎心肠，先爱后恨，迫害吉卜赛女郎爱斯梅拉尔达。面目丑陋、心地善良的敲钟人卡西莫多为救女郎舍身。 小说揭露了宗教的虚伪，宣告禁欲主义的破产，歌颂了下层劳动人民的善良、友爱、舍己为人，反映了雨果的人道主义思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悲惨世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能代表雨果的思想艺术风格，他以卓越的艺术魅力展示了资本主义社会奴役劳动人民、逼良为娼的残酷的现实。 然而，作家深信唯有道德感化是医治社会灾难的良方。小说虽不乏现实主义因素，但就人物形象的塑造、环境的描写，象征和对比手 法的运用等方面而言，仍然是一部浪漫主义的杰作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26920" y="2205000"/>
            <a:ext cx="7490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地朗读课文，了解哈尔威船长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开展救援的。通过对文中含义深刻句子的理解，进一步感受哈尔威船长忠于职守、临危不惧，无私无谓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本课生字新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累课文中自己喜欢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00000" y="1341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00360" y="2060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嘈    遣    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684360" y="907920"/>
            <a:ext cx="2016000" cy="1726920"/>
            <a:chOff x="684360" y="907920"/>
            <a:chExt cx="2016000" cy="1726920"/>
          </a:xfrm>
        </p:grpSpPr>
        <p:pic>
          <p:nvPicPr>
            <p:cNvPr id="62" name="Picture 5" descr="小狗"/>
            <p:cNvPicPr/>
            <p:nvPr/>
          </p:nvPicPr>
          <p:blipFill>
            <a:blip r:embed="rId2"/>
            <a:stretch/>
          </p:blipFill>
          <p:spPr>
            <a:xfrm>
              <a:off x="684360" y="907920"/>
              <a:ext cx="1655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6"/>
            <p:cNvSpPr/>
            <p:nvPr/>
          </p:nvSpPr>
          <p:spPr>
            <a:xfrm>
              <a:off x="684360" y="173412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生字学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9"/>
          <p:cNvSpPr/>
          <p:nvPr/>
        </p:nvSpPr>
        <p:spPr>
          <a:xfrm>
            <a:off x="2556000" y="155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á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356000" y="148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6084720" y="1413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547640" y="3645000"/>
            <a:ext cx="62643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曼     薄    玛    泣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副     秩    舰    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4360" y="1700280"/>
            <a:ext cx="7848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薄雾    笼罩    哭泣  嘈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窝蜂    维持秩序   不可开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短有力  大副  肇祸  井然有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斗殴  巍然屹立  沉着镇定  调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渊  阴森可怖  凝视  忠于职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268360" y="2205000"/>
            <a:ext cx="61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自己喜欢的方式阅读课文，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课文主要写了一件什么事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小男孩1"/>
          <p:cNvPicPr/>
          <p:nvPr/>
        </p:nvPicPr>
        <p:blipFill>
          <a:blip r:embed="rId2"/>
          <a:stretch/>
        </p:blipFill>
        <p:spPr>
          <a:xfrm>
            <a:off x="826920" y="2852640"/>
            <a:ext cx="1352880" cy="3016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初读感知"/>
          <p:cNvPicPr/>
          <p:nvPr/>
        </p:nvPicPr>
        <p:blipFill>
          <a:blip r:embed="rId3"/>
          <a:stretch/>
        </p:blipFill>
        <p:spPr>
          <a:xfrm>
            <a:off x="900000" y="105264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27280" y="2565360"/>
            <a:ext cx="36003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被撞遇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指挥援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以身殉职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初读感知"/>
          <p:cNvPicPr/>
          <p:nvPr/>
        </p:nvPicPr>
        <p:blipFill>
          <a:blip r:embed="rId2"/>
          <a:stretch/>
        </p:blipFill>
        <p:spPr>
          <a:xfrm>
            <a:off x="900000" y="105264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42:19Z</dcterms:created>
  <dc:creator/>
  <dc:description/>
  <cp:keywords>幻灯片之家 http:/www.eeppt.com</cp:keywords>
  <dc:language>en-US</dc:language>
  <cp:lastModifiedBy/>
  <dcterms:modified xsi:type="dcterms:W3CDTF">2015-07-20T02:03:35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