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81D-7162-4326-A5DE-E0A56014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318-9D8B-4861-BEAE-F7272ACE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A54-B911-4DFC-810A-D6EAF0FE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B1D8-84DD-4BEE-862E-750FF47F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38B0-051C-447C-8D3E-B413EDAE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CF86-5B29-4A0B-A3A3-CA15E84C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EF33-067B-4FD5-9541-8C499DF8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1C35-EB56-43EB-8B07-DF5AC60D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7F2A-249F-4B1E-AC17-AFBB7BF6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B5FE-445A-49CA-BDDE-48A6CC44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03A3-A155-48EF-8841-1EE8E75D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F30-2E21-499A-BD42-EB333ECB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E62A-5E4A-4B9E-AFDB-F197AA7C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5C9E-BA67-4B3B-86C3-4D7C8A30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B4E7-F019-4757-8696-5CB71B47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5FC8-448C-424A-B85D-59F2805C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CFB8-0497-4574-8312-BA9AC278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B48F-9B04-4787-A08B-AEE4A88F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CC1-2CF8-49EE-B11B-C0A1F697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198-99D9-4FA3-AA4D-76F923BA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104-B8B5-4386-B78A-D1C3B472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C00-5697-4DF8-86BB-1C662FBE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28F-E52A-481F-AFE9-7E302C4B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D3F-156C-4E30-98A2-2711FE5E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3" descr="A:\minispir.GIF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A:\minispir.GIF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EC17-710D-446C-A289-3C2449640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5235-6C97-42CC-8A75-5BE4CF711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z.sm.fj.cninfo.net/jxzy/tp/dltp.htm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hyperlink" Target="http://www.bjww.gov.cn/msgj/gb/m4.htm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www.gansutong.com/wjys/wjys/whys/gsww/ccbwg/ccbwg.htm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7"/>
          <p:cNvSpPr/>
          <p:nvPr/>
        </p:nvSpPr>
        <p:spPr>
          <a:xfrm>
            <a:off x="250920" y="415800"/>
            <a:ext cx="44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d18f"/>
                </a:solidFill>
                <a:latin typeface="黑体"/>
                <a:ea typeface="黑体"/>
              </a:rPr>
              <a:t>人教版小学语文四年级上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0040" y="2133720"/>
            <a:ext cx="2812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长城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4" descr="DL0030005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228600"/>
            <a:ext cx="1543320" cy="2590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秦始皇"/>
          <p:cNvPicPr/>
          <p:nvPr/>
        </p:nvPicPr>
        <p:blipFill>
          <a:blip r:embed="rId4"/>
          <a:stretch/>
        </p:blipFill>
        <p:spPr>
          <a:xfrm>
            <a:off x="7162920" y="3886200"/>
            <a:ext cx="1646280" cy="2671920"/>
          </a:xfrm>
          <a:prstGeom prst="rect">
            <a:avLst/>
          </a:prstGeom>
          <a:ln w="0">
            <a:noFill/>
          </a:ln>
        </p:spPr>
      </p:pic>
      <p:sp>
        <p:nvSpPr>
          <p:cNvPr id="160" name="Oval 5"/>
          <p:cNvSpPr/>
          <p:nvPr/>
        </p:nvSpPr>
        <p:spPr>
          <a:xfrm>
            <a:off x="990720" y="533520"/>
            <a:ext cx="1676160" cy="914400"/>
          </a:xfrm>
          <a:prstGeom prst="ellipse">
            <a:avLst/>
          </a:prstGeom>
          <a:solidFill>
            <a:srgbClr val="fa18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6745320" cy="40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19f9"/>
                </a:solidFill>
                <a:latin typeface="Times New Roman"/>
              </a:rPr>
              <a:t>长城到底给中华民族带来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7924680" y="4572000"/>
            <a:ext cx="41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秦始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629480" y="49831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2" descr="mty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43200" y="304920"/>
            <a:ext cx="2133720" cy="1482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ccbwg1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304920"/>
            <a:ext cx="2210040" cy="145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19f9"/>
                </a:solidFill>
                <a:latin typeface="Times New Roman"/>
              </a:rPr>
              <a:t>学习评价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66680" y="1752480"/>
          <a:ext cx="7315200" cy="46324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zh-CN" sz="16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评价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小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汇报形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汇报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汇报效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探究</a:t>
                      </a: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探究</a:t>
                      </a: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探究</a:t>
                      </a: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探究</a:t>
                      </a: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1044720" y="6453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660066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7"/>
          <p:cNvSpPr/>
          <p:nvPr/>
        </p:nvSpPr>
        <p:spPr>
          <a:xfrm>
            <a:off x="1187280" y="2708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E:\方启德\课件材料\chmap.jpg"/>
          <p:cNvPicPr/>
          <p:nvPr/>
        </p:nvPicPr>
        <p:blipFill>
          <a:blip r:embed="rId2"/>
          <a:stretch/>
        </p:blipFill>
        <p:spPr>
          <a:xfrm>
            <a:off x="762120" y="2362320"/>
            <a:ext cx="8076960" cy="3919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19f9"/>
                </a:solidFill>
                <a:latin typeface="Times New Roman"/>
              </a:rPr>
              <a:t>教材简析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80920" y="304920"/>
            <a:ext cx="4953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19f9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fa1843"/>
                </a:solidFill>
                <a:latin typeface="Times New Roman"/>
              </a:rPr>
              <a:t>这篇看图学文按由远及近、由整体到部分的顺序介绍了长城气势雄伟的远景和高大坚固的近景，使学生认识到长城是我国古代劳动人民血汗和智慧的结晶，是世界历史上的伟大奇迹，激发学生民族自豪感，使学生受到爱国主义教育。</a:t>
            </a:r>
            <a:r>
              <a:rPr b="0" lang="zh-CN" sz="2800" spc="-1" strike="noStrike">
                <a:solidFill>
                  <a:srgbClr val="fa1843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19f9"/>
                </a:solidFill>
                <a:latin typeface="Times New Roman"/>
              </a:rPr>
              <a:t>教学目标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．</a:t>
            </a:r>
            <a:r>
              <a:rPr b="0" lang="zh-CN" sz="3200" spc="-1" strike="noStrike">
                <a:solidFill>
                  <a:srgbClr val="fa1843"/>
                </a:solidFill>
                <a:latin typeface="Times New Roman"/>
              </a:rPr>
              <a:t>认知目标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：掌握本课生字、生词，了解长城的概貌、构造、历史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．</a:t>
            </a:r>
            <a:r>
              <a:rPr b="0" lang="zh-CN" sz="3200" spc="-1" strike="noStrike">
                <a:solidFill>
                  <a:srgbClr val="fa1843"/>
                </a:solidFill>
                <a:latin typeface="Times New Roman"/>
              </a:rPr>
              <a:t>智能目标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：指导学生图文对照，学习由远及近、由整体到部分的观察方法，培养观察能力和良好的观察习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．</a:t>
            </a:r>
            <a:r>
              <a:rPr b="0" lang="zh-CN" sz="3200" spc="-1" strike="noStrike">
                <a:solidFill>
                  <a:srgbClr val="fa1843"/>
                </a:solidFill>
                <a:latin typeface="Times New Roman"/>
              </a:rPr>
              <a:t>情感目标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：通过读文讨论，激发学生的民族自豪感和爱国主义情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19f9"/>
                </a:solidFill>
                <a:latin typeface="Times New Roman"/>
              </a:rPr>
              <a:t>主题学习的探究任务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、远看长城是什么样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、长城的构造是什么样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、为什么说“长城是人类历史上的一个伟大奇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、长城到底给中华民族带来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19f9"/>
                </a:solidFill>
                <a:latin typeface="Times New Roman"/>
              </a:rPr>
              <a:t>学习方式指导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919f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、自己和几个兴趣相同的同学一起，组成一个研究小组来共同来开展研究。由组长给小组成员明确分工，有的负责图片的收集整理，有的负责历史记载资料的收集整理，有的负责</a:t>
            </a:r>
            <a:r>
              <a:rPr b="0" lang="zh-CN" sz="2800" spc="-1" strike="noStrike">
                <a:solidFill>
                  <a:srgbClr val="2919f9"/>
                </a:solidFill>
                <a:latin typeface="Times New Roman"/>
              </a:rPr>
              <a:t>音像</a:t>
            </a: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资料的收集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919f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、选定一个研究方面，收集学习资料。可查阅书籍，也可通过老师提供的链接，查阅关于长城的网站，或者在</a:t>
            </a:r>
            <a:r>
              <a:rPr b="0" lang="en-US" sz="2400" spc="-1" strike="noStrike">
                <a:solidFill>
                  <a:srgbClr val="2919f9"/>
                </a:solidFill>
                <a:latin typeface="Times New Roman"/>
              </a:rPr>
              <a:t>Internet</a:t>
            </a: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上自己用搜索引擎，收集资料，进行收集、整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919f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、分析、筛选资料，以一定的方式（例如：手抄报、演示文稿或网页）设计完成小组的汇报讲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9"/>
          <p:cNvSpPr/>
          <p:nvPr/>
        </p:nvSpPr>
        <p:spPr>
          <a:xfrm>
            <a:off x="990720" y="533520"/>
            <a:ext cx="1676160" cy="914400"/>
          </a:xfrm>
          <a:prstGeom prst="ellipse">
            <a:avLst/>
          </a:prstGeom>
          <a:solidFill>
            <a:srgbClr val="fa18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4922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19f9"/>
                </a:solidFill>
                <a:latin typeface="Times New Roman"/>
              </a:rPr>
              <a:t>远看长城是什么样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" descr="E:\方启德\课件材料\$greatwall02.jpg"/>
          <p:cNvPicPr/>
          <p:nvPr/>
        </p:nvPicPr>
        <p:blipFill>
          <a:blip r:embed="rId2"/>
          <a:stretch/>
        </p:blipFill>
        <p:spPr>
          <a:xfrm>
            <a:off x="5613480" y="4437000"/>
            <a:ext cx="3225600" cy="2187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E:\方启德\课件材料\新建 文件夹\01-3.jpg"/>
          <p:cNvPicPr/>
          <p:nvPr/>
        </p:nvPicPr>
        <p:blipFill>
          <a:blip r:embed="rId3"/>
          <a:stretch/>
        </p:blipFill>
        <p:spPr>
          <a:xfrm>
            <a:off x="4775040" y="36972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E:\方启德\课件材料\新建 文件夹\cc00130jsl.jpg"/>
          <p:cNvPicPr/>
          <p:nvPr/>
        </p:nvPicPr>
        <p:blipFill>
          <a:blip r:embed="rId4"/>
          <a:stretch/>
        </p:blipFill>
        <p:spPr>
          <a:xfrm>
            <a:off x="6705720" y="380880"/>
            <a:ext cx="1981080" cy="133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28720" y="4581360"/>
            <a:ext cx="849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5"/>
          <p:cNvSpPr/>
          <p:nvPr/>
        </p:nvSpPr>
        <p:spPr>
          <a:xfrm>
            <a:off x="990720" y="533520"/>
            <a:ext cx="1676160" cy="914400"/>
          </a:xfrm>
          <a:prstGeom prst="ellipse">
            <a:avLst/>
          </a:prstGeom>
          <a:solidFill>
            <a:srgbClr val="fa18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19f9"/>
                </a:solidFill>
                <a:latin typeface="Times New Roman"/>
              </a:rPr>
              <a:t>长城的构造是什么样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E:\方启德\课件材料\新建 文件夹\21.jpg"/>
          <p:cNvPicPr/>
          <p:nvPr/>
        </p:nvPicPr>
        <p:blipFill>
          <a:blip r:embed="rId2"/>
          <a:stretch/>
        </p:blipFill>
        <p:spPr>
          <a:xfrm>
            <a:off x="2743200" y="304920"/>
            <a:ext cx="2590920" cy="1447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E:\方启德\课件材料\新建 文件夹\55.jpg"/>
          <p:cNvPicPr/>
          <p:nvPr/>
        </p:nvPicPr>
        <p:blipFill>
          <a:blip r:embed="rId3"/>
          <a:stretch/>
        </p:blipFill>
        <p:spPr>
          <a:xfrm>
            <a:off x="5715000" y="304920"/>
            <a:ext cx="2895480" cy="21715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12"/>
          <p:cNvGrpSpPr/>
          <p:nvPr/>
        </p:nvGrpSpPr>
        <p:grpSpPr>
          <a:xfrm>
            <a:off x="1143000" y="4952880"/>
            <a:ext cx="7543440" cy="1089360"/>
            <a:chOff x="1143000" y="4952880"/>
            <a:chExt cx="7543440" cy="1089360"/>
          </a:xfrm>
        </p:grpSpPr>
        <p:sp>
          <p:nvSpPr>
            <p:cNvPr id="113" name="Line 13"/>
            <p:cNvSpPr/>
            <p:nvPr/>
          </p:nvSpPr>
          <p:spPr>
            <a:xfrm>
              <a:off x="2008440" y="5631840"/>
              <a:ext cx="309240" cy="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 flipV="1">
              <a:off x="2317680" y="5385600"/>
              <a:ext cx="0" cy="24588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>
              <a:off x="2317680" y="5385960"/>
              <a:ext cx="370800" cy="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16"/>
            <p:cNvSpPr/>
            <p:nvPr/>
          </p:nvSpPr>
          <p:spPr>
            <a:xfrm>
              <a:off x="2688840" y="5385960"/>
              <a:ext cx="0" cy="24588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7"/>
            <p:cNvSpPr/>
            <p:nvPr/>
          </p:nvSpPr>
          <p:spPr>
            <a:xfrm>
              <a:off x="2688840" y="5631840"/>
              <a:ext cx="308880" cy="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2688840" y="5631840"/>
              <a:ext cx="308880" cy="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 flipV="1">
              <a:off x="2997720" y="5385600"/>
              <a:ext cx="0" cy="24588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2997720" y="5385960"/>
              <a:ext cx="370800" cy="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21"/>
            <p:cNvSpPr/>
            <p:nvPr/>
          </p:nvSpPr>
          <p:spPr>
            <a:xfrm>
              <a:off x="3368880" y="5385960"/>
              <a:ext cx="0" cy="24588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3368880" y="5631840"/>
              <a:ext cx="308880" cy="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23"/>
            <p:cNvSpPr/>
            <p:nvPr/>
          </p:nvSpPr>
          <p:spPr>
            <a:xfrm>
              <a:off x="3368880" y="5631840"/>
              <a:ext cx="308880" cy="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 flipV="1">
              <a:off x="3678120" y="5385600"/>
              <a:ext cx="0" cy="24588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>
              <a:off x="3678120" y="5385960"/>
              <a:ext cx="370800" cy="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>
              <a:off x="4048920" y="5385960"/>
              <a:ext cx="0" cy="24588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27"/>
            <p:cNvSpPr/>
            <p:nvPr/>
          </p:nvSpPr>
          <p:spPr>
            <a:xfrm>
              <a:off x="4048920" y="5631840"/>
              <a:ext cx="309240" cy="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28"/>
            <p:cNvSpPr/>
            <p:nvPr/>
          </p:nvSpPr>
          <p:spPr>
            <a:xfrm>
              <a:off x="4048920" y="5631840"/>
              <a:ext cx="309240" cy="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 flipV="1">
              <a:off x="4358520" y="5385600"/>
              <a:ext cx="0" cy="24588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4358520" y="5385960"/>
              <a:ext cx="370800" cy="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31"/>
            <p:cNvSpPr/>
            <p:nvPr/>
          </p:nvSpPr>
          <p:spPr>
            <a:xfrm>
              <a:off x="4729320" y="5385960"/>
              <a:ext cx="0" cy="24588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32"/>
            <p:cNvSpPr/>
            <p:nvPr/>
          </p:nvSpPr>
          <p:spPr>
            <a:xfrm>
              <a:off x="4729320" y="5631840"/>
              <a:ext cx="308880" cy="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33"/>
            <p:cNvSpPr/>
            <p:nvPr/>
          </p:nvSpPr>
          <p:spPr>
            <a:xfrm>
              <a:off x="4729320" y="5631840"/>
              <a:ext cx="308880" cy="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34"/>
            <p:cNvSpPr/>
            <p:nvPr/>
          </p:nvSpPr>
          <p:spPr>
            <a:xfrm flipV="1">
              <a:off x="5038560" y="5385600"/>
              <a:ext cx="0" cy="24588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35"/>
            <p:cNvSpPr/>
            <p:nvPr/>
          </p:nvSpPr>
          <p:spPr>
            <a:xfrm>
              <a:off x="5038560" y="5385960"/>
              <a:ext cx="370800" cy="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36"/>
            <p:cNvSpPr/>
            <p:nvPr/>
          </p:nvSpPr>
          <p:spPr>
            <a:xfrm>
              <a:off x="5409360" y="5385960"/>
              <a:ext cx="0" cy="24588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37"/>
            <p:cNvSpPr/>
            <p:nvPr/>
          </p:nvSpPr>
          <p:spPr>
            <a:xfrm>
              <a:off x="5409360" y="5631840"/>
              <a:ext cx="308880" cy="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38"/>
            <p:cNvSpPr/>
            <p:nvPr/>
          </p:nvSpPr>
          <p:spPr>
            <a:xfrm>
              <a:off x="2441520" y="5680800"/>
              <a:ext cx="12348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39"/>
            <p:cNvSpPr/>
            <p:nvPr/>
          </p:nvSpPr>
          <p:spPr>
            <a:xfrm>
              <a:off x="3121560" y="5680800"/>
              <a:ext cx="12384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0"/>
            <p:cNvSpPr/>
            <p:nvPr/>
          </p:nvSpPr>
          <p:spPr>
            <a:xfrm>
              <a:off x="3801960" y="5680800"/>
              <a:ext cx="12348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1"/>
            <p:cNvSpPr/>
            <p:nvPr/>
          </p:nvSpPr>
          <p:spPr>
            <a:xfrm>
              <a:off x="4482000" y="5680800"/>
              <a:ext cx="12348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2"/>
            <p:cNvSpPr/>
            <p:nvPr/>
          </p:nvSpPr>
          <p:spPr>
            <a:xfrm>
              <a:off x="5162040" y="5680800"/>
              <a:ext cx="12384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AutoShape 43"/>
            <p:cNvSpPr/>
            <p:nvPr/>
          </p:nvSpPr>
          <p:spPr>
            <a:xfrm>
              <a:off x="2132280" y="4952880"/>
              <a:ext cx="792000" cy="629640"/>
            </a:xfrm>
            <a:custGeom>
              <a:avLst/>
              <a:gdLst>
                <a:gd name="textAreaLeft" fmla="*/ 115920 w 792000"/>
                <a:gd name="textAreaRight" fmla="*/ 676080 w 792000"/>
                <a:gd name="textAreaTop" fmla="*/ 92160 h 629640"/>
                <a:gd name="textAreaBottom" fmla="*/ 537480 h 629640"/>
              </a:gdLst>
              <a:ahLst/>
              <a:rect l="textAreaLeft" t="textAreaTop" r="textAreaRight" b="textAreaBottom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cbbd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44"/>
            <p:cNvSpPr/>
            <p:nvPr/>
          </p:nvSpPr>
          <p:spPr>
            <a:xfrm>
              <a:off x="1143000" y="5090760"/>
              <a:ext cx="105084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efde3"/>
                  </a:solidFill>
                  <a:latin typeface="Times New Roman"/>
                </a:rPr>
                <a:t>瞭望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45"/>
            <p:cNvSpPr/>
            <p:nvPr/>
          </p:nvSpPr>
          <p:spPr>
            <a:xfrm>
              <a:off x="5657040" y="5582520"/>
              <a:ext cx="988920" cy="313200"/>
            </a:xfrm>
            <a:prstGeom prst="leftArrow">
              <a:avLst>
                <a:gd name="adj1" fmla="val 50000"/>
                <a:gd name="adj2" fmla="val 78937"/>
              </a:avLst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46"/>
            <p:cNvSpPr/>
            <p:nvPr/>
          </p:nvSpPr>
          <p:spPr>
            <a:xfrm>
              <a:off x="6771240" y="5582520"/>
              <a:ext cx="191520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射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AutoShape 47"/>
          <p:cNvSpPr/>
          <p:nvPr/>
        </p:nvSpPr>
        <p:spPr>
          <a:xfrm>
            <a:off x="4038480" y="4495680"/>
            <a:ext cx="1905120" cy="762120"/>
          </a:xfrm>
          <a:prstGeom prst="downArrowCallout">
            <a:avLst>
              <a:gd name="adj1" fmla="val 70139"/>
              <a:gd name="adj2" fmla="val 62494"/>
              <a:gd name="adj3" fmla="val 16667"/>
              <a:gd name="adj4" fmla="val 66667"/>
            </a:avLst>
          </a:prstGeom>
          <a:solidFill>
            <a:srgbClr val="ed75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垛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4"/>
          <p:cNvSpPr/>
          <p:nvPr/>
        </p:nvSpPr>
        <p:spPr>
          <a:xfrm>
            <a:off x="990720" y="533520"/>
            <a:ext cx="1676160" cy="914400"/>
          </a:xfrm>
          <a:prstGeom prst="ellipse">
            <a:avLst/>
          </a:prstGeom>
          <a:solidFill>
            <a:srgbClr val="fa18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19f9"/>
                </a:solidFill>
                <a:latin typeface="Times New Roman"/>
              </a:rPr>
              <a:t>为什么说“长城是人类历史上的            一个伟大奇迹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6" descr="E:\方启德\课件材料\新建 文件夹\112206_sml.jpg"/>
          <p:cNvPicPr/>
          <p:nvPr/>
        </p:nvPicPr>
        <p:blipFill>
          <a:blip r:embed="rId2"/>
          <a:stretch/>
        </p:blipFill>
        <p:spPr>
          <a:xfrm>
            <a:off x="7380360" y="4205160"/>
            <a:ext cx="1496880" cy="246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E:\方启德\课件材料\新建 文件夹\cc00055smt.jpg"/>
          <p:cNvPicPr/>
          <p:nvPr/>
        </p:nvPicPr>
        <p:blipFill>
          <a:blip r:embed="rId3"/>
          <a:stretch/>
        </p:blipFill>
        <p:spPr>
          <a:xfrm>
            <a:off x="1187280" y="4224240"/>
            <a:ext cx="3616560" cy="2452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E:\方启德\课件材料\新建 文件夹\cc00072jsl.jpg"/>
          <p:cNvPicPr/>
          <p:nvPr/>
        </p:nvPicPr>
        <p:blipFill>
          <a:blip r:embed="rId4"/>
          <a:stretch/>
        </p:blipFill>
        <p:spPr>
          <a:xfrm>
            <a:off x="4952880" y="304920"/>
            <a:ext cx="2057400" cy="1447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E:\方启德\课件材料\新建 文件夹\Cc-020.jpg"/>
          <p:cNvPicPr/>
          <p:nvPr/>
        </p:nvPicPr>
        <p:blipFill>
          <a:blip r:embed="rId5"/>
          <a:stretch/>
        </p:blipFill>
        <p:spPr>
          <a:xfrm>
            <a:off x="6934320" y="304920"/>
            <a:ext cx="1828800" cy="144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A6E4-F9BB-459A-A8F7-5114DF441EDA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1:10:13Z</dcterms:created>
  <dc:creator/>
  <dc:description/>
  <cp:keywords>幻灯片之家 http:/www.eeppt.com</cp:keywords>
  <dc:language>en-US</dc:language>
  <cp:lastModifiedBy/>
  <dcterms:modified xsi:type="dcterms:W3CDTF">2015-07-20T01:34:09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