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0C2E1-1FD1-456E-A0F4-581A6EAF97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7E07-551F-455C-A63E-451D85B4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4813-C089-4A85-9C4F-945D580C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D1CE9-8CFE-4FB7-9FCD-361843892D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9F7D8-192C-46FD-BC56-4F9D9E440E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647B9-8B10-48D7-B48E-A3AA99E7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70FA3-84DC-4C11-A75A-659BA71F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6EDFD-01CB-407A-A2C4-1EB569CF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CEA10-98B1-4F21-A77C-96C10D0F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22148-CAC2-4645-84DE-8EE7CBAB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7BF21-12DC-4F65-AAC6-EC3C4D78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3BD2-DE17-4A20-B52F-B1045F72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5B343-8BFA-47B6-813C-DA718689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0007A-BBEB-4064-8F65-00EB5DEF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68CE2-F703-41DA-B4E5-F8F77158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6EDD4-5F75-4D09-A3E4-DE92783A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E5BDA-985A-4613-A76E-6E1C6BFBC1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2CFD5-22C4-4CB5-8ACA-33576E9E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7C54F-272C-454C-90DE-19695DE2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F8337-0974-463E-B0D8-9B79CA5D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570EF-3BA1-4636-A5D3-50659027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9EB43-6591-41F7-B310-77002490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5EB31-A127-4EA8-8174-B2B94547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5C289-26C1-4297-9516-90E5B2E6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808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600" cy="1951920"/>
              <a:chOff x="-34560" y="-617040"/>
              <a:chExt cx="845460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960"/>
                <a:ext cx="1681200" cy="27324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52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360" y="517680"/>
                <a:ext cx="304920" cy="304920"/>
                <a:chOff x="1584360" y="517680"/>
                <a:chExt cx="304920" cy="3049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360" y="517680"/>
                  <a:ext cx="304920" cy="30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640" y="598680"/>
                  <a:ext cx="74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880" y="555840"/>
                  <a:ext cx="74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880" y="641520"/>
                  <a:ext cx="74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3520" y="669960"/>
                  <a:ext cx="7452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560" y="660600"/>
                  <a:ext cx="74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2600" y="731880"/>
                  <a:ext cx="7452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880" y="717840"/>
                  <a:ext cx="7488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560" y="522360"/>
                  <a:ext cx="74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6AED-D898-44CE-9F24-BF4FE01DE73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9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3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6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828440" y="2102400"/>
                <a:ext cx="11196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671120" y="2037960"/>
                <a:ext cx="11196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120" y="2166480"/>
                <a:ext cx="11196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78760" y="2209320"/>
                <a:ext cx="11160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0960" y="2195280"/>
                <a:ext cx="11196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807200" y="2301840"/>
                <a:ext cx="11160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71120" y="2280960"/>
                <a:ext cx="11196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799640" y="1987920"/>
                <a:ext cx="11196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4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ACD1-9B66-49F1-A309-3E9A71582D5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Narrow"/>
                <a:ea typeface="DFKai-SB"/>
              </a:rPr>
              <a:t>初級會計學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 Narrow"/>
                <a:ea typeface="DFKai-SB"/>
              </a:rPr>
              <a:t>會計之基本概念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409720" y="502884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XXX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老師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2197440" y="414972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8D058-2A3E-4548-98E5-9544E6B2D548}" type="slidenum">
              <a:t>1</a:t>
            </a:fld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  <a:ea typeface="DFKai-SB"/>
              </a:rPr>
              <a:t>企管人員的重要決策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財務決策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行銷決策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資源分配決策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886200" y="2971800"/>
            <a:ext cx="4583160" cy="30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71A9F-D9C5-4F78-B4BF-F9A01B68141A}" type="slidenum">
              <a:t>10</a:t>
            </a:fld>
          </a:p>
        </p:txBody>
      </p:sp>
    </p:spTree>
  </p:cSld>
  <p:transition>
    <p:checker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  <a:ea typeface="DFKai-SB"/>
              </a:rPr>
              <a:t>隨堂練習（１）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28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買賣業所採用的會計為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DFKai-SB"/>
              </a:rPr>
              <a:t>成本會計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DFKai-SB"/>
              </a:rPr>
              <a:t>特殊行業會計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DFKai-SB"/>
              </a:rPr>
              <a:t>財務會計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6689880" y="46753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90720" y="54100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DFKai-SB"/>
              </a:rPr>
              <a:t>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514600" y="4114800"/>
            <a:ext cx="5410080" cy="204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0663-F1D4-4DA3-823A-B0598DD921D7}" type="slidenum">
              <a:t>11</a:t>
            </a:fld>
          </a:p>
        </p:txBody>
      </p:sp>
    </p:spTree>
  </p:cSld>
  <p:transition>
    <p:checke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  <a:ea typeface="DFKai-SB"/>
              </a:rPr>
              <a:t>隨堂練習（２）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財務會計應遵循下列何者來記帳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DFKai-SB"/>
              </a:rPr>
              <a:t>管理理念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DFKai-SB"/>
              </a:rPr>
              <a:t>業主指示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DFKai-SB"/>
              </a:rPr>
              <a:t>稅法規定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DFKai-SB"/>
              </a:rPr>
              <a:t>一般公認會計原則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2919240" cy="2282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077320" y="3657600"/>
            <a:ext cx="7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DFKai-SB"/>
              </a:rPr>
              <a:t>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9AD9-E0F0-4EFA-9121-BD938D9A77D0}" type="slidenum">
              <a:t>12</a:t>
            </a:fld>
          </a:p>
        </p:txBody>
      </p:sp>
    </p:spTree>
  </p:cSld>
  <p:transition>
    <p:checke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  <a:ea typeface="DFKai-SB"/>
              </a:rPr>
              <a:t>隨堂練習（３）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047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依我國商業會計法之規定，企業結算之時間為？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DFKai-SB"/>
              </a:rPr>
              <a:t>三個月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DFKai-SB"/>
              </a:rPr>
              <a:t>半年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DFKai-SB"/>
              </a:rPr>
              <a:t>一年，並採曆年制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400800" y="3581280"/>
            <a:ext cx="2457360" cy="264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904720" y="5105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DFKai-SB"/>
              </a:rPr>
              <a:t>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DC988-676E-4919-9836-29441E7EBF96}" type="slidenum">
              <a:t>13</a:t>
            </a:fld>
          </a:p>
        </p:txBody>
      </p:sp>
    </p:spTree>
  </p:cSld>
  <p:transition>
    <p:checker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 Narrow"/>
                <a:ea typeface="DFKai-SB"/>
              </a:rPr>
              <a:t>下課了！</a:t>
            </a:r>
            <a:endParaRPr b="0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514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3962520"/>
            <a:ext cx="3337200" cy="247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51499-500E-4755-8E45-681352B0C688}" type="slidenum">
              <a:t>14</a:t>
            </a:fld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481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什麼是會計</a:t>
            </a:r>
            <a:r>
              <a:rPr b="0" lang="en-US" sz="4400" spc="-1" strike="noStrike">
                <a:solidFill>
                  <a:srgbClr val="000000"/>
                </a:solidFill>
                <a:latin typeface="DFKai-SB"/>
                <a:ea typeface="DFKai-SB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是以</a:t>
            </a:r>
            <a:r>
              <a:rPr b="0" lang="zh-CN" sz="3200" spc="-1" strike="noStrike">
                <a:solidFill>
                  <a:srgbClr val="ff0066"/>
                </a:solidFill>
                <a:latin typeface="Arial Narrow"/>
                <a:ea typeface="DFKai-SB"/>
              </a:rPr>
              <a:t>一套有系統的理論與方法</a:t>
            </a: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，將經濟個體的財務性經濟活動，用</a:t>
            </a:r>
            <a:r>
              <a:rPr b="0" lang="zh-CN" sz="3200" spc="-1" strike="noStrike">
                <a:solidFill>
                  <a:srgbClr val="ff0066"/>
                </a:solidFill>
                <a:latin typeface="Arial Narrow"/>
                <a:ea typeface="DFKai-SB"/>
              </a:rPr>
              <a:t>貨幣單位</a:t>
            </a: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衡量後，加以記錄、分類再彙總，按期編製成財務報表，來報導企業的財務狀況及經營成果，最後在加以分析成，有用的資訊，提供給需要使用會計資訊的人作為各總活動的判斷與決策根據。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6530-1BDF-4CAD-8909-2423AC489649}" type="slidenum">
              <a:t>2</a:t>
            </a:fld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  <a:ea typeface="DFKai-SB"/>
              </a:rPr>
              <a:t>會計之功用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05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提供管理資訊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提供投資資訊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提供授信資訊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提供政府課稅及施政措施資訊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262240" y="4648320"/>
            <a:ext cx="688176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DBB47-0AF2-4FF8-8C2F-E52A90DAC26D}" type="slidenum">
              <a:t>3</a:t>
            </a:fld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  <a:ea typeface="DFKai-SB"/>
              </a:rPr>
              <a:t>依業務分類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營利事業會計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財務會計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成本會計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管理會計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特殊行業會計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非營利事業會計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3962520" cy="30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7762-5604-4BE3-8DDA-EBD8DB255080}" type="slidenum">
              <a:t>4</a:t>
            </a:fld>
          </a:p>
        </p:txBody>
      </p:sp>
    </p:spTree>
  </p:cSld>
  <p:transition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  <a:ea typeface="DFKai-SB"/>
              </a:rPr>
              <a:t>依資本組成型態分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獨資會計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合夥會計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公司會計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DFKai-SB"/>
              </a:rPr>
              <a:t>有限公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DFKai-SB"/>
              </a:rPr>
              <a:t>無限公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DFKai-SB"/>
              </a:rPr>
              <a:t>兩合公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DFKai-SB"/>
              </a:rPr>
              <a:t>股份有限公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556240" y="3505320"/>
            <a:ext cx="3587760" cy="308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d4876c"/>
                </a:solidFill>
                <a:uFillTx/>
                <a:latin typeface="Times New Roman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96DEB-2660-42B4-A980-1BF18043DB1E}" type="slidenum">
              <a:t>5</a:t>
            </a:fld>
          </a:p>
        </p:txBody>
      </p:sp>
    </p:spTree>
  </p:cSld>
  <p:transition>
    <p:checke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549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  <a:ea typeface="DFKai-SB"/>
              </a:rPr>
              <a:t>會計從業人員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會計師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企業會計人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政府會計人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商業會計記帳人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638680" y="2971800"/>
            <a:ext cx="3094200" cy="32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A9D7-AECC-4811-8CA0-5D4B077EC4A9}" type="slidenum">
              <a:t>6</a:t>
            </a:fld>
          </a:p>
        </p:txBody>
      </p:sp>
    </p:spTree>
  </p:cSld>
  <p:transition>
    <p:checke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  <a:ea typeface="DFKai-SB"/>
              </a:rPr>
              <a:t>我國會計專業團體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中華民國證券暨期貨管理委員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會計師公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 Narrow"/>
                <a:ea typeface="DFKai-SB"/>
              </a:rPr>
              <a:t>中華民國會計研究發展基金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209680" y="3886200"/>
            <a:ext cx="638676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4F72-47A2-4E63-920C-5742AC6FE3D6}" type="slidenum">
              <a:t>7</a:t>
            </a:fld>
          </a:p>
        </p:txBody>
      </p:sp>
    </p:spTree>
  </p:cSld>
  <p:transition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  <a:ea typeface="DFKai-SB"/>
              </a:rPr>
              <a:t>會計基本假設（慣例）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經濟個體假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繼續經營假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會計期間假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  <a:ea typeface="DFKai-SB"/>
              </a:rPr>
              <a:t>貨幣評量假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410080" y="2133720"/>
            <a:ext cx="3076560" cy="40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F4A7-C139-44E0-B4BF-EB705334BE74}" type="slidenum">
              <a:t>8</a:t>
            </a:fld>
          </a:p>
        </p:txBody>
      </p:sp>
    </p:spTree>
  </p:cSld>
  <p:transition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Narrow"/>
                <a:ea typeface="DFKai-SB"/>
              </a:rPr>
              <a:t>會計與簿記之區別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DFKai-SB"/>
              </a:rPr>
              <a:t>會計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DFKai-SB"/>
              </a:rPr>
              <a:t>帳務處理及分析解釋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DFKai-SB"/>
              </a:rPr>
              <a:t>原理原則及指導簿記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DFKai-SB"/>
              </a:rPr>
              <a:t>編表並分析解釋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DFKai-SB"/>
              </a:rPr>
              <a:t>簿記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DFKai-SB"/>
              </a:rPr>
              <a:t>帳務處理例行工作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DFKai-SB"/>
              </a:rPr>
              <a:t>依會計原則處理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DFKai-SB"/>
              </a:rPr>
              <a:t>依序完成每期工作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809880" y="4876920"/>
            <a:ext cx="3505320" cy="1357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7221D-4AA5-4556-9A2A-9B51FC1ACFDB}" type="slidenum">
              <a:t>9</a:t>
            </a:fld>
          </a:p>
        </p:txBody>
      </p:sp>
    </p:spTree>
  </p:cSld>
  <p:transition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59Z</dcterms:created>
  <dc:creator/>
  <dc:description/>
  <cp:keywords>幻灯片之家 http:/www.eeppt.com</cp:keywords>
  <dc:language>en-US</dc:language>
  <cp:lastModifiedBy/>
  <dcterms:modified xsi:type="dcterms:W3CDTF">2015-07-10T03:00:0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