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176-A147-4EB1-B7B3-330EA34B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CCA-FF58-4D22-BDA1-599274C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215-841A-4F6F-ABD2-90D3BA5D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6AE-625B-4F2D-BBAF-7A4A3C14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A895-424E-4596-8620-D18DDD61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343D-A9D9-4CB8-BA72-4541C3D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98B5-1902-4E0A-BD2D-EF5BF33E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BFE4-BCF2-4E25-8C94-4A55FB34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56C-3CA8-4D60-B429-61FDCF1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7B4-96B1-4C68-91C5-286F2B98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D00-9410-41F8-A5C2-8E7F8C8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2B4-2E50-4819-A74B-5ADE5D9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D8CD-655C-4E42-AC87-3EB302F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39B-1EE2-4059-B36D-9E818A8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6568-C46A-46D8-A4D7-4F51FEF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ABF6-BF4B-4B18-8EC7-C094EC73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FA0-0210-4EBB-BA7E-1298875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0FFE-64C7-4848-864D-1F8B84C2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960A-B3F5-4C0D-9B7B-6EAA3AA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9C42-86EF-4671-B229-DDE6578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16BD-D23B-4B17-8194-1F6D895A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242A-52EC-48EC-9C00-FBA5E1A3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ECD-00CF-4D98-B022-A2AA3AC6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ACEA-5027-42E5-865C-052A313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B16F-B770-4792-BA55-C0198E3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806A-3BF3-4741-B7CD-48B23D4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24C5-7DAD-4BDB-81DC-A5F88D1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ACB8-E065-4B04-A675-5EE23B5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1C0D-E2FE-45EA-AE87-F1B422DB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99AA-95E3-4613-92CC-2E5D25DE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B63-6F87-4237-8D58-2567534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BF8-BA4A-4D66-BE71-56D6B16F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E01-F9C7-480E-8C60-A233586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47B-94C9-4293-B721-D75C589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B5C-D416-4FB4-AE74-EDE2310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24F-904C-42E6-9B3D-36A6F6E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121"/>
          <p:cNvGrpSpPr/>
          <p:nvPr/>
        </p:nvGrpSpPr>
        <p:grpSpPr>
          <a:xfrm>
            <a:off x="0" y="-4680"/>
            <a:ext cx="1063440" cy="6858000"/>
            <a:chOff x="0" y="-4680"/>
            <a:chExt cx="1063440" cy="6858000"/>
          </a:xfrm>
        </p:grpSpPr>
        <p:grpSp>
          <p:nvGrpSpPr>
            <p:cNvPr id="1" name="组合 5122"/>
            <p:cNvGrpSpPr/>
            <p:nvPr/>
          </p:nvGrpSpPr>
          <p:grpSpPr>
            <a:xfrm>
              <a:off x="41040" y="-4680"/>
              <a:ext cx="1014120" cy="6857640"/>
              <a:chOff x="41040" y="-4680"/>
              <a:chExt cx="1014120" cy="6857640"/>
            </a:xfrm>
          </p:grpSpPr>
          <p:sp>
            <p:nvSpPr>
              <p:cNvPr id="2" name="任意多边形 5123"/>
              <p:cNvSpPr/>
              <p:nvPr/>
            </p:nvSpPr>
            <p:spPr>
              <a:xfrm flipH="1">
                <a:off x="50040" y="-4680"/>
                <a:ext cx="9932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任意多边形 5124"/>
              <p:cNvSpPr/>
              <p:nvPr/>
            </p:nvSpPr>
            <p:spPr>
              <a:xfrm flipH="1">
                <a:off x="48960" y="169200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任意多边形 5125"/>
              <p:cNvSpPr/>
              <p:nvPr/>
            </p:nvSpPr>
            <p:spPr>
              <a:xfrm flipH="1">
                <a:off x="50400" y="12873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任意多边形 5126"/>
              <p:cNvSpPr/>
              <p:nvPr/>
            </p:nvSpPr>
            <p:spPr>
              <a:xfrm flipH="1">
                <a:off x="48960" y="14940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任意多边形 5127"/>
              <p:cNvSpPr/>
              <p:nvPr/>
            </p:nvSpPr>
            <p:spPr>
              <a:xfrm flipH="1">
                <a:off x="50400" y="98496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任意多边形 5128"/>
              <p:cNvSpPr/>
              <p:nvPr/>
            </p:nvSpPr>
            <p:spPr>
              <a:xfrm flipH="1">
                <a:off x="50400" y="680400"/>
                <a:ext cx="9932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任意多边形 5129"/>
              <p:cNvSpPr/>
              <p:nvPr/>
            </p:nvSpPr>
            <p:spPr>
              <a:xfrm flipH="1">
                <a:off x="49320" y="370440"/>
                <a:ext cx="100584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任意多边形 5130"/>
              <p:cNvSpPr/>
              <p:nvPr/>
            </p:nvSpPr>
            <p:spPr>
              <a:xfrm flipH="1">
                <a:off x="40680" y="3938400"/>
                <a:ext cx="993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任意多边形 5131"/>
              <p:cNvSpPr/>
              <p:nvPr/>
            </p:nvSpPr>
            <p:spPr>
              <a:xfrm flipH="1">
                <a:off x="42120" y="35337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任意多边形 5132"/>
              <p:cNvSpPr/>
              <p:nvPr/>
            </p:nvSpPr>
            <p:spPr>
              <a:xfrm flipH="1">
                <a:off x="41040" y="2394360"/>
                <a:ext cx="9932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任意多边形 5133"/>
              <p:cNvSpPr/>
              <p:nvPr/>
            </p:nvSpPr>
            <p:spPr>
              <a:xfrm flipH="1">
                <a:off x="42120" y="323028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任意多边形 5134"/>
              <p:cNvSpPr/>
              <p:nvPr/>
            </p:nvSpPr>
            <p:spPr>
              <a:xfrm flipH="1">
                <a:off x="40680" y="29253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任意多边形 5135"/>
              <p:cNvSpPr/>
              <p:nvPr/>
            </p:nvSpPr>
            <p:spPr>
              <a:xfrm flipH="1">
                <a:off x="42840" y="2617560"/>
                <a:ext cx="1005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任意多边形 5136"/>
              <p:cNvSpPr/>
              <p:nvPr/>
            </p:nvSpPr>
            <p:spPr>
              <a:xfrm flipH="1">
                <a:off x="48600" y="496908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任意多边形 5137"/>
              <p:cNvSpPr/>
              <p:nvPr/>
            </p:nvSpPr>
            <p:spPr>
              <a:xfrm flipH="1">
                <a:off x="50040" y="456444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任意多边形 5138"/>
              <p:cNvSpPr/>
              <p:nvPr/>
            </p:nvSpPr>
            <p:spPr>
              <a:xfrm flipH="1">
                <a:off x="40680" y="567144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任意多边形 5139"/>
              <p:cNvSpPr/>
              <p:nvPr/>
            </p:nvSpPr>
            <p:spPr>
              <a:xfrm flipH="1" rot="16200000">
                <a:off x="365400" y="6182640"/>
                <a:ext cx="345960" cy="994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任意多边形 5140"/>
              <p:cNvSpPr/>
              <p:nvPr/>
            </p:nvSpPr>
            <p:spPr>
              <a:xfrm flipH="1">
                <a:off x="40680" y="62031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任意多边形 5141"/>
              <p:cNvSpPr/>
              <p:nvPr/>
            </p:nvSpPr>
            <p:spPr>
              <a:xfrm flipH="1">
                <a:off x="42840" y="5895000"/>
                <a:ext cx="100584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任意多边形 5142"/>
            <p:cNvSpPr/>
            <p:nvPr/>
          </p:nvSpPr>
          <p:spPr>
            <a:xfrm flipH="1" rot="16200000">
              <a:off x="-3101040" y="3096720"/>
              <a:ext cx="6858000" cy="655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5143"/>
            <p:cNvSpPr/>
            <p:nvPr/>
          </p:nvSpPr>
          <p:spPr>
            <a:xfrm flipH="1" rot="16200000">
              <a:off x="-25146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42D-53F0-4694-A56D-4B9395EEBF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6EE-C4E1-45DE-8397-313407E4136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72A3-2BC0-48AC-8B24-29E864A58E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6145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组合 6146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107" name="任意多边形 6147"/>
              <p:cNvSpPr/>
              <p:nvPr/>
            </p:nvSpPr>
            <p:spPr>
              <a:xfrm flipH="1" rot="5400000">
                <a:off x="4087440" y="-157536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任意多边形 6148"/>
              <p:cNvSpPr/>
              <p:nvPr/>
            </p:nvSpPr>
            <p:spPr>
              <a:xfrm flipH="1" rot="5400000">
                <a:off x="605088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任意多边形 6149"/>
              <p:cNvSpPr/>
              <p:nvPr/>
            </p:nvSpPr>
            <p:spPr>
              <a:xfrm flipH="1" rot="5400000">
                <a:off x="658980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任意多边形 6150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任意多边形 6151"/>
              <p:cNvSpPr/>
              <p:nvPr/>
            </p:nvSpPr>
            <p:spPr>
              <a:xfrm flipH="1" rot="5400000">
                <a:off x="7094880" y="275112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任意多边形 6152"/>
              <p:cNvSpPr/>
              <p:nvPr/>
            </p:nvSpPr>
            <p:spPr>
              <a:xfrm flipH="1" rot="5400000">
                <a:off x="7447320" y="269712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任意多边形 6153"/>
              <p:cNvSpPr/>
              <p:nvPr/>
            </p:nvSpPr>
            <p:spPr>
              <a:xfrm flipH="1" rot="5400000">
                <a:off x="789084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任意多边形 6154"/>
              <p:cNvSpPr/>
              <p:nvPr/>
            </p:nvSpPr>
            <p:spPr>
              <a:xfrm flipH="1" rot="5400000">
                <a:off x="305388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任意多边形 6155"/>
              <p:cNvSpPr/>
              <p:nvPr/>
            </p:nvSpPr>
            <p:spPr>
              <a:xfrm flipH="1" rot="5400000">
                <a:off x="3592800" y="264168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任意多边形 6156"/>
              <p:cNvSpPr/>
              <p:nvPr/>
            </p:nvSpPr>
            <p:spPr>
              <a:xfrm flipH="1" rot="5400000">
                <a:off x="524628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6157"/>
              <p:cNvSpPr/>
              <p:nvPr/>
            </p:nvSpPr>
            <p:spPr>
              <a:xfrm flipH="1" rot="5400000">
                <a:off x="4099320" y="274320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6158"/>
              <p:cNvSpPr/>
              <p:nvPr/>
            </p:nvSpPr>
            <p:spPr>
              <a:xfrm flipH="1" rot="5400000">
                <a:off x="44524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6159"/>
              <p:cNvSpPr/>
              <p:nvPr/>
            </p:nvSpPr>
            <p:spPr>
              <a:xfrm flipH="1" rot="5400000">
                <a:off x="4892760" y="273240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6160"/>
              <p:cNvSpPr/>
              <p:nvPr/>
            </p:nvSpPr>
            <p:spPr>
              <a:xfrm flipH="1" rot="5400000">
                <a:off x="167904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6161"/>
              <p:cNvSpPr/>
              <p:nvPr/>
            </p:nvSpPr>
            <p:spPr>
              <a:xfrm flipH="1" rot="5400000">
                <a:off x="221796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6162"/>
              <p:cNvSpPr/>
              <p:nvPr/>
            </p:nvSpPr>
            <p:spPr>
              <a:xfrm flipH="1" rot="5400000">
                <a:off x="87408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6163"/>
              <p:cNvSpPr/>
              <p:nvPr/>
            </p:nvSpPr>
            <p:spPr>
              <a:xfrm flipH="1">
                <a:off x="-3960" y="247968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任意多边形 6164"/>
              <p:cNvSpPr/>
              <p:nvPr/>
            </p:nvSpPr>
            <p:spPr>
              <a:xfrm flipH="1" rot="5400000">
                <a:off x="8064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任意多边形 6165"/>
              <p:cNvSpPr/>
              <p:nvPr/>
            </p:nvSpPr>
            <p:spPr>
              <a:xfrm flipH="1" rot="5400000">
                <a:off x="520920" y="273240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任意多边形 6166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6167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31DC-9CB3-4FF7-A919-3C448E206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  <a:ea typeface="宋体"/>
              </a:rPr>
              <a:t>财务报表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按有关规定，分为新设项目法人项目和既有项目法人项目两类分别进行评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资本金财务现金流量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资本金的角度考虑项目的收益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资本金利润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利润总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目资本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财务上的杠杆效应可深入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05120" y="533520"/>
          <a:ext cx="6095880" cy="6559560"/>
        </p:xfrm>
        <a:graphic>
          <a:graphicData uri="http://schemas.openxmlformats.org/drawingml/2006/table">
            <a:tbl>
              <a:tblPr/>
              <a:tblGrid>
                <a:gridCol w="609480"/>
                <a:gridCol w="2286000"/>
                <a:gridCol w="609840"/>
                <a:gridCol w="609480"/>
                <a:gridCol w="685800"/>
                <a:gridCol w="762120"/>
                <a:gridCol w="53316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固定资产余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资本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本金偿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利息支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净现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金流入项目与全部资金的现金流量表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目资本金包括固定资产投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设投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流动投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借款本金偿还与利息支付可参照借款偿还表中的项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表中有所得税一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考虑的是所得税后的资本金盈利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损益和利润分配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两个部分构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前半部分反映利润的实现情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后半部分反映利润的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-36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457200"/>
          <a:ext cx="6858000" cy="6767640"/>
        </p:xfrm>
        <a:graphic>
          <a:graphicData uri="http://schemas.openxmlformats.org/drawingml/2006/table">
            <a:tbl>
              <a:tblPr/>
              <a:tblGrid>
                <a:gridCol w="533520"/>
                <a:gridCol w="3124080"/>
                <a:gridCol w="685800"/>
                <a:gridCol w="609480"/>
                <a:gridCol w="609840"/>
                <a:gridCol w="609480"/>
                <a:gridCol w="685800"/>
              </a:tblGrid>
              <a:tr h="366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成本费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润总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-2-3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弥补以前年度亏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纳税所得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-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税后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-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法定盈余公积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公益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取任意盈余公积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供分配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-10-11-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付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未分配利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3-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未分配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弥补以前年度亏损是指按照企业财务通则，在五年之内的亏损可以在交纳所得税前弥补（从而减少所得税，这是一种税收优惠），在填表时该项只影响所得税，不影响税后利润的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法定盈余公积金与公益金是必须的，而任意盈余公积金可根据具体情况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分配利润是指该年度用折旧、摊销等偿还本年应还借款本金尚有不足时，用税后利润来偿还的差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资金来源与运用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于反映项目计算期内各年的投资、融资及生产经营活动的资金流入、流出情况，以考察项目的资金平衡和余缺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该表的作用包括：选择资金筹措方案，编制借款偿还计划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76520" y="228600"/>
          <a:ext cx="6476760" cy="7032600"/>
        </p:xfrm>
        <a:graphic>
          <a:graphicData uri="http://schemas.openxmlformats.org/drawingml/2006/table">
            <a:tbl>
              <a:tblPr/>
              <a:tblGrid>
                <a:gridCol w="685440"/>
                <a:gridCol w="2133720"/>
                <a:gridCol w="761760"/>
                <a:gridCol w="762120"/>
                <a:gridCol w="685800"/>
                <a:gridCol w="762120"/>
                <a:gridCol w="685800"/>
              </a:tblGrid>
              <a:tr h="311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流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期借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短期借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行债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资本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资金流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得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设投资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利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流动资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息支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金偿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股利分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付利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盈余资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盈余资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原表有所不同，销售收入作为了现金流入，而将经营成本等作为现金流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借款偿还计划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的：反映项目在计算期内各年借款的使用、还本付息情况，以及偿债资金来源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表的用途包括：考察项目的最大还款能力（借款偿还期），考察项目在借款偿还期间的偿债能力（利息备付率和偿债备付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不考虑发行债券情况，该表的编制主要考虑两个部分，即借款偿还部分和还款来源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基础报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收入、税金及附加和增值税估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投入物和产出物的价格采用的是预测市场价格，可采用固定价格（用于计算期较短的项目）和变动价格（盈利能力分析时用相对价格变动，偿债能力分析时应考虑通货膨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计算各项税费，一般分为营业税及附加、增值税、所得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确定项目在生产期间的生产能力发挥程度，即生产负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57400" y="1143000"/>
          <a:ext cx="6095880" cy="457200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  <a:gridCol w="609480"/>
                <a:gridCol w="457200"/>
                <a:gridCol w="533520"/>
                <a:gridCol w="533160"/>
                <a:gridCol w="381240"/>
                <a:gridCol w="5331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初本息余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借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应计利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年还本付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还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付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末借款余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3805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981080" y="1447920"/>
          <a:ext cx="6095880" cy="4135320"/>
        </p:xfrm>
        <a:graphic>
          <a:graphicData uri="http://schemas.openxmlformats.org/drawingml/2006/table">
            <a:tbl>
              <a:tblPr/>
              <a:tblGrid>
                <a:gridCol w="609480"/>
                <a:gridCol w="3276720"/>
                <a:gridCol w="533520"/>
                <a:gridCol w="304560"/>
                <a:gridCol w="381240"/>
                <a:gridCol w="304560"/>
                <a:gridCol w="381240"/>
                <a:gridCol w="304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还本资金来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年可用于还本的未分配利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当年可用于还本的折旧和摊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前年度结余可用于还本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于还本的短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用于还款的其他资金来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-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总成本费用估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本费用分类多样，如分为固定成本与变动成本（用于盈亏平衡分析）、按制造成本法、按要素估算法等，在财务评价中主要是按经营成本方式划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营成本又称付现成本，但注意不包括财务费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固定成本与变动成本的划分可依照制造成本法，对长期借款利息应视为固定成本，流动借款利息具有半固定成本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23880" y="609480"/>
          <a:ext cx="7010280" cy="7153200"/>
        </p:xfrm>
        <a:graphic>
          <a:graphicData uri="http://schemas.openxmlformats.org/drawingml/2006/table">
            <a:tbl>
              <a:tblPr/>
              <a:tblGrid>
                <a:gridCol w="609480"/>
                <a:gridCol w="2971800"/>
                <a:gridCol w="685800"/>
                <a:gridCol w="838440"/>
                <a:gridCol w="838080"/>
                <a:gridCol w="1066680"/>
              </a:tblGrid>
              <a:tr h="398520">
                <a:tc rowSpan="2">
                  <a:txBody>
                    <a:bodyPr lIns="38160" rIns="3816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 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购原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购燃料及动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资及福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理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折旧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摊销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财务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费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如土地使用费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成本费用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中：固定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动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5-6-7-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购原材料费用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购燃料动力费用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资及福利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6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固定资产折旧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固定资产原值应考虑固定资产投资的构成，特别是预备费和建设期利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折旧应考虑折旧方法，是直线折旧还是加速折旧，应根据不同的战略确定折旧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-7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形及递延资产摊销费估算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、项目财务现金流量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途：计算项目财务内 部收益率、财务净现值等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制原则：不分资金来源，只考虑流入与流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进：由于对项目而言，不同的融资方案会产生不同的利率，不同的税收政策也会带来不同的影响，因此为保持方案的可比性，应在表中不考虑利息支出与所得税，即讨论的是项目的息前税前盈利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47920" y="609480"/>
          <a:ext cx="6476760" cy="7480440"/>
        </p:xfrm>
        <a:graphic>
          <a:graphicData uri="http://schemas.openxmlformats.org/drawingml/2006/table">
            <a:tbl>
              <a:tblPr/>
              <a:tblGrid>
                <a:gridCol w="609120"/>
                <a:gridCol w="2438640"/>
                <a:gridCol w="761760"/>
                <a:gridCol w="762120"/>
                <a:gridCol w="685800"/>
                <a:gridCol w="609480"/>
                <a:gridCol w="609840"/>
              </a:tblGrid>
              <a:tr h="412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算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营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固定资产余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收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设投资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含利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流动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营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税金及附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增值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其他现金流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净现金流量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净现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填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回收固定资产余值应考虑资产折旧期限与项目计算期的差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项目期末折旧没有提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余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期内累计已提折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流动资金回收不分自有与借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也不考虑损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其金额应与投入的资金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设投资即统计口径的固定资产投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不包括建设期利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营成本可根据总成本费用表计算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增值税需考虑销项与进项的差异进行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19Z</dcterms:created>
  <dc:creator/>
  <dc:description/>
  <cp:keywords>财务 报表</cp:keywords>
  <dc:language>en-US</dc:language>
  <cp:lastModifiedBy>An</cp:lastModifiedBy>
  <dcterms:modified xsi:type="dcterms:W3CDTF">2016-05-01T01:02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