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自定义放映2" id="0">
      <p:sldLst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199-7121-49A2-9409-CC71C699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115-9CC8-45AE-B7D6-8C803658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C4C-3EBD-47C0-A11C-BDBD8C58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A06-6E1A-4FA2-B154-F7A65909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4C1-EE4E-4492-8E6D-CBDAD0B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2CF-DF74-4721-A4F1-034AD28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705-1A6F-4756-83A6-B4AB53B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ED8-F3C9-4782-ACBB-2ED4424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8BE-B25B-41D2-B3DD-33598F70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4B9-8D71-4155-BD3E-21AD262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7C7-D9DD-4253-B1A6-7C44687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B6F-6685-48FD-A708-EE705621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886200" y="0"/>
            <a:ext cx="5257800" cy="6858000"/>
          </a:xfrm>
          <a:prstGeom prst="rect">
            <a:avLst/>
          </a:prstGeom>
          <a:solidFill>
            <a:srgbClr val="8d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Picture 17" descr="education 2-2"/>
          <p:cNvPicPr/>
          <p:nvPr/>
        </p:nvPicPr>
        <p:blipFill>
          <a:blip r:embed="rId3"/>
          <a:stretch/>
        </p:blipFill>
        <p:spPr>
          <a:xfrm>
            <a:off x="0" y="0"/>
            <a:ext cx="4029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F73-5B67-49C6-8A5A-EAEE1D98E5C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5" name="Picture 5" descr="《称象》曹冲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4600" y="530208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a0a0d"/>
                </a:solidFill>
                <a:latin typeface="Times New Roman"/>
              </a:rPr>
              <a:t>《称象》课件</a:t>
            </a:r>
            <a:r>
              <a:rPr b="0" lang="en-US" sz="3200" spc="-1" strike="noStrike">
                <a:solidFill>
                  <a:srgbClr val="0a0a0d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-36360" y="-2700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。等船下沉到画线的地方，（                  ）船上的石头。这样，就称出了大象的重量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708360" y="1159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156360" y="1052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06728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227640" y="3860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023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3512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60280"/>
            <a:ext cx="91440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觉得曹冲是一个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)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长大了，要做一个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(                                       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20920" y="1052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聪明、爱动脑筋，遇到问题善于动脑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200b5b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200b5b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cc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读下面的词语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称象    柱子    议论      大秤   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一艘    船舷    官员们    宰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割        线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8000" y="5445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得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děi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造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杆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(gǎn)</a:t>
            </a:r>
            <a:r>
              <a:rPr b="1" lang="zh-CN" sz="5400" spc="-1" strike="noStrike">
                <a:solidFill>
                  <a:srgbClr val="200b5b"/>
                </a:solidFill>
                <a:latin typeface="Times New Roman"/>
              </a:rPr>
              <a:t>大秤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16F-2B11-4623-B72D-898A82417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115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曹操听了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</a:rPr>
              <a:t>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摇头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675080" y="39337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076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称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0" y="47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我是曹冲，还会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(                        )      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一步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沿水面画线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1523880"/>
            <a:ext cx="6400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二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装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8" name="曹冲称象1.avi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船沉画线处，称石头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0" name="曹冲称象2.avi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5257800" cy="385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称象第四步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计算石头总重量</a:t>
            </a:r>
            <a:endParaRPr b="0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3" name="Picture 6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4:00Z</dcterms:created>
  <dc:creator/>
  <dc:description/>
  <cp:keywords>幻灯片之家 http:/www.eeppt.com</cp:keywords>
  <dc:language>en-US</dc:language>
  <cp:lastModifiedBy/>
  <dcterms:modified xsi:type="dcterms:W3CDTF">2015-07-03T11:12:36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