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0BE-BE39-46AA-AF41-562E3A36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F99-D73B-4D46-8746-A4B98D58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E3B-21E5-4821-A247-D2A5CD5D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45D-16B3-4561-8656-CDAAC127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BD3F-0A7D-4F37-BEDC-7432C4AB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D3BA-5B9F-4668-9DC8-D022D7DA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4EAF-179B-4CB6-A14F-D129A757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F31B-40D1-432B-BA07-36200564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782F-E439-47E4-9DDF-D02F09A4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70CC-20ED-432A-8B8E-232085DA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7F3D-119C-4233-8767-0996CF7A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7AD-5A09-4045-8E33-F5E8B795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D400-7DE0-44F0-851B-5D17A9EE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ED82-083F-4332-B10A-1434235D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BDF1-962B-45D3-92E2-5AC5D794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40B9-490C-48CF-9DEF-DEAA57FA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BDAC-3A99-4651-B83D-A321C1ED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0AC80-29B5-41AA-A1EF-F0B0F094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6C473-181C-40C9-911A-10C02B24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FC3BF-55B3-4418-AB22-6423BE25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B07BB-8616-435B-AF76-79A3FED6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F83AF-70E0-4AE5-A813-7D4F78CC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CE8-0B60-4A1D-BDB2-C21A0EE2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0784C-9F36-4E65-8BF2-4456263C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D7AA7B-7141-4E37-813D-5BE71168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EC91E-5140-43CB-8A87-F7CBE595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AF8F5-95EE-433A-98F7-4F49EC1F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AD8A7-7D56-4919-8BD9-DF5264B2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A2810-119A-43C8-ABE3-A66EAE1D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1FDD9-E7B7-44F0-9261-D010E7B5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9D8-8006-45FF-80DA-DC7D1333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C40-B1B0-418D-8389-A6D6EC94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202C-76AD-4E45-BB67-B8E73665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9B7-402A-4D14-8AD8-5FE4B470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BB2B-3161-4DB6-B255-945D8D12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A609-5BDC-4C1D-A6A7-8C691EBD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3386-FF53-472D-AF78-606E112810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1F2F-3D06-4E4D-8B0B-C86A6BA4DC3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F678-0B12-4142-9059-BB1E7970982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39939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398A-3CD4-4C25-9E7F-9066FA293C1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ahoma"/>
                <a:ea typeface="隶书"/>
              </a:rPr>
              <a:t>对科学教材的思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XX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市教育教学研究院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XX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569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组合 12306"/>
          <p:cNvGrpSpPr/>
          <p:nvPr/>
        </p:nvGrpSpPr>
        <p:grpSpPr>
          <a:xfrm>
            <a:off x="539640" y="1268280"/>
            <a:ext cx="7991640" cy="3816360"/>
            <a:chOff x="539640" y="1268280"/>
            <a:chExt cx="7991640" cy="3816360"/>
          </a:xfrm>
        </p:grpSpPr>
        <p:sp>
          <p:nvSpPr>
            <p:cNvPr id="155" name="椭圆 12294"/>
            <p:cNvSpPr/>
            <p:nvPr/>
          </p:nvSpPr>
          <p:spPr>
            <a:xfrm>
              <a:off x="6732720" y="2347920"/>
              <a:ext cx="1798560" cy="10080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电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矩形 12291"/>
            <p:cNvSpPr/>
            <p:nvPr/>
          </p:nvSpPr>
          <p:spPr>
            <a:xfrm>
              <a:off x="2556000" y="2492280"/>
              <a:ext cx="2808360" cy="1008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能量的表现形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椭圆 12292"/>
            <p:cNvSpPr/>
            <p:nvPr/>
          </p:nvSpPr>
          <p:spPr>
            <a:xfrm>
              <a:off x="539640" y="1268280"/>
              <a:ext cx="1727280" cy="72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磁现象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椭圆 12293"/>
            <p:cNvSpPr/>
            <p:nvPr/>
          </p:nvSpPr>
          <p:spPr>
            <a:xfrm>
              <a:off x="4861080" y="1268280"/>
              <a:ext cx="2016000" cy="6494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热现象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椭圆 12295"/>
            <p:cNvSpPr/>
            <p:nvPr/>
          </p:nvSpPr>
          <p:spPr>
            <a:xfrm>
              <a:off x="828720" y="4147920"/>
              <a:ext cx="2232000" cy="64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声音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椭圆 12296"/>
            <p:cNvSpPr/>
            <p:nvPr/>
          </p:nvSpPr>
          <p:spPr>
            <a:xfrm>
              <a:off x="4789440" y="4292640"/>
              <a:ext cx="2232000" cy="7920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光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5005440" y="3500280"/>
              <a:ext cx="719280" cy="792360"/>
              <a:chOff x="5005440" y="3500280"/>
              <a:chExt cx="719280" cy="792360"/>
            </a:xfrm>
          </p:grpSpPr>
          <p:sp>
            <p:nvSpPr>
              <p:cNvPr id="162" name="直接连接符 12298"/>
              <p:cNvSpPr/>
              <p:nvPr/>
            </p:nvSpPr>
            <p:spPr>
              <a:xfrm>
                <a:off x="5005440" y="3500280"/>
                <a:ext cx="719280" cy="79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5005440" y="3500280"/>
                <a:ext cx="719280" cy="7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5797440" y="2995560"/>
              <a:ext cx="503280" cy="360"/>
              <a:chOff x="5797440" y="2995560"/>
              <a:chExt cx="503280" cy="360"/>
            </a:xfrm>
          </p:grpSpPr>
          <p:sp>
            <p:nvSpPr>
              <p:cNvPr id="165" name="直接连接符 12299"/>
              <p:cNvSpPr/>
              <p:nvPr/>
            </p:nvSpPr>
            <p:spPr>
              <a:xfrm>
                <a:off x="5797440" y="2995560"/>
                <a:ext cx="503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5797440" y="2995560"/>
                <a:ext cx="5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4284360" y="1987560"/>
              <a:ext cx="1152720" cy="504720"/>
              <a:chOff x="4284360" y="1987560"/>
              <a:chExt cx="1152720" cy="504720"/>
            </a:xfrm>
          </p:grpSpPr>
          <p:sp>
            <p:nvSpPr>
              <p:cNvPr id="168" name="直接连接符 12300"/>
              <p:cNvSpPr/>
              <p:nvPr/>
            </p:nvSpPr>
            <p:spPr>
              <a:xfrm flipV="1">
                <a:off x="4284720" y="1987560"/>
                <a:ext cx="115236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 rot="10800000">
                <a:off x="4284360" y="1987560"/>
                <a:ext cx="1152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6085080" y="1915920"/>
              <a:ext cx="720720" cy="576360"/>
              <a:chOff x="6085080" y="1915920"/>
              <a:chExt cx="720720" cy="576360"/>
            </a:xfrm>
          </p:grpSpPr>
          <p:sp>
            <p:nvSpPr>
              <p:cNvPr id="171" name="直接连接符 12301"/>
              <p:cNvSpPr/>
              <p:nvPr/>
            </p:nvSpPr>
            <p:spPr>
              <a:xfrm>
                <a:off x="6085080" y="1915920"/>
                <a:ext cx="720720" cy="57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 txBox="1"/>
              <p:nvPr/>
            </p:nvSpPr>
            <p:spPr>
              <a:xfrm>
                <a:off x="6085080" y="1915920"/>
                <a:ext cx="720720" cy="5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940000" y="3429000"/>
              <a:ext cx="1226160" cy="790560"/>
              <a:chOff x="5940000" y="3429000"/>
              <a:chExt cx="1226160" cy="790560"/>
            </a:xfrm>
          </p:grpSpPr>
          <p:sp>
            <p:nvSpPr>
              <p:cNvPr id="174" name="直接连接符 12302"/>
              <p:cNvSpPr/>
              <p:nvPr/>
            </p:nvSpPr>
            <p:spPr>
              <a:xfrm flipH="1">
                <a:off x="5940000" y="3429000"/>
                <a:ext cx="1225800" cy="7905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5940360" y="3429000"/>
                <a:ext cx="1225800" cy="79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196720" y="1844640"/>
              <a:ext cx="1150920" cy="574560"/>
              <a:chOff x="2196720" y="1844640"/>
              <a:chExt cx="1150920" cy="574560"/>
            </a:xfrm>
          </p:grpSpPr>
          <p:sp>
            <p:nvSpPr>
              <p:cNvPr id="177" name="直接连接符 12303"/>
              <p:cNvSpPr/>
              <p:nvPr/>
            </p:nvSpPr>
            <p:spPr>
              <a:xfrm flipH="1" flipV="1">
                <a:off x="2196720" y="1844640"/>
                <a:ext cx="1150920" cy="57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 rot="10800000">
                <a:off x="2196720" y="1844640"/>
                <a:ext cx="1150920" cy="57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2268720" y="3500280"/>
              <a:ext cx="1295280" cy="576360"/>
              <a:chOff x="2268720" y="3500280"/>
              <a:chExt cx="1295280" cy="576360"/>
            </a:xfrm>
          </p:grpSpPr>
          <p:sp>
            <p:nvSpPr>
              <p:cNvPr id="180" name="直接连接符 12304"/>
              <p:cNvSpPr/>
              <p:nvPr/>
            </p:nvSpPr>
            <p:spPr>
              <a:xfrm flipH="1">
                <a:off x="2268720" y="3500280"/>
                <a:ext cx="1295280" cy="57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>
                <a:off x="2268720" y="3500280"/>
                <a:ext cx="1295280" cy="5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4768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680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组合 11281"/>
          <p:cNvGrpSpPr/>
          <p:nvPr/>
        </p:nvGrpSpPr>
        <p:grpSpPr>
          <a:xfrm>
            <a:off x="826920" y="1197000"/>
            <a:ext cx="7127640" cy="4537080"/>
            <a:chOff x="826920" y="1197000"/>
            <a:chExt cx="7127640" cy="4537080"/>
          </a:xfrm>
        </p:grpSpPr>
        <p:sp>
          <p:nvSpPr>
            <p:cNvPr id="186" name="椭圆 11268"/>
            <p:cNvSpPr/>
            <p:nvPr/>
          </p:nvSpPr>
          <p:spPr>
            <a:xfrm>
              <a:off x="3274920" y="3141720"/>
              <a:ext cx="1944360" cy="97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食物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210920" y="2277720"/>
              <a:ext cx="360" cy="685800"/>
              <a:chOff x="4210920" y="2277720"/>
              <a:chExt cx="360" cy="685800"/>
            </a:xfrm>
          </p:grpSpPr>
          <p:sp>
            <p:nvSpPr>
              <p:cNvPr id="188" name="直接连接符 11269"/>
              <p:cNvSpPr/>
              <p:nvPr/>
            </p:nvSpPr>
            <p:spPr>
              <a:xfrm flipV="1">
                <a:off x="4211280" y="2277720"/>
                <a:ext cx="0" cy="685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 rot="10800000">
                <a:off x="4210920" y="227772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0" name="矩形 11270"/>
            <p:cNvSpPr/>
            <p:nvPr/>
          </p:nvSpPr>
          <p:spPr>
            <a:xfrm>
              <a:off x="3203280" y="1197000"/>
              <a:ext cx="2305080" cy="97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米饭和淀粉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5074920" y="4005000"/>
              <a:ext cx="457200" cy="838440"/>
              <a:chOff x="5074920" y="4005000"/>
              <a:chExt cx="457200" cy="838440"/>
            </a:xfrm>
          </p:grpSpPr>
          <p:sp>
            <p:nvSpPr>
              <p:cNvPr id="192" name="直接连接符 11271"/>
              <p:cNvSpPr/>
              <p:nvPr/>
            </p:nvSpPr>
            <p:spPr>
              <a:xfrm flipH="1" flipV="1">
                <a:off x="5074920" y="4005000"/>
                <a:ext cx="45720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 rot="10800000">
                <a:off x="5074920" y="4005000"/>
                <a:ext cx="457200" cy="83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3346200" y="4078440"/>
              <a:ext cx="380880" cy="838080"/>
              <a:chOff x="3346200" y="4078440"/>
              <a:chExt cx="380880" cy="838080"/>
            </a:xfrm>
          </p:grpSpPr>
          <p:sp>
            <p:nvSpPr>
              <p:cNvPr id="195" name="直接连接符 11272"/>
              <p:cNvSpPr/>
              <p:nvPr/>
            </p:nvSpPr>
            <p:spPr>
              <a:xfrm flipV="1">
                <a:off x="3346200" y="4078440"/>
                <a:ext cx="38088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 rot="10800000">
                <a:off x="3346200" y="4078440"/>
                <a:ext cx="380880" cy="83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7" name="矩形 11273"/>
            <p:cNvSpPr/>
            <p:nvPr/>
          </p:nvSpPr>
          <p:spPr>
            <a:xfrm>
              <a:off x="2266560" y="4881600"/>
              <a:ext cx="2016360" cy="852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健康生活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矩形 11274"/>
            <p:cNvSpPr/>
            <p:nvPr/>
          </p:nvSpPr>
          <p:spPr>
            <a:xfrm>
              <a:off x="4981320" y="4881600"/>
              <a:ext cx="1965240" cy="8524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微观世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95280" y="3573720"/>
              <a:ext cx="914400" cy="360"/>
              <a:chOff x="2195280" y="3573720"/>
              <a:chExt cx="914400" cy="360"/>
            </a:xfrm>
          </p:grpSpPr>
          <p:sp>
            <p:nvSpPr>
              <p:cNvPr id="200" name="直接连接符 11275"/>
              <p:cNvSpPr/>
              <p:nvPr/>
            </p:nvSpPr>
            <p:spPr>
              <a:xfrm flipH="1">
                <a:off x="2195280" y="3573720"/>
                <a:ext cx="9144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2195280" y="35737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2" name="矩形 11276"/>
            <p:cNvSpPr/>
            <p:nvPr/>
          </p:nvSpPr>
          <p:spPr>
            <a:xfrm>
              <a:off x="826920" y="2710080"/>
              <a:ext cx="1568520" cy="72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混合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矩形 11277"/>
            <p:cNvSpPr/>
            <p:nvPr/>
          </p:nvSpPr>
          <p:spPr>
            <a:xfrm>
              <a:off x="898200" y="3789360"/>
              <a:ext cx="14954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解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290920" y="3645000"/>
              <a:ext cx="914400" cy="360"/>
              <a:chOff x="5290920" y="3645000"/>
              <a:chExt cx="914400" cy="360"/>
            </a:xfrm>
          </p:grpSpPr>
          <p:sp>
            <p:nvSpPr>
              <p:cNvPr id="205" name="直接连接符 11278"/>
              <p:cNvSpPr/>
              <p:nvPr/>
            </p:nvSpPr>
            <p:spPr>
              <a:xfrm flipH="1">
                <a:off x="5290920" y="3645000"/>
                <a:ext cx="9144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5290920" y="364500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" name="矩形 11279"/>
            <p:cNvSpPr/>
            <p:nvPr/>
          </p:nvSpPr>
          <p:spPr>
            <a:xfrm>
              <a:off x="6429240" y="2637000"/>
              <a:ext cx="1525320" cy="79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动物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矩形 11280"/>
            <p:cNvSpPr/>
            <p:nvPr/>
          </p:nvSpPr>
          <p:spPr>
            <a:xfrm>
              <a:off x="6429240" y="3738600"/>
              <a:ext cx="1525320" cy="77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植物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solidFill>
            <a:srgbClr val="000099"/>
          </a:solidFill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新的生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生命世界” 思路一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个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类群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生命世界” 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大树、叶               植物的一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有生命的物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蜗牛、蝗虫、蚂蚁  动物的一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生命世界”思路二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多样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共同特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与环境的关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生命世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多样性：有生命的物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共同特征：基本构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花、果实、种子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繁殖：动物、植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新的生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626920" y="4436640"/>
            <a:ext cx="360720" cy="71640"/>
            <a:chOff x="2626920" y="4436640"/>
            <a:chExt cx="360720" cy="71640"/>
          </a:xfrm>
        </p:grpSpPr>
        <p:sp>
          <p:nvSpPr>
            <p:cNvPr id="213" name="直接连接符 13315"/>
            <p:cNvSpPr/>
            <p:nvPr/>
          </p:nvSpPr>
          <p:spPr>
            <a:xfrm flipV="1">
              <a:off x="2627280" y="4436640"/>
              <a:ext cx="360360" cy="716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10800000">
              <a:off x="2626920" y="4436640"/>
              <a:ext cx="36036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796000" y="1989000"/>
            <a:ext cx="576360" cy="360360"/>
            <a:chOff x="5796000" y="1989000"/>
            <a:chExt cx="576360" cy="360360"/>
          </a:xfrm>
        </p:grpSpPr>
        <p:sp>
          <p:nvSpPr>
            <p:cNvPr id="216" name="直接连接符 13319"/>
            <p:cNvSpPr/>
            <p:nvPr/>
          </p:nvSpPr>
          <p:spPr>
            <a:xfrm>
              <a:off x="5796000" y="1989000"/>
              <a:ext cx="576360" cy="36036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5796000" y="198900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796000" y="2420640"/>
            <a:ext cx="504720" cy="360360"/>
            <a:chOff x="5796000" y="2420640"/>
            <a:chExt cx="504720" cy="360360"/>
          </a:xfrm>
        </p:grpSpPr>
        <p:sp>
          <p:nvSpPr>
            <p:cNvPr id="219" name="直接连接符 13320"/>
            <p:cNvSpPr/>
            <p:nvPr/>
          </p:nvSpPr>
          <p:spPr>
            <a:xfrm flipV="1">
              <a:off x="5796000" y="2420640"/>
              <a:ext cx="504720" cy="36036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 rot="10800000">
              <a:off x="5796000" y="2420640"/>
              <a:ext cx="50472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86800" cy="9763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（二）在科学探究方面的推进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观察的基础上，不仅对事实进行描述，还要对被观察物体的性质能进行</a:t>
            </a:r>
            <a:r>
              <a:rPr b="1" lang="zh-CN" sz="3200" spc="-1" strike="noStrike">
                <a:solidFill>
                  <a:srgbClr val="00c600"/>
                </a:solidFill>
                <a:latin typeface="Arial"/>
              </a:rPr>
              <a:t>推测和验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对无法直接观察的现象进行</a:t>
            </a:r>
            <a:r>
              <a:rPr b="1" lang="zh-CN" sz="3200" spc="-1" strike="noStrike">
                <a:solidFill>
                  <a:srgbClr val="00c600"/>
                </a:solidFill>
                <a:latin typeface="Arial"/>
              </a:rPr>
              <a:t>推测、推想、猜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需要形成一定的抽象逻辑思维。（解暗箱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做</a:t>
            </a:r>
            <a:r>
              <a:rPr b="1" lang="zh-CN" sz="3200" spc="-1" strike="noStrike">
                <a:solidFill>
                  <a:srgbClr val="00c600"/>
                </a:solidFill>
                <a:latin typeface="Arial"/>
              </a:rPr>
              <a:t>控制变量的实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模拟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教师的指导下，根据课堂教学所提供的信息和收集的证据，对某些现象进行假设性解释。能考虑对同一现象做不同的</a:t>
            </a:r>
            <a:r>
              <a:rPr b="1" lang="zh-CN" sz="3200" spc="-1" strike="noStrike">
                <a:solidFill>
                  <a:srgbClr val="00c600"/>
                </a:solidFill>
                <a:latin typeface="Arial"/>
              </a:rPr>
              <a:t>解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923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（三）情感、态度、价值观的推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642160" cy="4952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对待科学学习：尊重事实（观察记录）、能参与中长时期的科学探究活动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坚持性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合作交流、尊重他人劳动成果、重视证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对待自然：珍爱生命、保护环境，能从自然中获得美的体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对待科学：科学是不断发展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对待科学、技术与社会的关系：关心日常生活中的科技新产品、新事物，用科学改善生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活动与活动之间的联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矩形 16407"/>
          <p:cNvSpPr/>
          <p:nvPr/>
        </p:nvSpPr>
        <p:spPr>
          <a:xfrm>
            <a:off x="2627280" y="1052640"/>
            <a:ext cx="338472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来做个小开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矩形 16408"/>
          <p:cNvSpPr/>
          <p:nvPr/>
        </p:nvSpPr>
        <p:spPr>
          <a:xfrm>
            <a:off x="3419640" y="2492280"/>
            <a:ext cx="223200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做一个开关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矩形 16409"/>
          <p:cNvSpPr/>
          <p:nvPr/>
        </p:nvSpPr>
        <p:spPr>
          <a:xfrm>
            <a:off x="324000" y="2492280"/>
            <a:ext cx="2160360" cy="790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察手电筒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矩形 16410"/>
          <p:cNvSpPr/>
          <p:nvPr/>
        </p:nvSpPr>
        <p:spPr>
          <a:xfrm>
            <a:off x="6516720" y="2492280"/>
            <a:ext cx="2376360" cy="863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红绿灯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矩形 16411"/>
          <p:cNvSpPr/>
          <p:nvPr/>
        </p:nvSpPr>
        <p:spPr>
          <a:xfrm>
            <a:off x="179280" y="4292640"/>
            <a:ext cx="104292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材料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矩形 16412"/>
          <p:cNvSpPr/>
          <p:nvPr/>
        </p:nvSpPr>
        <p:spPr>
          <a:xfrm>
            <a:off x="1332000" y="4292640"/>
            <a:ext cx="100800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构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矩形 16413"/>
          <p:cNvSpPr/>
          <p:nvPr/>
        </p:nvSpPr>
        <p:spPr>
          <a:xfrm>
            <a:off x="2484360" y="4292640"/>
            <a:ext cx="100800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矩形 16414"/>
          <p:cNvSpPr/>
          <p:nvPr/>
        </p:nvSpPr>
        <p:spPr>
          <a:xfrm>
            <a:off x="3635280" y="4292640"/>
            <a:ext cx="1008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计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矩形 16415"/>
          <p:cNvSpPr/>
          <p:nvPr/>
        </p:nvSpPr>
        <p:spPr>
          <a:xfrm>
            <a:off x="4859280" y="4221000"/>
            <a:ext cx="108108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制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矩形 16416"/>
          <p:cNvSpPr/>
          <p:nvPr/>
        </p:nvSpPr>
        <p:spPr>
          <a:xfrm>
            <a:off x="7667640" y="4292640"/>
            <a:ext cx="122400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矩形 16417"/>
          <p:cNvSpPr/>
          <p:nvPr/>
        </p:nvSpPr>
        <p:spPr>
          <a:xfrm>
            <a:off x="6443640" y="4292640"/>
            <a:ext cx="107964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计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矩形 16418"/>
          <p:cNvSpPr/>
          <p:nvPr/>
        </p:nvSpPr>
        <p:spPr>
          <a:xfrm>
            <a:off x="324000" y="5373720"/>
            <a:ext cx="1944360" cy="79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述手电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矩形 16419"/>
          <p:cNvSpPr/>
          <p:nvPr/>
        </p:nvSpPr>
        <p:spPr>
          <a:xfrm>
            <a:off x="2771640" y="5445000"/>
            <a:ext cx="3600720" cy="64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开关组装电路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椭圆 16420"/>
          <p:cNvSpPr/>
          <p:nvPr/>
        </p:nvSpPr>
        <p:spPr>
          <a:xfrm>
            <a:off x="7093080" y="5805360"/>
            <a:ext cx="165564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安装小房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椭圆 16421"/>
          <p:cNvSpPr/>
          <p:nvPr/>
        </p:nvSpPr>
        <p:spPr>
          <a:xfrm>
            <a:off x="6443640" y="5084640"/>
            <a:ext cx="241128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做一块电路游戏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332000" y="2205000"/>
            <a:ext cx="5904000" cy="360"/>
            <a:chOff x="1332000" y="2205000"/>
            <a:chExt cx="5904000" cy="360"/>
          </a:xfrm>
        </p:grpSpPr>
        <p:sp>
          <p:nvSpPr>
            <p:cNvPr id="246" name="直接连接符 16422"/>
            <p:cNvSpPr/>
            <p:nvPr/>
          </p:nvSpPr>
          <p:spPr>
            <a:xfrm>
              <a:off x="1332000" y="2205000"/>
              <a:ext cx="590400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1332000" y="2205000"/>
              <a:ext cx="590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332000" y="2133720"/>
            <a:ext cx="360" cy="358560"/>
            <a:chOff x="1332000" y="2133720"/>
            <a:chExt cx="360" cy="358560"/>
          </a:xfrm>
        </p:grpSpPr>
        <p:sp>
          <p:nvSpPr>
            <p:cNvPr id="249" name="直接连接符 16423"/>
            <p:cNvSpPr/>
            <p:nvPr/>
          </p:nvSpPr>
          <p:spPr>
            <a:xfrm>
              <a:off x="1332000" y="2133720"/>
              <a:ext cx="0" cy="35856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1332000" y="2133720"/>
              <a:ext cx="360" cy="35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500720" y="1916280"/>
            <a:ext cx="360" cy="649080"/>
            <a:chOff x="4500720" y="1916280"/>
            <a:chExt cx="360" cy="649080"/>
          </a:xfrm>
        </p:grpSpPr>
        <p:sp>
          <p:nvSpPr>
            <p:cNvPr id="252" name="直接连接符 16424"/>
            <p:cNvSpPr/>
            <p:nvPr/>
          </p:nvSpPr>
          <p:spPr>
            <a:xfrm>
              <a:off x="4500720" y="1916280"/>
              <a:ext cx="0" cy="64908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4500720" y="1916280"/>
              <a:ext cx="360" cy="64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236000" y="2205000"/>
            <a:ext cx="360" cy="287280"/>
            <a:chOff x="7236000" y="2205000"/>
            <a:chExt cx="360" cy="287280"/>
          </a:xfrm>
        </p:grpSpPr>
        <p:sp>
          <p:nvSpPr>
            <p:cNvPr id="255" name="直接连接符 16425"/>
            <p:cNvSpPr/>
            <p:nvPr/>
          </p:nvSpPr>
          <p:spPr>
            <a:xfrm>
              <a:off x="7236000" y="220500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7236000" y="2205000"/>
              <a:ext cx="36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95280" y="3789360"/>
            <a:ext cx="360" cy="503280"/>
            <a:chOff x="395280" y="3789360"/>
            <a:chExt cx="360" cy="503280"/>
          </a:xfrm>
        </p:grpSpPr>
        <p:sp>
          <p:nvSpPr>
            <p:cNvPr id="258" name="直接连接符 16427"/>
            <p:cNvSpPr/>
            <p:nvPr/>
          </p:nvSpPr>
          <p:spPr>
            <a:xfrm>
              <a:off x="395280" y="3789360"/>
              <a:ext cx="0" cy="50328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395280" y="3789360"/>
              <a:ext cx="36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476360" y="3284640"/>
            <a:ext cx="360" cy="936360"/>
            <a:chOff x="1476360" y="3284640"/>
            <a:chExt cx="360" cy="936360"/>
          </a:xfrm>
        </p:grpSpPr>
        <p:sp>
          <p:nvSpPr>
            <p:cNvPr id="261" name="直接连接符 16428"/>
            <p:cNvSpPr/>
            <p:nvPr/>
          </p:nvSpPr>
          <p:spPr>
            <a:xfrm>
              <a:off x="1476360" y="3284640"/>
              <a:ext cx="0" cy="93636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1476360" y="3284640"/>
              <a:ext cx="360" cy="9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771640" y="3789360"/>
            <a:ext cx="360" cy="431640"/>
            <a:chOff x="2771640" y="3789360"/>
            <a:chExt cx="360" cy="431640"/>
          </a:xfrm>
        </p:grpSpPr>
        <p:sp>
          <p:nvSpPr>
            <p:cNvPr id="264" name="直接连接符 16429"/>
            <p:cNvSpPr/>
            <p:nvPr/>
          </p:nvSpPr>
          <p:spPr>
            <a:xfrm>
              <a:off x="2771640" y="3789360"/>
              <a:ext cx="0" cy="4316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2771640" y="3789360"/>
              <a:ext cx="36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左大括号 16431"/>
          <p:cNvSpPr/>
          <p:nvPr/>
        </p:nvSpPr>
        <p:spPr>
          <a:xfrm rot="16200000">
            <a:off x="1512720" y="4541760"/>
            <a:ext cx="285840" cy="1511280"/>
          </a:xfrm>
          <a:custGeom>
            <a:avLst/>
            <a:gdLst>
              <a:gd name="textAreaLeft" fmla="*/ 182520 w 285840"/>
              <a:gd name="textAreaRight" fmla="*/ 286200 w 28584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692360" y="4941720"/>
            <a:ext cx="360" cy="287640"/>
            <a:chOff x="1692360" y="4941720"/>
            <a:chExt cx="360" cy="287640"/>
          </a:xfrm>
        </p:grpSpPr>
        <p:sp>
          <p:nvSpPr>
            <p:cNvPr id="268" name="直接连接符 16432"/>
            <p:cNvSpPr/>
            <p:nvPr/>
          </p:nvSpPr>
          <p:spPr>
            <a:xfrm>
              <a:off x="1692360" y="4941720"/>
              <a:ext cx="0" cy="2876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1692360" y="4941720"/>
              <a:ext cx="360" cy="2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左大括号 16433"/>
          <p:cNvSpPr/>
          <p:nvPr/>
        </p:nvSpPr>
        <p:spPr>
          <a:xfrm rot="16200000">
            <a:off x="4607280" y="4472280"/>
            <a:ext cx="287640" cy="1511280"/>
          </a:xfrm>
          <a:custGeom>
            <a:avLst/>
            <a:gdLst>
              <a:gd name="textAreaLeft" fmla="*/ 183960 w 287640"/>
              <a:gd name="textAreaRight" fmla="*/ 288000 w 28764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284720" y="3500280"/>
            <a:ext cx="287280" cy="649440"/>
            <a:chOff x="4284720" y="3500280"/>
            <a:chExt cx="287280" cy="649440"/>
          </a:xfrm>
        </p:grpSpPr>
        <p:sp>
          <p:nvSpPr>
            <p:cNvPr id="272" name="直接连接符 16434"/>
            <p:cNvSpPr/>
            <p:nvPr/>
          </p:nvSpPr>
          <p:spPr>
            <a:xfrm flipH="1">
              <a:off x="4284720" y="3500280"/>
              <a:ext cx="287280" cy="6494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4284720" y="3500280"/>
              <a:ext cx="287280" cy="64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643280" y="4653000"/>
            <a:ext cx="216000" cy="360"/>
            <a:chOff x="4643280" y="4653000"/>
            <a:chExt cx="216000" cy="360"/>
          </a:xfrm>
        </p:grpSpPr>
        <p:sp>
          <p:nvSpPr>
            <p:cNvPr id="275" name="直接连接符 16435"/>
            <p:cNvSpPr/>
            <p:nvPr/>
          </p:nvSpPr>
          <p:spPr>
            <a:xfrm>
              <a:off x="4643280" y="4653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4643280" y="46530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95280" y="3789360"/>
            <a:ext cx="2376360" cy="360"/>
            <a:chOff x="395280" y="3789360"/>
            <a:chExt cx="2376360" cy="360"/>
          </a:xfrm>
        </p:grpSpPr>
        <p:sp>
          <p:nvSpPr>
            <p:cNvPr id="278" name="直接连接符 16436"/>
            <p:cNvSpPr/>
            <p:nvPr/>
          </p:nvSpPr>
          <p:spPr>
            <a:xfrm>
              <a:off x="395280" y="3789360"/>
              <a:ext cx="237636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395280" y="3789360"/>
              <a:ext cx="23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7019640" y="3573360"/>
            <a:ext cx="360720" cy="647640"/>
            <a:chOff x="7019640" y="3573360"/>
            <a:chExt cx="360720" cy="647640"/>
          </a:xfrm>
        </p:grpSpPr>
        <p:sp>
          <p:nvSpPr>
            <p:cNvPr id="281" name="直接连接符 16437"/>
            <p:cNvSpPr/>
            <p:nvPr/>
          </p:nvSpPr>
          <p:spPr>
            <a:xfrm flipH="1">
              <a:off x="7019640" y="3573360"/>
              <a:ext cx="360360" cy="6476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7020000" y="3573360"/>
              <a:ext cx="3603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596360" y="4724280"/>
            <a:ext cx="144360" cy="360"/>
            <a:chOff x="7596360" y="4724280"/>
            <a:chExt cx="144360" cy="360"/>
          </a:xfrm>
        </p:grpSpPr>
        <p:sp>
          <p:nvSpPr>
            <p:cNvPr id="284" name="直接连接符 16438"/>
            <p:cNvSpPr/>
            <p:nvPr/>
          </p:nvSpPr>
          <p:spPr>
            <a:xfrm>
              <a:off x="7596360" y="472428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7596360" y="4724280"/>
              <a:ext cx="14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556000" y="2852640"/>
            <a:ext cx="647640" cy="360"/>
            <a:chOff x="2556000" y="2852640"/>
            <a:chExt cx="647640" cy="360"/>
          </a:xfrm>
        </p:grpSpPr>
        <p:sp>
          <p:nvSpPr>
            <p:cNvPr id="287" name="直接连接符 16439"/>
            <p:cNvSpPr/>
            <p:nvPr/>
          </p:nvSpPr>
          <p:spPr>
            <a:xfrm>
              <a:off x="2556000" y="2852640"/>
              <a:ext cx="64764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2556000" y="285264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580000" y="2997360"/>
            <a:ext cx="1008000" cy="360"/>
            <a:chOff x="5580000" y="2997360"/>
            <a:chExt cx="1008000" cy="360"/>
          </a:xfrm>
        </p:grpSpPr>
        <p:sp>
          <p:nvSpPr>
            <p:cNvPr id="290" name="直接连接符 16440"/>
            <p:cNvSpPr/>
            <p:nvPr/>
          </p:nvSpPr>
          <p:spPr>
            <a:xfrm>
              <a:off x="5580000" y="2997360"/>
              <a:ext cx="100800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5580000" y="2997360"/>
              <a:ext cx="10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283520" cy="12002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学生现实生活的联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原则：因地制宜，尤其是广大农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适当开发课程资源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根据学生的实际情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棱台 18435"/>
          <p:cNvSpPr/>
          <p:nvPr/>
        </p:nvSpPr>
        <p:spPr>
          <a:xfrm>
            <a:off x="1116000" y="692280"/>
            <a:ext cx="6408720" cy="122400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二、重点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——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设过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横卷形 18436"/>
          <p:cNvSpPr/>
          <p:nvPr/>
        </p:nvSpPr>
        <p:spPr>
          <a:xfrm>
            <a:off x="1332000" y="2565360"/>
            <a:ext cx="6408720" cy="3095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个科学的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个适合学生学习的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424720" cy="4525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源于儿童的想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依据儿童的思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对儿童的想法进行精加工，对学生在科学探究中的主要经历进行设计，确定哪些素材更有价值，哪些过程更为重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动作按钮: 文档 19459"/>
          <p:cNvSpPr/>
          <p:nvPr/>
        </p:nvSpPr>
        <p:spPr>
          <a:xfrm>
            <a:off x="3780000" y="5661000"/>
            <a:ext cx="1584000" cy="360360"/>
          </a:xfrm>
          <a:custGeom>
            <a:avLst/>
            <a:gdLst>
              <a:gd name="textAreaLeft" fmla="*/ 23040 w 1584000"/>
              <a:gd name="textAreaRight" fmla="*/ 1560960 w 158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4872" h="21600">
                <a:moveTo>
                  <a:pt x="0" y="0"/>
                </a:moveTo>
                <a:lnTo>
                  <a:pt x="94872" y="0"/>
                </a:lnTo>
                <a:lnTo>
                  <a:pt x="94872" y="21600"/>
                </a:lnTo>
                <a:lnTo>
                  <a:pt x="0" y="21600"/>
                </a:lnTo>
                <a:close/>
              </a:path>
              <a:path fill="lightenLess" w="94872" h="21600">
                <a:moveTo>
                  <a:pt x="0" y="0"/>
                </a:moveTo>
                <a:lnTo>
                  <a:pt x="94872" y="0"/>
                </a:lnTo>
                <a:lnTo>
                  <a:pt x="93472" y="1400"/>
                </a:lnTo>
                <a:lnTo>
                  <a:pt x="1400" y="1400"/>
                </a:lnTo>
                <a:close/>
              </a:path>
              <a:path fill="darken" w="94872" h="21600">
                <a:moveTo>
                  <a:pt x="94872" y="0"/>
                </a:moveTo>
                <a:lnTo>
                  <a:pt x="94872" y="21600"/>
                </a:lnTo>
                <a:lnTo>
                  <a:pt x="93472" y="20200"/>
                </a:lnTo>
                <a:lnTo>
                  <a:pt x="93472" y="1400"/>
                </a:lnTo>
                <a:close/>
              </a:path>
              <a:path fill="darkenLess" w="94872" h="21600">
                <a:moveTo>
                  <a:pt x="94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472" y="20200"/>
                </a:lnTo>
                <a:close/>
              </a:path>
              <a:path fill="lighten" w="94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94872" h="21600">
                <a:moveTo>
                  <a:pt x="41909" y="3985"/>
                </a:moveTo>
                <a:lnTo>
                  <a:pt x="48907" y="3985"/>
                </a:lnTo>
                <a:lnTo>
                  <a:pt x="52963" y="7484"/>
                </a:lnTo>
                <a:lnTo>
                  <a:pt x="52963" y="17615"/>
                </a:lnTo>
                <a:lnTo>
                  <a:pt x="41909" y="17615"/>
                </a:lnTo>
                <a:close/>
              </a:path>
              <a:path fill="darken" w="94872" h="21600">
                <a:moveTo>
                  <a:pt x="48907" y="3985"/>
                </a:moveTo>
                <a:lnTo>
                  <a:pt x="52963" y="7484"/>
                </a:lnTo>
                <a:lnTo>
                  <a:pt x="48907" y="74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矩形 19460"/>
          <p:cNvSpPr/>
          <p:nvPr/>
        </p:nvSpPr>
        <p:spPr>
          <a:xfrm>
            <a:off x="539640" y="549360"/>
            <a:ext cx="835344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、课与课之间构成一个科学的学习过程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020000" cy="1197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、一个活动内深入的过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矩形 20484"/>
          <p:cNvSpPr/>
          <p:nvPr/>
        </p:nvSpPr>
        <p:spPr>
          <a:xfrm flipV="1" rot="10800000">
            <a:off x="5076720" y="4365000"/>
            <a:ext cx="3749760" cy="1373760"/>
          </a:xfrm>
          <a:prstGeom prst="rect">
            <a:avLst/>
          </a:prstGeom>
          <a:solidFill>
            <a:srgbClr val="00006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一个典型的故障分析、检测、排除的过程经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一个典型的物体属性检测过程经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一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竖卷形 20488"/>
          <p:cNvSpPr/>
          <p:nvPr/>
        </p:nvSpPr>
        <p:spPr>
          <a:xfrm>
            <a:off x="-396720" y="1557360"/>
            <a:ext cx="4824360" cy="5300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活动一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检测一块橡皮泥的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从右边盒子里拿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橡皮放回右边盒子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把电路检测器的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检测头接触一下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重复检测一次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记录在科学文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夹上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30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本册教材总体安排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新的生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食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岩石和矿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显著特点：单元变大了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矩形 24579"/>
          <p:cNvSpPr/>
          <p:nvPr/>
        </p:nvSpPr>
        <p:spPr>
          <a:xfrm>
            <a:off x="4211640" y="4653000"/>
            <a:ext cx="4608360" cy="1072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亮了告诉我们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亮又告诉我们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竖卷形 24581"/>
          <p:cNvSpPr/>
          <p:nvPr/>
        </p:nvSpPr>
        <p:spPr>
          <a:xfrm>
            <a:off x="-396720" y="476280"/>
            <a:ext cx="4427280" cy="5904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活动二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检测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黑体"/>
              </a:rPr>
              <a:t>25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种物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思考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学生如何分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学生如何做预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学生如何检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学生如何做判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矩形 23555"/>
          <p:cNvSpPr/>
          <p:nvPr/>
        </p:nvSpPr>
        <p:spPr>
          <a:xfrm>
            <a:off x="4284720" y="4941720"/>
            <a:ext cx="4608360" cy="1373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探究活动的过程：整理交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构建导体、绝缘体的认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形成操作定义）的过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竖卷形 23556"/>
          <p:cNvSpPr/>
          <p:nvPr/>
        </p:nvSpPr>
        <p:spPr>
          <a:xfrm>
            <a:off x="-396720" y="189000"/>
            <a:ext cx="4608360" cy="59497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活动三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科学报告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汇报什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怎样汇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如何倾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如何评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如何建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自己的想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4546440" cy="1384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思考是怎样的过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圆角矩形标注 21507"/>
          <p:cNvSpPr/>
          <p:nvPr/>
        </p:nvSpPr>
        <p:spPr>
          <a:xfrm rot="10800000">
            <a:off x="468360" y="2781000"/>
            <a:ext cx="8207280" cy="3240000"/>
          </a:xfrm>
          <a:prstGeom prst="wedgeRoundRectCallout">
            <a:avLst>
              <a:gd name="adj1" fmla="val 37949"/>
              <a:gd name="adj2" fmla="val 832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一个科学的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一个思维展开的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一个学生自我构建科学概念的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一个科学素养累积的过程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黑体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依据儿童的心理发展特点进行设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179280" y="2743200"/>
            <a:ext cx="8964720" cy="4114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请大家参与活动设计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观察一棵油菜的花（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22-23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哪块面包上的霉菌长得快（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47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探索岩石变化的原因（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67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爆炸形 1 25603"/>
          <p:cNvSpPr/>
          <p:nvPr/>
        </p:nvSpPr>
        <p:spPr>
          <a:xfrm>
            <a:off x="3780000" y="0"/>
            <a:ext cx="5364000" cy="29512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  <a:ea typeface="黑体"/>
              </a:rPr>
              <a:t>举一反三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思考策略：不断追问自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为什么要让学生进行这一内容的学习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它的意义在什么地方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对于这一问题，学生是怎样想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调动原有经验时学生产生什么问题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他们对这一问题的认识发展过程是怎样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教学要引导他们继续向什么方向去发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摘自“教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不要把学生束缚在教室这个太小的空间里，教室外才是孩子们学习科学大有作为的更广阔天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将学生的科学学习置于广阔的背景之中，帮助他们不断扩大对周围世界科学现象的体验，并丰富他们的学习经历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棱台 28675"/>
          <p:cNvSpPr/>
          <p:nvPr/>
        </p:nvSpPr>
        <p:spPr>
          <a:xfrm>
            <a:off x="755640" y="260280"/>
            <a:ext cx="7561440" cy="172872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三、生长点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——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定结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95280" y="3284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横卷形 46083"/>
          <p:cNvSpPr/>
          <p:nvPr/>
        </p:nvSpPr>
        <p:spPr>
          <a:xfrm>
            <a:off x="1042920" y="1484280"/>
            <a:ext cx="6769080" cy="1440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一项有效的策略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横卷形 46084"/>
          <p:cNvSpPr/>
          <p:nvPr/>
        </p:nvSpPr>
        <p:spPr>
          <a:xfrm>
            <a:off x="1116000" y="3716280"/>
            <a:ext cx="6769080" cy="1440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课内外科学实践活动相结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建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调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某种电器的变化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设计学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装电路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为节约用电提出一条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思考的现实意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新的生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项目研究：花的专题研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植物的繁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动物的繁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有关新的生物技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克隆、杂交米、无籽西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食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饮食与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岩石与矿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标本展览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考察雁荡山（世界地质公园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项长期研究的项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波形 4099"/>
          <p:cNvSpPr/>
          <p:nvPr/>
        </p:nvSpPr>
        <p:spPr>
          <a:xfrm>
            <a:off x="395280" y="3789360"/>
            <a:ext cx="4392720" cy="1800360"/>
          </a:xfrm>
          <a:custGeom>
            <a:avLst/>
            <a:gdLst>
              <a:gd name="textAreaLeft" fmla="*/ 0 w 4392720"/>
              <a:gd name="textAreaRight" fmla="*/ 4393080 w 4392720"/>
              <a:gd name="textAreaTop" fmla="*/ 468000 h 1800360"/>
              <a:gd name="textAreaBottom" fmla="*/ 13323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ahoma"/>
              </a:rPr>
              <a:t>备课要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圆角矩形标注 4100"/>
          <p:cNvSpPr/>
          <p:nvPr/>
        </p:nvSpPr>
        <p:spPr>
          <a:xfrm>
            <a:off x="3132000" y="1052640"/>
            <a:ext cx="5400720" cy="2449440"/>
          </a:xfrm>
          <a:prstGeom prst="wedgeRoundRectCallout">
            <a:avLst>
              <a:gd name="adj1" fmla="val -45680"/>
              <a:gd name="adj2" fmla="val 6704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</a:rPr>
              <a:t>切入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</a:rPr>
              <a:t>重    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</a:rPr>
              <a:t>生长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计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动作按钮: 文档 31747"/>
          <p:cNvSpPr/>
          <p:nvPr/>
        </p:nvSpPr>
        <p:spPr>
          <a:xfrm>
            <a:off x="3492360" y="2276640"/>
            <a:ext cx="1008360" cy="288720"/>
          </a:xfrm>
          <a:custGeom>
            <a:avLst/>
            <a:gdLst>
              <a:gd name="textAreaLeft" fmla="*/ 18720 w 1008360"/>
              <a:gd name="textAreaRight" fmla="*/ 989640 w 1008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5371" h="21600">
                <a:moveTo>
                  <a:pt x="32159" y="3985"/>
                </a:moveTo>
                <a:lnTo>
                  <a:pt x="39157" y="3985"/>
                </a:lnTo>
                <a:lnTo>
                  <a:pt x="43213" y="7484"/>
                </a:lnTo>
                <a:lnTo>
                  <a:pt x="43213" y="17615"/>
                </a:lnTo>
                <a:lnTo>
                  <a:pt x="32159" y="17615"/>
                </a:lnTo>
                <a:close/>
              </a:path>
              <a:path fill="darken" w="75371" h="21600">
                <a:moveTo>
                  <a:pt x="39157" y="3985"/>
                </a:moveTo>
                <a:lnTo>
                  <a:pt x="43213" y="7484"/>
                </a:lnTo>
                <a:lnTo>
                  <a:pt x="39157" y="74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征订问题  ：教材、工具箱、投影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本册教材内容与课程标准的联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本册教材与前三册的联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活动与活动之间的联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与学生现实生活的联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棱台 5123"/>
          <p:cNvSpPr/>
          <p:nvPr/>
        </p:nvSpPr>
        <p:spPr>
          <a:xfrm>
            <a:off x="611280" y="189000"/>
            <a:ext cx="7345440" cy="1584360"/>
          </a:xfrm>
          <a:prstGeom prst="bevel">
            <a:avLst>
              <a:gd name="adj" fmla="val 12500"/>
            </a:avLst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黑体"/>
              </a:rPr>
              <a:t>一、切入点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黑体"/>
              </a:rPr>
              <a:t>——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黑体"/>
              </a:rPr>
              <a:t>找联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848720" cy="934920"/>
          </a:xfrm>
          <a:prstGeom prst="rect">
            <a:avLst/>
          </a:prstGeom>
          <a:solidFill>
            <a:srgbClr val="00c600"/>
          </a:solidFill>
          <a:ln w="936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本册教材内容与课程标准的联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物质世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电”作为能量的表现形式之四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认识电是生活和工作中常见的能量来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了解安全用电常识；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2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知道常见电器的工作需要一个完整的回路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3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知道有的材料容易导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的材料不容易导电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507520" cy="5761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命世界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生命的共同特征之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3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了解不同生物的生命过程是不一样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感受不同生物过程的复杂多样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生命的共同特征之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1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知道繁殖是生命的共同特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例举常见的几种动物的不同生殖方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生命的共同特征之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能指认植物的六大器官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知道各种器官的作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健康生活之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1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了解人类需要哪些营养及其来源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懂得营养全面合理的重要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6048720"/>
          </a:xfrm>
          <a:prstGeom prst="rect">
            <a:avLst/>
          </a:prstGeom>
          <a:solidFill>
            <a:srgbClr val="000066"/>
          </a:solidFill>
          <a:ln w="9360">
            <a:solidFill>
              <a:srgbClr val="33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地球与宇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岩石”作为地球的物质之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能用不同的分类标准对岩石进行分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知道主要的能源矿产、金属矿产及其提炼物的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意识到人类生存与陆地物质的密切关系及保护陆地物质的重要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涉及地球运动与所引起的地表变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了解地球表面是在不断变化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了解火山喷发现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认识各种自然力量对地表改变的作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了解人类活动对地表改变的影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材与课标的联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教材的编写是依据课程标准而制定，当教材的要求与课程标准的要求不符时，要依据标准，对教材进行“用教材教”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7715160" cy="1049400"/>
          </a:xfrm>
          <a:prstGeom prst="rect">
            <a:avLst/>
          </a:prstGeom>
          <a:solidFill>
            <a:srgbClr val="00c600"/>
          </a:solidFill>
          <a:ln w="936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本册教材与前三册的联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686800" cy="4952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一）在内容上的推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进入新的领域的学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地球与宇宙      把岩石作为构成地球的物质来认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地壳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岩石圈的一部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各种各样的岩石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块岩石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组成岩石的矿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岩石的特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成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黏土、沙、岩浆形成岩石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岩石受到自然力的侵蚀风化（物质的循环变化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0:21Z</dcterms:created>
  <dc:creator/>
  <dc:description/>
  <cp:keywords>科学教材 思考</cp:keywords>
  <dc:language>en-US</dc:language>
  <cp:lastModifiedBy>An</cp:lastModifiedBy>
  <dcterms:modified xsi:type="dcterms:W3CDTF">2016-05-01T00:40:2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