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9D6-3705-4923-A439-F72840396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ED6-1FC0-43BD-88F0-6C7C63D1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BDE-2194-4E43-96B3-19D3F792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B42-0B53-4115-AEB0-B072D433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7235-F3A5-40EE-A6FB-CAAA8ADB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0F5E-B50C-4641-8918-204E0A2B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AC14-A59A-4400-81D5-8F93EE1A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A8D3-6806-4E57-82F2-D327CDFE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FADD-C267-42F2-AD9C-1615EBD8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6FFD-4239-4698-871A-A3F4B749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6F13-ED7F-4636-A570-6EBCC043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0B4-5EB0-4923-B965-034ECDF6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82E5-F907-470A-B088-F44E4137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4439-215D-4C87-9D26-A5A2D3AF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85B3-490F-425D-B62F-881440E9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4A55-1820-4AFC-ACF4-9A8C76640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65AB-C0FA-4B68-A458-C90438A5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A6991-F5E3-482C-8C46-3CF82640E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C3C1E-5332-46A2-B9E9-89144FD6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D51E8-57B9-41D4-AB81-29BF7E6A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55F69-7B85-4FFC-8A8B-54B8CAC4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E539-A387-4823-AD2C-63BDF5F0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9D9D-8057-439E-A9AB-5B91F09D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749A-29EE-43CD-AFD8-AFF0D67A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B433C-5CFD-46D8-86DE-FE70CB69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10A70-D332-4817-BCB0-CE618D39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B1816-FEA1-4CA1-B143-196C0D90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206A3-810F-4978-B0B8-24283524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C5894-D0A2-4FBD-95C8-845269FF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61858-83A3-4452-B2BD-986749BE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919E-0D71-4FDC-AB90-330EA4C5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09A-094B-46D4-97DB-88623467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6B5-02F1-4871-827B-D4F251CF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AEC-73CA-4F26-8E8F-2B4905F8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F6E-5B77-45F9-BE2E-0D6D5265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DBAB-15EE-495A-989B-034BE659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ac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C7AA-8661-41A2-83A6-41607E8276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组合 3078"/>
          <p:cNvGrpSpPr/>
          <p:nvPr/>
        </p:nvGrpSpPr>
        <p:grpSpPr>
          <a:xfrm>
            <a:off x="152280" y="304920"/>
            <a:ext cx="609120" cy="6552720"/>
            <a:chOff x="152280" y="304920"/>
            <a:chExt cx="609120" cy="6552720"/>
          </a:xfrm>
        </p:grpSpPr>
        <p:sp>
          <p:nvSpPr>
            <p:cNvPr id="6" name="平行四边形 3079"/>
            <p:cNvSpPr/>
            <p:nvPr/>
          </p:nvSpPr>
          <p:spPr>
            <a:xfrm flipH="1" rot="5400000">
              <a:off x="7920" y="3279600"/>
              <a:ext cx="896760" cy="608760"/>
            </a:xfrm>
            <a:prstGeom prst="parallelogram">
              <a:avLst>
                <a:gd name="adj" fmla="val 7800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7" name="平行四边形 3080"/>
            <p:cNvSpPr/>
            <p:nvPr/>
          </p:nvSpPr>
          <p:spPr>
            <a:xfrm flipH="1" rot="5400000">
              <a:off x="8280" y="4223880"/>
              <a:ext cx="896400" cy="608760"/>
            </a:xfrm>
            <a:prstGeom prst="parallelogram">
              <a:avLst>
                <a:gd name="adj" fmla="val 7797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8" name="平行四边形 3081"/>
            <p:cNvSpPr/>
            <p:nvPr/>
          </p:nvSpPr>
          <p:spPr>
            <a:xfrm flipH="1" rot="5400000">
              <a:off x="7920" y="5167080"/>
              <a:ext cx="896400" cy="608400"/>
            </a:xfrm>
            <a:prstGeom prst="parallelogram">
              <a:avLst>
                <a:gd name="adj" fmla="val 7802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9" name="平行四边形 3082"/>
            <p:cNvSpPr/>
            <p:nvPr/>
          </p:nvSpPr>
          <p:spPr>
            <a:xfrm flipH="1" rot="5400000">
              <a:off x="12600" y="6109920"/>
              <a:ext cx="887040" cy="608400"/>
            </a:xfrm>
            <a:prstGeom prst="parallelogram">
              <a:avLst>
                <a:gd name="adj" fmla="val 7720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10" name="平行四边形 3083"/>
            <p:cNvSpPr/>
            <p:nvPr/>
          </p:nvSpPr>
          <p:spPr>
            <a:xfrm flipH="1" rot="5400000">
              <a:off x="8280" y="448560"/>
              <a:ext cx="896400" cy="608760"/>
            </a:xfrm>
            <a:prstGeom prst="parallelogram">
              <a:avLst>
                <a:gd name="adj" fmla="val 7797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11" name="平行四边形 3084"/>
            <p:cNvSpPr/>
            <p:nvPr/>
          </p:nvSpPr>
          <p:spPr>
            <a:xfrm flipH="1" rot="5400000">
              <a:off x="7920" y="1386000"/>
              <a:ext cx="896760" cy="608400"/>
            </a:xfrm>
            <a:prstGeom prst="parallelogram">
              <a:avLst>
                <a:gd name="adj" fmla="val 7805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12" name="平行四边形 3085"/>
            <p:cNvSpPr/>
            <p:nvPr/>
          </p:nvSpPr>
          <p:spPr>
            <a:xfrm flipH="1" rot="5400000">
              <a:off x="7920" y="2334240"/>
              <a:ext cx="896400" cy="608400"/>
            </a:xfrm>
            <a:prstGeom prst="parallelogram">
              <a:avLst>
                <a:gd name="adj" fmla="val 7802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sp>
        <p:nvSpPr>
          <p:cNvPr id="13" name="矩形 3086"/>
          <p:cNvSpPr/>
          <p:nvPr/>
        </p:nvSpPr>
        <p:spPr>
          <a:xfrm>
            <a:off x="353880" y="0"/>
            <a:ext cx="27648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4" name="五边形 3087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5" y="0"/>
                </a:lnTo>
                <a:lnTo>
                  <a:pt x="21600" y="10800"/>
                </a:lnTo>
                <a:lnTo>
                  <a:pt x="212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15" name="组合 3088"/>
          <p:cNvGrpSpPr/>
          <p:nvPr/>
        </p:nvGrpSpPr>
        <p:grpSpPr>
          <a:xfrm>
            <a:off x="422280" y="1681200"/>
            <a:ext cx="295200" cy="4910040"/>
            <a:chOff x="422280" y="1681200"/>
            <a:chExt cx="295200" cy="4910040"/>
          </a:xfrm>
        </p:grpSpPr>
        <p:sp>
          <p:nvSpPr>
            <p:cNvPr id="16" name="椭圆 3089"/>
            <p:cNvSpPr/>
            <p:nvPr/>
          </p:nvSpPr>
          <p:spPr>
            <a:xfrm>
              <a:off x="422280" y="1681200"/>
              <a:ext cx="295200" cy="27468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1c6d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17" name="矩形 3090"/>
            <p:cNvSpPr/>
            <p:nvPr/>
          </p:nvSpPr>
          <p:spPr>
            <a:xfrm>
              <a:off x="463680" y="1913040"/>
              <a:ext cx="190440" cy="46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grpSp>
        <p:nvGrpSpPr>
          <p:cNvPr id="18" name="组合 3091"/>
          <p:cNvGrpSpPr/>
          <p:nvPr/>
        </p:nvGrpSpPr>
        <p:grpSpPr>
          <a:xfrm>
            <a:off x="87480" y="1676520"/>
            <a:ext cx="9056520" cy="274320"/>
            <a:chOff x="87480" y="1676520"/>
            <a:chExt cx="9056520" cy="274320"/>
          </a:xfrm>
        </p:grpSpPr>
        <p:sp>
          <p:nvSpPr>
            <p:cNvPr id="19" name="椭圆 3092"/>
            <p:cNvSpPr/>
            <p:nvPr/>
          </p:nvSpPr>
          <p:spPr>
            <a:xfrm>
              <a:off x="8839440" y="1676520"/>
              <a:ext cx="304560" cy="27432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1c6d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20" name="矩形 3093"/>
            <p:cNvSpPr/>
            <p:nvPr/>
          </p:nvSpPr>
          <p:spPr>
            <a:xfrm>
              <a:off x="87480" y="1739880"/>
              <a:ext cx="875196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grpSp>
        <p:nvGrpSpPr>
          <p:cNvPr id="21" name="组合 3094"/>
          <p:cNvGrpSpPr/>
          <p:nvPr/>
        </p:nvGrpSpPr>
        <p:grpSpPr>
          <a:xfrm>
            <a:off x="158760" y="-34920"/>
            <a:ext cx="644040" cy="6858000"/>
            <a:chOff x="158760" y="-34920"/>
            <a:chExt cx="644040" cy="6858000"/>
          </a:xfrm>
        </p:grpSpPr>
        <p:sp>
          <p:nvSpPr>
            <p:cNvPr id="22" name="平行四边形 3095"/>
            <p:cNvSpPr/>
            <p:nvPr/>
          </p:nvSpPr>
          <p:spPr>
            <a:xfrm rot="16200000">
              <a:off x="33120" y="3702600"/>
              <a:ext cx="895320" cy="642240"/>
            </a:xfrm>
            <a:prstGeom prst="parallelogram">
              <a:avLst>
                <a:gd name="adj" fmla="val 7382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23" name="平行四边形 3096"/>
            <p:cNvSpPr/>
            <p:nvPr/>
          </p:nvSpPr>
          <p:spPr>
            <a:xfrm rot="16200000">
              <a:off x="32400" y="4646880"/>
              <a:ext cx="897120" cy="642240"/>
            </a:xfrm>
            <a:prstGeom prst="parallelogram">
              <a:avLst>
                <a:gd name="adj" fmla="val 73969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24" name="平行四边形 3097"/>
            <p:cNvSpPr/>
            <p:nvPr/>
          </p:nvSpPr>
          <p:spPr>
            <a:xfrm rot="16200000">
              <a:off x="32040" y="5589000"/>
              <a:ext cx="895320" cy="641880"/>
            </a:xfrm>
            <a:prstGeom prst="parallelogram">
              <a:avLst>
                <a:gd name="adj" fmla="val 7386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25" name="平行四边形 3098"/>
            <p:cNvSpPr/>
            <p:nvPr/>
          </p:nvSpPr>
          <p:spPr>
            <a:xfrm rot="16200000">
              <a:off x="32400" y="871920"/>
              <a:ext cx="897120" cy="642240"/>
            </a:xfrm>
            <a:prstGeom prst="parallelogram">
              <a:avLst>
                <a:gd name="adj" fmla="val 73969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26" name="平行四边形 3099"/>
            <p:cNvSpPr/>
            <p:nvPr/>
          </p:nvSpPr>
          <p:spPr>
            <a:xfrm rot="16200000">
              <a:off x="32040" y="1814040"/>
              <a:ext cx="895320" cy="641880"/>
            </a:xfrm>
            <a:prstGeom prst="parallelogram">
              <a:avLst>
                <a:gd name="adj" fmla="val 7386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27" name="平行四边形 3100"/>
            <p:cNvSpPr/>
            <p:nvPr/>
          </p:nvSpPr>
          <p:spPr>
            <a:xfrm rot="16200000">
              <a:off x="32040" y="2760120"/>
              <a:ext cx="895320" cy="641880"/>
            </a:xfrm>
            <a:prstGeom prst="parallelogram">
              <a:avLst>
                <a:gd name="adj" fmla="val 7386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28" name="任意多边形 3101"/>
            <p:cNvSpPr/>
            <p:nvPr/>
          </p:nvSpPr>
          <p:spPr>
            <a:xfrm>
              <a:off x="162000" y="-34920"/>
              <a:ext cx="64080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29" name="任意多边形 3102"/>
            <p:cNvSpPr/>
            <p:nvPr/>
          </p:nvSpPr>
          <p:spPr>
            <a:xfrm>
              <a:off x="158760" y="6410160"/>
              <a:ext cx="55044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6B8C-E350-4E6E-95E8-B05B8B46D1D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8511-41DB-4894-A1F1-A9006B6B482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ac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409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矩形 4098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4eac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109" name="矩形 4099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4eace0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grpSp>
        <p:nvGrpSpPr>
          <p:cNvPr id="110" name="组合 4105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111" name="平行四边形 4106"/>
            <p:cNvSpPr/>
            <p:nvPr/>
          </p:nvSpPr>
          <p:spPr>
            <a:xfrm flipH="1" rot="5400000">
              <a:off x="128160" y="3165840"/>
              <a:ext cx="895680" cy="846360"/>
            </a:xfrm>
            <a:prstGeom prst="parallelogram">
              <a:avLst>
                <a:gd name="adj" fmla="val 56039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112" name="平行四边形 4107"/>
            <p:cNvSpPr/>
            <p:nvPr/>
          </p:nvSpPr>
          <p:spPr>
            <a:xfrm flipH="1" rot="5400000">
              <a:off x="128160" y="41086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113" name="平行四边形 4108"/>
            <p:cNvSpPr/>
            <p:nvPr/>
          </p:nvSpPr>
          <p:spPr>
            <a:xfrm flipH="1" rot="5400000">
              <a:off x="127440" y="50500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114" name="平行四边形 4109"/>
            <p:cNvSpPr/>
            <p:nvPr/>
          </p:nvSpPr>
          <p:spPr>
            <a:xfrm flipH="1" rot="5400000">
              <a:off x="132120" y="5991480"/>
              <a:ext cx="885960" cy="846000"/>
            </a:xfrm>
            <a:prstGeom prst="parallelogram">
              <a:avLst>
                <a:gd name="adj" fmla="val 55455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115" name="平行四边形 4110"/>
            <p:cNvSpPr/>
            <p:nvPr/>
          </p:nvSpPr>
          <p:spPr>
            <a:xfrm flipH="1" rot="5400000">
              <a:off x="128160" y="3384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116" name="平行四边形 4111"/>
            <p:cNvSpPr/>
            <p:nvPr/>
          </p:nvSpPr>
          <p:spPr>
            <a:xfrm flipH="1" rot="5400000">
              <a:off x="127080" y="1275480"/>
              <a:ext cx="895680" cy="846000"/>
            </a:xfrm>
            <a:prstGeom prst="parallelogram">
              <a:avLst>
                <a:gd name="adj" fmla="val 5606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117" name="平行四边形 4112"/>
            <p:cNvSpPr/>
            <p:nvPr/>
          </p:nvSpPr>
          <p:spPr>
            <a:xfrm flipH="1" rot="5400000">
              <a:off x="127440" y="22212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sp>
        <p:nvSpPr>
          <p:cNvPr id="118" name="矩形 41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19" name="五边形 41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5" y="0"/>
                </a:lnTo>
                <a:lnTo>
                  <a:pt x="21600" y="10800"/>
                </a:lnTo>
                <a:lnTo>
                  <a:pt x="2122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120" name="组合 4115"/>
          <p:cNvGrpSpPr/>
          <p:nvPr/>
        </p:nvGrpSpPr>
        <p:grpSpPr>
          <a:xfrm>
            <a:off x="422280" y="2697120"/>
            <a:ext cx="295200" cy="4160880"/>
            <a:chOff x="422280" y="2697120"/>
            <a:chExt cx="295200" cy="4160880"/>
          </a:xfrm>
        </p:grpSpPr>
        <p:sp>
          <p:nvSpPr>
            <p:cNvPr id="121" name="椭圆 4116"/>
            <p:cNvSpPr/>
            <p:nvPr/>
          </p:nvSpPr>
          <p:spPr>
            <a:xfrm>
              <a:off x="422280" y="2697120"/>
              <a:ext cx="295200" cy="27468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1c6d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122" name="矩形 4117"/>
            <p:cNvSpPr/>
            <p:nvPr/>
          </p:nvSpPr>
          <p:spPr>
            <a:xfrm>
              <a:off x="463680" y="2700360"/>
              <a:ext cx="161640" cy="41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grpSp>
        <p:nvGrpSpPr>
          <p:cNvPr id="123" name="组合 4118"/>
          <p:cNvGrpSpPr/>
          <p:nvPr/>
        </p:nvGrpSpPr>
        <p:grpSpPr>
          <a:xfrm>
            <a:off x="484200" y="2697120"/>
            <a:ext cx="9056520" cy="274320"/>
            <a:chOff x="484200" y="2697120"/>
            <a:chExt cx="9056520" cy="274320"/>
          </a:xfrm>
        </p:grpSpPr>
        <p:sp>
          <p:nvSpPr>
            <p:cNvPr id="124" name="椭圆 4119"/>
            <p:cNvSpPr/>
            <p:nvPr/>
          </p:nvSpPr>
          <p:spPr>
            <a:xfrm>
              <a:off x="9236160" y="2697120"/>
              <a:ext cx="304560" cy="27432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1c6d9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125" name="矩形 4120"/>
            <p:cNvSpPr/>
            <p:nvPr/>
          </p:nvSpPr>
          <p:spPr>
            <a:xfrm>
              <a:off x="484200" y="2760480"/>
              <a:ext cx="875196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grpSp>
        <p:nvGrpSpPr>
          <p:cNvPr id="126" name="组合 41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27" name="平行四边形 4122"/>
            <p:cNvSpPr/>
            <p:nvPr/>
          </p:nvSpPr>
          <p:spPr>
            <a:xfrm rot="16200000">
              <a:off x="127800" y="36356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128" name="平行四边形 4123"/>
            <p:cNvSpPr/>
            <p:nvPr/>
          </p:nvSpPr>
          <p:spPr>
            <a:xfrm rot="16200000">
              <a:off x="126720" y="4579560"/>
              <a:ext cx="897120" cy="846360"/>
            </a:xfrm>
            <a:prstGeom prst="parallelogram">
              <a:avLst>
                <a:gd name="adj" fmla="val 56129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129" name="平行四边形 4124"/>
            <p:cNvSpPr/>
            <p:nvPr/>
          </p:nvSpPr>
          <p:spPr>
            <a:xfrm rot="16200000">
              <a:off x="126000" y="5521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130" name="平行四边形 4125"/>
            <p:cNvSpPr/>
            <p:nvPr/>
          </p:nvSpPr>
          <p:spPr>
            <a:xfrm rot="16200000">
              <a:off x="126720" y="804600"/>
              <a:ext cx="897120" cy="846360"/>
            </a:xfrm>
            <a:prstGeom prst="parallelogram">
              <a:avLst>
                <a:gd name="adj" fmla="val 56129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131" name="平行四边形 4126"/>
            <p:cNvSpPr/>
            <p:nvPr/>
          </p:nvSpPr>
          <p:spPr>
            <a:xfrm rot="16200000">
              <a:off x="126000" y="174672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132" name="平行四边形 4127"/>
            <p:cNvSpPr/>
            <p:nvPr/>
          </p:nvSpPr>
          <p:spPr>
            <a:xfrm rot="16200000">
              <a:off x="126000" y="26928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133" name="任意多边形 41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134" name="任意多边形 41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Monotype Sort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8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9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D22A-F122-4A96-A42E-DF70B8C7FA26}" type="slidenum">
              <a:rPr b="0" lang="zh-CN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A:\temp\NRPB WEB HOME PAGE.ht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A:\temp\&#36807;&#31243;&#31034;&#24847;&#22270;.htm" TargetMode="External"/><Relationship Id="rId2" Type="http://schemas.openxmlformats.org/officeDocument/2006/relationships/hyperlink" Target="A:\temp\&#36807;&#31243;&#31034;&#24847;&#22270;.ht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A:\temp\&#36807;&#31243;&#31034;&#24847;&#22270;.htm" TargetMode="External"/><Relationship Id="rId3" Type="http://schemas.openxmlformats.org/officeDocument/2006/relationships/hyperlink" Target="A:\temp\&#36807;&#31243;&#31034;&#24847;&#22270;.htm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电离辐射的生物效应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920" y="2057400"/>
            <a:ext cx="7034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3.1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生物效应产生的过程和机理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3.2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电离辐射所致生物效应的分类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3.3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确定性效应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3.4 </a:t>
            </a:r>
            <a:r>
              <a:rPr b="1" lang="zh-CN" sz="3400" spc="-1" strike="noStrike">
                <a:solidFill>
                  <a:srgbClr val="ffffff"/>
                </a:solidFill>
                <a:latin typeface="Times New Roman"/>
              </a:rPr>
              <a:t>随机性效应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ace0"/>
            </a:gs>
            <a:gs pos="100000">
              <a:srgbClr val="66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椭圆 53250"/>
          <p:cNvSpPr/>
          <p:nvPr/>
        </p:nvSpPr>
        <p:spPr>
          <a:xfrm>
            <a:off x="2666880" y="2590920"/>
            <a:ext cx="1295640" cy="533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47" name="组合 53251"/>
          <p:cNvGrpSpPr/>
          <p:nvPr/>
        </p:nvGrpSpPr>
        <p:grpSpPr>
          <a:xfrm>
            <a:off x="838080" y="1802520"/>
            <a:ext cx="8305920" cy="4826880"/>
            <a:chOff x="838080" y="1802520"/>
            <a:chExt cx="8305920" cy="4826880"/>
          </a:xfrm>
        </p:grpSpPr>
        <p:grpSp>
          <p:nvGrpSpPr>
            <p:cNvPr id="248" name=""/>
            <p:cNvGrpSpPr/>
            <p:nvPr/>
          </p:nvGrpSpPr>
          <p:grpSpPr>
            <a:xfrm>
              <a:off x="3809880" y="5105160"/>
              <a:ext cx="457200" cy="228600"/>
              <a:chOff x="3809880" y="5105160"/>
              <a:chExt cx="457200" cy="228600"/>
            </a:xfrm>
          </p:grpSpPr>
          <p:sp>
            <p:nvSpPr>
              <p:cNvPr id="249" name="直接连接符 53252"/>
              <p:cNvSpPr/>
              <p:nvPr/>
            </p:nvSpPr>
            <p:spPr>
              <a:xfrm flipV="1">
                <a:off x="3809880" y="5105160"/>
                <a:ext cx="457200" cy="228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 rot="10800000">
                <a:off x="3809880" y="5105160"/>
                <a:ext cx="4572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3809880" y="5715000"/>
              <a:ext cx="457200" cy="152280"/>
              <a:chOff x="3809880" y="5715000"/>
              <a:chExt cx="457200" cy="152280"/>
            </a:xfrm>
          </p:grpSpPr>
          <p:sp>
            <p:nvSpPr>
              <p:cNvPr id="252" name="直接连接符 53253"/>
              <p:cNvSpPr/>
              <p:nvPr/>
            </p:nvSpPr>
            <p:spPr>
              <a:xfrm>
                <a:off x="3809880" y="5715000"/>
                <a:ext cx="457200" cy="152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4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>
                <a:off x="3809880" y="5715000"/>
                <a:ext cx="45720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组合 53254"/>
            <p:cNvGrpSpPr/>
            <p:nvPr/>
          </p:nvGrpSpPr>
          <p:grpSpPr>
            <a:xfrm>
              <a:off x="838080" y="1802520"/>
              <a:ext cx="8305920" cy="4826880"/>
              <a:chOff x="838080" y="1802520"/>
              <a:chExt cx="8305920" cy="4826880"/>
            </a:xfrm>
          </p:grpSpPr>
          <p:sp>
            <p:nvSpPr>
              <p:cNvPr id="255" name="文本框 53255"/>
              <p:cNvSpPr/>
              <p:nvPr/>
            </p:nvSpPr>
            <p:spPr>
              <a:xfrm>
                <a:off x="838080" y="1802520"/>
                <a:ext cx="167652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Times New Roman"/>
                  </a:rPr>
                  <a:t>分子水平</a:t>
                </a:r>
                <a:endParaRPr b="1" lang="en-US" sz="2800" spc="-1" strike="noStrike">
                  <a:solidFill>
                    <a:srgbClr val="ccffff"/>
                  </a:solidFill>
                  <a:latin typeface="Times New Roman"/>
                </a:endParaRPr>
              </a:p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56" name="椭圆 53256"/>
              <p:cNvSpPr/>
              <p:nvPr/>
            </p:nvSpPr>
            <p:spPr>
              <a:xfrm>
                <a:off x="2590920" y="3200400"/>
                <a:ext cx="1295280" cy="68580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1932"/>
                    </a:solidFill>
                    <a:latin typeface="Times New Roman"/>
                  </a:rPr>
                  <a:t>细胞死亡</a:t>
                </a:r>
                <a:endParaRPr b="1" lang="en-US" sz="18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57" name="椭圆 53257"/>
              <p:cNvSpPr/>
              <p:nvPr/>
            </p:nvSpPr>
            <p:spPr>
              <a:xfrm>
                <a:off x="2514600" y="5105520"/>
                <a:ext cx="1295280" cy="68580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1932"/>
                    </a:solidFill>
                    <a:latin typeface="Times New Roman"/>
                  </a:rPr>
                  <a:t>细胞变异</a:t>
                </a:r>
                <a:endParaRPr b="1" lang="en-US" sz="18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58" name="椭圆 53258"/>
              <p:cNvSpPr/>
              <p:nvPr/>
            </p:nvSpPr>
            <p:spPr>
              <a:xfrm>
                <a:off x="4343400" y="2666880"/>
                <a:ext cx="1295280" cy="6858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1932"/>
                    </a:solidFill>
                    <a:latin typeface="Times New Roman"/>
                  </a:rPr>
                  <a:t>体细胞</a:t>
                </a:r>
                <a:endParaRPr b="1" lang="en-US" sz="18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59" name="椭圆 53259"/>
              <p:cNvSpPr/>
              <p:nvPr/>
            </p:nvSpPr>
            <p:spPr>
              <a:xfrm>
                <a:off x="4343400" y="3733920"/>
                <a:ext cx="1295280" cy="6858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1932"/>
                    </a:solidFill>
                    <a:latin typeface="Times New Roman"/>
                  </a:rPr>
                  <a:t>生殖细胞</a:t>
                </a:r>
                <a:endParaRPr b="1" lang="en-US" sz="18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60" name="椭圆 53260"/>
              <p:cNvSpPr/>
              <p:nvPr/>
            </p:nvSpPr>
            <p:spPr>
              <a:xfrm>
                <a:off x="4343400" y="4724280"/>
                <a:ext cx="1295280" cy="68580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1932"/>
                    </a:solidFill>
                    <a:latin typeface="Times New Roman"/>
                  </a:rPr>
                  <a:t>体细胞</a:t>
                </a:r>
                <a:endParaRPr b="1" lang="en-US" sz="18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61" name="椭圆 53261"/>
              <p:cNvSpPr/>
              <p:nvPr/>
            </p:nvSpPr>
            <p:spPr>
              <a:xfrm>
                <a:off x="4267080" y="5791320"/>
                <a:ext cx="1295640" cy="68580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1932"/>
                    </a:solidFill>
                    <a:latin typeface="Times New Roman"/>
                  </a:rPr>
                  <a:t>生殖细胞</a:t>
                </a:r>
                <a:endParaRPr b="1" lang="en-US" sz="18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62" name="十字形 53262"/>
              <p:cNvSpPr/>
              <p:nvPr/>
            </p:nvSpPr>
            <p:spPr>
              <a:xfrm>
                <a:off x="6248520" y="2590920"/>
                <a:ext cx="685800" cy="914400"/>
              </a:xfrm>
              <a:prstGeom prst="plus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6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1932"/>
                    </a:solidFill>
                    <a:latin typeface="Times New Roman"/>
                  </a:rPr>
                  <a:t>功能障碍</a:t>
                </a:r>
                <a:endParaRPr b="1" lang="en-US" sz="18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63" name="十字形 53263"/>
              <p:cNvSpPr/>
              <p:nvPr/>
            </p:nvSpPr>
            <p:spPr>
              <a:xfrm>
                <a:off x="6248520" y="3657600"/>
                <a:ext cx="685800" cy="914400"/>
              </a:xfrm>
              <a:prstGeom prst="plus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6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1932"/>
                    </a:solidFill>
                    <a:latin typeface="Times New Roman"/>
                  </a:rPr>
                  <a:t>不孕</a:t>
                </a:r>
                <a:endParaRPr b="1" lang="en-US" sz="18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64" name="十字形 53264"/>
              <p:cNvSpPr/>
              <p:nvPr/>
            </p:nvSpPr>
            <p:spPr>
              <a:xfrm>
                <a:off x="6248520" y="4648320"/>
                <a:ext cx="685800" cy="914400"/>
              </a:xfrm>
              <a:prstGeom prst="plus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1932"/>
                    </a:solidFill>
                    <a:latin typeface="Times New Roman"/>
                  </a:rPr>
                  <a:t>肿瘤</a:t>
                </a:r>
                <a:endParaRPr b="1" lang="en-US" sz="18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65" name="十字形 53265"/>
              <p:cNvSpPr/>
              <p:nvPr/>
            </p:nvSpPr>
            <p:spPr>
              <a:xfrm>
                <a:off x="6248520" y="5715000"/>
                <a:ext cx="685800" cy="914400"/>
              </a:xfrm>
              <a:prstGeom prst="plus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1932"/>
                    </a:solidFill>
                    <a:latin typeface="Times New Roman"/>
                  </a:rPr>
                  <a:t>遗传效应</a:t>
                </a:r>
                <a:endParaRPr b="1" lang="en-US" sz="18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66" name="十字形 53266"/>
              <p:cNvSpPr/>
              <p:nvPr/>
            </p:nvSpPr>
            <p:spPr>
              <a:xfrm>
                <a:off x="7391520" y="2819520"/>
                <a:ext cx="1752480" cy="1676160"/>
              </a:xfrm>
              <a:prstGeom prst="plus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6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1932"/>
                    </a:solidFill>
                    <a:latin typeface="Times New Roman"/>
                  </a:rPr>
                  <a:t>确定性效应</a:t>
                </a:r>
                <a:endParaRPr b="1" lang="en-US" sz="1800" spc="-1" strike="noStrike">
                  <a:solidFill>
                    <a:srgbClr val="cc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1932"/>
                    </a:solidFill>
                    <a:latin typeface="Times New Roman"/>
                  </a:rPr>
                  <a:t>多细胞死亡导致</a:t>
                </a:r>
                <a:endParaRPr b="1" lang="en-US" sz="18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67" name="十字形 53267"/>
              <p:cNvSpPr/>
              <p:nvPr/>
            </p:nvSpPr>
            <p:spPr>
              <a:xfrm>
                <a:off x="7238880" y="4952880"/>
                <a:ext cx="1905120" cy="1600200"/>
              </a:xfrm>
              <a:prstGeom prst="plus">
                <a:avLst>
                  <a:gd name="adj" fmla="val 25000"/>
                </a:avLst>
              </a:prstGeom>
              <a:gradFill rotWithShape="0">
                <a:gsLst>
                  <a:gs pos="0">
                    <a:srgbClr val="ffff66"/>
                  </a:gs>
                  <a:gs pos="100000">
                    <a:srgbClr val="ff99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1932"/>
                    </a:solidFill>
                    <a:latin typeface="Times New Roman"/>
                  </a:rPr>
                  <a:t>随机性效应</a:t>
                </a:r>
                <a:endParaRPr b="1" lang="en-US" sz="1800" spc="-1" strike="noStrike">
                  <a:solidFill>
                    <a:srgbClr val="cc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1932"/>
                    </a:solidFill>
                    <a:latin typeface="Times New Roman"/>
                  </a:rPr>
                  <a:t>单一细胞变异导致</a:t>
                </a:r>
                <a:endParaRPr b="1" lang="en-US" sz="18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68" name="太阳形 53268"/>
              <p:cNvSpPr/>
              <p:nvPr/>
            </p:nvSpPr>
            <p:spPr>
              <a:xfrm>
                <a:off x="914400" y="3657600"/>
                <a:ext cx="990720" cy="1371600"/>
              </a:xfrm>
              <a:prstGeom prst="sun">
                <a:avLst>
                  <a:gd name="adj" fmla="val 25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1932"/>
                    </a:solidFill>
                    <a:latin typeface="Times New Roman"/>
                  </a:rPr>
                  <a:t>DNA</a:t>
                </a:r>
                <a:r>
                  <a:rPr b="0" lang="zh-CN" sz="1800" spc="-1" strike="noStrike">
                    <a:solidFill>
                      <a:srgbClr val="001932"/>
                    </a:solidFill>
                    <a:latin typeface="Times New Roman"/>
                  </a:rPr>
                  <a:t>损伤</a:t>
                </a:r>
                <a:endParaRPr b="1" lang="en-US" sz="18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1981080" y="3809880"/>
                <a:ext cx="533520" cy="339840"/>
                <a:chOff x="1981080" y="3809880"/>
                <a:chExt cx="533520" cy="339840"/>
              </a:xfrm>
            </p:grpSpPr>
            <p:sp>
              <p:nvSpPr>
                <p:cNvPr id="270" name="直接连接符 53269"/>
                <p:cNvSpPr/>
                <p:nvPr/>
              </p:nvSpPr>
              <p:spPr>
                <a:xfrm flipV="1">
                  <a:off x="1981080" y="3809880"/>
                  <a:ext cx="533520" cy="3398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 rot="10800000">
                  <a:off x="1981080" y="3809880"/>
                  <a:ext cx="533520" cy="33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1905120" y="4683240"/>
                <a:ext cx="533160" cy="422280"/>
                <a:chOff x="1905120" y="4683240"/>
                <a:chExt cx="533160" cy="422280"/>
              </a:xfrm>
            </p:grpSpPr>
            <p:sp>
              <p:nvSpPr>
                <p:cNvPr id="273" name="直接连接符 53270"/>
                <p:cNvSpPr/>
                <p:nvPr/>
              </p:nvSpPr>
              <p:spPr>
                <a:xfrm>
                  <a:off x="1905120" y="4683240"/>
                  <a:ext cx="533160" cy="422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 txBox="1"/>
                <p:nvPr/>
              </p:nvSpPr>
              <p:spPr>
                <a:xfrm>
                  <a:off x="1905120" y="4683240"/>
                  <a:ext cx="53316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3886200" y="3123720"/>
                <a:ext cx="457200" cy="228600"/>
                <a:chOff x="3886200" y="3123720"/>
                <a:chExt cx="457200" cy="228600"/>
              </a:xfrm>
            </p:grpSpPr>
            <p:sp>
              <p:nvSpPr>
                <p:cNvPr id="276" name="直接连接符 53271"/>
                <p:cNvSpPr/>
                <p:nvPr/>
              </p:nvSpPr>
              <p:spPr>
                <a:xfrm flipV="1">
                  <a:off x="3886200" y="3123720"/>
                  <a:ext cx="457200" cy="22860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 txBox="1"/>
                <p:nvPr/>
              </p:nvSpPr>
              <p:spPr>
                <a:xfrm rot="10800000">
                  <a:off x="3886200" y="3123720"/>
                  <a:ext cx="4572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3962520" y="3657600"/>
                <a:ext cx="457200" cy="152280"/>
                <a:chOff x="3962520" y="3657600"/>
                <a:chExt cx="457200" cy="152280"/>
              </a:xfrm>
            </p:grpSpPr>
            <p:sp>
              <p:nvSpPr>
                <p:cNvPr id="279" name="直接连接符 53272"/>
                <p:cNvSpPr/>
                <p:nvPr/>
              </p:nvSpPr>
              <p:spPr>
                <a:xfrm>
                  <a:off x="3962520" y="3657600"/>
                  <a:ext cx="457200" cy="152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round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 txBox="1"/>
                <p:nvPr/>
              </p:nvSpPr>
              <p:spPr>
                <a:xfrm>
                  <a:off x="3962520" y="3657600"/>
                  <a:ext cx="45720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1" name="右箭头 53273"/>
              <p:cNvSpPr/>
              <p:nvPr/>
            </p:nvSpPr>
            <p:spPr>
              <a:xfrm>
                <a:off x="5638680" y="2819520"/>
                <a:ext cx="457200" cy="304560"/>
              </a:xfrm>
              <a:prstGeom prst="rightArrow">
                <a:avLst>
                  <a:gd name="adj1" fmla="val 50000"/>
                  <a:gd name="adj2" fmla="val 375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82" name="右箭头 53274"/>
              <p:cNvSpPr/>
              <p:nvPr/>
            </p:nvSpPr>
            <p:spPr>
              <a:xfrm>
                <a:off x="5715000" y="3962520"/>
                <a:ext cx="457200" cy="304560"/>
              </a:xfrm>
              <a:prstGeom prst="rightArrow">
                <a:avLst>
                  <a:gd name="adj1" fmla="val 50000"/>
                  <a:gd name="adj2" fmla="val 375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83" name="右箭头 53275"/>
              <p:cNvSpPr/>
              <p:nvPr/>
            </p:nvSpPr>
            <p:spPr>
              <a:xfrm>
                <a:off x="5715000" y="4876920"/>
                <a:ext cx="457200" cy="304560"/>
              </a:xfrm>
              <a:prstGeom prst="rightArrow">
                <a:avLst>
                  <a:gd name="adj1" fmla="val 50000"/>
                  <a:gd name="adj2" fmla="val 375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84" name="右箭头 53276"/>
              <p:cNvSpPr/>
              <p:nvPr/>
            </p:nvSpPr>
            <p:spPr>
              <a:xfrm>
                <a:off x="5715000" y="5943600"/>
                <a:ext cx="457200" cy="304920"/>
              </a:xfrm>
              <a:prstGeom prst="rightArrow">
                <a:avLst>
                  <a:gd name="adj1" fmla="val 50000"/>
                  <a:gd name="adj2" fmla="val 37485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85" name="文本框 53277"/>
              <p:cNvSpPr/>
              <p:nvPr/>
            </p:nvSpPr>
            <p:spPr>
              <a:xfrm>
                <a:off x="3429000" y="2055960"/>
                <a:ext cx="213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Times New Roman"/>
                  </a:rPr>
                  <a:t>细胞水平</a:t>
                </a:r>
                <a:endParaRPr b="1" lang="en-US" sz="28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86" name="文本框 53278"/>
              <p:cNvSpPr/>
              <p:nvPr/>
            </p:nvSpPr>
            <p:spPr>
              <a:xfrm>
                <a:off x="5791320" y="207036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Times New Roman"/>
                  </a:rPr>
                  <a:t>临床症状</a:t>
                </a:r>
                <a:endParaRPr b="1" lang="en-US" sz="28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  <p:sp>
            <p:nvSpPr>
              <p:cNvPr id="287" name="文本框 53279"/>
              <p:cNvSpPr/>
              <p:nvPr/>
            </p:nvSpPr>
            <p:spPr>
              <a:xfrm>
                <a:off x="7772400" y="205596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Times New Roman"/>
                  </a:rPr>
                  <a:t>效应</a:t>
                </a:r>
                <a:endParaRPr b="1" lang="en-US" sz="2800" spc="-1" strike="noStrike">
                  <a:solidFill>
                    <a:srgbClr val="cc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8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dur="indefinite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287280"/>
            <a:ext cx="81993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3.2</a:t>
            </a: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电离辐射所致生物效应的分类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90720" y="310356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躯体效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matic effec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定义：发生在受照者本人身上的效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文本框 5124"/>
          <p:cNvSpPr/>
          <p:nvPr/>
        </p:nvSpPr>
        <p:spPr>
          <a:xfrm>
            <a:off x="990720" y="19051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依据效应发生的个体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1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2" name="文本框 5125"/>
          <p:cNvSpPr/>
          <p:nvPr/>
        </p:nvSpPr>
        <p:spPr>
          <a:xfrm>
            <a:off x="990720" y="47052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遗传效应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reditary effect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定义：发生在受照者后代身上的效应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3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关于遗传效应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19320" y="2131920"/>
            <a:ext cx="77724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由生殖细胞的变异引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文本框 6148"/>
          <p:cNvSpPr/>
          <p:nvPr/>
        </p:nvSpPr>
        <p:spPr>
          <a:xfrm>
            <a:off x="1143000" y="32767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辐射照射引起的遗传效应没有特异性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7" name="文本框 6149"/>
          <p:cNvSpPr/>
          <p:nvPr/>
        </p:nvSpPr>
        <p:spPr>
          <a:xfrm>
            <a:off x="1219320" y="4343400"/>
            <a:ext cx="746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迄今没有人类资料肯定辐射所致遗传效应的发生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98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886200" cy="8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关于遗传效应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0" name="文本框 7171"/>
          <p:cNvSpPr/>
          <p:nvPr/>
        </p:nvSpPr>
        <p:spPr>
          <a:xfrm>
            <a:off x="1219320" y="2590920"/>
            <a:ext cx="6553080" cy="647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6666ff"/>
                </a:solidFill>
                <a:uFillTx/>
                <a:latin typeface="Times New Roman"/>
                <a:hlinkClick r:id="rId1"/>
              </a:rPr>
              <a:t>英国儿童白血病事件的起诉与败诉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1" name="文本框 7172"/>
          <p:cNvSpPr/>
          <p:nvPr/>
        </p:nvSpPr>
        <p:spPr>
          <a:xfrm>
            <a:off x="1219320" y="3886200"/>
            <a:ext cx="746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放射科医师后代的流行病学调查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英、美、日、中）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2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3.2</a:t>
            </a: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电离辐射所致生物效应的分类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90360" y="1915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依据效应发生的时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文本框 8195"/>
          <p:cNvSpPr/>
          <p:nvPr/>
        </p:nvSpPr>
        <p:spPr>
          <a:xfrm>
            <a:off x="914400" y="2654280"/>
            <a:ext cx="800100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潜伏期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tent period):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700" spc="-1" strike="noStrike">
                <a:solidFill>
                  <a:srgbClr val="ffffff"/>
                </a:solidFill>
                <a:latin typeface="Times New Roman"/>
              </a:rPr>
              <a:t>从受到照射到临床上特定效应的发生所需的时间</a:t>
            </a:r>
            <a:endParaRPr b="1" lang="en-US" sz="27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6" name="文本框 8196"/>
          <p:cNvSpPr/>
          <p:nvPr/>
        </p:nvSpPr>
        <p:spPr>
          <a:xfrm>
            <a:off x="990720" y="3933720"/>
            <a:ext cx="769608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早期效应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rly effect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受到照射后数周之内发生的效应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7" name="文本框 8197"/>
          <p:cNvSpPr/>
          <p:nvPr/>
        </p:nvSpPr>
        <p:spPr>
          <a:xfrm>
            <a:off x="990720" y="5257800"/>
            <a:ext cx="77724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晚发效应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te effect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受到照射后数月以后发生的效应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08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5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联机映像占位符 9222" descr="图8"/>
          <p:cNvPicPr/>
          <p:nvPr/>
        </p:nvPicPr>
        <p:blipFill>
          <a:blip r:embed="rId1"/>
          <a:stretch/>
        </p:blipFill>
        <p:spPr>
          <a:xfrm>
            <a:off x="5486400" y="274320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8960" y="41868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关于早期效应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18960" y="2057400"/>
            <a:ext cx="3809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日本核临界事故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99.09.3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333760" y="2044800"/>
            <a:ext cx="38098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事故发生时的位置图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文本框 9224"/>
          <p:cNvSpPr/>
          <p:nvPr/>
        </p:nvSpPr>
        <p:spPr>
          <a:xfrm>
            <a:off x="1295280" y="4952880"/>
            <a:ext cx="3657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氏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G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分钟后感觉麻木、呕吐、腹泻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4" name="文本框 9227"/>
          <p:cNvSpPr/>
          <p:nvPr/>
        </p:nvSpPr>
        <p:spPr>
          <a:xfrm>
            <a:off x="1219320" y="3352680"/>
            <a:ext cx="38862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氏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7G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：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意识丧失、呕吐、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腹泻、淋巴细胞数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5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关于晚期效应的潜伏期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7" name="文本框 28674"/>
          <p:cNvSpPr/>
          <p:nvPr/>
        </p:nvSpPr>
        <p:spPr>
          <a:xfrm>
            <a:off x="1905120" y="6248520"/>
            <a:ext cx="6095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18" name="文本框 28675"/>
          <p:cNvSpPr/>
          <p:nvPr/>
        </p:nvSpPr>
        <p:spPr>
          <a:xfrm>
            <a:off x="1066680" y="5867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日本原爆受害者肿瘤发生率随时间的变化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990720" y="5181480"/>
            <a:ext cx="7619760" cy="360"/>
            <a:chOff x="990720" y="5181480"/>
            <a:chExt cx="7619760" cy="360"/>
          </a:xfrm>
        </p:grpSpPr>
        <p:sp>
          <p:nvSpPr>
            <p:cNvPr id="320" name="直接连接符 28676"/>
            <p:cNvSpPr/>
            <p:nvPr/>
          </p:nvSpPr>
          <p:spPr>
            <a:xfrm>
              <a:off x="990720" y="5181480"/>
              <a:ext cx="7619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321" name=""/>
            <p:cNvSpPr txBox="1"/>
            <p:nvPr/>
          </p:nvSpPr>
          <p:spPr>
            <a:xfrm>
              <a:off x="990720" y="5181480"/>
              <a:ext cx="7619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pic>
        <p:nvPicPr>
          <p:cNvPr id="322" name="对象 28677" descr=""/>
          <p:cNvPicPr/>
          <p:nvPr/>
        </p:nvPicPr>
        <p:blipFill>
          <a:blip r:embed="rId1"/>
          <a:stretch/>
        </p:blipFill>
        <p:spPr>
          <a:xfrm>
            <a:off x="3352680" y="4089240"/>
            <a:ext cx="1297080" cy="1119240"/>
          </a:xfrm>
          <a:prstGeom prst="rect">
            <a:avLst/>
          </a:prstGeom>
          <a:ln w="0">
            <a:noFill/>
          </a:ln>
        </p:spPr>
      </p:pic>
      <p:grpSp>
        <p:nvGrpSpPr>
          <p:cNvPr id="323" name="组合 28678"/>
          <p:cNvGrpSpPr/>
          <p:nvPr/>
        </p:nvGrpSpPr>
        <p:grpSpPr>
          <a:xfrm>
            <a:off x="2514600" y="2286000"/>
            <a:ext cx="6095880" cy="2895480"/>
            <a:chOff x="2514600" y="2286000"/>
            <a:chExt cx="6095880" cy="2895480"/>
          </a:xfrm>
        </p:grpSpPr>
        <p:sp>
          <p:nvSpPr>
            <p:cNvPr id="324" name="任意多边形 28679"/>
            <p:cNvSpPr/>
            <p:nvPr/>
          </p:nvSpPr>
          <p:spPr>
            <a:xfrm>
              <a:off x="2514600" y="3619440"/>
              <a:ext cx="6095880" cy="1562040"/>
            </a:xfrm>
            <a:custGeom>
              <a:avLst/>
              <a:gdLst/>
              <a:ahLst/>
              <a:rect l="l" t="t" r="r" b="b"/>
              <a:pathLst>
                <a:path w="3840" h="984">
                  <a:moveTo>
                    <a:pt x="0" y="984"/>
                  </a:moveTo>
                  <a:cubicBezTo>
                    <a:pt x="68" y="564"/>
                    <a:pt x="136" y="144"/>
                    <a:pt x="336" y="72"/>
                  </a:cubicBezTo>
                  <a:cubicBezTo>
                    <a:pt x="536" y="0"/>
                    <a:pt x="824" y="424"/>
                    <a:pt x="1200" y="552"/>
                  </a:cubicBezTo>
                  <a:cubicBezTo>
                    <a:pt x="1576" y="680"/>
                    <a:pt x="2152" y="784"/>
                    <a:pt x="2592" y="840"/>
                  </a:cubicBezTo>
                  <a:cubicBezTo>
                    <a:pt x="3032" y="896"/>
                    <a:pt x="3624" y="880"/>
                    <a:pt x="3840" y="888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325" name="任意多边形 28680"/>
            <p:cNvSpPr/>
            <p:nvPr/>
          </p:nvSpPr>
          <p:spPr>
            <a:xfrm>
              <a:off x="3581280" y="2286000"/>
              <a:ext cx="5029200" cy="2895480"/>
            </a:xfrm>
            <a:custGeom>
              <a:avLst/>
              <a:gdLst/>
              <a:ahLst/>
              <a:rect l="l" t="t" r="r" b="b"/>
              <a:pathLst>
                <a:path w="2832" h="1744">
                  <a:moveTo>
                    <a:pt x="0" y="1744"/>
                  </a:moveTo>
                  <a:cubicBezTo>
                    <a:pt x="448" y="1544"/>
                    <a:pt x="896" y="1344"/>
                    <a:pt x="1200" y="1120"/>
                  </a:cubicBezTo>
                  <a:cubicBezTo>
                    <a:pt x="1504" y="896"/>
                    <a:pt x="1648" y="576"/>
                    <a:pt x="1824" y="400"/>
                  </a:cubicBezTo>
                  <a:cubicBezTo>
                    <a:pt x="2000" y="224"/>
                    <a:pt x="2088" y="128"/>
                    <a:pt x="2256" y="64"/>
                  </a:cubicBezTo>
                  <a:cubicBezTo>
                    <a:pt x="2424" y="0"/>
                    <a:pt x="2736" y="24"/>
                    <a:pt x="2832" y="16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sp>
        <p:nvSpPr>
          <p:cNvPr id="326" name="文本框 28681"/>
          <p:cNvSpPr/>
          <p:nvPr/>
        </p:nvSpPr>
        <p:spPr>
          <a:xfrm>
            <a:off x="1752480" y="5105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7" name="文本框 28682"/>
          <p:cNvSpPr/>
          <p:nvPr/>
        </p:nvSpPr>
        <p:spPr>
          <a:xfrm>
            <a:off x="3124080" y="51055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8" name="文本框 28683"/>
          <p:cNvSpPr/>
          <p:nvPr/>
        </p:nvSpPr>
        <p:spPr>
          <a:xfrm>
            <a:off x="4800600" y="5105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29" name="文本框 28684"/>
          <p:cNvSpPr/>
          <p:nvPr/>
        </p:nvSpPr>
        <p:spPr>
          <a:xfrm>
            <a:off x="6400800" y="51055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0" name="文本框 28685"/>
          <p:cNvSpPr/>
          <p:nvPr/>
        </p:nvSpPr>
        <p:spPr>
          <a:xfrm>
            <a:off x="7924680" y="51055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1" name="文本框 28686"/>
          <p:cNvSpPr/>
          <p:nvPr/>
        </p:nvSpPr>
        <p:spPr>
          <a:xfrm>
            <a:off x="2590920" y="3276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白血病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2" name="文本框 28687"/>
          <p:cNvSpPr/>
          <p:nvPr/>
        </p:nvSpPr>
        <p:spPr>
          <a:xfrm>
            <a:off x="4495680" y="20574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白血病之外的肿瘤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3" name="文本框 28688"/>
          <p:cNvSpPr/>
          <p:nvPr/>
        </p:nvSpPr>
        <p:spPr>
          <a:xfrm>
            <a:off x="2209680" y="5105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334" name="组合 28689"/>
          <p:cNvGrpSpPr/>
          <p:nvPr/>
        </p:nvGrpSpPr>
        <p:grpSpPr>
          <a:xfrm>
            <a:off x="1066680" y="3657600"/>
            <a:ext cx="1524240" cy="1523880"/>
            <a:chOff x="1066680" y="3657600"/>
            <a:chExt cx="1524240" cy="1523880"/>
          </a:xfrm>
        </p:grpSpPr>
        <p:sp>
          <p:nvSpPr>
            <p:cNvPr id="335" name="流程图: 合并 28690"/>
            <p:cNvSpPr/>
            <p:nvPr/>
          </p:nvSpPr>
          <p:spPr>
            <a:xfrm>
              <a:off x="1600200" y="4495680"/>
              <a:ext cx="685800" cy="685800"/>
            </a:xfrm>
            <a:prstGeom prst="flowChartMerg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336" name="Cloud"/>
            <p:cNvSpPr/>
            <p:nvPr/>
          </p:nvSpPr>
          <p:spPr>
            <a:xfrm>
              <a:off x="1066680" y="3657600"/>
              <a:ext cx="1524240" cy="1020600"/>
            </a:xfrm>
            <a:custGeom>
              <a:avLst/>
              <a:gdLst/>
              <a:ahLst/>
              <a:rect l="l" t="t" r="r" b="b"/>
              <a:pathLst>
                <a:path w="21631" h="21614">
                  <a:moveTo>
                    <a:pt x="1950" y="7185"/>
                  </a:moveTo>
                  <a:cubicBezTo>
                    <a:pt x="854" y="7337"/>
                    <a:pt x="-1" y="8603"/>
                    <a:pt x="-1" y="10142"/>
                  </a:cubicBezTo>
                  <a:cubicBezTo>
                    <a:pt x="-1" y="11236"/>
                    <a:pt x="431" y="12192"/>
                    <a:pt x="1074" y="12708"/>
                  </a:cubicBezTo>
                  <a:cubicBezTo>
                    <a:pt x="709" y="13237"/>
                    <a:pt x="486" y="13948"/>
                    <a:pt x="486" y="14730"/>
                  </a:cubicBezTo>
                  <a:cubicBezTo>
                    <a:pt x="486" y="16364"/>
                    <a:pt x="1462" y="17689"/>
                    <a:pt x="2666" y="17689"/>
                  </a:cubicBezTo>
                  <a:cubicBezTo>
                    <a:pt x="2752" y="17689"/>
                    <a:pt x="2837" y="17682"/>
                    <a:pt x="2921" y="17669"/>
                  </a:cubicBezTo>
                  <a:cubicBezTo>
                    <a:pt x="3587" y="19254"/>
                    <a:pt x="4837" y="20320"/>
                    <a:pt x="6270" y="20320"/>
                  </a:cubicBezTo>
                  <a:cubicBezTo>
                    <a:pt x="6998" y="20320"/>
                    <a:pt x="7678" y="20045"/>
                    <a:pt x="8259" y="19567"/>
                  </a:cubicBezTo>
                  <a:cubicBezTo>
                    <a:pt x="8865" y="20802"/>
                    <a:pt x="9896" y="21614"/>
                    <a:pt x="11066" y="21614"/>
                  </a:cubicBezTo>
                  <a:cubicBezTo>
                    <a:pt x="12590" y="21614"/>
                    <a:pt x="13878" y="20236"/>
                    <a:pt x="14298" y="18343"/>
                  </a:cubicBezTo>
                  <a:cubicBezTo>
                    <a:pt x="14741" y="18721"/>
                    <a:pt x="15266" y="18939"/>
                    <a:pt x="15829" y="18939"/>
                  </a:cubicBezTo>
                  <a:cubicBezTo>
                    <a:pt x="17419" y="18939"/>
                    <a:pt x="18709" y="17195"/>
                    <a:pt x="18722" y="15037"/>
                  </a:cubicBezTo>
                  <a:cubicBezTo>
                    <a:pt x="20367" y="14720"/>
                    <a:pt x="21630" y="12798"/>
                    <a:pt x="21630" y="10474"/>
                  </a:cubicBezTo>
                  <a:cubicBezTo>
                    <a:pt x="21630" y="9417"/>
                    <a:pt x="21369" y="8443"/>
                    <a:pt x="20929" y="7666"/>
                  </a:cubicBezTo>
                  <a:cubicBezTo>
                    <a:pt x="21068" y="7226"/>
                    <a:pt x="21145" y="6741"/>
                    <a:pt x="21145" y="6232"/>
                  </a:cubicBezTo>
                  <a:cubicBezTo>
                    <a:pt x="21145" y="4555"/>
                    <a:pt x="20312" y="3142"/>
                    <a:pt x="19180" y="2722"/>
                  </a:cubicBezTo>
                  <a:cubicBezTo>
                    <a:pt x="18976" y="1178"/>
                    <a:pt x="17983" y="8"/>
                    <a:pt x="16789" y="8"/>
                  </a:cubicBezTo>
                  <a:cubicBezTo>
                    <a:pt x="16046" y="8"/>
                    <a:pt x="15382" y="460"/>
                    <a:pt x="14936" y="1173"/>
                  </a:cubicBezTo>
                  <a:cubicBezTo>
                    <a:pt x="14537" y="461"/>
                    <a:pt x="13908" y="2"/>
                    <a:pt x="13200" y="2"/>
                  </a:cubicBezTo>
                  <a:cubicBezTo>
                    <a:pt x="12345" y="2"/>
                    <a:pt x="11604" y="672"/>
                    <a:pt x="11246" y="1647"/>
                  </a:cubicBezTo>
                  <a:cubicBezTo>
                    <a:pt x="10765" y="1001"/>
                    <a:pt x="10104" y="602"/>
                    <a:pt x="9375" y="602"/>
                  </a:cubicBezTo>
                  <a:cubicBezTo>
                    <a:pt x="8354" y="602"/>
                    <a:pt x="7468" y="1383"/>
                    <a:pt x="7019" y="2531"/>
                  </a:cubicBezTo>
                  <a:cubicBezTo>
                    <a:pt x="6519" y="2130"/>
                    <a:pt x="5935" y="1900"/>
                    <a:pt x="5312" y="1900"/>
                  </a:cubicBezTo>
                  <a:cubicBezTo>
                    <a:pt x="3447" y="1900"/>
                    <a:pt x="1935" y="3957"/>
                    <a:pt x="1935" y="6495"/>
                  </a:cubicBezTo>
                  <a:cubicBezTo>
                    <a:pt x="1935" y="6706"/>
                    <a:pt x="1945" y="6913"/>
                    <a:pt x="1966" y="7117"/>
                  </a:cubicBezTo>
                  <a:close/>
                </a:path>
                <a:path fill="none" w="21631" h="21614">
                  <a:moveTo>
                    <a:pt x="1080" y="12690"/>
                  </a:moveTo>
                  <a:cubicBezTo>
                    <a:pt x="1402" y="12949"/>
                    <a:pt x="1778" y="13097"/>
                    <a:pt x="2178" y="13097"/>
                  </a:cubicBezTo>
                  <a:cubicBezTo>
                    <a:pt x="2235" y="13097"/>
                    <a:pt x="2292" y="13094"/>
                    <a:pt x="2348" y="13088"/>
                  </a:cubicBezTo>
                </a:path>
                <a:path fill="none" w="21631" h="21614">
                  <a:moveTo>
                    <a:pt x="2910" y="17640"/>
                  </a:moveTo>
                  <a:cubicBezTo>
                    <a:pt x="3105" y="17609"/>
                    <a:pt x="3290" y="17544"/>
                    <a:pt x="3465" y="17450"/>
                  </a:cubicBezTo>
                </a:path>
                <a:path fill="none" w="21631" h="21614">
                  <a:moveTo>
                    <a:pt x="7905" y="18675"/>
                  </a:moveTo>
                  <a:cubicBezTo>
                    <a:pt x="7993" y="18984"/>
                    <a:pt x="8105" y="19275"/>
                    <a:pt x="8238" y="19546"/>
                  </a:cubicBezTo>
                </a:path>
                <a:path fill="none" w="21631" h="21614">
                  <a:moveTo>
                    <a:pt x="14280" y="18330"/>
                  </a:moveTo>
                  <a:cubicBezTo>
                    <a:pt x="14349" y="18025"/>
                    <a:pt x="14394" y="17705"/>
                    <a:pt x="14414" y="17375"/>
                  </a:cubicBezTo>
                </a:path>
                <a:path fill="none" w="21631" h="21614">
                  <a:moveTo>
                    <a:pt x="18690" y="15045"/>
                  </a:moveTo>
                  <a:cubicBezTo>
                    <a:pt x="18690" y="15034"/>
                    <a:pt x="18690" y="15024"/>
                    <a:pt x="18690" y="15013"/>
                  </a:cubicBezTo>
                  <a:cubicBezTo>
                    <a:pt x="18690" y="13459"/>
                    <a:pt x="18027" y="12115"/>
                    <a:pt x="17065" y="11476"/>
                  </a:cubicBezTo>
                </a:path>
                <a:path fill="none" w="21631" h="21614">
                  <a:moveTo>
                    <a:pt x="20175" y="9015"/>
                  </a:moveTo>
                  <a:cubicBezTo>
                    <a:pt x="20486" y="8654"/>
                    <a:pt x="20736" y="8197"/>
                    <a:pt x="20900" y="7678"/>
                  </a:cubicBezTo>
                </a:path>
                <a:path fill="none" w="21631" h="21614">
                  <a:moveTo>
                    <a:pt x="19200" y="3345"/>
                  </a:moveTo>
                  <a:cubicBezTo>
                    <a:pt x="19200" y="3329"/>
                    <a:pt x="19200" y="3313"/>
                    <a:pt x="19200" y="3297"/>
                  </a:cubicBezTo>
                  <a:cubicBezTo>
                    <a:pt x="19200" y="3097"/>
                    <a:pt x="19187" y="2901"/>
                    <a:pt x="19162" y="2711"/>
                  </a:cubicBezTo>
                </a:path>
                <a:path fill="none" w="21631" h="21614">
                  <a:moveTo>
                    <a:pt x="14910" y="1170"/>
                  </a:moveTo>
                  <a:cubicBezTo>
                    <a:pt x="14759" y="1412"/>
                    <a:pt x="14634" y="1683"/>
                    <a:pt x="14539" y="1976"/>
                  </a:cubicBezTo>
                </a:path>
                <a:path fill="none" w="21631" h="21614">
                  <a:moveTo>
                    <a:pt x="11250" y="1665"/>
                  </a:moveTo>
                  <a:cubicBezTo>
                    <a:pt x="11169" y="1882"/>
                    <a:pt x="11108" y="2115"/>
                    <a:pt x="11069" y="2360"/>
                  </a:cubicBezTo>
                </a:path>
                <a:path fill="none" w="21631" h="21614">
                  <a:moveTo>
                    <a:pt x="7650" y="3270"/>
                  </a:moveTo>
                  <a:cubicBezTo>
                    <a:pt x="7455" y="3011"/>
                    <a:pt x="7237" y="2784"/>
                    <a:pt x="7001" y="2595"/>
                  </a:cubicBezTo>
                </a:path>
                <a:path fill="none" w="21631" h="21614">
                  <a:moveTo>
                    <a:pt x="1950" y="7185"/>
                  </a:moveTo>
                  <a:cubicBezTo>
                    <a:pt x="1974" y="7430"/>
                    <a:pt x="2012" y="7667"/>
                    <a:pt x="2063" y="7896"/>
                  </a:cubicBezTo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sp>
        <p:nvSpPr>
          <p:cNvPr id="337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419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imes New Roman"/>
              </a:rPr>
              <a:t>3.2</a:t>
            </a: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电离辐射所致生物效应的分类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28490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确定性效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deterministic effects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76560" y="2773440"/>
            <a:ext cx="4267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随机性效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stochastic effec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文本框 11271"/>
          <p:cNvSpPr/>
          <p:nvPr/>
        </p:nvSpPr>
        <p:spPr>
          <a:xfrm>
            <a:off x="2362320" y="19350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依据效应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剂量关系分类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2" name="文本框 11276"/>
          <p:cNvSpPr/>
          <p:nvPr/>
        </p:nvSpPr>
        <p:spPr>
          <a:xfrm>
            <a:off x="1143000" y="414504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7c8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剂量阈值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3" name="文本框 11277"/>
          <p:cNvSpPr/>
          <p:nvPr/>
        </p:nvSpPr>
        <p:spPr>
          <a:xfrm>
            <a:off x="4724280" y="39924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7c8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无剂量阈值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4" name="文本框 11278"/>
          <p:cNvSpPr/>
          <p:nvPr/>
        </p:nvSpPr>
        <p:spPr>
          <a:xfrm>
            <a:off x="1143000" y="4906800"/>
            <a:ext cx="3657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7c8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效应的严重程度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与剂量成正比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5" name="文本框 11279"/>
          <p:cNvSpPr/>
          <p:nvPr/>
        </p:nvSpPr>
        <p:spPr>
          <a:xfrm>
            <a:off x="4724280" y="46782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7c8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发生几率与剂量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成正比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6" name="文本框 11280"/>
          <p:cNvSpPr/>
          <p:nvPr/>
        </p:nvSpPr>
        <p:spPr>
          <a:xfrm>
            <a:off x="4800600" y="57452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7c8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严重程度与剂量无关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47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dur="indefinite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500"/>
                            </p:stCondLst>
                            <p:childTnLst>
                              <p:par>
                                <p:cTn id="352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Times New Roman"/>
              </a:rPr>
              <a:t>确定性效应与随机性效应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447920" y="3276360"/>
            <a:ext cx="3047760" cy="2376360"/>
            <a:chOff x="1447920" y="3276360"/>
            <a:chExt cx="3047760" cy="2376360"/>
          </a:xfrm>
        </p:grpSpPr>
        <p:sp>
          <p:nvSpPr>
            <p:cNvPr id="350" name="直接连接符 13321"/>
            <p:cNvSpPr/>
            <p:nvPr/>
          </p:nvSpPr>
          <p:spPr>
            <a:xfrm flipV="1">
              <a:off x="1447920" y="3276360"/>
              <a:ext cx="3047760" cy="237636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 rot="10800000">
              <a:off x="1447920" y="3276360"/>
              <a:ext cx="3047760" cy="23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445760" y="2665080"/>
            <a:ext cx="360" cy="2973240"/>
            <a:chOff x="1445760" y="2665080"/>
            <a:chExt cx="360" cy="2973240"/>
          </a:xfrm>
        </p:grpSpPr>
        <p:sp>
          <p:nvSpPr>
            <p:cNvPr id="353" name="直接连接符 13326"/>
            <p:cNvSpPr/>
            <p:nvPr/>
          </p:nvSpPr>
          <p:spPr>
            <a:xfrm flipV="1">
              <a:off x="1446120" y="2665080"/>
              <a:ext cx="0" cy="29732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 rot="10800000">
              <a:off x="1445760" y="2665080"/>
              <a:ext cx="360" cy="297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447920" y="5638680"/>
            <a:ext cx="3047760" cy="360"/>
            <a:chOff x="1447920" y="5638680"/>
            <a:chExt cx="3047760" cy="360"/>
          </a:xfrm>
        </p:grpSpPr>
        <p:sp>
          <p:nvSpPr>
            <p:cNvPr id="356" name="直接连接符 13327"/>
            <p:cNvSpPr/>
            <p:nvPr/>
          </p:nvSpPr>
          <p:spPr>
            <a:xfrm>
              <a:off x="1447920" y="5638680"/>
              <a:ext cx="30477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1447920" y="5638680"/>
              <a:ext cx="304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334120" y="5715000"/>
            <a:ext cx="3047760" cy="360"/>
            <a:chOff x="5334120" y="5715000"/>
            <a:chExt cx="3047760" cy="360"/>
          </a:xfrm>
        </p:grpSpPr>
        <p:sp>
          <p:nvSpPr>
            <p:cNvPr id="359" name="直接连接符 13331"/>
            <p:cNvSpPr/>
            <p:nvPr/>
          </p:nvSpPr>
          <p:spPr>
            <a:xfrm>
              <a:off x="5334120" y="5715000"/>
              <a:ext cx="30477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5334120" y="5715000"/>
              <a:ext cx="3047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333760" y="2742840"/>
            <a:ext cx="360" cy="2973240"/>
            <a:chOff x="5333760" y="2742840"/>
            <a:chExt cx="360" cy="2973240"/>
          </a:xfrm>
        </p:grpSpPr>
        <p:sp>
          <p:nvSpPr>
            <p:cNvPr id="362" name="直接连接符 13332"/>
            <p:cNvSpPr/>
            <p:nvPr/>
          </p:nvSpPr>
          <p:spPr>
            <a:xfrm flipV="1">
              <a:off x="5334120" y="2742840"/>
              <a:ext cx="0" cy="29732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 rot="10800000">
              <a:off x="5333760" y="2742840"/>
              <a:ext cx="360" cy="297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6095520" y="3200040"/>
            <a:ext cx="1452960" cy="2514600"/>
            <a:chOff x="6095520" y="3200040"/>
            <a:chExt cx="1452960" cy="2514600"/>
          </a:xfrm>
        </p:grpSpPr>
        <p:sp>
          <p:nvSpPr>
            <p:cNvPr id="365" name="直接连接符 13333"/>
            <p:cNvSpPr/>
            <p:nvPr/>
          </p:nvSpPr>
          <p:spPr>
            <a:xfrm flipV="1">
              <a:off x="6095880" y="3200040"/>
              <a:ext cx="1452600" cy="25146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 rot="10800000">
              <a:off x="6095520" y="3200040"/>
              <a:ext cx="145260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sp>
        <p:nvSpPr>
          <p:cNvPr id="367" name="文本框 13334"/>
          <p:cNvSpPr/>
          <p:nvPr/>
        </p:nvSpPr>
        <p:spPr>
          <a:xfrm>
            <a:off x="1905120" y="5867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Impact"/>
              </a:rPr>
              <a:t>剂量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8" name="文本框 13335"/>
          <p:cNvSpPr/>
          <p:nvPr/>
        </p:nvSpPr>
        <p:spPr>
          <a:xfrm>
            <a:off x="6705720" y="59436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Impact"/>
              </a:rPr>
              <a:t>剂量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69" name="文本框 13336"/>
          <p:cNvSpPr/>
          <p:nvPr/>
        </p:nvSpPr>
        <p:spPr>
          <a:xfrm>
            <a:off x="764640" y="3124080"/>
            <a:ext cx="606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Impact"/>
              </a:rPr>
              <a:t>几率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0" name="文本框 13337"/>
          <p:cNvSpPr/>
          <p:nvPr/>
        </p:nvSpPr>
        <p:spPr>
          <a:xfrm>
            <a:off x="4224240" y="3276720"/>
            <a:ext cx="1033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Impact"/>
              </a:rPr>
              <a:t>严重程度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1" name="上箭头标注 13338"/>
          <p:cNvSpPr/>
          <p:nvPr/>
        </p:nvSpPr>
        <p:spPr>
          <a:xfrm>
            <a:off x="5715000" y="5715000"/>
            <a:ext cx="762120" cy="838080"/>
          </a:xfrm>
          <a:prstGeom prst="upArrowCallout">
            <a:avLst>
              <a:gd name="adj1" fmla="val 25002"/>
              <a:gd name="adj2" fmla="val 25000"/>
              <a:gd name="adj3" fmla="val 18323"/>
              <a:gd name="adj4" fmla="val 66660"/>
            </a:avLst>
          </a:prstGeom>
          <a:solidFill>
            <a:srgbClr val="99cc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Impact"/>
              </a:rPr>
              <a:t>阈值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2" name="文本框 13339"/>
          <p:cNvSpPr/>
          <p:nvPr/>
        </p:nvSpPr>
        <p:spPr>
          <a:xfrm>
            <a:off x="1828800" y="2514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Impact"/>
              </a:rPr>
              <a:t>随机性效应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3" name="文本框 13342"/>
          <p:cNvSpPr/>
          <p:nvPr/>
        </p:nvSpPr>
        <p:spPr>
          <a:xfrm>
            <a:off x="5562720" y="2438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Impact"/>
              </a:rPr>
              <a:t>确定性效应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4" name="矩形 13344"/>
          <p:cNvSpPr txBox="1"/>
          <p:nvPr/>
        </p:nvSpPr>
        <p:spPr>
          <a:xfrm rot="5400000">
            <a:off x="875880" y="5829120"/>
            <a:ext cx="685800" cy="304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75" name="椭圆 13345"/>
          <p:cNvSpPr/>
          <p:nvPr/>
        </p:nvSpPr>
        <p:spPr>
          <a:xfrm>
            <a:off x="1219320" y="5334120"/>
            <a:ext cx="838080" cy="45720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6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dur="indefinite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ace0"/>
            </a:gs>
            <a:gs pos="100000">
              <a:srgbClr val="ff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3.3 </a:t>
            </a: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确定性效应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040" y="2044440"/>
            <a:ext cx="8077320" cy="22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3.1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Times New Roman"/>
              </a:rPr>
              <a:t>急性放射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定义：人体一次或短时间内分次受到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剂量照射引起的全身性疾患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外照射：＞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基本生物学概念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:    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DNA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0" name="文本框 63492"/>
          <p:cNvSpPr/>
          <p:nvPr/>
        </p:nvSpPr>
        <p:spPr>
          <a:xfrm>
            <a:off x="5535720" y="3349440"/>
            <a:ext cx="3429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Times New Roman"/>
              </a:rPr>
              <a:t>硷基对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A-T</a:t>
            </a:r>
            <a:r>
              <a:rPr b="1" lang="zh-CN" sz="3600" spc="-1" strike="noStrike">
                <a:solidFill>
                  <a:srgbClr val="ccffff"/>
                </a:solidFill>
                <a:latin typeface="Times New Roman"/>
              </a:rPr>
              <a:t>；</a:t>
            </a:r>
            <a:r>
              <a:rPr b="1" lang="en-US" sz="3600" spc="-1" strike="noStrike">
                <a:solidFill>
                  <a:srgbClr val="ccffff"/>
                </a:solidFill>
                <a:latin typeface="Times New Roman"/>
              </a:rPr>
              <a:t>C-G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ff"/>
                </a:solidFill>
                <a:latin typeface="Times New Roman"/>
              </a:rPr>
              <a:t>无穷的排列方式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181" name="组合 63496"/>
          <p:cNvGrpSpPr/>
          <p:nvPr/>
        </p:nvGrpSpPr>
        <p:grpSpPr>
          <a:xfrm>
            <a:off x="1871640" y="1913760"/>
            <a:ext cx="5594040" cy="4944240"/>
            <a:chOff x="1871640" y="1913760"/>
            <a:chExt cx="5594040" cy="4944240"/>
          </a:xfrm>
        </p:grpSpPr>
        <p:pic>
          <p:nvPicPr>
            <p:cNvPr id="182" name="对象 63491" descr=""/>
            <p:cNvPicPr/>
            <p:nvPr/>
          </p:nvPicPr>
          <p:blipFill>
            <a:blip r:embed="rId1"/>
            <a:stretch/>
          </p:blipFill>
          <p:spPr>
            <a:xfrm>
              <a:off x="1871640" y="2514600"/>
              <a:ext cx="327672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矩形 63493"/>
            <p:cNvSpPr/>
            <p:nvPr/>
          </p:nvSpPr>
          <p:spPr>
            <a:xfrm>
              <a:off x="2255760" y="1913760"/>
              <a:ext cx="5209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Impact"/>
                </a:rPr>
                <a:t>由两条螺旋状排列的核苷酸链组成</a:t>
              </a: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sp>
        <p:nvSpPr>
          <p:cNvPr id="184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ace0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Times New Roman"/>
              </a:rPr>
              <a:t>急性放射病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209680"/>
            <a:ext cx="777240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宋体"/>
              </a:rPr>
              <a:t>临床特点</a:t>
            </a:r>
            <a:r>
              <a:rPr b="1" lang="en-US" sz="3200" spc="-1" strike="noStrike">
                <a:solidFill>
                  <a:srgbClr val="ccffff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ccffff"/>
                </a:solidFill>
                <a:latin typeface="宋体"/>
              </a:rPr>
              <a:t>损伤范围广</a:t>
            </a:r>
            <a:r>
              <a:rPr b="0" lang="en-US" sz="3200" spc="-1" strike="noStrike">
                <a:solidFill>
                  <a:srgbClr val="ccffff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ccffff"/>
                </a:solidFill>
                <a:latin typeface="宋体"/>
              </a:rPr>
              <a:t>波及机体所有组织和器官</a:t>
            </a:r>
            <a:r>
              <a:rPr b="0" lang="en-US" sz="3200" spc="-1" strike="noStrike">
                <a:solidFill>
                  <a:srgbClr val="ccffff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ccffff"/>
                </a:solidFill>
                <a:latin typeface="宋体"/>
              </a:rPr>
              <a:t>表现为复杂的临床症状和体症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ccffff"/>
                </a:solidFill>
                <a:latin typeface="宋体"/>
              </a:rPr>
              <a:t>主要损伤器官的变化</a:t>
            </a:r>
            <a:r>
              <a:rPr b="0" lang="en-US" sz="3200" spc="-1" strike="noStrike">
                <a:solidFill>
                  <a:srgbClr val="ccffff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ccffff"/>
                </a:solidFill>
                <a:latin typeface="宋体"/>
              </a:rPr>
              <a:t>可决定和影响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ccffff"/>
                </a:solidFill>
                <a:latin typeface="宋体"/>
              </a:rPr>
              <a:t>情的发展和预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宋体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宋体"/>
              </a:rPr>
              <a:t>在一定照射剂量范围内</a:t>
            </a:r>
            <a:r>
              <a:rPr b="0" lang="en-US" sz="3200" spc="-1" strike="noStrike">
                <a:solidFill>
                  <a:srgbClr val="ccffff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ccffff"/>
                </a:solidFill>
                <a:latin typeface="宋体"/>
              </a:rPr>
              <a:t>机体有自动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ccffff"/>
                </a:solidFill>
                <a:latin typeface="宋体"/>
              </a:rPr>
              <a:t>复的潜力</a:t>
            </a:r>
            <a:r>
              <a:rPr b="0" lang="en-US" sz="3200" spc="-1" strike="noStrike">
                <a:solidFill>
                  <a:srgbClr val="ccffff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Times New Roman"/>
              </a:rPr>
              <a:t>急性放射病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症状与剂量的关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523880" y="2590920"/>
          <a:ext cx="6095880" cy="4267080"/>
        </p:xfrm>
        <a:graphic>
          <a:graphicData uri="http://schemas.openxmlformats.org/drawingml/2006/table">
            <a:tbl>
              <a:tblPr/>
              <a:tblGrid>
                <a:gridCol w="1905120"/>
                <a:gridCol w="4190760"/>
              </a:tblGrid>
              <a:tr h="53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剂量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Gy)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           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症                 状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3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0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5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5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-10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染色体变化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末梢血中淋巴细胞减少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%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的人恶心，呕吐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死亡阈值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D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50/60</a:t>
                      </a:r>
                      <a:r>
                        <a:rPr b="0" lang="zh-CN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天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造血器官死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D</a:t>
                      </a:r>
                      <a:r>
                        <a:rPr b="0" lang="en-US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00/60</a:t>
                      </a:r>
                      <a:r>
                        <a:rPr b="0" lang="zh-CN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天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消化器官死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Times New Roman"/>
              </a:rPr>
              <a:t>急性放射病分类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388" name="组合 34869"/>
          <p:cNvGrpSpPr/>
          <p:nvPr/>
        </p:nvGrpSpPr>
        <p:grpSpPr>
          <a:xfrm>
            <a:off x="762120" y="2057400"/>
            <a:ext cx="7924320" cy="4800240"/>
            <a:chOff x="762120" y="2057400"/>
            <a:chExt cx="7924320" cy="4800240"/>
          </a:xfrm>
        </p:grpSpPr>
        <p:grpSp>
          <p:nvGrpSpPr>
            <p:cNvPr id="389" name="组合 34867"/>
            <p:cNvGrpSpPr/>
            <p:nvPr/>
          </p:nvGrpSpPr>
          <p:grpSpPr>
            <a:xfrm>
              <a:off x="768960" y="2066400"/>
              <a:ext cx="7909200" cy="4780080"/>
              <a:chOff x="768960" y="2066400"/>
              <a:chExt cx="7909200" cy="4780080"/>
            </a:xfrm>
          </p:grpSpPr>
          <p:grpSp>
            <p:nvGrpSpPr>
              <p:cNvPr id="390" name="组合 34836"/>
              <p:cNvGrpSpPr/>
              <p:nvPr/>
            </p:nvGrpSpPr>
            <p:grpSpPr>
              <a:xfrm>
                <a:off x="768960" y="2066400"/>
                <a:ext cx="1732680" cy="1194480"/>
                <a:chOff x="768960" y="2066400"/>
                <a:chExt cx="1732680" cy="1194480"/>
              </a:xfrm>
            </p:grpSpPr>
            <p:sp>
              <p:nvSpPr>
                <p:cNvPr id="391" name="矩形 34819"/>
                <p:cNvSpPr/>
                <p:nvPr/>
              </p:nvSpPr>
              <p:spPr>
                <a:xfrm>
                  <a:off x="870480" y="2066400"/>
                  <a:ext cx="1529280" cy="119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分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类</a:t>
                  </a: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矩形 34835"/>
                <p:cNvSpPr/>
                <p:nvPr/>
              </p:nvSpPr>
              <p:spPr>
                <a:xfrm>
                  <a:off x="768960" y="2066400"/>
                  <a:ext cx="1732680" cy="11944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组合 34838"/>
              <p:cNvGrpSpPr/>
              <p:nvPr/>
            </p:nvGrpSpPr>
            <p:grpSpPr>
              <a:xfrm>
                <a:off x="2502000" y="2066400"/>
                <a:ext cx="1392120" cy="1194480"/>
                <a:chOff x="2502000" y="2066400"/>
                <a:chExt cx="1392120" cy="1194480"/>
              </a:xfrm>
            </p:grpSpPr>
            <p:sp>
              <p:nvSpPr>
                <p:cNvPr id="394" name="矩形 34820"/>
                <p:cNvSpPr/>
                <p:nvPr/>
              </p:nvSpPr>
              <p:spPr>
                <a:xfrm>
                  <a:off x="2603160" y="2066400"/>
                  <a:ext cx="1189800" cy="119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剂量（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Gy</a:t>
                  </a: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）</a:t>
                  </a: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矩形 34837"/>
                <p:cNvSpPr/>
                <p:nvPr/>
              </p:nvSpPr>
              <p:spPr>
                <a:xfrm>
                  <a:off x="2502000" y="2066400"/>
                  <a:ext cx="1392120" cy="11944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组合 34840"/>
              <p:cNvGrpSpPr/>
              <p:nvPr/>
            </p:nvGrpSpPr>
            <p:grpSpPr>
              <a:xfrm>
                <a:off x="3894840" y="2066400"/>
                <a:ext cx="2412720" cy="1194480"/>
                <a:chOff x="3894840" y="2066400"/>
                <a:chExt cx="2412720" cy="1194480"/>
              </a:xfrm>
            </p:grpSpPr>
            <p:sp>
              <p:nvSpPr>
                <p:cNvPr id="397" name="矩形 34821"/>
                <p:cNvSpPr/>
                <p:nvPr/>
              </p:nvSpPr>
              <p:spPr>
                <a:xfrm>
                  <a:off x="3996360" y="2066400"/>
                  <a:ext cx="2209680" cy="119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临床表现</a:t>
                  </a: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矩形 34839"/>
                <p:cNvSpPr/>
                <p:nvPr/>
              </p:nvSpPr>
              <p:spPr>
                <a:xfrm>
                  <a:off x="3894840" y="2066400"/>
                  <a:ext cx="2412720" cy="11944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组合 34842"/>
              <p:cNvGrpSpPr/>
              <p:nvPr/>
            </p:nvGrpSpPr>
            <p:grpSpPr>
              <a:xfrm>
                <a:off x="6307920" y="2066400"/>
                <a:ext cx="2370240" cy="1194480"/>
                <a:chOff x="6307920" y="2066400"/>
                <a:chExt cx="2370240" cy="1194480"/>
              </a:xfrm>
            </p:grpSpPr>
            <p:sp>
              <p:nvSpPr>
                <p:cNvPr id="400" name="矩形 34822"/>
                <p:cNvSpPr/>
                <p:nvPr/>
              </p:nvSpPr>
              <p:spPr>
                <a:xfrm>
                  <a:off x="6409440" y="2066400"/>
                  <a:ext cx="2166840" cy="119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病理变化</a:t>
                  </a: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矩形 34841"/>
                <p:cNvSpPr/>
                <p:nvPr/>
              </p:nvSpPr>
              <p:spPr>
                <a:xfrm>
                  <a:off x="6307920" y="2066400"/>
                  <a:ext cx="2370240" cy="11944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组合 34844"/>
              <p:cNvGrpSpPr/>
              <p:nvPr/>
            </p:nvGrpSpPr>
            <p:grpSpPr>
              <a:xfrm>
                <a:off x="768960" y="3261240"/>
                <a:ext cx="1732680" cy="1195200"/>
                <a:chOff x="768960" y="3261240"/>
                <a:chExt cx="1732680" cy="1195200"/>
              </a:xfrm>
            </p:grpSpPr>
            <p:sp>
              <p:nvSpPr>
                <p:cNvPr id="403" name="矩形 34823"/>
                <p:cNvSpPr/>
                <p:nvPr/>
              </p:nvSpPr>
              <p:spPr>
                <a:xfrm>
                  <a:off x="870480" y="3261240"/>
                  <a:ext cx="1529280" cy="11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骨髓型放射病</a:t>
                  </a: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矩形 34843"/>
                <p:cNvSpPr/>
                <p:nvPr/>
              </p:nvSpPr>
              <p:spPr>
                <a:xfrm>
                  <a:off x="768960" y="3261240"/>
                  <a:ext cx="1732680" cy="11952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组合 34846"/>
              <p:cNvGrpSpPr/>
              <p:nvPr/>
            </p:nvGrpSpPr>
            <p:grpSpPr>
              <a:xfrm>
                <a:off x="2502000" y="3261240"/>
                <a:ext cx="1392120" cy="1195200"/>
                <a:chOff x="2502000" y="3261240"/>
                <a:chExt cx="1392120" cy="1195200"/>
              </a:xfrm>
            </p:grpSpPr>
            <p:sp>
              <p:nvSpPr>
                <p:cNvPr id="406" name="矩形 34824"/>
                <p:cNvSpPr/>
                <p:nvPr/>
              </p:nvSpPr>
              <p:spPr>
                <a:xfrm>
                  <a:off x="2603160" y="3261240"/>
                  <a:ext cx="1189800" cy="11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-5</a:t>
                  </a: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矩形 34845"/>
                <p:cNvSpPr/>
                <p:nvPr/>
              </p:nvSpPr>
              <p:spPr>
                <a:xfrm>
                  <a:off x="2502000" y="3261240"/>
                  <a:ext cx="1392120" cy="11952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组合 34848"/>
              <p:cNvGrpSpPr/>
              <p:nvPr/>
            </p:nvGrpSpPr>
            <p:grpSpPr>
              <a:xfrm>
                <a:off x="3894840" y="3261240"/>
                <a:ext cx="2412720" cy="1195200"/>
                <a:chOff x="3894840" y="3261240"/>
                <a:chExt cx="2412720" cy="1195200"/>
              </a:xfrm>
            </p:grpSpPr>
            <p:sp>
              <p:nvSpPr>
                <p:cNvPr id="409" name="矩形 34825"/>
                <p:cNvSpPr/>
                <p:nvPr/>
              </p:nvSpPr>
              <p:spPr>
                <a:xfrm>
                  <a:off x="3996360" y="3261240"/>
                  <a:ext cx="2209680" cy="11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出血，感染</a:t>
                  </a: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矩形 34847"/>
                <p:cNvSpPr/>
                <p:nvPr/>
              </p:nvSpPr>
              <p:spPr>
                <a:xfrm>
                  <a:off x="3894840" y="3261240"/>
                  <a:ext cx="2412720" cy="11952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组合 34850"/>
              <p:cNvGrpSpPr/>
              <p:nvPr/>
            </p:nvGrpSpPr>
            <p:grpSpPr>
              <a:xfrm>
                <a:off x="6307920" y="3261240"/>
                <a:ext cx="2370240" cy="1195200"/>
                <a:chOff x="6307920" y="3261240"/>
                <a:chExt cx="2370240" cy="1195200"/>
              </a:xfrm>
            </p:grpSpPr>
            <p:sp>
              <p:nvSpPr>
                <p:cNvPr id="412" name="矩形 34826"/>
                <p:cNvSpPr/>
                <p:nvPr/>
              </p:nvSpPr>
              <p:spPr>
                <a:xfrm>
                  <a:off x="6409440" y="3261240"/>
                  <a:ext cx="2166840" cy="11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骨髓抑制</a:t>
                  </a: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矩形 34849"/>
                <p:cNvSpPr/>
                <p:nvPr/>
              </p:nvSpPr>
              <p:spPr>
                <a:xfrm>
                  <a:off x="6307920" y="3261240"/>
                  <a:ext cx="2370240" cy="119520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组合 34852"/>
              <p:cNvGrpSpPr/>
              <p:nvPr/>
            </p:nvGrpSpPr>
            <p:grpSpPr>
              <a:xfrm>
                <a:off x="768960" y="4457160"/>
                <a:ext cx="1732680" cy="1194480"/>
                <a:chOff x="768960" y="4457160"/>
                <a:chExt cx="1732680" cy="1194480"/>
              </a:xfrm>
            </p:grpSpPr>
            <p:sp>
              <p:nvSpPr>
                <p:cNvPr id="415" name="矩形 34827"/>
                <p:cNvSpPr/>
                <p:nvPr/>
              </p:nvSpPr>
              <p:spPr>
                <a:xfrm>
                  <a:off x="870480" y="4457160"/>
                  <a:ext cx="1529280" cy="119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肠型</a:t>
                  </a: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（肺障碍）</a:t>
                  </a: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矩形 34851"/>
                <p:cNvSpPr/>
                <p:nvPr/>
              </p:nvSpPr>
              <p:spPr>
                <a:xfrm>
                  <a:off x="768960" y="4457160"/>
                  <a:ext cx="1732680" cy="11944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组合 34854"/>
              <p:cNvGrpSpPr/>
              <p:nvPr/>
            </p:nvGrpSpPr>
            <p:grpSpPr>
              <a:xfrm>
                <a:off x="2502000" y="4457160"/>
                <a:ext cx="1392120" cy="1194480"/>
                <a:chOff x="2502000" y="4457160"/>
                <a:chExt cx="1392120" cy="1194480"/>
              </a:xfrm>
            </p:grpSpPr>
            <p:sp>
              <p:nvSpPr>
                <p:cNvPr id="418" name="矩形 34828"/>
                <p:cNvSpPr/>
                <p:nvPr/>
              </p:nvSpPr>
              <p:spPr>
                <a:xfrm>
                  <a:off x="2603160" y="4457160"/>
                  <a:ext cx="1189800" cy="119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5-15</a:t>
                  </a: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矩形 34853"/>
                <p:cNvSpPr/>
                <p:nvPr/>
              </p:nvSpPr>
              <p:spPr>
                <a:xfrm>
                  <a:off x="2502000" y="4457160"/>
                  <a:ext cx="1392120" cy="11944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组合 34856"/>
              <p:cNvGrpSpPr/>
              <p:nvPr/>
            </p:nvGrpSpPr>
            <p:grpSpPr>
              <a:xfrm>
                <a:off x="3894840" y="4457160"/>
                <a:ext cx="2412720" cy="1194480"/>
                <a:chOff x="3894840" y="4457160"/>
                <a:chExt cx="2412720" cy="1194480"/>
              </a:xfrm>
            </p:grpSpPr>
            <p:sp>
              <p:nvSpPr>
                <p:cNvPr id="421" name="矩形 34829"/>
                <p:cNvSpPr/>
                <p:nvPr/>
              </p:nvSpPr>
              <p:spPr>
                <a:xfrm>
                  <a:off x="3996360" y="4457160"/>
                  <a:ext cx="2209680" cy="119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高烧，腹泻电解质失调</a:t>
                  </a: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矩形 34855"/>
                <p:cNvSpPr/>
                <p:nvPr/>
              </p:nvSpPr>
              <p:spPr>
                <a:xfrm>
                  <a:off x="3894840" y="4457160"/>
                  <a:ext cx="2412720" cy="11944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组合 34858"/>
              <p:cNvGrpSpPr/>
              <p:nvPr/>
            </p:nvGrpSpPr>
            <p:grpSpPr>
              <a:xfrm>
                <a:off x="6307920" y="4457160"/>
                <a:ext cx="2370240" cy="1194480"/>
                <a:chOff x="6307920" y="4457160"/>
                <a:chExt cx="2370240" cy="1194480"/>
              </a:xfrm>
            </p:grpSpPr>
            <p:sp>
              <p:nvSpPr>
                <p:cNvPr id="424" name="矩形 34830"/>
                <p:cNvSpPr/>
                <p:nvPr/>
              </p:nvSpPr>
              <p:spPr>
                <a:xfrm>
                  <a:off x="6409440" y="4457160"/>
                  <a:ext cx="2166840" cy="119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肠上皮分裂停止，脱落</a:t>
                  </a: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矩形 34857"/>
                <p:cNvSpPr/>
                <p:nvPr/>
              </p:nvSpPr>
              <p:spPr>
                <a:xfrm>
                  <a:off x="6307920" y="4457160"/>
                  <a:ext cx="2370240" cy="11944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组合 34860"/>
              <p:cNvGrpSpPr/>
              <p:nvPr/>
            </p:nvGrpSpPr>
            <p:grpSpPr>
              <a:xfrm>
                <a:off x="768960" y="5652000"/>
                <a:ext cx="1732680" cy="1194480"/>
                <a:chOff x="768960" y="5652000"/>
                <a:chExt cx="1732680" cy="1194480"/>
              </a:xfrm>
            </p:grpSpPr>
            <p:sp>
              <p:nvSpPr>
                <p:cNvPr id="427" name="矩形 34831"/>
                <p:cNvSpPr/>
                <p:nvPr/>
              </p:nvSpPr>
              <p:spPr>
                <a:xfrm>
                  <a:off x="870480" y="5652000"/>
                  <a:ext cx="1529280" cy="119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脑型</a:t>
                  </a: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矩形 34859"/>
                <p:cNvSpPr/>
                <p:nvPr/>
              </p:nvSpPr>
              <p:spPr>
                <a:xfrm>
                  <a:off x="768960" y="5652000"/>
                  <a:ext cx="1732680" cy="11944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组合 34862"/>
              <p:cNvGrpSpPr/>
              <p:nvPr/>
            </p:nvGrpSpPr>
            <p:grpSpPr>
              <a:xfrm>
                <a:off x="2502000" y="5652000"/>
                <a:ext cx="1392120" cy="1194480"/>
                <a:chOff x="2502000" y="5652000"/>
                <a:chExt cx="1392120" cy="1194480"/>
              </a:xfrm>
            </p:grpSpPr>
            <p:sp>
              <p:nvSpPr>
                <p:cNvPr id="430" name="矩形 34832"/>
                <p:cNvSpPr/>
                <p:nvPr/>
              </p:nvSpPr>
              <p:spPr>
                <a:xfrm>
                  <a:off x="2603160" y="5652000"/>
                  <a:ext cx="1189800" cy="119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＞</a:t>
                  </a: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矩形 34861"/>
                <p:cNvSpPr/>
                <p:nvPr/>
              </p:nvSpPr>
              <p:spPr>
                <a:xfrm>
                  <a:off x="2502000" y="5652000"/>
                  <a:ext cx="1392120" cy="11944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组合 34864"/>
              <p:cNvGrpSpPr/>
              <p:nvPr/>
            </p:nvGrpSpPr>
            <p:grpSpPr>
              <a:xfrm>
                <a:off x="3894840" y="5652000"/>
                <a:ext cx="2412720" cy="1194480"/>
                <a:chOff x="3894840" y="5652000"/>
                <a:chExt cx="2412720" cy="1194480"/>
              </a:xfrm>
            </p:grpSpPr>
            <p:sp>
              <p:nvSpPr>
                <p:cNvPr id="433" name="矩形 34833"/>
                <p:cNvSpPr/>
                <p:nvPr/>
              </p:nvSpPr>
              <p:spPr>
                <a:xfrm>
                  <a:off x="3996360" y="5652000"/>
                  <a:ext cx="2209680" cy="119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神经系统障碍</a:t>
                  </a: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矩形 34863"/>
                <p:cNvSpPr/>
                <p:nvPr/>
              </p:nvSpPr>
              <p:spPr>
                <a:xfrm>
                  <a:off x="3894840" y="5652000"/>
                  <a:ext cx="2412720" cy="11944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组合 34866"/>
              <p:cNvGrpSpPr/>
              <p:nvPr/>
            </p:nvGrpSpPr>
            <p:grpSpPr>
              <a:xfrm>
                <a:off x="6307920" y="5652000"/>
                <a:ext cx="2370240" cy="1194480"/>
                <a:chOff x="6307920" y="5652000"/>
                <a:chExt cx="2370240" cy="1194480"/>
              </a:xfrm>
            </p:grpSpPr>
            <p:sp>
              <p:nvSpPr>
                <p:cNvPr id="436" name="矩形 34834"/>
                <p:cNvSpPr/>
                <p:nvPr/>
              </p:nvSpPr>
              <p:spPr>
                <a:xfrm>
                  <a:off x="6409440" y="5652000"/>
                  <a:ext cx="2166840" cy="119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脑炎，脑水肿</a:t>
                  </a: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矩形 34865"/>
                <p:cNvSpPr/>
                <p:nvPr/>
              </p:nvSpPr>
              <p:spPr>
                <a:xfrm>
                  <a:off x="6307920" y="5652000"/>
                  <a:ext cx="2370240" cy="1194480"/>
                </a:xfrm>
                <a:prstGeom prst="rect">
                  <a:avLst/>
                </a:prstGeom>
                <a:noFill/>
                <a:ln w="2844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400" spc="-1" strike="noStrike">
                    <a:solidFill>
                      <a:srgbClr val="cc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8" name="矩形 34868"/>
            <p:cNvSpPr/>
            <p:nvPr/>
          </p:nvSpPr>
          <p:spPr>
            <a:xfrm>
              <a:off x="762120" y="2057400"/>
              <a:ext cx="7924320" cy="4800240"/>
            </a:xfrm>
            <a:prstGeom prst="rect">
              <a:avLst/>
            </a:prstGeom>
            <a:noFill/>
            <a:ln w="2844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sp>
        <p:nvSpPr>
          <p:cNvPr id="439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ace0"/>
            </a:gs>
            <a:gs pos="100000">
              <a:srgbClr val="66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ffff"/>
                </a:solidFill>
                <a:uFillTx/>
                <a:latin typeface="Times New Roman"/>
              </a:rPr>
              <a:t>3.3.2</a:t>
            </a:r>
            <a:r>
              <a:rPr b="0" lang="en-US" sz="4400" spc="-1" strike="noStrike" u="sng">
                <a:solidFill>
                  <a:srgbClr val="ccffff"/>
                </a:solidFill>
                <a:uFillTx/>
                <a:latin typeface="Times New Roman"/>
              </a:rPr>
              <a:t> </a:t>
            </a:r>
            <a:r>
              <a:rPr b="0" lang="zh-CN" sz="4400" spc="-1" strike="noStrike" u="sng">
                <a:solidFill>
                  <a:srgbClr val="ccffff"/>
                </a:solidFill>
                <a:uFillTx/>
                <a:latin typeface="Times New Roman"/>
              </a:rPr>
              <a:t>对造血组织影响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1219320" y="2209680"/>
          <a:ext cx="5943600" cy="55548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细胞类型         正常值          减少阈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Gy)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1219320" y="2743200"/>
          <a:ext cx="5943600" cy="160020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白细胞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500-1000          0.5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红细胞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400-500)×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1.0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血小板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 ×10</a:t>
                      </a:r>
                      <a:r>
                        <a:rPr b="0" lang="en-US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4      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1.0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3" name=""/>
          <p:cNvGraphicFramePr/>
          <p:nvPr/>
        </p:nvGraphicFramePr>
        <p:xfrm>
          <a:off x="3733920" y="4876920"/>
          <a:ext cx="3047760" cy="175248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淋巴细胞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-4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天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红细胞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0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天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血小板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-9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天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右箭头标注 35873"/>
          <p:cNvSpPr/>
          <p:nvPr/>
        </p:nvSpPr>
        <p:spPr>
          <a:xfrm>
            <a:off x="990720" y="4800600"/>
            <a:ext cx="2666880" cy="1066680"/>
          </a:xfrm>
          <a:prstGeom prst="rightArrowCallout">
            <a:avLst>
              <a:gd name="adj1" fmla="val 25002"/>
              <a:gd name="adj2" fmla="val 25000"/>
              <a:gd name="adj3" fmla="val 41658"/>
              <a:gd name="adj4" fmla="val 66667"/>
            </a:avLst>
          </a:prstGeom>
          <a:solidFill>
            <a:srgbClr val="33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ff"/>
                </a:solidFill>
                <a:latin typeface="Impact"/>
              </a:rPr>
              <a:t>血细胞寿命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45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dur="indefinite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ffff"/>
                </a:solidFill>
                <a:uFillTx/>
                <a:latin typeface="Times New Roman"/>
              </a:rPr>
              <a:t>3.3.3</a:t>
            </a:r>
            <a:r>
              <a:rPr b="0" lang="en-US" sz="4400" spc="-1" strike="noStrike" u="sng">
                <a:solidFill>
                  <a:srgbClr val="ccffff"/>
                </a:solidFill>
                <a:uFillTx/>
                <a:latin typeface="Times New Roman"/>
              </a:rPr>
              <a:t> </a:t>
            </a:r>
            <a:r>
              <a:rPr b="0" lang="zh-CN" sz="4400" spc="-1" strike="noStrike" u="sng">
                <a:solidFill>
                  <a:srgbClr val="ccffff"/>
                </a:solidFill>
                <a:uFillTx/>
                <a:latin typeface="Times New Roman"/>
              </a:rPr>
              <a:t>生殖系统的影响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990720" y="2057400"/>
          <a:ext cx="2666880" cy="609480"/>
        </p:xfrm>
        <a:graphic>
          <a:graphicData uri="http://schemas.openxmlformats.org/drawingml/2006/table">
            <a:tbl>
              <a:tblPr/>
              <a:tblGrid>
                <a:gridCol w="26668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不孕的阈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Gy):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8" name=""/>
          <p:cNvGraphicFramePr/>
          <p:nvPr/>
        </p:nvGraphicFramePr>
        <p:xfrm>
          <a:off x="990720" y="2666880"/>
          <a:ext cx="6019560" cy="1546200"/>
        </p:xfrm>
        <a:graphic>
          <a:graphicData uri="http://schemas.openxmlformats.org/drawingml/2006/table">
            <a:tbl>
              <a:tblPr/>
              <a:tblGrid>
                <a:gridCol w="601956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                 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次急性照射      慢性照射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一时性不孕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5            0.4/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年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永久性不孕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.5-6            2.0/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年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9" name="左箭头标注 36887"/>
          <p:cNvSpPr/>
          <p:nvPr/>
        </p:nvSpPr>
        <p:spPr>
          <a:xfrm>
            <a:off x="7010280" y="2819520"/>
            <a:ext cx="1752840" cy="1295280"/>
          </a:xfrm>
          <a:prstGeom prst="leftArrowCallout">
            <a:avLst>
              <a:gd name="adj1" fmla="val 25002"/>
              <a:gd name="adj2" fmla="val 25000"/>
              <a:gd name="adj3" fmla="val 22548"/>
              <a:gd name="adj4" fmla="val 66673"/>
            </a:avLst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Impact"/>
              </a:rPr>
              <a:t>男性</a:t>
            </a: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1066680" y="4648320"/>
          <a:ext cx="5943600" cy="146052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                   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次急性照射    慢性照射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一时性不孕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65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–1.5       0.4/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年   永久性不孕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-6            0.2/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年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1" name="左箭头标注 36894"/>
          <p:cNvSpPr/>
          <p:nvPr/>
        </p:nvSpPr>
        <p:spPr>
          <a:xfrm>
            <a:off x="7010280" y="4724280"/>
            <a:ext cx="1752840" cy="1295640"/>
          </a:xfrm>
          <a:prstGeom prst="leftArrowCallout">
            <a:avLst>
              <a:gd name="adj1" fmla="val 25002"/>
              <a:gd name="adj2" fmla="val 25000"/>
              <a:gd name="adj3" fmla="val 22542"/>
              <a:gd name="adj4" fmla="val 66673"/>
            </a:avLst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Impact"/>
              </a:rPr>
              <a:t>女性</a:t>
            </a: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52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ffff"/>
                </a:solidFill>
                <a:uFillTx/>
                <a:latin typeface="Times New Roman"/>
              </a:rPr>
              <a:t>3.3.4</a:t>
            </a:r>
            <a:r>
              <a:rPr b="0" lang="en-US" sz="4400" spc="-1" strike="noStrike" u="sng">
                <a:solidFill>
                  <a:srgbClr val="ccffff"/>
                </a:solidFill>
                <a:uFillTx/>
                <a:latin typeface="Times New Roman"/>
              </a:rPr>
              <a:t> </a:t>
            </a:r>
            <a:r>
              <a:rPr b="0" lang="zh-CN" sz="4400" spc="-1" strike="noStrike" u="sng">
                <a:solidFill>
                  <a:srgbClr val="ccffff"/>
                </a:solidFill>
                <a:uFillTx/>
                <a:latin typeface="Times New Roman"/>
              </a:rPr>
              <a:t>皮肤的放射损伤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838080" y="1949400"/>
          <a:ext cx="8305920" cy="4594320"/>
        </p:xfrm>
        <a:graphic>
          <a:graphicData uri="http://schemas.openxmlformats.org/drawingml/2006/table">
            <a:tbl>
              <a:tblPr/>
              <a:tblGrid>
                <a:gridCol w="977760"/>
                <a:gridCol w="4584960"/>
                <a:gridCol w="2743200"/>
              </a:tblGrid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4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剂量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Gy)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       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急性损伤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慢性损伤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染色体畸变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无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一时性脱发及红斑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红肿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,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疼痛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,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烧灼感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伴有功能障碍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一时性溃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,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水泡疤痕色素沉着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WBC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上升全身中毒症状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萎缩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,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永久性溃疡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,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合并感染 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败血症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慢性顽固性溃疡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5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ffff"/>
                </a:solidFill>
                <a:uFillTx/>
                <a:latin typeface="Times New Roman"/>
              </a:rPr>
              <a:t>3.3.5</a:t>
            </a:r>
            <a:r>
              <a:rPr b="0" lang="en-US" sz="4400" spc="-1" strike="noStrike" u="sng">
                <a:solidFill>
                  <a:srgbClr val="ccffff"/>
                </a:solidFill>
                <a:uFillTx/>
                <a:latin typeface="Times New Roman"/>
              </a:rPr>
              <a:t> </a:t>
            </a:r>
            <a:r>
              <a:rPr b="0" lang="zh-CN" sz="4400" spc="-1" strike="noStrike" u="sng">
                <a:solidFill>
                  <a:srgbClr val="ccffff"/>
                </a:solidFill>
                <a:uFillTx/>
                <a:latin typeface="Times New Roman"/>
              </a:rPr>
              <a:t>眼组织的放射损伤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066680" y="2057400"/>
          <a:ext cx="7772400" cy="208584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20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水晶体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: 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                 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放射敏感性大于结膜等其他眼组织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水晶体           前面部位的上皮细胞发生分裂障碍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                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混浊               白内障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(</a:t>
                      </a:r>
                      <a:r>
                        <a:rPr b="1" lang="zh-CN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从前向后推移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)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8" name=""/>
          <p:cNvGrpSpPr/>
          <p:nvPr/>
        </p:nvGrpSpPr>
        <p:grpSpPr>
          <a:xfrm>
            <a:off x="2362320" y="3886200"/>
            <a:ext cx="380880" cy="360"/>
            <a:chOff x="2362320" y="3886200"/>
            <a:chExt cx="380880" cy="360"/>
          </a:xfrm>
        </p:grpSpPr>
        <p:sp>
          <p:nvSpPr>
            <p:cNvPr id="459" name="直接连接符 38924"/>
            <p:cNvSpPr/>
            <p:nvPr/>
          </p:nvSpPr>
          <p:spPr>
            <a:xfrm>
              <a:off x="2362320" y="3886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2362320" y="388620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362320" y="3352680"/>
            <a:ext cx="380880" cy="360"/>
            <a:chOff x="2362320" y="3352680"/>
            <a:chExt cx="380880" cy="360"/>
          </a:xfrm>
        </p:grpSpPr>
        <p:sp>
          <p:nvSpPr>
            <p:cNvPr id="462" name="直接连接符 38925"/>
            <p:cNvSpPr/>
            <p:nvPr/>
          </p:nvSpPr>
          <p:spPr>
            <a:xfrm>
              <a:off x="2362320" y="335268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463" name=""/>
            <p:cNvSpPr txBox="1"/>
            <p:nvPr/>
          </p:nvSpPr>
          <p:spPr>
            <a:xfrm>
              <a:off x="2362320" y="335268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886200" y="3886200"/>
            <a:ext cx="380880" cy="360"/>
            <a:chOff x="3886200" y="3886200"/>
            <a:chExt cx="380880" cy="360"/>
          </a:xfrm>
        </p:grpSpPr>
        <p:sp>
          <p:nvSpPr>
            <p:cNvPr id="465" name="直接连接符 38929"/>
            <p:cNvSpPr/>
            <p:nvPr/>
          </p:nvSpPr>
          <p:spPr>
            <a:xfrm>
              <a:off x="3886200" y="38862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3886200" y="3886200"/>
              <a:ext cx="3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graphicFrame>
        <p:nvGraphicFramePr>
          <p:cNvPr id="467" name=""/>
          <p:cNvGraphicFramePr/>
          <p:nvPr/>
        </p:nvGraphicFramePr>
        <p:xfrm>
          <a:off x="1143000" y="4343400"/>
          <a:ext cx="7620120" cy="60948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潜伏期：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个月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5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年，与剂量成反比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68" name=""/>
          <p:cNvGraphicFramePr/>
          <p:nvPr/>
        </p:nvGraphicFramePr>
        <p:xfrm>
          <a:off x="3276720" y="5029200"/>
          <a:ext cx="5486400" cy="1727280"/>
        </p:xfrm>
        <a:graphic>
          <a:graphicData uri="http://schemas.openxmlformats.org/drawingml/2006/table">
            <a:tbl>
              <a:tblPr/>
              <a:tblGrid>
                <a:gridCol w="1295280"/>
                <a:gridCol w="2438640"/>
                <a:gridCol w="17524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一次急性照射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多次照射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混 浊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-2.0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白内障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.0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9" name="五边形 38970"/>
          <p:cNvSpPr/>
          <p:nvPr/>
        </p:nvSpPr>
        <p:spPr>
          <a:xfrm>
            <a:off x="990720" y="5257800"/>
            <a:ext cx="2286000" cy="114300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ff"/>
                </a:solidFill>
                <a:latin typeface="Impact"/>
              </a:rPr>
              <a:t>症状与阈值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0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dur="indefinite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3.4 </a:t>
            </a: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随机性效应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-</a:t>
            </a: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辐射致癌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040" y="2044800"/>
            <a:ext cx="8077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4.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癌症的概念与起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癌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cancer):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增生失控并侵入周围组织或向远隔部位转移的恶性肿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文本框 55299"/>
          <p:cNvSpPr/>
          <p:nvPr/>
        </p:nvSpPr>
        <p:spPr>
          <a:xfrm>
            <a:off x="914400" y="3772440"/>
            <a:ext cx="8229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致癌因子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carcinogen):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能使正常细胞转变为恶性细胞最后发展为癌症的因子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化学因素   物理因素   病毒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机体遗传特性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激素水平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环境因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生活因素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4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601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.4.2 </a:t>
            </a:r>
            <a:r>
              <a:rPr b="0" lang="zh-CN" sz="4000" spc="-1" strike="noStrike">
                <a:solidFill>
                  <a:srgbClr val="ccffff"/>
                </a:solidFill>
                <a:latin typeface="Times New Roman"/>
              </a:rPr>
              <a:t>癌症的多阶段发生学说</a:t>
            </a: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(multi-stage)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480" y="2044800"/>
            <a:ext cx="83822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始动期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initiation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原癌基因的激活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抑癌基因的失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淘汰机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DN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修复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疫系统的识别监视消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癌症是否出现和何时出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文本框 56325"/>
          <p:cNvSpPr/>
          <p:nvPr/>
        </p:nvSpPr>
        <p:spPr>
          <a:xfrm>
            <a:off x="685800" y="45702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促进期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promotion):  </a:t>
            </a:r>
            <a:r>
              <a:rPr b="1" lang="zh-CN" sz="3200" spc="-1" strike="noStrike">
                <a:solidFill>
                  <a:srgbClr val="ccffff"/>
                </a:solidFill>
                <a:latin typeface="Impact"/>
              </a:rPr>
              <a:t>变异细胞        癌细胞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78" name="文本框 56326"/>
          <p:cNvSpPr/>
          <p:nvPr/>
        </p:nvSpPr>
        <p:spPr>
          <a:xfrm>
            <a:off x="609480" y="5327280"/>
            <a:ext cx="85345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发展期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progression):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癌细胞的恶性性质增加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Impact"/>
              </a:rPr>
              <a:t>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Impact"/>
              </a:rPr>
              <a:t>癌症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6019920" y="4876920"/>
            <a:ext cx="457200" cy="360"/>
            <a:chOff x="6019920" y="4876920"/>
            <a:chExt cx="457200" cy="360"/>
          </a:xfrm>
        </p:grpSpPr>
        <p:sp>
          <p:nvSpPr>
            <p:cNvPr id="480" name="直接连接符 56327"/>
            <p:cNvSpPr/>
            <p:nvPr/>
          </p:nvSpPr>
          <p:spPr>
            <a:xfrm>
              <a:off x="6019920" y="4876920"/>
              <a:ext cx="457200" cy="0"/>
            </a:xfrm>
            <a:prstGeom prst="line">
              <a:avLst/>
            </a:prstGeom>
            <a:ln w="38160">
              <a:solidFill>
                <a:srgbClr val="00193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6019920" y="48769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4343400" y="6248520"/>
            <a:ext cx="457200" cy="360"/>
            <a:chOff x="4343400" y="6248520"/>
            <a:chExt cx="457200" cy="360"/>
          </a:xfrm>
        </p:grpSpPr>
        <p:sp>
          <p:nvSpPr>
            <p:cNvPr id="483" name="直接连接符 56329"/>
            <p:cNvSpPr/>
            <p:nvPr/>
          </p:nvSpPr>
          <p:spPr>
            <a:xfrm>
              <a:off x="4343400" y="6248520"/>
              <a:ext cx="457200" cy="0"/>
            </a:xfrm>
            <a:prstGeom prst="line">
              <a:avLst/>
            </a:prstGeom>
            <a:ln w="38160">
              <a:solidFill>
                <a:srgbClr val="001932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484" name=""/>
            <p:cNvSpPr txBox="1"/>
            <p:nvPr/>
          </p:nvSpPr>
          <p:spPr>
            <a:xfrm>
              <a:off x="4343400" y="62485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sp>
        <p:nvSpPr>
          <p:cNvPr id="485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.4.3 </a:t>
            </a:r>
            <a:r>
              <a:rPr b="0" lang="zh-CN" sz="4000" spc="-1" strike="noStrike">
                <a:solidFill>
                  <a:srgbClr val="ccffff"/>
                </a:solidFill>
                <a:latin typeface="Times New Roman"/>
              </a:rPr>
              <a:t>人类辐射致癌的分析方法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040" y="2044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流行病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epidemiology):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对人群中某种疾病的时间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空间分布及其影响因素的研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癌症危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危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risk):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某种有害效应发生的概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发病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incide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死亡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ortalit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ff"/>
                </a:solidFill>
                <a:latin typeface="Times New Roman"/>
              </a:rPr>
              <a:t>基本生物学概念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</a:rPr>
              <a:t>:    </a:t>
            </a:r>
            <a:r>
              <a:rPr b="0" lang="zh-CN" sz="4000" spc="-1" strike="noStrike">
                <a:solidFill>
                  <a:srgbClr val="001932"/>
                </a:solidFill>
                <a:latin typeface="Times New Roman"/>
              </a:rPr>
              <a:t>基因（</a:t>
            </a:r>
            <a:r>
              <a:rPr b="0" lang="en-US" sz="4000" spc="-1" strike="noStrike">
                <a:solidFill>
                  <a:srgbClr val="001932"/>
                </a:solidFill>
                <a:latin typeface="Times New Roman"/>
              </a:rPr>
              <a:t>gene</a:t>
            </a:r>
            <a:r>
              <a:rPr b="0" lang="zh-CN" sz="4000" spc="-1" strike="noStrike">
                <a:solidFill>
                  <a:srgbClr val="001932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6" name="矩形 64515"/>
          <p:cNvSpPr/>
          <p:nvPr/>
        </p:nvSpPr>
        <p:spPr>
          <a:xfrm>
            <a:off x="539640" y="1916280"/>
            <a:ext cx="86043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932"/>
                </a:solidFill>
                <a:latin typeface="Times New Roman"/>
              </a:rPr>
              <a:t>DNA</a:t>
            </a:r>
            <a:r>
              <a:rPr b="0" lang="zh-CN" sz="3600" spc="-1" strike="noStrike">
                <a:solidFill>
                  <a:srgbClr val="001932"/>
                </a:solidFill>
                <a:latin typeface="Impact"/>
              </a:rPr>
              <a:t>链上具有一定功能的一段核苷酸序列</a:t>
            </a: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932"/>
                </a:solidFill>
                <a:latin typeface="Impact"/>
              </a:rPr>
              <a:t>基因突变（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mutation</a:t>
            </a:r>
            <a:r>
              <a:rPr b="0" lang="zh-CN" sz="3200" spc="-1" strike="noStrike">
                <a:solidFill>
                  <a:srgbClr val="001932"/>
                </a:solidFill>
                <a:latin typeface="Impact"/>
              </a:rPr>
              <a:t>）</a:t>
            </a:r>
            <a:r>
              <a:rPr b="0" lang="en-US" sz="3200" spc="-1" strike="noStrike">
                <a:solidFill>
                  <a:srgbClr val="001932"/>
                </a:solidFill>
                <a:latin typeface="Impact"/>
              </a:rPr>
              <a:t>: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DNA</a:t>
            </a:r>
            <a:r>
              <a:rPr b="0" lang="zh-CN" sz="3200" spc="-1" strike="noStrike">
                <a:solidFill>
                  <a:srgbClr val="001932"/>
                </a:solidFill>
                <a:latin typeface="Times New Roman"/>
              </a:rPr>
              <a:t>发生可遗传的变异。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932"/>
                </a:solidFill>
                <a:latin typeface="Times New Roman"/>
              </a:rPr>
              <a:t>点突变（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point mutation)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7" name="矩形 64516"/>
          <p:cNvSpPr/>
          <p:nvPr/>
        </p:nvSpPr>
        <p:spPr>
          <a:xfrm>
            <a:off x="687240" y="4768920"/>
            <a:ext cx="777240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932"/>
                </a:solidFill>
                <a:latin typeface="Impact"/>
              </a:rPr>
              <a:t>诱变剂（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mutagen</a:t>
            </a:r>
            <a:r>
              <a:rPr b="0" lang="zh-CN" sz="3200" spc="-1" strike="noStrike">
                <a:solidFill>
                  <a:srgbClr val="001932"/>
                </a:solidFill>
                <a:latin typeface="Impact"/>
              </a:rPr>
              <a:t>）</a:t>
            </a:r>
            <a:r>
              <a:rPr b="0" lang="en-US" sz="3200" spc="-1" strike="noStrike">
                <a:solidFill>
                  <a:srgbClr val="001932"/>
                </a:solidFill>
                <a:latin typeface="Impact"/>
              </a:rPr>
              <a:t>: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932"/>
                </a:solidFill>
                <a:latin typeface="Impact"/>
              </a:rPr>
              <a:t>能引起突变的物质。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932"/>
                </a:solidFill>
                <a:latin typeface="Times New Roman"/>
              </a:rPr>
              <a:t>物理</a:t>
            </a:r>
            <a:r>
              <a:rPr b="0" lang="zh-CN" sz="3200" spc="-1" strike="noStrike">
                <a:solidFill>
                  <a:srgbClr val="001932"/>
                </a:solidFill>
                <a:latin typeface="Impact"/>
              </a:rPr>
              <a:t>诱变剂       化学诱变剂        生物诱变剂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88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3.4.3 </a:t>
            </a:r>
            <a:r>
              <a:rPr b="0" lang="zh-CN" sz="4000" spc="-1" strike="noStrike">
                <a:solidFill>
                  <a:srgbClr val="ccffff"/>
                </a:solidFill>
                <a:latin typeface="Times New Roman"/>
              </a:rPr>
              <a:t>人类辐射致癌的分析方法</a:t>
            </a:r>
            <a:endParaRPr b="0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14040" y="2044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危险系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risk coefficient):   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危险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单位剂量照射引起的危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超额绝对危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excess absolute risk, EAR)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照射组癌症发病率与对照组癌症发病率之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辐射致癌危险系数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为指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R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单位剂量的增加例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单位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      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v 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Times New Roman"/>
              </a:rPr>
              <a:t>辐射致癌的潜伏期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1066680" y="2184480"/>
          <a:ext cx="7391520" cy="1955880"/>
        </p:xfrm>
        <a:graphic>
          <a:graphicData uri="http://schemas.openxmlformats.org/drawingml/2006/table">
            <a:tbl>
              <a:tblPr/>
              <a:tblGrid>
                <a:gridCol w="1717560"/>
                <a:gridCol w="1978200"/>
                <a:gridCol w="1471680"/>
                <a:gridCol w="2224080"/>
              </a:tblGrid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4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最小潜伏期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中央值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最大潜伏期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白血病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年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8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年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40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年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其他癌症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年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16-24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年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终生</a:t>
                      </a:r>
                      <a:endParaRPr b="1" lang="en-US" sz="2800" spc="-1" strike="noStrike">
                        <a:solidFill>
                          <a:srgbClr val="cc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文本框 60509"/>
          <p:cNvSpPr/>
          <p:nvPr/>
        </p:nvSpPr>
        <p:spPr>
          <a:xfrm>
            <a:off x="1066680" y="403704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ICRP Publ. 60(1990)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5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Times New Roman"/>
              </a:rPr>
              <a:t>辐射致癌危险系数与合计危害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2044800"/>
            <a:ext cx="815364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种癌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低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(DDREF=2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校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对一般公众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5×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-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Sv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业照射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4×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-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Sv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文本框 61443"/>
          <p:cNvSpPr/>
          <p:nvPr/>
        </p:nvSpPr>
        <p:spPr>
          <a:xfrm>
            <a:off x="1143000" y="454428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Impact"/>
              </a:rPr>
              <a:t>考虑严重遗传效应</a:t>
            </a:r>
            <a:r>
              <a:rPr b="1" lang="en-US" sz="3200" spc="-1" strike="noStrike">
                <a:solidFill>
                  <a:srgbClr val="ccffff"/>
                </a:solidFill>
                <a:latin typeface="Impact"/>
              </a:rPr>
              <a:t>: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Impact"/>
              </a:rPr>
              <a:t>合计危害</a:t>
            </a:r>
            <a:r>
              <a:rPr b="1" lang="en-US" sz="3200" spc="-1" strike="noStrike">
                <a:solidFill>
                  <a:srgbClr val="ccffff"/>
                </a:solidFill>
                <a:latin typeface="Impact"/>
              </a:rPr>
              <a:t>:     </a:t>
            </a:r>
            <a:r>
              <a:rPr b="1" lang="en-US" sz="3200" spc="-1" strike="noStrike" u="sng">
                <a:solidFill>
                  <a:srgbClr val="ccffff"/>
                </a:solidFill>
                <a:uFillTx/>
                <a:latin typeface="Times New Roman"/>
              </a:rPr>
              <a:t>6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×10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-2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Sv</a:t>
            </a:r>
            <a:r>
              <a:rPr b="0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-1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499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ffff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3.5 </a:t>
            </a: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影响人类辐射致癌的因素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宿主因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性别与激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遗传学易感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龄与时间因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环境及生活因素的复合作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剂量学因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09480" y="2133360"/>
            <a:ext cx="87631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1   </a:t>
            </a:r>
            <a:r>
              <a:rPr b="0" lang="zh-CN" sz="3200" spc="-1" strike="noStrike">
                <a:solidFill>
                  <a:srgbClr val="001932"/>
                </a:solidFill>
                <a:latin typeface="Times New Roman"/>
              </a:rPr>
              <a:t>物理过程与能量转移（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001932"/>
                </a:solidFill>
                <a:latin typeface="Times New Roman"/>
              </a:rPr>
              <a:t>-16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001932"/>
                </a:solidFill>
                <a:latin typeface="Times New Roman"/>
              </a:rPr>
              <a:t>以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932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1932"/>
                </a:solidFill>
                <a:latin typeface="Times New Roman"/>
              </a:rPr>
              <a:t>电离：产生初级电子，次级电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932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1932"/>
                </a:solidFill>
                <a:latin typeface="Times New Roman"/>
              </a:rPr>
              <a:t>作用对象：生物大分子（核酸，蛋白质，酶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66ff"/>
                </a:solidFill>
                <a:uFillTx/>
                <a:latin typeface="Times New Roman"/>
                <a:hlinkClick r:id="rId1"/>
              </a:rPr>
              <a:t>3.1 </a:t>
            </a:r>
            <a:r>
              <a:rPr b="0" lang="zh-CN" sz="4400" spc="-1" strike="noStrike" u="sng">
                <a:solidFill>
                  <a:srgbClr val="6666ff"/>
                </a:solidFill>
                <a:uFillTx/>
                <a:latin typeface="Times New Roman"/>
                <a:hlinkClick r:id="rId2"/>
              </a:rPr>
              <a:t>生物效应产生的过程和机理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1" name="文本框 65540"/>
          <p:cNvSpPr/>
          <p:nvPr/>
        </p:nvSpPr>
        <p:spPr>
          <a:xfrm>
            <a:off x="762120" y="3799080"/>
            <a:ext cx="66294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Impact"/>
              </a:rPr>
              <a:t>2 </a:t>
            </a:r>
            <a:r>
              <a:rPr b="0" lang="zh-CN" sz="3200" spc="-1" strike="noStrike">
                <a:solidFill>
                  <a:srgbClr val="001932"/>
                </a:solidFill>
                <a:latin typeface="Impact"/>
              </a:rPr>
              <a:t>物理化学作用（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10</a:t>
            </a:r>
            <a:r>
              <a:rPr b="0" lang="en-US" sz="3200" spc="-1" strike="noStrike" baseline="30000">
                <a:solidFill>
                  <a:srgbClr val="001932"/>
                </a:solidFill>
                <a:latin typeface="Times New Roman"/>
              </a:rPr>
              <a:t>-12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001932"/>
                </a:solidFill>
                <a:latin typeface="Impact"/>
              </a:rPr>
              <a:t>以下）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932"/>
                </a:solidFill>
                <a:latin typeface="Impact"/>
              </a:rPr>
              <a:t>    </a:t>
            </a:r>
            <a:r>
              <a:rPr b="0" lang="zh-CN" sz="3200" spc="-1" strike="noStrike">
                <a:solidFill>
                  <a:srgbClr val="001932"/>
                </a:solidFill>
                <a:latin typeface="Impact"/>
              </a:rPr>
              <a:t>自由基的生成</a:t>
            </a:r>
            <a:r>
              <a:rPr b="0" lang="en-US" sz="3200" spc="-1" strike="noStrike">
                <a:solidFill>
                  <a:srgbClr val="001932"/>
                </a:solidFill>
                <a:latin typeface="Impact"/>
              </a:rPr>
              <a:t>:   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H</a:t>
            </a:r>
            <a:r>
              <a:rPr b="0" lang="en-US" sz="3200" spc="-1" strike="noStrike" baseline="30000">
                <a:solidFill>
                  <a:srgbClr val="001932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O</a:t>
            </a:r>
            <a:r>
              <a:rPr b="0" lang="en-US" sz="3200" spc="-1" strike="noStrike" baseline="30000">
                <a:solidFill>
                  <a:srgbClr val="001932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, HO</a:t>
            </a:r>
            <a:r>
              <a:rPr b="0" lang="en-US" sz="3200" spc="-1" strike="noStrike" baseline="30000">
                <a:solidFill>
                  <a:srgbClr val="001932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, H</a:t>
            </a:r>
            <a:r>
              <a:rPr b="0" lang="en-US" sz="3200" spc="-1" strike="noStrike" baseline="30000">
                <a:solidFill>
                  <a:srgbClr val="001932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1932"/>
                </a:solidFill>
                <a:latin typeface="Times New Roman"/>
              </a:rPr>
              <a:t> , OH</a:t>
            </a:r>
            <a:r>
              <a:rPr b="0" lang="en-US" sz="3200" spc="-1" strike="noStrike" baseline="30000">
                <a:solidFill>
                  <a:srgbClr val="001932"/>
                </a:solidFill>
                <a:latin typeface="Times New Roman"/>
              </a:rPr>
              <a:t>-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2" name="文本框 65542"/>
          <p:cNvSpPr/>
          <p:nvPr/>
        </p:nvSpPr>
        <p:spPr>
          <a:xfrm>
            <a:off x="838080" y="5170680"/>
            <a:ext cx="66294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Impact"/>
              </a:rPr>
              <a:t>3 </a:t>
            </a:r>
            <a:r>
              <a:rPr b="0" lang="zh-CN" sz="3200" spc="-1" strike="noStrike">
                <a:solidFill>
                  <a:srgbClr val="001932"/>
                </a:solidFill>
                <a:latin typeface="Impact"/>
              </a:rPr>
              <a:t>分子组成及性质的改变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1932"/>
                </a:solidFill>
                <a:latin typeface="Impact"/>
              </a:rPr>
              <a:t>    </a:t>
            </a:r>
            <a:r>
              <a:rPr b="0" lang="zh-CN" sz="3200" spc="-1" strike="noStrike">
                <a:solidFill>
                  <a:srgbClr val="001932"/>
                </a:solidFill>
                <a:latin typeface="Impact"/>
              </a:rPr>
              <a:t>细胞膜； 核膜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3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44033" descr="图1"/>
          <p:cNvPicPr/>
          <p:nvPr/>
        </p:nvPicPr>
        <p:blipFill>
          <a:blip r:embed="rId1"/>
          <a:stretch/>
        </p:blipFill>
        <p:spPr>
          <a:xfrm>
            <a:off x="1932120" y="2819520"/>
            <a:ext cx="5383080" cy="380988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44034"/>
          <p:cNvSpPr/>
          <p:nvPr/>
        </p:nvSpPr>
        <p:spPr>
          <a:xfrm>
            <a:off x="1066680" y="20574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电离辐射的能量转移过程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6" name="文本框 44035"/>
          <p:cNvSpPr/>
          <p:nvPr/>
        </p:nvSpPr>
        <p:spPr>
          <a:xfrm>
            <a:off x="838080" y="591840"/>
            <a:ext cx="8077320" cy="856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6666ff"/>
                </a:solidFill>
                <a:uFillTx/>
                <a:latin typeface="Times New Roman"/>
                <a:hlinkClick r:id="rId2"/>
              </a:rPr>
              <a:t>3.1 </a:t>
            </a:r>
            <a:r>
              <a:rPr b="1" lang="zh-CN" sz="4400" spc="-1" strike="noStrike" u="sng">
                <a:solidFill>
                  <a:srgbClr val="6666ff"/>
                </a:solidFill>
                <a:uFillTx/>
                <a:latin typeface="Times New Roman"/>
                <a:hlinkClick r:id="rId3"/>
              </a:rPr>
              <a:t>生物效应产生的过程和机理</a:t>
            </a: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197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484000" y="2133720"/>
            <a:ext cx="403884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75000"/>
              <a:buFont typeface="Monotype Sort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单链断裂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218960" y="419040"/>
            <a:ext cx="680868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DNA</a:t>
            </a: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损伤（分子水平）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0" name="文本框 45059"/>
          <p:cNvSpPr/>
          <p:nvPr/>
        </p:nvSpPr>
        <p:spPr>
          <a:xfrm>
            <a:off x="2560680" y="4660920"/>
            <a:ext cx="3505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cc99ff"/>
              </a:buClr>
              <a:buSzPct val="75000"/>
              <a:buFont typeface="Monotype Sorts" charset="2"/>
              <a:buChar char="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双链断裂：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错误修复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1" name="右箭头 45060"/>
          <p:cNvSpPr/>
          <p:nvPr/>
        </p:nvSpPr>
        <p:spPr>
          <a:xfrm>
            <a:off x="2560680" y="298440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2" name="右箭头 45061"/>
          <p:cNvSpPr/>
          <p:nvPr/>
        </p:nvSpPr>
        <p:spPr>
          <a:xfrm>
            <a:off x="2560680" y="557532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3" name="矩形 45066"/>
          <p:cNvSpPr/>
          <p:nvPr/>
        </p:nvSpPr>
        <p:spPr>
          <a:xfrm>
            <a:off x="2987640" y="269640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可以实现无差错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修复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4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ace0"/>
            </a:gs>
            <a:gs pos="100000">
              <a:srgbClr val="ff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3657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ff"/>
                </a:solidFill>
                <a:latin typeface="Times New Roman"/>
              </a:rPr>
              <a:t>细胞水平损伤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细胞死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椭圆 47107"/>
          <p:cNvSpPr/>
          <p:nvPr/>
        </p:nvSpPr>
        <p:spPr>
          <a:xfrm>
            <a:off x="990720" y="2971800"/>
            <a:ext cx="1600200" cy="990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66ff"/>
                </a:solidFill>
                <a:latin typeface="Impact"/>
              </a:rPr>
              <a:t>间期死亡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08" name="椭圆 47108"/>
          <p:cNvSpPr/>
          <p:nvPr/>
        </p:nvSpPr>
        <p:spPr>
          <a:xfrm>
            <a:off x="990720" y="4495680"/>
            <a:ext cx="1600200" cy="9907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932"/>
                </a:solidFill>
                <a:latin typeface="Impact"/>
              </a:rPr>
              <a:t>增殖死亡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895480" y="3581280"/>
            <a:ext cx="1143000" cy="304920"/>
            <a:chOff x="2895480" y="3581280"/>
            <a:chExt cx="1143000" cy="304920"/>
          </a:xfrm>
        </p:grpSpPr>
        <p:sp>
          <p:nvSpPr>
            <p:cNvPr id="210" name="直接连接符 47109"/>
            <p:cNvSpPr/>
            <p:nvPr/>
          </p:nvSpPr>
          <p:spPr>
            <a:xfrm>
              <a:off x="2895480" y="3581280"/>
              <a:ext cx="1143000" cy="3049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2895480" y="3581280"/>
              <a:ext cx="1143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438280" y="4647960"/>
            <a:ext cx="1524240" cy="609480"/>
            <a:chOff x="2438280" y="4647960"/>
            <a:chExt cx="1524240" cy="609480"/>
          </a:xfrm>
        </p:grpSpPr>
        <p:sp>
          <p:nvSpPr>
            <p:cNvPr id="213" name="直接连接符 47110"/>
            <p:cNvSpPr/>
            <p:nvPr/>
          </p:nvSpPr>
          <p:spPr>
            <a:xfrm flipV="1">
              <a:off x="2438280" y="4647960"/>
              <a:ext cx="1524240" cy="6094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10800000">
              <a:off x="2438280" y="4647960"/>
              <a:ext cx="1524240" cy="609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ccffff"/>
                </a:solidFill>
                <a:latin typeface="Times New Roman"/>
              </a:endParaRPr>
            </a:p>
          </p:txBody>
        </p:sp>
      </p:grpSp>
      <p:sp>
        <p:nvSpPr>
          <p:cNvPr id="215" name="椭圆 47111"/>
          <p:cNvSpPr/>
          <p:nvPr/>
        </p:nvSpPr>
        <p:spPr>
          <a:xfrm>
            <a:off x="4191120" y="2895480"/>
            <a:ext cx="1447560" cy="8384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932"/>
                </a:solidFill>
                <a:latin typeface="Impact"/>
              </a:rPr>
              <a:t>增殖死亡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6" name="椭圆 47112"/>
          <p:cNvSpPr/>
          <p:nvPr/>
        </p:nvSpPr>
        <p:spPr>
          <a:xfrm>
            <a:off x="4952880" y="3352680"/>
            <a:ext cx="1676520" cy="685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66ff"/>
                </a:solidFill>
                <a:latin typeface="Impact"/>
              </a:rPr>
              <a:t>间期死亡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7" name="椭圆 47113"/>
          <p:cNvSpPr/>
          <p:nvPr/>
        </p:nvSpPr>
        <p:spPr>
          <a:xfrm>
            <a:off x="3809880" y="3962520"/>
            <a:ext cx="1676520" cy="6858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932"/>
                </a:solidFill>
                <a:latin typeface="Impact"/>
              </a:rPr>
              <a:t>增殖死亡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8" name="椭圆 47114"/>
          <p:cNvSpPr/>
          <p:nvPr/>
        </p:nvSpPr>
        <p:spPr>
          <a:xfrm>
            <a:off x="4191120" y="3505320"/>
            <a:ext cx="1447560" cy="6858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66ff"/>
                </a:solidFill>
                <a:latin typeface="Impact"/>
              </a:rPr>
              <a:t>间期死亡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19" name="椭圆 47115"/>
          <p:cNvSpPr/>
          <p:nvPr/>
        </p:nvSpPr>
        <p:spPr>
          <a:xfrm>
            <a:off x="4800600" y="3962520"/>
            <a:ext cx="1676520" cy="6858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66ff"/>
                </a:solidFill>
                <a:latin typeface="Impact"/>
              </a:rPr>
              <a:t>间期死亡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0" name="任意多边形 47116"/>
          <p:cNvSpPr/>
          <p:nvPr/>
        </p:nvSpPr>
        <p:spPr>
          <a:xfrm>
            <a:off x="6553080" y="3886200"/>
            <a:ext cx="83844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1" name="十字形 47117"/>
          <p:cNvSpPr/>
          <p:nvPr/>
        </p:nvSpPr>
        <p:spPr>
          <a:xfrm>
            <a:off x="7467480" y="2438280"/>
            <a:ext cx="1447920" cy="3429000"/>
          </a:xfrm>
          <a:prstGeom prst="plus">
            <a:avLst>
              <a:gd name="adj" fmla="val 25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功能障碍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结构改变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2" name="椭圆 47118"/>
          <p:cNvSpPr/>
          <p:nvPr/>
        </p:nvSpPr>
        <p:spPr>
          <a:xfrm>
            <a:off x="4419720" y="4419720"/>
            <a:ext cx="1676160" cy="68580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932"/>
                </a:solidFill>
                <a:latin typeface="Impact"/>
              </a:rPr>
              <a:t>增殖死亡</a:t>
            </a:r>
            <a:endParaRPr b="1" lang="en-US" sz="28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3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ace0"/>
            </a:gs>
            <a:gs pos="100000">
              <a:srgbClr val="ff7c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Times New Roman"/>
              </a:rPr>
              <a:t>细胞水平损伤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2120" y="2044800"/>
            <a:ext cx="82296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细胞变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dification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爆炸形 1 48131"/>
          <p:cNvSpPr/>
          <p:nvPr/>
        </p:nvSpPr>
        <p:spPr>
          <a:xfrm>
            <a:off x="1828800" y="4267080"/>
            <a:ext cx="838080" cy="990720"/>
          </a:xfrm>
          <a:prstGeom prst="irregularSeal1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7" name="爆炸形 1 48132"/>
          <p:cNvSpPr/>
          <p:nvPr/>
        </p:nvSpPr>
        <p:spPr>
          <a:xfrm>
            <a:off x="2666880" y="3657600"/>
            <a:ext cx="838440" cy="990720"/>
          </a:xfrm>
          <a:prstGeom prst="irregularSeal1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8" name="爆炸形 1 48133"/>
          <p:cNvSpPr/>
          <p:nvPr/>
        </p:nvSpPr>
        <p:spPr>
          <a:xfrm>
            <a:off x="2590920" y="4191120"/>
            <a:ext cx="838080" cy="990360"/>
          </a:xfrm>
          <a:prstGeom prst="irregularSeal1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29" name="爆炸形 1 48134"/>
          <p:cNvSpPr/>
          <p:nvPr/>
        </p:nvSpPr>
        <p:spPr>
          <a:xfrm>
            <a:off x="1676520" y="3886200"/>
            <a:ext cx="838080" cy="990720"/>
          </a:xfrm>
          <a:prstGeom prst="irregularSeal1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0" name="爆炸形 1 48135"/>
          <p:cNvSpPr/>
          <p:nvPr/>
        </p:nvSpPr>
        <p:spPr>
          <a:xfrm>
            <a:off x="1143000" y="3429000"/>
            <a:ext cx="838080" cy="990720"/>
          </a:xfrm>
          <a:prstGeom prst="irregularSeal1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1" name="爆炸形 1 48136"/>
          <p:cNvSpPr/>
          <p:nvPr/>
        </p:nvSpPr>
        <p:spPr>
          <a:xfrm>
            <a:off x="1828800" y="3048120"/>
            <a:ext cx="838080" cy="990360"/>
          </a:xfrm>
          <a:prstGeom prst="irregularSeal1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2" name="文本框 48137"/>
          <p:cNvSpPr/>
          <p:nvPr/>
        </p:nvSpPr>
        <p:spPr>
          <a:xfrm>
            <a:off x="1447920" y="5305320"/>
            <a:ext cx="213336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932"/>
                </a:solidFill>
                <a:latin typeface="Impact"/>
              </a:rPr>
              <a:t>异常细胞    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932"/>
                </a:solidFill>
                <a:latin typeface="Impact"/>
              </a:rPr>
              <a:t>     </a:t>
            </a:r>
            <a:r>
              <a:rPr b="1" lang="zh-CN" sz="3200" spc="-1" strike="noStrike">
                <a:solidFill>
                  <a:srgbClr val="001932"/>
                </a:solidFill>
                <a:latin typeface="Impact"/>
              </a:rPr>
              <a:t>克隆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3" name="爆炸形 2 48138"/>
          <p:cNvSpPr/>
          <p:nvPr/>
        </p:nvSpPr>
        <p:spPr>
          <a:xfrm>
            <a:off x="4419720" y="2895480"/>
            <a:ext cx="2133360" cy="2286000"/>
          </a:xfrm>
          <a:prstGeom prst="irregularSeal2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932"/>
                </a:solidFill>
                <a:latin typeface="Impact"/>
              </a:rPr>
              <a:t>细胞转化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4" name="爆炸形 2 48139"/>
          <p:cNvSpPr/>
          <p:nvPr/>
        </p:nvSpPr>
        <p:spPr>
          <a:xfrm>
            <a:off x="7010280" y="2971800"/>
            <a:ext cx="2133720" cy="2286000"/>
          </a:xfrm>
          <a:prstGeom prst="irregularSeal2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932"/>
                </a:solidFill>
                <a:latin typeface="Impact"/>
              </a:rPr>
              <a:t>癌症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5" name="任意多边形 48140"/>
          <p:cNvSpPr/>
          <p:nvPr/>
        </p:nvSpPr>
        <p:spPr>
          <a:xfrm>
            <a:off x="3581280" y="3962520"/>
            <a:ext cx="106704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6" name="任意多边形 48141"/>
          <p:cNvSpPr/>
          <p:nvPr/>
        </p:nvSpPr>
        <p:spPr>
          <a:xfrm>
            <a:off x="6172200" y="3962520"/>
            <a:ext cx="106668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8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7" name="文本框 48142"/>
          <p:cNvSpPr/>
          <p:nvPr/>
        </p:nvSpPr>
        <p:spPr>
          <a:xfrm>
            <a:off x="3962520" y="5638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transformation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8" name="文本框 48143"/>
          <p:cNvSpPr/>
          <p:nvPr/>
        </p:nvSpPr>
        <p:spPr>
          <a:xfrm>
            <a:off x="7467480" y="57150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cancer</a:t>
            </a:r>
            <a:endParaRPr b="1" lang="en-US" sz="32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39" name="爆炸形 1 48144"/>
          <p:cNvSpPr/>
          <p:nvPr/>
        </p:nvSpPr>
        <p:spPr>
          <a:xfrm>
            <a:off x="1981080" y="3657600"/>
            <a:ext cx="838440" cy="990720"/>
          </a:xfrm>
          <a:prstGeom prst="irregularSeal1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932"/>
                </a:solidFill>
                <a:latin typeface="Impact"/>
              </a:rPr>
              <a:t>变异</a:t>
            </a:r>
            <a:endParaRPr b="1" lang="en-US" sz="40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0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ace0"/>
            </a:gs>
            <a:gs pos="100000">
              <a:srgbClr val="01b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ffff"/>
                </a:solidFill>
                <a:latin typeface="Times New Roman"/>
              </a:rPr>
              <a:t>细胞凋亡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</a:rPr>
              <a:t>(apoptosis)</a:t>
            </a:r>
            <a:endParaRPr b="0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4360" y="2044800"/>
            <a:ext cx="830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变异细胞的程序性死亡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med deat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下表现：胞核浓缩、断裂          凋亡小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机理：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5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基因         激活自我致死程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ff"/>
                </a:solidFill>
                <a:latin typeface="Times New Roman"/>
              </a:rPr>
              <a:t>是变异细胞免于患癌的重要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右箭头 49156"/>
          <p:cNvSpPr/>
          <p:nvPr/>
        </p:nvSpPr>
        <p:spPr>
          <a:xfrm>
            <a:off x="6084720" y="342900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4" name="右箭头 49157"/>
          <p:cNvSpPr/>
          <p:nvPr/>
        </p:nvSpPr>
        <p:spPr>
          <a:xfrm>
            <a:off x="3492360" y="464832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  <p:sp>
        <p:nvSpPr>
          <p:cNvPr id="245" name="日期占位符 1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3:44Z</dcterms:created>
  <dc:creator/>
  <dc:description/>
  <cp:keywords>电离辐射 生物效应</cp:keywords>
  <dc:language>en-US</dc:language>
  <cp:lastModifiedBy>An</cp:lastModifiedBy>
  <dcterms:modified xsi:type="dcterms:W3CDTF">2016-05-01T00:53:4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