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E0A-31C9-44F1-BFDE-415772F9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F83-AE0E-4924-81E6-087D2AC9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3EE2-5BCC-4E31-9B72-6344DF47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EB7-D72C-4160-87AB-14CCEE59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6365-F3A8-4855-9BA0-A93C3190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4618-6ED7-4182-80C2-A194B83C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CCAF-690E-4159-BC25-28C29E43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6A07-1D14-4C83-A1DC-E4760C50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81F6-AB15-4050-BF79-1403D55D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EBBF-29A0-4B27-AECB-1135152E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976E-85FF-4D9A-A5EB-CA074280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AF8-4A57-40AD-A68F-82E3C9C1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A4DB-BC2D-47DE-ADBF-B58B6775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D28F-EED3-4808-A3D0-61F33418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C736-1B24-47E5-87B8-C29FB6A1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BF92-4C18-4DE5-B43D-0A25244D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99C4-F3ED-4797-BBBB-3C6A8066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64687-E1AF-4E3F-8081-F2B22F6B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37B86-CAB7-429B-9B67-509F0388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A19FF-3BF4-414E-8EEA-2DC49D1B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07D63-A6C5-48A5-A650-6A92F90A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0125B-6F15-46F6-81BB-4582CC33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275-AAA4-4130-8FD7-813696B3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8A2B9-CB5D-447E-B0CD-1F8C3E7F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CBBFC-107D-416E-868E-9471E576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0D0B3-DF1B-4926-A621-D1A0E3DB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077CD-FB18-4DB0-946B-1724B773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FA628-4C6B-4569-9EA9-C280B9A0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5485F-33DD-4D89-B2FF-83C987FA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8CE8D-C43C-4F39-BA0E-36693241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70A-8D8E-486D-B96C-188BD3CE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01CF-8B32-4A4D-9F15-8BDDD798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D7F4-DFB2-4422-BF65-80A2C9FD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3F4-31A7-4240-8730-550C10E6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8D85-B758-4E97-99B7-B0AF26E8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FB76-019E-4FA2-9F36-30E3E2F8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8433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矩形 18434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" name="图片 18435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86D8-C774-45B7-96FB-CF9E8EC249D4}" type="slidenum">
              <a:rPr b="0" lang="zh-CN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D861-9A27-4EE8-AB18-AB06C0FAC2E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E48F-1679-499F-BCAF-53697ADFC26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9457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F88F-74CB-4E3C-965A-C0C07C99BDAA}" type="slidenum">
              <a:rPr b="0" lang="zh-CN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438280" y="620280"/>
            <a:ext cx="563904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短期资金的筹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短期资金的特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筹资成本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风险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筹资速度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筹资机动性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内容占位符 4102" descr="dw17"/>
          <p:cNvPicPr/>
          <p:nvPr/>
        </p:nvPicPr>
        <p:blipFill>
          <a:blip r:embed="rId1"/>
          <a:stretch/>
        </p:blipFill>
        <p:spPr>
          <a:xfrm>
            <a:off x="8172360" y="5516640"/>
            <a:ext cx="600120" cy="955440"/>
          </a:xfrm>
          <a:prstGeom prst="rect">
            <a:avLst/>
          </a:prstGeom>
          <a:ln w="0">
            <a:noFill/>
          </a:ln>
        </p:spPr>
      </p:pic>
      <p:sp>
        <p:nvSpPr>
          <p:cNvPr id="129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971440" y="838080"/>
            <a:ext cx="520380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一、商业信用的种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2/10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n/30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1000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元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00400" y="990360"/>
            <a:ext cx="505152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（一）无成本的商业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   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折扣期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（二）有成本的商业信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   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超过折扣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90920" y="152280"/>
            <a:ext cx="58672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二、商业信用的成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2/10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n/30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1000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成本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=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使用代价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使用的资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= 20/980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×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360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30-10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= 1000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×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2%/1000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1-2%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×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360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30-10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=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折扣百分比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1-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折扣百分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×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360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（信用期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折扣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=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放弃折扣的成本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99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340000" y="404640"/>
            <a:ext cx="6400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三、商业信用筹资决策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（一）不打算享用：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（二）打算享用：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（三）与筹资成本、投资收益率的关系：</a:t>
            </a:r>
            <a:r>
              <a:rPr b="1" i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筹资成本低于放弃折扣的成本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黑体"/>
              </a:rPr>
              <a:t>→</a:t>
            </a:r>
            <a:r>
              <a:rPr b="1" i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享受；投资的收益率高于放弃折扣的成本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黑体"/>
              </a:rPr>
              <a:t>→</a:t>
            </a:r>
            <a:r>
              <a:rPr b="1" i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放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352320" y="304920"/>
            <a:ext cx="3429000" cy="58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流动负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短期借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应付账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应付票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预收账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666520" y="1066680"/>
            <a:ext cx="611820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第一节   银行信用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黑体"/>
              </a:rPr>
              <a:t>P27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Aft>
                <a:spcPts val="28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一、银行信用的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（一）信用贷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（二）抵押贷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（三）贴现借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90560" y="914400"/>
            <a:ext cx="604188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黑体"/>
              </a:rPr>
              <a:t>（一）信用贷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⒈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信用额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99"/>
                </a:solidFill>
                <a:latin typeface="Arial"/>
                <a:ea typeface="黑体"/>
              </a:rPr>
              <a:t>⒉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 </a:t>
            </a:r>
            <a:r>
              <a:rPr b="1" sz="3200" spc="-1" strike="noStrike">
                <a:solidFill>
                  <a:srgbClr val="000099"/>
                </a:solidFill>
                <a:latin typeface="Arial"/>
                <a:ea typeface="黑体"/>
              </a:rPr>
              <a:t>周转信贷协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100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30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万 ；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7.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70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14600" y="380880"/>
            <a:ext cx="62704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spcAft>
                <a:spcPts val="2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cc00"/>
                </a:solidFill>
                <a:uFillTx/>
                <a:latin typeface="Arial"/>
                <a:ea typeface="黑体"/>
              </a:rPr>
              <a:t>信用额度与周转信贷协定的区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周转信贷协定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法律约束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信用额度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没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承诺费   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0.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70×0.2%×6/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971800" y="609120"/>
            <a:ext cx="550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二、银行信用的条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黑体"/>
              </a:rPr>
              <a:t>⒈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单利法（收款法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实际利率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=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名义利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黑体"/>
              </a:rPr>
              <a:t>⒉ 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贴现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实际利率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&gt;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名义利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339640" y="404280"/>
            <a:ext cx="6651720" cy="53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黑体"/>
              </a:rPr>
              <a:t>⒊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分期付款法（附加法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约为名义利率的两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实际利率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=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利息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÷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（贷款金额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/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×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黑体"/>
              </a:rPr>
              <a:t>⒋ 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补偿性余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实际利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=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名义利率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÷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－补偿性余额）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×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7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7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7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7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7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7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666520" y="380880"/>
            <a:ext cx="5715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三、银行信用筹资的优缺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（一）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⒈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短期借款筹资比较方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⒉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弹性较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（二）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⒈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资本成本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⒉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限制较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819160" y="609480"/>
            <a:ext cx="5584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黑体"/>
              </a:rPr>
              <a:t>第二节  商业信用筹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商业信用产生的根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预收账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应付账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商业票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自发性的资金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日期占位符 1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4:39Z</dcterms:created>
  <dc:creator/>
  <dc:description/>
  <cp:keywords>短期资金 筹集</cp:keywords>
  <dc:language>en-US</dc:language>
  <cp:lastModifiedBy>An</cp:lastModifiedBy>
  <dcterms:modified xsi:type="dcterms:W3CDTF">2016-05-01T00:54:3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