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8FB-AE31-41D9-8009-B97D2445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0C4-FCCF-4C50-8CFD-B299070A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E3A-DC78-4CBF-945E-B34AE20C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B4E-CC24-4306-8E17-A708B52C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8A6D-64D0-4903-863C-973971AB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F78D-56C9-42A6-8DD4-28959FFB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A8F9-70E2-4EB2-B972-D317B672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1D9F-361D-4980-AE10-1CA321D0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A0D6-CA60-4DDF-8258-62DF955B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4232-0A80-40CA-9E98-14FD3B0B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773E-BACE-4DF7-A097-6A005F4B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37A-CE57-4DB2-BA21-00C3664D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EF4A-5E06-4C60-A6D2-03AD01E6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6428-043F-4344-A5C5-75FB090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AF0C-2389-4B3C-B84A-8D1F07DF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B6B7-F757-48B3-A85F-EF929B24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B99E-EC8C-4D44-9E6E-545B5949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389-1C0D-470F-AE6A-15CB4F79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B88-2B64-461E-B4F6-1A5F8B77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AE6-357A-4FAE-B8D6-26B6A667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BD2-43FA-4D2E-94BB-C877C5C3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629-C640-478C-AD7A-9D025DB2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B2C-DD4B-4568-BA73-A6D22090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878-8663-4AFF-BEBE-E30315A2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32FC-F9F1-4C75-B2AF-EB1E0F4F6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7680" cy="6867360"/>
              <a:chOff x="-3240" y="0"/>
              <a:chExt cx="906768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0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2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4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06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78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0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2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4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66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38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0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2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4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26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498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0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2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4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86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58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BF43-9FC4-4A22-B82E-485D16947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342900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2778120" y="1125360"/>
            <a:ext cx="19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《分数乘法应用题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457200" y="762120"/>
            <a:ext cx="77724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五年级一班有学生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44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人，参加合唱队的占全班人数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2/11,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参加合唱队的有多少人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838080" y="342900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把全班人数看作单位“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1”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，求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44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人的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2/11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是多少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838080" y="472428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4×2/11=8(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：参加合唱队的有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做一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0" y="5335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04920" y="0"/>
            <a:ext cx="88390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609480" y="3048120"/>
            <a:ext cx="3200040" cy="1186920"/>
            <a:chOff x="609480" y="3048120"/>
            <a:chExt cx="3200040" cy="1186920"/>
          </a:xfrm>
        </p:grpSpPr>
        <p:sp>
          <p:nvSpPr>
            <p:cNvPr id="275" name="Line 7"/>
            <p:cNvSpPr/>
            <p:nvPr/>
          </p:nvSpPr>
          <p:spPr>
            <a:xfrm>
              <a:off x="943200" y="3179880"/>
              <a:ext cx="2358360" cy="791280"/>
            </a:xfrm>
            <a:prstGeom prst="line">
              <a:avLst/>
            </a:prstGeom>
            <a:ln w="540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Oval 8"/>
            <p:cNvSpPr/>
            <p:nvPr/>
          </p:nvSpPr>
          <p:spPr>
            <a:xfrm>
              <a:off x="609480" y="3048120"/>
              <a:ext cx="1010520" cy="1317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Oval 9"/>
            <p:cNvSpPr/>
            <p:nvPr/>
          </p:nvSpPr>
          <p:spPr>
            <a:xfrm>
              <a:off x="3135960" y="3707640"/>
              <a:ext cx="673560" cy="2635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10"/>
            <p:cNvSpPr/>
            <p:nvPr/>
          </p:nvSpPr>
          <p:spPr>
            <a:xfrm>
              <a:off x="1956960" y="3443760"/>
              <a:ext cx="0" cy="79128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9" name="Group 11"/>
          <p:cNvGrpSpPr/>
          <p:nvPr/>
        </p:nvGrpSpPr>
        <p:grpSpPr>
          <a:xfrm>
            <a:off x="4800600" y="3124080"/>
            <a:ext cx="3200040" cy="1187640"/>
            <a:chOff x="4800600" y="3124080"/>
            <a:chExt cx="3200040" cy="1187640"/>
          </a:xfrm>
        </p:grpSpPr>
        <p:sp>
          <p:nvSpPr>
            <p:cNvPr id="280" name="Line 12"/>
            <p:cNvSpPr/>
            <p:nvPr/>
          </p:nvSpPr>
          <p:spPr>
            <a:xfrm>
              <a:off x="5134320" y="3255840"/>
              <a:ext cx="2358360" cy="791640"/>
            </a:xfrm>
            <a:prstGeom prst="line">
              <a:avLst/>
            </a:prstGeom>
            <a:ln w="540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Oval 13"/>
            <p:cNvSpPr/>
            <p:nvPr/>
          </p:nvSpPr>
          <p:spPr>
            <a:xfrm>
              <a:off x="4800600" y="3124080"/>
              <a:ext cx="1010520" cy="1317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Oval 14"/>
            <p:cNvSpPr/>
            <p:nvPr/>
          </p:nvSpPr>
          <p:spPr>
            <a:xfrm>
              <a:off x="7327080" y="3783960"/>
              <a:ext cx="673560" cy="2635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15"/>
            <p:cNvSpPr/>
            <p:nvPr/>
          </p:nvSpPr>
          <p:spPr>
            <a:xfrm>
              <a:off x="6148080" y="3520080"/>
              <a:ext cx="0" cy="7916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4" name="Picture 16" descr="AN02542_"/>
          <p:cNvPicPr/>
          <p:nvPr/>
        </p:nvPicPr>
        <p:blipFill>
          <a:blip r:embed="rId1"/>
          <a:stretch/>
        </p:blipFill>
        <p:spPr>
          <a:xfrm>
            <a:off x="457200" y="2286000"/>
            <a:ext cx="1143000" cy="957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7" descr="AN02479_"/>
          <p:cNvPicPr/>
          <p:nvPr/>
        </p:nvPicPr>
        <p:blipFill>
          <a:blip r:embed="rId2"/>
          <a:stretch/>
        </p:blipFill>
        <p:spPr>
          <a:xfrm>
            <a:off x="2895480" y="2666880"/>
            <a:ext cx="1405080" cy="1257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AN02542_"/>
          <p:cNvPicPr/>
          <p:nvPr/>
        </p:nvPicPr>
        <p:blipFill>
          <a:blip r:embed="rId3"/>
          <a:stretch/>
        </p:blipFill>
        <p:spPr>
          <a:xfrm>
            <a:off x="7086600" y="3048120"/>
            <a:ext cx="1066680" cy="1031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AN02097_"/>
          <p:cNvPicPr/>
          <p:nvPr/>
        </p:nvPicPr>
        <p:blipFill>
          <a:blip r:embed="rId4"/>
          <a:stretch/>
        </p:blipFill>
        <p:spPr>
          <a:xfrm>
            <a:off x="4724280" y="2057400"/>
            <a:ext cx="962280" cy="1123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0"/>
          <p:cNvSpPr/>
          <p:nvPr/>
        </p:nvSpPr>
        <p:spPr>
          <a:xfrm>
            <a:off x="533520" y="4648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马的重量是青蛙的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9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95288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鸟的重量是青蛙的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835560"/>
            <a:ext cx="8162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图示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5791320" y="1752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青蛙的重量是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6"/>
          <p:cNvSpPr/>
          <p:nvPr/>
        </p:nvSpPr>
        <p:spPr>
          <a:xfrm>
            <a:off x="533520" y="5410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Verdana"/>
              </a:rPr>
              <a:t>2×9=18(</a:t>
            </a:r>
            <a:r>
              <a:rPr b="1" lang="zh-CN" sz="3200" spc="-1" strike="noStrike">
                <a:solidFill>
                  <a:srgbClr val="9a0000"/>
                </a:solidFill>
                <a:latin typeface="Verdana"/>
              </a:rPr>
              <a:t>千克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4724280" y="54100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Verdana"/>
              </a:rPr>
              <a:t>2 ×3/4=3/2(</a:t>
            </a:r>
            <a:r>
              <a:rPr b="1" lang="zh-CN" sz="3200" spc="-1" strike="noStrike">
                <a:solidFill>
                  <a:srgbClr val="9a0000"/>
                </a:solidFill>
                <a:latin typeface="Verdana"/>
              </a:rPr>
              <a:t>千克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398-7C74-49B2-BDC4-ECB051288A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Verdana"/>
                <a:ea typeface="黑体"/>
              </a:rPr>
              <a:t>注意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110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Verdana"/>
                <a:ea typeface="幼圆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Verdana"/>
                <a:ea typeface="幼圆"/>
              </a:rPr>
              <a:t>求一个数的几倍是多少”和“求一个数的几分之几是多少”的数量关系是相同的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38080" y="43434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Verdana"/>
                <a:ea typeface="幼圆"/>
              </a:rPr>
              <a:t>一个数乘分数实际也是求这个数的几分之几倍，习惯上把“倍”省去，就说求这个数的几分这几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4038480" y="2666880"/>
            <a:ext cx="10670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7"/>
          <p:cNvSpPr/>
          <p:nvPr/>
        </p:nvSpPr>
        <p:spPr>
          <a:xfrm>
            <a:off x="2743200" y="3276720"/>
            <a:ext cx="198108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巩固练习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:  </a:t>
            </a: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找单位“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1”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一本书，已经看了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2/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38080" y="32004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电视机的台数是录音机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1/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914400" y="4572000"/>
            <a:ext cx="754380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蜻蜓的只数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4/7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等于蝴蝶的只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8110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在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20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1/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6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这四个数中，任意选择两个数，编出乘法算式，并计算出结果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066680" y="3733920"/>
            <a:ext cx="6248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20×1/5            20×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20×3/4            1/5×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1/5×3/4           6×3/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5805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33200" y="129528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20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的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/5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838080" y="441972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求一个数的几分之几是多少，用乘法来计算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066680" y="2971800"/>
            <a:ext cx="838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6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的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例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811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学校买来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千克白菜，吃了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____________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28"/>
          <p:cNvSpPr/>
          <p:nvPr/>
        </p:nvSpPr>
        <p:spPr>
          <a:xfrm>
            <a:off x="0" y="3124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Verdana"/>
              </a:rPr>
              <a:t>吃了多少千克白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1029"/>
          <p:cNvSpPr/>
          <p:nvPr/>
        </p:nvSpPr>
        <p:spPr>
          <a:xfrm>
            <a:off x="533520" y="45720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</a:rPr>
              <a:t>还剩多少千克白菜没有吃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9"/>
          <p:cNvSpPr/>
          <p:nvPr/>
        </p:nvSpPr>
        <p:spPr>
          <a:xfrm>
            <a:off x="1042920" y="213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1028" descr="1"/>
          <p:cNvPicPr/>
          <p:nvPr/>
        </p:nvPicPr>
        <p:blipFill>
          <a:blip r:embed="rId1"/>
          <a:stretch/>
        </p:blipFill>
        <p:spPr>
          <a:xfrm>
            <a:off x="76212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29" descr="1"/>
          <p:cNvPicPr/>
          <p:nvPr/>
        </p:nvPicPr>
        <p:blipFill>
          <a:blip r:embed="rId2"/>
          <a:stretch/>
        </p:blipFill>
        <p:spPr>
          <a:xfrm>
            <a:off x="685800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30" descr="1"/>
          <p:cNvPicPr/>
          <p:nvPr/>
        </p:nvPicPr>
        <p:blipFill>
          <a:blip r:embed="rId3"/>
          <a:stretch/>
        </p:blipFill>
        <p:spPr>
          <a:xfrm>
            <a:off x="5334120" y="205740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31" descr="1"/>
          <p:cNvPicPr/>
          <p:nvPr/>
        </p:nvPicPr>
        <p:blipFill>
          <a:blip r:embed="rId4"/>
          <a:stretch/>
        </p:blipFill>
        <p:spPr>
          <a:xfrm>
            <a:off x="373392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32" descr="1"/>
          <p:cNvPicPr/>
          <p:nvPr/>
        </p:nvPicPr>
        <p:blipFill>
          <a:blip r:embed="rId5"/>
          <a:stretch/>
        </p:blipFill>
        <p:spPr>
          <a:xfrm>
            <a:off x="2286000" y="1981080"/>
            <a:ext cx="1104840" cy="128268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1035"/>
          <p:cNvGrpSpPr/>
          <p:nvPr/>
        </p:nvGrpSpPr>
        <p:grpSpPr>
          <a:xfrm>
            <a:off x="762120" y="3428640"/>
            <a:ext cx="7238880" cy="1343880"/>
            <a:chOff x="762120" y="3428640"/>
            <a:chExt cx="7238880" cy="1343880"/>
          </a:xfrm>
        </p:grpSpPr>
        <p:sp>
          <p:nvSpPr>
            <p:cNvPr id="230" name="AutoShape 1033"/>
            <p:cNvSpPr/>
            <p:nvPr/>
          </p:nvSpPr>
          <p:spPr>
            <a:xfrm rot="16200000">
              <a:off x="4038480" y="151920"/>
              <a:ext cx="685800" cy="723888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188640 h 7238880"/>
                <a:gd name="textAreaBottom" fmla="*/ 7050240 h 72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Text Box 1034"/>
            <p:cNvSpPr/>
            <p:nvPr/>
          </p:nvSpPr>
          <p:spPr>
            <a:xfrm>
              <a:off x="2971800" y="4191120"/>
              <a:ext cx="289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Verdana"/>
                </a:rPr>
                <a:t>100</a:t>
              </a:r>
              <a:r>
                <a:rPr b="1" lang="zh-CN" sz="3200" spc="-1" strike="noStrike">
                  <a:solidFill>
                    <a:srgbClr val="008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2" name="Group 1045"/>
          <p:cNvGrpSpPr/>
          <p:nvPr/>
        </p:nvGrpSpPr>
        <p:grpSpPr>
          <a:xfrm>
            <a:off x="762120" y="1981080"/>
            <a:ext cx="5676840" cy="1359000"/>
            <a:chOff x="762120" y="1981080"/>
            <a:chExt cx="5676840" cy="1359000"/>
          </a:xfrm>
        </p:grpSpPr>
        <p:pic>
          <p:nvPicPr>
            <p:cNvPr id="233" name="Picture 1037" descr="1"/>
            <p:cNvPicPr/>
            <p:nvPr/>
          </p:nvPicPr>
          <p:blipFill>
            <a:blip r:embed="rId6"/>
            <a:stretch/>
          </p:blipFill>
          <p:spPr>
            <a:xfrm>
              <a:off x="2286000" y="1981080"/>
              <a:ext cx="110520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038" descr="1"/>
            <p:cNvPicPr/>
            <p:nvPr/>
          </p:nvPicPr>
          <p:blipFill>
            <a:blip r:embed="rId7"/>
            <a:stretch/>
          </p:blipFill>
          <p:spPr>
            <a:xfrm>
              <a:off x="3733920" y="1981080"/>
              <a:ext cx="110484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039" descr="1"/>
            <p:cNvPicPr/>
            <p:nvPr/>
          </p:nvPicPr>
          <p:blipFill>
            <a:blip r:embed="rId8"/>
            <a:stretch/>
          </p:blipFill>
          <p:spPr>
            <a:xfrm>
              <a:off x="5334120" y="2057400"/>
              <a:ext cx="110484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040" descr="1"/>
            <p:cNvPicPr/>
            <p:nvPr/>
          </p:nvPicPr>
          <p:blipFill>
            <a:blip r:embed="rId9"/>
            <a:stretch/>
          </p:blipFill>
          <p:spPr>
            <a:xfrm>
              <a:off x="762120" y="1981080"/>
              <a:ext cx="1104840" cy="12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1044"/>
          <p:cNvGrpSpPr/>
          <p:nvPr/>
        </p:nvGrpSpPr>
        <p:grpSpPr>
          <a:xfrm>
            <a:off x="761760" y="838080"/>
            <a:ext cx="5638680" cy="1066680"/>
            <a:chOff x="761760" y="838080"/>
            <a:chExt cx="5638680" cy="1066680"/>
          </a:xfrm>
        </p:grpSpPr>
        <p:sp>
          <p:nvSpPr>
            <p:cNvPr id="238" name="AutoShape 1042"/>
            <p:cNvSpPr/>
            <p:nvPr/>
          </p:nvSpPr>
          <p:spPr>
            <a:xfrm rot="5400000">
              <a:off x="3314520" y="-1181160"/>
              <a:ext cx="533160" cy="56386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146880 h 5638680"/>
                <a:gd name="textAreaBottom" fmla="*/ 5491800 h 56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Text Box 1043"/>
            <p:cNvSpPr/>
            <p:nvPr/>
          </p:nvSpPr>
          <p:spPr>
            <a:xfrm>
              <a:off x="2590920" y="8380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Verdana"/>
                </a:rPr>
                <a:t>4/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3"/>
          <p:cNvSpPr/>
          <p:nvPr/>
        </p:nvSpPr>
        <p:spPr>
          <a:xfrm>
            <a:off x="1066680" y="1981080"/>
            <a:ext cx="67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3"/>
          <p:cNvSpPr/>
          <p:nvPr/>
        </p:nvSpPr>
        <p:spPr>
          <a:xfrm>
            <a:off x="762120" y="1905120"/>
            <a:ext cx="7391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" name="Group 63"/>
          <p:cNvGrpSpPr/>
          <p:nvPr/>
        </p:nvGrpSpPr>
        <p:grpSpPr>
          <a:xfrm>
            <a:off x="2286000" y="2133720"/>
            <a:ext cx="5028480" cy="2406240"/>
            <a:chOff x="2286000" y="2133720"/>
            <a:chExt cx="5028480" cy="2406240"/>
          </a:xfrm>
        </p:grpSpPr>
        <p:grpSp>
          <p:nvGrpSpPr>
            <p:cNvPr id="244" name="Group 36"/>
            <p:cNvGrpSpPr/>
            <p:nvPr/>
          </p:nvGrpSpPr>
          <p:grpSpPr>
            <a:xfrm>
              <a:off x="2286000" y="2590560"/>
              <a:ext cx="5028480" cy="1949400"/>
              <a:chOff x="2286000" y="2590560"/>
              <a:chExt cx="5028480" cy="1949400"/>
            </a:xfrm>
          </p:grpSpPr>
          <p:sp>
            <p:nvSpPr>
              <p:cNvPr id="245" name="Line 34"/>
              <p:cNvSpPr/>
              <p:nvPr/>
            </p:nvSpPr>
            <p:spPr>
              <a:xfrm>
                <a:off x="2296080" y="4539960"/>
                <a:ext cx="50184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35"/>
              <p:cNvSpPr/>
              <p:nvPr/>
            </p:nvSpPr>
            <p:spPr>
              <a:xfrm flipV="1" rot="16200000">
                <a:off x="4549320" y="327240"/>
                <a:ext cx="491760" cy="5018400"/>
              </a:xfrm>
              <a:custGeom>
                <a:avLst/>
                <a:gdLst>
                  <a:gd name="textAreaLeft" fmla="*/ 0 w 491760"/>
                  <a:gd name="textAreaRight" fmla="*/ 177480 w 491760"/>
                  <a:gd name="textAreaTop" fmla="*/ 130680 h 5018400"/>
                  <a:gd name="textAreaBottom" fmla="*/ 4887720 h 501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Text Box 37"/>
            <p:cNvSpPr/>
            <p:nvPr/>
          </p:nvSpPr>
          <p:spPr>
            <a:xfrm>
              <a:off x="3733920" y="213372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100</a:t>
              </a:r>
              <a:r>
                <a:rPr b="1" lang="zh-CN" sz="3200" spc="-1" strike="noStrike">
                  <a:solidFill>
                    <a:srgbClr val="9a0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8" name="Group 54"/>
          <p:cNvGrpSpPr/>
          <p:nvPr/>
        </p:nvGrpSpPr>
        <p:grpSpPr>
          <a:xfrm>
            <a:off x="2286000" y="4343040"/>
            <a:ext cx="5029200" cy="228960"/>
            <a:chOff x="2286000" y="4343040"/>
            <a:chExt cx="5029200" cy="228960"/>
          </a:xfrm>
        </p:grpSpPr>
        <p:sp>
          <p:nvSpPr>
            <p:cNvPr id="249" name="Line 38"/>
            <p:cNvSpPr/>
            <p:nvPr/>
          </p:nvSpPr>
          <p:spPr>
            <a:xfrm>
              <a:off x="2286000" y="434340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41"/>
            <p:cNvSpPr/>
            <p:nvPr/>
          </p:nvSpPr>
          <p:spPr>
            <a:xfrm flipV="1">
              <a:off x="7315200" y="434304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Line 46"/>
            <p:cNvSpPr/>
            <p:nvPr/>
          </p:nvSpPr>
          <p:spPr>
            <a:xfrm flipV="1">
              <a:off x="335268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49"/>
            <p:cNvSpPr/>
            <p:nvPr/>
          </p:nvSpPr>
          <p:spPr>
            <a:xfrm flipV="1">
              <a:off x="525780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52"/>
            <p:cNvSpPr/>
            <p:nvPr/>
          </p:nvSpPr>
          <p:spPr>
            <a:xfrm flipV="1">
              <a:off x="632448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53"/>
            <p:cNvSpPr/>
            <p:nvPr/>
          </p:nvSpPr>
          <p:spPr>
            <a:xfrm flipV="1">
              <a:off x="434340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" name="Group 65"/>
          <p:cNvGrpSpPr/>
          <p:nvPr/>
        </p:nvGrpSpPr>
        <p:grpSpPr>
          <a:xfrm>
            <a:off x="2286000" y="3124080"/>
            <a:ext cx="4038480" cy="990720"/>
            <a:chOff x="2286000" y="3124080"/>
            <a:chExt cx="4038480" cy="990720"/>
          </a:xfrm>
        </p:grpSpPr>
        <p:sp>
          <p:nvSpPr>
            <p:cNvPr id="256" name="AutoShape 57"/>
            <p:cNvSpPr/>
            <p:nvPr/>
          </p:nvSpPr>
          <p:spPr>
            <a:xfrm rot="5400000">
              <a:off x="4038480" y="1828440"/>
              <a:ext cx="533520" cy="40384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55"/>
                  </a:lnTo>
                  <a:cubicBezTo>
                    <a:pt x="10800" y="9755"/>
                    <a:pt x="5400" y="10655"/>
                    <a:pt x="0" y="10655"/>
                  </a:cubicBezTo>
                  <a:cubicBezTo>
                    <a:pt x="5400" y="10655"/>
                    <a:pt x="10800" y="11555"/>
                    <a:pt x="10800" y="1245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Text Box 58"/>
            <p:cNvSpPr/>
            <p:nvPr/>
          </p:nvSpPr>
          <p:spPr>
            <a:xfrm>
              <a:off x="2895480" y="31240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?</a:t>
              </a:r>
              <a:r>
                <a:rPr b="1" lang="zh-CN" sz="3200" spc="-1" strike="noStrike">
                  <a:solidFill>
                    <a:srgbClr val="9a0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" name="Group 64"/>
          <p:cNvGrpSpPr/>
          <p:nvPr/>
        </p:nvGrpSpPr>
        <p:grpSpPr>
          <a:xfrm>
            <a:off x="2286000" y="4800600"/>
            <a:ext cx="4038480" cy="1038600"/>
            <a:chOff x="2286000" y="4800600"/>
            <a:chExt cx="4038480" cy="1038600"/>
          </a:xfrm>
        </p:grpSpPr>
        <p:sp>
          <p:nvSpPr>
            <p:cNvPr id="259" name="AutoShape 61"/>
            <p:cNvSpPr/>
            <p:nvPr/>
          </p:nvSpPr>
          <p:spPr>
            <a:xfrm rot="16200000">
              <a:off x="4076640" y="3009960"/>
              <a:ext cx="457200" cy="40384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Text Box 62"/>
            <p:cNvSpPr/>
            <p:nvPr/>
          </p:nvSpPr>
          <p:spPr>
            <a:xfrm>
              <a:off x="2971800" y="52578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4/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0" y="19810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求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100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千克的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4/5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，用乘法计算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38080" y="3581280"/>
            <a:ext cx="754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×4/5=80(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答：吃了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8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白菜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609480" y="35812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，是把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看作单位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，平均分成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份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取其中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份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09480" y="182880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这道题中把什么看作单位“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1”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要求吃了多少千克白菜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   </a:t>
            </a: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就是求什么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38080" y="39625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就是求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5Z</dcterms:created>
  <dc:creator/>
  <dc:description/>
  <cp:keywords>幻灯片之家 http:/www.eeppt.com</cp:keywords>
  <dc:language>en-US</dc:language>
  <cp:lastModifiedBy/>
  <dcterms:modified xsi:type="dcterms:W3CDTF">2015-07-04T07:51:35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