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whoosh.wav" ContentType="audio/x-wav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E3F0-693E-44E2-A871-7C0B3BF18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3E0E-EA45-499C-814E-FE3C8764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99DD-8632-412E-BF11-DF00056E4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7191-1C4D-4E2C-B9A4-2E02F7BD8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A4A9-51FE-461D-B4A9-375325A7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D422-750C-477B-A8FC-6E5F9ECC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BBB3-CAE3-4CAB-B64E-C754EB10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5CA7-9A7E-4492-B5DC-684183A6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B1F4C-64BA-45F5-8D00-EDEDE439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2CD34-FF95-467B-9071-5F5DC05F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2B76-501F-40A9-8506-775A4D93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B9C9-AF0D-432B-9C6A-BA2E7BD4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4E7E-F0D0-4DD6-819C-F0AA365F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B240-05C2-44FA-9B7E-8922D258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E12A-84BB-49E6-AB45-53489CFB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6DB3-7CA8-48F8-9840-B4436AF55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9FEE-DDDB-4F5C-AEAB-5E06D25D1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774D0-0C61-456A-92C6-6214EE7EC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74D6A-A27D-4301-B46D-60889208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2F23A-09A6-4A42-9DB8-D169CCFA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3D8C4-1DD4-48CE-826B-582FFB6C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DB03B-D49A-4078-81E6-D35454DC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840C-1AFE-4C0A-A894-8CB1B571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88081-0EAF-423D-8E2F-82F51DFF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2FEA7-6C9A-4E78-A73A-231C914F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82FDA-3F70-49F0-9E65-0577B0C5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FED24-FFE6-4AE9-B521-B95F7894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2C648-21C4-429C-87DF-063909B1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C18A7-8DD3-47AE-916A-4C0B6566A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633EA-BAF6-4336-9349-C811D68AD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03D1-725A-49FA-9089-010F4C69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F8E0-2E44-41A8-8513-337F1430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0E3A-704A-4BFC-A897-F5A0A559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37AF-5198-420B-A5B0-E3B35F4D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14EF-0DE1-4CE3-B0A0-F8D4D339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DB2B-EC72-4F7F-B52F-DB184D55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0B33-ABDF-4FF1-9ECF-0388176D85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72A0-F977-4EBF-ADAD-27845AD0E92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3A85-7A14-4EF4-9FBE-4C6EF31946C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C46C-36B3-4222-96F9-7876F1442AA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86984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Tahoma"/>
                <a:ea typeface="宋体"/>
              </a:rPr>
              <a:t>废水的深度厌氧处理技术</a:t>
            </a: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  <a:ea typeface="宋体"/>
            </a:endParaRPr>
          </a:p>
        </p:txBody>
      </p:sp>
      <p:sp>
        <p:nvSpPr>
          <p:cNvPr id="125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ffff"/>
                </a:solidFill>
                <a:latin typeface="Times New Roman"/>
              </a:rPr>
              <a:t>厌氧微生物的“固定”技术</a:t>
            </a:r>
            <a:endParaRPr b="0" lang="en-US" sz="32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不让微生物流失，就是将其“固定”在反应器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固定技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悬浮污泥，污泥在水中呈悬浮状态，随水流动，随水流出。在池外进行污水分离，然后把分离出来的、较浓的污泥，回流进入池中，以保证池中有一定浓度的污泥。当然，也有技术是将池中的水（不含污泥）抽出来，污泥剩下。就是所谓的“膜生物技术”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生物膜，污泥长在较大固定上（或污泥聚集在一起），污泥不再顺水漂流，以被固定在池中。例如：厌氧滤池、</a:t>
            </a: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厌氧颗粒污泥法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膜法用得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ffff"/>
                </a:solidFill>
                <a:latin typeface="Times New Roman"/>
              </a:rPr>
              <a:t>操作和时间的关系</a:t>
            </a:r>
            <a:endParaRPr b="0" lang="en-US" sz="32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间歇运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操作条件和时间有关，不同的时间有不同操作运行模式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厌氧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BR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法（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SBR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），我个人不认为“是个好主意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连续操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操作条件和时间无关，一般什么情况下，什么时候操作方式都一样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人类后来才学会的方法，在工业革命中走向高潮，先在水处理、化工等行业中用，后来连机械生产也搞起来“流水线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水处理中大多数都是如此，只有个别“逆流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注意：一天开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小时，一旦开了就是连续的现象也是：连续操作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ffff"/>
                </a:solidFill>
                <a:latin typeface="Times New Roman"/>
              </a:rPr>
              <a:t>流动（混合）的型式</a:t>
            </a:r>
            <a:endParaRPr b="0" lang="en-US" sz="32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从流动（混合）型式也分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完全混合式、推流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完全混合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不同年龄的水、微生物、污染物完全混合在一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反应器内任何一点处的性质完全相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出水中各种寿命的水、微生物、污染物都有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出水性质和池内水的性质一样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推流式（活塞流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不同年龄的水、污染物、微生物决不相混，出水中都为同一个寿命，池中各点的性质不相同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实际流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介于二个理想的、极端的模型之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对于某个反应器，大家要分析接近哪个极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ffff"/>
                </a:solidFill>
                <a:latin typeface="Times New Roman"/>
              </a:rPr>
              <a:t>回流和不回流</a:t>
            </a:r>
            <a:endParaRPr b="0" lang="en-US" sz="32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不回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出反应器的水不再回到反应器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不回流的厌氧反应器多一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回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有些厌氧系统回流，但回流比不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厌氧氧化沟，可以看成回流比很大的反应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内部回流（内循环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从“机理”上很难和“搅拌混合”分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有厌氧内循环反应器，下面我们还会听到有关人员阐述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ffff"/>
                </a:solidFill>
                <a:latin typeface="Times New Roman"/>
              </a:rPr>
              <a:t>多相反应系统</a:t>
            </a:r>
            <a:endParaRPr b="0" lang="en-US" sz="32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酸化相”反应器在前，“甲烷相”反应器在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愿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分工负责。化工上，任务单一的反应器，效率高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希望：总体积小一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问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厌氧微生物和咱们中国人一样，喜欢伙在一起。原因，我们可在帖子上讨论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在工程上很难做到：不让前面的反应器产气，不让后面的反应器酸化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如果前反应器足够大，后反应器可以省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如果前反应器足够小，前反应器可以省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二器串联造成工程上、操作上麻烦很多！大家都是工程师我们提出，大家也都知道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ffff"/>
                </a:solidFill>
                <a:latin typeface="Times New Roman"/>
              </a:rPr>
              <a:t>微生物相对于反应器的位置</a:t>
            </a:r>
            <a:endParaRPr b="0" lang="en-US" sz="32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流化床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微生物和流体一起流动（相对流体不动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厌氧流化床、厌氧发酵罐、厌氧接触氧化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固定床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微生物相对反应器不动（相对对流体动）（固定床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厌氧滤床、厌氧生物滤池、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ASB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底部、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膨胀床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介于二者之间的，也就是，微生物相对于反应器小幅度地上下运动，但相对于流体也动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例如：膨胀床、悬浮床、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实际情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总是介于这些极端情况之间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ffff"/>
                </a:solidFill>
                <a:latin typeface="Times New Roman"/>
              </a:rPr>
              <a:t>厌氧生物的载体</a:t>
            </a:r>
            <a:r>
              <a:rPr b="0" lang="en-US" sz="3200" spc="-1" strike="noStrike">
                <a:solidFill>
                  <a:srgbClr val="e5ffff"/>
                </a:solidFill>
                <a:latin typeface="Times New Roman"/>
              </a:rPr>
              <a:t>——</a:t>
            </a:r>
            <a:r>
              <a:rPr b="0" lang="zh-CN" sz="3200" spc="-1" strike="noStrike">
                <a:solidFill>
                  <a:srgbClr val="e5ffff"/>
                </a:solidFill>
                <a:latin typeface="Times New Roman"/>
              </a:rPr>
              <a:t>填料</a:t>
            </a:r>
            <a:endParaRPr b="0" lang="en-US" sz="32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厌氧反应器加不加填料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好几个反复了：先不加！发现不行，加！加了也不行，又不加！个别单位仍坚持加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我建议：不加不行时，只好加！加了没有坏处，又有别人坚持加时，就加！加了使问题严重，顶住不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加填料带来许多问题，但也带来一定的作用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载体一般称为：填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刚性、软性、半软性、组合填料；无机、有机；悬浮、固定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注意：厌氧污泥和好氧污泥相比，挂膜很是不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还是产气造成的问题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大家不仿回去做做挂膜实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国内的论文不多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研究生们试试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ffff"/>
                </a:solidFill>
                <a:latin typeface="Times New Roman"/>
              </a:rPr>
              <a:t>高温、中温、低温厌氧</a:t>
            </a:r>
            <a:endParaRPr b="0" lang="en-US" sz="32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高温厌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温度在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0~65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用的不少，主要用于固体发酵，在酒精行业在多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问题：颗粒污泥形成待研究，抗毒性待提高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中温厌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温度在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0~40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用的最多，研究最多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低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温度在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8℃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以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工业上应用不多，研究待加强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我们现在是研究人员（研究生），成果不多，工程有用的研究不多，基础的研究也不多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Times New Roman"/>
              </a:rPr>
              <a:t>几种厌氧反应器分析</a:t>
            </a: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分析某个反应器千万别看其优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你就是不想看其优点也不行，教授、博士、专家、厂家、公司、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，不停在你耳边大声喊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当然我不是建议大家拒绝新生事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你没有用过的，就是新生，新生的最大问题：没有经验、还没有吃过亏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分析反应器，找不出它的缺点不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设计人员如果找不到不足，就无法在工程中克服这些不足，冒险去模仿、设计，肯定导致失败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研究人员如果找不到不足，就无法找到前进的目标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领导如果找不到不足，说明你还不了解它，还需要找专家、依靠专家。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找到不足，不一定就能弥补这些不足。你的措施可能使问题更糟，也很可能“按住了葫芦，漂起了瓢”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0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Times New Roman"/>
              </a:rPr>
              <a:t>厌氧接触氧化（</a:t>
            </a:r>
            <a:r>
              <a:rPr b="0" lang="en-US" sz="4400" spc="-1" strike="noStrike">
                <a:solidFill>
                  <a:srgbClr val="e5ffff"/>
                </a:solidFill>
                <a:latin typeface="Times New Roman"/>
              </a:rPr>
              <a:t>ACO</a:t>
            </a:r>
            <a:r>
              <a:rPr b="0" lang="zh-CN" sz="4400" spc="-1" strike="noStrike">
                <a:solidFill>
                  <a:srgbClr val="e5ffff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流程和反应器类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模仿“活性污泥法”，和好氧的活性污泥法的流程一样。厌氧反应器出水进入二沉池，厌氧污泥回流，上清液排放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一般为完全混合反应器，采用悬浮污泥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问题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二沉池中产气，厌氧污泥沉不下来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回流水的污泥浓度低，导致反应器中的微生物量低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出水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S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高，污泥流失可能会大于产生的速度，反应器中的微生物量越来越低，直至很低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应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国内基本上没有单位“号称”走此路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有些单位的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ASB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等系统，采用回流，其实就是此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厌氧流化床一般都采用回流，和其区别为流化床内的厌氧浓度可能高，如果不高，就是此法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0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Times New Roman"/>
              </a:rPr>
              <a:t>什么是好的废水处理技术</a:t>
            </a: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高污染物去除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能满足当地的排放要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低投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低运行费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低占地要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对熟练的管理、操作人员要求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处理前后都不需要新鲜水稀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最好有副产品，或出水能回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效果、运行稳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Times New Roman"/>
              </a:rPr>
              <a:t>厌氧发酵罐（</a:t>
            </a:r>
            <a:r>
              <a:rPr b="0" lang="en-US" sz="4400" spc="-1" strike="noStrike">
                <a:solidFill>
                  <a:srgbClr val="e5ffff"/>
                </a:solidFill>
                <a:latin typeface="Times New Roman"/>
              </a:rPr>
              <a:t>ADT</a:t>
            </a:r>
            <a:r>
              <a:rPr b="0" lang="zh-CN" sz="4400" spc="-1" strike="noStrike">
                <a:solidFill>
                  <a:srgbClr val="e5ffff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起源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是固体发酵技术的移殖，例如，污泥消化技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再例如，农村粪便产沼气技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流程与反应器类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一般设计目标为：完全混合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大家用了许许多多精力，进行了许许多多的“小修小补”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应用和问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应用较多，仍有人用，尤其酒精行业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问题和厌氧接触氧化法相同。但是，如果固体发酵，罐内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S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还可以。效率也能保持在一定的值上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表现为：反应器中微生物量低，出水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S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严重且不好分离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去除率低。或停留时间太长，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天是个中间值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对较低浓度废水无法适用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0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Times New Roman"/>
              </a:rPr>
              <a:t>厌氧流化床（</a:t>
            </a:r>
            <a:r>
              <a:rPr b="0" lang="en-US" sz="4400" spc="-1" strike="noStrike">
                <a:solidFill>
                  <a:srgbClr val="e5ffff"/>
                </a:solidFill>
                <a:latin typeface="Times New Roman"/>
              </a:rPr>
              <a:t>FB</a:t>
            </a:r>
            <a:r>
              <a:rPr b="0" lang="zh-CN" sz="4400" spc="-1" strike="noStrike">
                <a:solidFill>
                  <a:srgbClr val="e5ffff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挺早的技术，比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AS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还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也是上流式，希望厌氧污泥长在颗粒填料上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问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厌氧污泥长在颗粒上比较困难，且不牢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填料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污泥形成的颗粒被上流水冲起来形成流化态不容易，流速要几十米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小时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能被冲起来的颗粒，在后面的沉淀池中不好沉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如果流速不大，不加填料，和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ASB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很难区分。尴尬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如果，器内污泥浓度低，又和厌氧接触氧化无法区分。尴尬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不加填料也能形成“颗粒”，尴尬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0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Times New Roman"/>
              </a:rPr>
              <a:t>上流式厌氧污泥床（</a:t>
            </a:r>
            <a:r>
              <a:rPr b="0" lang="en-US" sz="4400" spc="-1" strike="noStrike">
                <a:solidFill>
                  <a:srgbClr val="e5ffff"/>
                </a:solidFill>
                <a:latin typeface="Times New Roman"/>
              </a:rPr>
              <a:t>UASB</a:t>
            </a:r>
            <a:r>
              <a:rPr b="0" lang="zh-CN" sz="4400" spc="-1" strike="noStrike">
                <a:solidFill>
                  <a:srgbClr val="e5ffff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污泥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水从反应器底部（进水区）均匀进入，在反应器顶部（出水区）均匀地流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污泥在反应器底呈“固定”床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被冲起来的“污泥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气泡”颗粒，形成悬浮床，甚至是流化床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有“三相分离器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把“污泥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气泡”颗粒从水中分离出来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把污泥和气泡进行分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污泥流出反应器较少，不必回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问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设计三相分离不容易，运行时污泥流失严重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调试时间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运行稳定性有待提高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0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Times New Roman"/>
              </a:rPr>
              <a:t>厌氧膨胀床（</a:t>
            </a:r>
            <a:r>
              <a:rPr b="0" lang="en-US" sz="4400" spc="-1" strike="noStrike">
                <a:solidFill>
                  <a:srgbClr val="e5ffff"/>
                </a:solidFill>
                <a:latin typeface="Times New Roman"/>
              </a:rPr>
              <a:t>EB</a:t>
            </a:r>
            <a:r>
              <a:rPr b="0" lang="zh-CN" sz="4400" spc="-1" strike="noStrike">
                <a:solidFill>
                  <a:srgbClr val="e5ffff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AS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上的“改进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希望污泥别躺在反应器底部不动，而是呈膨胀悬，积极工作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认为：这样污泥和水的接触好，理论上讲负荷可以高一些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问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无法找到一个上游速度，刚好托起污泥，而不冲走它们。注意：器的污泥大小不一，沉降性能相差很大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对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ASB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的稳定性差这个不足，如火上浇油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我们和英国人搞了二三年的中试，没办法！后来让他们靠边站了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他们回去过元旦等节日了，我们瞒着启动，他们回来看还行，就睁眼闭眼了，他们为了完成任务也挺贼的。领导要注意：压力大时，也无法完成时，英国人也“假”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8" dur="indefinite" restart="never" nodeType="tmRoot">
          <p:childTnLst>
            <p:seq>
              <p:cTn id="1129" dur="indefinite" nodeType="mainSeq">
                <p:childTnLst>
                  <p:par>
                    <p:cTn id="1130" fill="hold">
                      <p:stCondLst>
                        <p:cond delay="0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Times New Roman"/>
              </a:rPr>
              <a:t>厌氧颗粒污泥膨胀床（</a:t>
            </a:r>
            <a:r>
              <a:rPr b="0" lang="en-US" sz="4400" spc="-1" strike="noStrike">
                <a:solidFill>
                  <a:srgbClr val="e5ffff"/>
                </a:solidFill>
                <a:latin typeface="Times New Roman"/>
              </a:rPr>
              <a:t>EGSB</a:t>
            </a:r>
            <a:r>
              <a:rPr b="0" lang="zh-CN" sz="4400" spc="-1" strike="noStrike">
                <a:solidFill>
                  <a:srgbClr val="e5ffff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和异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B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可能是有颗粒填料的反应器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而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GSB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是没有填料的颗粒污泥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此和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B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与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ASB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的区别一样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问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国内颗粒污泥源不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同样也找不到一个“刚刚好的”上流速度，托起颗粒污泥，让它膨胀，而不流走！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ASB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中部的污泥也是膨胀或流动的，无法区分是不是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AS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国内有人号称，甚至说我们的长径比大的反应器为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GSB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，我们讲：叫个啥名子，对甲方不重要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0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ffff"/>
                </a:solidFill>
                <a:latin typeface="Times New Roman"/>
              </a:rPr>
              <a:t>厌氧折流板反应器（</a:t>
            </a:r>
            <a:r>
              <a:rPr b="0" lang="en-US" sz="4000" spc="-1" strike="noStrike">
                <a:solidFill>
                  <a:srgbClr val="e5ffff"/>
                </a:solidFill>
                <a:latin typeface="Times New Roman"/>
              </a:rPr>
              <a:t>ABR</a:t>
            </a:r>
            <a:r>
              <a:rPr b="0" lang="zh-CN" sz="4000" spc="-1" strike="noStrike">
                <a:solidFill>
                  <a:srgbClr val="e5ffff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愿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希望不要“三相分离器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希望形成“多相”串联系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问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没有“三分器”，泥老向后跑，使前几室缺泥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顶部面积大，防止沼气泄漏困难，如果泄漏，不安全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第一室负荷总是最大，如果负荷很大时，就酸化了，一酸化去除率就很低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接着就是第二室了，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，到最后全部酸化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对基建处理上也困难不少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其它问题和“多相”反应器组的一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没有“三分器”，不是所有设备厂都乐意看到的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没有“三分器”的优点不足于弥补其不足，除非确定不会“三分器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0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ffff"/>
                </a:solidFill>
                <a:latin typeface="Times New Roman"/>
              </a:rPr>
              <a:t>厌氧滤池</a:t>
            </a:r>
            <a:endParaRPr b="0" lang="en-US" sz="40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愿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污泥长在填料上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填料把污泥捕捉在反应器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问题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堵塞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复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出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并不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但对酸化忍耐性好一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对于填料，是污师的活了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我国用得不多，我们前几年才开始，小心翼翼地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6" dur="indefinite" restart="never" nodeType="tmRoot">
          <p:childTnLst>
            <p:seq>
              <p:cTn id="1327" dur="indefinite" nodeType="mainSeq">
                <p:childTnLst>
                  <p:par>
                    <p:cTn id="1328" fill="hold">
                      <p:stCondLst>
                        <p:cond delay="0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Times New Roman"/>
              </a:rPr>
              <a:t>厌氧组合式池（</a:t>
            </a:r>
            <a:r>
              <a:rPr b="0" lang="en-US" sz="4400" spc="-1" strike="noStrike">
                <a:solidFill>
                  <a:srgbClr val="e5ffff"/>
                </a:solidFill>
                <a:latin typeface="Times New Roman"/>
              </a:rPr>
              <a:t>UBF</a:t>
            </a:r>
            <a:r>
              <a:rPr b="0" lang="zh-CN" sz="4400" spc="-1" strike="noStrike">
                <a:solidFill>
                  <a:srgbClr val="e5ffff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愿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部分器体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AS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状，部分呈“滤池”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既有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AS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的优点，又有滤池的好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我们试一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时间短（只研究三年），还不敢下结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但肯定比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AS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复杂，尤其大型反应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肯定也比“厌氧滤池”复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估计有点前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还要多摸索，多吃亏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4" dur="indefinite" restart="never" nodeType="tmRoot">
          <p:childTnLst>
            <p:seq>
              <p:cTn id="1395" dur="indefinite" nodeType="mainSeq">
                <p:childTnLst>
                  <p:par>
                    <p:cTn id="1396" fill="hold">
                      <p:stCondLst>
                        <p:cond delay="0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Times New Roman"/>
              </a:rPr>
              <a:t>厌氧内循环反应器（</a:t>
            </a:r>
            <a:r>
              <a:rPr b="0" lang="en-US" sz="4400" spc="-1" strike="noStrike">
                <a:solidFill>
                  <a:srgbClr val="e5ffff"/>
                </a:solidFill>
                <a:latin typeface="Times New Roman"/>
              </a:rPr>
              <a:t>IC</a:t>
            </a:r>
            <a:r>
              <a:rPr b="0" lang="zh-CN" sz="4400" spc="-1" strike="noStrike">
                <a:solidFill>
                  <a:srgbClr val="e5ffff"/>
                </a:solidFill>
                <a:latin typeface="Times New Roman"/>
              </a:rPr>
              <a:t>系列）</a:t>
            </a: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特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三相分离的机理，相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AS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有“革命性”变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自然形成“多相”系统（严格讲是多级串联系统），并克服原来的“多相”系统的缺点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有回流的好处，而没有带来回流有缺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问题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结构复杂多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单位体积造价大幅度上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调试、操作、管理有经验的、吃过亏的人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设计人员在摸索，且很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不容易（甚至不能）进行小试、中试，以积累经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fill="hold">
                      <p:stCondLst>
                        <p:cond delay="0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Times New Roman"/>
              </a:rPr>
              <a:t>什么是好的废水处理技术（</a:t>
            </a:r>
            <a:r>
              <a:rPr b="0" lang="en-US" sz="4400" spc="-1" strike="noStrike">
                <a:solidFill>
                  <a:srgbClr val="e5ffff"/>
                </a:solidFill>
                <a:latin typeface="Times New Roman"/>
              </a:rPr>
              <a:t>C</a:t>
            </a:r>
            <a:r>
              <a:rPr b="0" lang="zh-CN" sz="4400" spc="-1" strike="noStrike">
                <a:solidFill>
                  <a:srgbClr val="e5ffff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管理、操作简单、方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有成功的“工程实例”支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技术来源：可靠、先进、负责、应变能力强、不喜欢扯皮、价格合理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规模可大可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对电力、地区、气候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不敏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种污泥来源：可靠、价格合理、易得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关键设备来源：可靠、先进、价格合理、易得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Times New Roman"/>
              </a:rPr>
              <a:t>用厌氧技术处理废水的条件</a:t>
            </a: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水中的污染物能被微生物利用（就是能被降解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不能被微生物利用的污染物，如塑料、大块油脂等，不要用生物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毒药可能变成美味，美味也会成为毒药。看毒理学的内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反应器中有足够多的、具有活性的微生物，以保证降解速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微生物是“无处不在，无时不有”的，但是，“想多不多，要少不少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降解速度和二个因素有关，单位量生物的降解速度和生物总量。厌氧的量（反应器中），一般在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~100kg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生物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立方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保证生物量前提：生长的比流失的快；或加入的比失去的（死亡和流失）多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Times New Roman"/>
              </a:rPr>
              <a:t>厌氧法处理水的条件（</a:t>
            </a:r>
            <a:r>
              <a:rPr b="0" lang="en-US" sz="4400" spc="-1" strike="noStrike">
                <a:solidFill>
                  <a:srgbClr val="e5ffff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e5ffff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水（含污染物）和微生物有良好的混合接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我们污师的主要目标，主要工作领域之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接触的基本方法：混合。向水中施加能量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其它物理条件，有利用微生物生存、生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厌氧条件：没有溶解氧。本污师建议：不必刻意追求此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对毒性、冲击等给予足够的注意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温度、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值、碱度、硬度、机械损伤、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Times New Roman"/>
              </a:rPr>
              <a:t>厌氧法处理水的条件（</a:t>
            </a:r>
            <a:r>
              <a:rPr b="0" lang="en-US" sz="4400" spc="-1" strike="noStrike">
                <a:solidFill>
                  <a:srgbClr val="e5ffff"/>
                </a:solidFill>
                <a:latin typeface="Times New Roman"/>
              </a:rPr>
              <a:t>3</a:t>
            </a:r>
            <a:r>
              <a:rPr b="0" lang="zh-CN" sz="4400" spc="-1" strike="noStrike">
                <a:solidFill>
                  <a:srgbClr val="e5ffff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水中的污染物能被微生物利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能降解的原因，不是我们“宏观”污师所工作的领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提高降解的程度，科学家们在寻找能吃特殊污染的微生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微观”污师在利用基因技术，代替上帝，“创造”能吃污染的“新微生物”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危险啊！如果创造出一某种微生物特别能吃，很可能晚上把污师们吃掉，把锦江之星的大楼吃掉了，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如下几点是我们工程师的主要任务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保证反应器中有足够多的微生物，以保证降解速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含污染物的水和微生物有良好的混合接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保证各种物理条件，以有利于微生物生存、生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ffff"/>
                </a:solidFill>
                <a:latin typeface="Times New Roman"/>
              </a:rPr>
              <a:t>从不同角度来看厌氧技术</a:t>
            </a:r>
            <a:endParaRPr b="0" lang="en-US" sz="32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厌氧技术的处理深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水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大分子和水反应，一般伴有溶解过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酸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有机分子变成有机酸，一般呈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值下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甲烷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伴有明显的沼气产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前二者用得较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今天我们以甲烷化的技术为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ffff"/>
                </a:solidFill>
                <a:latin typeface="Times New Roman"/>
              </a:rPr>
              <a:t>厌氧技术处理的对象</a:t>
            </a:r>
            <a:endParaRPr b="0" lang="en-US" sz="32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生活污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成分比较复杂，并且，很难讲是纯的“生活污水”，总是有一定非生活污水进入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但是，城市与城市，国家与国家，成分差别不大，差别较大的只是浓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热带地区有以深度厌氧为主的处理厂（哥伦比西、印度、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工业废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国内的深度厌氧仍主要处理工业废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太多类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其他废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商业、医院、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垃圾处理、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ffff"/>
                </a:solidFill>
                <a:latin typeface="Times New Roman"/>
              </a:rPr>
              <a:t>进入厌氧系统的浓度</a:t>
            </a:r>
            <a:endParaRPr b="0" lang="en-US" sz="3200" spc="-1" strike="noStrike">
              <a:solidFill>
                <a:srgbClr val="e5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高浓度有机废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一般在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000mgCOD/L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以上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如果高于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0000mgCOD /L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，又要小心了，归属于“固体发酵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这是大家的共识：一看高浓度有机废水，就想到厌氧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中浓度有机废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一般在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00~3000mgCOD/L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之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用不用厌氧，大家争论很大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我们在此“中间地带”，下了不少功夫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低浓度有机废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从来不考虑用厌氧，此是“误区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用不用厌氧，浓度只是一个指标，不是决定性指标，所以，我讲大家在此方面有误区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41:51Z</dcterms:created>
  <dc:creator/>
  <dc:description/>
  <cp:keywords>废水深度 厌氧处理技术</cp:keywords>
  <dc:language>en-US</dc:language>
  <cp:lastModifiedBy>An</cp:lastModifiedBy>
  <dcterms:modified xsi:type="dcterms:W3CDTF">2016-05-01T00:41:52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