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ADCD-A0E4-4B74-A4AE-17FD35CF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D4B0-AF98-4C63-A415-B1F0344A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BF5-130F-4D6F-8941-1C458F0E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55B0-89A1-4BE9-A011-E7B084E9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C29E-A397-465A-810E-6A28BE75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17B9-C71C-4EE7-94BA-4C0E81BB4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61F1-01C7-412B-AC3B-9C6366EB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931E-86A8-4897-B6FE-26BE80F8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6CB4-3179-40BB-9AAD-21F9AA5A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7A12-5E1E-409F-AD43-0D175F5C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3AC4-75FE-4373-9B93-550CE0F7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36E-1AF8-4F8D-96E6-AFB2F204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4B0D-096E-4CC6-963B-5D9740DB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9BAB-E8C5-47D6-AC10-BD0DA710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D4E0-6487-4FB7-90A3-622347E6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86A0-A3ED-4870-8715-F828AF23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2373-B44C-4135-A9F1-C2BD7F895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0E6-E13B-443E-A15D-4A712EF7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043-2C54-4475-B90E-85911274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2B76-CB05-404B-984B-D7E280F0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F0D-D881-4E37-9FF1-852DCAD1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218C-6A09-4532-8E50-2BEAB32E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F97-F563-4CCF-93ED-FDFAB305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5D8C-9AFF-438F-B4BB-2CB6AC72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EAB1-B072-45FD-B1CF-4E90DE017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FDF9-D0FD-4131-B2B6-330905859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花花背景"/>
          <p:cNvPicPr/>
          <p:nvPr/>
        </p:nvPicPr>
        <p:blipFill>
          <a:blip r:embed="rId2"/>
          <a:stretch/>
        </p:blipFill>
        <p:spPr>
          <a:xfrm>
            <a:off x="0" y="2894040"/>
            <a:ext cx="4876920" cy="3963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3"/>
          <a:stretch/>
        </p:blipFill>
        <p:spPr>
          <a:xfrm>
            <a:off x="5619600" y="3314880"/>
            <a:ext cx="3524400" cy="3848040"/>
          </a:xfrm>
          <a:prstGeom prst="rect">
            <a:avLst/>
          </a:prstGeom>
          <a:ln w="0">
            <a:noFill/>
          </a:ln>
        </p:spPr>
      </p:pic>
      <p:sp>
        <p:nvSpPr>
          <p:cNvPr id="84" name="Oval 9"/>
          <p:cNvSpPr/>
          <p:nvPr/>
        </p:nvSpPr>
        <p:spPr>
          <a:xfrm rot="21418200">
            <a:off x="7086240" y="4464000"/>
            <a:ext cx="82440" cy="260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76078"/>
                </a:srgbClr>
              </a:gs>
            </a:gsLst>
            <a:lin ang="55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0"/>
          <p:cNvSpPr/>
          <p:nvPr/>
        </p:nvSpPr>
        <p:spPr>
          <a:xfrm>
            <a:off x="7086600" y="4189320"/>
            <a:ext cx="76320" cy="327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1"/>
          <p:cNvSpPr/>
          <p:nvPr/>
        </p:nvSpPr>
        <p:spPr>
          <a:xfrm rot="21418200">
            <a:off x="7620120" y="3809880"/>
            <a:ext cx="128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5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2"/>
          <p:cNvSpPr/>
          <p:nvPr/>
        </p:nvSpPr>
        <p:spPr>
          <a:xfrm rot="21418200">
            <a:off x="7620120" y="3862440"/>
            <a:ext cx="128520" cy="252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76078"/>
                </a:srgbClr>
              </a:gs>
            </a:gsLst>
            <a:lin ang="55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4"/>
          <p:cNvSpPr/>
          <p:nvPr/>
        </p:nvSpPr>
        <p:spPr>
          <a:xfrm rot="8262000">
            <a:off x="8305920" y="4211640"/>
            <a:ext cx="209520" cy="208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5"/>
          <p:cNvSpPr/>
          <p:nvPr/>
        </p:nvSpPr>
        <p:spPr>
          <a:xfrm rot="8262000">
            <a:off x="8305920" y="4267080"/>
            <a:ext cx="209520" cy="208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7" descr="星星转动"/>
          <p:cNvPicPr/>
          <p:nvPr/>
        </p:nvPicPr>
        <p:blipFill>
          <a:blip r:embed="rId4"/>
          <a:stretch/>
        </p:blipFill>
        <p:spPr>
          <a:xfrm>
            <a:off x="7099200" y="189000"/>
            <a:ext cx="1206720" cy="1206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0" descr="蝴蝶"/>
          <p:cNvPicPr/>
          <p:nvPr/>
        </p:nvPicPr>
        <p:blipFill>
          <a:blip r:embed="rId5"/>
          <a:stretch/>
        </p:blipFill>
        <p:spPr>
          <a:xfrm rot="19090200">
            <a:off x="4876920" y="5796000"/>
            <a:ext cx="806400" cy="936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蝴蝶"/>
          <p:cNvPicPr/>
          <p:nvPr/>
        </p:nvPicPr>
        <p:blipFill>
          <a:blip r:embed="rId6"/>
          <a:stretch/>
        </p:blipFill>
        <p:spPr>
          <a:xfrm rot="2003400">
            <a:off x="3884760" y="6100560"/>
            <a:ext cx="1225440" cy="81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2" descr="蝴蝶"/>
          <p:cNvPicPr/>
          <p:nvPr/>
        </p:nvPicPr>
        <p:blipFill>
          <a:blip r:embed="rId7"/>
          <a:stretch/>
        </p:blipFill>
        <p:spPr>
          <a:xfrm rot="20009400">
            <a:off x="3661920" y="4982760"/>
            <a:ext cx="763560" cy="1368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3" descr="蝴蝶"/>
          <p:cNvPicPr/>
          <p:nvPr/>
        </p:nvPicPr>
        <p:blipFill>
          <a:blip r:embed="rId8"/>
          <a:stretch/>
        </p:blipFill>
        <p:spPr>
          <a:xfrm rot="19069200">
            <a:off x="2739960" y="5260680"/>
            <a:ext cx="1085760" cy="129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4" descr="蝴蝶"/>
          <p:cNvPicPr/>
          <p:nvPr/>
        </p:nvPicPr>
        <p:blipFill>
          <a:blip r:embed="rId9"/>
          <a:stretch/>
        </p:blipFill>
        <p:spPr>
          <a:xfrm rot="2367600">
            <a:off x="1798200" y="4335480"/>
            <a:ext cx="1579680" cy="1036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5" descr="蝴蝶"/>
          <p:cNvPicPr/>
          <p:nvPr/>
        </p:nvPicPr>
        <p:blipFill>
          <a:blip r:embed="rId10"/>
          <a:stretch/>
        </p:blipFill>
        <p:spPr>
          <a:xfrm rot="19701600">
            <a:off x="1136520" y="4344480"/>
            <a:ext cx="1086120" cy="1656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2"/>
          <p:cNvSpPr/>
          <p:nvPr/>
        </p:nvSpPr>
        <p:spPr>
          <a:xfrm>
            <a:off x="1811160" y="3948120"/>
            <a:ext cx="612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Arial"/>
              </a:rPr>
              <a:t>今天，我们用最真诚的祝福感谢您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Arial"/>
              </a:rPr>
              <a:t>老师，您辛苦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99"/>
                </a:solidFill>
                <a:latin typeface="Arial"/>
              </a:rPr>
              <a:t>祝老师桃李满天下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教师礼赞.mp3" descr=""/>
          <p:cNvPicPr/>
          <p:nvPr/>
        </p:nvPicPr>
        <p:blipFill>
          <a:blip r:embed="rId11"/>
          <a:stretch/>
        </p:blipFill>
        <p:spPr>
          <a:xfrm>
            <a:off x="8844120" y="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63975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44440" y="68580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感恩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remove" presetClass="emph" presetID="33" repeatCount="indefinite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8" dur="1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9" dur="1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0" dur="2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" dur="1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22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3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3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6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" dur="3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remove" presetClass="emph" presetID="33" repeatCount="indefinite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31" dur="2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" dur="2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" dur="4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4" dur="2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2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2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2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80" dur="8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69739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0" y="5791320"/>
            <a:ext cx="6033960" cy="815760"/>
          </a:xfrm>
          <a:custGeom>
            <a:avLst/>
            <a:gdLst>
              <a:gd name="textAreaLeft" fmla="*/ 0 w 6033960"/>
              <a:gd name="textAreaRight" fmla="*/ 6034320 w 603396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96" y="0"/>
                </a:lnTo>
                <a:lnTo>
                  <a:pt x="21600" y="10800"/>
                </a:lnTo>
                <a:lnTo>
                  <a:pt x="2109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cc3300">
                  <a:alpha val="92156"/>
                </a:srgbClr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0" y="5251320"/>
            <a:ext cx="3733920" cy="121932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7" y="0"/>
                </a:lnTo>
                <a:lnTo>
                  <a:pt x="21600" y="10800"/>
                </a:lnTo>
                <a:lnTo>
                  <a:pt x="2061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cc3300">
                  <a:alpha val="92156"/>
                </a:srgbClr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6719760" y="4516560"/>
            <a:ext cx="2424240" cy="2646360"/>
          </a:xfrm>
          <a:prstGeom prst="rect">
            <a:avLst/>
          </a:prstGeom>
          <a:ln w="0">
            <a:noFill/>
          </a:ln>
        </p:spPr>
      </p:pic>
      <p:sp>
        <p:nvSpPr>
          <p:cNvPr id="104" name="Oval 5"/>
          <p:cNvSpPr/>
          <p:nvPr/>
        </p:nvSpPr>
        <p:spPr>
          <a:xfrm rot="21418200">
            <a:off x="7773840" y="5251320"/>
            <a:ext cx="74880" cy="235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76078"/>
                </a:srgbClr>
              </a:gs>
            </a:gsLst>
            <a:lin ang="55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7767720" y="5089680"/>
            <a:ext cx="74520" cy="32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7"/>
          <p:cNvSpPr/>
          <p:nvPr/>
        </p:nvSpPr>
        <p:spPr>
          <a:xfrm rot="21418200">
            <a:off x="8077320" y="4868640"/>
            <a:ext cx="93600" cy="183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5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8"/>
          <p:cNvSpPr/>
          <p:nvPr/>
        </p:nvSpPr>
        <p:spPr>
          <a:xfrm rot="21418200">
            <a:off x="8077320" y="4920840"/>
            <a:ext cx="93600" cy="184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76078"/>
                </a:srgbClr>
              </a:gs>
            </a:gsLst>
            <a:lin ang="55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9"/>
          <p:cNvSpPr/>
          <p:nvPr/>
        </p:nvSpPr>
        <p:spPr>
          <a:xfrm rot="8262000">
            <a:off x="8533800" y="5067360"/>
            <a:ext cx="212760" cy="210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10"/>
          <p:cNvSpPr/>
          <p:nvPr/>
        </p:nvSpPr>
        <p:spPr>
          <a:xfrm rot="8262000">
            <a:off x="8533800" y="5122440"/>
            <a:ext cx="212760" cy="21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感恩文字"/>
          <p:cNvPicPr/>
          <p:nvPr/>
        </p:nvPicPr>
        <p:blipFill>
          <a:blip r:embed="rId3"/>
          <a:stretch/>
        </p:blipFill>
        <p:spPr>
          <a:xfrm>
            <a:off x="0" y="5334120"/>
            <a:ext cx="3511440" cy="105408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14"/>
          <p:cNvSpPr/>
          <p:nvPr/>
        </p:nvSpPr>
        <p:spPr>
          <a:xfrm>
            <a:off x="6033960" y="5791320"/>
            <a:ext cx="615960" cy="815760"/>
          </a:xfrm>
          <a:custGeom>
            <a:avLst/>
            <a:gdLst>
              <a:gd name="textAreaLeft" fmla="*/ 0 w 615960"/>
              <a:gd name="textAreaRight" fmla="*/ 616320 w 61596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cc33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733920" y="5897520"/>
            <a:ext cx="23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00"/>
                </a:solidFill>
                <a:latin typeface="Arial"/>
              </a:rPr>
              <a:t>六合初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2009</a:t>
            </a:r>
            <a:r>
              <a:rPr b="0" lang="zh-CN" sz="1800" spc="-1" strike="noStrike">
                <a:solidFill>
                  <a:srgbClr val="ff9900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ff99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ff9900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8" descr="星星转动"/>
          <p:cNvPicPr/>
          <p:nvPr/>
        </p:nvPicPr>
        <p:blipFill>
          <a:blip r:embed="rId4"/>
          <a:stretch/>
        </p:blipFill>
        <p:spPr>
          <a:xfrm>
            <a:off x="2730600" y="5245200"/>
            <a:ext cx="622080" cy="6220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22"/>
          <p:cNvSpPr/>
          <p:nvPr/>
        </p:nvSpPr>
        <p:spPr>
          <a:xfrm>
            <a:off x="0" y="3168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★★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老师，您辛苦了 ★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是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把无知的我们领进宽敞的教室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教给我们丰富的知识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是您！老师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您用辛勤的汗水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哺育了春日刚破土的嫩苗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是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把调皮的我们教育成能体贴帮助别人的人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是您！老师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您的关怀就好似和煦的春风温暖了我们的心灵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是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把幼小的我们培育成成熟懂事的少年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是您！老师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您的保护让我们健康成长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在金秋时节结下硕果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您辛苦了！老师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在酷暑严寒中辛勤工作的人们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教师圆舞曲.mp3" descr=""/>
          <p:cNvPicPr/>
          <p:nvPr/>
        </p:nvPicPr>
        <p:blipFill>
          <a:blip r:embed="rId5"/>
          <a:stretch/>
        </p:blipFill>
        <p:spPr>
          <a:xfrm>
            <a:off x="8747280" y="316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remove" presetClass="emph" presetID="33" repeatCount="indefinite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01" dur="1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02" dur="1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03" dur="2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4" dur="1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05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3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7" dur="3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" dur="6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9" dur="3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remove" presetClass="emph" presetID="33" repeatCount="indefinite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14" dur="2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5" dur="2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6" dur="4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17" dur="2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25" dur="8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8000"/>
                            </p:stCondLst>
                            <p:childTnLst>
                              <p:par>
                                <p:cTn id="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5421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2"/>
          <p:cNvSpPr/>
          <p:nvPr/>
        </p:nvSpPr>
        <p:spPr>
          <a:xfrm>
            <a:off x="0" y="5791320"/>
            <a:ext cx="6033960" cy="815760"/>
          </a:xfrm>
          <a:custGeom>
            <a:avLst/>
            <a:gdLst>
              <a:gd name="textAreaLeft" fmla="*/ 0 w 6033960"/>
              <a:gd name="textAreaRight" fmla="*/ 6034320 w 603396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96" y="0"/>
                </a:lnTo>
                <a:lnTo>
                  <a:pt x="21600" y="10800"/>
                </a:lnTo>
                <a:lnTo>
                  <a:pt x="2109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cc3300">
                  <a:alpha val="92156"/>
                </a:srgbClr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0" y="5251320"/>
            <a:ext cx="3733920" cy="121932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17" y="0"/>
                </a:lnTo>
                <a:lnTo>
                  <a:pt x="21600" y="10800"/>
                </a:lnTo>
                <a:lnTo>
                  <a:pt x="2061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cc3300">
                  <a:alpha val="92156"/>
                </a:srgbClr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6719760" y="4516560"/>
            <a:ext cx="2424240" cy="2646360"/>
          </a:xfrm>
          <a:prstGeom prst="rect">
            <a:avLst/>
          </a:prstGeom>
          <a:ln w="0">
            <a:noFill/>
          </a:ln>
        </p:spPr>
      </p:pic>
      <p:sp>
        <p:nvSpPr>
          <p:cNvPr id="120" name="Oval 5"/>
          <p:cNvSpPr/>
          <p:nvPr/>
        </p:nvSpPr>
        <p:spPr>
          <a:xfrm rot="21418200">
            <a:off x="7773840" y="5251320"/>
            <a:ext cx="74880" cy="235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76078"/>
                </a:srgbClr>
              </a:gs>
            </a:gsLst>
            <a:lin ang="55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6"/>
          <p:cNvSpPr/>
          <p:nvPr/>
        </p:nvSpPr>
        <p:spPr>
          <a:xfrm>
            <a:off x="7767720" y="5089680"/>
            <a:ext cx="74520" cy="320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"/>
          <p:cNvSpPr/>
          <p:nvPr/>
        </p:nvSpPr>
        <p:spPr>
          <a:xfrm rot="21418200">
            <a:off x="8077320" y="4868640"/>
            <a:ext cx="93600" cy="1839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5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8"/>
          <p:cNvSpPr/>
          <p:nvPr/>
        </p:nvSpPr>
        <p:spPr>
          <a:xfrm rot="21418200">
            <a:off x="8077320" y="4920840"/>
            <a:ext cx="93600" cy="184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76078"/>
                </a:srgbClr>
              </a:gs>
            </a:gsLst>
            <a:lin ang="55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9"/>
          <p:cNvSpPr/>
          <p:nvPr/>
        </p:nvSpPr>
        <p:spPr>
          <a:xfrm rot="8262000">
            <a:off x="8533800" y="5067360"/>
            <a:ext cx="212760" cy="210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0"/>
          <p:cNvSpPr/>
          <p:nvPr/>
        </p:nvSpPr>
        <p:spPr>
          <a:xfrm rot="8262000">
            <a:off x="8533800" y="5122440"/>
            <a:ext cx="212760" cy="2113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感恩文字"/>
          <p:cNvPicPr/>
          <p:nvPr/>
        </p:nvPicPr>
        <p:blipFill>
          <a:blip r:embed="rId3"/>
          <a:stretch/>
        </p:blipFill>
        <p:spPr>
          <a:xfrm>
            <a:off x="0" y="5334120"/>
            <a:ext cx="3511440" cy="1054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2"/>
          <p:cNvSpPr/>
          <p:nvPr/>
        </p:nvSpPr>
        <p:spPr>
          <a:xfrm>
            <a:off x="6033960" y="5791320"/>
            <a:ext cx="615960" cy="815760"/>
          </a:xfrm>
          <a:custGeom>
            <a:avLst/>
            <a:gdLst>
              <a:gd name="textAreaLeft" fmla="*/ 0 w 615960"/>
              <a:gd name="textAreaRight" fmla="*/ 616320 w 61596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cc3300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3733920" y="5897520"/>
            <a:ext cx="23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00"/>
                </a:solidFill>
                <a:latin typeface="Arial"/>
              </a:rPr>
              <a:t>六合初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2009</a:t>
            </a:r>
            <a:r>
              <a:rPr b="0" lang="zh-CN" sz="1800" spc="-1" strike="noStrike">
                <a:solidFill>
                  <a:srgbClr val="ff9900"/>
                </a:solidFill>
                <a:latin typeface="Arial"/>
              </a:rPr>
              <a:t>年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ff99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ff9900"/>
                </a:solidFill>
                <a:latin typeface="Arial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4" descr="星星转动"/>
          <p:cNvPicPr/>
          <p:nvPr/>
        </p:nvPicPr>
        <p:blipFill>
          <a:blip r:embed="rId4"/>
          <a:stretch/>
        </p:blipFill>
        <p:spPr>
          <a:xfrm>
            <a:off x="2730600" y="5245200"/>
            <a:ext cx="622080" cy="6220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6"/>
          <p:cNvSpPr/>
          <p:nvPr/>
        </p:nvSpPr>
        <p:spPr>
          <a:xfrm>
            <a:off x="0" y="0"/>
            <a:ext cx="9144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您辛苦了！老师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把青春无么奉献的人们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我们向您致以崇高的敬意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您辛苦了，老师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我也只能帮到这里了，老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老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您如春天中的细雨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滋润着花儿，灌溉着大地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而我们再着吮吸着细雨茁长成长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老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您如秋天里的一丝风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吹黄了大地，唤金了稻谷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而我们得到了丰收的硕果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老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在我黑暗的人生道路上是您为我点燃了一盏最明亮的灯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老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再我迷蒙的人生道路上是您做我的了的引路人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老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在我跌跌碰碰的人生道路中是您为我指明了前进的方向；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老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是您给了我一双强有力的翅膀，让我在知识的世界里遨游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教师圆舞曲.mp3" descr=""/>
          <p:cNvPicPr/>
          <p:nvPr/>
        </p:nvPicPr>
        <p:blipFill>
          <a:blip r:embed="rId5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2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638820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dissolv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remove" presetClass="emph" presetID="33" repeatCount="indefinite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281" dur="1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282" dur="1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283" dur="2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84" dur="1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285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6" dur="3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7" dur="3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8" dur="6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89" dur="3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remove" presetClass="emph" presetID="33" repeatCount="indefinite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94" dur="2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95" dur="2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6" dur="4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97" dur="2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8" repeatCount="indefinite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305" dur="8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5500"/>
                            </p:stCondLst>
                            <p:childTnLst>
                              <p:par>
                                <p:cTn id="4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3" dur="154210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55FC-D8E9-4C7A-892E-FFF289515F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07:01:1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13:29Z</dcterms:modified>
  <cp:revision>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