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35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9.wmf" ContentType="image/x-wmf"/>
  <Override PartName="/ppt/media/image31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7.jpeg" ContentType="image/jpeg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2D7-5152-486A-B362-56C3A6AB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636-7B5E-44A9-A9EA-DBCB0147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8B1-3783-4E9B-A52B-1B5DC439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59B-B825-4D93-AD47-789B1E72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111-A8BD-4536-B165-EC98F1D5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5716-31D0-49C7-AC92-602D02BE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B60F-1CE6-4B41-BCA8-BFF51E41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5E48-E2E1-41EB-BE3B-6A651666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C1E4-0440-4E90-8411-824ABB57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049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C070-969D-4C99-A57C-DACB6EF7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2C38-6C07-452B-B6C2-77398C5A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AF0-6DFA-43C8-A9BA-F9934A9D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D637-563B-485A-8582-B1F8BA7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38C-09DF-4FB0-9EF3-FF24072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579F-BC67-4576-8A10-F699538C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DA30-E3EB-47BE-9E4E-A3601E86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96EF-A74A-47A5-9249-37060999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3832-D4BE-4DAF-8EAD-CE1BE42C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D2C7-CA52-4958-BCFB-958D32D9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E587-6FBD-4D16-845C-296577C9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2C96-682D-4EC9-B2E1-3FF4F23C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BFAC-BD81-4340-B649-F4299540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BCB-7E37-4CEB-97E2-38D61928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8960" y="3049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0864-D526-4EA4-947D-EC85D288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F2D9-07FE-4E5D-A80D-A607A178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BE1B-62B4-46E1-B3C3-3A7836CE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B04C-0025-4322-88AB-BE1E408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EBD4-29D7-434D-B3F9-E49B1BA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EA65-4AEA-4F49-9A80-705FE964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B47D8-7739-4AE1-AF51-7821606C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5AA-BF1A-4C20-8EE0-A4A92265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1BF-25B1-4C5C-9127-40274925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0492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F78-FFB5-4B44-B4E2-0D9E2C56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AE9-C8F5-4B90-AECB-A979492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577-A775-40BE-9022-6D05B09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BC0-72E2-4C6B-A32B-590C86A9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9279-907E-428B-AD46-5369F065F9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A025-9F13-4847-9DF2-9136F255746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6C78-6EA7-4500-B5CC-E163CDC5CF9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0EC9-F6B4-40ED-AE24-39B07FCECB2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5790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高分子的化学反应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分子化学是研究高分子化合物合成与反应的一门科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高分子化学反应的意义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扩大高分子的品种和应用范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理论上研究和验证高分子的结构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影响老化的因素和性能变化之间的关系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高分子的降解，有利于废聚合物的处理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分子化学反应的分类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合度基本不变的反应，侧基和端基变化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合度变大的反应：交联、接枝、嵌段、扩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合度变小的反应：降解，解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图片 2067" descr="链"/>
          <p:cNvPicPr/>
          <p:nvPr/>
        </p:nvPicPr>
        <p:blipFill>
          <a:blip r:embed="rId1"/>
          <a:stretch/>
        </p:blipFill>
        <p:spPr>
          <a:xfrm>
            <a:off x="7162920" y="228600"/>
            <a:ext cx="173196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18437"/>
          <p:cNvSpPr/>
          <p:nvPr/>
        </p:nvSpPr>
        <p:spPr>
          <a:xfrm>
            <a:off x="304920" y="2133720"/>
            <a:ext cx="853416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219320" y="228600"/>
            <a:ext cx="7097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芳环取代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苯乙烯几乎年进行芳烃的一切反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苯乙烯－二乙烯苯共聚物为母体的离子交换树脂，是芳环取代反应的典型例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图片 18439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848720" cy="307152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18440"/>
          <p:cNvSpPr/>
          <p:nvPr/>
        </p:nvSpPr>
        <p:spPr>
          <a:xfrm>
            <a:off x="3962520" y="2743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强酸性阳离子交换树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文本框 18441"/>
          <p:cNvSpPr/>
          <p:nvPr/>
        </p:nvSpPr>
        <p:spPr>
          <a:xfrm>
            <a:off x="70866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阴离子交换树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聚合度变大的反应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包括：交联、接枝、嵌段、扩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线型高分子链之间进行化学反应，成为网状高分子，这就是交联反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38080" y="2666520"/>
            <a:ext cx="73915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交联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烯烃（聚乙烯、乙丙橡胶）在过氧化物、高能幅射作用下可发生交联。过氧化物交联如下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矩形 19460"/>
          <p:cNvSpPr/>
          <p:nvPr/>
        </p:nvSpPr>
        <p:spPr>
          <a:xfrm>
            <a:off x="228600" y="4114800"/>
            <a:ext cx="868680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图片 19461" descr=""/>
          <p:cNvPicPr/>
          <p:nvPr/>
        </p:nvPicPr>
        <p:blipFill>
          <a:blip r:embed="rId1"/>
          <a:stretch/>
        </p:blipFill>
        <p:spPr>
          <a:xfrm>
            <a:off x="533520" y="4419720"/>
            <a:ext cx="8305560" cy="487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462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830592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20485"/>
          <p:cNvSpPr/>
          <p:nvPr/>
        </p:nvSpPr>
        <p:spPr>
          <a:xfrm>
            <a:off x="1066680" y="914400"/>
            <a:ext cx="7848720" cy="2514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42640" y="3045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乙丙橡胶的交联（硫化）发生在叔碳原子上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橡胶的硫化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橡胶硫化就是使具有弹性的线型橡胶分子生成交联的过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用硫或硫化物交联，故硫化和交联是同义语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联赋予橡胶高弹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机理还很复杂，基本认为是离子反应机理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图片 20487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239240" cy="2238480"/>
          </a:xfrm>
          <a:prstGeom prst="rect">
            <a:avLst/>
          </a:prstGeom>
          <a:ln w="0">
            <a:noFill/>
          </a:ln>
        </p:spPr>
      </p:pic>
      <p:sp>
        <p:nvSpPr>
          <p:cNvPr id="22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34818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4190760" cy="6984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4819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5486400" cy="23828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4820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8839080" cy="22528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34821" descr=""/>
          <p:cNvPicPr/>
          <p:nvPr/>
        </p:nvPicPr>
        <p:blipFill>
          <a:blip r:embed="rId4"/>
          <a:stretch/>
        </p:blipFill>
        <p:spPr>
          <a:xfrm>
            <a:off x="6781680" y="5410080"/>
            <a:ext cx="777960" cy="1143000"/>
          </a:xfrm>
          <a:prstGeom prst="rect">
            <a:avLst/>
          </a:prstGeom>
          <a:ln w="0">
            <a:noFill/>
          </a:ln>
        </p:spPr>
      </p:pic>
      <p:sp>
        <p:nvSpPr>
          <p:cNvPr id="22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35842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017960" cy="10764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5843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5830920" cy="2938320"/>
          </a:xfrm>
          <a:prstGeom prst="rect">
            <a:avLst/>
          </a:prstGeom>
          <a:ln w="0">
            <a:noFill/>
          </a:ln>
        </p:spPr>
      </p:pic>
      <p:sp>
        <p:nvSpPr>
          <p:cNvPr id="231" name="矩形 35844"/>
          <p:cNvSpPr/>
          <p:nvPr/>
        </p:nvSpPr>
        <p:spPr>
          <a:xfrm>
            <a:off x="380880" y="4724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624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枝反应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通过化学反应，在某一聚合物主链接上结构、组成不同的支链，这一过程称为接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枝方法大致分为两类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21510"/>
          <p:cNvSpPr/>
          <p:nvPr/>
        </p:nvSpPr>
        <p:spPr>
          <a:xfrm>
            <a:off x="762120" y="3886200"/>
            <a:ext cx="7848360" cy="2743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42640" y="38052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合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高分子主链的引发点上，单体聚合长出支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引发剂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链转移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幅射聚合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光聚合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机械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05520" y="38052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偶联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预先制好的支链偶联到高分子主链上去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左大括号 21508"/>
          <p:cNvSpPr/>
          <p:nvPr/>
        </p:nvSpPr>
        <p:spPr>
          <a:xfrm>
            <a:off x="1676520" y="1752480"/>
            <a:ext cx="228600" cy="1981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图片 21509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6095880" cy="12272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21511" descr=""/>
          <p:cNvPicPr/>
          <p:nvPr/>
        </p:nvPicPr>
        <p:blipFill>
          <a:blip r:embed="rId2"/>
          <a:stretch/>
        </p:blipFill>
        <p:spPr>
          <a:xfrm>
            <a:off x="3048120" y="5334120"/>
            <a:ext cx="4419360" cy="1217520"/>
          </a:xfrm>
          <a:prstGeom prst="rect">
            <a:avLst/>
          </a:prstGeom>
          <a:ln w="0">
            <a:noFill/>
          </a:ln>
        </p:spPr>
      </p:pic>
      <p:sp>
        <p:nvSpPr>
          <p:cNvPr id="23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22533"/>
          <p:cNvSpPr/>
          <p:nvPr/>
        </p:nvSpPr>
        <p:spPr>
          <a:xfrm>
            <a:off x="1066680" y="914400"/>
            <a:ext cx="7848720" cy="5638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也可在聚合物主链上形成过氧化物侧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图片 22532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782040" cy="17859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22534" descr=""/>
          <p:cNvPicPr/>
          <p:nvPr/>
        </p:nvPicPr>
        <p:blipFill>
          <a:blip r:embed="rId2"/>
          <a:stretch/>
        </p:blipFill>
        <p:spPr>
          <a:xfrm>
            <a:off x="6095880" y="4038480"/>
            <a:ext cx="2438640" cy="21351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7391520" y="3276720"/>
            <a:ext cx="360" cy="533160"/>
            <a:chOff x="7391520" y="3276720"/>
            <a:chExt cx="360" cy="533160"/>
          </a:xfrm>
        </p:grpSpPr>
        <p:sp>
          <p:nvSpPr>
            <p:cNvPr id="245" name="直接连接符 22535"/>
            <p:cNvSpPr/>
            <p:nvPr/>
          </p:nvSpPr>
          <p:spPr>
            <a:xfrm>
              <a:off x="7391520" y="3276720"/>
              <a:ext cx="0" cy="533160"/>
            </a:xfrm>
            <a:prstGeom prst="line">
              <a:avLst/>
            </a:prstGeom>
            <a:ln cap="sq" w="2556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7391520" y="3276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文本框 22536"/>
          <p:cNvSpPr/>
          <p:nvPr/>
        </p:nvSpPr>
        <p:spPr>
          <a:xfrm>
            <a:off x="7467480" y="3276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29200" y="4876920"/>
            <a:ext cx="990720" cy="360"/>
            <a:chOff x="5029200" y="4876920"/>
            <a:chExt cx="990720" cy="360"/>
          </a:xfrm>
        </p:grpSpPr>
        <p:sp>
          <p:nvSpPr>
            <p:cNvPr id="249" name="直接连接符 22537"/>
            <p:cNvSpPr/>
            <p:nvPr/>
          </p:nvSpPr>
          <p:spPr>
            <a:xfrm flipH="1">
              <a:off x="5029200" y="4876920"/>
              <a:ext cx="990720" cy="0"/>
            </a:xfrm>
            <a:prstGeom prst="line">
              <a:avLst/>
            </a:prstGeom>
            <a:ln cap="sq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5029200" y="48769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文本框 22538"/>
          <p:cNvSpPr/>
          <p:nvPr/>
        </p:nvSpPr>
        <p:spPr>
          <a:xfrm>
            <a:off x="51814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文本框 22539"/>
          <p:cNvSpPr/>
          <p:nvPr/>
        </p:nvSpPr>
        <p:spPr>
          <a:xfrm>
            <a:off x="5334120" y="4419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文鼎细等线体简"/>
              </a:rPr>
              <a:t>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图片 22540" descr=""/>
          <p:cNvPicPr/>
          <p:nvPr/>
        </p:nvPicPr>
        <p:blipFill>
          <a:blip r:embed="rId3"/>
          <a:stretch/>
        </p:blipFill>
        <p:spPr>
          <a:xfrm>
            <a:off x="1523880" y="4038480"/>
            <a:ext cx="3276720" cy="2114640"/>
          </a:xfrm>
          <a:prstGeom prst="rect">
            <a:avLst/>
          </a:prstGeom>
          <a:ln w="0">
            <a:noFill/>
          </a:ln>
        </p:spPr>
      </p:pic>
      <p:sp>
        <p:nvSpPr>
          <p:cNvPr id="25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23560"/>
          <p:cNvSpPr/>
          <p:nvPr/>
        </p:nvSpPr>
        <p:spPr>
          <a:xfrm>
            <a:off x="990720" y="1905120"/>
            <a:ext cx="777240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嵌段共聚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依次进入不同单体的活性聚合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如，烷基锂为引发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42640" y="40384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要注意链阴离子的活性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K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的单体可引发小的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t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MMA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AN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VDCN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乙叉二氰）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何制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嵌段共聚物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通过多官能团偶联剂，制备星型聚合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图片 23559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553440" cy="1608120"/>
          </a:xfrm>
          <a:prstGeom prst="rect">
            <a:avLst/>
          </a:prstGeom>
          <a:ln w="0">
            <a:noFill/>
          </a:ln>
        </p:spPr>
      </p:pic>
      <p:sp>
        <p:nvSpPr>
          <p:cNvPr id="26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扩链反应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18960" y="3808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其它合成方法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特殊引发剂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缩聚中的链交换反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带活性端基预聚体的反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力化学法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990360" y="3429000"/>
            <a:ext cx="7467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扩链反应是指以适当的方法，将分子量为几千的低聚物连接起来，使分子量成倍或几十倍提高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遥爪预聚物分子量一般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千，常呈液体状，通过扩链，可得到高分子量产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近年来发展的液体橡胶是这一反应的典型应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于不同的活性端基，相应的扩链剂也不相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42640" y="3808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活性端基             扩链剂的官能团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H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C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H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环氧基     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环氧                       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H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O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酸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CO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H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HR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040" y="4191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99"/>
                </a:solidFill>
                <a:latin typeface="Times New Roman"/>
              </a:rPr>
              <a:t>降解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聚合物分子量变小的化学反应的总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合物降解的因素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47920" y="380880"/>
            <a:ext cx="7162560" cy="360"/>
            <a:chOff x="1447920" y="380880"/>
            <a:chExt cx="7162560" cy="360"/>
          </a:xfrm>
        </p:grpSpPr>
        <p:sp>
          <p:nvSpPr>
            <p:cNvPr id="268" name="直接连接符 25604"/>
            <p:cNvSpPr/>
            <p:nvPr/>
          </p:nvSpPr>
          <p:spPr>
            <a:xfrm>
              <a:off x="1447920" y="380880"/>
              <a:ext cx="716256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447920" y="38088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47920" y="914400"/>
            <a:ext cx="7162560" cy="360"/>
            <a:chOff x="1447920" y="914400"/>
            <a:chExt cx="7162560" cy="360"/>
          </a:xfrm>
        </p:grpSpPr>
        <p:sp>
          <p:nvSpPr>
            <p:cNvPr id="271" name="直接连接符 25605"/>
            <p:cNvSpPr/>
            <p:nvPr/>
          </p:nvSpPr>
          <p:spPr>
            <a:xfrm>
              <a:off x="1447920" y="914400"/>
              <a:ext cx="716256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1447920" y="91440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600200" y="2819520"/>
            <a:ext cx="7162920" cy="360"/>
            <a:chOff x="1600200" y="2819520"/>
            <a:chExt cx="7162920" cy="360"/>
          </a:xfrm>
        </p:grpSpPr>
        <p:sp>
          <p:nvSpPr>
            <p:cNvPr id="274" name="直接连接符 25606"/>
            <p:cNvSpPr/>
            <p:nvPr/>
          </p:nvSpPr>
          <p:spPr>
            <a:xfrm>
              <a:off x="1600200" y="2819520"/>
              <a:ext cx="716292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00200" y="2819520"/>
              <a:ext cx="716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文本框 25610"/>
          <p:cNvSpPr/>
          <p:nvPr/>
        </p:nvSpPr>
        <p:spPr>
          <a:xfrm>
            <a:off x="609480" y="3352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文本框 25612"/>
          <p:cNvSpPr/>
          <p:nvPr/>
        </p:nvSpPr>
        <p:spPr>
          <a:xfrm>
            <a:off x="3733920" y="4724280"/>
            <a:ext cx="4952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化学因素：水、醇、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因素：热、光、幅射、机械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－化学因素：热氧、光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左大括号 25613"/>
          <p:cNvSpPr/>
          <p:nvPr/>
        </p:nvSpPr>
        <p:spPr>
          <a:xfrm>
            <a:off x="3505320" y="48769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00"/>
                            </p:stCondLst>
                            <p:childTnLst>
                              <p:par>
                                <p:cTn id="9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1271"/>
          <p:cNvSpPr/>
          <p:nvPr/>
        </p:nvSpPr>
        <p:spPr>
          <a:xfrm>
            <a:off x="1143000" y="5257800"/>
            <a:ext cx="6019920" cy="1295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分子官能团反应特点及影响因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高分子官能团可以起各种化学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由于高分子存在链结构、聚集态结构，官能团反应具有特殊性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反应产物的不均匀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高分子链上的官能团很难全部起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一个高分子链上就含有未反应和反应后的多种不同基团，类似共聚产物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例如聚丙烯腈水解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图片 11270" descr=""/>
          <p:cNvPicPr/>
          <p:nvPr/>
        </p:nvPicPr>
        <p:blipFill>
          <a:blip r:embed="rId1"/>
          <a:stretch/>
        </p:blipFill>
        <p:spPr>
          <a:xfrm>
            <a:off x="1676520" y="5410080"/>
            <a:ext cx="2666880" cy="10890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4952880" y="5943600"/>
            <a:ext cx="1524240" cy="360"/>
            <a:chOff x="4952880" y="5943600"/>
            <a:chExt cx="1524240" cy="360"/>
          </a:xfrm>
        </p:grpSpPr>
        <p:sp>
          <p:nvSpPr>
            <p:cNvPr id="132" name="直接连接符 11272"/>
            <p:cNvSpPr/>
            <p:nvPr/>
          </p:nvSpPr>
          <p:spPr>
            <a:xfrm>
              <a:off x="4952880" y="5943600"/>
              <a:ext cx="1524240" cy="0"/>
            </a:xfrm>
            <a:prstGeom prst="line">
              <a:avLst/>
            </a:prstGeom>
            <a:ln cap="sq" w="34920">
              <a:solidFill>
                <a:srgbClr val="0099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4952880" y="594360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26631"/>
          <p:cNvSpPr/>
          <p:nvPr/>
        </p:nvSpPr>
        <p:spPr>
          <a:xfrm>
            <a:off x="685800" y="5334120"/>
            <a:ext cx="8001000" cy="1295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矩形 26629"/>
          <p:cNvSpPr/>
          <p:nvPr/>
        </p:nvSpPr>
        <p:spPr>
          <a:xfrm>
            <a:off x="762120" y="3429000"/>
            <a:ext cx="7924680" cy="1143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水解和化学降解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杂链聚合物容易发生化学降解，化学降解中大量是水解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酸、碱是水解的催化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缩醛、聚酯、聚酰胺最易发生水解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淀粉、纤维素完全水解可得到相应的单糖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酰胺水解生成端氨基和羧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43000" y="47242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碱是聚酯水解活泼催化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图片 26628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7772400" cy="96696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6630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6782040" cy="1062000"/>
          </a:xfrm>
          <a:prstGeom prst="rect">
            <a:avLst/>
          </a:prstGeom>
          <a:ln w="0">
            <a:noFill/>
          </a:ln>
        </p:spPr>
      </p:pic>
      <p:sp>
        <p:nvSpPr>
          <p:cNvPr id="28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9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27653"/>
          <p:cNvSpPr/>
          <p:nvPr/>
        </p:nvSpPr>
        <p:spPr>
          <a:xfrm>
            <a:off x="1219320" y="304920"/>
            <a:ext cx="7543800" cy="1066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力化学降解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分子在机械力和超声波作用下，都可能使大分子断链而降解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受机械力的场合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力化学降解产生的高分子自由基，在单体存在时，可生成接枝共聚物，近年来发展的反应性挤出就是利用这一原理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图片 27652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7086600" cy="46692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27654"/>
          <p:cNvSpPr/>
          <p:nvPr/>
        </p:nvSpPr>
        <p:spPr>
          <a:xfrm>
            <a:off x="3581280" y="289548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固体聚合物的粉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橡胶塑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熔融挤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纺丝聚合物溶液的强力搅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左大括号 27655"/>
          <p:cNvSpPr/>
          <p:nvPr/>
        </p:nvSpPr>
        <p:spPr>
          <a:xfrm>
            <a:off x="3352680" y="30481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热降解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18960" y="9907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高分子在热的作用下发生降解是一种常见现象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高分子的热稳定性与其结构有关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解聚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解聚可看成链增长的逆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热裂解一般是自由基反应，先在链端发生断裂， 生成活性较低的自由基，然后按连锁机理迅速脱除单体，这就是</a:t>
            </a:r>
            <a:r>
              <a:rPr b="1" lang="zh-CN" sz="2600" spc="-1" strike="noStrike">
                <a:solidFill>
                  <a:srgbClr val="00ff99"/>
                </a:solidFill>
                <a:latin typeface="Times New Roman"/>
              </a:rPr>
              <a:t>解聚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高分子发生解聚的难易与其结构有关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294920" y="51811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链带有季碳原子的高分子易发生解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原因：无叔氢原子，难以转移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M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聚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甲基苯乙烯、聚异丁烯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29702"/>
          <p:cNvSpPr/>
          <p:nvPr/>
        </p:nvSpPr>
        <p:spPr>
          <a:xfrm>
            <a:off x="1295280" y="228600"/>
            <a:ext cx="7391520" cy="3505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66320" y="403848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全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键聚合物可全部解聚成单体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键能大，不易断裂，不能夺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原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四氟乙烯单体产率达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96. 6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500"/>
              </a:spcBef>
              <a:buClr>
                <a:srgbClr val="ff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链端带有半缩醛结构的聚合物易解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聚甲醛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图片 29700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486400" cy="128268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29701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410080" cy="1440000"/>
          </a:xfrm>
          <a:prstGeom prst="rect">
            <a:avLst/>
          </a:prstGeom>
          <a:ln w="0">
            <a:noFill/>
          </a:ln>
        </p:spPr>
      </p:pic>
      <p:sp>
        <p:nvSpPr>
          <p:cNvPr id="30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30725"/>
          <p:cNvSpPr/>
          <p:nvPr/>
        </p:nvSpPr>
        <p:spPr>
          <a:xfrm>
            <a:off x="838080" y="3276720"/>
            <a:ext cx="7925040" cy="3276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规断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合物受热时，主链的任何处都可以断裂，分子量迅速下降，单体收率很少，这种反应称为</a:t>
            </a:r>
            <a:r>
              <a:rPr b="1" lang="zh-CN" sz="2400" spc="-1" strike="noStrike">
                <a:solidFill>
                  <a:srgbClr val="00ff99"/>
                </a:solidFill>
                <a:latin typeface="Times New Roman"/>
              </a:rPr>
              <a:t>无规断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也称降解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聚乙烯，断链后形成的自由基活性很高，周围又有许多仲氢原子，易发生链转移反应，几乎无单体产生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图片 30727" descr=""/>
          <p:cNvPicPr/>
          <p:nvPr/>
        </p:nvPicPr>
        <p:blipFill>
          <a:blip r:embed="rId1"/>
          <a:stretch/>
        </p:blipFill>
        <p:spPr>
          <a:xfrm>
            <a:off x="1752480" y="3505320"/>
            <a:ext cx="5639040" cy="125388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30728" descr=""/>
          <p:cNvPicPr/>
          <p:nvPr/>
        </p:nvPicPr>
        <p:blipFill>
          <a:blip r:embed="rId2"/>
          <a:stretch/>
        </p:blipFill>
        <p:spPr>
          <a:xfrm>
            <a:off x="2438280" y="4876920"/>
            <a:ext cx="4724640" cy="1519200"/>
          </a:xfrm>
          <a:prstGeom prst="rect">
            <a:avLst/>
          </a:prstGeom>
          <a:ln w="0">
            <a:noFill/>
          </a:ln>
        </p:spPr>
      </p:pic>
      <p:sp>
        <p:nvSpPr>
          <p:cNvPr id="30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31750"/>
          <p:cNvSpPr/>
          <p:nvPr/>
        </p:nvSpPr>
        <p:spPr>
          <a:xfrm>
            <a:off x="1295280" y="228600"/>
            <a:ext cx="7543800" cy="5105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S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受热时，同时伴有降解和解聚反应，单体产率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％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图片 31748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200400" cy="157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791320" y="2057400"/>
            <a:ext cx="533160" cy="838080"/>
            <a:chOff x="5791320" y="2057400"/>
            <a:chExt cx="533160" cy="838080"/>
          </a:xfrm>
        </p:grpSpPr>
        <p:sp>
          <p:nvSpPr>
            <p:cNvPr id="317" name="直接连接符 31753"/>
            <p:cNvSpPr/>
            <p:nvPr/>
          </p:nvSpPr>
          <p:spPr>
            <a:xfrm>
              <a:off x="5791320" y="2057400"/>
              <a:ext cx="533160" cy="838080"/>
            </a:xfrm>
            <a:prstGeom prst="line">
              <a:avLst/>
            </a:prstGeom>
            <a:ln cap="sq"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5791320" y="205740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9" name="图片 31754" descr=""/>
          <p:cNvPicPr/>
          <p:nvPr/>
        </p:nvPicPr>
        <p:blipFill>
          <a:blip r:embed="rId2"/>
          <a:stretch/>
        </p:blipFill>
        <p:spPr>
          <a:xfrm>
            <a:off x="1600200" y="3068640"/>
            <a:ext cx="38098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2971800" y="2057400"/>
            <a:ext cx="533520" cy="838080"/>
            <a:chOff x="2971800" y="2057400"/>
            <a:chExt cx="533520" cy="838080"/>
          </a:xfrm>
        </p:grpSpPr>
        <p:sp>
          <p:nvSpPr>
            <p:cNvPr id="321" name="直接连接符 31755"/>
            <p:cNvSpPr/>
            <p:nvPr/>
          </p:nvSpPr>
          <p:spPr>
            <a:xfrm flipH="1">
              <a:off x="2971800" y="2057400"/>
              <a:ext cx="533520" cy="838080"/>
            </a:xfrm>
            <a:prstGeom prst="line">
              <a:avLst/>
            </a:prstGeom>
            <a:ln cap="sq"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971800" y="2057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3" name="图片 31756" descr=""/>
          <p:cNvPicPr/>
          <p:nvPr/>
        </p:nvPicPr>
        <p:blipFill>
          <a:blip r:embed="rId3"/>
          <a:stretch/>
        </p:blipFill>
        <p:spPr>
          <a:xfrm>
            <a:off x="1905120" y="380880"/>
            <a:ext cx="5029200" cy="1617840"/>
          </a:xfrm>
          <a:prstGeom prst="rect">
            <a:avLst/>
          </a:prstGeom>
          <a:ln w="0">
            <a:noFill/>
          </a:ln>
        </p:spPr>
      </p:pic>
      <p:sp>
        <p:nvSpPr>
          <p:cNvPr id="3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2293"/>
          <p:cNvSpPr/>
          <p:nvPr/>
        </p:nvSpPr>
        <p:spPr>
          <a:xfrm>
            <a:off x="1295280" y="228600"/>
            <a:ext cx="7620120" cy="1523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反应不能用小分子的“产率”一词来描述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只能用</a:t>
            </a:r>
            <a:r>
              <a:rPr b="1" lang="zh-CN" sz="2600" spc="-1" strike="noStrike">
                <a:solidFill>
                  <a:srgbClr val="00ff99"/>
                </a:solidFill>
                <a:latin typeface="Times New Roman"/>
              </a:rPr>
              <a:t>基团转化率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来表征：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即指起始基团生成各种基团的百分数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基团转化率不能达到百分之百，是由高分子反应的不均匀性和复杂性造成的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影响高分子化学反应的因素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48765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化学因素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几率效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分子链上的相邻基团作无规成对反应时，中间往往留有孤立基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高转化率受到几率的限制，称为</a:t>
            </a:r>
            <a:r>
              <a:rPr b="1" lang="zh-CN" sz="2400" spc="-1" strike="noStrike">
                <a:solidFill>
                  <a:srgbClr val="00ff99"/>
                </a:solidFill>
                <a:latin typeface="Times New Roman"/>
              </a:rPr>
              <a:t>几率效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图片 12292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7010280" cy="1063800"/>
          </a:xfrm>
          <a:prstGeom prst="rect">
            <a:avLst/>
          </a:prstGeom>
          <a:ln w="0">
            <a:noFill/>
          </a:ln>
        </p:spPr>
      </p:pic>
      <p:sp>
        <p:nvSpPr>
          <p:cNvPr id="13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3320"/>
          <p:cNvSpPr/>
          <p:nvPr/>
        </p:nvSpPr>
        <p:spPr>
          <a:xfrm>
            <a:off x="1066680" y="4800600"/>
            <a:ext cx="7620120" cy="1752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矩形 13317"/>
          <p:cNvSpPr/>
          <p:nvPr/>
        </p:nvSpPr>
        <p:spPr>
          <a:xfrm>
            <a:off x="1066680" y="1219320"/>
            <a:ext cx="7848720" cy="1752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如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V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Z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粉共热脱氯，按几率计算只能达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6. 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与实验结果相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邻近基团效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高分子链上的邻近基团，包括反应后的基团都可以改变未反应基团的活性，这种影响称为</a:t>
            </a:r>
            <a:r>
              <a:rPr b="1" lang="zh-CN" sz="2400" spc="-1" strike="noStrike">
                <a:solidFill>
                  <a:srgbClr val="00ff99"/>
                </a:solidFill>
                <a:latin typeface="Times New Roman"/>
              </a:rPr>
              <a:t>邻基效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聚甲基丙烯酸酯类碱性水解有自动催化作用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图片 13316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238880" cy="16099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3319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7238880" cy="1503360"/>
          </a:xfrm>
          <a:prstGeom prst="rect">
            <a:avLst/>
          </a:prstGeom>
          <a:ln w="0">
            <a:noFill/>
          </a:ln>
        </p:spPr>
      </p:pic>
      <p:sp>
        <p:nvSpPr>
          <p:cNvPr id="14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0920" y="2437920"/>
            <a:ext cx="7923240" cy="26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利于形成五元或六元环状中间体，均有促进效应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邻基效应还与高分子的构型有关，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全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M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无规、间同水解快，原因是全同基结构的团位置易于形成环酐中间体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物理因素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5028840"/>
            <a:ext cx="2590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聚集态的影响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晶态高分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矩形 14341"/>
          <p:cNvSpPr/>
          <p:nvPr/>
        </p:nvSpPr>
        <p:spPr>
          <a:xfrm>
            <a:off x="1371600" y="304920"/>
            <a:ext cx="731520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文本框 14342"/>
          <p:cNvSpPr/>
          <p:nvPr/>
        </p:nvSpPr>
        <p:spPr>
          <a:xfrm>
            <a:off x="3352680" y="548640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低分子很难扩散入晶区，晶区不能反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官能团反应通常仅限于非晶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左大括号 14343"/>
          <p:cNvSpPr/>
          <p:nvPr/>
        </p:nvSpPr>
        <p:spPr>
          <a:xfrm>
            <a:off x="3048120" y="563868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图片 1434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81840" cy="1828800"/>
          </a:xfrm>
          <a:prstGeom prst="rect">
            <a:avLst/>
          </a:prstGeom>
          <a:ln w="0">
            <a:noFill/>
          </a:ln>
        </p:spPr>
      </p:pic>
      <p:sp>
        <p:nvSpPr>
          <p:cNvPr id="1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160" y="51055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轻度交联的聚合物，须适当溶剂溶胀，才易进行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如苯乙烯－二乙烯基苯共聚物，用二氯乙烷溶胀后，才易磺化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文本框 15364"/>
          <p:cNvSpPr/>
          <p:nvPr/>
        </p:nvSpPr>
        <p:spPr>
          <a:xfrm>
            <a:off x="1143000" y="8380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非晶态高分子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文本框 15365"/>
          <p:cNvSpPr/>
          <p:nvPr/>
        </p:nvSpPr>
        <p:spPr>
          <a:xfrm>
            <a:off x="3733920" y="304920"/>
            <a:ext cx="5181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玻璃态，链段运动冻结，难以反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弹态：链段活动增大，反应加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粘流态：可顺利进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左大括号 15366"/>
          <p:cNvSpPr/>
          <p:nvPr/>
        </p:nvSpPr>
        <p:spPr>
          <a:xfrm>
            <a:off x="3352680" y="4572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15370"/>
          <p:cNvSpPr/>
          <p:nvPr/>
        </p:nvSpPr>
        <p:spPr>
          <a:xfrm>
            <a:off x="685800" y="320040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链构象的影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分子链在溶液中可呈螺旋形或无规线团状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剂改变，链构象亦改变，官能团的反应性会发生明显的变化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矩形 15371"/>
          <p:cNvSpPr/>
          <p:nvPr/>
        </p:nvSpPr>
        <p:spPr>
          <a:xfrm>
            <a:off x="685800" y="2057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即使均相反应，高分子的溶解情况发生变化时，反应速率也会发生相应变化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6389"/>
          <p:cNvSpPr/>
          <p:nvPr/>
        </p:nvSpPr>
        <p:spPr>
          <a:xfrm>
            <a:off x="304920" y="3886200"/>
            <a:ext cx="5638680" cy="2590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2004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纤维素的结构如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5880" y="373392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粘胶纤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纤维素硝酸酯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纤维素醋酸酯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纤维素醚类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甲基、乙基、羧甲基纤维素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图片 16388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5333760" cy="2139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66680" y="144792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纤维素的化学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纤维素是第一个进行化学改性的天然高分子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纤维素有许多重要衍生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16391"/>
          <p:cNvSpPr/>
          <p:nvPr/>
        </p:nvSpPr>
        <p:spPr>
          <a:xfrm>
            <a:off x="144792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 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聚合度相似的化学转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2770"/>
          <p:cNvSpPr/>
          <p:nvPr/>
        </p:nvSpPr>
        <p:spPr>
          <a:xfrm>
            <a:off x="1523880" y="304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粘胶纤维的制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315200" y="2895480"/>
            <a:ext cx="360" cy="762120"/>
            <a:chOff x="7315200" y="2895480"/>
            <a:chExt cx="360" cy="762120"/>
          </a:xfrm>
        </p:grpSpPr>
        <p:sp>
          <p:nvSpPr>
            <p:cNvPr id="170" name="直接连接符 32774"/>
            <p:cNvSpPr/>
            <p:nvPr/>
          </p:nvSpPr>
          <p:spPr>
            <a:xfrm>
              <a:off x="7315200" y="2895480"/>
              <a:ext cx="0" cy="76212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7315200" y="28954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91120" y="1981080"/>
            <a:ext cx="1600200" cy="360"/>
            <a:chOff x="4191120" y="1981080"/>
            <a:chExt cx="1600200" cy="360"/>
          </a:xfrm>
        </p:grpSpPr>
        <p:sp>
          <p:nvSpPr>
            <p:cNvPr id="173" name="直接连接符 32775"/>
            <p:cNvSpPr/>
            <p:nvPr/>
          </p:nvSpPr>
          <p:spPr>
            <a:xfrm>
              <a:off x="4191120" y="1981080"/>
              <a:ext cx="16002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191120" y="19810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267080" y="4724280"/>
            <a:ext cx="1447920" cy="360"/>
            <a:chOff x="4267080" y="4724280"/>
            <a:chExt cx="1447920" cy="360"/>
          </a:xfrm>
        </p:grpSpPr>
        <p:sp>
          <p:nvSpPr>
            <p:cNvPr id="176" name="直接连接符 32776"/>
            <p:cNvSpPr/>
            <p:nvPr/>
          </p:nvSpPr>
          <p:spPr>
            <a:xfrm flipH="1">
              <a:off x="4267080" y="4724280"/>
              <a:ext cx="144792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267080" y="472428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819160" y="2819520"/>
            <a:ext cx="360" cy="838080"/>
            <a:chOff x="2819160" y="2819520"/>
            <a:chExt cx="360" cy="838080"/>
          </a:xfrm>
        </p:grpSpPr>
        <p:sp>
          <p:nvSpPr>
            <p:cNvPr id="179" name="直接连接符 32777"/>
            <p:cNvSpPr/>
            <p:nvPr/>
          </p:nvSpPr>
          <p:spPr>
            <a:xfrm flipV="1">
              <a:off x="2819520" y="2819520"/>
              <a:ext cx="0" cy="83808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 rot="10800000">
              <a:off x="2819160" y="28195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文本框 32778"/>
          <p:cNvSpPr/>
          <p:nvPr/>
        </p:nvSpPr>
        <p:spPr>
          <a:xfrm>
            <a:off x="4191120" y="1523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% Na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文本框 32779"/>
          <p:cNvSpPr/>
          <p:nvPr/>
        </p:nvSpPr>
        <p:spPr>
          <a:xfrm>
            <a:off x="4191120" y="2057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浸渍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文本框 32780"/>
          <p:cNvSpPr/>
          <p:nvPr/>
        </p:nvSpPr>
        <p:spPr>
          <a:xfrm>
            <a:off x="8080560" y="1066680"/>
            <a:ext cx="850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碱纤维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文本框 32781"/>
          <p:cNvSpPr/>
          <p:nvPr/>
        </p:nvSpPr>
        <p:spPr>
          <a:xfrm>
            <a:off x="6553080" y="2895480"/>
            <a:ext cx="762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文本框 32782"/>
          <p:cNvSpPr/>
          <p:nvPr/>
        </p:nvSpPr>
        <p:spPr>
          <a:xfrm>
            <a:off x="7391520" y="2819520"/>
            <a:ext cx="15238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～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文本框 32783"/>
          <p:cNvSpPr/>
          <p:nvPr/>
        </p:nvSpPr>
        <p:spPr>
          <a:xfrm>
            <a:off x="6019920" y="586728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纤维素黄酸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文本框 32784"/>
          <p:cNvSpPr/>
          <p:nvPr/>
        </p:nvSpPr>
        <p:spPr>
          <a:xfrm>
            <a:off x="5334120" y="62485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.5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黄酸根 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 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羟基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文本框 32785"/>
          <p:cNvSpPr/>
          <p:nvPr/>
        </p:nvSpPr>
        <p:spPr>
          <a:xfrm>
            <a:off x="4648320" y="42670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℃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文本框 32786"/>
          <p:cNvSpPr/>
          <p:nvPr/>
        </p:nvSpPr>
        <p:spPr>
          <a:xfrm>
            <a:off x="4419720" y="4724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文本框 32787"/>
          <p:cNvSpPr/>
          <p:nvPr/>
        </p:nvSpPr>
        <p:spPr>
          <a:xfrm>
            <a:off x="1143000" y="57913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将部分黄酸盐水解成羟基，成为粘度较大的纺前粘胶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文本框 32788"/>
          <p:cNvSpPr/>
          <p:nvPr/>
        </p:nvSpPr>
        <p:spPr>
          <a:xfrm>
            <a:off x="1523880" y="2666880"/>
            <a:ext cx="14479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喷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文本框 32789"/>
          <p:cNvSpPr/>
          <p:nvPr/>
        </p:nvSpPr>
        <p:spPr>
          <a:xfrm>
            <a:off x="3048120" y="2819520"/>
            <a:ext cx="14475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－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C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图片 32790" descr=""/>
          <p:cNvPicPr/>
          <p:nvPr/>
        </p:nvPicPr>
        <p:blipFill>
          <a:blip r:embed="rId1"/>
          <a:stretch/>
        </p:blipFill>
        <p:spPr>
          <a:xfrm>
            <a:off x="1600200" y="1028880"/>
            <a:ext cx="2362320" cy="14698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32791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438280" cy="15177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2792" descr=""/>
          <p:cNvPicPr/>
          <p:nvPr/>
        </p:nvPicPr>
        <p:blipFill>
          <a:blip r:embed="rId3"/>
          <a:stretch/>
        </p:blipFill>
        <p:spPr>
          <a:xfrm>
            <a:off x="6019920" y="3657600"/>
            <a:ext cx="2514600" cy="22496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2793" descr=""/>
          <p:cNvPicPr/>
          <p:nvPr/>
        </p:nvPicPr>
        <p:blipFill>
          <a:blip r:embed="rId4"/>
          <a:stretch/>
        </p:blipFill>
        <p:spPr>
          <a:xfrm>
            <a:off x="1219320" y="3809880"/>
            <a:ext cx="2514600" cy="1911600"/>
          </a:xfrm>
          <a:prstGeom prst="rect">
            <a:avLst/>
          </a:prstGeom>
          <a:ln w="0">
            <a:noFill/>
          </a:ln>
        </p:spPr>
      </p:pic>
      <p:sp>
        <p:nvSpPr>
          <p:cNvPr id="19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7417"/>
          <p:cNvSpPr/>
          <p:nvPr/>
        </p:nvSpPr>
        <p:spPr>
          <a:xfrm>
            <a:off x="380880" y="3733920"/>
            <a:ext cx="8458200" cy="2895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矩形 17413"/>
          <p:cNvSpPr/>
          <p:nvPr/>
        </p:nvSpPr>
        <p:spPr>
          <a:xfrm>
            <a:off x="990720" y="1371600"/>
            <a:ext cx="7848360" cy="1600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331640" y="18900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聚醋酸乙烯酯的反应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乙烯醇只能从聚醋酸乙烯酯的水解得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320040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聚乙烯醇缩醛化反应可得到重要的高分子产品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图片 1741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467840" cy="9936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17418"/>
          <p:cNvSpPr/>
          <p:nvPr/>
        </p:nvSpPr>
        <p:spPr>
          <a:xfrm>
            <a:off x="3124080" y="5638680"/>
            <a:ext cx="3962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缩甲醛：维尼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缩丁醛：良好的玻璃粘合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图片 17419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8153640" cy="2184480"/>
          </a:xfrm>
          <a:prstGeom prst="rect">
            <a:avLst/>
          </a:prstGeom>
          <a:ln w="0">
            <a:noFill/>
          </a:ln>
        </p:spPr>
      </p:pic>
      <p:sp>
        <p:nvSpPr>
          <p:cNvPr id="20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6:31Z</dcterms:created>
  <dc:creator/>
  <dc:description/>
  <cp:keywords>高分子 化学反应</cp:keywords>
  <dc:language>en-US</dc:language>
  <cp:lastModifiedBy>An</cp:lastModifiedBy>
  <dcterms:modified xsi:type="dcterms:W3CDTF">2016-05-01T01:06:3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