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cashreg.wav" ContentType="audio/x-wav"/>
  <Override PartName="/ppt/media/image13.png" ContentType="image/png"/>
  <Override PartName="/ppt/media/image15.jpeg" ContentType="image/jpeg"/>
  <Override PartName="/ppt/media/image9.gif" ContentType="image/gif"/>
  <Override PartName="/ppt/media/image14.png" ContentType="image/png"/>
  <Override PartName="/ppt/media/image12.gif" ContentType="image/gif"/>
  <Override PartName="/ppt/media/image7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media/image5.png" ContentType="image/png"/>
  <Override PartName="/ppt/media/image6.gif" ContentType="image/gif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301-DE9B-48B9-907F-FE8B168B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A0A-8F9D-496D-8039-B46B9CF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65B-3D35-4930-9263-EF3D50DE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52A-7C39-4AA6-BA39-89C5A85F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9AC-FD2F-4C86-85C2-46F2F9A5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6B1F-13AE-4EE4-8D60-E97320F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1C3B-D1AB-42C7-AE4B-FFE6506E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A986-033E-4A3A-BAF1-4EA27479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02A2-A7E4-400E-BF0A-C596620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66B-D2FB-43BE-9AA7-5B95BEE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FBDB-541F-47FF-A514-04F6B3F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060-F4AC-4E3C-9B95-1E8FDD2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C652-3D03-4EFF-825F-B0A00BD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2425-BFA1-4FAD-9586-737B8981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20FA-27E4-431D-AD93-5930DF36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6F4-B7D3-4F20-B00C-CD1323FE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9304-2D8D-48B6-8D19-0B423022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2983-830B-462F-82EA-3EE4B9F1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734D-8F26-4125-8C69-52D573D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267B-6F52-4588-A780-1340EC71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4BDB-41CE-4712-9309-A5A210D9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D156-7ABD-42D7-BB82-654E204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2D5-8E0D-4838-BB7B-D2E1555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A6C6-6A34-4909-84D6-51ED4A46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4E8D-8589-4F98-8EEE-0D42EF4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1EF7-F08C-4BE0-8606-F2D96BD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CFAE-F576-42D8-81C4-F8BEBF1C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D0CC-8DEE-4AA3-895E-946B4672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0373-10C2-4DF8-8BDF-8ABC9A66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9E1C-F8E4-4D16-A8DC-8D764B03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0ED-9DA6-435E-A24A-1CC51139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0CE-29F7-4040-AA39-B5E87AAB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BFA-E118-475B-8D37-68BB881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AEF-DEA3-4943-BEA8-D0C8D1BB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27D-8C1E-4492-94D6-DDA74AC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F1F-420F-41C1-9F7D-A8ACBA9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83009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任意多边形 683010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任意多边形 683011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任意多边形 683012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任意多边形 683013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任意多边形 683014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任意多边形 683015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任意多边形 683016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任意多边形 683017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任意多边形 683018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任意多边形 683019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任意多边形 683020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任意多边形 683021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任意多边形 683022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任意多边形 683023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任意多边形 683024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任意多边形 683025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任意多边形 683026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任意多边形 683027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任意多边形 683028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任意多边形 683029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任意多边形 683030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任意多边形 683031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组合 683032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任意多边形 683033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任意多边形 683034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任意多边形 683035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1806-F40F-416B-BA84-463113665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DFC-CAD8-46B9-8C0B-2F6FECB740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2B9-D8F4-46F3-AE03-6A27B4D74B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684033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10" name="任意多边形 684034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任意多边形 684035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任意多边形 684036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任意多边形 684037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任意多边形 684038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任意多边形 684039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任意多边形 684040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任意多边形 684041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任意多边形 684042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任意多边形 684043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任意多边形 684044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任意多边形 684045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任意多边形 684046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任意多边形 684047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任意多边形 684048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任意多边形 684049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任意多边形 684050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任意多边形 684051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任意多边形 684052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任意多边形 684053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任意多边形 684054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任意多边形 684055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2" name="组合 684056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33" name="任意多边形 684057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任意多边形 684058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任意多边形 684059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6101-7D32-475D-9BA0-99F9384E3875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audio" Target="../media/whoosh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audio" Target="../media/whoosh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247809"/>
          <p:cNvSpPr/>
          <p:nvPr/>
        </p:nvSpPr>
        <p:spPr>
          <a:xfrm>
            <a:off x="2810520" y="1401840"/>
            <a:ext cx="38563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1016"/>
                </a:solidFill>
                <a:latin typeface="华文新魏"/>
                <a:ea typeface="华文新魏"/>
              </a:rPr>
              <a:t>《</a:t>
            </a:r>
            <a:r>
              <a:rPr b="1" lang="zh-CN" sz="6000" spc="-1" strike="noStrike">
                <a:solidFill>
                  <a:srgbClr val="101016"/>
                </a:solidFill>
                <a:latin typeface="华文新魏"/>
                <a:ea typeface="华文新魏"/>
              </a:rPr>
              <a:t>国际金融</a:t>
            </a:r>
            <a:r>
              <a:rPr b="1" lang="en-US" sz="6000" spc="-1" strike="noStrike">
                <a:solidFill>
                  <a:srgbClr val="101016"/>
                </a:solidFill>
                <a:latin typeface="华文新魏"/>
                <a:ea typeface="华文新魏"/>
              </a:rPr>
              <a:t>》</a:t>
            </a:r>
            <a:r>
              <a:rPr b="1" lang="zh-CN" sz="6000" spc="-1" strike="noStrike">
                <a:solidFill>
                  <a:srgbClr val="101016"/>
                </a:solidFill>
                <a:latin typeface="华文新魏"/>
                <a:ea typeface="华文新魏"/>
              </a:rPr>
              <a:t>课件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1016"/>
                </a:solidFill>
                <a:latin typeface="华文新魏"/>
                <a:ea typeface="华文新魏"/>
              </a:rPr>
              <a:t>                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文本框 834561"/>
          <p:cNvSpPr/>
          <p:nvPr/>
        </p:nvSpPr>
        <p:spPr>
          <a:xfrm>
            <a:off x="5584680" y="1160640"/>
            <a:ext cx="260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 vert="eaVer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文本框 834562"/>
          <p:cNvSpPr/>
          <p:nvPr/>
        </p:nvSpPr>
        <p:spPr>
          <a:xfrm>
            <a:off x="303120" y="685800"/>
            <a:ext cx="8231400" cy="1238040"/>
          </a:xfrm>
          <a:prstGeom prst="rect">
            <a:avLst/>
          </a:prstGeom>
          <a:gradFill rotWithShape="0">
            <a:gsLst>
              <a:gs pos="0">
                <a:srgbClr val="4d5e64"/>
              </a:gs>
              <a:gs pos="50000">
                <a:srgbClr val="a7ccd9"/>
              </a:gs>
              <a:gs pos="100000">
                <a:srgbClr val="4d5e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（一）</a:t>
            </a:r>
            <a:r>
              <a:rPr b="0" lang="zh-CN" sz="3100" spc="-1" strike="noStrike">
                <a:solidFill>
                  <a:srgbClr val="660066"/>
                </a:solidFill>
                <a:latin typeface="Arial"/>
                <a:ea typeface="文鼎中特广告体"/>
              </a:rPr>
              <a:t>外汇概念</a:t>
            </a:r>
            <a:r>
              <a:rPr b="0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  <a:ea typeface="华文新魏"/>
              </a:rPr>
              <a:t>foreign    exchange</a:t>
            </a:r>
            <a:r>
              <a:rPr b="0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外汇是：</a:t>
            </a:r>
            <a:r>
              <a:rPr b="0" lang="zh-CN" sz="3100" spc="-1" strike="noStrike">
                <a:solidFill>
                  <a:srgbClr val="0000ff"/>
                </a:solidFill>
                <a:latin typeface="Arial"/>
                <a:ea typeface="华文新魏"/>
              </a:rPr>
              <a:t>“外国汇兑”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或</a:t>
            </a:r>
            <a:r>
              <a:rPr b="0" lang="zh-CN" sz="3100" spc="-1" strike="noStrike">
                <a:solidFill>
                  <a:srgbClr val="0000ff"/>
                </a:solidFill>
                <a:latin typeface="Arial"/>
                <a:ea typeface="华文新魏"/>
              </a:rPr>
              <a:t>“国际汇兑”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的简称，它是国际经济活动得以进行的基本手段，是国际金融中最基本的概念之一，包括</a:t>
            </a:r>
            <a:r>
              <a:rPr b="0" lang="zh-CN" sz="3100" spc="-1" strike="noStrike">
                <a:solidFill>
                  <a:srgbClr val="0000ff"/>
                </a:solidFill>
                <a:latin typeface="Arial"/>
                <a:ea typeface="华文新魏"/>
              </a:rPr>
              <a:t>动态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0" lang="zh-CN" sz="3100" spc="-1" strike="noStrike">
                <a:solidFill>
                  <a:srgbClr val="0000ff"/>
                </a:solidFill>
                <a:latin typeface="Arial"/>
                <a:ea typeface="华文新魏"/>
              </a:rPr>
              <a:t>静态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两个方面的涵义。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6" name="图片 834564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34565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834566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28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841729"/>
          <p:cNvSpPr/>
          <p:nvPr/>
        </p:nvSpPr>
        <p:spPr>
          <a:xfrm>
            <a:off x="93960" y="2514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二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文本框 841730"/>
          <p:cNvSpPr/>
          <p:nvPr/>
        </p:nvSpPr>
        <p:spPr>
          <a:xfrm>
            <a:off x="1247040" y="1371600"/>
            <a:ext cx="48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的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种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类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文本框 841731"/>
          <p:cNvSpPr/>
          <p:nvPr/>
        </p:nvSpPr>
        <p:spPr>
          <a:xfrm>
            <a:off x="4897440" y="2971800"/>
            <a:ext cx="140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狭义外汇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广义外汇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左中括号 841732"/>
          <p:cNvSpPr/>
          <p:nvPr/>
        </p:nvSpPr>
        <p:spPr>
          <a:xfrm>
            <a:off x="1905120" y="1676520"/>
            <a:ext cx="457200" cy="2743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文本框 841733"/>
          <p:cNvSpPr/>
          <p:nvPr/>
        </p:nvSpPr>
        <p:spPr>
          <a:xfrm>
            <a:off x="2856600" y="1338120"/>
            <a:ext cx="127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动态外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静态外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文本框 841734"/>
          <p:cNvSpPr/>
          <p:nvPr/>
        </p:nvSpPr>
        <p:spPr>
          <a:xfrm>
            <a:off x="7495200" y="294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支付手段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文本框 841735"/>
          <p:cNvSpPr/>
          <p:nvPr/>
        </p:nvSpPr>
        <p:spPr>
          <a:xfrm>
            <a:off x="7495200" y="45687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币钞票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支付手段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有价证券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其他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文本框 841736"/>
          <p:cNvSpPr/>
          <p:nvPr/>
        </p:nvSpPr>
        <p:spPr>
          <a:xfrm>
            <a:off x="5275440" y="4572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兑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左中括号 841737"/>
          <p:cNvSpPr/>
          <p:nvPr/>
        </p:nvSpPr>
        <p:spPr>
          <a:xfrm>
            <a:off x="4876920" y="685800"/>
            <a:ext cx="304560" cy="1219320"/>
          </a:xfrm>
          <a:custGeom>
            <a:avLst/>
            <a:gdLst>
              <a:gd name="textAreaLeft" fmla="*/ 89640 w 304560"/>
              <a:gd name="textAreaRight" fmla="*/ 304920 w 30456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左中括号 841738"/>
          <p:cNvSpPr/>
          <p:nvPr/>
        </p:nvSpPr>
        <p:spPr>
          <a:xfrm>
            <a:off x="4381560" y="3352680"/>
            <a:ext cx="228600" cy="2286000"/>
          </a:xfrm>
          <a:custGeom>
            <a:avLst/>
            <a:gdLst>
              <a:gd name="textAreaLeft" fmla="*/ 66960 w 228600"/>
              <a:gd name="textAreaRight" fmla="*/ 228960 w 22860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左中括号 841739"/>
          <p:cNvSpPr/>
          <p:nvPr/>
        </p:nvSpPr>
        <p:spPr>
          <a:xfrm>
            <a:off x="6781680" y="4724280"/>
            <a:ext cx="381240" cy="1828800"/>
          </a:xfrm>
          <a:custGeom>
            <a:avLst/>
            <a:gdLst>
              <a:gd name="textAreaLeft" fmla="*/ 111960 w 381240"/>
              <a:gd name="textAreaRight" fmla="*/ 381600 w 381240"/>
              <a:gd name="textAreaTop" fmla="*/ 75960 h 1828800"/>
              <a:gd name="textAreaBottom" fmla="*/ 17528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右箭头 841740"/>
          <p:cNvSpPr/>
          <p:nvPr/>
        </p:nvSpPr>
        <p:spPr>
          <a:xfrm>
            <a:off x="6781680" y="309564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椭圆形标注 1640449"/>
          <p:cNvSpPr/>
          <p:nvPr/>
        </p:nvSpPr>
        <p:spPr>
          <a:xfrm>
            <a:off x="0" y="0"/>
            <a:ext cx="9144000" cy="5181480"/>
          </a:xfrm>
          <a:prstGeom prst="wedgeEllipseCallout">
            <a:avLst>
              <a:gd name="adj1" fmla="val 24203"/>
              <a:gd name="adj2" fmla="val 1283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文本框 1640450"/>
          <p:cNvSpPr/>
          <p:nvPr/>
        </p:nvSpPr>
        <p:spPr>
          <a:xfrm>
            <a:off x="1608120" y="990720"/>
            <a:ext cx="62308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国际汇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：是指通过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银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把一个国家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货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兑换成另一个国家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货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，并借助于各种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信用工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如汇票等），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货币资金转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到另一个国家，以清偿国际间由于贸易、非贸易往来产生的债权债务关系的专门性经营活动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2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5" name="图片 1640452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640453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640454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640455"/>
          <p:cNvSpPr/>
          <p:nvPr/>
        </p:nvSpPr>
        <p:spPr>
          <a:xfrm>
            <a:off x="671400" y="1957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文本框 842753"/>
          <p:cNvSpPr/>
          <p:nvPr/>
        </p:nvSpPr>
        <p:spPr>
          <a:xfrm>
            <a:off x="2819520" y="1116000"/>
            <a:ext cx="6324480" cy="57092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100" spc="-1" strike="noStrike">
                <a:solidFill>
                  <a:srgbClr val="ff6600"/>
                </a:solidFill>
                <a:latin typeface="Arial"/>
                <a:ea typeface="隶书"/>
              </a:rPr>
              <a:t>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指以可兑换的外币表示的可直接用于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国际结算的支付工具和信用工具。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银行汇票（外币表示的）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银行支票（外币表示的）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银行存款（外币表示的）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各种债权凭证（外币表示的）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文本框 842754"/>
          <p:cNvSpPr/>
          <p:nvPr/>
        </p:nvSpPr>
        <p:spPr>
          <a:xfrm>
            <a:off x="474840" y="1371600"/>
            <a:ext cx="45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2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、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狭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文本框 842755"/>
          <p:cNvSpPr/>
          <p:nvPr/>
        </p:nvSpPr>
        <p:spPr>
          <a:xfrm>
            <a:off x="1673640" y="1104840"/>
            <a:ext cx="66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定义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种类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左中括号 842756"/>
          <p:cNvSpPr/>
          <p:nvPr/>
        </p:nvSpPr>
        <p:spPr>
          <a:xfrm>
            <a:off x="1295280" y="1600200"/>
            <a:ext cx="304920" cy="3124080"/>
          </a:xfrm>
          <a:custGeom>
            <a:avLst/>
            <a:gdLst>
              <a:gd name="textAreaLeft" fmla="*/ 89640 w 304920"/>
              <a:gd name="textAreaRight" fmla="*/ 305280 w 304920"/>
              <a:gd name="textAreaTop" fmla="*/ 129960 h 3124080"/>
              <a:gd name="textAreaBottom" fmla="*/ 29941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左中括号 842757"/>
          <p:cNvSpPr/>
          <p:nvPr/>
        </p:nvSpPr>
        <p:spPr>
          <a:xfrm>
            <a:off x="3200400" y="4038480"/>
            <a:ext cx="304920" cy="1752840"/>
          </a:xfrm>
          <a:custGeom>
            <a:avLst/>
            <a:gdLst>
              <a:gd name="textAreaLeft" fmla="*/ 89640 w 304920"/>
              <a:gd name="textAreaRight" fmla="*/ 305280 w 30492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文本框 843777"/>
          <p:cNvSpPr/>
          <p:nvPr/>
        </p:nvSpPr>
        <p:spPr>
          <a:xfrm>
            <a:off x="561240" y="1447920"/>
            <a:ext cx="48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3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、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广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义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文本框 843778"/>
          <p:cNvSpPr/>
          <p:nvPr/>
        </p:nvSpPr>
        <p:spPr>
          <a:xfrm>
            <a:off x="1882800" y="121932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定义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种类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左中括号 843779"/>
          <p:cNvSpPr/>
          <p:nvPr/>
        </p:nvSpPr>
        <p:spPr>
          <a:xfrm>
            <a:off x="1371600" y="1371600"/>
            <a:ext cx="228600" cy="3962520"/>
          </a:xfrm>
          <a:custGeom>
            <a:avLst/>
            <a:gdLst>
              <a:gd name="textAreaLeft" fmla="*/ 66960 w 228600"/>
              <a:gd name="textAreaRight" fmla="*/ 228960 w 22860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矩形 843780"/>
          <p:cNvSpPr/>
          <p:nvPr/>
        </p:nvSpPr>
        <p:spPr>
          <a:xfrm>
            <a:off x="3048120" y="129528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泛指一切以外币表示的金融资产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      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文本框 843781"/>
          <p:cNvSpPr/>
          <p:nvPr/>
        </p:nvSpPr>
        <p:spPr>
          <a:xfrm>
            <a:off x="4441320" y="3733920"/>
            <a:ext cx="18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币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币支付凭证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币有价证券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其他外汇资产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左中括号 843782"/>
          <p:cNvSpPr/>
          <p:nvPr/>
        </p:nvSpPr>
        <p:spPr>
          <a:xfrm>
            <a:off x="3505320" y="4191120"/>
            <a:ext cx="304560" cy="1523880"/>
          </a:xfrm>
          <a:custGeom>
            <a:avLst/>
            <a:gdLst>
              <a:gd name="textAreaLeft" fmla="*/ 89640 w 304560"/>
              <a:gd name="textAreaRight" fmla="*/ 304920 w 30456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4789250"/>
          <p:cNvSpPr/>
          <p:nvPr/>
        </p:nvSpPr>
        <p:spPr>
          <a:xfrm>
            <a:off x="2511360" y="549360"/>
            <a:ext cx="2208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第二节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下箭头 4789251"/>
          <p:cNvSpPr/>
          <p:nvPr/>
        </p:nvSpPr>
        <p:spPr>
          <a:xfrm>
            <a:off x="1447920" y="2286000"/>
            <a:ext cx="636480" cy="99072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a7cc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下箭头 4789252"/>
          <p:cNvSpPr/>
          <p:nvPr/>
        </p:nvSpPr>
        <p:spPr>
          <a:xfrm>
            <a:off x="6629400" y="2286000"/>
            <a:ext cx="500040" cy="1066680"/>
          </a:xfrm>
          <a:prstGeom prst="downArrow">
            <a:avLst>
              <a:gd name="adj1" fmla="val 50000"/>
              <a:gd name="adj2" fmla="val 53320"/>
            </a:avLst>
          </a:prstGeom>
          <a:solidFill>
            <a:srgbClr val="a7cc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文本框 4789253"/>
          <p:cNvSpPr/>
          <p:nvPr/>
        </p:nvSpPr>
        <p:spPr>
          <a:xfrm>
            <a:off x="1455840" y="5742000"/>
            <a:ext cx="26028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18000" bIns="18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27" name="图片 4789254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4789255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4789256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4789257" descr="2"/>
          <p:cNvPicPr/>
          <p:nvPr/>
        </p:nvPicPr>
        <p:blipFill>
          <a:blip r:embed="rId4"/>
          <a:stretch/>
        </p:blipFill>
        <p:spPr>
          <a:xfrm>
            <a:off x="433440" y="582480"/>
            <a:ext cx="1082520" cy="6382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4789258" descr="0"/>
          <p:cNvPicPr/>
          <p:nvPr/>
        </p:nvPicPr>
        <p:blipFill>
          <a:blip r:embed="rId5"/>
          <a:stretch/>
        </p:blipFill>
        <p:spPr>
          <a:xfrm>
            <a:off x="1817640" y="1063800"/>
            <a:ext cx="5283360" cy="44280"/>
          </a:xfrm>
          <a:prstGeom prst="rect">
            <a:avLst/>
          </a:prstGeom>
          <a:ln w="0">
            <a:noFill/>
          </a:ln>
        </p:spPr>
      </p:pic>
      <p:sp>
        <p:nvSpPr>
          <p:cNvPr id="332" name="矩形 4789259"/>
          <p:cNvSpPr/>
          <p:nvPr/>
        </p:nvSpPr>
        <p:spPr>
          <a:xfrm>
            <a:off x="2209680" y="1371600"/>
            <a:ext cx="4413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汇率概述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矩形 4789260"/>
          <p:cNvSpPr/>
          <p:nvPr/>
        </p:nvSpPr>
        <p:spPr>
          <a:xfrm>
            <a:off x="1600200" y="2133720"/>
            <a:ext cx="5410080" cy="152280"/>
          </a:xfrm>
          <a:prstGeom prst="rect">
            <a:avLst/>
          </a:prstGeom>
          <a:solidFill>
            <a:srgbClr val="a7cc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椭圆 4789261"/>
          <p:cNvSpPr/>
          <p:nvPr/>
        </p:nvSpPr>
        <p:spPr>
          <a:xfrm>
            <a:off x="762120" y="3581280"/>
            <a:ext cx="198108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椭圆 4789262"/>
          <p:cNvSpPr/>
          <p:nvPr/>
        </p:nvSpPr>
        <p:spPr>
          <a:xfrm>
            <a:off x="5791320" y="3581280"/>
            <a:ext cx="198108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种类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椭圆 4789263"/>
          <p:cNvSpPr/>
          <p:nvPr/>
        </p:nvSpPr>
        <p:spPr>
          <a:xfrm>
            <a:off x="3276720" y="3581280"/>
            <a:ext cx="198108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标价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下箭头 4789264"/>
          <p:cNvSpPr/>
          <p:nvPr/>
        </p:nvSpPr>
        <p:spPr>
          <a:xfrm>
            <a:off x="3995640" y="2209680"/>
            <a:ext cx="500040" cy="1067040"/>
          </a:xfrm>
          <a:prstGeom prst="downArrow">
            <a:avLst>
              <a:gd name="adj1" fmla="val 50000"/>
              <a:gd name="adj2" fmla="val 53338"/>
            </a:avLst>
          </a:prstGeom>
          <a:solidFill>
            <a:srgbClr val="a7cc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4790273"/>
          <p:cNvSpPr/>
          <p:nvPr/>
        </p:nvSpPr>
        <p:spPr>
          <a:xfrm>
            <a:off x="315360" y="2133720"/>
            <a:ext cx="811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第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二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节   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左中括号 4790274"/>
          <p:cNvSpPr/>
          <p:nvPr/>
        </p:nvSpPr>
        <p:spPr>
          <a:xfrm>
            <a:off x="2133720" y="1409760"/>
            <a:ext cx="533160" cy="3771720"/>
          </a:xfrm>
          <a:custGeom>
            <a:avLst/>
            <a:gdLst>
              <a:gd name="textAreaLeft" fmla="*/ 156600 w 533160"/>
              <a:gd name="textAreaRight" fmla="*/ 533520 w 533160"/>
              <a:gd name="textAreaTop" fmla="*/ 156960 h 3771720"/>
              <a:gd name="textAreaBottom" fmla="*/ 3614760 h 37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左中括号 4790276"/>
          <p:cNvSpPr/>
          <p:nvPr/>
        </p:nvSpPr>
        <p:spPr>
          <a:xfrm>
            <a:off x="5486400" y="3581280"/>
            <a:ext cx="152280" cy="2895840"/>
          </a:xfrm>
          <a:custGeom>
            <a:avLst/>
            <a:gdLst>
              <a:gd name="textAreaLeft" fmla="*/ 44640 w 152280"/>
              <a:gd name="textAreaRight" fmla="*/ 152640 w 15228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文本框 4790277"/>
          <p:cNvSpPr/>
          <p:nvPr/>
        </p:nvSpPr>
        <p:spPr>
          <a:xfrm>
            <a:off x="6377040" y="160020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基本标价法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美元标价法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文本框 4790278"/>
          <p:cNvSpPr/>
          <p:nvPr/>
        </p:nvSpPr>
        <p:spPr>
          <a:xfrm>
            <a:off x="3044160" y="101772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标价法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文本框 4790279"/>
          <p:cNvSpPr/>
          <p:nvPr/>
        </p:nvSpPr>
        <p:spPr>
          <a:xfrm>
            <a:off x="2856600" y="480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种类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文本框 4790280"/>
          <p:cNvSpPr/>
          <p:nvPr/>
        </p:nvSpPr>
        <p:spPr>
          <a:xfrm>
            <a:off x="6295680" y="3349800"/>
            <a:ext cx="146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制定方法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银行买卖外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支付方式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交割时间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管制程度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使用范围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制度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通货膨胀因素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文本框 4790281"/>
          <p:cNvSpPr/>
          <p:nvPr/>
        </p:nvSpPr>
        <p:spPr>
          <a:xfrm>
            <a:off x="1231920" y="190512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述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左中括号 4790284"/>
          <p:cNvSpPr/>
          <p:nvPr/>
        </p:nvSpPr>
        <p:spPr>
          <a:xfrm>
            <a:off x="5486400" y="1905120"/>
            <a:ext cx="304920" cy="838080"/>
          </a:xfrm>
          <a:custGeom>
            <a:avLst/>
            <a:gdLst>
              <a:gd name="textAreaLeft" fmla="*/ 89640 w 304920"/>
              <a:gd name="textAreaRight" fmla="*/ 305280 w 3049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文本框 852993"/>
          <p:cNvSpPr/>
          <p:nvPr/>
        </p:nvSpPr>
        <p:spPr>
          <a:xfrm>
            <a:off x="264960" y="457200"/>
            <a:ext cx="44593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一、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汇率的概念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文本框 852994"/>
          <p:cNvSpPr/>
          <p:nvPr/>
        </p:nvSpPr>
        <p:spPr>
          <a:xfrm>
            <a:off x="4724280" y="533520"/>
            <a:ext cx="827748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500" spc="-1" strike="noStrike">
                <a:solidFill>
                  <a:srgbClr val="101016"/>
                </a:solidFill>
                <a:latin typeface="Arial"/>
                <a:ea typeface="华文新魏"/>
              </a:rPr>
              <a:t>（</a:t>
            </a:r>
            <a:r>
              <a:rPr b="1" lang="en-US" sz="2500" spc="-1" strike="noStrike">
                <a:solidFill>
                  <a:srgbClr val="101016"/>
                </a:solidFill>
                <a:latin typeface="Arial"/>
                <a:ea typeface="华文新魏"/>
              </a:rPr>
              <a:t>foreign  exchange  rate</a:t>
            </a:r>
            <a:r>
              <a:rPr b="1" lang="zh-CN" sz="2500" spc="-1" strike="noStrike">
                <a:solidFill>
                  <a:srgbClr val="101016"/>
                </a:solidFill>
                <a:latin typeface="Arial"/>
                <a:ea typeface="华文新魏"/>
              </a:rPr>
              <a:t>）</a:t>
            </a:r>
            <a:endParaRPr b="1" lang="en-US" sz="2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文本框 852995"/>
          <p:cNvSpPr/>
          <p:nvPr/>
        </p:nvSpPr>
        <p:spPr>
          <a:xfrm>
            <a:off x="539640" y="1171440"/>
            <a:ext cx="8367840" cy="318348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700" spc="-1" strike="noStrike">
                <a:solidFill>
                  <a:srgbClr val="101016"/>
                </a:solidFill>
                <a:latin typeface="Arial"/>
                <a:ea typeface="华文新魏"/>
              </a:rPr>
              <a:t>       </a:t>
            </a:r>
            <a:r>
              <a:rPr b="1" lang="en-US" sz="3700" spc="-1" strike="noStrike">
                <a:solidFill>
                  <a:srgbClr val="101016"/>
                </a:solidFill>
                <a:latin typeface="Arial"/>
                <a:ea typeface="华文新魏"/>
              </a:rPr>
              <a:t>1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、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汇率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是指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一国货币兑换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成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另一国货币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的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比率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。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       </a:t>
            </a:r>
            <a:r>
              <a:rPr b="1" lang="en-US" sz="3700" spc="-1" strike="noStrike">
                <a:solidFill>
                  <a:srgbClr val="101016"/>
                </a:solidFill>
                <a:latin typeface="Arial"/>
                <a:ea typeface="华文新魏"/>
              </a:rPr>
              <a:t>2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、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汇率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是用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一国货币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表示的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另一国货币的价格。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      </a:t>
            </a:r>
            <a:r>
              <a:rPr b="1" lang="en-US" sz="3700" spc="-1" strike="noStrike">
                <a:solidFill>
                  <a:srgbClr val="101016"/>
                </a:solidFill>
                <a:latin typeface="Arial"/>
                <a:ea typeface="华文新魏"/>
              </a:rPr>
              <a:t>3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、汇率或指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不同货币之间的比率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或比价。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     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也称：</a:t>
            </a:r>
            <a:r>
              <a:rPr b="1" lang="zh-CN" sz="3700" spc="-1" strike="noStrike">
                <a:solidFill>
                  <a:srgbClr val="ff6600"/>
                </a:solidFill>
                <a:latin typeface="Arial"/>
                <a:ea typeface="华文新魏"/>
              </a:rPr>
              <a:t>汇价、外汇行市、外汇牌价</a:t>
            </a:r>
            <a:r>
              <a:rPr b="1" lang="zh-CN" sz="3700" spc="-1" strike="noStrike">
                <a:solidFill>
                  <a:srgbClr val="101016"/>
                </a:solidFill>
                <a:latin typeface="Arial"/>
                <a:ea typeface="华文新魏"/>
              </a:rPr>
              <a:t>。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52" name="图片 852997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364440" y="6480000"/>
            <a:ext cx="260280" cy="140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852998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70680" y="6480000"/>
            <a:ext cx="258840" cy="1400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852999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10400" y="641196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35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文本框 1404929"/>
          <p:cNvSpPr/>
          <p:nvPr/>
        </p:nvSpPr>
        <p:spPr>
          <a:xfrm>
            <a:off x="1084680" y="1523880"/>
            <a:ext cx="45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的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价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法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矩形 1404930"/>
          <p:cNvSpPr/>
          <p:nvPr/>
        </p:nvSpPr>
        <p:spPr>
          <a:xfrm>
            <a:off x="93960" y="2940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二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文本框 1404931"/>
          <p:cNvSpPr/>
          <p:nvPr/>
        </p:nvSpPr>
        <p:spPr>
          <a:xfrm>
            <a:off x="2709000" y="167652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基本标价法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美元标价法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文本框 1404932"/>
          <p:cNvSpPr/>
          <p:nvPr/>
        </p:nvSpPr>
        <p:spPr>
          <a:xfrm>
            <a:off x="5136120" y="119232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直接标价法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间接标价法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左中括号 1404933"/>
          <p:cNvSpPr/>
          <p:nvPr/>
        </p:nvSpPr>
        <p:spPr>
          <a:xfrm>
            <a:off x="1752480" y="2209680"/>
            <a:ext cx="228600" cy="1981440"/>
          </a:xfrm>
          <a:custGeom>
            <a:avLst/>
            <a:gdLst>
              <a:gd name="textAreaLeft" fmla="*/ 66960 w 228600"/>
              <a:gd name="textAreaRight" fmla="*/ 228960 w 228600"/>
              <a:gd name="textAreaTop" fmla="*/ 82440 h 1981440"/>
              <a:gd name="textAreaBottom" fmla="*/ 189900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左中括号 1404934"/>
          <p:cNvSpPr/>
          <p:nvPr/>
        </p:nvSpPr>
        <p:spPr>
          <a:xfrm>
            <a:off x="4648320" y="16002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文本框 1404935"/>
          <p:cNvSpPr/>
          <p:nvPr/>
        </p:nvSpPr>
        <p:spPr>
          <a:xfrm>
            <a:off x="7942680" y="903240"/>
            <a:ext cx="7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公式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特点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表示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注意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左中括号 1404936"/>
          <p:cNvSpPr/>
          <p:nvPr/>
        </p:nvSpPr>
        <p:spPr>
          <a:xfrm>
            <a:off x="7620120" y="1143000"/>
            <a:ext cx="228600" cy="4648320"/>
          </a:xfrm>
          <a:custGeom>
            <a:avLst/>
            <a:gdLst>
              <a:gd name="textAreaLeft" fmla="*/ 66960 w 228600"/>
              <a:gd name="textAreaRight" fmla="*/ 228960 w 228600"/>
              <a:gd name="textAreaTop" fmla="*/ 193680 h 4648320"/>
              <a:gd name="textAreaBottom" fmla="*/ 445464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右箭头 1404937"/>
          <p:cNvSpPr/>
          <p:nvPr/>
        </p:nvSpPr>
        <p:spPr>
          <a:xfrm>
            <a:off x="7010280" y="1219320"/>
            <a:ext cx="381240" cy="4190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914400"/>
          <a:ext cx="9067680" cy="4398840"/>
        </p:xfrm>
        <a:graphic>
          <a:graphicData uri="http://schemas.openxmlformats.org/drawingml/2006/table">
            <a:tbl>
              <a:tblPr/>
              <a:tblGrid>
                <a:gridCol w="1511280"/>
                <a:gridCol w="1511280"/>
                <a:gridCol w="939960"/>
                <a:gridCol w="1752480"/>
                <a:gridCol w="1676520"/>
                <a:gridCol w="1676160"/>
              </a:tblGrid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标价法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定义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公式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特点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表示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注意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直接标价法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应付标价法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外币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外币不变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数额增加，本币贬值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外币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1=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除去英镑、美元外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间接标价法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应收标价法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外币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不变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外币数额增加，本币升值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1=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外币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英镑、美元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美元标价法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美元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美元不变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数额增加，本币贬值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美元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1=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本币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华文新魏"/>
                          <a:ea typeface="华文新魏"/>
                        </a:rPr>
                        <a:t>除去英镑</a:t>
                      </a:r>
                      <a:endParaRPr b="1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819201"/>
          <p:cNvSpPr/>
          <p:nvPr/>
        </p:nvSpPr>
        <p:spPr>
          <a:xfrm>
            <a:off x="16002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文本框 819202"/>
          <p:cNvSpPr/>
          <p:nvPr/>
        </p:nvSpPr>
        <p:spPr>
          <a:xfrm>
            <a:off x="484920" y="2317680"/>
            <a:ext cx="48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际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金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融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左中括号 819203"/>
          <p:cNvSpPr/>
          <p:nvPr/>
        </p:nvSpPr>
        <p:spPr>
          <a:xfrm>
            <a:off x="1295280" y="914400"/>
            <a:ext cx="609840" cy="4648320"/>
          </a:xfrm>
          <a:custGeom>
            <a:avLst/>
            <a:gdLst>
              <a:gd name="textAreaLeft" fmla="*/ 179280 w 609840"/>
              <a:gd name="textAreaRight" fmla="*/ 610200 w 609840"/>
              <a:gd name="textAreaTop" fmla="*/ 193680 h 4648320"/>
              <a:gd name="textAreaBottom" fmla="*/ 445464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右中括号 819204"/>
          <p:cNvSpPr/>
          <p:nvPr/>
        </p:nvSpPr>
        <p:spPr>
          <a:xfrm>
            <a:off x="7543800" y="457200"/>
            <a:ext cx="380880" cy="5181480"/>
          </a:xfrm>
          <a:custGeom>
            <a:avLst/>
            <a:gdLst>
              <a:gd name="textAreaLeft" fmla="*/ 0 w 380880"/>
              <a:gd name="textAreaRight" fmla="*/ 267120 w 380880"/>
              <a:gd name="textAreaTop" fmla="*/ 215640 h 5181480"/>
              <a:gd name="textAreaBottom" fmla="*/ 496584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文本框 819205"/>
          <p:cNvSpPr/>
          <p:nvPr/>
        </p:nvSpPr>
        <p:spPr>
          <a:xfrm>
            <a:off x="8094960" y="198108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际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收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支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文本框 819206"/>
          <p:cNvSpPr/>
          <p:nvPr/>
        </p:nvSpPr>
        <p:spPr>
          <a:xfrm>
            <a:off x="2076480" y="63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基础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文本框 819207"/>
          <p:cNvSpPr/>
          <p:nvPr/>
        </p:nvSpPr>
        <p:spPr>
          <a:xfrm>
            <a:off x="3999240" y="0"/>
            <a:ext cx="16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与汇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体系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市场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组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资本流动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文本框 819208"/>
          <p:cNvSpPr/>
          <p:nvPr/>
        </p:nvSpPr>
        <p:spPr>
          <a:xfrm>
            <a:off x="2000520" y="3290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管理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文本框 819209"/>
          <p:cNvSpPr/>
          <p:nvPr/>
        </p:nvSpPr>
        <p:spPr>
          <a:xfrm>
            <a:off x="4380120" y="256068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收支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储备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债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文本框 819210"/>
          <p:cNvSpPr/>
          <p:nvPr/>
        </p:nvSpPr>
        <p:spPr>
          <a:xfrm>
            <a:off x="2229120" y="5029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实务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文本框 819211"/>
          <p:cNvSpPr/>
          <p:nvPr/>
        </p:nvSpPr>
        <p:spPr>
          <a:xfrm>
            <a:off x="4550400" y="472428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交易实务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融资实务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风险及防范实务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文本框 819212"/>
          <p:cNvSpPr/>
          <p:nvPr/>
        </p:nvSpPr>
        <p:spPr>
          <a:xfrm>
            <a:off x="593640" y="6103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左中括号 819213"/>
          <p:cNvSpPr/>
          <p:nvPr/>
        </p:nvSpPr>
        <p:spPr>
          <a:xfrm>
            <a:off x="3276720" y="457200"/>
            <a:ext cx="228600" cy="1676520"/>
          </a:xfrm>
          <a:custGeom>
            <a:avLst/>
            <a:gdLst>
              <a:gd name="textAreaLeft" fmla="*/ 66960 w 228600"/>
              <a:gd name="textAreaRight" fmla="*/ 228960 w 22860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左中括号 819214"/>
          <p:cNvSpPr/>
          <p:nvPr/>
        </p:nvSpPr>
        <p:spPr>
          <a:xfrm>
            <a:off x="3429000" y="2857680"/>
            <a:ext cx="380880" cy="1447560"/>
          </a:xfrm>
          <a:custGeom>
            <a:avLst/>
            <a:gdLst>
              <a:gd name="textAreaLeft" fmla="*/ 111960 w 380880"/>
              <a:gd name="textAreaRight" fmla="*/ 381240 w 38088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左中括号 819215"/>
          <p:cNvSpPr/>
          <p:nvPr/>
        </p:nvSpPr>
        <p:spPr>
          <a:xfrm>
            <a:off x="3581280" y="49528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1359873"/>
          <p:cNvSpPr/>
          <p:nvPr/>
        </p:nvSpPr>
        <p:spPr>
          <a:xfrm>
            <a:off x="1999080" y="190512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种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类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矩形 1359874"/>
          <p:cNvSpPr/>
          <p:nvPr/>
        </p:nvSpPr>
        <p:spPr>
          <a:xfrm>
            <a:off x="398880" y="25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左中括号 1359876"/>
          <p:cNvSpPr/>
          <p:nvPr/>
        </p:nvSpPr>
        <p:spPr>
          <a:xfrm>
            <a:off x="3048120" y="1295280"/>
            <a:ext cx="228600" cy="4800600"/>
          </a:xfrm>
          <a:custGeom>
            <a:avLst/>
            <a:gdLst>
              <a:gd name="textAreaLeft" fmla="*/ 66960 w 228600"/>
              <a:gd name="textAreaRight" fmla="*/ 228960 w 228600"/>
              <a:gd name="textAreaTop" fmla="*/ 199800 h 4800600"/>
              <a:gd name="textAreaBottom" fmla="*/ 460080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矩形 1359877"/>
          <p:cNvSpPr/>
          <p:nvPr/>
        </p:nvSpPr>
        <p:spPr>
          <a:xfrm>
            <a:off x="3809880" y="1076400"/>
            <a:ext cx="457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制定方法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银行买卖外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支付方式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交割时间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管制程度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使用范围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制度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通货膨胀因素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按制定方法划分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374" name="内容占位符 1477634" descr=""/>
          <p:cNvPicPr/>
          <p:nvPr/>
        </p:nvPicPr>
        <p:blipFill>
          <a:blip r:embed="rId1"/>
          <a:stretch/>
        </p:blipFill>
        <p:spPr>
          <a:xfrm>
            <a:off x="387360" y="1776240"/>
            <a:ext cx="3911760" cy="943200"/>
          </a:xfrm>
          <a:prstGeom prst="rect">
            <a:avLst/>
          </a:prstGeom>
          <a:ln w="0">
            <a:noFill/>
          </a:ln>
        </p:spPr>
      </p:pic>
      <p:pic>
        <p:nvPicPr>
          <p:cNvPr id="375" name="内容占位符 1477635" descr=""/>
          <p:cNvPicPr/>
          <p:nvPr/>
        </p:nvPicPr>
        <p:blipFill>
          <a:blip r:embed="rId2"/>
          <a:stretch/>
        </p:blipFill>
        <p:spPr>
          <a:xfrm>
            <a:off x="4708440" y="1808280"/>
            <a:ext cx="4002120" cy="942840"/>
          </a:xfrm>
          <a:prstGeom prst="rect">
            <a:avLst/>
          </a:prstGeom>
          <a:ln w="0">
            <a:noFill/>
          </a:ln>
        </p:spPr>
      </p:pic>
      <p:pic>
        <p:nvPicPr>
          <p:cNvPr id="376" name="内容占位符 1477636" descr="GIF028"/>
          <p:cNvPicPr/>
          <p:nvPr/>
        </p:nvPicPr>
        <p:blipFill>
          <a:blip r:embed="rId3"/>
          <a:stretch/>
        </p:blipFill>
        <p:spPr>
          <a:xfrm>
            <a:off x="1371600" y="2781360"/>
            <a:ext cx="670572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文本框 1477637"/>
          <p:cNvSpPr/>
          <p:nvPr/>
        </p:nvSpPr>
        <p:spPr>
          <a:xfrm>
            <a:off x="1116000" y="1938240"/>
            <a:ext cx="24559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基础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8" name="文本框 1477638"/>
          <p:cNvSpPr/>
          <p:nvPr/>
        </p:nvSpPr>
        <p:spPr>
          <a:xfrm>
            <a:off x="5527800" y="1971720"/>
            <a:ext cx="25002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套算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79" name="图片 1477639" descr="J04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477640" descr="J045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1477641" descr="J047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382" name="椭圆 1477642"/>
          <p:cNvSpPr/>
          <p:nvPr/>
        </p:nvSpPr>
        <p:spPr>
          <a:xfrm>
            <a:off x="838080" y="4340880"/>
            <a:ext cx="243864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基础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货币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椭圆 1477643"/>
          <p:cNvSpPr/>
          <p:nvPr/>
        </p:nvSpPr>
        <p:spPr>
          <a:xfrm>
            <a:off x="5486400" y="4340880"/>
            <a:ext cx="189864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套算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规则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870401"/>
          <p:cNvSpPr/>
          <p:nvPr/>
        </p:nvSpPr>
        <p:spPr>
          <a:xfrm>
            <a:off x="433440" y="706320"/>
            <a:ext cx="6184800" cy="5958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101016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）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基础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椭圆 870402"/>
          <p:cNvSpPr/>
          <p:nvPr/>
        </p:nvSpPr>
        <p:spPr>
          <a:xfrm>
            <a:off x="2362320" y="1977840"/>
            <a:ext cx="4124160" cy="842040"/>
          </a:xfrm>
          <a:prstGeom prst="ellipse">
            <a:avLst/>
          </a:prstGeom>
          <a:gradFill rotWithShape="0">
            <a:gsLst>
              <a:gs pos="0">
                <a:srgbClr val="4d5e64"/>
              </a:gs>
              <a:gs pos="50000">
                <a:srgbClr val="a7ccd9"/>
              </a:gs>
              <a:gs pos="100000">
                <a:srgbClr val="4d5e64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椭圆 870403"/>
          <p:cNvSpPr/>
          <p:nvPr/>
        </p:nvSpPr>
        <p:spPr>
          <a:xfrm>
            <a:off x="2438280" y="3578040"/>
            <a:ext cx="4046760" cy="842040"/>
          </a:xfrm>
          <a:prstGeom prst="ellipse">
            <a:avLst/>
          </a:prstGeom>
          <a:gradFill rotWithShape="0">
            <a:gsLst>
              <a:gs pos="0">
                <a:srgbClr val="4d5e64"/>
              </a:gs>
              <a:gs pos="50000">
                <a:srgbClr val="a7ccd9"/>
              </a:gs>
              <a:gs pos="100000">
                <a:srgbClr val="4d5e64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注意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文本框 870404"/>
          <p:cNvSpPr/>
          <p:nvPr/>
        </p:nvSpPr>
        <p:spPr>
          <a:xfrm>
            <a:off x="838080" y="2133720"/>
            <a:ext cx="787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华文新魏"/>
              </a:rPr>
              <a:t>A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文本框 870405"/>
          <p:cNvSpPr/>
          <p:nvPr/>
        </p:nvSpPr>
        <p:spPr>
          <a:xfrm>
            <a:off x="762120" y="3581280"/>
            <a:ext cx="1000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华文新魏"/>
              </a:rPr>
              <a:t>B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90" name="图片 870409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870410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870411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39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文本框 1408001"/>
          <p:cNvSpPr/>
          <p:nvPr/>
        </p:nvSpPr>
        <p:spPr>
          <a:xfrm>
            <a:off x="0" y="3200400"/>
            <a:ext cx="9144000" cy="2264760"/>
          </a:xfrm>
          <a:prstGeom prst="rect">
            <a:avLst/>
          </a:prstGeom>
          <a:solidFill>
            <a:srgbClr val="cc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101016"/>
                </a:solidFill>
                <a:latin typeface="Arial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101016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、  应是本国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国际收支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中使用最多的货币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101016"/>
                </a:solidFill>
                <a:latin typeface="Arial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、应是本国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外汇储备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中比重最大的货币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101016"/>
                </a:solidFill>
                <a:latin typeface="Arial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、应是国际上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普遍接受</a:t>
            </a:r>
            <a:r>
              <a:rPr b="1" lang="zh-CN" sz="3600" spc="-1" strike="noStrike">
                <a:solidFill>
                  <a:srgbClr val="101016"/>
                </a:solidFill>
                <a:latin typeface="Arial"/>
                <a:ea typeface="华文新魏"/>
              </a:rPr>
              <a:t>的可兑换货币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文本框 1408002"/>
          <p:cNvSpPr/>
          <p:nvPr/>
        </p:nvSpPr>
        <p:spPr>
          <a:xfrm>
            <a:off x="685800" y="990720"/>
            <a:ext cx="7848720" cy="219312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4000" spc="-1" strike="noStrike">
                <a:solidFill>
                  <a:srgbClr val="101016"/>
                </a:solidFill>
                <a:latin typeface="Arial"/>
                <a:ea typeface="华文新魏"/>
              </a:rPr>
              <a:t>“</a:t>
            </a:r>
            <a:r>
              <a:rPr b="1" lang="en-US" sz="4000" spc="-1" strike="noStrike">
                <a:solidFill>
                  <a:srgbClr val="101016"/>
                </a:solidFill>
                <a:latin typeface="Arial"/>
                <a:ea typeface="华文新魏"/>
              </a:rPr>
              <a:t>key  currency” or  “key money” 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4000" spc="-1" strike="noStrike">
                <a:solidFill>
                  <a:srgbClr val="101016"/>
                </a:solidFill>
                <a:latin typeface="Arial"/>
                <a:ea typeface="华文新魏"/>
              </a:rPr>
              <a:t>应具备的三个条件 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文本框 871425"/>
          <p:cNvSpPr/>
          <p:nvPr/>
        </p:nvSpPr>
        <p:spPr>
          <a:xfrm>
            <a:off x="228600" y="380880"/>
            <a:ext cx="5594400" cy="5958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套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汇率、交叉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椭圆 871426"/>
          <p:cNvSpPr/>
          <p:nvPr/>
        </p:nvSpPr>
        <p:spPr>
          <a:xfrm>
            <a:off x="2286000" y="1604880"/>
            <a:ext cx="2895480" cy="842040"/>
          </a:xfrm>
          <a:prstGeom prst="ellipse">
            <a:avLst/>
          </a:prstGeom>
          <a:gradFill rotWithShape="0">
            <a:gsLst>
              <a:gs pos="0">
                <a:srgbClr val="4d5e64"/>
              </a:gs>
              <a:gs pos="50000">
                <a:srgbClr val="a7ccd9"/>
              </a:gs>
              <a:gs pos="100000">
                <a:srgbClr val="4d5e64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文本框 871427"/>
          <p:cNvSpPr/>
          <p:nvPr/>
        </p:nvSpPr>
        <p:spPr>
          <a:xfrm>
            <a:off x="1066680" y="2093760"/>
            <a:ext cx="7272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  <a:ea typeface="华文新魏"/>
              </a:rPr>
              <a:t>A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椭圆 871428"/>
          <p:cNvSpPr/>
          <p:nvPr/>
        </p:nvSpPr>
        <p:spPr>
          <a:xfrm>
            <a:off x="2590920" y="3408120"/>
            <a:ext cx="2743200" cy="842040"/>
          </a:xfrm>
          <a:prstGeom prst="ellipse">
            <a:avLst/>
          </a:prstGeom>
          <a:gradFill rotWithShape="0">
            <a:gsLst>
              <a:gs pos="0">
                <a:srgbClr val="4d5e64"/>
              </a:gs>
              <a:gs pos="50000">
                <a:srgbClr val="a7ccd9"/>
              </a:gs>
              <a:gs pos="100000">
                <a:srgbClr val="4d5e64"/>
              </a:gs>
            </a:gsLst>
            <a:lin ang="5400000"/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规则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文本框 871429"/>
          <p:cNvSpPr/>
          <p:nvPr/>
        </p:nvSpPr>
        <p:spPr>
          <a:xfrm>
            <a:off x="1143000" y="3313080"/>
            <a:ext cx="590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  <a:ea typeface="华文新魏"/>
              </a:rPr>
              <a:t>B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02" name="图片 871435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00640" y="6472080"/>
            <a:ext cx="260640" cy="13824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871436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07240" y="647208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871437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48400" y="6402240"/>
            <a:ext cx="174600" cy="206640"/>
          </a:xfrm>
          <a:prstGeom prst="rect">
            <a:avLst/>
          </a:prstGeom>
          <a:ln w="0">
            <a:noFill/>
          </a:ln>
        </p:spPr>
      </p:pic>
      <p:sp>
        <p:nvSpPr>
          <p:cNvPr id="40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28600" y="2611440"/>
          <a:ext cx="8915400" cy="22446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754200"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华文新魏"/>
                        </a:rPr>
                        <a:t>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货币</a:t>
                      </a:r>
                      <a:endParaRPr b="1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美元作为单位货币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美元作为计价单位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美元作为单位货币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交叉相除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同边相乘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738000"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美元作为计价货币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同边相乘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46800" rIns="46800" tIns="23400" bIns="23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交叉相除</a:t>
                      </a:r>
                      <a:endParaRPr b="1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46800" marR="468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a7ccd9"/>
                    </a:solidFill>
                  </a:tcPr>
                </a:tc>
              </a:tr>
            </a:tbl>
          </a:graphicData>
        </a:graphic>
      </p:graphicFrame>
      <p:grpSp>
        <p:nvGrpSpPr>
          <p:cNvPr id="407" name=""/>
          <p:cNvGrpSpPr/>
          <p:nvPr/>
        </p:nvGrpSpPr>
        <p:grpSpPr>
          <a:xfrm>
            <a:off x="380880" y="2666880"/>
            <a:ext cx="2819520" cy="609840"/>
            <a:chOff x="380880" y="2666880"/>
            <a:chExt cx="2819520" cy="609840"/>
          </a:xfrm>
        </p:grpSpPr>
        <p:sp>
          <p:nvSpPr>
            <p:cNvPr id="408" name="直接连接符 1360923"/>
            <p:cNvSpPr/>
            <p:nvPr/>
          </p:nvSpPr>
          <p:spPr>
            <a:xfrm>
              <a:off x="380880" y="2666880"/>
              <a:ext cx="2819520" cy="6098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80880" y="266688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0880" y="2666880"/>
            <a:ext cx="1600200" cy="685800"/>
            <a:chOff x="380880" y="2666880"/>
            <a:chExt cx="1600200" cy="685800"/>
          </a:xfrm>
        </p:grpSpPr>
        <p:sp>
          <p:nvSpPr>
            <p:cNvPr id="411" name="直接连接符 1360924"/>
            <p:cNvSpPr/>
            <p:nvPr/>
          </p:nvSpPr>
          <p:spPr>
            <a:xfrm>
              <a:off x="380880" y="2666880"/>
              <a:ext cx="1600200" cy="6858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80880" y="26668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3" name="文本框 1360925"/>
          <p:cNvSpPr/>
          <p:nvPr/>
        </p:nvSpPr>
        <p:spPr>
          <a:xfrm>
            <a:off x="392040" y="284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货币</a:t>
            </a:r>
            <a:endParaRPr b="1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文本框 1360926"/>
          <p:cNvSpPr/>
          <p:nvPr/>
        </p:nvSpPr>
        <p:spPr>
          <a:xfrm>
            <a:off x="1992240" y="299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方法</a:t>
            </a:r>
            <a:endParaRPr b="1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文本框 1360927"/>
          <p:cNvSpPr/>
          <p:nvPr/>
        </p:nvSpPr>
        <p:spPr>
          <a:xfrm>
            <a:off x="3250800" y="11811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计算套算汇率的套算规则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按银行买卖外汇划分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18" name="内容占位符 1476610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93720" cy="942840"/>
          </a:xfrm>
          <a:prstGeom prst="rect">
            <a:avLst/>
          </a:prstGeom>
          <a:ln w="0">
            <a:noFill/>
          </a:ln>
        </p:spPr>
      </p:pic>
      <p:pic>
        <p:nvPicPr>
          <p:cNvPr id="419" name="内容占位符 147661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1524240" cy="942840"/>
          </a:xfrm>
          <a:prstGeom prst="rect">
            <a:avLst/>
          </a:prstGeom>
          <a:ln w="0">
            <a:noFill/>
          </a:ln>
        </p:spPr>
      </p:pic>
      <p:pic>
        <p:nvPicPr>
          <p:cNvPr id="420" name="内容占位符 1476612" descr="GIF028"/>
          <p:cNvPicPr/>
          <p:nvPr/>
        </p:nvPicPr>
        <p:blipFill>
          <a:blip r:embed="rId3"/>
          <a:stretch/>
        </p:blipFill>
        <p:spPr>
          <a:xfrm>
            <a:off x="1371600" y="2781360"/>
            <a:ext cx="6705720" cy="1600200"/>
          </a:xfrm>
          <a:prstGeom prst="rect">
            <a:avLst/>
          </a:prstGeom>
          <a:ln w="0">
            <a:noFill/>
          </a:ln>
        </p:spPr>
      </p:pic>
      <p:sp>
        <p:nvSpPr>
          <p:cNvPr id="421" name="文本框 1476613"/>
          <p:cNvSpPr/>
          <p:nvPr/>
        </p:nvSpPr>
        <p:spPr>
          <a:xfrm>
            <a:off x="762120" y="1905120"/>
            <a:ext cx="24559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买入价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文本框 1476614"/>
          <p:cNvSpPr/>
          <p:nvPr/>
        </p:nvSpPr>
        <p:spPr>
          <a:xfrm>
            <a:off x="5181480" y="1828800"/>
            <a:ext cx="25005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中间价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23" name="图片 1476615" descr="J04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1476616" descr="J045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476617" descr="J047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426" name="椭圆 1476618"/>
          <p:cNvSpPr/>
          <p:nvPr/>
        </p:nvSpPr>
        <p:spPr>
          <a:xfrm>
            <a:off x="609480" y="4567680"/>
            <a:ext cx="1905120" cy="73476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直接标价法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椭圆 1476619"/>
          <p:cNvSpPr/>
          <p:nvPr/>
        </p:nvSpPr>
        <p:spPr>
          <a:xfrm>
            <a:off x="3506760" y="4644360"/>
            <a:ext cx="1898640" cy="73476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间接标价法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椭圆 1476620"/>
          <p:cNvSpPr/>
          <p:nvPr/>
        </p:nvSpPr>
        <p:spPr>
          <a:xfrm>
            <a:off x="6324480" y="4317120"/>
            <a:ext cx="213372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原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因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29" name="图片 1476621" descr=""/>
          <p:cNvPicPr/>
          <p:nvPr/>
        </p:nvPicPr>
        <p:blipFill>
          <a:blip r:embed="rId7"/>
          <a:stretch/>
        </p:blipFill>
        <p:spPr>
          <a:xfrm>
            <a:off x="7162920" y="1676520"/>
            <a:ext cx="1676160" cy="94284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476622" descr=""/>
          <p:cNvPicPr/>
          <p:nvPr/>
        </p:nvPicPr>
        <p:blipFill>
          <a:blip r:embed="rId8"/>
          <a:stretch/>
        </p:blipFill>
        <p:spPr>
          <a:xfrm>
            <a:off x="2819520" y="1676520"/>
            <a:ext cx="1600200" cy="9428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1476623"/>
          <p:cNvSpPr/>
          <p:nvPr/>
        </p:nvSpPr>
        <p:spPr>
          <a:xfrm>
            <a:off x="3143520" y="1828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卖出价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2" name="文本框 1476624"/>
          <p:cNvSpPr/>
          <p:nvPr/>
        </p:nvSpPr>
        <p:spPr>
          <a:xfrm>
            <a:off x="7486920" y="1828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现钞价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1562625"/>
          <p:cNvSpPr/>
          <p:nvPr/>
        </p:nvSpPr>
        <p:spPr>
          <a:xfrm>
            <a:off x="425520" y="838080"/>
            <a:ext cx="8140680" cy="1430280"/>
          </a:xfrm>
          <a:prstGeom prst="rect">
            <a:avLst/>
          </a:prstGeom>
          <a:solidFill>
            <a:srgbClr val="a7cc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现钞汇率：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现钞买卖价，是银行买卖外币现钞中使用的汇率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文本框 1562626"/>
          <p:cNvSpPr/>
          <p:nvPr/>
        </p:nvSpPr>
        <p:spPr>
          <a:xfrm>
            <a:off x="457200" y="3143160"/>
            <a:ext cx="1203480" cy="59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原则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文本框 1562627"/>
          <p:cNvSpPr/>
          <p:nvPr/>
        </p:nvSpPr>
        <p:spPr>
          <a:xfrm>
            <a:off x="1174680" y="4114800"/>
            <a:ext cx="6640560" cy="11444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2500" spc="-1" strike="noStrike">
                <a:solidFill>
                  <a:srgbClr val="545472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外币现钞的买入价通常低于外汇买入价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%——3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外币现钞的卖出价与外汇卖出价相同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37" name="图片 1562678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562679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562680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440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按支付方式划分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42" name="内容占位符 1475586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898640" cy="943200"/>
          </a:xfrm>
          <a:prstGeom prst="rect">
            <a:avLst/>
          </a:prstGeom>
          <a:ln w="0">
            <a:noFill/>
          </a:ln>
        </p:spPr>
      </p:pic>
      <p:pic>
        <p:nvPicPr>
          <p:cNvPr id="443" name="内容占位符 1475587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225880" cy="943200"/>
          </a:xfrm>
          <a:prstGeom prst="rect">
            <a:avLst/>
          </a:prstGeom>
          <a:ln w="0">
            <a:noFill/>
          </a:ln>
        </p:spPr>
      </p:pic>
      <p:pic>
        <p:nvPicPr>
          <p:cNvPr id="444" name="内容占位符 1475588" descr="GIF028"/>
          <p:cNvPicPr/>
          <p:nvPr/>
        </p:nvPicPr>
        <p:blipFill>
          <a:blip r:embed="rId3"/>
          <a:stretch/>
        </p:blipFill>
        <p:spPr>
          <a:xfrm>
            <a:off x="1371600" y="2781360"/>
            <a:ext cx="6705720" cy="1600200"/>
          </a:xfrm>
          <a:prstGeom prst="rect">
            <a:avLst/>
          </a:prstGeom>
          <a:ln w="0">
            <a:noFill/>
          </a:ln>
        </p:spPr>
      </p:pic>
      <p:sp>
        <p:nvSpPr>
          <p:cNvPr id="445" name="文本框 1475589"/>
          <p:cNvSpPr/>
          <p:nvPr/>
        </p:nvSpPr>
        <p:spPr>
          <a:xfrm>
            <a:off x="609480" y="19051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电汇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文本框 1475590"/>
          <p:cNvSpPr/>
          <p:nvPr/>
        </p:nvSpPr>
        <p:spPr>
          <a:xfrm>
            <a:off x="6643800" y="1905120"/>
            <a:ext cx="25002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票汇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47" name="图片 1475591" descr="J04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475592" descr="J045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475593" descr="J047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450" name="椭圆 1475594"/>
          <p:cNvSpPr/>
          <p:nvPr/>
        </p:nvSpPr>
        <p:spPr>
          <a:xfrm>
            <a:off x="609480" y="4234680"/>
            <a:ext cx="190512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定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义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1" name="椭圆 1475595"/>
          <p:cNvSpPr/>
          <p:nvPr/>
        </p:nvSpPr>
        <p:spPr>
          <a:xfrm>
            <a:off x="3506760" y="4310640"/>
            <a:ext cx="189864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程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序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椭圆 1475596"/>
          <p:cNvSpPr/>
          <p:nvPr/>
        </p:nvSpPr>
        <p:spPr>
          <a:xfrm>
            <a:off x="6324480" y="4317120"/>
            <a:ext cx="213372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特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点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53" name="图片 1475597" descr=""/>
          <p:cNvPicPr/>
          <p:nvPr/>
        </p:nvPicPr>
        <p:blipFill>
          <a:blip r:embed="rId7"/>
          <a:stretch/>
        </p:blipFill>
        <p:spPr>
          <a:xfrm>
            <a:off x="3429000" y="1752480"/>
            <a:ext cx="1898640" cy="943200"/>
          </a:xfrm>
          <a:prstGeom prst="rect">
            <a:avLst/>
          </a:prstGeom>
          <a:ln w="0">
            <a:noFill/>
          </a:ln>
        </p:spPr>
      </p:pic>
      <p:sp>
        <p:nvSpPr>
          <p:cNvPr id="454" name="文本框 1475598"/>
          <p:cNvSpPr/>
          <p:nvPr/>
        </p:nvSpPr>
        <p:spPr>
          <a:xfrm>
            <a:off x="375912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信汇汇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4419720" y="2133720"/>
            <a:ext cx="360" cy="304560"/>
            <a:chOff x="4419720" y="2133720"/>
            <a:chExt cx="360" cy="304560"/>
          </a:xfrm>
        </p:grpSpPr>
        <p:sp>
          <p:nvSpPr>
            <p:cNvPr id="457" name="直接连接符 879617"/>
            <p:cNvSpPr/>
            <p:nvPr/>
          </p:nvSpPr>
          <p:spPr>
            <a:xfrm>
              <a:off x="4419720" y="2133720"/>
              <a:ext cx="0" cy="30456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4419720" y="2133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295280" y="2514600"/>
            <a:ext cx="6400800" cy="360"/>
            <a:chOff x="1295280" y="2514600"/>
            <a:chExt cx="6400800" cy="360"/>
          </a:xfrm>
        </p:grpSpPr>
        <p:sp>
          <p:nvSpPr>
            <p:cNvPr id="460" name="直接连接符 879618"/>
            <p:cNvSpPr/>
            <p:nvPr/>
          </p:nvSpPr>
          <p:spPr>
            <a:xfrm>
              <a:off x="1295280" y="2514600"/>
              <a:ext cx="6400800" cy="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295280" y="251460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696080" y="2514600"/>
            <a:ext cx="360" cy="1219320"/>
            <a:chOff x="7696080" y="2514600"/>
            <a:chExt cx="360" cy="1219320"/>
          </a:xfrm>
        </p:grpSpPr>
        <p:sp>
          <p:nvSpPr>
            <p:cNvPr id="463" name="直接连接符 879619"/>
            <p:cNvSpPr/>
            <p:nvPr/>
          </p:nvSpPr>
          <p:spPr>
            <a:xfrm>
              <a:off x="7696080" y="2514600"/>
              <a:ext cx="0" cy="121932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7696080" y="251460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65" name="文本框 879620"/>
          <p:cNvSpPr/>
          <p:nvPr/>
        </p:nvSpPr>
        <p:spPr>
          <a:xfrm>
            <a:off x="380880" y="4114800"/>
            <a:ext cx="2078280" cy="1086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6000" spc="-1" strike="noStrike" u="sng">
                <a:solidFill>
                  <a:srgbClr val="333300"/>
                </a:solidFill>
                <a:uFillTx/>
                <a:latin typeface="Arial"/>
                <a:ea typeface="华文新魏"/>
              </a:rPr>
              <a:t>电汇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矩形 879621"/>
          <p:cNvSpPr/>
          <p:nvPr/>
        </p:nvSpPr>
        <p:spPr>
          <a:xfrm>
            <a:off x="3276720" y="4119840"/>
            <a:ext cx="2425680" cy="961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信汇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矩形 879622"/>
          <p:cNvSpPr/>
          <p:nvPr/>
        </p:nvSpPr>
        <p:spPr>
          <a:xfrm>
            <a:off x="6629400" y="4119840"/>
            <a:ext cx="2133720" cy="961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票汇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68" name="图片 879623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879624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879625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1295280" y="2514600"/>
            <a:ext cx="360" cy="1219320"/>
            <a:chOff x="1295280" y="2514600"/>
            <a:chExt cx="360" cy="1219320"/>
          </a:xfrm>
        </p:grpSpPr>
        <p:sp>
          <p:nvSpPr>
            <p:cNvPr id="472" name="直接连接符 879626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1295280" y="251460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419720" y="2514600"/>
            <a:ext cx="360" cy="1219320"/>
            <a:chOff x="4419720" y="2514600"/>
            <a:chExt cx="360" cy="1219320"/>
          </a:xfrm>
        </p:grpSpPr>
        <p:sp>
          <p:nvSpPr>
            <p:cNvPr id="475" name="直接连接符 879627"/>
            <p:cNvSpPr/>
            <p:nvPr/>
          </p:nvSpPr>
          <p:spPr>
            <a:xfrm>
              <a:off x="4419720" y="2514600"/>
              <a:ext cx="0" cy="121932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419720" y="251460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77" name="立方体 879628"/>
          <p:cNvSpPr/>
          <p:nvPr/>
        </p:nvSpPr>
        <p:spPr>
          <a:xfrm>
            <a:off x="1447920" y="914400"/>
            <a:ext cx="6210360" cy="1214280"/>
          </a:xfrm>
          <a:prstGeom prst="cube">
            <a:avLst>
              <a:gd name="adj" fmla="val 25000"/>
            </a:avLst>
          </a:prstGeom>
          <a:solidFill>
            <a:srgbClr val="ffffdd"/>
          </a:solidFill>
          <a:ln w="9360">
            <a:solidFill>
              <a:srgbClr val="5d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汇 款 方 式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左中括号 686082"/>
          <p:cNvSpPr/>
          <p:nvPr/>
        </p:nvSpPr>
        <p:spPr>
          <a:xfrm>
            <a:off x="1371600" y="762120"/>
            <a:ext cx="609480" cy="5105160"/>
          </a:xfrm>
          <a:custGeom>
            <a:avLst/>
            <a:gdLst>
              <a:gd name="textAreaLeft" fmla="*/ 179280 w 609480"/>
              <a:gd name="textAreaRight" fmla="*/ 609840 w 609480"/>
              <a:gd name="textAreaTop" fmla="*/ 212400 h 5105160"/>
              <a:gd name="textAreaBottom" fmla="*/ 489276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文本框 686083"/>
          <p:cNvSpPr/>
          <p:nvPr/>
        </p:nvSpPr>
        <p:spPr>
          <a:xfrm>
            <a:off x="2357640" y="380880"/>
            <a:ext cx="164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与汇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体系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市场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组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资本流动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文本框 686084"/>
          <p:cNvSpPr/>
          <p:nvPr/>
        </p:nvSpPr>
        <p:spPr>
          <a:xfrm>
            <a:off x="31845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左中括号 686086"/>
          <p:cNvSpPr/>
          <p:nvPr/>
        </p:nvSpPr>
        <p:spPr>
          <a:xfrm>
            <a:off x="4724280" y="228600"/>
            <a:ext cx="381240" cy="1447920"/>
          </a:xfrm>
          <a:custGeom>
            <a:avLst/>
            <a:gdLst>
              <a:gd name="textAreaLeft" fmla="*/ 111960 w 381240"/>
              <a:gd name="textAreaRight" fmla="*/ 381600 w 38124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左中括号 686088"/>
          <p:cNvSpPr/>
          <p:nvPr/>
        </p:nvSpPr>
        <p:spPr>
          <a:xfrm>
            <a:off x="4800600" y="3124080"/>
            <a:ext cx="152280" cy="914400"/>
          </a:xfrm>
          <a:custGeom>
            <a:avLst/>
            <a:gdLst>
              <a:gd name="textAreaLeft" fmla="*/ 44640 w 152280"/>
              <a:gd name="textAreaRight" fmla="*/ 152640 w 15228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左中括号 686089"/>
          <p:cNvSpPr/>
          <p:nvPr/>
        </p:nvSpPr>
        <p:spPr>
          <a:xfrm>
            <a:off x="4800600" y="1981080"/>
            <a:ext cx="228600" cy="685800"/>
          </a:xfrm>
          <a:custGeom>
            <a:avLst/>
            <a:gdLst>
              <a:gd name="textAreaLeft" fmla="*/ 66960 w 228600"/>
              <a:gd name="textAreaRight" fmla="*/ 2289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文本框 686092"/>
          <p:cNvSpPr/>
          <p:nvPr/>
        </p:nvSpPr>
        <p:spPr>
          <a:xfrm>
            <a:off x="5333040" y="-69840"/>
            <a:ext cx="168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概述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汇率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经济分析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经济分析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2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热点分析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文本框 686093"/>
          <p:cNvSpPr/>
          <p:nvPr/>
        </p:nvSpPr>
        <p:spPr>
          <a:xfrm>
            <a:off x="5823360" y="16765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体系一般框架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三大国际金融体系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一体化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文本框 686094"/>
          <p:cNvSpPr/>
          <p:nvPr/>
        </p:nvSpPr>
        <p:spPr>
          <a:xfrm>
            <a:off x="5835600" y="2894040"/>
            <a:ext cx="252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市场一般概述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金融市场的发展趋势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欧洲货币市场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文本框 686096"/>
          <p:cNvSpPr/>
          <p:nvPr/>
        </p:nvSpPr>
        <p:spPr>
          <a:xfrm>
            <a:off x="5105520" y="464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文本框 686099"/>
          <p:cNvSpPr/>
          <p:nvPr/>
        </p:nvSpPr>
        <p:spPr>
          <a:xfrm>
            <a:off x="769680" y="16002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际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金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融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基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础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文本框 686100"/>
          <p:cNvSpPr/>
          <p:nvPr/>
        </p:nvSpPr>
        <p:spPr>
          <a:xfrm>
            <a:off x="2160" y="2438280"/>
            <a:ext cx="5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第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一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文本框 686101"/>
          <p:cNvSpPr/>
          <p:nvPr/>
        </p:nvSpPr>
        <p:spPr>
          <a:xfrm>
            <a:off x="5676120" y="441972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一般概述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三大国际金融组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文本框 686102"/>
          <p:cNvSpPr/>
          <p:nvPr/>
        </p:nvSpPr>
        <p:spPr>
          <a:xfrm>
            <a:off x="5547600" y="548496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资本流动一般概述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资本流动经济效应分析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控制国际资本流动的措施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左中括号 686103"/>
          <p:cNvSpPr/>
          <p:nvPr/>
        </p:nvSpPr>
        <p:spPr>
          <a:xfrm>
            <a:off x="4800600" y="45720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左中括号 686104"/>
          <p:cNvSpPr/>
          <p:nvPr/>
        </p:nvSpPr>
        <p:spPr>
          <a:xfrm>
            <a:off x="4724280" y="5715000"/>
            <a:ext cx="152640" cy="914400"/>
          </a:xfrm>
          <a:custGeom>
            <a:avLst/>
            <a:gdLst>
              <a:gd name="textAreaLeft" fmla="*/ 44640 w 152640"/>
              <a:gd name="textAreaRight" fmla="*/ 153000 w 15264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883713"/>
          <p:cNvSpPr/>
          <p:nvPr/>
        </p:nvSpPr>
        <p:spPr>
          <a:xfrm>
            <a:off x="649440" y="1989000"/>
            <a:ext cx="2423880" cy="5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结算工具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文本框 883714"/>
          <p:cNvSpPr/>
          <p:nvPr/>
        </p:nvSpPr>
        <p:spPr>
          <a:xfrm>
            <a:off x="3594240" y="1920960"/>
            <a:ext cx="242388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优缺点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文本框 883715"/>
          <p:cNvSpPr/>
          <p:nvPr/>
        </p:nvSpPr>
        <p:spPr>
          <a:xfrm>
            <a:off x="1341360" y="2879640"/>
            <a:ext cx="1689120" cy="671760"/>
          </a:xfrm>
          <a:prstGeom prst="rect">
            <a:avLst/>
          </a:prstGeom>
          <a:solidFill>
            <a:srgbClr val="99ff99">
              <a:alpha val="47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  <a:ea typeface="华文新魏"/>
              </a:rPr>
              <a:t>电报</a:t>
            </a:r>
            <a:endParaRPr b="1" lang="en-US" sz="4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文本框 883716"/>
          <p:cNvSpPr/>
          <p:nvPr/>
        </p:nvSpPr>
        <p:spPr>
          <a:xfrm>
            <a:off x="1386000" y="3635280"/>
            <a:ext cx="1625400" cy="67176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  <a:ea typeface="华文新魏"/>
              </a:rPr>
              <a:t>电传</a:t>
            </a:r>
            <a:endParaRPr b="1" lang="en-US" sz="4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文本框 883717"/>
          <p:cNvSpPr/>
          <p:nvPr/>
        </p:nvSpPr>
        <p:spPr>
          <a:xfrm>
            <a:off x="1341360" y="4492800"/>
            <a:ext cx="3986280" cy="610920"/>
          </a:xfrm>
          <a:prstGeom prst="rect">
            <a:avLst/>
          </a:prstGeom>
          <a:solidFill>
            <a:srgbClr val="99ff99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环球银行间金融电讯协会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文本框 883718"/>
          <p:cNvSpPr/>
          <p:nvPr/>
        </p:nvSpPr>
        <p:spPr>
          <a:xfrm>
            <a:off x="2684520" y="892080"/>
            <a:ext cx="3419280" cy="793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Arial"/>
                <a:ea typeface="华文新魏"/>
              </a:rPr>
              <a:t>电汇</a:t>
            </a:r>
            <a:endParaRPr b="1" lang="en-US" sz="4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文本框 883719"/>
          <p:cNvSpPr/>
          <p:nvPr/>
        </p:nvSpPr>
        <p:spPr>
          <a:xfrm>
            <a:off x="4070520" y="2914560"/>
            <a:ext cx="1514160" cy="56484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优点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文本框 883720"/>
          <p:cNvSpPr/>
          <p:nvPr/>
        </p:nvSpPr>
        <p:spPr>
          <a:xfrm>
            <a:off x="4025880" y="3600360"/>
            <a:ext cx="1515960" cy="61092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缺点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文本框 883721"/>
          <p:cNvSpPr/>
          <p:nvPr/>
        </p:nvSpPr>
        <p:spPr>
          <a:xfrm>
            <a:off x="5888160" y="2982960"/>
            <a:ext cx="2987640" cy="428040"/>
          </a:xfrm>
          <a:prstGeom prst="rect">
            <a:avLst/>
          </a:prstGeom>
          <a:solidFill>
            <a:srgbClr val="a7cc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华文新魏"/>
              </a:rPr>
              <a:t>安全、可靠、快速</a:t>
            </a:r>
            <a:endParaRPr b="1" lang="en-US" sz="2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文本框 883722"/>
          <p:cNvSpPr/>
          <p:nvPr/>
        </p:nvSpPr>
        <p:spPr>
          <a:xfrm>
            <a:off x="6060960" y="3668760"/>
            <a:ext cx="1665360" cy="519480"/>
          </a:xfrm>
          <a:prstGeom prst="rect">
            <a:avLst/>
          </a:prstGeom>
          <a:solidFill>
            <a:srgbClr val="a7cc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费用高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822240" y="2503440"/>
            <a:ext cx="360" cy="2571840"/>
            <a:chOff x="822240" y="2503440"/>
            <a:chExt cx="360" cy="2571840"/>
          </a:xfrm>
        </p:grpSpPr>
        <p:sp>
          <p:nvSpPr>
            <p:cNvPr id="490" name="直接连接符 883723"/>
            <p:cNvSpPr/>
            <p:nvPr/>
          </p:nvSpPr>
          <p:spPr>
            <a:xfrm>
              <a:off x="822240" y="2503440"/>
              <a:ext cx="0" cy="2571840"/>
            </a:xfrm>
            <a:prstGeom prst="line">
              <a:avLst/>
            </a:prstGeom>
            <a:ln w="111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822240" y="2503440"/>
              <a:ext cx="360" cy="257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822240" y="3154320"/>
            <a:ext cx="519120" cy="360"/>
            <a:chOff x="822240" y="3154320"/>
            <a:chExt cx="519120" cy="360"/>
          </a:xfrm>
        </p:grpSpPr>
        <p:sp>
          <p:nvSpPr>
            <p:cNvPr id="493" name="直接连接符 883724"/>
            <p:cNvSpPr/>
            <p:nvPr/>
          </p:nvSpPr>
          <p:spPr>
            <a:xfrm>
              <a:off x="822240" y="3154320"/>
              <a:ext cx="519120" cy="0"/>
            </a:xfrm>
            <a:prstGeom prst="line">
              <a:avLst/>
            </a:prstGeom>
            <a:ln w="104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822240" y="3154320"/>
              <a:ext cx="51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822240" y="3908520"/>
            <a:ext cx="563760" cy="360"/>
            <a:chOff x="822240" y="3908520"/>
            <a:chExt cx="563760" cy="360"/>
          </a:xfrm>
        </p:grpSpPr>
        <p:sp>
          <p:nvSpPr>
            <p:cNvPr id="496" name="直接连接符 883725"/>
            <p:cNvSpPr/>
            <p:nvPr/>
          </p:nvSpPr>
          <p:spPr>
            <a:xfrm>
              <a:off x="822240" y="3908520"/>
              <a:ext cx="56376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822240" y="3908520"/>
              <a:ext cx="563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822240" y="5075280"/>
            <a:ext cx="519120" cy="360"/>
            <a:chOff x="822240" y="5075280"/>
            <a:chExt cx="519120" cy="360"/>
          </a:xfrm>
        </p:grpSpPr>
        <p:sp>
          <p:nvSpPr>
            <p:cNvPr id="499" name="直接连接符 883726"/>
            <p:cNvSpPr/>
            <p:nvPr/>
          </p:nvSpPr>
          <p:spPr>
            <a:xfrm>
              <a:off x="822240" y="5075280"/>
              <a:ext cx="51912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822240" y="5075280"/>
              <a:ext cx="51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767040" y="2435400"/>
            <a:ext cx="360" cy="1508040"/>
            <a:chOff x="3767040" y="2435400"/>
            <a:chExt cx="360" cy="1508040"/>
          </a:xfrm>
        </p:grpSpPr>
        <p:sp>
          <p:nvSpPr>
            <p:cNvPr id="502" name="直接连接符 883727"/>
            <p:cNvSpPr/>
            <p:nvPr/>
          </p:nvSpPr>
          <p:spPr>
            <a:xfrm>
              <a:off x="3767040" y="2435400"/>
              <a:ext cx="0" cy="150804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767040" y="2435400"/>
              <a:ext cx="360" cy="15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766680" y="3153960"/>
            <a:ext cx="303840" cy="360"/>
            <a:chOff x="3766680" y="3153960"/>
            <a:chExt cx="303840" cy="360"/>
          </a:xfrm>
        </p:grpSpPr>
        <p:sp>
          <p:nvSpPr>
            <p:cNvPr id="505" name="直接连接符 883728"/>
            <p:cNvSpPr/>
            <p:nvPr/>
          </p:nvSpPr>
          <p:spPr>
            <a:xfrm>
              <a:off x="3767040" y="3154320"/>
              <a:ext cx="303480" cy="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10800000">
              <a:off x="3766680" y="3153960"/>
              <a:ext cx="303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767040" y="3943440"/>
            <a:ext cx="258840" cy="360"/>
            <a:chOff x="3767040" y="3943440"/>
            <a:chExt cx="258840" cy="360"/>
          </a:xfrm>
        </p:grpSpPr>
        <p:sp>
          <p:nvSpPr>
            <p:cNvPr id="508" name="直接连接符 883729"/>
            <p:cNvSpPr/>
            <p:nvPr/>
          </p:nvSpPr>
          <p:spPr>
            <a:xfrm>
              <a:off x="3767040" y="3943440"/>
              <a:ext cx="258840" cy="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767040" y="3943440"/>
              <a:ext cx="258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84680" y="3189240"/>
            <a:ext cx="303480" cy="360"/>
            <a:chOff x="5584680" y="3189240"/>
            <a:chExt cx="303480" cy="360"/>
          </a:xfrm>
        </p:grpSpPr>
        <p:sp>
          <p:nvSpPr>
            <p:cNvPr id="511" name="直接连接符 883730"/>
            <p:cNvSpPr/>
            <p:nvPr/>
          </p:nvSpPr>
          <p:spPr>
            <a:xfrm>
              <a:off x="5584680" y="3189240"/>
              <a:ext cx="30348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5584680" y="3189240"/>
              <a:ext cx="303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584680" y="3875040"/>
            <a:ext cx="476280" cy="360"/>
            <a:chOff x="5584680" y="3875040"/>
            <a:chExt cx="476280" cy="360"/>
          </a:xfrm>
        </p:grpSpPr>
        <p:sp>
          <p:nvSpPr>
            <p:cNvPr id="514" name="直接连接符 883731"/>
            <p:cNvSpPr/>
            <p:nvPr/>
          </p:nvSpPr>
          <p:spPr>
            <a:xfrm>
              <a:off x="5584680" y="3875040"/>
              <a:ext cx="47628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584680" y="3875040"/>
              <a:ext cx="47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16" name="图片 883732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883733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883734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51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884737"/>
          <p:cNvSpPr/>
          <p:nvPr/>
        </p:nvSpPr>
        <p:spPr>
          <a:xfrm>
            <a:off x="2208240" y="741960"/>
            <a:ext cx="2900160" cy="10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信汇</a:t>
            </a:r>
            <a:endParaRPr b="1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298520" y="3051000"/>
            <a:ext cx="360" cy="1886040"/>
            <a:chOff x="1298520" y="3051000"/>
            <a:chExt cx="360" cy="1886040"/>
          </a:xfrm>
        </p:grpSpPr>
        <p:sp>
          <p:nvSpPr>
            <p:cNvPr id="522" name="直接连接符 884738"/>
            <p:cNvSpPr/>
            <p:nvPr/>
          </p:nvSpPr>
          <p:spPr>
            <a:xfrm>
              <a:off x="1298520" y="3051000"/>
              <a:ext cx="0" cy="188604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1298520" y="3051000"/>
              <a:ext cx="360" cy="188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341360" y="3394080"/>
            <a:ext cx="649440" cy="360"/>
            <a:chOff x="1341360" y="3394080"/>
            <a:chExt cx="649440" cy="360"/>
          </a:xfrm>
        </p:grpSpPr>
        <p:sp>
          <p:nvSpPr>
            <p:cNvPr id="525" name="直接连接符 884739"/>
            <p:cNvSpPr/>
            <p:nvPr/>
          </p:nvSpPr>
          <p:spPr>
            <a:xfrm>
              <a:off x="1341360" y="3394080"/>
              <a:ext cx="64944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1341360" y="339408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41360" y="4896720"/>
            <a:ext cx="693720" cy="14040"/>
            <a:chOff x="1341360" y="4896720"/>
            <a:chExt cx="693720" cy="14040"/>
          </a:xfrm>
        </p:grpSpPr>
        <p:sp>
          <p:nvSpPr>
            <p:cNvPr id="528" name="直接连接符 884740"/>
            <p:cNvSpPr/>
            <p:nvPr/>
          </p:nvSpPr>
          <p:spPr>
            <a:xfrm flipV="1">
              <a:off x="1341360" y="4897080"/>
              <a:ext cx="693720" cy="1368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 rot="16132200">
              <a:off x="1687680" y="4556520"/>
              <a:ext cx="360" cy="69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497560" y="3017880"/>
            <a:ext cx="360" cy="1782720"/>
            <a:chOff x="5497560" y="3017880"/>
            <a:chExt cx="360" cy="1782720"/>
          </a:xfrm>
        </p:grpSpPr>
        <p:sp>
          <p:nvSpPr>
            <p:cNvPr id="531" name="直接连接符 884741"/>
            <p:cNvSpPr/>
            <p:nvPr/>
          </p:nvSpPr>
          <p:spPr>
            <a:xfrm>
              <a:off x="5497560" y="3017880"/>
              <a:ext cx="0" cy="178272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497560" y="3017880"/>
              <a:ext cx="360" cy="178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454720" y="3394080"/>
            <a:ext cx="606240" cy="360"/>
            <a:chOff x="5454720" y="3394080"/>
            <a:chExt cx="606240" cy="360"/>
          </a:xfrm>
        </p:grpSpPr>
        <p:sp>
          <p:nvSpPr>
            <p:cNvPr id="534" name="直接连接符 884742"/>
            <p:cNvSpPr/>
            <p:nvPr/>
          </p:nvSpPr>
          <p:spPr>
            <a:xfrm flipH="1">
              <a:off x="5454720" y="3394080"/>
              <a:ext cx="60624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5454720" y="3394080"/>
              <a:ext cx="606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541840" y="4765680"/>
            <a:ext cx="649440" cy="360"/>
            <a:chOff x="5541840" y="4765680"/>
            <a:chExt cx="649440" cy="360"/>
          </a:xfrm>
        </p:grpSpPr>
        <p:sp>
          <p:nvSpPr>
            <p:cNvPr id="537" name="直接连接符 884743"/>
            <p:cNvSpPr/>
            <p:nvPr/>
          </p:nvSpPr>
          <p:spPr>
            <a:xfrm flipH="1">
              <a:off x="5541840" y="4765680"/>
              <a:ext cx="64944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5541840" y="476568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9" name="文本框 884744"/>
          <p:cNvSpPr/>
          <p:nvPr/>
        </p:nvSpPr>
        <p:spPr>
          <a:xfrm>
            <a:off x="692280" y="2435400"/>
            <a:ext cx="2511360" cy="6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  <a:ea typeface="华文新魏"/>
              </a:rPr>
              <a:t>结算工具</a:t>
            </a:r>
            <a:endParaRPr b="1" lang="en-US" sz="4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文本框 884745"/>
          <p:cNvSpPr/>
          <p:nvPr/>
        </p:nvSpPr>
        <p:spPr>
          <a:xfrm>
            <a:off x="5281560" y="2263680"/>
            <a:ext cx="23464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Arial"/>
                <a:ea typeface="华文新魏"/>
              </a:rPr>
              <a:t>优缺点</a:t>
            </a:r>
            <a:endParaRPr b="1" lang="en-US" sz="4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文本框 884746"/>
          <p:cNvSpPr/>
          <p:nvPr/>
        </p:nvSpPr>
        <p:spPr>
          <a:xfrm>
            <a:off x="1947960" y="3189240"/>
            <a:ext cx="2814480" cy="61092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信汇委托书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文本框 884747"/>
          <p:cNvSpPr/>
          <p:nvPr/>
        </p:nvSpPr>
        <p:spPr>
          <a:xfrm>
            <a:off x="1990800" y="4525920"/>
            <a:ext cx="2987640" cy="56484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支付委托书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文本框 884748"/>
          <p:cNvSpPr/>
          <p:nvPr/>
        </p:nvSpPr>
        <p:spPr>
          <a:xfrm>
            <a:off x="6018120" y="3222720"/>
            <a:ext cx="1824120" cy="38232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费用较低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4" name="文本框 884749"/>
          <p:cNvSpPr/>
          <p:nvPr/>
        </p:nvSpPr>
        <p:spPr>
          <a:xfrm>
            <a:off x="6148440" y="4354560"/>
            <a:ext cx="2768400" cy="38232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缺点：结算时间长、收款速度慢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5" name="图片 884750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884751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84752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54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885761"/>
          <p:cNvSpPr/>
          <p:nvPr/>
        </p:nvSpPr>
        <p:spPr>
          <a:xfrm>
            <a:off x="2684520" y="804960"/>
            <a:ext cx="2813040" cy="961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票汇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0" name="文本框 885762"/>
          <p:cNvSpPr/>
          <p:nvPr/>
        </p:nvSpPr>
        <p:spPr>
          <a:xfrm>
            <a:off x="563400" y="2092320"/>
            <a:ext cx="233712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结算工具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1" name="文本框 885763"/>
          <p:cNvSpPr/>
          <p:nvPr/>
        </p:nvSpPr>
        <p:spPr>
          <a:xfrm>
            <a:off x="3463920" y="2057400"/>
            <a:ext cx="151452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特点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22240" y="2639880"/>
            <a:ext cx="360" cy="3189600"/>
            <a:chOff x="822240" y="2639880"/>
            <a:chExt cx="360" cy="3189600"/>
          </a:xfrm>
        </p:grpSpPr>
        <p:sp>
          <p:nvSpPr>
            <p:cNvPr id="553" name="直接连接符 885764"/>
            <p:cNvSpPr/>
            <p:nvPr/>
          </p:nvSpPr>
          <p:spPr>
            <a:xfrm>
              <a:off x="822240" y="2639880"/>
              <a:ext cx="0" cy="318960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822240" y="2639880"/>
              <a:ext cx="360" cy="318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22240" y="5829480"/>
            <a:ext cx="390600" cy="360"/>
            <a:chOff x="822240" y="5829480"/>
            <a:chExt cx="390600" cy="360"/>
          </a:xfrm>
        </p:grpSpPr>
        <p:sp>
          <p:nvSpPr>
            <p:cNvPr id="556" name="直接连接符 885765"/>
            <p:cNvSpPr/>
            <p:nvPr/>
          </p:nvSpPr>
          <p:spPr>
            <a:xfrm>
              <a:off x="822240" y="5829480"/>
              <a:ext cx="390600" cy="0"/>
            </a:xfrm>
            <a:prstGeom prst="line">
              <a:avLst/>
            </a:prstGeom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822240" y="5829480"/>
              <a:ext cx="39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58" name="文本框 885766"/>
          <p:cNvSpPr/>
          <p:nvPr/>
        </p:nvSpPr>
        <p:spPr>
          <a:xfrm>
            <a:off x="1255680" y="5589720"/>
            <a:ext cx="3333960" cy="564840"/>
          </a:xfrm>
          <a:prstGeom prst="rect">
            <a:avLst/>
          </a:prstGeom>
          <a:solidFill>
            <a:srgbClr val="99ff99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银行即期汇票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549600" y="2571840"/>
            <a:ext cx="360" cy="2228760"/>
            <a:chOff x="3549600" y="2571840"/>
            <a:chExt cx="360" cy="2228760"/>
          </a:xfrm>
        </p:grpSpPr>
        <p:sp>
          <p:nvSpPr>
            <p:cNvPr id="560" name="直接连接符 885767"/>
            <p:cNvSpPr/>
            <p:nvPr/>
          </p:nvSpPr>
          <p:spPr>
            <a:xfrm>
              <a:off x="3549600" y="2571840"/>
              <a:ext cx="0" cy="222876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3549600" y="2571840"/>
              <a:ext cx="360" cy="222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549600" y="3086280"/>
            <a:ext cx="345960" cy="360"/>
            <a:chOff x="3549600" y="3086280"/>
            <a:chExt cx="345960" cy="360"/>
          </a:xfrm>
        </p:grpSpPr>
        <p:sp>
          <p:nvSpPr>
            <p:cNvPr id="563" name="直接连接符 885768"/>
            <p:cNvSpPr/>
            <p:nvPr/>
          </p:nvSpPr>
          <p:spPr>
            <a:xfrm>
              <a:off x="3549600" y="3086280"/>
              <a:ext cx="34596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3549600" y="3086280"/>
              <a:ext cx="345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549600" y="4011480"/>
            <a:ext cx="345960" cy="360"/>
            <a:chOff x="3549600" y="4011480"/>
            <a:chExt cx="345960" cy="360"/>
          </a:xfrm>
        </p:grpSpPr>
        <p:sp>
          <p:nvSpPr>
            <p:cNvPr id="566" name="直接连接符 885769"/>
            <p:cNvSpPr/>
            <p:nvPr/>
          </p:nvSpPr>
          <p:spPr>
            <a:xfrm>
              <a:off x="3549600" y="4011480"/>
              <a:ext cx="34596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3549600" y="4011480"/>
              <a:ext cx="345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549600" y="4800600"/>
            <a:ext cx="345960" cy="360"/>
            <a:chOff x="3549600" y="4800600"/>
            <a:chExt cx="345960" cy="360"/>
          </a:xfrm>
        </p:grpSpPr>
        <p:sp>
          <p:nvSpPr>
            <p:cNvPr id="569" name="直接连接符 885770"/>
            <p:cNvSpPr/>
            <p:nvPr/>
          </p:nvSpPr>
          <p:spPr>
            <a:xfrm>
              <a:off x="3549600" y="4800600"/>
              <a:ext cx="345960" cy="0"/>
            </a:xfrm>
            <a:prstGeom prst="line">
              <a:avLst/>
            </a:prstGeom>
            <a:ln w="101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3549600" y="4800600"/>
              <a:ext cx="345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71" name="矩形 885771"/>
          <p:cNvSpPr/>
          <p:nvPr/>
        </p:nvSpPr>
        <p:spPr>
          <a:xfrm>
            <a:off x="4994640" y="2819880"/>
            <a:ext cx="2761200" cy="42804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华文新魏"/>
              </a:rPr>
              <a:t>汇款人自行将汇票传递给收款人</a:t>
            </a:r>
            <a:endParaRPr b="1" lang="en-US" sz="2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2" name="矩形 885772"/>
          <p:cNvSpPr/>
          <p:nvPr/>
        </p:nvSpPr>
        <p:spPr>
          <a:xfrm>
            <a:off x="3895560" y="3786480"/>
            <a:ext cx="4633920" cy="42804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华文新魏"/>
              </a:rPr>
              <a:t>汇票经收款人背书可以流通</a:t>
            </a:r>
            <a:endParaRPr b="1" lang="en-US" sz="2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矩形 885773"/>
          <p:cNvSpPr/>
          <p:nvPr/>
        </p:nvSpPr>
        <p:spPr>
          <a:xfrm>
            <a:off x="5027760" y="4611960"/>
            <a:ext cx="2608920" cy="382320"/>
          </a:xfrm>
          <a:prstGeom prst="rect">
            <a:avLst/>
          </a:prstGeom>
          <a:solidFill>
            <a:srgbClr val="99ff99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收款人可自行持汇票向汇入行取款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4" name="图片 885774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885775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885776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577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按交割期限划分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79" name="内容占位符 1474562" descr=""/>
          <p:cNvPicPr/>
          <p:nvPr/>
        </p:nvPicPr>
        <p:blipFill>
          <a:blip r:embed="rId1"/>
          <a:stretch/>
        </p:blipFill>
        <p:spPr>
          <a:xfrm>
            <a:off x="387360" y="1776240"/>
            <a:ext cx="3911760" cy="943200"/>
          </a:xfrm>
          <a:prstGeom prst="rect">
            <a:avLst/>
          </a:prstGeom>
          <a:ln w="0">
            <a:noFill/>
          </a:ln>
        </p:spPr>
      </p:pic>
      <p:pic>
        <p:nvPicPr>
          <p:cNvPr id="580" name="内容占位符 1474563" descr=""/>
          <p:cNvPicPr/>
          <p:nvPr/>
        </p:nvPicPr>
        <p:blipFill>
          <a:blip r:embed="rId2"/>
          <a:stretch/>
        </p:blipFill>
        <p:spPr>
          <a:xfrm>
            <a:off x="4708440" y="1808280"/>
            <a:ext cx="4002120" cy="942840"/>
          </a:xfrm>
          <a:prstGeom prst="rect">
            <a:avLst/>
          </a:prstGeom>
          <a:ln w="0">
            <a:noFill/>
          </a:ln>
        </p:spPr>
      </p:pic>
      <p:pic>
        <p:nvPicPr>
          <p:cNvPr id="581" name="内容占位符 1474564" descr="GIF028"/>
          <p:cNvPicPr/>
          <p:nvPr/>
        </p:nvPicPr>
        <p:blipFill>
          <a:blip r:embed="rId3"/>
          <a:stretch/>
        </p:blipFill>
        <p:spPr>
          <a:xfrm>
            <a:off x="1371600" y="2781360"/>
            <a:ext cx="6705720" cy="160020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1474565"/>
          <p:cNvSpPr/>
          <p:nvPr/>
        </p:nvSpPr>
        <p:spPr>
          <a:xfrm>
            <a:off x="1116000" y="1938240"/>
            <a:ext cx="24559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即期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文本框 1474566"/>
          <p:cNvSpPr/>
          <p:nvPr/>
        </p:nvSpPr>
        <p:spPr>
          <a:xfrm>
            <a:off x="5527800" y="1971720"/>
            <a:ext cx="25002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远期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84" name="图片 1474570" descr="J04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474571" descr="J045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474572" descr="J047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587" name="椭圆 1474573"/>
          <p:cNvSpPr/>
          <p:nvPr/>
        </p:nvSpPr>
        <p:spPr>
          <a:xfrm>
            <a:off x="609480" y="4568760"/>
            <a:ext cx="1905120" cy="73404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成交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8" name="椭圆 1474574"/>
          <p:cNvSpPr/>
          <p:nvPr/>
        </p:nvSpPr>
        <p:spPr>
          <a:xfrm>
            <a:off x="3505320" y="4644720"/>
            <a:ext cx="1901880" cy="73404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交割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椭圆 1474575"/>
          <p:cNvSpPr/>
          <p:nvPr/>
        </p:nvSpPr>
        <p:spPr>
          <a:xfrm>
            <a:off x="6324480" y="4651200"/>
            <a:ext cx="2133720" cy="73404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关系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0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566723"/>
          <p:cNvSpPr/>
          <p:nvPr/>
        </p:nvSpPr>
        <p:spPr>
          <a:xfrm>
            <a:off x="1219320" y="304920"/>
            <a:ext cx="2092320" cy="473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期汇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文本框 1566724"/>
          <p:cNvSpPr/>
          <p:nvPr/>
        </p:nvSpPr>
        <p:spPr>
          <a:xfrm>
            <a:off x="4724280" y="304920"/>
            <a:ext cx="2001960" cy="473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远期汇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3" name="椭圆 1566726"/>
          <p:cNvSpPr/>
          <p:nvPr/>
        </p:nvSpPr>
        <p:spPr>
          <a:xfrm>
            <a:off x="588240" y="2282760"/>
            <a:ext cx="801360" cy="73404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成交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4" name="椭圆 1566728"/>
          <p:cNvSpPr/>
          <p:nvPr/>
        </p:nvSpPr>
        <p:spPr>
          <a:xfrm>
            <a:off x="304920" y="3578040"/>
            <a:ext cx="1298520" cy="6696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交割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5" name="文本框 1566730"/>
          <p:cNvSpPr/>
          <p:nvPr/>
        </p:nvSpPr>
        <p:spPr>
          <a:xfrm>
            <a:off x="5254560" y="3267000"/>
            <a:ext cx="3081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6" name="文本框 1566731"/>
          <p:cNvSpPr/>
          <p:nvPr/>
        </p:nvSpPr>
        <p:spPr>
          <a:xfrm>
            <a:off x="2133720" y="2209680"/>
            <a:ext cx="6276960" cy="51948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e41904"/>
                </a:solidFill>
                <a:latin typeface="Arial"/>
                <a:ea typeface="华文新魏"/>
              </a:rPr>
              <a:t>概念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：外汇买卖双方谈妥买卖外汇的数量、价格、交割日期等条件。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文本框 1566732"/>
          <p:cNvSpPr/>
          <p:nvPr/>
        </p:nvSpPr>
        <p:spPr>
          <a:xfrm>
            <a:off x="2133720" y="3581280"/>
            <a:ext cx="6234120" cy="5648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400" spc="-1" strike="noStrike">
                <a:solidFill>
                  <a:srgbClr val="e41904"/>
                </a:solidFill>
                <a:latin typeface="Arial"/>
                <a:ea typeface="华文新魏"/>
              </a:rPr>
              <a:t>概念：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个人同银行一手交本币一手付外币，以钱换钱的行为。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8" name="图片 1566733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566734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566735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01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1569793"/>
          <p:cNvSpPr/>
          <p:nvPr/>
        </p:nvSpPr>
        <p:spPr>
          <a:xfrm>
            <a:off x="0" y="304920"/>
            <a:ext cx="8229600" cy="6566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）、远期汇率与即期汇率的关系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文本框 1569794"/>
          <p:cNvSpPr/>
          <p:nvPr/>
        </p:nvSpPr>
        <p:spPr>
          <a:xfrm>
            <a:off x="458640" y="1600200"/>
            <a:ext cx="8685360" cy="6566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、外汇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升水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左大括号 1569796"/>
          <p:cNvSpPr/>
          <p:nvPr/>
        </p:nvSpPr>
        <p:spPr>
          <a:xfrm>
            <a:off x="6172200" y="2133720"/>
            <a:ext cx="533520" cy="2286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文本框 1569800"/>
          <p:cNvSpPr/>
          <p:nvPr/>
        </p:nvSpPr>
        <p:spPr>
          <a:xfrm>
            <a:off x="4800600" y="5410080"/>
            <a:ext cx="2354400" cy="595800"/>
          </a:xfrm>
          <a:prstGeom prst="rect">
            <a:avLst/>
          </a:prstGeom>
          <a:noFill/>
          <a:ln w="9360">
            <a:solidFill>
              <a:srgbClr val="e41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premium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06" name="图片 1569809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569810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569811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09" name="文本框 1569813"/>
          <p:cNvSpPr/>
          <p:nvPr/>
        </p:nvSpPr>
        <p:spPr>
          <a:xfrm>
            <a:off x="534240" y="2638440"/>
            <a:ext cx="532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</a:t>
            </a:r>
            <a:r>
              <a:rPr b="1" lang="en-US" sz="6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fr   = </a:t>
            </a:r>
            <a:r>
              <a:rPr b="1" lang="en-US" sz="8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 s</a:t>
            </a:r>
            <a:r>
              <a:rPr b="1" lang="en-US" sz="6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r         p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0" name="文本框 1569814"/>
          <p:cNvSpPr/>
          <p:nvPr/>
        </p:nvSpPr>
        <p:spPr>
          <a:xfrm>
            <a:off x="4231080" y="2436840"/>
            <a:ext cx="52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+</a:t>
            </a:r>
            <a:endParaRPr b="1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-</a:t>
            </a:r>
            <a:endParaRPr b="1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1" name="文本框 1569815"/>
          <p:cNvSpPr/>
          <p:nvPr/>
        </p:nvSpPr>
        <p:spPr>
          <a:xfrm>
            <a:off x="6973560" y="1652760"/>
            <a:ext cx="13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+  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直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-   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间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2" name="下箭头 1569816"/>
          <p:cNvSpPr/>
          <p:nvPr/>
        </p:nvSpPr>
        <p:spPr>
          <a:xfrm>
            <a:off x="5410080" y="4191120"/>
            <a:ext cx="304920" cy="976320"/>
          </a:xfrm>
          <a:prstGeom prst="downArrow">
            <a:avLst>
              <a:gd name="adj1" fmla="val 50000"/>
              <a:gd name="adj2" fmla="val 8003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1714178"/>
          <p:cNvSpPr/>
          <p:nvPr/>
        </p:nvSpPr>
        <p:spPr>
          <a:xfrm>
            <a:off x="458640" y="1600200"/>
            <a:ext cx="8685360" cy="6566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、外汇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贴水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左大括号 1714179"/>
          <p:cNvSpPr/>
          <p:nvPr/>
        </p:nvSpPr>
        <p:spPr>
          <a:xfrm>
            <a:off x="6172200" y="2133720"/>
            <a:ext cx="533520" cy="2286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6" name="文本框 1714180"/>
          <p:cNvSpPr/>
          <p:nvPr/>
        </p:nvSpPr>
        <p:spPr>
          <a:xfrm>
            <a:off x="4800600" y="5410080"/>
            <a:ext cx="2354400" cy="595800"/>
          </a:xfrm>
          <a:prstGeom prst="rect">
            <a:avLst/>
          </a:prstGeom>
          <a:noFill/>
          <a:ln w="9360">
            <a:solidFill>
              <a:srgbClr val="e41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discount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7" name="图片 1714181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714182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14183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1714184"/>
          <p:cNvSpPr/>
          <p:nvPr/>
        </p:nvSpPr>
        <p:spPr>
          <a:xfrm>
            <a:off x="534240" y="2638440"/>
            <a:ext cx="532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  </a:t>
            </a:r>
            <a:r>
              <a:rPr b="1" lang="en-US" sz="6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fr   = </a:t>
            </a:r>
            <a:r>
              <a:rPr b="1" lang="en-US" sz="8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 s</a:t>
            </a:r>
            <a:r>
              <a:rPr b="1" lang="en-US" sz="6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r         d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1" name="文本框 1714185"/>
          <p:cNvSpPr/>
          <p:nvPr/>
        </p:nvSpPr>
        <p:spPr>
          <a:xfrm>
            <a:off x="4231080" y="2436840"/>
            <a:ext cx="52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-</a:t>
            </a:r>
            <a:endParaRPr b="1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+</a:t>
            </a:r>
            <a:endParaRPr b="1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2" name="文本框 1714186"/>
          <p:cNvSpPr/>
          <p:nvPr/>
        </p:nvSpPr>
        <p:spPr>
          <a:xfrm>
            <a:off x="6973560" y="1652760"/>
            <a:ext cx="14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-  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直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+   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间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3" name="下箭头 1714187"/>
          <p:cNvSpPr/>
          <p:nvPr/>
        </p:nvSpPr>
        <p:spPr>
          <a:xfrm>
            <a:off x="5410080" y="4191120"/>
            <a:ext cx="304920" cy="976320"/>
          </a:xfrm>
          <a:prstGeom prst="downArrow">
            <a:avLst>
              <a:gd name="adj1" fmla="val 50000"/>
              <a:gd name="adj2" fmla="val 8003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4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1570818"/>
          <p:cNvSpPr/>
          <p:nvPr/>
        </p:nvSpPr>
        <p:spPr>
          <a:xfrm>
            <a:off x="387360" y="577800"/>
            <a:ext cx="8459640" cy="303948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C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6600" spc="-1" strike="noStrike">
                <a:solidFill>
                  <a:srgbClr val="ff6600"/>
                </a:solidFill>
                <a:latin typeface="Arial"/>
                <a:ea typeface="华文新魏"/>
              </a:rPr>
              <a:t>平价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par</a:t>
            </a:r>
            <a:endParaRPr b="1" lang="en-US" sz="6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</a:t>
            </a:r>
            <a:r>
              <a:rPr b="0" lang="en-US" sz="8800" spc="-1" strike="noStrike">
                <a:solidFill>
                  <a:srgbClr val="0000ff"/>
                </a:solidFill>
                <a:latin typeface="Arial"/>
                <a:ea typeface="华文新魏"/>
              </a:rPr>
              <a:t>f</a:t>
            </a:r>
            <a:r>
              <a:rPr b="0" lang="en-US" sz="6600" spc="-1" strike="noStrike">
                <a:solidFill>
                  <a:srgbClr val="0000ff"/>
                </a:solidFill>
                <a:latin typeface="Arial"/>
                <a:ea typeface="华文新魏"/>
              </a:rPr>
              <a:t>r = </a:t>
            </a:r>
            <a:r>
              <a:rPr b="0" lang="en-US" sz="9600" spc="-1" strike="noStrike">
                <a:solidFill>
                  <a:srgbClr val="0000ff"/>
                </a:solidFill>
                <a:latin typeface="Arial"/>
                <a:ea typeface="华文新魏"/>
              </a:rPr>
              <a:t>s</a:t>
            </a:r>
            <a:r>
              <a:rPr b="0" lang="en-US" sz="6600" spc="-1" strike="noStrike">
                <a:solidFill>
                  <a:srgbClr val="0000ff"/>
                </a:solidFill>
                <a:latin typeface="Arial"/>
                <a:ea typeface="华文新魏"/>
              </a:rPr>
              <a:t>r</a:t>
            </a:r>
            <a:endParaRPr b="1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6" name="图片 1570820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1570821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1570822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2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按外汇管制程度划分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631" name="内容占位符 891906" descr=""/>
          <p:cNvPicPr/>
          <p:nvPr/>
        </p:nvPicPr>
        <p:blipFill>
          <a:blip r:embed="rId1"/>
          <a:stretch/>
        </p:blipFill>
        <p:spPr>
          <a:xfrm>
            <a:off x="387360" y="1776240"/>
            <a:ext cx="3911760" cy="943200"/>
          </a:xfrm>
          <a:prstGeom prst="rect">
            <a:avLst/>
          </a:prstGeom>
          <a:ln w="0">
            <a:noFill/>
          </a:ln>
        </p:spPr>
      </p:pic>
      <p:pic>
        <p:nvPicPr>
          <p:cNvPr id="632" name="内容占位符 891907" descr=""/>
          <p:cNvPicPr/>
          <p:nvPr/>
        </p:nvPicPr>
        <p:blipFill>
          <a:blip r:embed="rId2"/>
          <a:stretch/>
        </p:blipFill>
        <p:spPr>
          <a:xfrm>
            <a:off x="4708440" y="1808280"/>
            <a:ext cx="4002120" cy="942840"/>
          </a:xfrm>
          <a:prstGeom prst="rect">
            <a:avLst/>
          </a:prstGeom>
          <a:ln w="0">
            <a:noFill/>
          </a:ln>
        </p:spPr>
      </p:pic>
      <p:pic>
        <p:nvPicPr>
          <p:cNvPr id="633" name="内容占位符 891908" descr="GIF028"/>
          <p:cNvPicPr/>
          <p:nvPr/>
        </p:nvPicPr>
        <p:blipFill>
          <a:blip r:embed="rId3"/>
          <a:stretch/>
        </p:blipFill>
        <p:spPr>
          <a:xfrm>
            <a:off x="1882800" y="2776680"/>
            <a:ext cx="4822920" cy="98568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891909"/>
          <p:cNvSpPr/>
          <p:nvPr/>
        </p:nvSpPr>
        <p:spPr>
          <a:xfrm>
            <a:off x="1116000" y="1938240"/>
            <a:ext cx="24559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官方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5" name="文本框 891910"/>
          <p:cNvSpPr/>
          <p:nvPr/>
        </p:nvSpPr>
        <p:spPr>
          <a:xfrm>
            <a:off x="5527800" y="1971720"/>
            <a:ext cx="25002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华文新魏"/>
              </a:rPr>
              <a:t>市场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6" name="图片 891914" descr="J04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891915" descr="J045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891916" descr="J047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39" name="椭圆 891918"/>
          <p:cNvSpPr/>
          <p:nvPr/>
        </p:nvSpPr>
        <p:spPr>
          <a:xfrm>
            <a:off x="990720" y="4188600"/>
            <a:ext cx="190476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管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制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0" name="椭圆 891919"/>
          <p:cNvSpPr/>
          <p:nvPr/>
        </p:nvSpPr>
        <p:spPr>
          <a:xfrm>
            <a:off x="5562720" y="4264560"/>
            <a:ext cx="190476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市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场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1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内容占位符 1483778" descr=""/>
          <p:cNvPicPr/>
          <p:nvPr/>
        </p:nvPicPr>
        <p:blipFill>
          <a:blip r:embed="rId1"/>
          <a:stretch/>
        </p:blipFill>
        <p:spPr>
          <a:xfrm>
            <a:off x="297000" y="1387440"/>
            <a:ext cx="4002120" cy="784440"/>
          </a:xfrm>
          <a:prstGeom prst="rect">
            <a:avLst/>
          </a:prstGeom>
          <a:ln w="0">
            <a:noFill/>
          </a:ln>
        </p:spPr>
      </p:pic>
      <p:sp>
        <p:nvSpPr>
          <p:cNvPr id="643" name="文本框 1483779"/>
          <p:cNvSpPr/>
          <p:nvPr/>
        </p:nvSpPr>
        <p:spPr>
          <a:xfrm>
            <a:off x="252360" y="609480"/>
            <a:ext cx="8277120" cy="5958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按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使用范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不同分为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44" name="内容占位符 1483780" descr=""/>
          <p:cNvPicPr/>
          <p:nvPr/>
        </p:nvPicPr>
        <p:blipFill>
          <a:blip r:embed="rId2"/>
          <a:stretch/>
        </p:blipFill>
        <p:spPr>
          <a:xfrm>
            <a:off x="4799160" y="1420920"/>
            <a:ext cx="3952800" cy="7840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1483781"/>
          <p:cNvSpPr/>
          <p:nvPr/>
        </p:nvSpPr>
        <p:spPr>
          <a:xfrm>
            <a:off x="843120" y="1484280"/>
            <a:ext cx="30826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贸易汇率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文本框 1483782"/>
          <p:cNvSpPr/>
          <p:nvPr/>
        </p:nvSpPr>
        <p:spPr>
          <a:xfrm>
            <a:off x="5481720" y="1517760"/>
            <a:ext cx="2946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金融汇率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47" name="图片 1483783" descr="J04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1483784" descr="J045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1483785" descr="J047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50" name="椭圆 1483786"/>
          <p:cNvSpPr/>
          <p:nvPr/>
        </p:nvSpPr>
        <p:spPr>
          <a:xfrm>
            <a:off x="990720" y="3809160"/>
            <a:ext cx="1904760" cy="206964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进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出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口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1" name="椭圆 1483787"/>
          <p:cNvSpPr/>
          <p:nvPr/>
        </p:nvSpPr>
        <p:spPr>
          <a:xfrm>
            <a:off x="6019920" y="3883680"/>
            <a:ext cx="243828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非贸易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资本流动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2" name="图片 1483788" descr="GIF028"/>
          <p:cNvPicPr/>
          <p:nvPr/>
        </p:nvPicPr>
        <p:blipFill>
          <a:blip r:embed="rId6"/>
          <a:stretch/>
        </p:blipFill>
        <p:spPr>
          <a:xfrm>
            <a:off x="1371600" y="2286000"/>
            <a:ext cx="6019920" cy="1295280"/>
          </a:xfrm>
          <a:prstGeom prst="rect">
            <a:avLst/>
          </a:prstGeom>
          <a:ln w="0">
            <a:noFill/>
          </a:ln>
        </p:spPr>
      </p:pic>
      <p:sp>
        <p:nvSpPr>
          <p:cNvPr id="65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687105"/>
          <p:cNvSpPr/>
          <p:nvPr/>
        </p:nvSpPr>
        <p:spPr>
          <a:xfrm>
            <a:off x="769680" y="16002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际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金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融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管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文本框 687106"/>
          <p:cNvSpPr/>
          <p:nvPr/>
        </p:nvSpPr>
        <p:spPr>
          <a:xfrm>
            <a:off x="2357640" y="762120"/>
            <a:ext cx="164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收支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储备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债管理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左中括号 687107"/>
          <p:cNvSpPr/>
          <p:nvPr/>
        </p:nvSpPr>
        <p:spPr>
          <a:xfrm>
            <a:off x="1447920" y="1219320"/>
            <a:ext cx="533160" cy="4114800"/>
          </a:xfrm>
          <a:custGeom>
            <a:avLst/>
            <a:gdLst>
              <a:gd name="textAreaLeft" fmla="*/ 156600 w 533160"/>
              <a:gd name="textAreaRight" fmla="*/ 533520 w 533160"/>
              <a:gd name="textAreaTop" fmla="*/ 171360 h 4114800"/>
              <a:gd name="textAreaBottom" fmla="*/ 394344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文本框 687112"/>
          <p:cNvSpPr/>
          <p:nvPr/>
        </p:nvSpPr>
        <p:spPr>
          <a:xfrm>
            <a:off x="83880" y="2514600"/>
            <a:ext cx="4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第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二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文本框 687125"/>
          <p:cNvSpPr/>
          <p:nvPr/>
        </p:nvSpPr>
        <p:spPr>
          <a:xfrm>
            <a:off x="6117840" y="1981080"/>
            <a:ext cx="18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一般概述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经济分析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管理内容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中国管理方式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右箭头 687126"/>
          <p:cNvSpPr/>
          <p:nvPr/>
        </p:nvSpPr>
        <p:spPr>
          <a:xfrm>
            <a:off x="4876920" y="1752480"/>
            <a:ext cx="533160" cy="251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右中括号 687127"/>
          <p:cNvSpPr/>
          <p:nvPr/>
        </p:nvSpPr>
        <p:spPr>
          <a:xfrm>
            <a:off x="4191120" y="1219320"/>
            <a:ext cx="380880" cy="4190760"/>
          </a:xfrm>
          <a:custGeom>
            <a:avLst/>
            <a:gdLst>
              <a:gd name="textAreaLeft" fmla="*/ 0 w 380880"/>
              <a:gd name="textAreaRight" fmla="*/ 267120 w 380880"/>
              <a:gd name="textAreaTop" fmla="*/ 174600 h 4190760"/>
              <a:gd name="textAreaBottom" fmla="*/ 401616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内容占位符 1482754" descr=""/>
          <p:cNvPicPr/>
          <p:nvPr/>
        </p:nvPicPr>
        <p:blipFill>
          <a:blip r:embed="rId1"/>
          <a:stretch/>
        </p:blipFill>
        <p:spPr>
          <a:xfrm>
            <a:off x="297000" y="1387440"/>
            <a:ext cx="4002120" cy="784440"/>
          </a:xfrm>
          <a:prstGeom prst="rect">
            <a:avLst/>
          </a:prstGeom>
          <a:ln w="0">
            <a:noFill/>
          </a:ln>
        </p:spPr>
      </p:pic>
      <p:sp>
        <p:nvSpPr>
          <p:cNvPr id="655" name="文本框 1482755"/>
          <p:cNvSpPr/>
          <p:nvPr/>
        </p:nvSpPr>
        <p:spPr>
          <a:xfrm>
            <a:off x="252360" y="609480"/>
            <a:ext cx="8277120" cy="5958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按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汇率制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不同分为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6" name="内容占位符 1482756" descr=""/>
          <p:cNvPicPr/>
          <p:nvPr/>
        </p:nvPicPr>
        <p:blipFill>
          <a:blip r:embed="rId2"/>
          <a:stretch/>
        </p:blipFill>
        <p:spPr>
          <a:xfrm>
            <a:off x="4799160" y="1420920"/>
            <a:ext cx="3952800" cy="784080"/>
          </a:xfrm>
          <a:prstGeom prst="rect">
            <a:avLst/>
          </a:prstGeom>
          <a:ln w="0">
            <a:noFill/>
          </a:ln>
        </p:spPr>
      </p:pic>
      <p:sp>
        <p:nvSpPr>
          <p:cNvPr id="657" name="文本框 1482757"/>
          <p:cNvSpPr/>
          <p:nvPr/>
        </p:nvSpPr>
        <p:spPr>
          <a:xfrm>
            <a:off x="843120" y="1484280"/>
            <a:ext cx="30826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固定汇率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文本框 1482758"/>
          <p:cNvSpPr/>
          <p:nvPr/>
        </p:nvSpPr>
        <p:spPr>
          <a:xfrm>
            <a:off x="5481720" y="1517760"/>
            <a:ext cx="2946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浮动汇率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9" name="图片 1482759" descr="J04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1482760" descr="J045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1482761" descr="J047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662" name="椭圆 1482762"/>
          <p:cNvSpPr/>
          <p:nvPr/>
        </p:nvSpPr>
        <p:spPr>
          <a:xfrm>
            <a:off x="990720" y="4035960"/>
            <a:ext cx="243828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中心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波动区间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3" name="椭圆 1482763"/>
          <p:cNvSpPr/>
          <p:nvPr/>
        </p:nvSpPr>
        <p:spPr>
          <a:xfrm>
            <a:off x="4724280" y="4035960"/>
            <a:ext cx="373068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货币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制度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4" name="图片 1482764" descr="GIF028"/>
          <p:cNvPicPr/>
          <p:nvPr/>
        </p:nvPicPr>
        <p:blipFill>
          <a:blip r:embed="rId6"/>
          <a:stretch/>
        </p:blipFill>
        <p:spPr>
          <a:xfrm>
            <a:off x="1371600" y="2286000"/>
            <a:ext cx="6019920" cy="1295280"/>
          </a:xfrm>
          <a:prstGeom prst="rect">
            <a:avLst/>
          </a:prstGeom>
          <a:ln w="0">
            <a:noFill/>
          </a:ln>
        </p:spPr>
      </p:pic>
      <p:sp>
        <p:nvSpPr>
          <p:cNvPr id="66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内容占位符 1666050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76960" cy="83808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1666051"/>
          <p:cNvSpPr/>
          <p:nvPr/>
        </p:nvSpPr>
        <p:spPr>
          <a:xfrm>
            <a:off x="990720" y="380880"/>
            <a:ext cx="72388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、       固 定 汇 率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8" name="文本框 1666054"/>
          <p:cNvSpPr/>
          <p:nvPr/>
        </p:nvSpPr>
        <p:spPr>
          <a:xfrm>
            <a:off x="1523880" y="2209680"/>
            <a:ext cx="1319400" cy="473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汇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=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971800" y="2362320"/>
            <a:ext cx="3046320" cy="360"/>
            <a:chOff x="2971800" y="2362320"/>
            <a:chExt cx="3046320" cy="360"/>
          </a:xfrm>
        </p:grpSpPr>
        <p:sp>
          <p:nvSpPr>
            <p:cNvPr id="670" name="直接连接符 1666055"/>
            <p:cNvSpPr/>
            <p:nvPr/>
          </p:nvSpPr>
          <p:spPr>
            <a:xfrm>
              <a:off x="2971800" y="2362320"/>
              <a:ext cx="304632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2971800" y="2362320"/>
              <a:ext cx="304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72" name="任意多边形 1666056"/>
          <p:cNvSpPr/>
          <p:nvPr/>
        </p:nvSpPr>
        <p:spPr>
          <a:xfrm>
            <a:off x="3086280" y="1905120"/>
            <a:ext cx="2817720" cy="847440"/>
          </a:xfrm>
          <a:custGeom>
            <a:avLst/>
            <a:gdLst/>
            <a:ahLst/>
            <a:rect l="l" t="t" r="r" b="b"/>
            <a:pathLst>
              <a:path w="2812" h="1187">
                <a:moveTo>
                  <a:pt x="0" y="1142"/>
                </a:moveTo>
                <a:cubicBezTo>
                  <a:pt x="170" y="571"/>
                  <a:pt x="340" y="1"/>
                  <a:pt x="589" y="8"/>
                </a:cubicBezTo>
                <a:cubicBezTo>
                  <a:pt x="838" y="15"/>
                  <a:pt x="1232" y="1187"/>
                  <a:pt x="1497" y="1187"/>
                </a:cubicBezTo>
                <a:cubicBezTo>
                  <a:pt x="1762" y="1187"/>
                  <a:pt x="1958" y="16"/>
                  <a:pt x="2177" y="8"/>
                </a:cubicBezTo>
                <a:cubicBezTo>
                  <a:pt x="2396" y="0"/>
                  <a:pt x="2699" y="953"/>
                  <a:pt x="2812" y="1142"/>
                </a:cubicBezTo>
              </a:path>
            </a:pathLst>
          </a:custGeom>
          <a:noFill/>
          <a:ln w="101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925720" y="1752480"/>
            <a:ext cx="3138480" cy="360"/>
            <a:chOff x="2925720" y="1752480"/>
            <a:chExt cx="3138480" cy="360"/>
          </a:xfrm>
        </p:grpSpPr>
        <p:sp>
          <p:nvSpPr>
            <p:cNvPr id="674" name="直接连接符 1666057"/>
            <p:cNvSpPr/>
            <p:nvPr/>
          </p:nvSpPr>
          <p:spPr>
            <a:xfrm>
              <a:off x="2925720" y="1752480"/>
              <a:ext cx="31384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2925720" y="1752480"/>
              <a:ext cx="31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857680" y="3048120"/>
            <a:ext cx="3274920" cy="360"/>
            <a:chOff x="2857680" y="3048120"/>
            <a:chExt cx="3274920" cy="360"/>
          </a:xfrm>
        </p:grpSpPr>
        <p:sp>
          <p:nvSpPr>
            <p:cNvPr id="677" name="直接连接符 1666058"/>
            <p:cNvSpPr/>
            <p:nvPr/>
          </p:nvSpPr>
          <p:spPr>
            <a:xfrm>
              <a:off x="2857680" y="3048120"/>
              <a:ext cx="32749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2857680" y="3048120"/>
              <a:ext cx="32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79" name="文本框 1666059"/>
          <p:cNvSpPr/>
          <p:nvPr/>
        </p:nvSpPr>
        <p:spPr>
          <a:xfrm>
            <a:off x="6400800" y="1523880"/>
            <a:ext cx="2035080" cy="321480"/>
          </a:xfrm>
          <a:prstGeom prst="rect">
            <a:avLst/>
          </a:prstGeom>
          <a:solidFill>
            <a:srgbClr val="ffff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黄金输出点</a:t>
            </a:r>
            <a:endParaRPr b="1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0" name="文本框 1666060"/>
          <p:cNvSpPr/>
          <p:nvPr/>
        </p:nvSpPr>
        <p:spPr>
          <a:xfrm>
            <a:off x="6629400" y="2133720"/>
            <a:ext cx="1719360" cy="352080"/>
          </a:xfrm>
          <a:prstGeom prst="rect">
            <a:avLst/>
          </a:prstGeom>
          <a:solidFill>
            <a:srgbClr val="ffff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铸币平价</a:t>
            </a:r>
            <a:endParaRPr b="1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1" name="文本框 1666061"/>
          <p:cNvSpPr/>
          <p:nvPr/>
        </p:nvSpPr>
        <p:spPr>
          <a:xfrm>
            <a:off x="6477120" y="2819520"/>
            <a:ext cx="1946160" cy="382320"/>
          </a:xfrm>
          <a:prstGeom prst="rect">
            <a:avLst/>
          </a:prstGeom>
          <a:solidFill>
            <a:srgbClr val="ffff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黄金输入点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2" name="文本框 1666063"/>
          <p:cNvSpPr/>
          <p:nvPr/>
        </p:nvSpPr>
        <p:spPr>
          <a:xfrm>
            <a:off x="1676520" y="4724280"/>
            <a:ext cx="1218960" cy="473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汇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=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857680" y="4952880"/>
            <a:ext cx="3274920" cy="360"/>
            <a:chOff x="2857680" y="4952880"/>
            <a:chExt cx="3274920" cy="360"/>
          </a:xfrm>
        </p:grpSpPr>
        <p:sp>
          <p:nvSpPr>
            <p:cNvPr id="684" name="直接连接符 1666064"/>
            <p:cNvSpPr/>
            <p:nvPr/>
          </p:nvSpPr>
          <p:spPr>
            <a:xfrm>
              <a:off x="2857680" y="4952880"/>
              <a:ext cx="327492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2857680" y="4952880"/>
              <a:ext cx="32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86" name="任意多边形 1666065"/>
          <p:cNvSpPr/>
          <p:nvPr/>
        </p:nvSpPr>
        <p:spPr>
          <a:xfrm>
            <a:off x="2971800" y="4419720"/>
            <a:ext cx="3046320" cy="1074600"/>
          </a:xfrm>
          <a:custGeom>
            <a:avLst/>
            <a:gdLst/>
            <a:ahLst/>
            <a:rect l="l" t="t" r="r" b="b"/>
            <a:pathLst>
              <a:path w="2993" h="1414">
                <a:moveTo>
                  <a:pt x="0" y="1278"/>
                </a:moveTo>
                <a:cubicBezTo>
                  <a:pt x="192" y="658"/>
                  <a:pt x="385" y="38"/>
                  <a:pt x="635" y="53"/>
                </a:cubicBezTo>
                <a:cubicBezTo>
                  <a:pt x="885" y="68"/>
                  <a:pt x="1233" y="1376"/>
                  <a:pt x="1497" y="1369"/>
                </a:cubicBezTo>
                <a:cubicBezTo>
                  <a:pt x="1761" y="1362"/>
                  <a:pt x="1973" y="0"/>
                  <a:pt x="2222" y="8"/>
                </a:cubicBezTo>
                <a:cubicBezTo>
                  <a:pt x="2471" y="16"/>
                  <a:pt x="2864" y="1187"/>
                  <a:pt x="2993" y="1414"/>
                </a:cubicBezTo>
              </a:path>
            </a:pathLst>
          </a:custGeom>
          <a:noFill/>
          <a:ln w="101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7" name="文本框 1666066"/>
          <p:cNvSpPr/>
          <p:nvPr/>
        </p:nvSpPr>
        <p:spPr>
          <a:xfrm>
            <a:off x="6400800" y="4038480"/>
            <a:ext cx="1909800" cy="382320"/>
          </a:xfrm>
          <a:prstGeom prst="rect">
            <a:avLst/>
          </a:prstGeom>
          <a:solidFill>
            <a:srgbClr val="ffff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华文新魏"/>
              </a:rPr>
              <a:t>+1%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8" name="文本框 1666067"/>
          <p:cNvSpPr/>
          <p:nvPr/>
        </p:nvSpPr>
        <p:spPr>
          <a:xfrm>
            <a:off x="6477120" y="4724280"/>
            <a:ext cx="1763640" cy="382320"/>
          </a:xfrm>
          <a:prstGeom prst="rect">
            <a:avLst/>
          </a:prstGeom>
          <a:solidFill>
            <a:srgbClr val="ffff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华文新魏"/>
              </a:rPr>
              <a:t>金平价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9" name="文本框 1666068"/>
          <p:cNvSpPr/>
          <p:nvPr/>
        </p:nvSpPr>
        <p:spPr>
          <a:xfrm>
            <a:off x="6477120" y="5410080"/>
            <a:ext cx="1353960" cy="382320"/>
          </a:xfrm>
          <a:prstGeom prst="rect">
            <a:avLst/>
          </a:prstGeom>
          <a:solidFill>
            <a:srgbClr val="ffff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华文新魏"/>
              </a:rPr>
              <a:t>-1%</a:t>
            </a:r>
            <a:endParaRPr b="1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90" name="图片 1666069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1666070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1666071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grpSp>
        <p:nvGrpSpPr>
          <p:cNvPr id="693" name=""/>
          <p:cNvGrpSpPr/>
          <p:nvPr/>
        </p:nvGrpSpPr>
        <p:grpSpPr>
          <a:xfrm>
            <a:off x="2857680" y="5638680"/>
            <a:ext cx="3274920" cy="360"/>
            <a:chOff x="2857680" y="5638680"/>
            <a:chExt cx="3274920" cy="360"/>
          </a:xfrm>
        </p:grpSpPr>
        <p:sp>
          <p:nvSpPr>
            <p:cNvPr id="694" name="直接连接符 1666072"/>
            <p:cNvSpPr/>
            <p:nvPr/>
          </p:nvSpPr>
          <p:spPr>
            <a:xfrm>
              <a:off x="2857680" y="5638680"/>
              <a:ext cx="32749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2857680" y="5638680"/>
              <a:ext cx="32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857680" y="4267080"/>
            <a:ext cx="3274920" cy="360"/>
            <a:chOff x="2857680" y="4267080"/>
            <a:chExt cx="3274920" cy="360"/>
          </a:xfrm>
        </p:grpSpPr>
        <p:sp>
          <p:nvSpPr>
            <p:cNvPr id="697" name="直接连接符 1666073"/>
            <p:cNvSpPr/>
            <p:nvPr/>
          </p:nvSpPr>
          <p:spPr>
            <a:xfrm>
              <a:off x="2857680" y="4267080"/>
              <a:ext cx="32749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2857680" y="4267080"/>
              <a:ext cx="32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99" name="文本框 1666074"/>
          <p:cNvSpPr/>
          <p:nvPr/>
        </p:nvSpPr>
        <p:spPr>
          <a:xfrm>
            <a:off x="758520" y="1353960"/>
            <a:ext cx="39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金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本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位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制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度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0" name="文本框 1666075"/>
          <p:cNvSpPr/>
          <p:nvPr/>
        </p:nvSpPr>
        <p:spPr>
          <a:xfrm>
            <a:off x="732600" y="3863880"/>
            <a:ext cx="36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布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雷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顿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森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林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体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系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1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1667073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703" name="文本框 1667074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、浮动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4" name="线形标注 2(带边框和强调线) 1667075"/>
          <p:cNvSpPr/>
          <p:nvPr/>
        </p:nvSpPr>
        <p:spPr>
          <a:xfrm>
            <a:off x="563400" y="2133720"/>
            <a:ext cx="7863120" cy="392112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706" name="直接连接符 1667076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708" name="图片 1667077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1667078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667079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67080"/>
          <p:cNvSpPr/>
          <p:nvPr/>
        </p:nvSpPr>
        <p:spPr>
          <a:xfrm>
            <a:off x="4866480" y="23907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自由浮动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联合浮动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2" name="文本框 1667081"/>
          <p:cNvSpPr/>
          <p:nvPr/>
        </p:nvSpPr>
        <p:spPr>
          <a:xfrm>
            <a:off x="151344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浮动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3" name="文本框 1667082"/>
          <p:cNvSpPr/>
          <p:nvPr/>
        </p:nvSpPr>
        <p:spPr>
          <a:xfrm>
            <a:off x="1513440" y="441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固定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4" name="文本框 1667083"/>
          <p:cNvSpPr/>
          <p:nvPr/>
        </p:nvSpPr>
        <p:spPr>
          <a:xfrm>
            <a:off x="4866480" y="4191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钉住浮动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联系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5" name="左中括号 1667085"/>
          <p:cNvSpPr/>
          <p:nvPr/>
        </p:nvSpPr>
        <p:spPr>
          <a:xfrm>
            <a:off x="4191120" y="2666880"/>
            <a:ext cx="304560" cy="685800"/>
          </a:xfrm>
          <a:custGeom>
            <a:avLst/>
            <a:gdLst>
              <a:gd name="textAreaLeft" fmla="*/ 89640 w 304560"/>
              <a:gd name="textAreaRight" fmla="*/ 304920 w 3045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6" name="左中括号 1667086"/>
          <p:cNvSpPr/>
          <p:nvPr/>
        </p:nvSpPr>
        <p:spPr>
          <a:xfrm>
            <a:off x="4191120" y="4495680"/>
            <a:ext cx="304560" cy="685800"/>
          </a:xfrm>
          <a:custGeom>
            <a:avLst/>
            <a:gdLst>
              <a:gd name="textAreaLeft" fmla="*/ 89640 w 304560"/>
              <a:gd name="textAreaRight" fmla="*/ 304920 w 3045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7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内容占位符 892930" descr=""/>
          <p:cNvPicPr/>
          <p:nvPr/>
        </p:nvPicPr>
        <p:blipFill>
          <a:blip r:embed="rId1"/>
          <a:stretch/>
        </p:blipFill>
        <p:spPr>
          <a:xfrm>
            <a:off x="297000" y="1387440"/>
            <a:ext cx="4002120" cy="784440"/>
          </a:xfrm>
          <a:prstGeom prst="rect">
            <a:avLst/>
          </a:prstGeom>
          <a:ln w="0">
            <a:noFill/>
          </a:ln>
        </p:spPr>
      </p:pic>
      <p:sp>
        <p:nvSpPr>
          <p:cNvPr id="719" name="文本框 892931"/>
          <p:cNvSpPr/>
          <p:nvPr/>
        </p:nvSpPr>
        <p:spPr>
          <a:xfrm>
            <a:off x="252360" y="609480"/>
            <a:ext cx="8277120" cy="59580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按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通胀因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不同分为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0" name="内容占位符 892932" descr=""/>
          <p:cNvPicPr/>
          <p:nvPr/>
        </p:nvPicPr>
        <p:blipFill>
          <a:blip r:embed="rId2"/>
          <a:stretch/>
        </p:blipFill>
        <p:spPr>
          <a:xfrm>
            <a:off x="4799160" y="1420920"/>
            <a:ext cx="3952800" cy="784080"/>
          </a:xfrm>
          <a:prstGeom prst="rect">
            <a:avLst/>
          </a:prstGeom>
          <a:ln w="0">
            <a:noFill/>
          </a:ln>
        </p:spPr>
      </p:pic>
      <p:sp>
        <p:nvSpPr>
          <p:cNvPr id="721" name="文本框 892933"/>
          <p:cNvSpPr/>
          <p:nvPr/>
        </p:nvSpPr>
        <p:spPr>
          <a:xfrm>
            <a:off x="843120" y="1484280"/>
            <a:ext cx="30826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华文新魏"/>
              </a:rPr>
              <a:t>实际汇率</a:t>
            </a:r>
            <a:endParaRPr b="1" lang="en-US" sz="3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2" name="文本框 892934"/>
          <p:cNvSpPr/>
          <p:nvPr/>
        </p:nvSpPr>
        <p:spPr>
          <a:xfrm>
            <a:off x="5481720" y="1517760"/>
            <a:ext cx="2946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名义汇率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3" name="图片 892937" descr="J04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892938" descr="J045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892939" descr="J047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26" name="椭圆 892940"/>
          <p:cNvSpPr/>
          <p:nvPr/>
        </p:nvSpPr>
        <p:spPr>
          <a:xfrm>
            <a:off x="990720" y="4142520"/>
            <a:ext cx="190476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实际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价值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7" name="椭圆 892941"/>
          <p:cNvSpPr/>
          <p:nvPr/>
        </p:nvSpPr>
        <p:spPr>
          <a:xfrm>
            <a:off x="6019920" y="3883680"/>
            <a:ext cx="2438280" cy="1402200"/>
          </a:xfrm>
          <a:prstGeom prst="ellipse">
            <a:avLst/>
          </a:prstGeom>
          <a:gradFill rotWithShape="0">
            <a:gsLst>
              <a:gs pos="0">
                <a:srgbClr val="a7ccd9"/>
              </a:gs>
              <a:gs pos="100000">
                <a:srgbClr val="4d5e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19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名义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价值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8" name="图片 892942" descr="GIF028"/>
          <p:cNvPicPr/>
          <p:nvPr/>
        </p:nvPicPr>
        <p:blipFill>
          <a:blip r:embed="rId6"/>
          <a:stretch/>
        </p:blipFill>
        <p:spPr>
          <a:xfrm>
            <a:off x="1371600" y="2286000"/>
            <a:ext cx="6019920" cy="1295280"/>
          </a:xfrm>
          <a:prstGeom prst="rect">
            <a:avLst/>
          </a:prstGeom>
          <a:ln w="0">
            <a:noFill/>
          </a:ln>
        </p:spPr>
      </p:pic>
      <p:sp>
        <p:nvSpPr>
          <p:cNvPr id="72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内容占位符 1724417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1724418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、名义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2" name="线形标注 2(带边框和强调线) 1724419"/>
          <p:cNvSpPr/>
          <p:nvPr/>
        </p:nvSpPr>
        <p:spPr>
          <a:xfrm>
            <a:off x="563400" y="2133720"/>
            <a:ext cx="7863120" cy="392112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734" name="直接连接符 1724420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736" name="图片 1724421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724422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724423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39" name="文本框 1724427"/>
          <p:cNvSpPr/>
          <p:nvPr/>
        </p:nvSpPr>
        <p:spPr>
          <a:xfrm>
            <a:off x="3584880" y="298620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官方公布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含有通货膨胀因素的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显性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0" name="左中括号 1724429"/>
          <p:cNvSpPr/>
          <p:nvPr/>
        </p:nvSpPr>
        <p:spPr>
          <a:xfrm>
            <a:off x="2057400" y="3276720"/>
            <a:ext cx="609480" cy="1143000"/>
          </a:xfrm>
          <a:custGeom>
            <a:avLst/>
            <a:gdLst>
              <a:gd name="textAreaLeft" fmla="*/ 179280 w 609480"/>
              <a:gd name="textAreaRight" fmla="*/ 609840 w 60948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1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内容占位符 1723393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1723394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、实际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4" name="线形标注 2(带边框和强调线) 1723395"/>
          <p:cNvSpPr/>
          <p:nvPr/>
        </p:nvSpPr>
        <p:spPr>
          <a:xfrm>
            <a:off x="563400" y="2133720"/>
            <a:ext cx="7863120" cy="392112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746" name="直接连接符 1723396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748" name="图片 1723397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723398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1723399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51" name="文本框 1723403"/>
          <p:cNvSpPr/>
          <p:nvPr/>
        </p:nvSpPr>
        <p:spPr>
          <a:xfrm>
            <a:off x="3879720" y="274320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不含通胀因素的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隐性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计算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2" name="左中括号 1723404"/>
          <p:cNvSpPr/>
          <p:nvPr/>
        </p:nvSpPr>
        <p:spPr>
          <a:xfrm>
            <a:off x="1905120" y="2971800"/>
            <a:ext cx="609480" cy="1295280"/>
          </a:xfrm>
          <a:custGeom>
            <a:avLst/>
            <a:gdLst>
              <a:gd name="textAreaLeft" fmla="*/ 179280 w 609480"/>
              <a:gd name="textAreaRight" fmla="*/ 609840 w 6094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内容占位符 1725441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755" name="文本框 1725442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、实际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6" name="线形标注 2(带边框和强调线) 1725443"/>
          <p:cNvSpPr/>
          <p:nvPr/>
        </p:nvSpPr>
        <p:spPr>
          <a:xfrm>
            <a:off x="471600" y="2133720"/>
            <a:ext cx="8047080" cy="434340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758" name="直接连接符 1725444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760" name="图片 1725445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725446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725447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1725448"/>
          <p:cNvSpPr/>
          <p:nvPr/>
        </p:nvSpPr>
        <p:spPr>
          <a:xfrm>
            <a:off x="1625400" y="2590920"/>
            <a:ext cx="115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名义汇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名义汇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4" name="文本框 1725450"/>
          <p:cNvSpPr/>
          <p:nvPr/>
        </p:nvSpPr>
        <p:spPr>
          <a:xfrm>
            <a:off x="459000" y="307800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=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5" name="左中括号 1725451"/>
          <p:cNvSpPr/>
          <p:nvPr/>
        </p:nvSpPr>
        <p:spPr>
          <a:xfrm>
            <a:off x="1143000" y="2666880"/>
            <a:ext cx="76320" cy="2590920"/>
          </a:xfrm>
          <a:custGeom>
            <a:avLst/>
            <a:gdLst>
              <a:gd name="textAreaLeft" fmla="*/ 22320 w 76320"/>
              <a:gd name="textAreaRight" fmla="*/ 76320 w 7632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6" name="文本框 1725452"/>
          <p:cNvSpPr/>
          <p:nvPr/>
        </p:nvSpPr>
        <p:spPr>
          <a:xfrm>
            <a:off x="3430800" y="2590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-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7" name="文本框 1725454"/>
          <p:cNvSpPr/>
          <p:nvPr/>
        </p:nvSpPr>
        <p:spPr>
          <a:xfrm>
            <a:off x="3278160" y="4419720"/>
            <a:ext cx="4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+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-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8" name="文本框 1725455"/>
          <p:cNvSpPr/>
          <p:nvPr/>
        </p:nvSpPr>
        <p:spPr>
          <a:xfrm>
            <a:off x="4501440" y="2666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通货膨胀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9" name="文本框 1725456"/>
          <p:cNvSpPr/>
          <p:nvPr/>
        </p:nvSpPr>
        <p:spPr>
          <a:xfrm>
            <a:off x="5389200" y="4572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财政补贴、退税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0" name="文本框 1725457"/>
          <p:cNvSpPr/>
          <p:nvPr/>
        </p:nvSpPr>
        <p:spPr>
          <a:xfrm>
            <a:off x="7866360" y="281952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实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际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1" name="右中括号 1725458"/>
          <p:cNvSpPr/>
          <p:nvPr/>
        </p:nvSpPr>
        <p:spPr>
          <a:xfrm>
            <a:off x="7315200" y="2895480"/>
            <a:ext cx="228600" cy="2057400"/>
          </a:xfrm>
          <a:custGeom>
            <a:avLst/>
            <a:gdLst>
              <a:gd name="textAreaLeft" fmla="*/ 0 w 228600"/>
              <a:gd name="textAreaRight" fmla="*/ 160560 w 22860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内容占位符 1726465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1726466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有效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5" name="线形标注 2(带边框和强调线) 1726467"/>
          <p:cNvSpPr/>
          <p:nvPr/>
        </p:nvSpPr>
        <p:spPr>
          <a:xfrm>
            <a:off x="563400" y="2133720"/>
            <a:ext cx="7863120" cy="392112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777" name="直接连接符 1726468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779" name="图片 1726469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1726470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1726471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1726472"/>
          <p:cNvSpPr/>
          <p:nvPr/>
        </p:nvSpPr>
        <p:spPr>
          <a:xfrm>
            <a:off x="820440" y="2362320"/>
            <a:ext cx="474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A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币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的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有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效</a:t>
            </a:r>
            <a:br>
              <a:rPr sz="3200"/>
            </a:b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3" name="文本框 1726474"/>
          <p:cNvSpPr/>
          <p:nvPr/>
        </p:nvSpPr>
        <p:spPr>
          <a:xfrm>
            <a:off x="1296720" y="3260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=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4" name="文本框 1726475"/>
          <p:cNvSpPr/>
          <p:nvPr/>
        </p:nvSpPr>
        <p:spPr>
          <a:xfrm>
            <a:off x="2362320" y="3247920"/>
            <a:ext cx="29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∑</a:t>
            </a: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币对</a:t>
            </a: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i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币的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5" name="文本框 1726476"/>
          <p:cNvSpPr/>
          <p:nvPr/>
        </p:nvSpPr>
        <p:spPr>
          <a:xfrm>
            <a:off x="5892120" y="3260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×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6" name="文本框 1726477"/>
          <p:cNvSpPr/>
          <p:nvPr/>
        </p:nvSpPr>
        <p:spPr>
          <a:xfrm>
            <a:off x="6815520" y="3260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权数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7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内容占位符 1729537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1729538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IMF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公布的权数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0" name="线形标注 2(带边框和强调线) 1729539"/>
          <p:cNvSpPr/>
          <p:nvPr/>
        </p:nvSpPr>
        <p:spPr>
          <a:xfrm>
            <a:off x="563400" y="2133720"/>
            <a:ext cx="7863120" cy="392112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792" name="直接连接符 1729540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794" name="图片 1729541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729542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1729543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797" name="文本框 1729544"/>
          <p:cNvSpPr/>
          <p:nvPr/>
        </p:nvSpPr>
        <p:spPr>
          <a:xfrm>
            <a:off x="3053520" y="27432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劳动力成本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消费物价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批发物价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贸易发生额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……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8" name="左中括号 1729545"/>
          <p:cNvSpPr/>
          <p:nvPr/>
        </p:nvSpPr>
        <p:spPr>
          <a:xfrm>
            <a:off x="1600200" y="2895480"/>
            <a:ext cx="762120" cy="2514600"/>
          </a:xfrm>
          <a:custGeom>
            <a:avLst/>
            <a:gdLst>
              <a:gd name="textAreaLeft" fmla="*/ 223920 w 762120"/>
              <a:gd name="textAreaRight" fmla="*/ 762480 w 76212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9" name="文本框 1729546"/>
          <p:cNvSpPr/>
          <p:nvPr/>
        </p:nvSpPr>
        <p:spPr>
          <a:xfrm>
            <a:off x="6708240" y="3124080"/>
            <a:ext cx="86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17</a:t>
            </a:r>
            <a:endParaRPr b="1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种</a:t>
            </a:r>
            <a:endParaRPr b="1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0" name="右中括号 1729547"/>
          <p:cNvSpPr/>
          <p:nvPr/>
        </p:nvSpPr>
        <p:spPr>
          <a:xfrm>
            <a:off x="5105520" y="2971800"/>
            <a:ext cx="761760" cy="2362320"/>
          </a:xfrm>
          <a:custGeom>
            <a:avLst/>
            <a:gdLst>
              <a:gd name="textAreaLeft" fmla="*/ 0 w 761760"/>
              <a:gd name="textAreaRight" fmla="*/ 534240 w 76176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1" name="右箭头 1729548"/>
          <p:cNvSpPr/>
          <p:nvPr/>
        </p:nvSpPr>
        <p:spPr>
          <a:xfrm>
            <a:off x="6095880" y="3048120"/>
            <a:ext cx="609840" cy="1704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内容占位符 1730561" descr=""/>
          <p:cNvPicPr/>
          <p:nvPr/>
        </p:nvPicPr>
        <p:blipFill>
          <a:blip r:embed="rId1"/>
          <a:stretch/>
        </p:blipFill>
        <p:spPr>
          <a:xfrm>
            <a:off x="206280" y="228600"/>
            <a:ext cx="3683160" cy="157320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1730562"/>
          <p:cNvSpPr/>
          <p:nvPr/>
        </p:nvSpPr>
        <p:spPr>
          <a:xfrm>
            <a:off x="533520" y="457200"/>
            <a:ext cx="30477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以贸易权数计算的有效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5" name="线形标注 2(带边框和强调线) 1730563"/>
          <p:cNvSpPr/>
          <p:nvPr/>
        </p:nvSpPr>
        <p:spPr>
          <a:xfrm>
            <a:off x="563400" y="2133720"/>
            <a:ext cx="8180640" cy="396216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807" name="直接连接符 1730564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809" name="图片 1730565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1730566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1730567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812" name="文本框 1730568"/>
          <p:cNvSpPr/>
          <p:nvPr/>
        </p:nvSpPr>
        <p:spPr>
          <a:xfrm>
            <a:off x="820440" y="2362320"/>
            <a:ext cx="474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A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币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的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有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效</a:t>
            </a:r>
            <a:br>
              <a:rPr sz="3200"/>
            </a:b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3" name="文本框 1730569"/>
          <p:cNvSpPr/>
          <p:nvPr/>
        </p:nvSpPr>
        <p:spPr>
          <a:xfrm>
            <a:off x="1296720" y="3260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=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4" name="文本框 1730570"/>
          <p:cNvSpPr/>
          <p:nvPr/>
        </p:nvSpPr>
        <p:spPr>
          <a:xfrm>
            <a:off x="1973160" y="326088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∑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5" name="文本框 1730571"/>
          <p:cNvSpPr/>
          <p:nvPr/>
        </p:nvSpPr>
        <p:spPr>
          <a:xfrm>
            <a:off x="3606120" y="3260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×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6" name="文本框 1730572"/>
          <p:cNvSpPr/>
          <p:nvPr/>
        </p:nvSpPr>
        <p:spPr>
          <a:xfrm>
            <a:off x="4040280" y="2711520"/>
            <a:ext cx="47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国同</a:t>
            </a: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i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国的贸易值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——————————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国的全部对外贸易值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7" name="文本框 1730573"/>
          <p:cNvSpPr/>
          <p:nvPr/>
        </p:nvSpPr>
        <p:spPr>
          <a:xfrm>
            <a:off x="2855160" y="2359080"/>
            <a:ext cx="43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A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币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对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i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币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的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率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688129"/>
          <p:cNvSpPr/>
          <p:nvPr/>
        </p:nvSpPr>
        <p:spPr>
          <a:xfrm>
            <a:off x="921960" y="16002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际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金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融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实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务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左中括号 688130"/>
          <p:cNvSpPr/>
          <p:nvPr/>
        </p:nvSpPr>
        <p:spPr>
          <a:xfrm>
            <a:off x="1523880" y="1371600"/>
            <a:ext cx="228600" cy="3962520"/>
          </a:xfrm>
          <a:custGeom>
            <a:avLst/>
            <a:gdLst>
              <a:gd name="textAreaLeft" fmla="*/ 66960 w 228600"/>
              <a:gd name="textAreaRight" fmla="*/ 228960 w 22860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文本框 688131"/>
          <p:cNvSpPr/>
          <p:nvPr/>
        </p:nvSpPr>
        <p:spPr>
          <a:xfrm>
            <a:off x="2546640" y="1066680"/>
            <a:ext cx="21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交易实务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融资实务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风险及防范实务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文本框 688132"/>
          <p:cNvSpPr/>
          <p:nvPr/>
        </p:nvSpPr>
        <p:spPr>
          <a:xfrm>
            <a:off x="5335560" y="68580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交易概述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传统的外汇交易方式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衍生工具交易方式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左中括号 688133"/>
          <p:cNvSpPr/>
          <p:nvPr/>
        </p:nvSpPr>
        <p:spPr>
          <a:xfrm>
            <a:off x="4495680" y="762120"/>
            <a:ext cx="228600" cy="838080"/>
          </a:xfrm>
          <a:custGeom>
            <a:avLst/>
            <a:gdLst>
              <a:gd name="textAreaLeft" fmla="*/ 66960 w 228600"/>
              <a:gd name="textAreaRight" fmla="*/ 228960 w 22860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文本框 688134"/>
          <p:cNvSpPr/>
          <p:nvPr/>
        </p:nvSpPr>
        <p:spPr>
          <a:xfrm>
            <a:off x="5579280" y="259092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融资概述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货币市场的短期融资业务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资本市场的中长期融资业务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左中括号 688135"/>
          <p:cNvSpPr/>
          <p:nvPr/>
        </p:nvSpPr>
        <p:spPr>
          <a:xfrm>
            <a:off x="4572000" y="2895480"/>
            <a:ext cx="152280" cy="838440"/>
          </a:xfrm>
          <a:custGeom>
            <a:avLst/>
            <a:gdLst>
              <a:gd name="textAreaLeft" fmla="*/ 44640 w 152280"/>
              <a:gd name="textAreaRight" fmla="*/ 152640 w 15228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左中括号 688137"/>
          <p:cNvSpPr/>
          <p:nvPr/>
        </p:nvSpPr>
        <p:spPr>
          <a:xfrm>
            <a:off x="5410080" y="4952880"/>
            <a:ext cx="304920" cy="533520"/>
          </a:xfrm>
          <a:custGeom>
            <a:avLst/>
            <a:gdLst>
              <a:gd name="textAreaLeft" fmla="*/ 89640 w 304920"/>
              <a:gd name="textAreaRight" fmla="*/ 305280 w 30492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文本框 688140"/>
          <p:cNvSpPr/>
          <p:nvPr/>
        </p:nvSpPr>
        <p:spPr>
          <a:xfrm>
            <a:off x="312480" y="2314440"/>
            <a:ext cx="4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第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三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文本框 688141"/>
          <p:cNvSpPr/>
          <p:nvPr/>
        </p:nvSpPr>
        <p:spPr>
          <a:xfrm>
            <a:off x="6372000" y="47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风险概述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防范措施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内容占位符 1727489" descr=""/>
          <p:cNvPicPr/>
          <p:nvPr/>
        </p:nvPicPr>
        <p:blipFill>
          <a:blip r:embed="rId1"/>
          <a:stretch/>
        </p:blipFill>
        <p:spPr>
          <a:xfrm>
            <a:off x="206280" y="544680"/>
            <a:ext cx="3683160" cy="1257120"/>
          </a:xfrm>
          <a:prstGeom prst="rect">
            <a:avLst/>
          </a:prstGeom>
          <a:ln w="0">
            <a:noFill/>
          </a:ln>
        </p:spPr>
      </p:pic>
      <p:sp>
        <p:nvSpPr>
          <p:cNvPr id="823" name="文本框 1727490"/>
          <p:cNvSpPr/>
          <p:nvPr/>
        </p:nvSpPr>
        <p:spPr>
          <a:xfrm>
            <a:off x="569880" y="870120"/>
            <a:ext cx="30481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华文新魏"/>
              </a:rPr>
              <a:t>有效汇率</a:t>
            </a:r>
            <a:endParaRPr b="1" lang="en-US" sz="3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4" name="线形标注 2(带边框和强调线) 1727491"/>
          <p:cNvSpPr/>
          <p:nvPr/>
        </p:nvSpPr>
        <p:spPr>
          <a:xfrm>
            <a:off x="563400" y="2133720"/>
            <a:ext cx="7863120" cy="3921120"/>
          </a:xfrm>
          <a:solidFill>
            <a:srgbClr val="a7ccd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endParaRPr b="1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43360" y="901800"/>
            <a:ext cx="4913280" cy="360"/>
            <a:chOff x="3843360" y="901800"/>
            <a:chExt cx="4913280" cy="360"/>
          </a:xfrm>
        </p:grpSpPr>
        <p:sp>
          <p:nvSpPr>
            <p:cNvPr id="826" name="直接连接符 1727492"/>
            <p:cNvSpPr/>
            <p:nvPr/>
          </p:nvSpPr>
          <p:spPr>
            <a:xfrm flipH="1">
              <a:off x="3843360" y="901800"/>
              <a:ext cx="49132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3843360" y="90180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828" name="图片 1727493" descr="J04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727494" descr="J04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727495" descr="J047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sp>
        <p:nvSpPr>
          <p:cNvPr id="831" name="文本框 1727496"/>
          <p:cNvSpPr/>
          <p:nvPr/>
        </p:nvSpPr>
        <p:spPr>
          <a:xfrm>
            <a:off x="3603240" y="274320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名义有效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  <a:ea typeface="华文新魏"/>
              </a:rPr>
              <a:t>实际有效汇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2" name="左中括号 1727497"/>
          <p:cNvSpPr/>
          <p:nvPr/>
        </p:nvSpPr>
        <p:spPr>
          <a:xfrm>
            <a:off x="1905120" y="2971800"/>
            <a:ext cx="609480" cy="1295280"/>
          </a:xfrm>
          <a:custGeom>
            <a:avLst/>
            <a:gdLst>
              <a:gd name="textAreaLeft" fmla="*/ 179280 w 609480"/>
              <a:gd name="textAreaRight" fmla="*/ 609840 w 6094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604161"/>
          <p:cNvSpPr/>
          <p:nvPr/>
        </p:nvSpPr>
        <p:spPr>
          <a:xfrm>
            <a:off x="-4320" y="1398600"/>
            <a:ext cx="3787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endParaRPr b="1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文本框 604171"/>
          <p:cNvSpPr/>
          <p:nvPr/>
        </p:nvSpPr>
        <p:spPr>
          <a:xfrm>
            <a:off x="2160" y="2027160"/>
            <a:ext cx="5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第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一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章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文本框 604172"/>
          <p:cNvSpPr/>
          <p:nvPr/>
        </p:nvSpPr>
        <p:spPr>
          <a:xfrm>
            <a:off x="693360" y="121932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与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文本框 604173"/>
          <p:cNvSpPr/>
          <p:nvPr/>
        </p:nvSpPr>
        <p:spPr>
          <a:xfrm>
            <a:off x="2107440" y="228600"/>
            <a:ext cx="2188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概述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汇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经济分析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经济分析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2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热点分析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左中括号 604174"/>
          <p:cNvSpPr/>
          <p:nvPr/>
        </p:nvSpPr>
        <p:spPr>
          <a:xfrm>
            <a:off x="1295280" y="762120"/>
            <a:ext cx="304920" cy="5486400"/>
          </a:xfrm>
          <a:custGeom>
            <a:avLst/>
            <a:gdLst>
              <a:gd name="textAreaLeft" fmla="*/ 89640 w 304920"/>
              <a:gd name="textAreaRight" fmla="*/ 305280 w 304920"/>
              <a:gd name="textAreaTop" fmla="*/ 228600 h 5486400"/>
              <a:gd name="textAreaBottom" fmla="*/ 525780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左中括号 604180"/>
          <p:cNvSpPr/>
          <p:nvPr/>
        </p:nvSpPr>
        <p:spPr>
          <a:xfrm>
            <a:off x="4114800" y="0"/>
            <a:ext cx="380880" cy="609480"/>
          </a:xfrm>
          <a:custGeom>
            <a:avLst/>
            <a:gdLst>
              <a:gd name="textAreaLeft" fmla="*/ 111960 w 380880"/>
              <a:gd name="textAreaRight" fmla="*/ 381240 w 38088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左中括号 604181"/>
          <p:cNvSpPr/>
          <p:nvPr/>
        </p:nvSpPr>
        <p:spPr>
          <a:xfrm>
            <a:off x="4800600" y="5943600"/>
            <a:ext cx="228600" cy="685800"/>
          </a:xfrm>
          <a:custGeom>
            <a:avLst/>
            <a:gdLst>
              <a:gd name="textAreaLeft" fmla="*/ 66960 w 228600"/>
              <a:gd name="textAreaRight" fmla="*/ 2289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文本框 604183"/>
          <p:cNvSpPr/>
          <p:nvPr/>
        </p:nvSpPr>
        <p:spPr>
          <a:xfrm>
            <a:off x="6930360" y="5911920"/>
            <a:ext cx="3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美元贬值原因、影响分析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人民币升值原因、途径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矩形 604184"/>
          <p:cNvSpPr/>
          <p:nvPr/>
        </p:nvSpPr>
        <p:spPr>
          <a:xfrm>
            <a:off x="4775400" y="-4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定义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种类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文本框 604185"/>
          <p:cNvSpPr/>
          <p:nvPr/>
        </p:nvSpPr>
        <p:spPr>
          <a:xfrm>
            <a:off x="5004000" y="94464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定义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标价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种类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文本框 604186"/>
          <p:cNvSpPr/>
          <p:nvPr/>
        </p:nvSpPr>
        <p:spPr>
          <a:xfrm>
            <a:off x="5908320" y="22399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的决定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率变动因素</a:t>
            </a:r>
            <a:endParaRPr b="1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左中括号 604187"/>
          <p:cNvSpPr/>
          <p:nvPr/>
        </p:nvSpPr>
        <p:spPr>
          <a:xfrm>
            <a:off x="4114800" y="1143000"/>
            <a:ext cx="380880" cy="914400"/>
          </a:xfrm>
          <a:custGeom>
            <a:avLst/>
            <a:gdLst>
              <a:gd name="textAreaLeft" fmla="*/ 111960 w 380880"/>
              <a:gd name="textAreaRight" fmla="*/ 381240 w 38088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左中括号 604188"/>
          <p:cNvSpPr/>
          <p:nvPr/>
        </p:nvSpPr>
        <p:spPr>
          <a:xfrm>
            <a:off x="4876920" y="2514600"/>
            <a:ext cx="380880" cy="609480"/>
          </a:xfrm>
          <a:custGeom>
            <a:avLst/>
            <a:gdLst>
              <a:gd name="textAreaLeft" fmla="*/ 111960 w 380880"/>
              <a:gd name="textAreaRight" fmla="*/ 381240 w 38088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左中括号 604189"/>
          <p:cNvSpPr/>
          <p:nvPr/>
        </p:nvSpPr>
        <p:spPr>
          <a:xfrm>
            <a:off x="6095880" y="3581280"/>
            <a:ext cx="228600" cy="1676520"/>
          </a:xfrm>
          <a:custGeom>
            <a:avLst/>
            <a:gdLst>
              <a:gd name="textAreaLeft" fmla="*/ 66960 w 228600"/>
              <a:gd name="textAreaRight" fmla="*/ 228960 w 22860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文本框 604190"/>
          <p:cNvSpPr/>
          <p:nvPr/>
        </p:nvSpPr>
        <p:spPr>
          <a:xfrm>
            <a:off x="6769440" y="3352680"/>
            <a:ext cx="18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贸易的影响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资本流动的影响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储备的影响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价格水平的影响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微观经济活动的影响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国际经济关系的影响</a:t>
            </a:r>
            <a:endParaRPr b="1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文本框 604191"/>
          <p:cNvSpPr/>
          <p:nvPr/>
        </p:nvSpPr>
        <p:spPr>
          <a:xfrm>
            <a:off x="4884480" y="3581280"/>
            <a:ext cx="42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变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化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右箭头 604192"/>
          <p:cNvSpPr/>
          <p:nvPr/>
        </p:nvSpPr>
        <p:spPr>
          <a:xfrm>
            <a:off x="5562720" y="3581280"/>
            <a:ext cx="457200" cy="1447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572866"/>
          <p:cNvSpPr/>
          <p:nvPr/>
        </p:nvSpPr>
        <p:spPr>
          <a:xfrm>
            <a:off x="2511360" y="549360"/>
            <a:ext cx="2208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第一节</a:t>
            </a:r>
            <a:endParaRPr b="1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下箭头 1572867"/>
          <p:cNvSpPr/>
          <p:nvPr/>
        </p:nvSpPr>
        <p:spPr>
          <a:xfrm>
            <a:off x="1447920" y="2286000"/>
            <a:ext cx="636480" cy="99072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a7cc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下箭头 1572873"/>
          <p:cNvSpPr/>
          <p:nvPr/>
        </p:nvSpPr>
        <p:spPr>
          <a:xfrm>
            <a:off x="6629400" y="2286000"/>
            <a:ext cx="500040" cy="1066680"/>
          </a:xfrm>
          <a:prstGeom prst="downArrow">
            <a:avLst>
              <a:gd name="adj1" fmla="val 50000"/>
              <a:gd name="adj2" fmla="val 53320"/>
            </a:avLst>
          </a:prstGeom>
          <a:solidFill>
            <a:srgbClr val="a7cc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文本框 1572875"/>
          <p:cNvSpPr/>
          <p:nvPr/>
        </p:nvSpPr>
        <p:spPr>
          <a:xfrm>
            <a:off x="1455840" y="5742000"/>
            <a:ext cx="26028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18000" bIns="18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图片 1572876" descr="J04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2769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572877" descr="J04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83560" y="6207120"/>
            <a:ext cx="260280" cy="13824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572878" descr="J047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24720" y="6137280"/>
            <a:ext cx="174600" cy="2062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572879" descr="2"/>
          <p:cNvPicPr/>
          <p:nvPr/>
        </p:nvPicPr>
        <p:blipFill>
          <a:blip r:embed="rId4"/>
          <a:stretch/>
        </p:blipFill>
        <p:spPr>
          <a:xfrm>
            <a:off x="433440" y="582480"/>
            <a:ext cx="1082520" cy="6382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572880" descr="0"/>
          <p:cNvPicPr/>
          <p:nvPr/>
        </p:nvPicPr>
        <p:blipFill>
          <a:blip r:embed="rId5"/>
          <a:stretch/>
        </p:blipFill>
        <p:spPr>
          <a:xfrm>
            <a:off x="1817640" y="1063800"/>
            <a:ext cx="5283360" cy="44280"/>
          </a:xfrm>
          <a:prstGeom prst="rect">
            <a:avLst/>
          </a:prstGeom>
          <a:ln w="0">
            <a:noFill/>
          </a:ln>
        </p:spPr>
      </p:pic>
      <p:sp>
        <p:nvSpPr>
          <p:cNvPr id="258" name="矩形 1572881"/>
          <p:cNvSpPr/>
          <p:nvPr/>
        </p:nvSpPr>
        <p:spPr>
          <a:xfrm>
            <a:off x="2209680" y="1371600"/>
            <a:ext cx="4413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外汇概述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矩形 1572882"/>
          <p:cNvSpPr/>
          <p:nvPr/>
        </p:nvSpPr>
        <p:spPr>
          <a:xfrm>
            <a:off x="1600200" y="2133720"/>
            <a:ext cx="5410080" cy="152280"/>
          </a:xfrm>
          <a:prstGeom prst="rect">
            <a:avLst/>
          </a:prstGeom>
          <a:solidFill>
            <a:srgbClr val="a7cc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椭圆 1572883"/>
          <p:cNvSpPr/>
          <p:nvPr/>
        </p:nvSpPr>
        <p:spPr>
          <a:xfrm>
            <a:off x="762120" y="3581280"/>
            <a:ext cx="198108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椭圆 1572884"/>
          <p:cNvSpPr/>
          <p:nvPr/>
        </p:nvSpPr>
        <p:spPr>
          <a:xfrm>
            <a:off x="5791320" y="3581280"/>
            <a:ext cx="198108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种类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594945"/>
          <p:cNvSpPr/>
          <p:nvPr/>
        </p:nvSpPr>
        <p:spPr>
          <a:xfrm>
            <a:off x="315360" y="2133720"/>
            <a:ext cx="811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第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一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节   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左中括号 594951"/>
          <p:cNvSpPr/>
          <p:nvPr/>
        </p:nvSpPr>
        <p:spPr>
          <a:xfrm>
            <a:off x="2133720" y="1409760"/>
            <a:ext cx="533160" cy="3771720"/>
          </a:xfrm>
          <a:custGeom>
            <a:avLst/>
            <a:gdLst>
              <a:gd name="textAreaLeft" fmla="*/ 156600 w 533160"/>
              <a:gd name="textAreaRight" fmla="*/ 533520 w 533160"/>
              <a:gd name="textAreaTop" fmla="*/ 156960 h 3771720"/>
              <a:gd name="textAreaBottom" fmla="*/ 3614760 h 37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左中括号 594955"/>
          <p:cNvSpPr/>
          <p:nvPr/>
        </p:nvSpPr>
        <p:spPr>
          <a:xfrm>
            <a:off x="5257800" y="990720"/>
            <a:ext cx="304920" cy="1066680"/>
          </a:xfrm>
          <a:custGeom>
            <a:avLst/>
            <a:gdLst>
              <a:gd name="textAreaLeft" fmla="*/ 89640 w 304920"/>
              <a:gd name="textAreaRight" fmla="*/ 305280 w 3049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左中括号 594958"/>
          <p:cNvSpPr/>
          <p:nvPr/>
        </p:nvSpPr>
        <p:spPr>
          <a:xfrm>
            <a:off x="4724280" y="4191120"/>
            <a:ext cx="152640" cy="1600200"/>
          </a:xfrm>
          <a:custGeom>
            <a:avLst/>
            <a:gdLst>
              <a:gd name="textAreaLeft" fmla="*/ 44640 w 152640"/>
              <a:gd name="textAreaRight" fmla="*/ 153000 w 1526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文本框 594963"/>
          <p:cNvSpPr/>
          <p:nvPr/>
        </p:nvSpPr>
        <p:spPr>
          <a:xfrm>
            <a:off x="6341760" y="7621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动态外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静态外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文本框 594972"/>
          <p:cNvSpPr/>
          <p:nvPr/>
        </p:nvSpPr>
        <p:spPr>
          <a:xfrm>
            <a:off x="2952000" y="101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定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文本框 594973"/>
          <p:cNvSpPr/>
          <p:nvPr/>
        </p:nvSpPr>
        <p:spPr>
          <a:xfrm>
            <a:off x="3088440" y="4789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汇种类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文本框 594974"/>
          <p:cNvSpPr/>
          <p:nvPr/>
        </p:nvSpPr>
        <p:spPr>
          <a:xfrm>
            <a:off x="5275080" y="396252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动态外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静态外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文本框 594975"/>
          <p:cNvSpPr/>
          <p:nvPr/>
        </p:nvSpPr>
        <p:spPr>
          <a:xfrm>
            <a:off x="1231920" y="190512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概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述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文本框 594976"/>
          <p:cNvSpPr/>
          <p:nvPr/>
        </p:nvSpPr>
        <p:spPr>
          <a:xfrm>
            <a:off x="7465680" y="500220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广义外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狭义外汇</a:t>
            </a:r>
            <a:endParaRPr b="1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左中括号 594977"/>
          <p:cNvSpPr/>
          <p:nvPr/>
        </p:nvSpPr>
        <p:spPr>
          <a:xfrm>
            <a:off x="7010280" y="5257800"/>
            <a:ext cx="152640" cy="1143000"/>
          </a:xfrm>
          <a:custGeom>
            <a:avLst/>
            <a:gdLst>
              <a:gd name="textAreaLeft" fmla="*/ 44640 w 152640"/>
              <a:gd name="textAreaRight" fmla="*/ 153000 w 15264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850945"/>
          <p:cNvSpPr/>
          <p:nvPr/>
        </p:nvSpPr>
        <p:spPr>
          <a:xfrm>
            <a:off x="1617840" y="213372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定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义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文本框 850946"/>
          <p:cNvSpPr/>
          <p:nvPr/>
        </p:nvSpPr>
        <p:spPr>
          <a:xfrm>
            <a:off x="3795840" y="1676520"/>
            <a:ext cx="140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动态外汇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静态外汇</a:t>
            </a:r>
            <a:endParaRPr b="1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左中括号 850947"/>
          <p:cNvSpPr/>
          <p:nvPr/>
        </p:nvSpPr>
        <p:spPr>
          <a:xfrm>
            <a:off x="2590920" y="2133720"/>
            <a:ext cx="380880" cy="2209680"/>
          </a:xfrm>
          <a:custGeom>
            <a:avLst/>
            <a:gdLst>
              <a:gd name="textAreaLeft" fmla="*/ 111960 w 380880"/>
              <a:gd name="textAreaRight" fmla="*/ 381240 w 38088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文本框 850948"/>
          <p:cNvSpPr/>
          <p:nvPr/>
        </p:nvSpPr>
        <p:spPr>
          <a:xfrm>
            <a:off x="307440" y="2940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一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文本框 850949"/>
          <p:cNvSpPr/>
          <p:nvPr/>
        </p:nvSpPr>
        <p:spPr>
          <a:xfrm>
            <a:off x="6723360" y="9144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汇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兑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文本框 850950"/>
          <p:cNvSpPr/>
          <p:nvPr/>
        </p:nvSpPr>
        <p:spPr>
          <a:xfrm>
            <a:off x="6771240" y="358128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支付手段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外币资产</a:t>
            </a: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左中括号 850951"/>
          <p:cNvSpPr/>
          <p:nvPr/>
        </p:nvSpPr>
        <p:spPr>
          <a:xfrm>
            <a:off x="6095880" y="1371600"/>
            <a:ext cx="457200" cy="1066680"/>
          </a:xfrm>
          <a:custGeom>
            <a:avLst/>
            <a:gdLst>
              <a:gd name="textAreaLeft" fmla="*/ 134280 w 457200"/>
              <a:gd name="textAreaRight" fmla="*/ 457560 w 45720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左中括号 850952"/>
          <p:cNvSpPr/>
          <p:nvPr/>
        </p:nvSpPr>
        <p:spPr>
          <a:xfrm>
            <a:off x="5867280" y="3886200"/>
            <a:ext cx="457200" cy="1066680"/>
          </a:xfrm>
          <a:custGeom>
            <a:avLst/>
            <a:gdLst>
              <a:gd name="textAreaLeft" fmla="*/ 134280 w 457200"/>
              <a:gd name="textAreaRight" fmla="*/ 457560 w 45720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6:19Z</dcterms:created>
  <dc:creator/>
  <dc:description/>
  <cp:keywords>国际 金融 课件</cp:keywords>
  <dc:language>en-US</dc:language>
  <cp:lastModifiedBy>An</cp:lastModifiedBy>
  <dcterms:modified xsi:type="dcterms:W3CDTF">2016-05-01T00:36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