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07FC-887A-4675-AACF-18301BB3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F36C6-EF3D-4316-8925-172903DE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1234-281A-48C2-9024-F42B0C22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E148B-7B56-4E34-B684-9A768861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CB916-D180-45AE-A6CB-A884FFEC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4FF8C-8231-4152-BBF7-218171ED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D6706-81C9-4C69-BDA3-4525DE5F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83B8-947B-4B6E-8B29-529CE961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03A7-13AD-4A10-A187-B8001D47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314B-8262-46E7-B712-53D71615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21EF-B120-450D-B22F-9D95759B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6035-20EA-4D8D-8E63-80E41A9A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2A90-63AB-48A4-B1DB-1BFC78FDE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engxuexiangxiang.photo.hexun.com/4769644_d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1920" y="1676520"/>
            <a:ext cx="26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《公顷、平方千米》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80880" y="177840"/>
            <a:ext cx="85345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在括号里填上合适的数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、天安门广场是世界上最大的城市广场，面积大约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000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，合（                ）公顷。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、故宫是世界上最大的宫殿，占地面积约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7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，合（                 ）平方米。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657600" y="28954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219320" y="533412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720000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天安门广场"/>
          <p:cNvPicPr/>
          <p:nvPr/>
        </p:nvPicPr>
        <p:blipFill>
          <a:blip r:embed="rId2"/>
          <a:stretch/>
        </p:blipFill>
        <p:spPr>
          <a:xfrm>
            <a:off x="0" y="0"/>
            <a:ext cx="9144000" cy="4716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0" y="47242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天安门广场约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33520" y="571500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              )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平方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505320" y="571500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400000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故宫2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4268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57200" y="44197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故宫约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7200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33520" y="571500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720000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平方米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             )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791320" y="57150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72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762120" y="45720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千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10000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38080" y="3809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千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1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公顷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62120" y="21337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公顷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100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277920"/>
            <a:ext cx="838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单位换算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千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(       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公顷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500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(       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公顷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800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(       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公顷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公顷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(         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分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(       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厘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700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公顷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(       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方千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733920" y="19051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100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724280" y="266688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952880" y="335268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2438280" y="4038480"/>
            <a:ext cx="24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90000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962520" y="4800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100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886200" y="5562720"/>
            <a:ext cx="169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700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838080"/>
            <a:ext cx="96775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张邮票的面积约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                   ）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课桌面的面积约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4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                    ）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教室地面的面积约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4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               ）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562720" y="7621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平方厘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172200" y="19051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平方分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477120" y="30481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平方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" name="Picture 7" descr="76030cx_4_1_18"/>
          <p:cNvPicPr/>
          <p:nvPr/>
        </p:nvPicPr>
        <p:blipFill>
          <a:blip r:embed="rId2"/>
          <a:stretch/>
        </p:blipFill>
        <p:spPr>
          <a:xfrm>
            <a:off x="7391520" y="5510160"/>
            <a:ext cx="1292040" cy="1347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61722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42E7-2312-4905-9886-39D976F207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90512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边长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米的正方形土地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面积是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295280" y="304920"/>
            <a:ext cx="6096240" cy="1447560"/>
          </a:xfrm>
          <a:prstGeom prst="cloudCallout">
            <a:avLst>
              <a:gd name="adj1" fmla="val -38435"/>
              <a:gd name="adj2" fmla="val 585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公顷有多大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066680" y="54864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=(              )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581280" y="55627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00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066680" y="396252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00×1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0000(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2895480" y="41911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68" name="Picture 2" descr="sha"/>
          <p:cNvPicPr/>
          <p:nvPr/>
        </p:nvPicPr>
        <p:blipFill>
          <a:blip r:embed="rId2"/>
          <a:stretch/>
        </p:blipFill>
        <p:spPr>
          <a:xfrm>
            <a:off x="4664160" y="0"/>
            <a:ext cx="447984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4800600" y="4876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烈士公园位于开福区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总面积约为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18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公顷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70" name="Picture 4" descr="sha2"/>
          <p:cNvPicPr/>
          <p:nvPr/>
        </p:nvPicPr>
        <p:blipFill>
          <a:blip r:embed="rId3"/>
          <a:stretch/>
        </p:blipFill>
        <p:spPr>
          <a:xfrm>
            <a:off x="0" y="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0" y="51055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长沙世界之窗占地面积约为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公顷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b_1FFC8783C193786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457200" y="370368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贺龙体育馆占地面积大约是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100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，建筑面积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大约是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56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04920" y="30492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学校附近有块长方形的地，长约为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5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米，宽约为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米，这块地的面积大概是多少平方米？有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公顷吗？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66680" y="2895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50×100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5000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平方米）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85800" y="4038480"/>
            <a:ext cx="7391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5000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平方米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.5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公顷＞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公顷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答：这块地的面积大概是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5000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平方米，有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公顷。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78" name="Picture 5" descr="76030cx_4_1_14"/>
          <p:cNvPicPr/>
          <p:nvPr/>
        </p:nvPicPr>
        <p:blipFill>
          <a:blip r:embed="rId2"/>
          <a:stretch/>
        </p:blipFill>
        <p:spPr>
          <a:xfrm>
            <a:off x="8062920" y="5962680"/>
            <a:ext cx="108108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80880" y="22860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小结： 把平方米作单位的数量改成公顷做单位的数量时，可以用原来的数去掉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个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28600" y="2514600"/>
            <a:ext cx="8915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填空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公顷＝（                       ）平方米    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7000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平方米＝（              ）公顷         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733920" y="3733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60000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488200" y="48006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28600" y="609480"/>
            <a:ext cx="89154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在“＿”上填“ ＞”、“＜ ” 、“＝”。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＿＿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75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        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00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＿＿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＿＿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0.3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       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68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方米 ＿＿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0.68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公顷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133720" y="19051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＞</a:t>
            </a:r>
            <a:endParaRPr b="0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191120" y="26668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＝</a:t>
            </a:r>
            <a:endParaRPr b="0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352680" y="34290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＜</a:t>
            </a:r>
            <a:endParaRPr b="0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886200" y="4191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＝</a:t>
            </a:r>
            <a:endParaRPr b="0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1:38:59Z</dcterms:created>
  <dc:creator/>
  <dc:description/>
  <cp:keywords>幻灯片之家 http:/www.eeppt.com</cp:keywords>
  <dc:language>en-US</dc:language>
  <cp:lastModifiedBy/>
  <dcterms:modified xsi:type="dcterms:W3CDTF">2015-07-03T14:16:12Z</dcterms:modified>
  <cp:revision>1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