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81-23CC-4BC8-ACFE-8FCF7F22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ECC-DFC4-4977-ACFA-4EC4728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163-9EA3-420F-8E60-AB8C43A9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7CA-F6E6-48EB-A349-31F3F547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B9C4-BB91-4A77-9562-98203F4D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B298-272B-4426-9AC5-DC2C3B4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EF75-0F01-41C3-8971-9869A1DC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1700-11F6-4FBD-BCB9-EC6A7BC3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B37-6E03-4EFC-80CB-58AC691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66B1-6777-4340-88C3-BA3EB17E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6D1-BE7B-4700-92F7-4AF0904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5A3-40F2-4817-B002-C466C19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284D-9AE5-48B6-BC16-EC7EA33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5A8-BBCD-4B20-85A1-09530BF8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F56-3C6A-496A-91D1-7A9B4397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C067-AF54-4D32-874D-5595D045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B5EF-E0EB-4022-A487-AA586BB9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0A5-40AD-47DE-A2D0-F0E8213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019-C0E5-43E9-9F17-7FDCE53A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120-C2D1-4C1B-9CB6-3B80E44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C9F-3B69-4F09-A8D1-367C394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77A-75A6-4901-9DCA-D1FFCD2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F56-1BF2-4EDF-AA6B-E2F103A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EBC-8282-4E9D-ACA4-7D07031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A93A-DE16-4C60-BD33-E8DD51F97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3789360"/>
            <a:ext cx="345600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1935-58FD-438E-8941-FDF7610E2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图片3"/>
          <p:cNvPicPr/>
          <p:nvPr/>
        </p:nvPicPr>
        <p:blipFill>
          <a:blip r:embed="rId1"/>
          <a:stretch/>
        </p:blipFill>
        <p:spPr>
          <a:xfrm>
            <a:off x="34920" y="4428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23720" y="274680"/>
            <a:ext cx="3467160" cy="7239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380360" y="1844640"/>
            <a:ext cx="1512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7440" y="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钢琴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3286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图片4"/>
          <p:cNvPicPr/>
          <p:nvPr/>
        </p:nvPicPr>
        <p:blipFill>
          <a:blip r:embed="rId1"/>
          <a:stretch/>
        </p:blipFill>
        <p:spPr>
          <a:xfrm>
            <a:off x="-25236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3130560" y="1341360"/>
            <a:ext cx="309708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c0c0"/>
                </a:solidFill>
                <a:latin typeface="宋体"/>
              </a:rPr>
              <a:t>谢谢聆听</a:t>
            </a:r>
            <a:endParaRPr b="1" lang="en-US" sz="1800" spc="-1" strike="noStrike">
              <a:ln w="0">
                <a:noFill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DB1-2855-4C3D-8D99-816D044D09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7:06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0:2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