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B0C-4E21-473F-9E66-2AB2DACB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D4B-A253-490C-B8CE-3E4D0C78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63B-5444-4526-A95B-E59717A8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8CF-66C1-48F4-A954-AFC54025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C431-4B32-4171-BA34-1D65BD56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92B0-386C-41E2-88CC-1466E49B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D740-1094-410D-9D5A-0AD2CD7B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C267-61B5-4507-9648-A2764B21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0B34-19E1-4903-96D5-2F4C48A3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2D9A-E1DA-4338-92FD-A5AB3EFE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A419-E72F-45A8-9A86-11C698F4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5F9-FEFF-4DDD-932E-1BCCDEA9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C871-EB46-434E-8192-C39D10B7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B214-2AFB-4E23-B4C4-4C138987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114A-AE09-4EAA-B34E-99EAC0DD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AFE6-98B7-4106-B6B1-14E23B3B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CB3A-8715-4664-BFC1-C2D134AA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160E-688F-4D90-8FBD-DC953969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D981-B78C-41C5-90F5-7068E516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37BC-D80F-44AE-AECA-F4A0696F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1DAB-0C82-45E1-8B3B-B677D133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ABAC-3385-473C-A301-A713E22E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D26-DBF2-444A-AD9C-56F9F5E4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1507-8B1B-4C0D-8742-C5E6BCCF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5CDF-C98F-4B5D-9352-A2A6E2F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4966-ED42-4F53-AAAE-006EEBEA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E2DD-0DF2-4683-A249-34FD2F04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079D-3D79-41D3-BB55-13312EF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35CE-0F95-4146-9125-097CD502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BCB8-21C0-42F3-9524-2EF08B2E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AAE-A9CF-4880-98B1-DCB5D410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812-BD23-48EA-B7E0-A139A74D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184-2B4D-4E03-ADD1-BE5F14D3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9C8-35BC-4BB2-822E-0505FDAF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041-BA89-4BFB-8BE4-E6379C6D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E67-C556-41B2-AEF8-23E91C5F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073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任意多边形 3074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任意多边形 3075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任意多边形 3076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任意多边形 3077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E8FC-A022-4E20-A4DB-DA36D05CC9E3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C73F-CE7F-4E9D-A275-15DD2C01EF3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4487-3F8F-438F-B33B-B33AE8A440A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4097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88" name="任意多边形 4098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任意多边形 4099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任意多边形 4100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任意多边形 4101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CA62-B8A6-46E0-B195-950CCE1255CC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ff00"/>
                </a:solidFill>
                <a:latin typeface="Times New Roman"/>
                <a:ea typeface="DFKai-SB"/>
              </a:rPr>
              <a:t>共同基金　基礎篇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矩形 2051"/>
          <p:cNvSpPr/>
          <p:nvPr/>
        </p:nvSpPr>
        <p:spPr>
          <a:xfrm>
            <a:off x="6858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DFKai-SB"/>
              </a:rPr>
              <a:t>主講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DFKai-SB"/>
              </a:rPr>
              <a:t>XX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理 財 屬 性 象 限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图片 13329" descr="image001"/>
          <p:cNvPicPr/>
          <p:nvPr/>
        </p:nvPicPr>
        <p:blipFill>
          <a:blip r:embed="rId1"/>
          <a:stretch/>
        </p:blipFill>
        <p:spPr>
          <a:xfrm>
            <a:off x="4343400" y="2057400"/>
            <a:ext cx="306360" cy="45720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3330" descr="image002"/>
          <p:cNvPicPr/>
          <p:nvPr/>
        </p:nvPicPr>
        <p:blipFill>
          <a:blip r:embed="rId2"/>
          <a:stretch/>
        </p:blipFill>
        <p:spPr>
          <a:xfrm>
            <a:off x="914400" y="3809880"/>
            <a:ext cx="7238880" cy="41940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3333"/>
          <p:cNvSpPr/>
          <p:nvPr/>
        </p:nvSpPr>
        <p:spPr>
          <a:xfrm>
            <a:off x="1066680" y="2286000"/>
            <a:ext cx="3429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DFKai-SB"/>
                <a:ea typeface="DFKai-SB"/>
              </a:rPr>
              <a:t>II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消費：精打細算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投資：分析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文本框 13334"/>
          <p:cNvSpPr/>
          <p:nvPr/>
        </p:nvSpPr>
        <p:spPr>
          <a:xfrm>
            <a:off x="4648320" y="2286000"/>
            <a:ext cx="32004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DFKai-SB"/>
                <a:ea typeface="DFKai-SB"/>
              </a:rPr>
              <a:t>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消費：先用再說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投資：賭徒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文本框 13335"/>
          <p:cNvSpPr/>
          <p:nvPr/>
        </p:nvSpPr>
        <p:spPr>
          <a:xfrm>
            <a:off x="4724280" y="4114800"/>
            <a:ext cx="32004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DFKai-SB"/>
                <a:ea typeface="DFKai-SB"/>
              </a:rPr>
              <a:t>I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消費：趕流行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投資：順勢操作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13336"/>
          <p:cNvSpPr/>
          <p:nvPr/>
        </p:nvSpPr>
        <p:spPr>
          <a:xfrm>
            <a:off x="1066680" y="4114800"/>
            <a:ext cx="32767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DFKai-SB"/>
                <a:ea typeface="DFKai-SB"/>
              </a:rPr>
              <a:t>IV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消費：固定品牌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投資：保本為重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</a:rPr>
              <a:t>多 數 投 資 人 的 慣 性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4920" y="3580920"/>
            <a:ext cx="762480" cy="1219320"/>
            <a:chOff x="1294920" y="3580920"/>
            <a:chExt cx="762480" cy="1219320"/>
          </a:xfrm>
        </p:grpSpPr>
        <p:sp>
          <p:nvSpPr>
            <p:cNvPr id="170" name="直接连接符 17411"/>
            <p:cNvSpPr/>
            <p:nvPr/>
          </p:nvSpPr>
          <p:spPr>
            <a:xfrm flipV="1">
              <a:off x="1295280" y="3580920"/>
              <a:ext cx="762120" cy="121932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 rot="10800000">
              <a:off x="1294920" y="3580920"/>
              <a:ext cx="76212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57400" y="3657600"/>
            <a:ext cx="228600" cy="609480"/>
            <a:chOff x="2057400" y="3657600"/>
            <a:chExt cx="228600" cy="609480"/>
          </a:xfrm>
        </p:grpSpPr>
        <p:sp>
          <p:nvSpPr>
            <p:cNvPr id="173" name="直接连接符 17412"/>
            <p:cNvSpPr/>
            <p:nvPr/>
          </p:nvSpPr>
          <p:spPr>
            <a:xfrm>
              <a:off x="2057400" y="3657600"/>
              <a:ext cx="228600" cy="6094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2057400" y="3657600"/>
              <a:ext cx="2286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285640" y="2971800"/>
            <a:ext cx="686160" cy="1295280"/>
            <a:chOff x="2285640" y="2971800"/>
            <a:chExt cx="686160" cy="1295280"/>
          </a:xfrm>
        </p:grpSpPr>
        <p:sp>
          <p:nvSpPr>
            <p:cNvPr id="176" name="直接连接符 17413"/>
            <p:cNvSpPr/>
            <p:nvPr/>
          </p:nvSpPr>
          <p:spPr>
            <a:xfrm flipV="1">
              <a:off x="2286000" y="2971800"/>
              <a:ext cx="685800" cy="12952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2285640" y="2971800"/>
              <a:ext cx="6858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971800" y="2971800"/>
            <a:ext cx="457200" cy="609480"/>
            <a:chOff x="2971800" y="2971800"/>
            <a:chExt cx="457200" cy="609480"/>
          </a:xfrm>
        </p:grpSpPr>
        <p:sp>
          <p:nvSpPr>
            <p:cNvPr id="179" name="直接连接符 17414"/>
            <p:cNvSpPr/>
            <p:nvPr/>
          </p:nvSpPr>
          <p:spPr>
            <a:xfrm>
              <a:off x="2971800" y="2971800"/>
              <a:ext cx="457200" cy="6094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2971800" y="297180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29000" y="2209680"/>
            <a:ext cx="914400" cy="1371600"/>
            <a:chOff x="3429000" y="2209680"/>
            <a:chExt cx="914400" cy="1371600"/>
          </a:xfrm>
        </p:grpSpPr>
        <p:sp>
          <p:nvSpPr>
            <p:cNvPr id="182" name="直接连接符 17415"/>
            <p:cNvSpPr/>
            <p:nvPr/>
          </p:nvSpPr>
          <p:spPr>
            <a:xfrm flipV="1">
              <a:off x="3429000" y="2209680"/>
              <a:ext cx="914400" cy="137160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0800000">
              <a:off x="3429000" y="2209680"/>
              <a:ext cx="91440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343400" y="2209680"/>
            <a:ext cx="533520" cy="1447920"/>
            <a:chOff x="4343400" y="2209680"/>
            <a:chExt cx="533520" cy="1447920"/>
          </a:xfrm>
        </p:grpSpPr>
        <p:sp>
          <p:nvSpPr>
            <p:cNvPr id="185" name="直接连接符 17416"/>
            <p:cNvSpPr/>
            <p:nvPr/>
          </p:nvSpPr>
          <p:spPr>
            <a:xfrm>
              <a:off x="4343400" y="2209680"/>
              <a:ext cx="533520" cy="144792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4343400" y="2209680"/>
              <a:ext cx="53352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876920" y="3276720"/>
            <a:ext cx="457200" cy="380880"/>
            <a:chOff x="4876920" y="3276720"/>
            <a:chExt cx="457200" cy="380880"/>
          </a:xfrm>
        </p:grpSpPr>
        <p:sp>
          <p:nvSpPr>
            <p:cNvPr id="188" name="直接连接符 17417"/>
            <p:cNvSpPr/>
            <p:nvPr/>
          </p:nvSpPr>
          <p:spPr>
            <a:xfrm flipV="1">
              <a:off x="4876920" y="3276720"/>
              <a:ext cx="457200" cy="38088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487692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34120" y="3276720"/>
            <a:ext cx="990360" cy="1143000"/>
            <a:chOff x="5334120" y="3276720"/>
            <a:chExt cx="990360" cy="1143000"/>
          </a:xfrm>
        </p:grpSpPr>
        <p:sp>
          <p:nvSpPr>
            <p:cNvPr id="191" name="直接连接符 17418"/>
            <p:cNvSpPr/>
            <p:nvPr/>
          </p:nvSpPr>
          <p:spPr>
            <a:xfrm>
              <a:off x="5334120" y="3276720"/>
              <a:ext cx="990360" cy="114300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334120" y="3276720"/>
              <a:ext cx="990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324120" y="3657240"/>
            <a:ext cx="305280" cy="685800"/>
            <a:chOff x="6324120" y="3657240"/>
            <a:chExt cx="305280" cy="685800"/>
          </a:xfrm>
        </p:grpSpPr>
        <p:sp>
          <p:nvSpPr>
            <p:cNvPr id="194" name="直接连接符 17419"/>
            <p:cNvSpPr/>
            <p:nvPr/>
          </p:nvSpPr>
          <p:spPr>
            <a:xfrm flipV="1">
              <a:off x="6324480" y="3657240"/>
              <a:ext cx="304920" cy="68580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6324120" y="3657240"/>
              <a:ext cx="30492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629400" y="3657600"/>
            <a:ext cx="685800" cy="1219320"/>
            <a:chOff x="6629400" y="3657600"/>
            <a:chExt cx="685800" cy="1219320"/>
          </a:xfrm>
        </p:grpSpPr>
        <p:sp>
          <p:nvSpPr>
            <p:cNvPr id="197" name="直接连接符 17420"/>
            <p:cNvSpPr/>
            <p:nvPr/>
          </p:nvSpPr>
          <p:spPr>
            <a:xfrm>
              <a:off x="6629400" y="3657600"/>
              <a:ext cx="685800" cy="121932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6629400" y="3657600"/>
              <a:ext cx="68580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文本框 17421"/>
          <p:cNvSpPr/>
          <p:nvPr/>
        </p:nvSpPr>
        <p:spPr>
          <a:xfrm>
            <a:off x="990720" y="4800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絶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文本框 17422"/>
          <p:cNvSpPr/>
          <p:nvPr/>
        </p:nvSpPr>
        <p:spPr>
          <a:xfrm>
            <a:off x="2057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保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文本框 17423"/>
          <p:cNvSpPr/>
          <p:nvPr/>
        </p:nvSpPr>
        <p:spPr>
          <a:xfrm>
            <a:off x="137160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觀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文本框 17424"/>
          <p:cNvSpPr/>
          <p:nvPr/>
        </p:nvSpPr>
        <p:spPr>
          <a:xfrm>
            <a:off x="1981080" y="24382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文本框 17425"/>
          <p:cNvSpPr/>
          <p:nvPr/>
        </p:nvSpPr>
        <p:spPr>
          <a:xfrm>
            <a:off x="1981080" y="2514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開始相信會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文本框 17426"/>
          <p:cNvSpPr/>
          <p:nvPr/>
        </p:nvSpPr>
        <p:spPr>
          <a:xfrm>
            <a:off x="28195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拉回買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文本框 17427"/>
          <p:cNvSpPr/>
          <p:nvPr/>
        </p:nvSpPr>
        <p:spPr>
          <a:xfrm>
            <a:off x="2895480" y="16765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全面樂觀、奮勇買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文本框 17428"/>
          <p:cNvSpPr/>
          <p:nvPr/>
        </p:nvSpPr>
        <p:spPr>
          <a:xfrm>
            <a:off x="4267080" y="38862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文本框 17429"/>
          <p:cNvSpPr/>
          <p:nvPr/>
        </p:nvSpPr>
        <p:spPr>
          <a:xfrm>
            <a:off x="4419720" y="3886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加碼攤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文本框 17430"/>
          <p:cNvSpPr/>
          <p:nvPr/>
        </p:nvSpPr>
        <p:spPr>
          <a:xfrm>
            <a:off x="4724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相信還會再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文本框 17431"/>
          <p:cNvSpPr/>
          <p:nvPr/>
        </p:nvSpPr>
        <p:spPr>
          <a:xfrm>
            <a:off x="60199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期待反彈解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文本框 17432"/>
          <p:cNvSpPr/>
          <p:nvPr/>
        </p:nvSpPr>
        <p:spPr>
          <a:xfrm>
            <a:off x="525780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開始失望悲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文本框 17433"/>
          <p:cNvSpPr/>
          <p:nvPr/>
        </p:nvSpPr>
        <p:spPr>
          <a:xfrm>
            <a:off x="6934320" y="4952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全面絶望殺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imes New Roman"/>
                <a:ea typeface="PMingLiU"/>
              </a:rPr>
              <a:t>投資報酬率的訂定與掌握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報酬率設定，因人而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達到報酬率後，分批賣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寧可少賺，不要白跑一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理 財 之 重 要 原 則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認清自我，建立適合自己的投資組合，以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散風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釐清理財目的為何？了解並選擇適當之理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工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以自有資金從事理財活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檢視自我對風險度的承擔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設法克服心理障礙，避免追高殺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理財，戒之在「貪」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Times New Roman"/>
                <a:ea typeface="黑体"/>
              </a:rPr>
              <a:t>共 同 資 金 發 展 沿 革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發源於十九世紀中葉時之英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在美國蓬勃發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924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，美國發行第一支基金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MIT Fu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至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2000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底，美國共有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7,130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支基金，管理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資產超過六兆九仟億美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第 二 階 段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4560" y="182844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民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80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9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修訂證券投資信託事業管理規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，並開放申請設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民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81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5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29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日公佈核准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1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家設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14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家申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民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85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起不再批次作業，改採隨到隨審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國 內 基 金 發 展 簡 史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證券投資信託事業管理規則於民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72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訂定，開放初期屬試辦性質，僅開放四家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國際投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72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8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成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光華投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74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2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成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建弘投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75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成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中華投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75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4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月成立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何 謂 </a:t>
            </a:r>
            <a:r>
              <a:rPr b="1" lang="zh-TW" sz="6000" spc="-1" strike="noStrike">
                <a:solidFill>
                  <a:srgbClr val="ffff00"/>
                </a:solidFill>
                <a:latin typeface="PMingLiU"/>
                <a:ea typeface="PMingLiU"/>
              </a:rPr>
              <a:t>「</a:t>
            </a: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信 託 基 金</a:t>
            </a:r>
            <a:r>
              <a:rPr b="1" lang="zh-TW" sz="6000" spc="-1" strike="noStrike">
                <a:solidFill>
                  <a:srgbClr val="ffff00"/>
                </a:solidFill>
                <a:latin typeface="PMingLiU"/>
                <a:ea typeface="PMingLiU"/>
              </a:rPr>
              <a:t>」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?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      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乃集合大眾之資金，委託專業經理人來管理操作，將其投資於國內、外的各種金融商品，而其損益由所有投資人共同分攤的一種投資方式，故亦稱之為「共同基金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　　　　資產總額－相關費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淨值＝　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　　　　發行在外之總單位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　　　　　　　　　　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828800" y="5105520"/>
            <a:ext cx="4648320" cy="360"/>
            <a:chOff x="1828800" y="5105520"/>
            <a:chExt cx="4648320" cy="360"/>
          </a:xfrm>
        </p:grpSpPr>
        <p:sp>
          <p:nvSpPr>
            <p:cNvPr id="231" name="直接连接符 23556"/>
            <p:cNvSpPr/>
            <p:nvPr/>
          </p:nvSpPr>
          <p:spPr>
            <a:xfrm>
              <a:off x="1828800" y="5105520"/>
              <a:ext cx="4648320" cy="0"/>
            </a:xfrm>
            <a:prstGeom prst="line">
              <a:avLst/>
            </a:prstGeom>
            <a:ln cap="sq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828800" y="5105520"/>
              <a:ext cx="4648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24579" descr="未標題-1"/>
          <p:cNvPicPr/>
          <p:nvPr/>
        </p:nvPicPr>
        <p:blipFill>
          <a:blip r:embed="rId1"/>
          <a:srcRect l="1600" t="1447" r="3201" b="2895"/>
          <a:stretch/>
        </p:blipFill>
        <p:spPr>
          <a:xfrm>
            <a:off x="304920" y="1752480"/>
            <a:ext cx="8305560" cy="4496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運 用 架 構 圖 解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共 同 基 金 的 優 點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金額門檻較低，儲蓄、投資均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採分散投資，以降低風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專業管理，提高收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手續簡便，以傳真交易即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流動性較股票為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股票型與債券型基金，可互相自由轉換，以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避風險並節省成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ff66"/>
                </a:solidFill>
                <a:latin typeface="Times New Roman"/>
              </a:rPr>
              <a:t>基 礎 篇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641240"/>
            <a:ext cx="86104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理財趨勢與正確之理財觀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何謂「共同基金」及其沿革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共同基金之運作流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共同基金之優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五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如何評估共同基金之績效表現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六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如何選擇共同基金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七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共同基金常犯之錯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PMingLiU"/>
                <a:ea typeface="PMingLiU"/>
              </a:rPr>
              <a:t>如何評估基金之績效表現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828800" y="205704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淨值成長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平均報酬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單位風險報酬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超跑點的差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  <a:ea typeface="PMingLiU"/>
              </a:rPr>
              <a:t>如何選擇信託基金</a:t>
            </a:r>
            <a:r>
              <a:rPr b="1" lang="en-US" sz="6000" spc="-1" strike="noStrike">
                <a:solidFill>
                  <a:srgbClr val="ffff00"/>
                </a:solidFill>
                <a:latin typeface="PMingLiU"/>
                <a:ea typeface="PMingLiU"/>
              </a:rPr>
              <a:t>?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認清：獲利期待、投資期間、風險承擔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成立時間多久　　　　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稅賦問題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標的選擇　　　　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資產規模大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地區潛力　　　　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資訊取得難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過去績效表現　　　　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公司專業與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經理人經驗　　　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$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各項費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700" spc="-1" strike="noStrike">
                <a:solidFill>
                  <a:srgbClr val="ffff00"/>
                </a:solidFill>
                <a:latin typeface="PMingLiU"/>
                <a:ea typeface="PMingLiU"/>
              </a:rPr>
              <a:t>投資「共同基金」常犯之錯誤</a:t>
            </a:r>
            <a:endParaRPr b="0" lang="en-US" sz="4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28600" y="22860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一：忽略持股明細所透露之訊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二：過於在意基金之短期報酬率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週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三：認為基金應長期投資，故放著不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四：過度集中在同一類型之基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五：基金週轉率＝基金績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錯誤六：認為基金乃由經理人操作，故無需自　　　　己判斷出場時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ffff00"/>
                </a:solidFill>
                <a:latin typeface="Times New Roman"/>
                <a:ea typeface="DFKai-SB"/>
              </a:rPr>
              <a:t>共同基金</a:t>
            </a:r>
            <a:r>
              <a:rPr b="1" lang="zh-TW" sz="6600" spc="-1" strike="noStrike">
                <a:solidFill>
                  <a:srgbClr val="ffff00"/>
                </a:solidFill>
                <a:latin typeface="Times New Roman"/>
                <a:ea typeface="DFKai-SB"/>
              </a:rPr>
              <a:t>  </a:t>
            </a:r>
            <a:r>
              <a:rPr b="1" lang="zh-TW" sz="8800" spc="-1" strike="noStrike">
                <a:solidFill>
                  <a:srgbClr val="ffff00"/>
                </a:solidFill>
                <a:latin typeface="Times New Roman"/>
                <a:ea typeface="DFKai-SB"/>
              </a:rPr>
              <a:t>國內篇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  <a:ea typeface="PMingLiU"/>
              </a:rPr>
              <a:t>國內共同基金的種類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99840" y="129492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由投資標的區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股票型基金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平衡型基金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債券型基金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由投資之獲利目標區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收益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成長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積極成長型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由發行方式區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封閉式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DFKai-SB"/>
                <a:ea typeface="DFKai-SB"/>
              </a:rPr>
              <a:t>。開放式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PMingLiU"/>
              </a:rPr>
              <a:t>開放式與封閉式基金之比較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09480" y="1219320"/>
          <a:ext cx="7772400" cy="5271840"/>
        </p:xfrm>
        <a:graphic>
          <a:graphicData uri="http://schemas.openxmlformats.org/drawingml/2006/table">
            <a:tbl>
              <a:tblPr/>
              <a:tblGrid>
                <a:gridCol w="1905120"/>
                <a:gridCol w="3124080"/>
                <a:gridCol w="2743200"/>
              </a:tblGrid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開放式基金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封閉式基金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發行單位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隨時增減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固定不變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掛牌上市否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不上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上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買賣方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基金發行公司無條件接受投資人買賣申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只能在股市賣出或買進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買賣價格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依基金淨值計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依股市之市價計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操作績效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完全反映在淨值上，容易評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易受行情波動及心理面之影響，較難評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折價風險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無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有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市價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淨值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00"/>
                </a:solidFill>
                <a:latin typeface="PMingLiU"/>
                <a:ea typeface="PMingLiU"/>
              </a:rPr>
              <a:t>債券基金投資標的與特性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568"/>
                </a:solidFill>
                <a:latin typeface="DFKai-SB"/>
                <a:ea typeface="DFKai-SB"/>
              </a:rPr>
              <a:t>$</a:t>
            </a:r>
            <a:r>
              <a:rPr b="1" lang="zh-TW" sz="3600" spc="-1" strike="noStrike">
                <a:solidFill>
                  <a:srgbClr val="ff4568"/>
                </a:solidFill>
                <a:latin typeface="DFKai-SB"/>
                <a:ea typeface="DFKai-SB"/>
              </a:rPr>
              <a:t>標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政府公債、公司債、金融債券、銀行定存、經證管會核准投資之其他金融工具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568"/>
                </a:solidFill>
                <a:latin typeface="DFKai-SB"/>
                <a:ea typeface="DFKai-SB"/>
              </a:rPr>
              <a:t>$</a:t>
            </a:r>
            <a:r>
              <a:rPr b="1" lang="zh-TW" sz="3600" spc="-1" strike="noStrike">
                <a:solidFill>
                  <a:srgbClr val="ff4568"/>
                </a:solidFill>
                <a:latin typeface="DFKai-SB"/>
                <a:ea typeface="DFKai-SB"/>
              </a:rPr>
              <a:t>特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  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因以固定收益之工具為主要投資標的，故利息收入採逐日攤提入帳，在一般情況下，淨值每日呈現溫和成長，收益穩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00"/>
                </a:solidFill>
                <a:latin typeface="PMingLiU"/>
                <a:ea typeface="PMingLiU"/>
              </a:rPr>
              <a:t>債 券 型 基 金 之 特 色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收益穩定：</a:t>
            </a: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投資標的屬於生息工具，故安全穩定，淨值溫和成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變現力強：</a:t>
            </a: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可隨時贖回，無需事先約定天數，當日申請買回，隔日中午前即匯回原申購人帳戶，沒有提前解約，利息打折扣等問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ff00"/>
                </a:solidFill>
                <a:latin typeface="PMingLiU"/>
              </a:rPr>
              <a:t>適合投資債券型基金之對象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85800" y="1641600"/>
          <a:ext cx="7772400" cy="4454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企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個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１．閒置資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１．稅賦較重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２．短期資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２．短期資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３．套利空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３．股市投資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ff00"/>
                </a:solidFill>
                <a:latin typeface="PMingLiU"/>
              </a:rPr>
              <a:t>共同基金收益來源與相關費用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利息收入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Intere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股利收入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Dividen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資本利得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Capital ga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收益平準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43400" y="228564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申購費用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Application fe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贖回費用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Redemption fe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基金經理費</a:t>
            </a:r>
            <a:r>
              <a:rPr b="0" lang="en-US" sz="2500" spc="-1" strike="noStrike">
                <a:solidFill>
                  <a:srgbClr val="ffffff"/>
                </a:solidFill>
                <a:latin typeface="DFKai-SB"/>
                <a:ea typeface="DFKai-SB"/>
              </a:rPr>
              <a:t>(Management fee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銀行保管費</a:t>
            </a:r>
            <a:r>
              <a:rPr b="0" lang="en-US" sz="2800" spc="-1" strike="noStrike">
                <a:solidFill>
                  <a:srgbClr val="ffffff"/>
                </a:solidFill>
                <a:latin typeface="DFKai-SB"/>
                <a:ea typeface="DFKai-SB"/>
              </a:rPr>
              <a:t>(Custodian fe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DFKai-SB"/>
                <a:ea typeface="DFKai-SB"/>
              </a:rPr>
              <a:t>其它費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ff00"/>
                </a:solidFill>
                <a:latin typeface="Times New Roman"/>
                <a:ea typeface="PMingLiU"/>
              </a:rPr>
              <a:t>小 額 理 財 篇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6398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PMingLiU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適合投資「定時定額」之對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定時定額理財之優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善用定時定額策略，以投資風險偏高　　之台灣股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定時定額理財之實證與獲利計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五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定時定額理財之竅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00"/>
                </a:solidFill>
                <a:latin typeface="PMingLiU"/>
                <a:ea typeface="PMingLiU"/>
              </a:rPr>
              <a:t>國內共同基金投資風險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流動性風險</a:t>
            </a:r>
            <a:r>
              <a:rPr b="1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信託契約中訂有『限制贖回』條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2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折價風險：市價低於淨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管理風險</a:t>
            </a:r>
            <a:r>
              <a:rPr b="1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: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操作風險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&lt;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非系統風險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Beta</a:t>
            </a:r>
            <a:r>
              <a:rPr b="1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風險</a:t>
            </a:r>
            <a:r>
              <a:rPr b="1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: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衡量全體市場『共同風險』的指標為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Beta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係數， 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Beta&gt;1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風險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報酬大於市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PMingLiU"/>
                <a:ea typeface="PMingLiU"/>
              </a:rPr>
              <a:t>如何判斷股票型基金之賣出時點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120" y="17524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當股市漲幅過大、指標過熱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長期績效較佳之前幾名基金，皆出現明顯調降總持股比重之現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股市已呈作頭跡象，而持股比例仍過高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持股明細中出現地雷股，且比例過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末升段行情，個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類股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輪動速度過快，基金操作不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40963"/>
          <p:cNvSpPr/>
          <p:nvPr/>
        </p:nvSpPr>
        <p:spPr>
          <a:xfrm>
            <a:off x="163440" y="26431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00"/>
                </a:solidFill>
                <a:latin typeface="Times New Roman"/>
                <a:ea typeface="DFKai-SB"/>
              </a:rPr>
              <a:t>共同基金  小額理財篇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700" spc="-1" strike="noStrike">
                <a:solidFill>
                  <a:srgbClr val="ffff00"/>
                </a:solidFill>
                <a:latin typeface="PMingLiU"/>
              </a:rPr>
              <a:t>預估台灣人口金字塔結構圖</a:t>
            </a:r>
            <a:endParaRPr b="0" lang="en-US" sz="47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9" name="图片 41987" descr="未標題-2"/>
          <p:cNvPicPr/>
          <p:nvPr/>
        </p:nvPicPr>
        <p:blipFill>
          <a:blip r:embed="rId1"/>
          <a:srcRect l="1403" t="5349" r="1403" b="11768"/>
          <a:stretch/>
        </p:blipFill>
        <p:spPr>
          <a:xfrm>
            <a:off x="304920" y="1600200"/>
            <a:ext cx="8534160" cy="4686480"/>
          </a:xfrm>
          <a:prstGeom prst="rect">
            <a:avLst/>
          </a:prstGeom>
          <a:ln w="0">
            <a:noFill/>
          </a:ln>
        </p:spPr>
      </p:pic>
      <p:sp>
        <p:nvSpPr>
          <p:cNvPr id="28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定時定額理財之優點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投資門檻最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儲蓄兼投資，一舉兩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利用「平均成本法」之觀念，分散一次買進之風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省時省力作理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以子女名義申請，每年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100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萬以內，免課贈與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無投資期限之限定，可隨時終止或買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00"/>
                </a:solidFill>
                <a:latin typeface="PMingLiU"/>
              </a:rPr>
              <a:t>適合投資定時定額之對象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5257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社會新鮮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儲備子女教育基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儲備退休基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儲備置產資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節稅規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其它中、長期理財規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基金獲利如何計算？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每月投資金額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$)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／扣款當日基金淨值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NAV)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＝每月所得單位數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UNI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基金淨值：基金在每日股市收盤後，計算其投資總市值再除以當日流通在外的單位數，即為其當日淨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獲利＝（最新基金淨值－平均單位成本）＊累積持有單位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ffff00"/>
                </a:solidFill>
                <a:latin typeface="PMingLiU"/>
              </a:rPr>
              <a:t>定時定額投資基金計劃在股市多空所發揮的效益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666720" y="1630440"/>
          <a:ext cx="7772400" cy="5124240"/>
        </p:xfrm>
        <a:graphic>
          <a:graphicData uri="http://schemas.openxmlformats.org/drawingml/2006/table">
            <a:tbl>
              <a:tblPr/>
              <a:tblGrid>
                <a:gridCol w="1981080"/>
                <a:gridCol w="1371600"/>
                <a:gridCol w="1524240"/>
                <a:gridCol w="1341360"/>
                <a:gridCol w="155412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定時定投資金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多頭市場（股票上漲時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空頭市場（股票下跌時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單位價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購得單位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單位價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購得單位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＄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＄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＄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7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＄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＄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合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平均單位成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3.6($15,000/1,1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6.9($15,000/2,17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平均市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4.4</a:t>
                      </a:r>
                      <a:br>
                        <a:rPr sz="20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$10+$12+$15+$15+$20)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7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$10+$8+$7.5+$6+$5)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何謂平均成本法（一）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图表占位符 47106" descr=""/>
          <p:cNvPicPr/>
          <p:nvPr/>
        </p:nvPicPr>
        <p:blipFill>
          <a:blip r:embed="rId1"/>
          <a:stretch/>
        </p:blipFill>
        <p:spPr>
          <a:xfrm>
            <a:off x="687240" y="1641600"/>
            <a:ext cx="7767720" cy="44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6858000" y="2057400"/>
          <a:ext cx="2057400" cy="40640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每月投資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投資總額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000</a:t>
                      </a:r>
                      <a:r>
                        <a:rPr b="0" lang="zh-TW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總單位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8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平均成本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最後淨值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淨收益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9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報酬率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.87</a:t>
                      </a: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对象 47133" descr=""/>
          <p:cNvPicPr/>
          <p:nvPr/>
        </p:nvPicPr>
        <p:blipFill>
          <a:blip r:embed="rId2"/>
          <a:stretch/>
        </p:blipFill>
        <p:spPr>
          <a:xfrm>
            <a:off x="0" y="1368360"/>
            <a:ext cx="6788160" cy="4756320"/>
          </a:xfrm>
          <a:prstGeom prst="rect">
            <a:avLst/>
          </a:prstGeom>
          <a:ln w="0">
            <a:noFill/>
          </a:ln>
        </p:spPr>
      </p:pic>
      <p:sp>
        <p:nvSpPr>
          <p:cNvPr id="297" name="文本框 47134"/>
          <p:cNvSpPr/>
          <p:nvPr/>
        </p:nvSpPr>
        <p:spPr>
          <a:xfrm>
            <a:off x="5791320" y="571500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矩形 47135"/>
          <p:cNvSpPr/>
          <p:nvPr/>
        </p:nvSpPr>
        <p:spPr>
          <a:xfrm>
            <a:off x="5638680" y="51814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00"/>
                </a:solidFill>
                <a:latin typeface="Times New Roman"/>
              </a:rPr>
              <a:t>淨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何謂平均成本法（二</a:t>
            </a:r>
            <a:r>
              <a:rPr b="0" lang="zh-TW" sz="4400" spc="-1" strike="noStrike">
                <a:solidFill>
                  <a:srgbClr val="ffff00"/>
                </a:solidFill>
                <a:latin typeface="DFKai-SB"/>
                <a:ea typeface="DFKai-SB"/>
              </a:rPr>
              <a:t>）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1" name="对象 48130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400800" cy="51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6858000" y="2057400"/>
          <a:ext cx="2057400" cy="40640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每月投資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投資總額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000</a:t>
                      </a:r>
                      <a:r>
                        <a:rPr b="0" lang="zh-TW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總單位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8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平均成本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最後淨值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淨收益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2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報酬率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16</a:t>
                      </a:r>
                      <a:r>
                        <a:rPr b="0" lang="zh-TW" sz="17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  <a:ea typeface="PMingLiU"/>
              </a:rPr>
              <a:t>七項您必須積極理財的理由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280" y="190476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PMingLiU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除了工作收入之外，唯有理財可以讓你比別人更快累積財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2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股市大跌、資產縮水，但是唯有認真理財才能趨吉避凶，並掌   　握低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3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每天早出晚歸工作忙碌，唯有積極理財才能比別人提早退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4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子女教育費用日漸高漲，唯有積極理財才能讓孩子安心成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5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失業人口日趨提昇，唯有積極理財才能面對失業危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6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地震、颱風等生活危機伺伏，唯有懂得財務風險規劃，才能安　渡危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FKai-SB"/>
                <a:ea typeface="DFKai-SB"/>
              </a:rPr>
              <a:t>7.</a:t>
            </a:r>
            <a:r>
              <a:rPr b="0" lang="zh-TW" sz="2400" spc="-1" strike="noStrike">
                <a:solidFill>
                  <a:srgbClr val="ffffff"/>
                </a:solidFill>
                <a:latin typeface="DFKai-SB"/>
                <a:ea typeface="DFKai-SB"/>
              </a:rPr>
              <a:t>低利率時代來臨，唯有積極理財才能彌補本金增值速度的減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模 擬 操 作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策略一：完全無操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長期投資，期間未作任何贖回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　　　　   動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策略二 ：定利贖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達到預設報酬率後，贖回轉入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　　　　   固定收益投資工具　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策略二：定利贖回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設定一個期望報酬率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如</a:t>
            </a:r>
            <a:r>
              <a:rPr b="0" lang="en-US" sz="3200" spc="-1" strike="noStrike">
                <a:solidFill>
                  <a:srgbClr val="ffffff"/>
                </a:solidFill>
                <a:latin typeface="DFKai-SB"/>
                <a:ea typeface="DFKai-SB"/>
              </a:rPr>
              <a:t>2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每當累積報酬率到達期望值時，就進行贖回的動作，並轉收益型商品（如債券基金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定時定額依舊繼續扣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　　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充分達到實現獲利的最終目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完全無操作ｖ</a:t>
            </a:r>
            <a:r>
              <a:rPr b="1" lang="en-US" sz="5500" spc="-1" strike="noStrike">
                <a:solidFill>
                  <a:srgbClr val="ffff00"/>
                </a:solidFill>
                <a:latin typeface="PMingLiU"/>
              </a:rPr>
              <a:t>.</a:t>
            </a: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定利操作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85800" y="1641600"/>
          <a:ext cx="7772400" cy="39956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大盤指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累計報酬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操作次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策略一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無操作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.3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策略二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定利操作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16.2 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圖例講解</a:t>
            </a:r>
            <a:r>
              <a:rPr b="1" lang="en-US" sz="5500" spc="-1" strike="noStrike">
                <a:solidFill>
                  <a:srgbClr val="ffff00"/>
                </a:solidFill>
                <a:latin typeface="PMingLiU"/>
              </a:rPr>
              <a:t>(</a:t>
            </a:r>
            <a:r>
              <a:rPr b="1" lang="zh-TW" sz="5500" spc="-1" strike="noStrike">
                <a:solidFill>
                  <a:srgbClr val="ffff00"/>
                </a:solidFill>
                <a:latin typeface="PMingLiU"/>
              </a:rPr>
              <a:t>大盤指數</a:t>
            </a:r>
            <a:r>
              <a:rPr b="1" lang="en-US" sz="5500" spc="-1" strike="noStrike">
                <a:solidFill>
                  <a:srgbClr val="ffff00"/>
                </a:solidFill>
                <a:latin typeface="PMingLiU"/>
              </a:rPr>
              <a:t>)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4" name="内容占位符 52227" descr="未標題-3"/>
          <p:cNvPicPr/>
          <p:nvPr/>
        </p:nvPicPr>
        <p:blipFill>
          <a:blip r:embed="rId1"/>
          <a:srcRect l="0" t="2916" r="0" b="2916"/>
          <a:stretch/>
        </p:blipFill>
        <p:spPr>
          <a:xfrm>
            <a:off x="250920" y="1557360"/>
            <a:ext cx="8713800" cy="5049720"/>
          </a:xfrm>
          <a:prstGeom prst="rect">
            <a:avLst/>
          </a:prstGeom>
          <a:ln w="0">
            <a:noFill/>
          </a:ln>
        </p:spPr>
      </p:pic>
      <p:sp>
        <p:nvSpPr>
          <p:cNvPr id="31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理 財 小 叮 嚀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DFKai-SB"/>
                <a:ea typeface="DFKai-SB"/>
              </a:rPr>
              <a:t>定期定額投資的六大禁忌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需等待進場時機，隨時可開始執行投資規劃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要將投資組合過於同質化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要以買股票的心態短線操作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要用日常所需資金投資，急需用錢時才贖回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要因市場下跌，就終止扣款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DFKai-SB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DFKai-SB"/>
                <a:ea typeface="DFKai-SB"/>
              </a:rPr>
              <a:t>不要申購後置之不理，應適度做獲利了結動作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第一個</a:t>
            </a:r>
            <a:r>
              <a:rPr b="1" lang="en-US" sz="6000" spc="-1" strike="noStrike">
                <a:solidFill>
                  <a:srgbClr val="ffff00"/>
                </a:solidFill>
                <a:latin typeface="PMingLiU"/>
              </a:rPr>
              <a:t>100</a:t>
            </a:r>
            <a:r>
              <a:rPr b="1" lang="zh-TW" sz="6000" spc="-1" strike="noStrike">
                <a:solidFill>
                  <a:srgbClr val="ffff00"/>
                </a:solidFill>
                <a:latin typeface="PMingLiU"/>
              </a:rPr>
              <a:t>萬元</a:t>
            </a:r>
            <a:br>
              <a:rPr sz="6000"/>
            </a:br>
            <a:r>
              <a:rPr b="0" lang="zh-TW" sz="4400" spc="-1" strike="noStrike">
                <a:solidFill>
                  <a:srgbClr val="ffff00"/>
                </a:solidFill>
                <a:latin typeface="DFKai-SB"/>
                <a:ea typeface="DFKai-SB"/>
              </a:rPr>
              <a:t>                                                 </a:t>
            </a:r>
            <a:r>
              <a:rPr b="0" lang="zh-TW" sz="1200" spc="-1" strike="noStrike">
                <a:solidFill>
                  <a:srgbClr val="ffff00"/>
                </a:solidFill>
                <a:latin typeface="DFKai-SB"/>
                <a:ea typeface="DFKai-SB"/>
              </a:rPr>
              <a:t>單位</a:t>
            </a:r>
            <a:r>
              <a:rPr b="0" lang="en-US" sz="1200" spc="-1" strike="noStrike">
                <a:solidFill>
                  <a:srgbClr val="ffff00"/>
                </a:solidFill>
                <a:latin typeface="DFKai-SB"/>
                <a:ea typeface="DFKai-SB"/>
              </a:rPr>
              <a:t>:</a:t>
            </a:r>
            <a:r>
              <a:rPr b="0" lang="zh-TW" sz="1200" spc="-1" strike="noStrike">
                <a:solidFill>
                  <a:srgbClr val="ffff00"/>
                </a:solidFill>
                <a:latin typeface="DFKai-SB"/>
                <a:ea typeface="DFKai-SB"/>
              </a:rPr>
              <a:t>年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85800" y="1905120"/>
          <a:ext cx="7772400" cy="4599000"/>
        </p:xfrm>
        <a:graphic>
          <a:graphicData uri="http://schemas.openxmlformats.org/drawingml/2006/table">
            <a:tbl>
              <a:tblPr/>
              <a:tblGrid>
                <a:gridCol w="1066680"/>
                <a:gridCol w="876600"/>
                <a:gridCol w="971280"/>
                <a:gridCol w="971640"/>
                <a:gridCol w="971640"/>
                <a:gridCol w="971640"/>
                <a:gridCol w="971280"/>
                <a:gridCol w="971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報酬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假設各種年報酬率下達到第一個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萬所需時間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每月扣款金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r>
                        <a:rPr b="0" lang="zh-TW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.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表占位符 8195" descr=""/>
          <p:cNvPicPr/>
          <p:nvPr/>
        </p:nvPicPr>
        <p:blipFill>
          <a:blip r:embed="rId1"/>
          <a:stretch/>
        </p:blipFill>
        <p:spPr>
          <a:xfrm>
            <a:off x="0" y="1676520"/>
            <a:ext cx="8763120" cy="4911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</a:rPr>
              <a:t>失 業 率</a:t>
            </a:r>
            <a:br>
              <a:rPr sz="6000"/>
            </a:br>
            <a:r>
              <a:rPr b="0" lang="zh-TW" sz="4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</a:t>
            </a: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單位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:%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对象 922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763120" cy="510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00"/>
                </a:solidFill>
                <a:latin typeface="Times New Roman"/>
              </a:rPr>
              <a:t>台灣近二十年來金融機構</a:t>
            </a:r>
            <a:br>
              <a:rPr sz="5000"/>
            </a:br>
            <a:r>
              <a:rPr b="1" lang="zh-TW" sz="5000" spc="-1" strike="noStrike">
                <a:solidFill>
                  <a:srgbClr val="ffff00"/>
                </a:solidFill>
                <a:latin typeface="Times New Roman"/>
              </a:rPr>
              <a:t>長天期定存利率變動表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一般人的傳統理財觀念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DFKai-SB"/>
                <a:ea typeface="DFKai-SB"/>
              </a:rPr>
              <a:t>賺錢－花錢</a:t>
            </a:r>
            <a:r>
              <a:rPr b="0" lang="en-US" sz="5400" spc="-1" strike="noStrike">
                <a:solidFill>
                  <a:srgbClr val="ffffff"/>
                </a:solidFill>
                <a:latin typeface="DFKai-SB"/>
                <a:ea typeface="DFKai-SB"/>
              </a:rPr>
              <a:t>=</a:t>
            </a:r>
            <a:r>
              <a:rPr b="0" lang="zh-TW" sz="5400" spc="-1" strike="noStrike">
                <a:solidFill>
                  <a:srgbClr val="ffffff"/>
                </a:solidFill>
                <a:latin typeface="DFKai-SB"/>
                <a:ea typeface="DFKai-SB"/>
              </a:rPr>
              <a:t>存錢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改變後的理財觀念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DFKai-SB"/>
                <a:ea typeface="DFKai-SB"/>
              </a:rPr>
              <a:t>賺錢－存錢</a:t>
            </a:r>
            <a:r>
              <a:rPr b="0" lang="en-US" sz="5400" spc="-1" strike="noStrike">
                <a:solidFill>
                  <a:srgbClr val="ffffff"/>
                </a:solidFill>
                <a:latin typeface="DFKai-SB"/>
                <a:ea typeface="DFKai-SB"/>
              </a:rPr>
              <a:t>=</a:t>
            </a:r>
            <a:r>
              <a:rPr b="0" lang="zh-TW" sz="5400" spc="-1" strike="noStrike">
                <a:solidFill>
                  <a:srgbClr val="ffffff"/>
                </a:solidFill>
                <a:latin typeface="DFKai-SB"/>
                <a:ea typeface="DFKai-SB"/>
              </a:rPr>
              <a:t>花錢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Times New Roman"/>
                <a:ea typeface="PMingLiU"/>
              </a:rPr>
              <a:t>股 市 不 變 的 定 律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多空看法時常分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没有專家，只有贏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永遠充滿不確定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人多的地方不要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漲多必跌，跌久必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馬路消息滿天飛、內線交易充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好股票不如好買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利空測底，利多測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DFKai-SB"/>
              </a:rPr>
              <a:t>跌時無好消息，漲時無壞消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1:41Z</dcterms:created>
  <dc:creator/>
  <dc:description/>
  <cp:keywords>共同 基金</cp:keywords>
  <dc:language>en-US</dc:language>
  <cp:lastModifiedBy>An</cp:lastModifiedBy>
  <dcterms:modified xsi:type="dcterms:W3CDTF">2016-05-01T00:31:4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