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1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2AB-4AB3-4FE4-99BD-174019CE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9E5-2A9C-494A-A0AE-41F59816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833-8B33-451F-8B63-F10C966F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961-FD3A-420C-BBC7-04D18B8D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1771-2ED8-4D63-9E2A-7DB6ACA4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A8AF-9F2C-4404-996D-BB2F4AD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1B7B-06CC-4DBC-AF35-2ABB8B73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262-CAC2-4C21-9605-1D27CBB6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7326-DDDB-4357-951B-A64553C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1169-0FAD-4B7E-B875-4F570ED2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A8C-7BFD-43E5-8E77-1BCCC4F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13E-9491-4D44-811D-6334A6E1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A35A-4067-4EAC-ADDC-7F2D3B8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7C7-9C37-49BA-ACF7-C559A61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E1F0-9B13-4038-AD66-E9EDC9A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A275-47B4-4D6B-8E64-CB933674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5C3B-95DC-4D09-BD22-C5C292E7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E92-7A8C-4883-8AA0-A8B145B3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527-929F-4832-9429-E7A3CC17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C34-06C1-49E8-9F02-325E4F5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E2F-E7A5-4B5F-87BA-5C7186C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35B-9B6B-4069-9DB3-CD3A5365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F0D-E353-4EBA-9ECF-9DBB6F4E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28C-1617-4A32-8DDD-E59E6A7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63AF-B2B2-4662-90CD-84E3E4C67009}" type="slidenum">
              <a:rPr b="1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DF1A-9FB9-4408-BDA3-1C2AE1DDCBF1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451"/>
              </a:spcBef>
              <a:buSzPct val="3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451"/>
              </a:spcBef>
              <a:buSzPct val="3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SzPct val="36018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SzPct val="36003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SzPct val="360035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SzPct val="3600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SzPct val="3600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5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9.gif"/><Relationship Id="rId16" Type="http://schemas.openxmlformats.org/officeDocument/2006/relationships/image" Target="../media/image16.gif"/><Relationship Id="rId1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Cool Turtle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9040" y="228600"/>
            <a:ext cx="4076640" cy="6553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08040" y="763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龟兔赛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331488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3896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SzPct val="3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34120" y="228600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Eras Bold ITC"/>
              <a:ea typeface="宋体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181116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280" y="347040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280" y="512928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485120" y="4191120"/>
            <a:ext cx="165888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029200" y="4330800"/>
            <a:ext cx="2394000" cy="252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362320" y="2438280"/>
            <a:ext cx="66492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2514600" y="4116240"/>
            <a:ext cx="2290680" cy="274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124080" y="1295280"/>
            <a:ext cx="1109880" cy="116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4876920" y="1295280"/>
            <a:ext cx="895320" cy="116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5943600" y="208080"/>
            <a:ext cx="1163520" cy="105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6248520" y="1371600"/>
            <a:ext cx="930240" cy="116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4648320" y="208080"/>
            <a:ext cx="993600" cy="116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4"/>
          <a:stretch/>
        </p:blipFill>
        <p:spPr>
          <a:xfrm>
            <a:off x="3048120" y="344520"/>
            <a:ext cx="1163520" cy="87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5"/>
          <a:stretch/>
        </p:blipFill>
        <p:spPr>
          <a:xfrm>
            <a:off x="7620120" y="208080"/>
            <a:ext cx="1163520" cy="1163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6"/>
          <a:stretch/>
        </p:blipFill>
        <p:spPr>
          <a:xfrm>
            <a:off x="7848720" y="1371600"/>
            <a:ext cx="1057320" cy="1163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Eras Bold ITC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A73-D55D-4876-83A1-B79D0E21FB0C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1:4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