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rack02-2.26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FC20-A984-43E0-9C23-5C1FE90E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E1E-C4D1-4205-8584-508738BD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3039-072D-4FC9-B52C-184DE9B7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9FF6-3499-4B72-9FF4-98B3C4D5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ABCC8-668B-4B8D-830B-834D4490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F4A8A-18A5-4F1F-BEAB-20DC8DE4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EC8A4-20B4-4361-94BE-AD5273C7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37B58-C182-43E8-A809-08DC9AAE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09DBA-1153-44E8-881F-BD503D2D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6CC0C-4D8F-44AB-8F7D-F07921D0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9404F-3CEB-4166-AFDC-DCD6A291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7FF-9994-4C95-A97D-9C1C68ED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82F32-4B4F-479E-8AB4-5D98800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CAF43-ED1E-4655-B400-F8DBD98C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716FA-3864-4D9E-8869-24C9DF1E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0F7D7-E5D0-4DB1-A8A5-CBE042C4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F93C2-0A4E-4EF0-AE89-C3C18232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F00-BF4E-4773-9EE9-AB746E32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ADE-8B70-4C18-848E-13917615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136-BD3F-4490-90DA-ED0D7AEE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ED6-ACDB-4B0F-AC8D-D76D407E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684-A397-41B2-83A5-1A7DAA9C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F3F-4C61-42F8-895B-083821CF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F169-1344-4ADD-859D-7D75A9FA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DBFE-CA3C-44BF-AA5D-984DCC3619ED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8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3DD4-77E7-4B3A-BB79-078EE40F3DD8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429240" y="6214680"/>
            <a:ext cx="24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8761-4DB9-40B9-8C35-730902C98BA6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8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BCCF-90C4-4FF1-91BB-2FA14B18FEF3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02-2.2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2306605-lg"/>
          <p:cNvPicPr/>
          <p:nvPr/>
        </p:nvPicPr>
        <p:blipFill>
          <a:blip r:embed="rId1"/>
          <a:stretch/>
        </p:blipFill>
        <p:spPr>
          <a:xfrm>
            <a:off x="-252360" y="44280"/>
            <a:ext cx="9607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灯片编号占位符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660F-7909-45CE-8844-457718A55570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7017120" y="6215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</a:rPr>
              <a:t>自动或手动播放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黑体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黑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0" name=""/>
          <p:cNvSpPr/>
          <p:nvPr/>
        </p:nvSpPr>
        <p:spPr>
          <a:xfrm>
            <a:off x="2059200" y="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关于友情的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使用规范说明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63E9D-2E64-4F20-A384-B089BFFF726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内容占位符 3" descr="咖啡.jpg"/>
          <p:cNvPicPr/>
          <p:nvPr/>
        </p:nvPicPr>
        <p:blipFill>
          <a:blip r:embed="rId1"/>
          <a:stretch/>
        </p:blipFill>
        <p:spPr>
          <a:xfrm>
            <a:off x="355680" y="266760"/>
            <a:ext cx="8432640" cy="6324480"/>
          </a:xfrm>
          <a:prstGeom prst="rect">
            <a:avLst/>
          </a:prstGeom>
          <a:ln w="0">
            <a:noFill/>
          </a:ln>
        </p:spPr>
      </p:pic>
      <p:sp>
        <p:nvSpPr>
          <p:cNvPr id="92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6393-38DB-4753-8AB5-CEB5DE3EBDE6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0040" y="1356840"/>
            <a:ext cx="52149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喝杯咖啡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聽起來讓人很温馨且令人感動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聊一聊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說說話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些無聊的東東給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42960" y="1357200"/>
            <a:ext cx="5562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文字方塊 6"/>
          <p:cNvSpPr/>
          <p:nvPr/>
        </p:nvSpPr>
        <p:spPr>
          <a:xfrm>
            <a:off x="1214280" y="857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DFKai-SB"/>
                <a:ea typeface="DFKai-SB"/>
              </a:rPr>
              <a:t>很特別的一句廣告詞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0" name="Picture 10" descr="2281147-lg"/>
          <p:cNvPicPr/>
          <p:nvPr/>
        </p:nvPicPr>
        <p:blipFill>
          <a:blip r:embed="rId1"/>
          <a:stretch/>
        </p:blipFill>
        <p:spPr>
          <a:xfrm>
            <a:off x="0" y="0"/>
            <a:ext cx="9325080" cy="6935760"/>
          </a:xfrm>
          <a:prstGeom prst="rect">
            <a:avLst/>
          </a:prstGeom>
          <a:ln w="0">
            <a:noFill/>
          </a:ln>
        </p:spPr>
      </p:pic>
      <p:sp>
        <p:nvSpPr>
          <p:cNvPr id="101" name="內容版面配置區 11"/>
          <p:cNvSpPr/>
          <p:nvPr/>
        </p:nvSpPr>
        <p:spPr>
          <a:xfrm>
            <a:off x="928800" y="928800"/>
            <a:ext cx="7500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我們常怕打擾別人，而忽略要打個電話問候對方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久而久之，漸漸疏遠、漸漸陌生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直到有一天，連方的電話號碼都忘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或者，怕對方早忘了你，而沒有勇氣再打電話給他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灯片编号占位符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93B4-F4B3-4B5A-9152-1C4BB92D7AA1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打电话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276720" y="4572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9" name="Picture 10" descr="1750131-l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1"/>
          <p:cNvSpPr/>
          <p:nvPr/>
        </p:nvSpPr>
        <p:spPr>
          <a:xfrm>
            <a:off x="755640" y="857160"/>
            <a:ext cx="488808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想現代人應該都是寂寞的吧？因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總覺得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寂寞，與有沒有人陪在身邊，無關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那是一種心靈上的空虛，總在最脆弱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時分竄上心頭，引發出內心深層的孤寂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其實不很懂，為什麼我會覺得寂寞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大多時候，是忙得心力交瘁的，而不管如何地繁忙，我總是知道身邊至少還有個他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4FD7-547D-4221-B052-2D4E0A11AE77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advTm="22000">
    <p:diamond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17" name="Picture 11" descr="2930017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9"/>
          <p:cNvSpPr/>
          <p:nvPr/>
        </p:nvSpPr>
        <p:spPr>
          <a:xfrm>
            <a:off x="1447920" y="2666880"/>
            <a:ext cx="6553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但為什麼還是會寂寞？我想或許是我太重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“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”不單單是愛情，還有親情和友情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甚至還有一些無法定義的感情，都是情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我常捫心自問：「有這麼忙嗎？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廣告詞中的：「再忙，也要和你喝杯咖啡。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說得多好啊！若有心，應該是這種境界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有時候，抓起話筒想和他說說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卻又顧忌到他是否有時間與我說話呢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最後，還是放下了電話。只是，偶爾我會感到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9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C130-AB75-4372-AD8F-1C2A74A98D35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为什么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20000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25" name="Picture 8" descr="2486586-lg"/>
          <p:cNvPicPr/>
          <p:nvPr/>
        </p:nvPicPr>
        <p:blipFill>
          <a:blip r:embed="rId1"/>
          <a:stretch/>
        </p:blipFill>
        <p:spPr>
          <a:xfrm>
            <a:off x="0" y="-71280"/>
            <a:ext cx="9325080" cy="6929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1143000" y="3143160"/>
            <a:ext cx="5823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每當想起其他的好朋友時，心頭總是悵然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曾經和我走過生命中某一段過程的朋友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都很想念，不知道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現在好嗎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是否偶爾也會想起我呢？或許將會永遠斷了聯絡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但我永遠都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過得好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能夠幸福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7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1070-E936-48B2-BCB2-03FC392DC66C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想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trips dir="r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33" name="Picture 8" descr="1903531-lg"/>
          <p:cNvPicPr/>
          <p:nvPr/>
        </p:nvPicPr>
        <p:blipFill>
          <a:blip r:embed="rId1"/>
          <a:stretch/>
        </p:blipFill>
        <p:spPr>
          <a:xfrm>
            <a:off x="-108000" y="-27000"/>
            <a:ext cx="9325080" cy="69325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428760" y="3714840"/>
            <a:ext cx="5603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看完這篇文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...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大家不管多忙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都不要忘了找一個時間和朋友聚一聚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或者通個電話問候一下吧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這世界有許多人在關心你，也需要你的關心呢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5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D00A-4029-419D-AA0E-2517AC093ACA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聚一聚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9900"/>
                </a:solidFill>
                <a:uFillTx/>
                <a:latin typeface="黑体"/>
                <a:hlinkClick r:id="rId2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黑体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newsflash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42" name="Picture 8" descr="3026017-lg"/>
          <p:cNvPicPr/>
          <p:nvPr/>
        </p:nvPicPr>
        <p:blipFill>
          <a:blip r:embed="rId1"/>
          <a:stretch/>
        </p:blipFill>
        <p:spPr>
          <a:xfrm>
            <a:off x="-144360" y="0"/>
            <a:ext cx="9396360" cy="6875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3429000" y="1066680"/>
            <a:ext cx="526896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不過感謝現在有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這麼方便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雖然隨著時間的流逝友情已不復當年濃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但總是能知道一下對方的消息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有的時候並不是真的寄信的內容多吸引人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4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E09D-A690-4EF3-AA69-FC6CC71E1F7F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e-mail</a:t>
            </a: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多方便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plit dir="out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50" name="Picture 14" descr="2568684-lg"/>
          <p:cNvPicPr/>
          <p:nvPr/>
        </p:nvPicPr>
        <p:blipFill>
          <a:blip r:embed="rId1"/>
          <a:stretch/>
        </p:blipFill>
        <p:spPr>
          <a:xfrm>
            <a:off x="0" y="-7920"/>
            <a:ext cx="9396360" cy="6865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3"/>
          <p:cNvSpPr/>
          <p:nvPr/>
        </p:nvSpPr>
        <p:spPr>
          <a:xfrm>
            <a:off x="685800" y="685800"/>
            <a:ext cx="4724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在乎的是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看到誰寄</a:t>
            </a:r>
            <a:r>
              <a:rPr b="1" lang="en-US" sz="3600" spc="-1" strike="noStrike">
                <a:solidFill>
                  <a:srgbClr val="ffff00"/>
                </a:solidFill>
                <a:latin typeface="DFKai-SB"/>
                <a:ea typeface="DFKai-SB"/>
              </a:rPr>
              <a:t>E-mail</a:t>
            </a: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來了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DFKai-SB"/>
                <a:ea typeface="DFKai-SB"/>
              </a:rPr>
              <a:t>感覺真好</a:t>
            </a:r>
            <a:r>
              <a:rPr b="1" lang="en-US" sz="3600" spc="-1" strike="noStrike">
                <a:solidFill>
                  <a:srgbClr val="ff0000"/>
                </a:solidFill>
                <a:latin typeface="DFKai-SB"/>
                <a:ea typeface="DFKai-SB"/>
              </a:rPr>
              <a:t>......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2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6FE7-C11D-4887-A839-4F5179F04417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感觉真好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6:01:0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20:24Z</dcterms:modified>
  <cp:revision>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