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818-5A3D-42D0-8D2B-22ED72EC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03C-3092-40C1-9567-4DAC2618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077-97A3-4F6C-979E-B6FD2956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B8A-8743-42FA-A02F-D0E5A20D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257-DEAE-4DC1-AA6E-92CAB491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969-1EB6-4F6E-8DBE-6FD7BA91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B09-A69D-4FEE-8273-D46359DB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D0D-E455-459F-A5D8-1189BEF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806-9F4C-4D18-898C-80D6A679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F43-701A-4CD2-A092-B44693A9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973-7174-4A94-B8D8-FDCDBD69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E3C-12B1-4CEA-BD0A-6A3898C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DED5-71F5-4149-B4C6-5D1DD4FBD8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16000" y="260280"/>
            <a:ext cx="6215040" cy="1627200"/>
            <a:chOff x="1116000" y="260280"/>
            <a:chExt cx="6215040" cy="1627200"/>
          </a:xfrm>
        </p:grpSpPr>
        <p:sp>
          <p:nvSpPr>
            <p:cNvPr id="42" name="TextBox 5"/>
            <p:cNvSpPr/>
            <p:nvPr/>
          </p:nvSpPr>
          <p:spPr>
            <a:xfrm>
              <a:off x="1116000" y="260280"/>
              <a:ext cx="592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硬笔行书简体"/>
                  <a:ea typeface="方正硬笔行书简体"/>
                </a:rPr>
                <a:t>怀旧风格</a:t>
              </a:r>
              <a:r>
                <a:rPr b="0" lang="en-US" sz="4400" spc="-1" strike="noStrike">
                  <a:solidFill>
                    <a:srgbClr val="000000"/>
                  </a:solidFill>
                  <a:latin typeface="方正硬笔行书简体"/>
                  <a:ea typeface="方正硬笔行书简体"/>
                </a:rPr>
                <a:t>PPT</a:t>
              </a:r>
              <a:r>
                <a:rPr b="0" lang="en-US" sz="4000" spc="-1" strike="noStrike">
                  <a:solidFill>
                    <a:srgbClr val="000000"/>
                  </a:solidFill>
                  <a:latin typeface="方正硬笔行书简体"/>
                  <a:ea typeface="方正硬笔行书简体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7"/>
            <p:cNvSpPr/>
            <p:nvPr/>
          </p:nvSpPr>
          <p:spPr>
            <a:xfrm>
              <a:off x="1116000" y="1260000"/>
              <a:ext cx="62150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方正硬笔行书简体"/>
                  <a:ea typeface="方正硬笔行书简体"/>
                </a:rPr>
                <a:t>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3786120" y="4048200"/>
            <a:ext cx="2500560" cy="523800"/>
            <a:chOff x="3786120" y="4048200"/>
            <a:chExt cx="2500560" cy="523800"/>
          </a:xfrm>
        </p:grpSpPr>
        <p:sp>
          <p:nvSpPr>
            <p:cNvPr id="45" name="矩形 5"/>
            <p:cNvSpPr/>
            <p:nvPr/>
          </p:nvSpPr>
          <p:spPr>
            <a:xfrm>
              <a:off x="3786120" y="4048200"/>
              <a:ext cx="58140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6"/>
            <p:cNvSpPr/>
            <p:nvPr/>
          </p:nvSpPr>
          <p:spPr>
            <a:xfrm>
              <a:off x="4425840" y="4048200"/>
              <a:ext cx="58140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7"/>
            <p:cNvSpPr/>
            <p:nvPr/>
          </p:nvSpPr>
          <p:spPr>
            <a:xfrm>
              <a:off x="5065560" y="4048200"/>
              <a:ext cx="58140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d0d0d"/>
                  </a:solidFill>
                  <a:latin typeface="方正硬笔行书简体"/>
                  <a:ea typeface="方正硬笔行书简体"/>
                </a:rPr>
                <a:t>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8"/>
            <p:cNvSpPr/>
            <p:nvPr/>
          </p:nvSpPr>
          <p:spPr>
            <a:xfrm>
              <a:off x="5705280" y="4048200"/>
              <a:ext cx="58140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2" descr="C:\Documents and Settings\Administrator\桌面\PNG图标（三）\04.png"/>
          <p:cNvPicPr/>
          <p:nvPr/>
        </p:nvPicPr>
        <p:blipFill>
          <a:blip r:embed="rId2"/>
          <a:stretch/>
        </p:blipFill>
        <p:spPr>
          <a:xfrm rot="21421200">
            <a:off x="5922720" y="2358720"/>
            <a:ext cx="2881080" cy="216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7"/>
          <p:cNvSpPr/>
          <p:nvPr/>
        </p:nvSpPr>
        <p:spPr>
          <a:xfrm>
            <a:off x="1428840" y="2357280"/>
            <a:ext cx="6429240" cy="69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PNG图标（三）\04.png"/>
          <p:cNvPicPr/>
          <p:nvPr/>
        </p:nvPicPr>
        <p:blipFill>
          <a:blip r:embed="rId2"/>
          <a:stretch/>
        </p:blipFill>
        <p:spPr>
          <a:xfrm rot="21410400">
            <a:off x="6483240" y="3927600"/>
            <a:ext cx="2608200" cy="195552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1285920"/>
            <a:ext cx="200016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istrator\桌面\PNG图标（三）\05.png"/>
          <p:cNvPicPr/>
          <p:nvPr/>
        </p:nvPicPr>
        <p:blipFill>
          <a:blip r:embed="rId2"/>
          <a:stretch/>
        </p:blipFill>
        <p:spPr>
          <a:xfrm>
            <a:off x="23760" y="1643040"/>
            <a:ext cx="9120240" cy="5019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istrator\桌面\PNG图标（三）\04.png"/>
          <p:cNvPicPr/>
          <p:nvPr/>
        </p:nvPicPr>
        <p:blipFill>
          <a:blip r:embed="rId3"/>
          <a:stretch/>
        </p:blipFill>
        <p:spPr>
          <a:xfrm rot="21410400">
            <a:off x="5195880" y="2284560"/>
            <a:ext cx="2608200" cy="1955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214720" y="2928960"/>
            <a:ext cx="4143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istrator\桌面\PNG图标（三）\04.png"/>
          <p:cNvPicPr/>
          <p:nvPr/>
        </p:nvPicPr>
        <p:blipFill>
          <a:blip r:embed="rId2"/>
          <a:stretch/>
        </p:blipFill>
        <p:spPr>
          <a:xfrm rot="21410400">
            <a:off x="4981680" y="689040"/>
            <a:ext cx="2608200" cy="1955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928880" y="2833560"/>
            <a:ext cx="5786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2143080" y="1833480"/>
            <a:ext cx="714600" cy="714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2928960" y="1833480"/>
            <a:ext cx="714240" cy="714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714840" y="1833480"/>
            <a:ext cx="714240" cy="714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d0d0d"/>
                </a:solidFill>
                <a:latin typeface="方正硬笔行书简体"/>
                <a:ea typeface="方正硬笔行书简体"/>
              </a:rPr>
              <a:t>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4500720" y="1833480"/>
            <a:ext cx="714240" cy="714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071800" y="5143680"/>
            <a:ext cx="485748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istrator\桌面\PNG图标（三）\04.png"/>
          <p:cNvPicPr/>
          <p:nvPr/>
        </p:nvPicPr>
        <p:blipFill>
          <a:blip r:embed="rId2"/>
          <a:stretch/>
        </p:blipFill>
        <p:spPr>
          <a:xfrm rot="21410400">
            <a:off x="5778000" y="2774880"/>
            <a:ext cx="3237120" cy="24242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214280" y="1071720"/>
            <a:ext cx="1643400" cy="1714320"/>
            <a:chOff x="1214280" y="1071720"/>
            <a:chExt cx="1643400" cy="1714320"/>
          </a:xfrm>
        </p:grpSpPr>
        <p:sp>
          <p:nvSpPr>
            <p:cNvPr id="66" name="矩形 4"/>
            <p:cNvSpPr/>
            <p:nvPr/>
          </p:nvSpPr>
          <p:spPr>
            <a:xfrm>
              <a:off x="1214280" y="1262160"/>
              <a:ext cx="71460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6"/>
            <p:cNvSpPr/>
            <p:nvPr/>
          </p:nvSpPr>
          <p:spPr>
            <a:xfrm>
              <a:off x="1214280" y="2071800"/>
              <a:ext cx="71460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"/>
            <p:cNvSpPr/>
            <p:nvPr/>
          </p:nvSpPr>
          <p:spPr>
            <a:xfrm>
              <a:off x="2000160" y="2071800"/>
              <a:ext cx="71460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菱形 10"/>
            <p:cNvSpPr/>
            <p:nvPr/>
          </p:nvSpPr>
          <p:spPr>
            <a:xfrm>
              <a:off x="1928880" y="1071720"/>
              <a:ext cx="928800" cy="928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d0d0d"/>
                  </a:solidFill>
                  <a:latin typeface="方正硬笔行书简体"/>
                  <a:ea typeface="方正硬笔行书简体"/>
                </a:rPr>
                <a:t>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1"/>
          <p:cNvSpPr/>
          <p:nvPr/>
        </p:nvSpPr>
        <p:spPr>
          <a:xfrm>
            <a:off x="1071720" y="2909880"/>
            <a:ext cx="5786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Nostalgic  style  PP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 flipV="1">
            <a:off x="1214280" y="5168880"/>
            <a:ext cx="50007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0360" y="404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143000" y="1285920"/>
            <a:ext cx="1500120" cy="3166920"/>
            <a:chOff x="1143000" y="1285920"/>
            <a:chExt cx="1500120" cy="3166920"/>
          </a:xfrm>
        </p:grpSpPr>
        <p:sp>
          <p:nvSpPr>
            <p:cNvPr id="74" name="矩形 4"/>
            <p:cNvSpPr/>
            <p:nvPr/>
          </p:nvSpPr>
          <p:spPr>
            <a:xfrm>
              <a:off x="1143000" y="1285920"/>
              <a:ext cx="71424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"/>
            <p:cNvSpPr/>
            <p:nvPr/>
          </p:nvSpPr>
          <p:spPr>
            <a:xfrm>
              <a:off x="1143000" y="2095560"/>
              <a:ext cx="71424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"/>
            <p:cNvSpPr/>
            <p:nvPr/>
          </p:nvSpPr>
          <p:spPr>
            <a:xfrm>
              <a:off x="1785960" y="3738600"/>
              <a:ext cx="71424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菱形 10"/>
            <p:cNvSpPr/>
            <p:nvPr/>
          </p:nvSpPr>
          <p:spPr>
            <a:xfrm>
              <a:off x="1714320" y="2738520"/>
              <a:ext cx="928800" cy="928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d0d0d"/>
                  </a:solidFill>
                  <a:latin typeface="方正硬笔行书简体"/>
                  <a:ea typeface="方正硬笔行书简体"/>
                </a:rPr>
                <a:t>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86040" y="2428920"/>
            <a:ext cx="5786640" cy="5213160"/>
            <a:chOff x="2786040" y="2428920"/>
            <a:chExt cx="5786640" cy="5213160"/>
          </a:xfrm>
        </p:grpSpPr>
        <p:sp>
          <p:nvSpPr>
            <p:cNvPr id="79" name="TextBox 11"/>
            <p:cNvSpPr/>
            <p:nvPr/>
          </p:nvSpPr>
          <p:spPr>
            <a:xfrm>
              <a:off x="2786040" y="2428920"/>
              <a:ext cx="578664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硬笔行书简体"/>
                  <a:ea typeface="方正硬笔行书简体"/>
                </a:rPr>
                <a:t>Nostalgic  style  PPT temp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硬笔行书简体"/>
                  <a:ea typeface="方正硬笔行书简体"/>
                </a:rPr>
                <a:t>Nostalgic  style  PPT temp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硬笔行书简体"/>
                  <a:ea typeface="方正硬笔行书简体"/>
                </a:rPr>
                <a:t>Nostalgic  style  PPT temp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硬笔行书简体"/>
                  <a:ea typeface="方正硬笔行书简体"/>
                </a:rPr>
                <a:t>Nostalgic  style  PPT temp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硬笔行书简体"/>
                  <a:ea typeface="方正硬笔行书简体"/>
                </a:rPr>
                <a:t>Nostalgic  style  PPT temp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3"/>
            <p:cNvSpPr/>
            <p:nvPr/>
          </p:nvSpPr>
          <p:spPr>
            <a:xfrm flipV="1">
              <a:off x="2928600" y="4687200"/>
              <a:ext cx="500076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2" descr="C:\Documents and Settings\Administrator\桌面\PNG图标（三）\04.png"/>
          <p:cNvPicPr/>
          <p:nvPr/>
        </p:nvPicPr>
        <p:blipFill>
          <a:blip r:embed="rId2"/>
          <a:stretch/>
        </p:blipFill>
        <p:spPr>
          <a:xfrm rot="20890200">
            <a:off x="1924200" y="1542960"/>
            <a:ext cx="17269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643200" y="1785960"/>
            <a:ext cx="1643040" cy="1714320"/>
            <a:chOff x="3643200" y="1785960"/>
            <a:chExt cx="1643040" cy="1714320"/>
          </a:xfrm>
        </p:grpSpPr>
        <p:sp>
          <p:nvSpPr>
            <p:cNvPr id="83" name="矩形 14"/>
            <p:cNvSpPr/>
            <p:nvPr/>
          </p:nvSpPr>
          <p:spPr>
            <a:xfrm>
              <a:off x="3643200" y="1976400"/>
              <a:ext cx="71424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>
              <a:off x="3643200" y="2786040"/>
              <a:ext cx="71424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>
              <a:off x="4429080" y="2786040"/>
              <a:ext cx="71424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方正硬笔行书简体"/>
                  <a:ea typeface="方正硬笔行书简体"/>
                </a:rPr>
                <a:t>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菱形 17"/>
            <p:cNvSpPr/>
            <p:nvPr/>
          </p:nvSpPr>
          <p:spPr>
            <a:xfrm>
              <a:off x="4357440" y="1785960"/>
              <a:ext cx="928800" cy="928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d0d0d"/>
                  </a:solidFill>
                  <a:latin typeface="方正硬笔行书简体"/>
                  <a:ea typeface="方正硬笔行书简体"/>
                </a:rPr>
                <a:t>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18"/>
          <p:cNvSpPr/>
          <p:nvPr/>
        </p:nvSpPr>
        <p:spPr>
          <a:xfrm>
            <a:off x="3571920" y="350028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THANKS</a:t>
            </a:r>
            <a:r>
              <a:rPr b="0" lang="en-US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Administrator\桌面\PNG图标（三）\04.png"/>
          <p:cNvPicPr/>
          <p:nvPr/>
        </p:nvPicPr>
        <p:blipFill>
          <a:blip r:embed="rId2"/>
          <a:stretch/>
        </p:blipFill>
        <p:spPr>
          <a:xfrm rot="20890200">
            <a:off x="4987800" y="3153960"/>
            <a:ext cx="8748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DCF-3CC7-4772-A437-985F4DE7E1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7:25:5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04:52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