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3E5-0AA7-47FD-AD82-AF4BAF5C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238-D4C4-4B27-9BA2-DAD6548E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602-22F2-48EA-B06C-FF6BAB4A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C16-733C-4C22-96F3-DACF5C39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BD1-6579-4F6A-9E96-C68B2EB6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A97-BB34-460C-9D0B-DF73F5DD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681-D41A-4719-A8B5-F011EA7D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898-9BBB-40C8-B9E1-6EE8005C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492-0940-404D-BB99-FF6D1421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B41-F73F-495C-82EE-E56FFFD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1A6-55F0-4D2C-82F7-A0E0E1F6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4FF-CFB2-47F8-88DC-2D15987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A95C-74F3-418D-84F7-E3CE2FB6E7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757D-95CB-41D5-85C0-346907A503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video" Target="file:///tmp/home/.config/libreoffice/4/user/gallery/media1.wma" TargetMode="External"/><Relationship Id="rId4" Type="http://schemas.microsoft.com/office/2007/relationships/media" Target="file:///tmp/home/.config/libreoffice/4/user/gallery/media1.wma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-36360" y="22096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179280" y="2425680"/>
            <a:ext cx="8785440" cy="863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4369320" y="193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392040" y="3794040"/>
            <a:ext cx="1430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fffff"/>
                </a:solidFill>
                <a:latin typeface="方正粗活意繁体"/>
                <a:ea typeface="方正粗活意繁体"/>
              </a:rPr>
              <a:t>恭贺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31280" y="2498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活意繁体"/>
                <a:ea typeface="方正粗活意繁体"/>
              </a:rPr>
              <a:t>男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4968360" y="2498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活意繁体"/>
                <a:ea typeface="方正粗活意繁体"/>
              </a:rPr>
              <a:t>女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5289480" y="393876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粗活意繁体"/>
                <a:ea typeface="方正粗活意繁体"/>
              </a:rPr>
              <a:t>新婚快乐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28520" y="1936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婚礼主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4.44444E-006 L -0.37014 -4.44444E-006 E">
                                      <p:cBhvr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任意多边形 1"/>
          <p:cNvSpPr/>
          <p:nvPr/>
        </p:nvSpPr>
        <p:spPr>
          <a:xfrm>
            <a:off x="-755640" y="2173320"/>
            <a:ext cx="10656720" cy="13683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25"/>
          <p:cNvSpPr/>
          <p:nvPr/>
        </p:nvSpPr>
        <p:spPr>
          <a:xfrm>
            <a:off x="-755640" y="2317680"/>
            <a:ext cx="10656720" cy="10796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26"/>
          <p:cNvSpPr/>
          <p:nvPr/>
        </p:nvSpPr>
        <p:spPr>
          <a:xfrm>
            <a:off x="-755640" y="2460600"/>
            <a:ext cx="10656720" cy="7923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27"/>
          <p:cNvSpPr/>
          <p:nvPr/>
        </p:nvSpPr>
        <p:spPr>
          <a:xfrm>
            <a:off x="-755640" y="2028960"/>
            <a:ext cx="10656720" cy="165708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 flipH="1">
            <a:off x="7209000" y="0"/>
            <a:ext cx="19476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0" y="0"/>
            <a:ext cx="183528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20988600">
            <a:off x="1168200" y="475920"/>
            <a:ext cx="1790640" cy="2389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61" name="Picture 2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697200">
            <a:off x="6230520" y="2831760"/>
            <a:ext cx="1790640" cy="2389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62" name="矩形 29"/>
          <p:cNvSpPr/>
          <p:nvPr/>
        </p:nvSpPr>
        <p:spPr>
          <a:xfrm>
            <a:off x="1562400" y="4032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英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9"/>
          <p:cNvSpPr/>
          <p:nvPr/>
        </p:nvSpPr>
        <p:spPr>
          <a:xfrm>
            <a:off x="6745680" y="747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潇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心形 41"/>
          <p:cNvSpPr/>
          <p:nvPr/>
        </p:nvSpPr>
        <p:spPr>
          <a:xfrm rot="21018600">
            <a:off x="4247640" y="2568600"/>
            <a:ext cx="648000" cy="576360"/>
          </a:xfrm>
          <a:custGeom>
            <a:avLst/>
            <a:gdLst>
              <a:gd name="textAreaLeft" fmla="*/ 152280 w 648000"/>
              <a:gd name="textAreaRight" fmla="*/ 495360 w 648000"/>
              <a:gd name="textAreaTop" fmla="*/ 67680 h 576360"/>
              <a:gd name="textAreaBottom" fmla="*/ 361440 h 57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42"/>
          <p:cNvSpPr/>
          <p:nvPr/>
        </p:nvSpPr>
        <p:spPr>
          <a:xfrm>
            <a:off x="5178600" y="2689200"/>
            <a:ext cx="1130040" cy="113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43"/>
          <p:cNvSpPr/>
          <p:nvPr/>
        </p:nvSpPr>
        <p:spPr>
          <a:xfrm>
            <a:off x="4940280" y="1220760"/>
            <a:ext cx="901800" cy="9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4"/>
          <p:cNvSpPr/>
          <p:nvPr/>
        </p:nvSpPr>
        <p:spPr>
          <a:xfrm>
            <a:off x="3524400" y="3693960"/>
            <a:ext cx="104760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45"/>
          <p:cNvSpPr/>
          <p:nvPr/>
        </p:nvSpPr>
        <p:spPr>
          <a:xfrm>
            <a:off x="3419640" y="517680"/>
            <a:ext cx="1152360" cy="11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FED-8F23-4660-98E8-940A6A940A33}" type="slidenum">
              <a:t>10</a:t>
            </a:fld>
          </a:p>
        </p:txBody>
      </p:sp>
    </p:spTree>
  </p:cSld>
  <p:transition spd="med" advTm="0"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mph" presetID="7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643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70c0"/>
                                      </p:to>
                                    </p:animClr>
                                    <p:set>
                                      <p:cBhvr>
                                        <p:cTn id="644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7" presetSubtype="2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646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647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mph" presetID="7" presetSubtype="2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649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650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mph" presetID="7" presetSubtype="2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652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53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mph" presetID="7" presetSubtype="2">
                                  <p:stCondLst>
                                    <p:cond delay="4750"/>
                                  </p:stCondLst>
                                  <p:childTnLst>
                                    <p:animClr clrSpc="rgb">
                                      <p:cBhvr>
                                        <p:cTn id="667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8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mph" presetID="7" presetSubtype="2">
                                  <p:stCondLst>
                                    <p:cond delay="5050"/>
                                  </p:stCondLst>
                                  <p:childTnLst>
                                    <p:animClr clrSpc="rgb">
                                      <p:cBhvr>
                                        <p:cTn id="670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671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mph" presetID="7" presetSubtype="2">
                                  <p:stCondLst>
                                    <p:cond delay="5350"/>
                                  </p:stCondLst>
                                  <p:childTnLst>
                                    <p:animClr clrSpc="rgb">
                                      <p:cBhvr>
                                        <p:cTn id="673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674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mph" presetID="7" presetSubtype="2">
                                  <p:stCondLst>
                                    <p:cond delay="5650"/>
                                  </p:stCondLst>
                                  <p:childTnLst>
                                    <p:animClr clrSpc="rgb">
                                      <p:cBhvr>
                                        <p:cTn id="676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7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xit" presetID="10">
                                  <p:stCondLst>
                                    <p:cond delay="6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xit" presetID="10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mph" presetID="26" repeatCount="8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0" dur="50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任意多边形 2"/>
          <p:cNvSpPr/>
          <p:nvPr/>
        </p:nvSpPr>
        <p:spPr>
          <a:xfrm flipV="1">
            <a:off x="-684000" y="1919880"/>
            <a:ext cx="10514160" cy="187308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3"/>
          <p:cNvSpPr/>
          <p:nvPr/>
        </p:nvSpPr>
        <p:spPr>
          <a:xfrm flipV="1">
            <a:off x="-684000" y="2116800"/>
            <a:ext cx="10514160" cy="14792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4"/>
          <p:cNvSpPr/>
          <p:nvPr/>
        </p:nvSpPr>
        <p:spPr>
          <a:xfrm flipV="1">
            <a:off x="-684000" y="2315880"/>
            <a:ext cx="10514160" cy="108432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5"/>
          <p:cNvSpPr/>
          <p:nvPr/>
        </p:nvSpPr>
        <p:spPr>
          <a:xfrm flipV="1">
            <a:off x="-684000" y="2500920"/>
            <a:ext cx="10514160" cy="71100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6"/>
          <p:cNvSpPr/>
          <p:nvPr/>
        </p:nvSpPr>
        <p:spPr>
          <a:xfrm flipH="1">
            <a:off x="7209000" y="0"/>
            <a:ext cx="19476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7"/>
          <p:cNvSpPr/>
          <p:nvPr/>
        </p:nvSpPr>
        <p:spPr>
          <a:xfrm>
            <a:off x="0" y="0"/>
            <a:ext cx="183528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868200">
            <a:off x="6281280" y="476280"/>
            <a:ext cx="1790640" cy="2389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76" name="Picture 2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20734800">
            <a:off x="1230480" y="2855880"/>
            <a:ext cx="1790640" cy="2389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77" name="矩形 8"/>
          <p:cNvSpPr/>
          <p:nvPr/>
        </p:nvSpPr>
        <p:spPr>
          <a:xfrm>
            <a:off x="6675840" y="4124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美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9"/>
          <p:cNvSpPr/>
          <p:nvPr/>
        </p:nvSpPr>
        <p:spPr>
          <a:xfrm>
            <a:off x="1624320" y="746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温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心形 10"/>
          <p:cNvSpPr/>
          <p:nvPr/>
        </p:nvSpPr>
        <p:spPr>
          <a:xfrm rot="619800">
            <a:off x="4247640" y="2568600"/>
            <a:ext cx="648000" cy="576360"/>
          </a:xfrm>
          <a:custGeom>
            <a:avLst/>
            <a:gdLst>
              <a:gd name="textAreaLeft" fmla="*/ 152280 w 648000"/>
              <a:gd name="textAreaRight" fmla="*/ 495360 w 648000"/>
              <a:gd name="textAreaTop" fmla="*/ 67680 h 576360"/>
              <a:gd name="textAreaBottom" fmla="*/ 361440 h 57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1"/>
          <p:cNvSpPr/>
          <p:nvPr/>
        </p:nvSpPr>
        <p:spPr>
          <a:xfrm>
            <a:off x="5178600" y="2689200"/>
            <a:ext cx="1130040" cy="113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2"/>
          <p:cNvSpPr/>
          <p:nvPr/>
        </p:nvSpPr>
        <p:spPr>
          <a:xfrm>
            <a:off x="4940280" y="1220760"/>
            <a:ext cx="901800" cy="9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3"/>
          <p:cNvSpPr/>
          <p:nvPr/>
        </p:nvSpPr>
        <p:spPr>
          <a:xfrm>
            <a:off x="3524400" y="3693960"/>
            <a:ext cx="104760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4"/>
          <p:cNvSpPr/>
          <p:nvPr/>
        </p:nvSpPr>
        <p:spPr>
          <a:xfrm>
            <a:off x="3419640" y="517680"/>
            <a:ext cx="1152360" cy="11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-108000" y="-93600"/>
            <a:ext cx="9360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19C-FCB2-4CB7-8C45-F6D1E9EC6105}" type="slidenum">
              <a:t>11</a:t>
            </a:fld>
          </a:p>
        </p:txBody>
      </p:sp>
    </p:spTree>
  </p:cSld>
  <p:transition spd="med" advTm="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7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mph" presetID="7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748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94429"/>
                                      </p:to>
                                    </p:animClr>
                                    <p:set>
                                      <p:cBhvr>
                                        <p:cTn id="749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mph" presetID="7" presetSubtype="2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751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030a0"/>
                                      </p:to>
                                    </p:animClr>
                                    <p:set>
                                      <p:cBhvr>
                                        <p:cTn id="752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mph" presetID="7" presetSubtype="2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754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755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mph" presetID="7" presetSubtype="2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757" dur="2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b0f0"/>
                                      </p:to>
                                    </p:animClr>
                                    <p:set>
                                      <p:cBhvr>
                                        <p:cTn id="758" dur="2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mph" presetID="7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772" dur="2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773" dur="2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mph" presetID="7" presetSubtype="2">
                                  <p:stCondLst>
                                    <p:cond delay="5100"/>
                                  </p:stCondLst>
                                  <p:childTnLst>
                                    <p:animClr clrSpc="rgb">
                                      <p:cBhvr>
                                        <p:cTn id="775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6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7" presetSubtype="2">
                                  <p:stCondLst>
                                    <p:cond delay="5400"/>
                                  </p:stCondLst>
                                  <p:childTnLst>
                                    <p:animClr clrSpc="rgb">
                                      <p:cBhvr>
                                        <p:cTn id="778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779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mph" presetID="7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781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2" dur="2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xit" presetID="10">
                                  <p:stCondLst>
                                    <p:cond delay="6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" dur="2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10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" dur="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1" dur="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mph" presetID="26" repeatCount="7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10">
                                  <p:stCondLst>
                                    <p:cond delay="7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0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D:\hust work bag\个人\PPT演义\最近的作品\刘老师的婚礼PPT\图片\箭头8.png"/>
          <p:cNvPicPr/>
          <p:nvPr/>
        </p:nvPicPr>
        <p:blipFill>
          <a:blip r:embed="rId1"/>
          <a:stretch/>
        </p:blipFill>
        <p:spPr>
          <a:xfrm rot="368400">
            <a:off x="4174920" y="260280"/>
            <a:ext cx="1076040" cy="2584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D:\hust work bag\个人\PPT演义\最近的作品\刘老师的婚礼PPT\图片\箭头9.png"/>
          <p:cNvPicPr/>
          <p:nvPr/>
        </p:nvPicPr>
        <p:blipFill>
          <a:blip r:embed="rId2"/>
          <a:stretch/>
        </p:blipFill>
        <p:spPr>
          <a:xfrm rot="9717600">
            <a:off x="4509720" y="2866320"/>
            <a:ext cx="539640" cy="1298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D:\hust work bag\个人\PPT演义\最近的作品\刘老师的婚礼PPT\图片\箭头1.png"/>
          <p:cNvPicPr/>
          <p:nvPr/>
        </p:nvPicPr>
        <p:blipFill>
          <a:blip r:embed="rId3"/>
          <a:stretch/>
        </p:blipFill>
        <p:spPr>
          <a:xfrm rot="18111600">
            <a:off x="3301920" y="1304640"/>
            <a:ext cx="675000" cy="2004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D:\hust work bag\个人\PPT演义\最近的作品\刘老师的婚礼PPT\图片\箭头2.png"/>
          <p:cNvPicPr/>
          <p:nvPr/>
        </p:nvPicPr>
        <p:blipFill>
          <a:blip r:embed="rId4"/>
          <a:stretch/>
        </p:blipFill>
        <p:spPr>
          <a:xfrm rot="5026200">
            <a:off x="5105880" y="1896120"/>
            <a:ext cx="714240" cy="1716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D:\hust work bag\个人\PPT演义\最近的作品\刘老师的婚礼PPT\图片\箭头3.png"/>
          <p:cNvPicPr/>
          <p:nvPr/>
        </p:nvPicPr>
        <p:blipFill>
          <a:blip r:embed="rId5"/>
          <a:stretch/>
        </p:blipFill>
        <p:spPr>
          <a:xfrm rot="12898200">
            <a:off x="3765240" y="2676240"/>
            <a:ext cx="698400" cy="1679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D:\hust work bag\个人\PPT演义\最近的作品\刘老师的婚礼PPT\图片\箭头4.png"/>
          <p:cNvPicPr/>
          <p:nvPr/>
        </p:nvPicPr>
        <p:blipFill>
          <a:blip r:embed="rId6"/>
          <a:stretch/>
        </p:blipFill>
        <p:spPr>
          <a:xfrm rot="15975000">
            <a:off x="3364200" y="2091600"/>
            <a:ext cx="696960" cy="1673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D:\hust work bag\个人\PPT演义\最近的作品\刘老师的婚礼PPT\图片\箭头5.png"/>
          <p:cNvPicPr/>
          <p:nvPr/>
        </p:nvPicPr>
        <p:blipFill>
          <a:blip r:embed="rId7"/>
          <a:stretch/>
        </p:blipFill>
        <p:spPr>
          <a:xfrm rot="7506000">
            <a:off x="5007240" y="2353320"/>
            <a:ext cx="938160" cy="225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D:\hust work bag\个人\PPT演义\最近的作品\刘老师的婚礼PPT\图片\箭头6.png"/>
          <p:cNvPicPr/>
          <p:nvPr/>
        </p:nvPicPr>
        <p:blipFill>
          <a:blip r:embed="rId8"/>
          <a:stretch/>
        </p:blipFill>
        <p:spPr>
          <a:xfrm rot="2568600">
            <a:off x="4863600" y="1353600"/>
            <a:ext cx="711360" cy="171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D:\hust work bag\个人\PPT演义\最近的作品\刘老师的婚礼PPT\图片\箭头7.png"/>
          <p:cNvPicPr/>
          <p:nvPr/>
        </p:nvPicPr>
        <p:blipFill>
          <a:blip r:embed="rId9"/>
          <a:stretch/>
        </p:blipFill>
        <p:spPr>
          <a:xfrm rot="20145000">
            <a:off x="3990960" y="1504440"/>
            <a:ext cx="552600" cy="13287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"/>
          <p:cNvSpPr/>
          <p:nvPr/>
        </p:nvSpPr>
        <p:spPr>
          <a:xfrm>
            <a:off x="3975120" y="2306520"/>
            <a:ext cx="1203480" cy="1071720"/>
          </a:xfrm>
          <a:custGeom>
            <a:avLst/>
            <a:gdLst>
              <a:gd name="textAreaLeft" fmla="*/ 420120 w 1203480"/>
              <a:gd name="textAreaRight" fmla="*/ 783360 w 1203480"/>
              <a:gd name="textAreaTop" fmla="*/ 374040 h 1071720"/>
              <a:gd name="textAreaBottom" fmla="*/ 6976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279" y="11679"/>
                </a:lnTo>
                <a:lnTo>
                  <a:pt x="786" y="14846"/>
                </a:lnTo>
                <a:lnTo>
                  <a:pt x="6937" y="13309"/>
                </a:lnTo>
                <a:lnTo>
                  <a:pt x="3163" y="18437"/>
                </a:lnTo>
                <a:lnTo>
                  <a:pt x="8224" y="14619"/>
                </a:lnTo>
                <a:lnTo>
                  <a:pt x="6580" y="20741"/>
                </a:lnTo>
                <a:lnTo>
                  <a:pt x="9842" y="15305"/>
                </a:lnTo>
                <a:lnTo>
                  <a:pt x="10800" y="21600"/>
                </a:lnTo>
                <a:lnTo>
                  <a:pt x="11679" y="15321"/>
                </a:lnTo>
                <a:lnTo>
                  <a:pt x="14846" y="20814"/>
                </a:lnTo>
                <a:lnTo>
                  <a:pt x="13309" y="14663"/>
                </a:lnTo>
                <a:lnTo>
                  <a:pt x="18437" y="18437"/>
                </a:lnTo>
                <a:lnTo>
                  <a:pt x="14619" y="13376"/>
                </a:lnTo>
                <a:lnTo>
                  <a:pt x="20741" y="15020"/>
                </a:lnTo>
                <a:lnTo>
                  <a:pt x="15305" y="11758"/>
                </a:lnTo>
                <a:lnTo>
                  <a:pt x="21600" y="10800"/>
                </a:lnTo>
                <a:lnTo>
                  <a:pt x="15321" y="9921"/>
                </a:lnTo>
                <a:lnTo>
                  <a:pt x="20814" y="6754"/>
                </a:lnTo>
                <a:lnTo>
                  <a:pt x="14663" y="8291"/>
                </a:lnTo>
                <a:lnTo>
                  <a:pt x="18437" y="3163"/>
                </a:lnTo>
                <a:lnTo>
                  <a:pt x="13376" y="6981"/>
                </a:lnTo>
                <a:lnTo>
                  <a:pt x="15020" y="859"/>
                </a:lnTo>
                <a:lnTo>
                  <a:pt x="11758" y="6295"/>
                </a:lnTo>
                <a:lnTo>
                  <a:pt x="10800" y="0"/>
                </a:lnTo>
                <a:lnTo>
                  <a:pt x="9921" y="6279"/>
                </a:lnTo>
                <a:lnTo>
                  <a:pt x="6754" y="786"/>
                </a:lnTo>
                <a:lnTo>
                  <a:pt x="8291" y="6937"/>
                </a:lnTo>
                <a:lnTo>
                  <a:pt x="3163" y="3163"/>
                </a:lnTo>
                <a:lnTo>
                  <a:pt x="6981" y="8224"/>
                </a:lnTo>
                <a:lnTo>
                  <a:pt x="859" y="6580"/>
                </a:lnTo>
                <a:lnTo>
                  <a:pt x="6295" y="984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3728880" y="1995480"/>
            <a:ext cx="1687680" cy="1711440"/>
          </a:xfrm>
          <a:custGeom>
            <a:avLst/>
            <a:gdLst>
              <a:gd name="textAreaLeft" fmla="*/ 765000 w 1687680"/>
              <a:gd name="textAreaRight" fmla="*/ 922680 w 1687680"/>
              <a:gd name="textAreaTop" fmla="*/ 775800 h 1711440"/>
              <a:gd name="textAreaBottom" fmla="*/ 93564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789" y="9789"/>
                </a:lnTo>
                <a:lnTo>
                  <a:pt x="10800" y="0"/>
                </a:lnTo>
                <a:lnTo>
                  <a:pt x="11811" y="9789"/>
                </a:lnTo>
                <a:lnTo>
                  <a:pt x="21600" y="10800"/>
                </a:lnTo>
                <a:lnTo>
                  <a:pt x="11811" y="11811"/>
                </a:lnTo>
                <a:lnTo>
                  <a:pt x="10800" y="21600"/>
                </a:lnTo>
                <a:lnTo>
                  <a:pt x="9789" y="118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5"/>
          <p:cNvSpPr/>
          <p:nvPr/>
        </p:nvSpPr>
        <p:spPr>
          <a:xfrm>
            <a:off x="3139560" y="912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6"/>
          <p:cNvSpPr/>
          <p:nvPr/>
        </p:nvSpPr>
        <p:spPr>
          <a:xfrm>
            <a:off x="1470600" y="13334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7"/>
          <p:cNvSpPr/>
          <p:nvPr/>
        </p:nvSpPr>
        <p:spPr>
          <a:xfrm>
            <a:off x="1691640" y="2627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喜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8"/>
          <p:cNvSpPr/>
          <p:nvPr/>
        </p:nvSpPr>
        <p:spPr>
          <a:xfrm>
            <a:off x="2905560" y="4216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舒体简体"/>
                <a:ea typeface="方正舒体简体"/>
              </a:rPr>
              <a:t>激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9"/>
          <p:cNvSpPr/>
          <p:nvPr/>
        </p:nvSpPr>
        <p:spPr>
          <a:xfrm>
            <a:off x="4551840" y="4176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奋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0"/>
          <p:cNvSpPr/>
          <p:nvPr/>
        </p:nvSpPr>
        <p:spPr>
          <a:xfrm>
            <a:off x="6755760" y="3724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幸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1"/>
          <p:cNvSpPr/>
          <p:nvPr/>
        </p:nvSpPr>
        <p:spPr>
          <a:xfrm>
            <a:off x="6672600" y="2185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祈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2"/>
          <p:cNvSpPr/>
          <p:nvPr/>
        </p:nvSpPr>
        <p:spPr>
          <a:xfrm>
            <a:off x="6141600" y="1050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健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B00-AFBD-4C58-9426-214A246C9805}" type="slidenum">
              <a:t>12</a:t>
            </a:fld>
          </a:p>
        </p:txBody>
      </p:sp>
    </p:spTree>
  </p:cSld>
  <p:transition spd="med" advTm="0">
    <p:fad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0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10799880">
                                      <p:cBhvr>
                                        <p:cTn id="857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59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mph" presetID="26" repeatCount="11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1" dur="7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375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mph" presetID="26" repeatCount="11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4" dur="7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5" dur="375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2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1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1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1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1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22" presetSubtype="4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8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xit" presetID="10">
                                  <p:stCondLst>
                                    <p:cond delay="6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1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xit" presetID="10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4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xit" presetID="10">
                                  <p:stCondLst>
                                    <p:cond delay="7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0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3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6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9" dur="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3.33333E-006 -1.11111E-006 L -0.55938 -0.55889 E">
                                      <p:cBhvr>
                                        <p:cTn id="952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3.61111E-006 0 L -0.58334 0.03778 E">
                                      <p:cBhvr>
                                        <p:cTn id="954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3.05556E-006 -2.22222E-006 L -0.13975 -0.52222 E">
                                      <p:cBhvr>
                                        <p:cTn id="956" dur="4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72222E-006 1.11111E-006 L 0.57066 0.62194 E">
                                      <p:cBhvr>
                                        <p:cTn id="958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5.55556E-007 -4.44444E-006 L 0.57187 -0.09527 E">
                                      <p:cBhvr>
                                        <p:cTn id="960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 2.22222E-006 L -0.28073 0.60278 E">
                                      <p:cBhvr>
                                        <p:cTn id="962" dur="4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3.05556E-006 2.22222E-006 L 0.1033 0.5525 E">
                                      <p:cBhvr>
                                        <p:cTn id="964" dur="4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3.33333E-006 1.11111E-006 L 0.32292 -0.57945 E">
                                      <p:cBhvr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1.38889E-006 3.33333E-006 L 0.03976 -0.55278 E">
                                      <p:cBhvr>
                                        <p:cTn id="968" dur="4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0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3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6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9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2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5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1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xit" presetID="10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4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7"/>
          <p:cNvSpPr/>
          <p:nvPr/>
        </p:nvSpPr>
        <p:spPr>
          <a:xfrm>
            <a:off x="-108000" y="-93600"/>
            <a:ext cx="9360000" cy="5904000"/>
          </a:xfrm>
          <a:prstGeom prst="rect">
            <a:avLst/>
          </a:prstGeom>
          <a:solidFill>
            <a:srgbClr val="db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4784400" y="20638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缘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6505920" y="179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铭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2688120" y="3002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思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6366240" y="4286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新舒体简体"/>
                <a:ea typeface="方正新舒体简体"/>
              </a:rPr>
              <a:t>陪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9"/>
          <p:cNvSpPr/>
          <p:nvPr/>
        </p:nvSpPr>
        <p:spPr>
          <a:xfrm>
            <a:off x="4813920" y="8031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相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0"/>
          <p:cNvSpPr/>
          <p:nvPr/>
        </p:nvSpPr>
        <p:spPr>
          <a:xfrm>
            <a:off x="6799680" y="4809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恒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1"/>
          <p:cNvSpPr/>
          <p:nvPr/>
        </p:nvSpPr>
        <p:spPr>
          <a:xfrm>
            <a:off x="1752120" y="4313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家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1257840" y="19861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青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1700640" y="2649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流行体简体"/>
                <a:ea typeface="方正流行体简体"/>
              </a:rPr>
              <a:t>箴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4"/>
          <p:cNvSpPr/>
          <p:nvPr/>
        </p:nvSpPr>
        <p:spPr>
          <a:xfrm>
            <a:off x="5408640" y="3193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Happ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5"/>
          <p:cNvSpPr/>
          <p:nvPr/>
        </p:nvSpPr>
        <p:spPr>
          <a:xfrm>
            <a:off x="2819160" y="152892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仿宋 Std R"/>
                <a:ea typeface="Adobe 仿宋 Std R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6"/>
          <p:cNvSpPr/>
          <p:nvPr/>
        </p:nvSpPr>
        <p:spPr>
          <a:xfrm>
            <a:off x="3395520" y="4010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U-HT"/>
                <a:ea typeface="EU-HT"/>
              </a:rPr>
              <a:t>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38F-D1CD-4D8A-8EE4-0ACF0A49F18E}" type="slidenum">
              <a:t>13</a:t>
            </a:fld>
          </a:p>
        </p:txBody>
      </p:sp>
    </p:spTree>
  </p:cSld>
  <p:transition spd="med" advTm="0">
    <p:fade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3.61111E-006 -2.22222E-006 L -0.08716 0.00084 E">
                                      <p:cBhvr>
                                        <p:cTn id="1005" dur="82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5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3.33333E-006 1.11111E-006 L 0.08646 1.11111E-006 E">
                                      <p:cBhvr>
                                        <p:cTn id="1011" dur="43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7778E-006 4.44444E-006 L 0.06215 4.44444E-006 E">
                                      <p:cBhvr>
                                        <p:cTn id="1017" dur="76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path" presetID="42">
                                  <p:stCondLst>
                                    <p:cond delay="1050"/>
                                  </p:stCondLst>
                                  <p:childTnLst>
                                    <p:animMotion origin="layout" path="M 2.77778E-006 0 L 0.07882 0 E">
                                      <p:cBhvr>
                                        <p:cTn id="1023" dur="495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path" presetID="42">
                                  <p:stCondLst>
                                    <p:cond delay="1350"/>
                                  </p:stCondLst>
                                  <p:childTnLst>
                                    <p:animMotion origin="layout" path="M -3.33333E-006 2.22222E-006 L -0.07083 2.22222E-006 E">
                                      <p:cBhvr>
                                        <p:cTn id="1029" dur="615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path" presetID="42">
                                  <p:stCondLst>
                                    <p:cond delay="1950"/>
                                  </p:stCondLst>
                                  <p:childTnLst>
                                    <p:animMotion origin="layout" path="M 4.44444E-006 -2.22222E-006 L 0.07864 -2.22222E-006 E">
                                      <p:cBhvr>
                                        <p:cTn id="1035" dur="495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3.05556E-006 -2.22222E-006 L -0.08003 0.00028 E">
                                      <p:cBhvr>
                                        <p:cTn id="1041" dur="555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" presetSubtype="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path" presetID="42">
                                  <p:stCondLst>
                                    <p:cond delay="2850"/>
                                  </p:stCondLst>
                                  <p:childTnLst>
                                    <p:animMotion origin="layout" path="M 5.55556E-007 3.33333E-006 L -0.07101 3.33333E-006 E">
                                      <p:cBhvr>
                                        <p:cTn id="1047" dur="135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path" presetID="42">
                                  <p:stCondLst>
                                    <p:cond delay="3150"/>
                                  </p:stCondLst>
                                  <p:childTnLst>
                                    <p:animMotion origin="layout" path="M -4.16667E-006 -4.44444E-006 L -0.08663 -4.44444E-006 E">
                                      <p:cBhvr>
                                        <p:cTn id="1053" dur="225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ntr" presetID="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path" presetID="42">
                                  <p:stCondLst>
                                    <p:cond delay="3450"/>
                                  </p:stCondLst>
                                  <p:childTnLst>
                                    <p:animMotion origin="layout" path="M -3.33333E-006 -1.11111E-006 L 0.08646 -1.11111E-006 E">
                                      <p:cBhvr>
                                        <p:cTn id="1059" dur="495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2" presetSubtype="8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path" presetID="42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1.66667E-006 -1.11111E-006 L 0.07882 -1.11111E-006 E">
                                      <p:cBhvr>
                                        <p:cTn id="1065" dur="46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2" presetSubtype="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42">
                                  <p:stCondLst>
                                    <p:cond delay="4050"/>
                                  </p:stCondLst>
                                  <p:childTnLst>
                                    <p:animMotion origin="layout" path="M -0.00052 0.00305 L -0.05555 0.00305 E">
                                      <p:cBhvr>
                                        <p:cTn id="1071" dur="435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2" presetSubtype="8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xit" presetID="2" presetSubtype="2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7" dur="1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xit" presetID="2" presetSubtype="8">
                                  <p:stCondLst>
                                    <p:cond delay="5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1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xit" presetID="2" presetSubtype="2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5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exit" presetID="2" presetSubtype="2">
                                  <p:stCondLst>
                                    <p:cond delay="6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1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xit" presetID="2" presetSubtype="8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1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5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xit" presetID="2" presetSubtype="8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1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exit" presetID="2" presetSubtype="2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xit" presetID="2" presetSubtype="2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xit" presetID="2" presetSubtype="8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xit" presetID="2" presetSubtype="8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15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5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xit" presetID="2" presetSubtype="2">
                                  <p:stCondLst>
                                    <p:cond delay="8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15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5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11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animClr clrSpc="rgb">
                                      <p:cBhvr>
                                        <p:cTn id="11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000"/>
                                      </p:to>
                                    </p:animClr>
                                    <p:set>
                                      <p:cBhvr>
                                        <p:cTn id="1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mph" presetID="19">
                                  <p:stCondLst>
                                    <p:cond delay="3800"/>
                                  </p:stCondLst>
                                  <p:childTnLst>
                                    <p:animClr clrSpc="rgb">
                                      <p:cBhvr>
                                        <p:cTn id="11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animClr clrSpc="rgb">
                                      <p:cBhvr>
                                        <p:cTn id="1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mph" presetID="19">
                                  <p:stCondLst>
                                    <p:cond delay="5900"/>
                                  </p:stCondLst>
                                  <p:childTnLst>
                                    <p:animClr clrSpc="rgb">
                                      <p:cBhvr>
                                        <p:cTn id="1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30a0"/>
                                      </p:to>
                                    </p:animClr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0a0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mph" presetID="19">
                                  <p:stCondLst>
                                    <p:cond delay="8000"/>
                                  </p:stCondLst>
                                  <p:childTnLst>
                                    <p:animClr clrSpc="rgb">
                                      <p:cBhvr>
                                        <p:cTn id="1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6666"/>
                                      </p:to>
                                    </p:animClr>
                                    <p:animClr clrSpc="rgb">
                                      <p:cBhvr>
                                        <p:cTn id="1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6666"/>
                                      </p:to>
                                    </p:animClr>
                                    <p:set>
                                      <p:cBhvr>
                                        <p:cTn id="11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:\hust work bag\个人\PPT演义\最近的作品\刘老师的婚礼PPT\图片\3.png"/>
          <p:cNvPicPr/>
          <p:nvPr/>
        </p:nvPicPr>
        <p:blipFill>
          <a:blip r:embed="rId1"/>
          <a:stretch/>
        </p:blipFill>
        <p:spPr>
          <a:xfrm>
            <a:off x="2571840" y="1298520"/>
            <a:ext cx="3530520" cy="2644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18" name="Picture 2" descr="D:\hust work bag\个人\PPT演义\最近的作品\刘老师的婚礼PPT\图片\3.png"/>
          <p:cNvPicPr/>
          <p:nvPr/>
        </p:nvPicPr>
        <p:blipFill>
          <a:blip r:embed="rId2"/>
          <a:stretch/>
        </p:blipFill>
        <p:spPr>
          <a:xfrm>
            <a:off x="2724120" y="1450800"/>
            <a:ext cx="3530520" cy="2644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19" name="Picture 2" descr="D:\hust work bag\个人\PPT演义\最近的作品\刘老师的婚礼PPT\图片\3.png"/>
          <p:cNvPicPr/>
          <p:nvPr/>
        </p:nvPicPr>
        <p:blipFill>
          <a:blip r:embed="rId3"/>
          <a:stretch/>
        </p:blipFill>
        <p:spPr>
          <a:xfrm>
            <a:off x="2876400" y="1603440"/>
            <a:ext cx="3530880" cy="2644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20" name="Picture 2" descr="D:\hust work bag\个人\PPT演义\最近的作品\刘老师的婚礼PPT\图片\3.png"/>
          <p:cNvPicPr/>
          <p:nvPr/>
        </p:nvPicPr>
        <p:blipFill>
          <a:blip r:embed="rId4"/>
          <a:stretch/>
        </p:blipFill>
        <p:spPr>
          <a:xfrm>
            <a:off x="3029040" y="1755720"/>
            <a:ext cx="3530520" cy="2644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21" name="椭圆 20"/>
          <p:cNvSpPr/>
          <p:nvPr/>
        </p:nvSpPr>
        <p:spPr>
          <a:xfrm>
            <a:off x="1082520" y="362916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1"/>
          <p:cNvSpPr/>
          <p:nvPr/>
        </p:nvSpPr>
        <p:spPr>
          <a:xfrm>
            <a:off x="5143680" y="444600"/>
            <a:ext cx="104616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2"/>
          <p:cNvSpPr/>
          <p:nvPr/>
        </p:nvSpPr>
        <p:spPr>
          <a:xfrm>
            <a:off x="6732720" y="440064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23"/>
          <p:cNvSpPr/>
          <p:nvPr/>
        </p:nvSpPr>
        <p:spPr>
          <a:xfrm>
            <a:off x="6929280" y="1755720"/>
            <a:ext cx="104796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4"/>
          <p:cNvSpPr/>
          <p:nvPr/>
        </p:nvSpPr>
        <p:spPr>
          <a:xfrm>
            <a:off x="1260360" y="70812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5"/>
          <p:cNvSpPr/>
          <p:nvPr/>
        </p:nvSpPr>
        <p:spPr>
          <a:xfrm>
            <a:off x="3289320" y="222732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4096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7DB-9F11-4EE7-9C6F-E0CA142D7DFF}" type="slidenum">
              <a:t>14</a:t>
            </a:fld>
          </a:p>
        </p:txBody>
      </p:sp>
    </p:spTree>
  </p:cSld>
  <p:transition spd="med" advTm="0">
    <p:fade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4.44444E-006 -2.10877E-006 L -0.18698 -0.1096 E">
                                      <p:cBhvr>
                                        <p:cTn id="1153" dur="25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2.22222E-006 8.2131E-007 L -0.19566 0.16565 E">
                                      <p:cBhvr>
                                        <p:cTn id="1155" dur="25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1.11111E-006 3.75139E-006 L 0.22864 -0.16288 E">
                                      <p:cBhvr>
                                        <p:cTn id="1157" dur="25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4.44444E-006 -3.31853E-006 L 0.21197 0.09989 E">
                                      <p:cBhvr>
                                        <p:cTn id="1159" dur="25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899880">
                                      <p:cBhvr>
                                        <p:cTn id="1161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900000">
                                      <p:cBhvr>
                                        <p:cTn id="1163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900000">
                                      <p:cBhvr>
                                        <p:cTn id="1165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899880">
                                      <p:cBhvr>
                                        <p:cTn id="1167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dur="indefinite" nodeType="withEffect" fill="hold" presetClass="exit" presetID="2" presetSubtype="9">
                                  <p:stCondLst>
                                    <p:cond delay="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2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xit" presetID="2" presetSubtype="12">
                                  <p:stCondLst>
                                    <p:cond delay="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2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dur="indefinite" nodeType="withEffect" fill="hold" presetClass="exit" presetID="2" presetSubtype="3">
                                  <p:stCondLst>
                                    <p:cond delay="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2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dur="indefinite" nodeType="withEffect" fill="hold" presetClass="exit" presetID="2" presetSubtype="6">
                                  <p:stCondLst>
                                    <p:cond delay="3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2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7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2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7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2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2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5"/>
          <p:cNvSpPr/>
          <p:nvPr/>
        </p:nvSpPr>
        <p:spPr>
          <a:xfrm>
            <a:off x="3666960" y="1128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即便遇到挫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4860720" y="1758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即便经历风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6054480" y="2406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即便前路忐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4315680" y="39607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也不会停下前进的脚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D:\hust work bag\个人\PPT演义\最近的作品\刘老师的婚礼PPT\图片\3.png"/>
          <p:cNvPicPr/>
          <p:nvPr/>
        </p:nvPicPr>
        <p:blipFill>
          <a:blip r:embed="rId1"/>
          <a:stretch/>
        </p:blipFill>
        <p:spPr>
          <a:xfrm>
            <a:off x="5407200" y="746280"/>
            <a:ext cx="3402000" cy="2549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33" name="Picture 2" descr="D:\hust work bag\个人\PPT演义\最近的作品\刘老师的婚礼PPT\图片\3.png"/>
          <p:cNvPicPr/>
          <p:nvPr/>
        </p:nvPicPr>
        <p:blipFill>
          <a:blip r:embed="rId2"/>
          <a:stretch/>
        </p:blipFill>
        <p:spPr>
          <a:xfrm>
            <a:off x="5407200" y="746280"/>
            <a:ext cx="3402000" cy="2549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34" name="Picture 2" descr="D:\hust work bag\个人\PPT演义\最近的作品\刘老师的婚礼PPT\图片\3.png"/>
          <p:cNvPicPr/>
          <p:nvPr/>
        </p:nvPicPr>
        <p:blipFill>
          <a:blip r:embed="rId3"/>
          <a:stretch/>
        </p:blipFill>
        <p:spPr>
          <a:xfrm>
            <a:off x="5407200" y="746280"/>
            <a:ext cx="3402000" cy="2549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35" name="Picture 2" descr="D:\hust work bag\个人\PPT演义\最近的作品\刘老师的婚礼PPT\图片\3.png"/>
          <p:cNvPicPr/>
          <p:nvPr/>
        </p:nvPicPr>
        <p:blipFill>
          <a:blip r:embed="rId4"/>
          <a:stretch/>
        </p:blipFill>
        <p:spPr>
          <a:xfrm>
            <a:off x="5407200" y="746280"/>
            <a:ext cx="3402000" cy="2549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36" name="椭圆 13"/>
          <p:cNvSpPr/>
          <p:nvPr/>
        </p:nvSpPr>
        <p:spPr>
          <a:xfrm>
            <a:off x="1835280" y="2771640"/>
            <a:ext cx="104760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4"/>
          <p:cNvSpPr/>
          <p:nvPr/>
        </p:nvSpPr>
        <p:spPr>
          <a:xfrm>
            <a:off x="3859200" y="8244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5"/>
          <p:cNvSpPr/>
          <p:nvPr/>
        </p:nvSpPr>
        <p:spPr>
          <a:xfrm>
            <a:off x="5891040" y="1116000"/>
            <a:ext cx="10479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6"/>
          <p:cNvSpPr/>
          <p:nvPr/>
        </p:nvSpPr>
        <p:spPr>
          <a:xfrm>
            <a:off x="6797520" y="4206960"/>
            <a:ext cx="104796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20"/>
          <p:cNvSpPr/>
          <p:nvPr/>
        </p:nvSpPr>
        <p:spPr>
          <a:xfrm>
            <a:off x="395280" y="420696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21"/>
          <p:cNvSpPr/>
          <p:nvPr/>
        </p:nvSpPr>
        <p:spPr>
          <a:xfrm>
            <a:off x="682560" y="973080"/>
            <a:ext cx="104796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22"/>
          <p:cNvSpPr/>
          <p:nvPr/>
        </p:nvSpPr>
        <p:spPr>
          <a:xfrm>
            <a:off x="3349800" y="202104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3"/>
          <p:cNvSpPr/>
          <p:nvPr/>
        </p:nvSpPr>
        <p:spPr>
          <a:xfrm>
            <a:off x="4397400" y="3067200"/>
            <a:ext cx="104760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4"/>
          <p:cNvSpPr/>
          <p:nvPr/>
        </p:nvSpPr>
        <p:spPr>
          <a:xfrm>
            <a:off x="3780000" y="4513320"/>
            <a:ext cx="104760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25"/>
          <p:cNvSpPr/>
          <p:nvPr/>
        </p:nvSpPr>
        <p:spPr>
          <a:xfrm>
            <a:off x="7454880" y="264636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26"/>
          <p:cNvSpPr/>
          <p:nvPr/>
        </p:nvSpPr>
        <p:spPr>
          <a:xfrm>
            <a:off x="7632720" y="34308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27"/>
          <p:cNvSpPr/>
          <p:nvPr/>
        </p:nvSpPr>
        <p:spPr>
          <a:xfrm>
            <a:off x="1450800" y="268920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8"/>
          <p:cNvSpPr/>
          <p:nvPr/>
        </p:nvSpPr>
        <p:spPr>
          <a:xfrm>
            <a:off x="3473280" y="0"/>
            <a:ext cx="10479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29"/>
          <p:cNvSpPr/>
          <p:nvPr/>
        </p:nvSpPr>
        <p:spPr>
          <a:xfrm>
            <a:off x="5505480" y="1033560"/>
            <a:ext cx="104760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0"/>
          <p:cNvSpPr/>
          <p:nvPr/>
        </p:nvSpPr>
        <p:spPr>
          <a:xfrm>
            <a:off x="6411960" y="412416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31"/>
          <p:cNvSpPr/>
          <p:nvPr/>
        </p:nvSpPr>
        <p:spPr>
          <a:xfrm>
            <a:off x="9360" y="4124160"/>
            <a:ext cx="104796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2"/>
          <p:cNvSpPr/>
          <p:nvPr/>
        </p:nvSpPr>
        <p:spPr>
          <a:xfrm>
            <a:off x="298440" y="890640"/>
            <a:ext cx="104616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33"/>
          <p:cNvSpPr/>
          <p:nvPr/>
        </p:nvSpPr>
        <p:spPr>
          <a:xfrm>
            <a:off x="2965320" y="1938240"/>
            <a:ext cx="104616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4"/>
          <p:cNvSpPr/>
          <p:nvPr/>
        </p:nvSpPr>
        <p:spPr>
          <a:xfrm>
            <a:off x="4011480" y="2984400"/>
            <a:ext cx="104796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35"/>
          <p:cNvSpPr/>
          <p:nvPr/>
        </p:nvSpPr>
        <p:spPr>
          <a:xfrm>
            <a:off x="3394080" y="4432320"/>
            <a:ext cx="1047600" cy="104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6"/>
          <p:cNvSpPr/>
          <p:nvPr/>
        </p:nvSpPr>
        <p:spPr>
          <a:xfrm>
            <a:off x="7068960" y="2563920"/>
            <a:ext cx="1046520" cy="10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37"/>
          <p:cNvSpPr/>
          <p:nvPr/>
        </p:nvSpPr>
        <p:spPr>
          <a:xfrm>
            <a:off x="7246800" y="260280"/>
            <a:ext cx="1046160" cy="104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D08-2250-4FBE-82BA-6493BB6478A5}" type="slidenum">
              <a:t>15</a:t>
            </a:fld>
          </a:p>
        </p:txBody>
      </p:sp>
    </p:spTree>
  </p:cSld>
  <p:transition spd="med" advTm="0">
    <p:fade/>
  </p:transition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8.33333E-007 -1.85185E-006 L -0.11233 0.00394 E">
                                      <p:cBhvr>
                                        <p:cTn id="1223" dur="6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xit" presetID="2" presetSubtype="8">
                                  <p:stCondLst>
                                    <p:cond delay="6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8.33333E-007 -1.85185E-006 L -0.11233 0.00394 E">
                                      <p:cBhvr>
                                        <p:cTn id="1233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xit" presetID="2" presetSubtype="8">
                                  <p:stCondLst>
                                    <p:cond delay="6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1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-8.33333E-007 -1.85185E-006 L -0.11233 0.00394 E">
                                      <p:cBhvr>
                                        <p:cTn id="1243" dur="35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xit" presetID="2" presetSubtype="8">
                                  <p:stCondLst>
                                    <p:cond delay="6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1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2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dur="indefinite" nodeType="withEffect" fill="hold" presetClass="path" presetID="42">
                                  <p:stCondLst>
                                    <p:cond delay="6750"/>
                                  </p:stCondLst>
                                  <p:childTnLst>
                                    <p:animMotion origin="layout" path="M -4.44444E-006 1.93119E-006 L -0.55138 1.93119E-006 E">
                                      <p:cBhvr>
                                        <p:cTn id="1253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xit" presetID="2" presetSubtype="8">
                                  <p:stCondLst>
                                    <p:cond delay="9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5" dur="1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2" presetSubtype="2">
                                  <p:stCondLst>
                                    <p:cond delay="875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2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44444E-006 1.93119E-006 L -0.55138 1.93119E-006 E">
                                      <p:cBhvr>
                                        <p:cTn id="1263" dur="3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xit" presetID="2" presetSubtype="8">
                                  <p:stCondLst>
                                    <p:cond delay="1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1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2" presetSubtype="2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2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path" presetID="42">
                                  <p:stCondLst>
                                    <p:cond delay="11250"/>
                                  </p:stCondLst>
                                  <p:childTnLst>
                                    <p:animMotion origin="layout" path="M -4.44444E-006 1.93119E-006 L -0.55138 1.93119E-006 E">
                                      <p:cBhvr>
                                        <p:cTn id="1273" dur="3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xit" presetID="2" presetSubtype="8">
                                  <p:stCondLst>
                                    <p:cond delay="14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5" dur="15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5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ntr" presetID="2" presetSubtype="2">
                                  <p:stCondLst>
                                    <p:cond delay="1325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-4.44444E-006 1.93119E-006 L -0.55138 1.93119E-006 E">
                                      <p:cBhvr>
                                        <p:cTn id="1283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xit" presetID="2" presetSubtype="8">
                                  <p:stCondLst>
                                    <p:cond delay="1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5" dur="1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ntr" presetID="2" presetSubtype="2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16667E-006 -4.23973E-006 L -0.1809 0.00444 E">
                                      <p:cBhvr>
                                        <p:cTn id="1293" dur="1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4" dur="indefinite" nodeType="withEffect" fill="hold" presetClass="exit" presetID="2" presetSubtype="8">
                                  <p:stCondLst>
                                    <p:cond delay="1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1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6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1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1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6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1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6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6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1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dur="indefinite" nodeType="withEffect" fill="hold" presetClass="exit" presetID="10">
                                  <p:stCondLst>
                                    <p:cond delay="1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2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6" dur="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1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6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6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6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822960" y="6969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祝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8"/>
          <p:cNvSpPr/>
          <p:nvPr/>
        </p:nvSpPr>
        <p:spPr>
          <a:xfrm>
            <a:off x="2163600" y="1501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男方</a:t>
            </a:r>
            <a:r>
              <a:rPr b="0" lang="en-US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&amp;</a:t>
            </a: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女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9"/>
          <p:cNvSpPr/>
          <p:nvPr/>
        </p:nvSpPr>
        <p:spPr>
          <a:xfrm>
            <a:off x="3757680" y="2306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新婚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0"/>
          <p:cNvSpPr/>
          <p:nvPr/>
        </p:nvSpPr>
        <p:spPr>
          <a:xfrm>
            <a:off x="5188320" y="3111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毡笔黑简体"/>
                <a:ea typeface="方正毡笔黑简体"/>
              </a:rPr>
              <a:t>百年好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923-8879-42FA-866E-5CACB51E28CE}" type="slidenum">
              <a:t>16</a:t>
            </a:fld>
          </a:p>
        </p:txBody>
      </p:sp>
    </p:spTree>
  </p:cSld>
  <p:transition spd="med" advTm="15000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0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D66-D2CB-4B56-9050-A8A2284104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20881200">
            <a:off x="1635120" y="980640"/>
            <a:ext cx="237492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1" name="Picture 4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967200">
            <a:off x="5260680" y="1712880"/>
            <a:ext cx="237636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52" name="椭圆 5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6"/>
          <p:cNvSpPr/>
          <p:nvPr/>
        </p:nvSpPr>
        <p:spPr>
          <a:xfrm>
            <a:off x="6064200" y="409680"/>
            <a:ext cx="8938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7"/>
          <p:cNvSpPr/>
          <p:nvPr/>
        </p:nvSpPr>
        <p:spPr>
          <a:xfrm>
            <a:off x="6075360" y="2441520"/>
            <a:ext cx="1119240" cy="11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"/>
          <p:cNvSpPr/>
          <p:nvPr/>
        </p:nvSpPr>
        <p:spPr>
          <a:xfrm>
            <a:off x="3832200" y="2179800"/>
            <a:ext cx="1015920" cy="10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9"/>
          <p:cNvSpPr/>
          <p:nvPr/>
        </p:nvSpPr>
        <p:spPr>
          <a:xfrm>
            <a:off x="907920" y="3513240"/>
            <a:ext cx="855720" cy="85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0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1"/>
          <p:cNvSpPr/>
          <p:nvPr/>
        </p:nvSpPr>
        <p:spPr>
          <a:xfrm>
            <a:off x="3219480" y="5724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2"/>
          <p:cNvSpPr/>
          <p:nvPr/>
        </p:nvSpPr>
        <p:spPr>
          <a:xfrm>
            <a:off x="2843280" y="4368960"/>
            <a:ext cx="947520" cy="9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3"/>
          <p:cNvSpPr/>
          <p:nvPr/>
        </p:nvSpPr>
        <p:spPr>
          <a:xfrm>
            <a:off x="6635880" y="4299120"/>
            <a:ext cx="863640" cy="865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354560" y="62420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8C6-0FC3-4767-A7FC-EBA24827E8B7}" type="slidenum">
              <a:t>2</a:t>
            </a:fld>
          </a:p>
        </p:txBody>
      </p:sp>
    </p:spTree>
  </p:cSld>
  <p:transition spd="med" advTm="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20881200">
            <a:off x="1635120" y="980640"/>
            <a:ext cx="237492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63" name="Picture 4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967200">
            <a:off x="5260680" y="1712880"/>
            <a:ext cx="237636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64" name="椭圆 5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6"/>
          <p:cNvSpPr/>
          <p:nvPr/>
        </p:nvSpPr>
        <p:spPr>
          <a:xfrm>
            <a:off x="6064200" y="409680"/>
            <a:ext cx="8938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7"/>
          <p:cNvSpPr/>
          <p:nvPr/>
        </p:nvSpPr>
        <p:spPr>
          <a:xfrm>
            <a:off x="6300720" y="3552840"/>
            <a:ext cx="1119240" cy="11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8"/>
          <p:cNvSpPr/>
          <p:nvPr/>
        </p:nvSpPr>
        <p:spPr>
          <a:xfrm>
            <a:off x="3832200" y="2179800"/>
            <a:ext cx="1015920" cy="10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9"/>
          <p:cNvSpPr/>
          <p:nvPr/>
        </p:nvSpPr>
        <p:spPr>
          <a:xfrm>
            <a:off x="907920" y="3513240"/>
            <a:ext cx="855720" cy="85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0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1"/>
          <p:cNvSpPr/>
          <p:nvPr/>
        </p:nvSpPr>
        <p:spPr>
          <a:xfrm>
            <a:off x="3219480" y="5724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2"/>
          <p:cNvSpPr/>
          <p:nvPr/>
        </p:nvSpPr>
        <p:spPr>
          <a:xfrm>
            <a:off x="3247920" y="4368960"/>
            <a:ext cx="947880" cy="9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E2E-D0E4-4C6A-9686-4B2395CA048B}" type="slidenum">
              <a:t>3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:\hust work bag\个人\PPT演义\最近的作品\刘老师的婚礼PPT\图片\2.png"/>
          <p:cNvPicPr/>
          <p:nvPr/>
        </p:nvPicPr>
        <p:blipFill>
          <a:blip r:embed="rId1"/>
          <a:stretch/>
        </p:blipFill>
        <p:spPr>
          <a:xfrm rot="20881200">
            <a:off x="1635120" y="980640"/>
            <a:ext cx="237492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73" name="Picture 4" descr="D:\hust work bag\个人\PPT演义\最近的作品\刘老师的婚礼PPT\图片\2.png"/>
          <p:cNvPicPr/>
          <p:nvPr/>
        </p:nvPicPr>
        <p:blipFill>
          <a:blip r:embed="rId2"/>
          <a:stretch/>
        </p:blipFill>
        <p:spPr>
          <a:xfrm rot="967200">
            <a:off x="5260680" y="1712880"/>
            <a:ext cx="2376360" cy="3170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74" name="椭圆 5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6"/>
          <p:cNvSpPr/>
          <p:nvPr/>
        </p:nvSpPr>
        <p:spPr>
          <a:xfrm>
            <a:off x="6064200" y="409680"/>
            <a:ext cx="893880" cy="89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7"/>
          <p:cNvSpPr/>
          <p:nvPr/>
        </p:nvSpPr>
        <p:spPr>
          <a:xfrm>
            <a:off x="6075360" y="2441520"/>
            <a:ext cx="1119240" cy="11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8"/>
          <p:cNvSpPr/>
          <p:nvPr/>
        </p:nvSpPr>
        <p:spPr>
          <a:xfrm>
            <a:off x="3832200" y="2179800"/>
            <a:ext cx="1015920" cy="10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9"/>
          <p:cNvSpPr/>
          <p:nvPr/>
        </p:nvSpPr>
        <p:spPr>
          <a:xfrm>
            <a:off x="907920" y="3513240"/>
            <a:ext cx="855720" cy="85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0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1"/>
          <p:cNvSpPr/>
          <p:nvPr/>
        </p:nvSpPr>
        <p:spPr>
          <a:xfrm>
            <a:off x="3219480" y="5724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2"/>
          <p:cNvSpPr/>
          <p:nvPr/>
        </p:nvSpPr>
        <p:spPr>
          <a:xfrm>
            <a:off x="2843280" y="4368960"/>
            <a:ext cx="947520" cy="9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3"/>
          <p:cNvSpPr/>
          <p:nvPr/>
        </p:nvSpPr>
        <p:spPr>
          <a:xfrm>
            <a:off x="6635880" y="4299120"/>
            <a:ext cx="863640" cy="865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3CE-746D-4047-AB6F-775F0D811D8D}" type="slidenum">
              <a:t>4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hust work bag\个人\PPT演义\最近的作品\刘老师的婚礼PPT\图片\3.png"/>
          <p:cNvPicPr/>
          <p:nvPr/>
        </p:nvPicPr>
        <p:blipFill>
          <a:blip r:embed="rId1"/>
          <a:stretch/>
        </p:blipFill>
        <p:spPr>
          <a:xfrm>
            <a:off x="2502000" y="1306440"/>
            <a:ext cx="4138560" cy="3102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84" name="椭圆 5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6"/>
          <p:cNvSpPr/>
          <p:nvPr/>
        </p:nvSpPr>
        <p:spPr>
          <a:xfrm>
            <a:off x="5168880" y="352440"/>
            <a:ext cx="895320" cy="89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7"/>
          <p:cNvSpPr/>
          <p:nvPr/>
        </p:nvSpPr>
        <p:spPr>
          <a:xfrm>
            <a:off x="5867280" y="3849840"/>
            <a:ext cx="1121040" cy="11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8"/>
          <p:cNvSpPr/>
          <p:nvPr/>
        </p:nvSpPr>
        <p:spPr>
          <a:xfrm>
            <a:off x="3832200" y="2179800"/>
            <a:ext cx="1015920" cy="101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9"/>
          <p:cNvSpPr/>
          <p:nvPr/>
        </p:nvSpPr>
        <p:spPr>
          <a:xfrm>
            <a:off x="1835280" y="3552840"/>
            <a:ext cx="857160" cy="857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0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42A-264B-4445-80EE-21878390DBA4}" type="slidenum">
              <a:t>5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3250" fill="hold"/>
                                        <p:tgtEl>
                                          <p:spTgt spid="8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40"/>
          <p:cNvSpPr/>
          <p:nvPr/>
        </p:nvSpPr>
        <p:spPr>
          <a:xfrm flipH="1">
            <a:off x="-255600" y="2819520"/>
            <a:ext cx="64944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"/>
          <p:cNvSpPr/>
          <p:nvPr/>
        </p:nvSpPr>
        <p:spPr>
          <a:xfrm flipH="1">
            <a:off x="-255600" y="1604880"/>
            <a:ext cx="7192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2"/>
          <p:cNvSpPr/>
          <p:nvPr/>
        </p:nvSpPr>
        <p:spPr>
          <a:xfrm flipH="1">
            <a:off x="-256320" y="1994040"/>
            <a:ext cx="11509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3"/>
          <p:cNvSpPr/>
          <p:nvPr/>
        </p:nvSpPr>
        <p:spPr>
          <a:xfrm flipH="1">
            <a:off x="-255600" y="2414520"/>
            <a:ext cx="1440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4"/>
          <p:cNvSpPr/>
          <p:nvPr/>
        </p:nvSpPr>
        <p:spPr>
          <a:xfrm flipH="1">
            <a:off x="-255600" y="2819520"/>
            <a:ext cx="20908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5"/>
          <p:cNvSpPr/>
          <p:nvPr/>
        </p:nvSpPr>
        <p:spPr>
          <a:xfrm flipH="1">
            <a:off x="-256320" y="3225960"/>
            <a:ext cx="11509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6"/>
          <p:cNvSpPr/>
          <p:nvPr/>
        </p:nvSpPr>
        <p:spPr>
          <a:xfrm flipH="1">
            <a:off x="-256320" y="3645000"/>
            <a:ext cx="12970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7"/>
          <p:cNvSpPr/>
          <p:nvPr/>
        </p:nvSpPr>
        <p:spPr>
          <a:xfrm flipH="1">
            <a:off x="-256320" y="4076640"/>
            <a:ext cx="115092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8"/>
          <p:cNvSpPr/>
          <p:nvPr/>
        </p:nvSpPr>
        <p:spPr>
          <a:xfrm flipH="1">
            <a:off x="-255600" y="1209600"/>
            <a:ext cx="5745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9"/>
          <p:cNvSpPr/>
          <p:nvPr/>
        </p:nvSpPr>
        <p:spPr>
          <a:xfrm flipH="1">
            <a:off x="-255600" y="4475160"/>
            <a:ext cx="7192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0"/>
          <p:cNvSpPr/>
          <p:nvPr/>
        </p:nvSpPr>
        <p:spPr>
          <a:xfrm flipH="1">
            <a:off x="-255600" y="4906800"/>
            <a:ext cx="5745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1"/>
          <p:cNvSpPr/>
          <p:nvPr/>
        </p:nvSpPr>
        <p:spPr>
          <a:xfrm flipH="1">
            <a:off x="-255600" y="2819520"/>
            <a:ext cx="20908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2"/>
          <p:cNvSpPr/>
          <p:nvPr/>
        </p:nvSpPr>
        <p:spPr>
          <a:xfrm flipH="1">
            <a:off x="-255600" y="2819520"/>
            <a:ext cx="20908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3"/>
          <p:cNvSpPr/>
          <p:nvPr/>
        </p:nvSpPr>
        <p:spPr>
          <a:xfrm flipH="1">
            <a:off x="-255600" y="2819520"/>
            <a:ext cx="20908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4"/>
          <p:cNvSpPr/>
          <p:nvPr/>
        </p:nvSpPr>
        <p:spPr>
          <a:xfrm>
            <a:off x="8793000" y="2819520"/>
            <a:ext cx="6033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5"/>
          <p:cNvSpPr/>
          <p:nvPr/>
        </p:nvSpPr>
        <p:spPr>
          <a:xfrm>
            <a:off x="8726400" y="1604880"/>
            <a:ext cx="6699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6"/>
          <p:cNvSpPr/>
          <p:nvPr/>
        </p:nvSpPr>
        <p:spPr>
          <a:xfrm>
            <a:off x="8325000" y="1994040"/>
            <a:ext cx="10713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7"/>
          <p:cNvSpPr/>
          <p:nvPr/>
        </p:nvSpPr>
        <p:spPr>
          <a:xfrm>
            <a:off x="8056440" y="2414520"/>
            <a:ext cx="13399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8"/>
          <p:cNvSpPr/>
          <p:nvPr/>
        </p:nvSpPr>
        <p:spPr>
          <a:xfrm>
            <a:off x="7451640" y="2819520"/>
            <a:ext cx="1944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9"/>
          <p:cNvSpPr/>
          <p:nvPr/>
        </p:nvSpPr>
        <p:spPr>
          <a:xfrm>
            <a:off x="8325000" y="3225960"/>
            <a:ext cx="10713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0"/>
          <p:cNvSpPr/>
          <p:nvPr/>
        </p:nvSpPr>
        <p:spPr>
          <a:xfrm>
            <a:off x="8188200" y="3645000"/>
            <a:ext cx="12081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1"/>
          <p:cNvSpPr/>
          <p:nvPr/>
        </p:nvSpPr>
        <p:spPr>
          <a:xfrm>
            <a:off x="8325000" y="4076640"/>
            <a:ext cx="10713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2"/>
          <p:cNvSpPr/>
          <p:nvPr/>
        </p:nvSpPr>
        <p:spPr>
          <a:xfrm>
            <a:off x="8861400" y="1209600"/>
            <a:ext cx="5349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3"/>
          <p:cNvSpPr/>
          <p:nvPr/>
        </p:nvSpPr>
        <p:spPr>
          <a:xfrm>
            <a:off x="8726400" y="4475160"/>
            <a:ext cx="6699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4"/>
          <p:cNvSpPr/>
          <p:nvPr/>
        </p:nvSpPr>
        <p:spPr>
          <a:xfrm>
            <a:off x="8861400" y="4906800"/>
            <a:ext cx="53496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5"/>
          <p:cNvSpPr/>
          <p:nvPr/>
        </p:nvSpPr>
        <p:spPr>
          <a:xfrm>
            <a:off x="7451640" y="2819520"/>
            <a:ext cx="1944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6"/>
          <p:cNvSpPr/>
          <p:nvPr/>
        </p:nvSpPr>
        <p:spPr>
          <a:xfrm>
            <a:off x="7451640" y="2819520"/>
            <a:ext cx="1944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7"/>
          <p:cNvSpPr/>
          <p:nvPr/>
        </p:nvSpPr>
        <p:spPr>
          <a:xfrm>
            <a:off x="7451640" y="2819520"/>
            <a:ext cx="194472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:\hust work bag\个人\PPT演义\最近的作品\刘老师的婚礼PPT\图片\6.PNG"/>
          <p:cNvPicPr/>
          <p:nvPr/>
        </p:nvPicPr>
        <p:blipFill>
          <a:blip r:embed="rId1"/>
          <a:srcRect l="0" t="0" r="0" b="2916"/>
          <a:stretch/>
        </p:blipFill>
        <p:spPr>
          <a:xfrm>
            <a:off x="7183440" y="-77760"/>
            <a:ext cx="2009880" cy="5888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D:\hust work bag\个人\PPT演义\最近的作品\刘老师的婚礼PPT\图片\6.PNG"/>
          <p:cNvPicPr/>
          <p:nvPr/>
        </p:nvPicPr>
        <p:blipFill>
          <a:blip r:embed="rId2"/>
          <a:srcRect l="0" t="0" r="0" b="2916"/>
          <a:stretch/>
        </p:blipFill>
        <p:spPr>
          <a:xfrm>
            <a:off x="-108000" y="-77760"/>
            <a:ext cx="2008080" cy="5888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D:\hust work bag\个人\PPT演义\最近的作品\刘老师的婚礼PPT\图片\3.png"/>
          <p:cNvPicPr/>
          <p:nvPr/>
        </p:nvPicPr>
        <p:blipFill>
          <a:blip r:embed="rId3"/>
          <a:stretch/>
        </p:blipFill>
        <p:spPr>
          <a:xfrm rot="1083600">
            <a:off x="3565440" y="552600"/>
            <a:ext cx="316404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1" name="Picture 2" descr="D:\hust work bag\个人\PPT演义\最近的作品\刘老师的婚礼PPT\图片\3.png"/>
          <p:cNvPicPr/>
          <p:nvPr/>
        </p:nvPicPr>
        <p:blipFill>
          <a:blip r:embed="rId4"/>
          <a:stretch/>
        </p:blipFill>
        <p:spPr>
          <a:xfrm rot="20537400">
            <a:off x="4128840" y="2706840"/>
            <a:ext cx="316368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2" name="Picture 2" descr="D:\hust work bag\个人\PPT演义\最近的作品\刘老师的婚礼PPT\图片\3.png"/>
          <p:cNvPicPr/>
          <p:nvPr/>
        </p:nvPicPr>
        <p:blipFill>
          <a:blip r:embed="rId5"/>
          <a:stretch/>
        </p:blipFill>
        <p:spPr>
          <a:xfrm rot="495000">
            <a:off x="1196640" y="2985840"/>
            <a:ext cx="316548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3" name="Picture 2" descr="D:\hust work bag\个人\PPT演义\最近的作品\刘老师的婚礼PPT\图片\3.png"/>
          <p:cNvPicPr/>
          <p:nvPr/>
        </p:nvPicPr>
        <p:blipFill>
          <a:blip r:embed="rId6"/>
          <a:stretch/>
        </p:blipFill>
        <p:spPr>
          <a:xfrm rot="20232600">
            <a:off x="558360" y="929880"/>
            <a:ext cx="316404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4" name="Picture 2" descr="D:\hust work bag\个人\PPT演义\最近的作品\刘老师的婚礼PPT\图片\3.png"/>
          <p:cNvPicPr/>
          <p:nvPr/>
        </p:nvPicPr>
        <p:blipFill>
          <a:blip r:embed="rId7"/>
          <a:stretch/>
        </p:blipFill>
        <p:spPr>
          <a:xfrm rot="1816200">
            <a:off x="5365800" y="817560"/>
            <a:ext cx="316548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5" name="Picture 2" descr="D:\hust work bag\个人\PPT演义\最近的作品\刘老师的婚礼PPT\图片\3.png"/>
          <p:cNvPicPr/>
          <p:nvPr/>
        </p:nvPicPr>
        <p:blipFill>
          <a:blip r:embed="rId8"/>
          <a:stretch/>
        </p:blipFill>
        <p:spPr>
          <a:xfrm rot="21270000">
            <a:off x="5460840" y="3041280"/>
            <a:ext cx="316404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6" name="Picture 2" descr="D:\hust work bag\个人\PPT演义\最近的作品\刘老师的婚礼PPT\图片\3.png"/>
          <p:cNvPicPr/>
          <p:nvPr/>
        </p:nvPicPr>
        <p:blipFill>
          <a:blip r:embed="rId9"/>
          <a:stretch/>
        </p:blipFill>
        <p:spPr>
          <a:xfrm rot="1227600">
            <a:off x="2457360" y="2676600"/>
            <a:ext cx="316548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7" name="Picture 2" descr="D:\hust work bag\个人\PPT演义\最近的作品\刘老师的婚礼PPT\图片\3.png"/>
          <p:cNvPicPr/>
          <p:nvPr/>
        </p:nvPicPr>
        <p:blipFill>
          <a:blip r:embed="rId10"/>
          <a:stretch/>
        </p:blipFill>
        <p:spPr>
          <a:xfrm rot="20965200">
            <a:off x="2268360" y="531720"/>
            <a:ext cx="3164040" cy="2371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A91-B66A-4095-BE7F-EBEF6CDB1403}" type="slidenum">
              <a:t>6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2" presetSubtype="8" repeatCount="1300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 repeatCount="13000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 repeatCount="13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2" presetSubtype="8" repeatCount="1300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2" presetSubtype="8" repeatCount="1300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 repeatCount="13000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 repeatCount="1300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2" presetSubtype="8" repeatCount="1300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2" presetSubtype="8" repeatCount="13000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2" presetSubtype="8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2" presetSubtype="8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2" presetSubtype="8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22" presetSubtype="8" repeatCount="13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2" presetSubtype="2" repeatCount="13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2" repeatCount="1300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2" repeatCount="13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2" repeatCount="13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2" repeatCount="13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2" repeatCount="1300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2" repeatCount="13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2" repeatCount="13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2" repeatCount="13000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2" presetSubtype="2" repeatCount="13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870200" y="831960"/>
            <a:ext cx="5403600" cy="405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56D-599F-41D8-A03B-934EECF03FC6}" type="slidenum">
              <a:t>7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9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J:\PHOTO\其他\幻灯片高手背景（部分）\023.jpg"/>
          <p:cNvPicPr/>
          <p:nvPr/>
        </p:nvPicPr>
        <p:blipFill>
          <a:blip r:embed="rId1"/>
          <a:stretch/>
        </p:blipFill>
        <p:spPr>
          <a:xfrm>
            <a:off x="-720720" y="-2287440"/>
            <a:ext cx="10671120" cy="800244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479960" y="998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相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3069000" y="179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相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4658040" y="258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相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87D-B57F-4A53-99D0-A8EA0AF2F5F7}" type="slidenum">
              <a:t>8</a:t>
            </a:fld>
          </a:p>
        </p:txBody>
      </p:sp>
    </p:spTree>
  </p:cSld>
  <p:transition spd="med" advTm="0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864E-006 L 0 0.3276 E">
                                      <p:cBhvr>
                                        <p:cTn id="440" dur="3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直接连接符 2"/>
          <p:cNvSpPr/>
          <p:nvPr/>
        </p:nvSpPr>
        <p:spPr>
          <a:xfrm>
            <a:off x="1332000" y="409680"/>
            <a:ext cx="691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9"/>
          <p:cNvSpPr/>
          <p:nvPr/>
        </p:nvSpPr>
        <p:spPr>
          <a:xfrm>
            <a:off x="3046320" y="84132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0"/>
          <p:cNvSpPr/>
          <p:nvPr/>
        </p:nvSpPr>
        <p:spPr>
          <a:xfrm>
            <a:off x="1116000" y="1262160"/>
            <a:ext cx="6696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心形 12"/>
          <p:cNvSpPr/>
          <p:nvPr/>
        </p:nvSpPr>
        <p:spPr>
          <a:xfrm rot="21018600">
            <a:off x="791640" y="195120"/>
            <a:ext cx="648000" cy="576360"/>
          </a:xfrm>
          <a:custGeom>
            <a:avLst/>
            <a:gdLst>
              <a:gd name="textAreaLeft" fmla="*/ 152280 w 648000"/>
              <a:gd name="textAreaRight" fmla="*/ 495360 w 648000"/>
              <a:gd name="textAreaTop" fmla="*/ 67680 h 576360"/>
              <a:gd name="textAreaBottom" fmla="*/ 361440 h 576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笑脸 18"/>
          <p:cNvSpPr/>
          <p:nvPr/>
        </p:nvSpPr>
        <p:spPr>
          <a:xfrm>
            <a:off x="2757600" y="552600"/>
            <a:ext cx="576000" cy="57600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太阳形 20"/>
          <p:cNvSpPr/>
          <p:nvPr/>
        </p:nvSpPr>
        <p:spPr>
          <a:xfrm rot="820800">
            <a:off x="7289640" y="830160"/>
            <a:ext cx="865440" cy="863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新月形 21"/>
          <p:cNvSpPr/>
          <p:nvPr/>
        </p:nvSpPr>
        <p:spPr>
          <a:xfrm rot="19497600">
            <a:off x="5454720" y="217440"/>
            <a:ext cx="43164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五角星 23"/>
          <p:cNvSpPr/>
          <p:nvPr/>
        </p:nvSpPr>
        <p:spPr>
          <a:xfrm rot="920400">
            <a:off x="4203360" y="990360"/>
            <a:ext cx="712800" cy="712800"/>
          </a:xfrm>
          <a:prstGeom prst="star5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D:\hust work bag\个人\PPT演义\最近的作品\刘老师的婚礼PPT\图片\3.png"/>
          <p:cNvPicPr/>
          <p:nvPr/>
        </p:nvPicPr>
        <p:blipFill>
          <a:blip r:embed="rId1"/>
          <a:stretch/>
        </p:blipFill>
        <p:spPr>
          <a:xfrm rot="21069000">
            <a:off x="630360" y="2127240"/>
            <a:ext cx="4138560" cy="3102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42" name="Picture 2" descr="D:\hust work bag\个人\PPT演义\最近的作品\刘老师的婚礼PPT\图片\3.png"/>
          <p:cNvPicPr/>
          <p:nvPr/>
        </p:nvPicPr>
        <p:blipFill>
          <a:blip r:embed="rId2"/>
          <a:stretch/>
        </p:blipFill>
        <p:spPr>
          <a:xfrm rot="798000">
            <a:off x="4512960" y="1990440"/>
            <a:ext cx="4138560" cy="3101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43" name="椭圆 31"/>
          <p:cNvSpPr/>
          <p:nvPr/>
        </p:nvSpPr>
        <p:spPr>
          <a:xfrm>
            <a:off x="1116000" y="105732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32"/>
          <p:cNvSpPr/>
          <p:nvPr/>
        </p:nvSpPr>
        <p:spPr>
          <a:xfrm>
            <a:off x="6064200" y="264960"/>
            <a:ext cx="1038240" cy="104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3"/>
          <p:cNvSpPr/>
          <p:nvPr/>
        </p:nvSpPr>
        <p:spPr>
          <a:xfrm>
            <a:off x="6543720" y="3527280"/>
            <a:ext cx="1119240" cy="112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4"/>
          <p:cNvSpPr/>
          <p:nvPr/>
        </p:nvSpPr>
        <p:spPr>
          <a:xfrm>
            <a:off x="4659480" y="2238480"/>
            <a:ext cx="1130040" cy="113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5"/>
          <p:cNvSpPr/>
          <p:nvPr/>
        </p:nvSpPr>
        <p:spPr>
          <a:xfrm>
            <a:off x="907920" y="3368520"/>
            <a:ext cx="1000080" cy="100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36"/>
          <p:cNvSpPr/>
          <p:nvPr/>
        </p:nvSpPr>
        <p:spPr>
          <a:xfrm>
            <a:off x="7548480" y="1941480"/>
            <a:ext cx="1000080" cy="100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37"/>
          <p:cNvSpPr/>
          <p:nvPr/>
        </p:nvSpPr>
        <p:spPr>
          <a:xfrm>
            <a:off x="3219480" y="57240"/>
            <a:ext cx="1144440" cy="11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38"/>
          <p:cNvSpPr/>
          <p:nvPr/>
        </p:nvSpPr>
        <p:spPr>
          <a:xfrm>
            <a:off x="2843280" y="436896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1"/>
          <p:cNvSpPr/>
          <p:nvPr/>
        </p:nvSpPr>
        <p:spPr>
          <a:xfrm>
            <a:off x="1933200" y="16034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梦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2"/>
          <p:cNvSpPr/>
          <p:nvPr/>
        </p:nvSpPr>
        <p:spPr>
          <a:xfrm>
            <a:off x="4170960" y="4448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约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3"/>
          <p:cNvSpPr/>
          <p:nvPr/>
        </p:nvSpPr>
        <p:spPr>
          <a:xfrm>
            <a:off x="7160040" y="22384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守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B44-5480-49DB-A046-3EE472E1C829}" type="slidenum">
              <a:t>9</a:t>
            </a:fld>
          </a:p>
        </p:txBody>
      </p:sp>
    </p:spTree>
  </p:cSld>
  <p:transition spd="med" advTm="0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2" presetSubtype="2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mph" presetID="32" repeatCount="8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32" repeatCount="7000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4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mph" presetID="32" repeatCount="7000">
                                  <p:stCondLst>
                                    <p:cond delay="1000"/>
                                  </p:stCondLst>
                                  <p:childTnLst>
                                    <p:animRot by="120000">
                                      <p:cBhvr>
                                        <p:cTn id="4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mph" presetID="32" repeatCount="7000">
                                  <p:stCondLst>
                                    <p:cond delay="1250"/>
                                  </p:stCondLst>
                                  <p:childTnLs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mph" presetID="32" repeatCount="7000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5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mph" presetID="32">
                                  <p:stCondLst>
                                    <p:cond delay="1250"/>
                                  </p:stCondLst>
                                  <p:childTnLst>
                                    <p:animRot by="120000">
                                      <p:cBhvr>
                                        <p:cTn id="5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10">
                                  <p:stCondLst>
                                    <p:cond delay="8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8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xit" presetID="10">
                                  <p:stCondLst>
                                    <p:cond delay="8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xit" presetID="10">
                                  <p:stCondLst>
                                    <p:cond delay="8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0">
                                  <p:stCondLst>
                                    <p:cond delay="8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10">
                                  <p:stCondLst>
                                    <p:cond delay="8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xit" presetID="10">
                                  <p:stCondLst>
                                    <p:cond delay="8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xit" presetID="10">
                                  <p:stCondLst>
                                    <p:cond delay="8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xit" presetID="10">
                                  <p:stCondLst>
                                    <p:cond delay="7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0">
                                  <p:stCondLst>
                                    <p:cond delay="7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xit" presetID="10">
                                  <p:stCondLst>
                                    <p:cond delay="7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1:5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13:05Z</dcterms:modified>
  <cp:revision>3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