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D4E-DD73-44E8-97E5-2F284E46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244-C140-4077-AE7C-D2B6BE6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201-370F-4508-8DB4-5B3AD406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B07-4D6D-4EAD-9490-06F548FB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F9B-9100-4BC0-86F1-28018A8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6A8-E7F2-4174-86B2-04101EF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670-C419-49FF-9B1A-8673356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0F8-3349-4B94-8B8F-05581DC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F19-4283-49DF-8493-68FAFBF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A75-A0DE-47C2-A86F-C5CB1A0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BE3-68E9-4A23-875A-E665C774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FF4-B1B9-43FE-AA82-BECDA2C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2ADD-8C09-4863-A866-7A553E95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view/43942.htm" TargetMode="External"/><Relationship Id="rId3" Type="http://schemas.openxmlformats.org/officeDocument/2006/relationships/hyperlink" Target="http://baike.baidu.com/view/2321.htm" TargetMode="External"/><Relationship Id="rId4" Type="http://schemas.openxmlformats.org/officeDocument/2006/relationships/hyperlink" Target="http://baike.baidu.com/view/750098.htm" TargetMode="External"/><Relationship Id="rId5" Type="http://schemas.openxmlformats.org/officeDocument/2006/relationships/hyperlink" Target="http://baike.baidu.com/view/2378971.htm" TargetMode="External"/><Relationship Id="rId6" Type="http://schemas.openxmlformats.org/officeDocument/2006/relationships/hyperlink" Target="http://baike.baidu.com/view/20989.htm" TargetMode="External"/><Relationship Id="rId7" Type="http://schemas.openxmlformats.org/officeDocument/2006/relationships/hyperlink" Target="http://baike.baidu.com/view/14158.htm" TargetMode="External"/><Relationship Id="rId8" Type="http://schemas.openxmlformats.org/officeDocument/2006/relationships/hyperlink" Target="http://baike.baidu.com/view/8333.htm" TargetMode="External"/><Relationship Id="rId9" Type="http://schemas.openxmlformats.org/officeDocument/2006/relationships/hyperlink" Target="http://baike.baidu.com/view/447074.htm" TargetMode="External"/><Relationship Id="rId10" Type="http://schemas.openxmlformats.org/officeDocument/2006/relationships/hyperlink" Target="http://baike.baidu.com/view/2062446.htm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191120"/>
            <a:ext cx="661824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楷体"/>
              </a:rPr>
              <a:t>火影忍者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57200" y="-257040"/>
            <a:ext cx="10058400" cy="711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5943600" y="5410080"/>
            <a:ext cx="304812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cap="rnd" w="12600">
                  <a:solidFill>
                    <a:srgbClr val="b2b2b2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>
                    <a:alphaModFix amt="91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火影忍者</a:t>
            </a:r>
            <a:endParaRPr b="1" i="1" lang="en-US" sz="8000" spc="1" strike="noStrike">
              <a:ln cap="rnd" w="12600">
                <a:solidFill>
                  <a:srgbClr val="b2b2b2"/>
                </a:solidFill>
                <a:custDash>
                  <a:ds d="100000" sp="1000"/>
                </a:custDash>
                <a:miter/>
              </a:ln>
              <a:blipFill rotWithShape="0">
                <a:blip r:embed="rId4">
                  <a:alphaModFix amt="91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745200" y="60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佐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572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人物主人公：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PMingLiU"/>
              </a:rPr>
              <a:t>漩涡鸣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12952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鸣人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我是绝对不会放弃的，因为这就是我的忍道 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本漫画家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岸本齐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品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火影忍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中男主角。因为身上封印着邪恶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九尾妖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无父无母的他受尽了村人的冷眼与歧视，他下定决心要成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火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让所有人都认同他的存在，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旗木卡卡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的带领下，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佐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小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起踏上了修行之路。 如今，他已经因为阻止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佩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袭击木叶而成为一名人人称道的英雄，并且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第四次忍界大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发挥着举足轻重的作用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395-66CB-4267-BD48-D0ED8C824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45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9:1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