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F02-6712-468A-96F9-4D980DD5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88E-0482-4162-923C-8E3E9E52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AE1-F9BF-4125-A870-E8E8D07E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B5D7-B2F4-499D-B745-3F251780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D90-F883-47D8-B34F-81D279D3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0B8-BD37-4D54-B658-4592B06F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8CA-4CA1-4D7E-AF33-F8D74BCB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68B-4869-4DC7-BB83-7F43AA6E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3E4-5526-4A68-86DC-FF9F9F8C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F18-61EA-453C-B329-4663225B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655-3ADB-42FB-A6DE-78D1D170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D75-DCB3-4065-B5EA-E70DD7E3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894B-E319-44EB-A1EE-65EC17248B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12_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f:\Users\charleslle\Desktop\新建文件夹\b1cf537e4ce7a50b68c5ce0b5c7b8f20.jpg"/>
          <p:cNvPicPr/>
          <p:nvPr/>
        </p:nvPicPr>
        <p:blipFill>
          <a:blip r:embed="rId2"/>
          <a:stretch/>
        </p:blipFill>
        <p:spPr>
          <a:xfrm>
            <a:off x="10800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3"/>
          <p:cNvSpPr/>
          <p:nvPr/>
        </p:nvSpPr>
        <p:spPr>
          <a:xfrm>
            <a:off x="0" y="30240"/>
            <a:ext cx="902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55320" y="44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火影忍者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免费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160200" y="214200"/>
            <a:ext cx="3703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我现在决定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我要走我自己的忍道，朝着一条绝对不会后悔的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直往前走！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漩涡鸣人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CE4-6C99-4F71-8FF0-BB78D2EFC0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矩形 1"/>
          <p:cNvSpPr/>
          <p:nvPr/>
        </p:nvSpPr>
        <p:spPr>
          <a:xfrm>
            <a:off x="0" y="468360"/>
            <a:ext cx="530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我是不会逃避的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说到做到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这就是我的忍道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f:\Users\charleslle\Desktop\新建文件夹\2897e9e2332846c80106ca2559ca168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0" y="184320"/>
            <a:ext cx="64864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思念你的人所在的地方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就是你的归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f:\Users\charleslle\Desktop\新建文件夹\u=2488985739,195758057&amp;fm=23&amp;gp=0.jpg"/>
          <p:cNvPicPr/>
          <p:nvPr/>
        </p:nvPicPr>
        <p:blipFill>
          <a:blip r:embed="rId2"/>
          <a:stretch/>
        </p:blipFill>
        <p:spPr>
          <a:xfrm>
            <a:off x="2765520" y="0"/>
            <a:ext cx="637848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矩形 2"/>
          <p:cNvSpPr/>
          <p:nvPr/>
        </p:nvSpPr>
        <p:spPr>
          <a:xfrm>
            <a:off x="0" y="12600"/>
            <a:ext cx="3371760" cy="6674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正因为不完美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正因为有失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才能再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坚强地站起来面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我认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这种坚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才是真正的强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f:\Users\charleslle\Desktop\2d19a525f5f2149028300b53ec20dbf7.jpg"/>
          <p:cNvPicPr/>
          <p:nvPr/>
        </p:nvPicPr>
        <p:blipFill>
          <a:blip r:embed="rId2"/>
          <a:stretch/>
        </p:blipFill>
        <p:spPr>
          <a:xfrm>
            <a:off x="0" y="-549360"/>
            <a:ext cx="9144000" cy="804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97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0" y="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我们的职责就是为下一代做好榜样，协助他们，也正因为此                      才会笑着献出生命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这才是老者的风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自来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530208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0" y="0"/>
            <a:ext cx="815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我身上背负的太多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所以绝对不容失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波风水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2"/>
          <p:cNvSpPr/>
          <p:nvPr/>
        </p:nvSpPr>
        <p:spPr>
          <a:xfrm>
            <a:off x="0" y="12600"/>
            <a:ext cx="2435400" cy="6845400"/>
          </a:xfrm>
          <a:prstGeom prst="rect">
            <a:avLst/>
          </a:prstGeom>
          <a:solidFill>
            <a:srgbClr val="eded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" descr=""/>
          <p:cNvPicPr/>
          <p:nvPr/>
        </p:nvPicPr>
        <p:blipFill>
          <a:blip r:embed="rId2"/>
          <a:stretch/>
        </p:blipFill>
        <p:spPr>
          <a:xfrm>
            <a:off x="2435400" y="12600"/>
            <a:ext cx="6696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"/>
          <p:cNvSpPr/>
          <p:nvPr/>
        </p:nvSpPr>
        <p:spPr>
          <a:xfrm>
            <a:off x="0" y="0"/>
            <a:ext cx="80233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别小看我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我绝不会放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我接受考试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就算一生只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当下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我也会成为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影给你们看的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没什么了不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我才不怕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我说过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话不会反悔，这就是我的忍道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漩涡鸣人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f:\Users\charleslle\Desktop\11e238c3635e6884472076462e1e5d1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矩形 5"/>
          <p:cNvSpPr/>
          <p:nvPr/>
        </p:nvSpPr>
        <p:spPr>
          <a:xfrm>
            <a:off x="0" y="449280"/>
            <a:ext cx="8393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虽然团队协作很重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但是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这次我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独自渡过这座险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如果不能渡过它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我就永远只能是个小鬼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漩涡鸣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6:0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14:4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