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0E1-3059-4DFC-B99B-4864D250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12E-DF34-4858-A84B-70DAD0B0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6CA-8B20-4C21-BE8F-7742E7E5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F71-398B-47A0-83CF-F0B38EEC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E16-8EBA-4922-ADA6-59360254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29AE-35E5-420D-B732-8DC2D0A0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E251-97AB-45AD-81E2-E4DBA86A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FF81-314E-45DB-88F3-089C90DC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96D7-A5A5-4E1A-9B2C-354EA520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20A6-BF1B-4F03-806E-CEAA129E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4D8A-DABF-4EA2-B5A6-BA32814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039-A85C-42A7-955A-7249E06E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DBB1-6634-430E-AB42-22E59DF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91A-F37E-47F9-90CF-58AF21D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8A34-9B0B-4C75-9AD4-722DA6D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53B3-392B-4440-A2DC-3EBBC977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DD1A-AB7F-4F50-B032-927F50BC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436F-63D4-4824-B43E-ACEE2EF5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76F0-4A29-42EF-AFA4-2C1B9318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8946-F6D5-406E-A073-F64571F9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74DD-7597-4F4E-B670-85B07BEF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DB98-F3DA-446D-80A2-412E0382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A84-703F-4E18-AC81-B5C809E9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A06B-9F3C-4C7A-BBDD-2C55545E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41BF-360F-4141-B551-7E90AE2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864F-9EC5-4561-B76B-D443902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E641-182F-4229-A4F7-A926A431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7A5A-81E4-4402-9C94-4C72129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99D8-BCD5-4A2F-A30A-AD6AA881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9BA9-32E1-4561-8294-4654FCC2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0B5-E792-4E98-A88D-5FF91047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0D8-EAA6-4257-8045-89931E4E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C54-AAC2-4DE0-9BA8-18E745AC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F37-D199-4C80-AD76-C723CE1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C67-AF70-467F-9BD0-FF0E070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75B-0E2A-42A4-90F4-8385928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3489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63490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任意多边形 63491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任意多边形 63492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任意多边形 63493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任意多边形 63494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任意多边形 63495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任意多边形 63496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任意多边形 63497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任意多边形 63498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任意多边形 63499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任意多边形 63500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矩形 63501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矩形 63502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任意多边形 63503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任意多边形 63504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任意多边形 63505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任意多边形 63506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任意多边形 63507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任意多边形 63508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任意多边形 63509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任意多边形 63510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任意多边形 63511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任意多边形 63512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矩形 63513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矩形 63514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任意多边形 63515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任意多边形 63516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任意多边形 63517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任意多边形 63518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任意多边形 63519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任意多边形 63520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任意多边形 63521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任意多边形 63522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任意多边形 63523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任意多边形 63524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矩形 63525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矩形 63526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任意多边形 63527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任意多边形 63528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任意多边形 63529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任意多边形 63530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任意多边形 63531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任意多边形 63532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任意多边形 63533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任意多边形 63534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任意多边形 63535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任意多边形 63536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矩形 63537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矩形 63538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任意多边形 63539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任意多边形 63540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任意多边形 63541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任意多边形 63542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任意多边形 63543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任意多边形 63544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任意多边形 63545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任意多边形 63546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任意多边形 63547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任意多边形 63548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矩形 63549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矩形 63550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任意多边形 63551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任意多边形 63552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任意多边形 63553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任意多边形 63554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任意多边形 63555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任意多边形 63556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任意多边形 63557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任意多边形 63558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任意多边形 63559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任意多边形 63560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矩形 63561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矩形 63562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任意多边形 63563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任意多边形 63564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任意多边形 63565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任意多边形 63566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任意多边形 63567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任意多边形 63568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任意多边形 63569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任意多边形 63570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任意多边形 63571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任意多边形 63572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矩形 63573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矩形 63574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任意多边形 63575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任意多边形 63576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任意多边形 63577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任意多边形 63578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任意多边形 63579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任意多边形 63580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任意多边形 63581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任意多边形 63582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任意多边形 63583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任意多边形 63584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矩形 63585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矩形 63586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任意多边形 63587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任意多边形 63588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任意多边形 63589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任意多边形 63590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任意多边形 63591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任意多边形 63592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任意多边形 63593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任意多边形 63594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任意多边形 63595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任意多边形 63596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矩形 63597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矩形 63598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任意多边形 63599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任意多边形 63600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任意多边形 63601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任意多边形 63602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任意多边形 63603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任意多边形 63604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任意多边形 63605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任意多边形 63606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任意多边形 63607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任意多边形 63608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矩形 63609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矩形 63610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任意多边形 63611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任意多边形 63612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任意多边形 63613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任意多边形 63614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任意多边形 63615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任意多边形 63616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任意多边形 63617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任意多边形 63618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任意多边形 63619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任意多边形 63620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矩形 63621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矩形 63622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任意多边形 63623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任意多边形 63624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任意多边形 63625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任意多边形 63626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任意多边形 63627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任意多边形 63628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任意多边形 63629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任意多边形 63630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任意多边形 63631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任意多边形 63632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矩形 63633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任意多边形 63634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组合 63635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63636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任意多边形 63637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任意多边形 63638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任意多边形 63639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63640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任意多边形 63641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任意多边形 63642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任意多边形 63643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任意多边形 63644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任意多边形 63645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任意多边形 63646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任意多边形 63647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任意多边形 63648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组合 63649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63650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63651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任意多边形 63652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63653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63654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任意多边形 63655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任意多边形 63656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63657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63658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任意多边形 63659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任意多边形 63660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任意多边形 63661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任意多边形 63662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组合 63663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63664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任意多边形 63665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63666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任意多边形 63667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任意多边形 63668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任意多边形 63669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任意多边形 63670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任意多边形 63671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任意多边形 63672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任意多边形 63673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任意多边形 63674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任意多边形 63675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任意多边形 63676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组合 63677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63678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任意多边形 63679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任意多边形 63680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任意多边形 63681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任意多边形 63682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任意多边形 63683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任意多边形 63684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任意多边形 63685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任意多边形 63686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63687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任意多边形 63688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任意多边形 63689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任意多边形 63690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组合 63691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63692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任意多边形 63693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任意多边形 63694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任意多边形 63695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任意多边形 63696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任意多边形 63697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任意多边形 63698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任意多边形 63699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任意多边形 63700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任意多边形 63701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任意多边形 63702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任意多边形 63703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任意多边形 63704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组合 63705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63706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任意多边形 63707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任意多边形 63708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任意多边形 63709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任意多边形 63710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任意多边形 63711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任意多边形 63712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任意多边形 63713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任意多边形 63714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任意多边形 63715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任意多边形 63716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任意多边形 63717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任意多边形 63718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组合 63719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63720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组合 63721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63722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任意多边形 63723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任意多边形 63724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任意多边形 63725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任意多边形 63726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任意多边形 63727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任意多边形 63728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任意多边形 63729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任意多边形 63730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任意多边形 63731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任意多边形 63732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任意多边形 63733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任意多边形 63734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F342-C352-4F3D-B6C6-A0C156E0A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7935-150B-4AC7-A172-E0F5BF6B7C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77AF-062F-4D72-BB80-8B29B2BD54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任意多边形 64513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组合 64514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任意多边形 64515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任意多边形 64516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任意多边形 64517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任意多边形 64518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任意多边形 64519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任意多边形 64520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任意多边形 64521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任意多边形 64522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任意多边形 64523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任意多边形 64524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任意多边形 64525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任意多边形 64526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任意多边形 64527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组合 64528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矩形 64529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任意多边形 64530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任意多边形 64531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任意多边形 64532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任意多边形 64533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任意多边形 64534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任意多边形 64535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任意多边形 64536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任意多边形 64537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任意多边形 64538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任意多边形 64539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矩形 64540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矩形 64541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任意多边形 64542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任意多边形 64543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任意多边形 64544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任意多边形 64545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任意多边形 64546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任意多边形 64547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任意多边形 64548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任意多边形 64549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任意多边形 64550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任意多边形 64551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矩形 64552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矩形 64553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任意多边形 64554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任意多边形 64555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任意多边形 64556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任意多边形 64557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任意多边形 64558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任意多边形 64559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任意多边形 64560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任意多边形 64561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任意多边形 64562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任意多边形 64563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矩形 64564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矩形 64565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任意多边形 64566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任意多边形 64567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任意多边形 64568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任意多边形 64569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任意多边形 64570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任意多边形 64571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任意多边形 64572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任意多边形 64573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任意多边形 64574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任意多边形 64575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矩形 64576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矩形 64577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任意多边形 64578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任意多边形 64579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任意多边形 64580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任意多边形 64581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任意多边形 64582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任意多边形 64583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任意多边形 64584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任意多边形 64585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任意多边形 64586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任意多边形 64587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矩形 64588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矩形 64589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任意多边形 64590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任意多边形 64591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任意多边形 64592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任意多边形 64593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任意多边形 64594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任意多边形 64595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任意多边形 64596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任意多边形 64597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任意多边形 64598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任意多边形 64599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矩形 64600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矩形 64601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任意多边形 64602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任意多边形 64603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任意多边形 64604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任意多边形 64605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任意多边形 64606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任意多边形 64607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任意多边形 64608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任意多边形 64609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任意多边形 64610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任意多边形 64611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矩形 64612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矩形 64613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任意多边形 64614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任意多边形 64615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任意多边形 64616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任意多边形 64617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任意多边形 64618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任意多边形 64619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任意多边形 64620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任意多边形 64621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任意多边形 64622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任意多边形 64623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矩形 64624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矩形 64625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任意多边形 64626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任意多边形 64627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任意多边形 64628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任意多边形 64629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任意多边形 64630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任意多边形 64631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任意多边形 64632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任意多边形 64633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任意多边形 64634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任意多边形 64635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矩形 64636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矩形 64637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任意多边形 64638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任意多边形 64639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任意多边形 64640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任意多边形 64641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任意多边形 64642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任意多边形 64643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任意多边形 64644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任意多边形 64645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任意多边形 64646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任意多边形 64647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矩形 64648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矩形 64649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任意多边形 64650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任意多边形 64651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任意多边形 64652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任意多边形 64653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任意多边形 64654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任意多边形 64655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任意多边形 64656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任意多边形 64657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任意多边形 64658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任意多边形 64659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矩形 64660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矩形 64661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任意多边形 64662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任意多边形 64663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任意多边形 64664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任意多边形 64665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任意多边形 64666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任意多边形 64667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任意多边形 64668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任意多边形 64669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任意多边形 64670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任意多边形 64671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矩形 64672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任意多边形 64673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组合 64679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任意多边形 64680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任意多边形 64681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任意多边形 64682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任意多边形 64683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任意多边形 64684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任意多边形 64685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任意多边形 64686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任意多边形 64687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任意多边形 64688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任意多边形 64689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任意多边形 64690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任意多边形 64691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任意多边形 64692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13ED-C516-4D47-B23C-EB832FD0B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24580"/>
          <p:cNvSpPr txBox="1"/>
          <p:nvPr/>
        </p:nvSpPr>
        <p:spPr>
          <a:xfrm>
            <a:off x="1332000" y="162864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sq"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欢迎同学们走进生物课堂</a:t>
            </a:r>
            <a:endParaRPr b="0" lang="en-US" sz="4400" spc="1" strike="noStrike">
              <a:ln cap="sq"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5" name="TRACK01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114691"/>
          <p:cNvSpPr/>
          <p:nvPr/>
        </p:nvSpPr>
        <p:spPr>
          <a:xfrm>
            <a:off x="3567960" y="488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三）生物体都具有应激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114692"/>
          <p:cNvSpPr/>
          <p:nvPr/>
        </p:nvSpPr>
        <p:spPr>
          <a:xfrm>
            <a:off x="735120" y="12812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文本框 114693"/>
          <p:cNvSpPr/>
          <p:nvPr/>
        </p:nvSpPr>
        <p:spPr>
          <a:xfrm>
            <a:off x="912960" y="1341360"/>
            <a:ext cx="14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．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文本框 114694"/>
          <p:cNvSpPr/>
          <p:nvPr/>
        </p:nvSpPr>
        <p:spPr>
          <a:xfrm>
            <a:off x="4487760" y="206064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物体对外界刺激都能发生的一定的反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文本框 114695"/>
          <p:cNvSpPr/>
          <p:nvPr/>
        </p:nvSpPr>
        <p:spPr>
          <a:xfrm>
            <a:off x="1407960" y="28494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举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文本框 114696"/>
          <p:cNvSpPr/>
          <p:nvPr/>
        </p:nvSpPr>
        <p:spPr>
          <a:xfrm>
            <a:off x="1710000" y="3441600"/>
            <a:ext cx="23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老鼠听见猫叫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文本框 114697"/>
          <p:cNvSpPr/>
          <p:nvPr/>
        </p:nvSpPr>
        <p:spPr>
          <a:xfrm>
            <a:off x="1730520" y="4289400"/>
            <a:ext cx="23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鱼饵投入水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文本框 114698"/>
          <p:cNvSpPr/>
          <p:nvPr/>
        </p:nvSpPr>
        <p:spPr>
          <a:xfrm>
            <a:off x="3891240" y="5170320"/>
            <a:ext cx="8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植物根的向地性和茎的向光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文本框 114699"/>
          <p:cNvSpPr/>
          <p:nvPr/>
        </p:nvSpPr>
        <p:spPr>
          <a:xfrm>
            <a:off x="5825520" y="3425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立即躲进洞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文本框 114700"/>
          <p:cNvSpPr/>
          <p:nvPr/>
        </p:nvSpPr>
        <p:spPr>
          <a:xfrm>
            <a:off x="6158880" y="4289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招引许多鱼来取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矩形 115715"/>
          <p:cNvSpPr/>
          <p:nvPr/>
        </p:nvSpPr>
        <p:spPr>
          <a:xfrm>
            <a:off x="4142520" y="11484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四）生物体都有生长、发育和生殖现象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539640" y="1197000"/>
          <a:ext cx="3886200" cy="439272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平均年龄（年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蝙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859280" y="1952640"/>
          <a:ext cx="3828960" cy="2628720"/>
        </p:xfrm>
        <a:graphic>
          <a:graphicData uri="http://schemas.openxmlformats.org/drawingml/2006/table">
            <a:tbl>
              <a:tblPr/>
              <a:tblGrid>
                <a:gridCol w="1619280"/>
                <a:gridCol w="220968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平均年龄（年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刺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石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巨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文本框 115759"/>
          <p:cNvSpPr/>
          <p:nvPr/>
        </p:nvSpPr>
        <p:spPr>
          <a:xfrm>
            <a:off x="3214800" y="59500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种动物和植物的年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116739"/>
          <p:cNvSpPr/>
          <p:nvPr/>
        </p:nvSpPr>
        <p:spPr>
          <a:xfrm>
            <a:off x="3680640" y="88416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种瓜得瓜，种豆得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文本框 116740"/>
          <p:cNvSpPr/>
          <p:nvPr/>
        </p:nvSpPr>
        <p:spPr>
          <a:xfrm>
            <a:off x="2725200" y="19890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龙生龙，凤生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老鼠生的儿子会打洞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文本框 116741"/>
          <p:cNvSpPr/>
          <p:nvPr/>
        </p:nvSpPr>
        <p:spPr>
          <a:xfrm>
            <a:off x="3949560" y="386064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母生九仔，连母十个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117763"/>
          <p:cNvSpPr/>
          <p:nvPr/>
        </p:nvSpPr>
        <p:spPr>
          <a:xfrm>
            <a:off x="4041360" y="40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五）生物体都有遗传和变异的特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文本框 117764"/>
          <p:cNvSpPr/>
          <p:nvPr/>
        </p:nvSpPr>
        <p:spPr>
          <a:xfrm>
            <a:off x="981000" y="1281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一）遗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文本框 117765"/>
          <p:cNvSpPr/>
          <p:nvPr/>
        </p:nvSpPr>
        <p:spPr>
          <a:xfrm>
            <a:off x="3966120" y="2057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一代的特性和下一代的相同或相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文本框 117766"/>
          <p:cNvSpPr/>
          <p:nvPr/>
        </p:nvSpPr>
        <p:spPr>
          <a:xfrm>
            <a:off x="1404000" y="28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文本框 117767"/>
          <p:cNvSpPr/>
          <p:nvPr/>
        </p:nvSpPr>
        <p:spPr>
          <a:xfrm>
            <a:off x="3907800" y="2849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猫的后代都长胡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文本框 117768"/>
          <p:cNvSpPr/>
          <p:nvPr/>
        </p:nvSpPr>
        <p:spPr>
          <a:xfrm>
            <a:off x="381240" y="3713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二）变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文本框 117769"/>
          <p:cNvSpPr/>
          <p:nvPr/>
        </p:nvSpPr>
        <p:spPr>
          <a:xfrm>
            <a:off x="4418640" y="45784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一代的特性和下一代或同代之间存在着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文本框 117770"/>
          <p:cNvSpPr/>
          <p:nvPr/>
        </p:nvSpPr>
        <p:spPr>
          <a:xfrm>
            <a:off x="1259640" y="529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文本框 117771"/>
          <p:cNvSpPr/>
          <p:nvPr/>
        </p:nvSpPr>
        <p:spPr>
          <a:xfrm>
            <a:off x="4767480" y="52974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同一母猫得后代毛色各不相同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文本框 106501"/>
          <p:cNvSpPr/>
          <p:nvPr/>
        </p:nvSpPr>
        <p:spPr>
          <a:xfrm>
            <a:off x="4052160" y="415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六）生物体都能适应和影响一定的环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文本框 106502"/>
          <p:cNvSpPr/>
          <p:nvPr/>
        </p:nvSpPr>
        <p:spPr>
          <a:xfrm>
            <a:off x="2694240" y="138600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生物体都能适应一定的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文本框 106503"/>
          <p:cNvSpPr/>
          <p:nvPr/>
        </p:nvSpPr>
        <p:spPr>
          <a:xfrm>
            <a:off x="1023480" y="2262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文本框 106505"/>
          <p:cNvSpPr/>
          <p:nvPr/>
        </p:nvSpPr>
        <p:spPr>
          <a:xfrm>
            <a:off x="2299680" y="2276640"/>
            <a:ext cx="155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ea typeface="华文新魏"/>
              </a:rPr>
              <a:t>枯叶蝶和枯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文本框 106506"/>
          <p:cNvSpPr/>
          <p:nvPr/>
        </p:nvSpPr>
        <p:spPr>
          <a:xfrm>
            <a:off x="2299680" y="3139920"/>
            <a:ext cx="155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ea typeface="华文新魏"/>
              </a:rPr>
              <a:t>竹节虫和竹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07523"/>
          <p:cNvSpPr/>
          <p:nvPr/>
        </p:nvSpPr>
        <p:spPr>
          <a:xfrm>
            <a:off x="1391400" y="22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适应性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文本框 107524"/>
          <p:cNvSpPr/>
          <p:nvPr/>
        </p:nvSpPr>
        <p:spPr>
          <a:xfrm>
            <a:off x="1972440" y="1154160"/>
            <a:ext cx="515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物形态结构和生理功能表现出与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相适应的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文本框 107525"/>
          <p:cNvSpPr/>
          <p:nvPr/>
        </p:nvSpPr>
        <p:spPr>
          <a:xfrm>
            <a:off x="8074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文本框 107526"/>
          <p:cNvSpPr/>
          <p:nvPr/>
        </p:nvSpPr>
        <p:spPr>
          <a:xfrm>
            <a:off x="3835440" y="2637000"/>
            <a:ext cx="7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青草地里的昆虫多数是绿色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文本框 107527"/>
          <p:cNvSpPr/>
          <p:nvPr/>
        </p:nvSpPr>
        <p:spPr>
          <a:xfrm>
            <a:off x="3304440" y="342900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生长在沙漠地带的仙人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叶片已演变成刺状，肉质茎有贮水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文本框 107528"/>
          <p:cNvSpPr/>
          <p:nvPr/>
        </p:nvSpPr>
        <p:spPr>
          <a:xfrm>
            <a:off x="2502360" y="4935600"/>
            <a:ext cx="36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适应性需通过长期的自然选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需要很长的时间才能形成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文本框 118787"/>
          <p:cNvSpPr/>
          <p:nvPr/>
        </p:nvSpPr>
        <p:spPr>
          <a:xfrm>
            <a:off x="2592000" y="74124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生物体能影响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文本框 118788"/>
          <p:cNvSpPr/>
          <p:nvPr/>
        </p:nvSpPr>
        <p:spPr>
          <a:xfrm>
            <a:off x="665640" y="16765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文本框 118789"/>
          <p:cNvSpPr/>
          <p:nvPr/>
        </p:nvSpPr>
        <p:spPr>
          <a:xfrm>
            <a:off x="2691360" y="450864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地衣能适应在岩石上生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又能分泌地衣酸使岩石产生裂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文本框 118790"/>
          <p:cNvSpPr/>
          <p:nvPr/>
        </p:nvSpPr>
        <p:spPr>
          <a:xfrm>
            <a:off x="4152960" y="1700280"/>
            <a:ext cx="7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蚯蚓能适应土壤生活，又能疏松土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文本框 118791"/>
          <p:cNvSpPr/>
          <p:nvPr/>
        </p:nvSpPr>
        <p:spPr>
          <a:xfrm>
            <a:off x="4257720" y="3127320"/>
            <a:ext cx="7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莲，既能适应水生环境，又能净化水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文本框 118792"/>
          <p:cNvSpPr/>
          <p:nvPr/>
        </p:nvSpPr>
        <p:spPr>
          <a:xfrm>
            <a:off x="2250720" y="378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出淤泥而不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文本框 118793"/>
          <p:cNvSpPr/>
          <p:nvPr/>
        </p:nvSpPr>
        <p:spPr>
          <a:xfrm>
            <a:off x="2653200" y="2335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土壤工程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108549" descr="xl16_big"/>
          <p:cNvPicPr/>
          <p:nvPr/>
        </p:nvPicPr>
        <p:blipFill>
          <a:blip r:embed="rId1"/>
          <a:stretch/>
        </p:blipFill>
        <p:spPr>
          <a:xfrm>
            <a:off x="-36360" y="0"/>
            <a:ext cx="476568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文本框 108550"/>
          <p:cNvSpPr/>
          <p:nvPr/>
        </p:nvSpPr>
        <p:spPr>
          <a:xfrm>
            <a:off x="209160" y="6162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钟乳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文本框 108551"/>
          <p:cNvSpPr/>
          <p:nvPr/>
        </p:nvSpPr>
        <p:spPr>
          <a:xfrm>
            <a:off x="4982040" y="1181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文本框 108552"/>
          <p:cNvSpPr/>
          <p:nvPr/>
        </p:nvSpPr>
        <p:spPr>
          <a:xfrm>
            <a:off x="5457600" y="2122560"/>
            <a:ext cx="29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钟乳石能越长越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那它是不是生物？为什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文本框 121857"/>
          <p:cNvSpPr/>
          <p:nvPr/>
        </p:nvSpPr>
        <p:spPr>
          <a:xfrm>
            <a:off x="1686240" y="476280"/>
            <a:ext cx="568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取水池中发绿的水一滴，制成装片，在显微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下观察，会发现一些生物存在。说明确认它们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物的依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文本框 121858"/>
          <p:cNvSpPr/>
          <p:nvPr/>
        </p:nvSpPr>
        <p:spPr>
          <a:xfrm>
            <a:off x="1663200" y="21193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细胞结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文本框 121859"/>
          <p:cNvSpPr/>
          <p:nvPr/>
        </p:nvSpPr>
        <p:spPr>
          <a:xfrm>
            <a:off x="1572840" y="298440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应激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文本框 121860"/>
          <p:cNvSpPr/>
          <p:nvPr/>
        </p:nvSpPr>
        <p:spPr>
          <a:xfrm>
            <a:off x="1591560" y="386064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能生长繁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文本框 122881"/>
          <p:cNvSpPr/>
          <p:nvPr/>
        </p:nvSpPr>
        <p:spPr>
          <a:xfrm>
            <a:off x="2010960" y="907920"/>
            <a:ext cx="487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解剖镜下可以观察到：向水螅身体附近加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少许墨水，水螅体表会发出刺丝，这是生物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具有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现象的实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文本框 122882"/>
          <p:cNvSpPr/>
          <p:nvPr/>
        </p:nvSpPr>
        <p:spPr>
          <a:xfrm>
            <a:off x="1691280" y="1724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华文新魏"/>
              </a:rPr>
              <a:t>应激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文本框 122883"/>
          <p:cNvSpPr/>
          <p:nvPr/>
        </p:nvSpPr>
        <p:spPr>
          <a:xfrm>
            <a:off x="1750320" y="2973240"/>
            <a:ext cx="579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家鸡与原鸡相似，但产卵量远远超过了原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这说明生物体具有的特征是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文本框 122884"/>
          <p:cNvSpPr/>
          <p:nvPr/>
        </p:nvSpPr>
        <p:spPr>
          <a:xfrm>
            <a:off x="1936800" y="4268880"/>
            <a:ext cx="37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应激性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适应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遗传性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变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文本框 122886"/>
          <p:cNvSpPr/>
          <p:nvPr/>
        </p:nvSpPr>
        <p:spPr>
          <a:xfrm>
            <a:off x="5717160" y="333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  <a:ea typeface="华文新魏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文本框 122887"/>
          <p:cNvSpPr/>
          <p:nvPr/>
        </p:nvSpPr>
        <p:spPr>
          <a:xfrm>
            <a:off x="7219080" y="333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  <a:ea typeface="华文新魏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1027"/>
          <p:cNvSpPr/>
          <p:nvPr/>
        </p:nvSpPr>
        <p:spPr>
          <a:xfrm>
            <a:off x="395280" y="24271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研究</a:t>
            </a:r>
            <a:r>
              <a:rPr b="0" lang="zh-CN" sz="3600" spc="-1" strike="noStrike">
                <a:solidFill>
                  <a:srgbClr val="e40000"/>
                </a:solidFill>
                <a:latin typeface="华文新魏"/>
                <a:ea typeface="华文新魏"/>
              </a:rPr>
              <a:t>生命现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zh-CN" sz="3600" spc="-1" strike="noStrike">
                <a:solidFill>
                  <a:srgbClr val="e40000"/>
                </a:solidFill>
                <a:latin typeface="华文新魏"/>
                <a:ea typeface="华文新魏"/>
              </a:rPr>
              <a:t>生命活动规律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科学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文本框 1028"/>
          <p:cNvSpPr/>
          <p:nvPr/>
        </p:nvSpPr>
        <p:spPr>
          <a:xfrm>
            <a:off x="179280" y="37958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二）研究对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文本框 1029"/>
          <p:cNvSpPr/>
          <p:nvPr/>
        </p:nvSpPr>
        <p:spPr>
          <a:xfrm>
            <a:off x="171360" y="1219320"/>
            <a:ext cx="32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一）概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文本框 1030"/>
          <p:cNvSpPr/>
          <p:nvPr/>
        </p:nvSpPr>
        <p:spPr>
          <a:xfrm>
            <a:off x="1403280" y="50198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文本框 1034"/>
          <p:cNvSpPr/>
          <p:nvPr/>
        </p:nvSpPr>
        <p:spPr>
          <a:xfrm>
            <a:off x="2895480" y="25416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生物科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123905"/>
          <p:cNvSpPr/>
          <p:nvPr/>
        </p:nvSpPr>
        <p:spPr>
          <a:xfrm>
            <a:off x="3007080" y="1193760"/>
            <a:ext cx="6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一）描述性生物学阶段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文本框 123906"/>
          <p:cNvSpPr/>
          <p:nvPr/>
        </p:nvSpPr>
        <p:spPr>
          <a:xfrm>
            <a:off x="2918160" y="3398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三、生物科学的发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文本框 123908"/>
          <p:cNvSpPr/>
          <p:nvPr/>
        </p:nvSpPr>
        <p:spPr>
          <a:xfrm>
            <a:off x="2920320" y="1892160"/>
            <a:ext cx="350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世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代，德国植物学家施莱登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动物学家施旺提出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华文新魏"/>
              </a:rPr>
              <a:t>细胞学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文本框 123909"/>
          <p:cNvSpPr/>
          <p:nvPr/>
        </p:nvSpPr>
        <p:spPr>
          <a:xfrm>
            <a:off x="4312440" y="3200400"/>
            <a:ext cx="13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内容：一切的动物和植物都是由细胞构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细胞是生命的基本单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文本框 123910"/>
          <p:cNvSpPr/>
          <p:nvPr/>
        </p:nvSpPr>
        <p:spPr>
          <a:xfrm>
            <a:off x="2181240" y="4570560"/>
            <a:ext cx="46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8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，英国生物学家达尔文出版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物种起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文本框 123911"/>
          <p:cNvSpPr/>
          <p:nvPr/>
        </p:nvSpPr>
        <p:spPr>
          <a:xfrm>
            <a:off x="2526480" y="56484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主要内容：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华文新魏"/>
              </a:rPr>
              <a:t>自然选择学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文本框 124929"/>
          <p:cNvSpPr/>
          <p:nvPr/>
        </p:nvSpPr>
        <p:spPr>
          <a:xfrm>
            <a:off x="2890440" y="40464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二）、实验生物学阶段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文本框 124930"/>
          <p:cNvSpPr/>
          <p:nvPr/>
        </p:nvSpPr>
        <p:spPr>
          <a:xfrm>
            <a:off x="3117600" y="131616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，孟德尔遗传定律重新提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文本框 124931"/>
          <p:cNvSpPr/>
          <p:nvPr/>
        </p:nvSpPr>
        <p:spPr>
          <a:xfrm>
            <a:off x="539640" y="2060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分子生物学阶段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文本框 124932"/>
          <p:cNvSpPr/>
          <p:nvPr/>
        </p:nvSpPr>
        <p:spPr>
          <a:xfrm>
            <a:off x="900000" y="346248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美国生物学家艾弗里首次证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遗传物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文本框 124933"/>
          <p:cNvSpPr/>
          <p:nvPr/>
        </p:nvSpPr>
        <p:spPr>
          <a:xfrm>
            <a:off x="826920" y="485928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美国沃森，英国克里克提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螺旋结构模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文本框 124935"/>
          <p:cNvSpPr/>
          <p:nvPr/>
        </p:nvSpPr>
        <p:spPr>
          <a:xfrm>
            <a:off x="1884600" y="2765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主要研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文本框 124936"/>
          <p:cNvSpPr/>
          <p:nvPr/>
        </p:nvSpPr>
        <p:spPr>
          <a:xfrm>
            <a:off x="4063680" y="2765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华文新魏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华文新魏"/>
              </a:rPr>
              <a:t>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125957" descr="1"/>
          <p:cNvPicPr/>
          <p:nvPr/>
        </p:nvPicPr>
        <p:blipFill>
          <a:blip r:embed="rId1"/>
          <a:stretch/>
        </p:blipFill>
        <p:spPr>
          <a:xfrm>
            <a:off x="1403280" y="0"/>
            <a:ext cx="5986440" cy="652464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125958"/>
          <p:cNvSpPr/>
          <p:nvPr/>
        </p:nvSpPr>
        <p:spPr>
          <a:xfrm>
            <a:off x="2942280" y="628488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分子结构模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文本框 126979"/>
          <p:cNvSpPr/>
          <p:nvPr/>
        </p:nvSpPr>
        <p:spPr>
          <a:xfrm>
            <a:off x="3213720" y="476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四、当代生物科学的新进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文本框 126980"/>
          <p:cNvSpPr/>
          <p:nvPr/>
        </p:nvSpPr>
        <p:spPr>
          <a:xfrm>
            <a:off x="1954440" y="1459080"/>
            <a:ext cx="5681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请同学们阅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P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关教材内容，并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当代生物科学主要朝什么方面发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什么是生物工程？你了解哪些生物工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请列表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什么是生态学？根据你的生活常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你了解哪些生态的例子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文本框 13315"/>
          <p:cNvSpPr/>
          <p:nvPr/>
        </p:nvSpPr>
        <p:spPr>
          <a:xfrm>
            <a:off x="1600200" y="457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一）方向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文本框 13316"/>
          <p:cNvSpPr/>
          <p:nvPr/>
        </p:nvSpPr>
        <p:spPr>
          <a:xfrm>
            <a:off x="1447920" y="1523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微观——分子水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文本框 13317"/>
          <p:cNvSpPr/>
          <p:nvPr/>
        </p:nvSpPr>
        <p:spPr>
          <a:xfrm>
            <a:off x="1447920" y="2590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宏观——生态水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文本框 14339"/>
          <p:cNvSpPr/>
          <p:nvPr/>
        </p:nvSpPr>
        <p:spPr>
          <a:xfrm>
            <a:off x="900000" y="1522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二）生物工程方面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文本框 14367"/>
          <p:cNvSpPr/>
          <p:nvPr/>
        </p:nvSpPr>
        <p:spPr>
          <a:xfrm>
            <a:off x="2050200" y="1125360"/>
            <a:ext cx="521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．概念：是生物科学和工程技术有机结合而兴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门综合性的科学技术。也就是说，它以生物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学为基础，运用先进的科学原理和工程技术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来加工或改造生物材料，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蛋白质、染色体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细胞等，从而生产出人类所需要的生物或生物制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文本框 14368"/>
          <p:cNvSpPr/>
          <p:nvPr/>
        </p:nvSpPr>
        <p:spPr>
          <a:xfrm>
            <a:off x="546480" y="3476520"/>
            <a:ext cx="14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．成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08000" y="-27000"/>
          <a:ext cx="9036000" cy="6551640"/>
        </p:xfrm>
        <a:graphic>
          <a:graphicData uri="http://schemas.openxmlformats.org/drawingml/2006/table">
            <a:tbl>
              <a:tblPr/>
              <a:tblGrid>
                <a:gridCol w="2951280"/>
                <a:gridCol w="6084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成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效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文本框 128130"/>
          <p:cNvSpPr/>
          <p:nvPr/>
        </p:nvSpPr>
        <p:spPr>
          <a:xfrm>
            <a:off x="597240" y="7239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生物工程乙肝疫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文本框 128131"/>
          <p:cNvSpPr/>
          <p:nvPr/>
        </p:nvSpPr>
        <p:spPr>
          <a:xfrm>
            <a:off x="34488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干扰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文本框 128132"/>
          <p:cNvSpPr/>
          <p:nvPr/>
        </p:nvSpPr>
        <p:spPr>
          <a:xfrm>
            <a:off x="666360" y="1963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人类基因组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文本框 128134"/>
          <p:cNvSpPr/>
          <p:nvPr/>
        </p:nvSpPr>
        <p:spPr>
          <a:xfrm>
            <a:off x="754920" y="2492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抗黄瓜花叶病毒基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128139"/>
          <p:cNvSpPr/>
          <p:nvPr/>
        </p:nvSpPr>
        <p:spPr>
          <a:xfrm>
            <a:off x="506520" y="3116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转基因鲤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文本框 128140"/>
          <p:cNvSpPr/>
          <p:nvPr/>
        </p:nvSpPr>
        <p:spPr>
          <a:xfrm>
            <a:off x="595080" y="3678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两系法杂交水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文本框 128141"/>
          <p:cNvSpPr/>
          <p:nvPr/>
        </p:nvSpPr>
        <p:spPr>
          <a:xfrm>
            <a:off x="417960" y="426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抗虫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文本框 128142"/>
          <p:cNvSpPr/>
          <p:nvPr/>
        </p:nvSpPr>
        <p:spPr>
          <a:xfrm>
            <a:off x="1047960" y="4830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用甘蔗、玉米秸秆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生产的酒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文本框 128143"/>
          <p:cNvSpPr/>
          <p:nvPr/>
        </p:nvSpPr>
        <p:spPr>
          <a:xfrm>
            <a:off x="435240" y="585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超级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文本框 128144"/>
          <p:cNvSpPr/>
          <p:nvPr/>
        </p:nvSpPr>
        <p:spPr>
          <a:xfrm>
            <a:off x="3426480" y="73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预防乙型肝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文本框 128145"/>
          <p:cNvSpPr/>
          <p:nvPr/>
        </p:nvSpPr>
        <p:spPr>
          <a:xfrm>
            <a:off x="3670560" y="13161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抑制病毒在细胞内增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文本框 128146"/>
          <p:cNvSpPr/>
          <p:nvPr/>
        </p:nvSpPr>
        <p:spPr>
          <a:xfrm>
            <a:off x="4219200" y="1916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基因水平上对人类的疾病进行诊断和治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文本框 128147"/>
          <p:cNvSpPr/>
          <p:nvPr/>
        </p:nvSpPr>
        <p:spPr>
          <a:xfrm>
            <a:off x="4219200" y="254016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培育抗病毒能力很强的烟草等农作物新品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文本框 128148"/>
          <p:cNvSpPr/>
          <p:nvPr/>
        </p:nvSpPr>
        <p:spPr>
          <a:xfrm>
            <a:off x="3609360" y="31161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加快鲤鱼的生长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文本框 128149"/>
          <p:cNvSpPr/>
          <p:nvPr/>
        </p:nvSpPr>
        <p:spPr>
          <a:xfrm>
            <a:off x="3963600" y="3692520"/>
            <a:ext cx="35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比三系法杂交水稻平均每公顷增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文本框 128150"/>
          <p:cNvSpPr/>
          <p:nvPr/>
        </p:nvSpPr>
        <p:spPr>
          <a:xfrm>
            <a:off x="35485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抗棉铃虫效果明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文本框 128151"/>
          <p:cNvSpPr/>
          <p:nvPr/>
        </p:nvSpPr>
        <p:spPr>
          <a:xfrm>
            <a:off x="3304800" y="484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取代石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文本框 128152"/>
          <p:cNvSpPr/>
          <p:nvPr/>
        </p:nvSpPr>
        <p:spPr>
          <a:xfrm>
            <a:off x="4158000" y="570240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分解石油的速度比普通细菌快的多，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石油污染的能力得到明显的提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文本框 15363"/>
          <p:cNvSpPr/>
          <p:nvPr/>
        </p:nvSpPr>
        <p:spPr>
          <a:xfrm>
            <a:off x="108000" y="2570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生态学方面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文本框 15364"/>
          <p:cNvSpPr/>
          <p:nvPr/>
        </p:nvSpPr>
        <p:spPr>
          <a:xfrm>
            <a:off x="611280" y="2492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界五大问题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文本框 15365"/>
          <p:cNvSpPr/>
          <p:nvPr/>
        </p:nvSpPr>
        <p:spPr>
          <a:xfrm>
            <a:off x="3564000" y="2556000"/>
            <a:ext cx="55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口爆炸、环境污染、资源匮乏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源短缺、粮食危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文本框 15366"/>
          <p:cNvSpPr/>
          <p:nvPr/>
        </p:nvSpPr>
        <p:spPr>
          <a:xfrm>
            <a:off x="611280" y="4091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颖上县小张庄——生态农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文本框 16397"/>
          <p:cNvSpPr/>
          <p:nvPr/>
        </p:nvSpPr>
        <p:spPr>
          <a:xfrm>
            <a:off x="835920" y="11970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．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文本框 16398"/>
          <p:cNvSpPr/>
          <p:nvPr/>
        </p:nvSpPr>
        <p:spPr>
          <a:xfrm>
            <a:off x="5666400" y="1254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研究生物与其生存环境之间相互关系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矩形 20483"/>
          <p:cNvSpPr/>
          <p:nvPr/>
        </p:nvSpPr>
        <p:spPr>
          <a:xfrm>
            <a:off x="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组合 20488"/>
          <p:cNvGrpSpPr/>
          <p:nvPr/>
        </p:nvGrpSpPr>
        <p:grpSpPr>
          <a:xfrm>
            <a:off x="571680" y="777960"/>
            <a:ext cx="8001000" cy="1942920"/>
            <a:chOff x="571680" y="777960"/>
            <a:chExt cx="8001000" cy="1942920"/>
          </a:xfrm>
        </p:grpSpPr>
        <p:sp>
          <p:nvSpPr>
            <p:cNvPr id="762" name="矩形 20484"/>
            <p:cNvSpPr/>
            <p:nvPr/>
          </p:nvSpPr>
          <p:spPr>
            <a:xfrm>
              <a:off x="571680" y="777960"/>
              <a:ext cx="800100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矩形 20485"/>
            <p:cNvSpPr/>
            <p:nvPr/>
          </p:nvSpPr>
          <p:spPr>
            <a:xfrm>
              <a:off x="571680" y="777960"/>
              <a:ext cx="8001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文本框 68609"/>
          <p:cNvSpPr/>
          <p:nvPr/>
        </p:nvSpPr>
        <p:spPr>
          <a:xfrm>
            <a:off x="684360" y="620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其他方面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文本框 68610"/>
          <p:cNvSpPr/>
          <p:nvPr/>
        </p:nvSpPr>
        <p:spPr>
          <a:xfrm>
            <a:off x="1674720" y="14144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子水平的脑科学研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文本框 16387"/>
          <p:cNvSpPr/>
          <p:nvPr/>
        </p:nvSpPr>
        <p:spPr>
          <a:xfrm>
            <a:off x="1792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一）要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文本框 16388"/>
          <p:cNvSpPr/>
          <p:nvPr/>
        </p:nvSpPr>
        <p:spPr>
          <a:xfrm>
            <a:off x="250920" y="9144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命活动规律及其在生产、生活和实践中的应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文本框 16389"/>
          <p:cNvSpPr/>
          <p:nvPr/>
        </p:nvSpPr>
        <p:spPr>
          <a:xfrm>
            <a:off x="254160" y="1541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爱国思想与世界观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文本框 16390"/>
          <p:cNvSpPr/>
          <p:nvPr/>
        </p:nvSpPr>
        <p:spPr>
          <a:xfrm>
            <a:off x="250920" y="2060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基本方法具有观察、实验、思维和自学能力。初步的研究和创造能力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文本框 16391"/>
          <p:cNvSpPr/>
          <p:nvPr/>
        </p:nvSpPr>
        <p:spPr>
          <a:xfrm>
            <a:off x="179280" y="306864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二）方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文本框 16392"/>
          <p:cNvSpPr/>
          <p:nvPr/>
        </p:nvSpPr>
        <p:spPr>
          <a:xfrm>
            <a:off x="712800" y="36021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勤于思考、重在理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文本框 16393"/>
          <p:cNvSpPr/>
          <p:nvPr/>
        </p:nvSpPr>
        <p:spPr>
          <a:xfrm>
            <a:off x="712800" y="41353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重视研究过程和方法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文本框 16394"/>
          <p:cNvSpPr/>
          <p:nvPr/>
        </p:nvSpPr>
        <p:spPr>
          <a:xfrm>
            <a:off x="712800" y="47451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重视实验和观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文本框 16395"/>
          <p:cNvSpPr/>
          <p:nvPr/>
        </p:nvSpPr>
        <p:spPr>
          <a:xfrm>
            <a:off x="255600" y="5354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重视理论联系实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100355"/>
          <p:cNvSpPr/>
          <p:nvPr/>
        </p:nvSpPr>
        <p:spPr>
          <a:xfrm>
            <a:off x="2333880" y="3527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华文新魏"/>
              </a:rPr>
              <a:t>生物和非生物有什么本质区别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文本框 137219"/>
          <p:cNvSpPr/>
          <p:nvPr/>
        </p:nvSpPr>
        <p:spPr>
          <a:xfrm>
            <a:off x="0" y="1700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谢谢大家！同学们再见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文本框 101379"/>
          <p:cNvSpPr/>
          <p:nvPr/>
        </p:nvSpPr>
        <p:spPr>
          <a:xfrm>
            <a:off x="1384200" y="501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、生物的基本特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文本框 101380"/>
          <p:cNvSpPr/>
          <p:nvPr/>
        </p:nvSpPr>
        <p:spPr>
          <a:xfrm>
            <a:off x="4330440" y="1352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一）生物体具有共同的物质基础和结构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文本框 101381"/>
          <p:cNvSpPr/>
          <p:nvPr/>
        </p:nvSpPr>
        <p:spPr>
          <a:xfrm>
            <a:off x="927000" y="241776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共同的物质基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文本框 101382"/>
          <p:cNvSpPr/>
          <p:nvPr/>
        </p:nvSpPr>
        <p:spPr>
          <a:xfrm>
            <a:off x="1153800" y="3224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石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文本框 101383"/>
          <p:cNvSpPr/>
          <p:nvPr/>
        </p:nvSpPr>
        <p:spPr>
          <a:xfrm>
            <a:off x="1083960" y="3935520"/>
            <a:ext cx="12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小   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文本框 101384"/>
          <p:cNvSpPr/>
          <p:nvPr/>
        </p:nvSpPr>
        <p:spPr>
          <a:xfrm>
            <a:off x="2393280" y="32097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Ca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文本框 101385"/>
          <p:cNvSpPr/>
          <p:nvPr/>
        </p:nvSpPr>
        <p:spPr>
          <a:xfrm>
            <a:off x="3498840" y="39337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水、无机盐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文本框 101386"/>
          <p:cNvSpPr/>
          <p:nvPr/>
        </p:nvSpPr>
        <p:spPr>
          <a:xfrm>
            <a:off x="4572720" y="45813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糖类、脂类、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蛋白质、核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左大括号 101387"/>
          <p:cNvSpPr/>
          <p:nvPr/>
        </p:nvSpPr>
        <p:spPr>
          <a:xfrm rot="16200000">
            <a:off x="6120360" y="461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279"/>
                </a:lnTo>
                <a:cubicBezTo>
                  <a:pt x="10800" y="10179"/>
                  <a:pt x="5400" y="11078"/>
                  <a:pt x="0" y="11078"/>
                </a:cubicBezTo>
                <a:cubicBezTo>
                  <a:pt x="5400" y="11078"/>
                  <a:pt x="10800" y="11978"/>
                  <a:pt x="10800" y="12877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文本框 101388"/>
          <p:cNvSpPr/>
          <p:nvPr/>
        </p:nvSpPr>
        <p:spPr>
          <a:xfrm>
            <a:off x="6163200" y="5648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切生物共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924360" y="2781360"/>
            <a:ext cx="647640" cy="360"/>
            <a:chOff x="3924360" y="2781360"/>
            <a:chExt cx="647640" cy="360"/>
          </a:xfrm>
        </p:grpSpPr>
        <p:sp>
          <p:nvSpPr>
            <p:cNvPr id="566" name="直接连接符 101389"/>
            <p:cNvSpPr/>
            <p:nvPr/>
          </p:nvSpPr>
          <p:spPr>
            <a:xfrm>
              <a:off x="3924360" y="2781360"/>
              <a:ext cx="647640" cy="0"/>
            </a:xfrm>
            <a:prstGeom prst="line">
              <a:avLst/>
            </a:prstGeom>
            <a:ln cap="sq" w="12600">
              <a:solidFill>
                <a:srgbClr val="e4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3924360" y="2781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文本框 101390"/>
          <p:cNvSpPr/>
          <p:nvPr/>
        </p:nvSpPr>
        <p:spPr>
          <a:xfrm>
            <a:off x="5386320" y="24890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各种化学元素和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文本框 102403"/>
          <p:cNvSpPr/>
          <p:nvPr/>
        </p:nvSpPr>
        <p:spPr>
          <a:xfrm>
            <a:off x="1277640" y="1136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蛋白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文本框 102404"/>
          <p:cNvSpPr/>
          <p:nvPr/>
        </p:nvSpPr>
        <p:spPr>
          <a:xfrm>
            <a:off x="5249160" y="1120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命活动的主要承担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文本框 102405"/>
          <p:cNvSpPr/>
          <p:nvPr/>
        </p:nvSpPr>
        <p:spPr>
          <a:xfrm>
            <a:off x="1280880" y="2421000"/>
            <a:ext cx="12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核   酸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文本框 102406"/>
          <p:cNvSpPr/>
          <p:nvPr/>
        </p:nvSpPr>
        <p:spPr>
          <a:xfrm>
            <a:off x="4815720" y="24321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一切生物的遗传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文本框 102407"/>
          <p:cNvSpPr/>
          <p:nvPr/>
        </p:nvSpPr>
        <p:spPr>
          <a:xfrm>
            <a:off x="4843080" y="3368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生命活动的决定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文本框 103427"/>
          <p:cNvSpPr/>
          <p:nvPr/>
        </p:nvSpPr>
        <p:spPr>
          <a:xfrm>
            <a:off x="1257120" y="474840"/>
            <a:ext cx="23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共同的结构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356000" y="765000"/>
            <a:ext cx="863640" cy="360"/>
            <a:chOff x="4356000" y="765000"/>
            <a:chExt cx="863640" cy="360"/>
          </a:xfrm>
        </p:grpSpPr>
        <p:sp>
          <p:nvSpPr>
            <p:cNvPr id="578" name="直接连接符 103428"/>
            <p:cNvSpPr/>
            <p:nvPr/>
          </p:nvSpPr>
          <p:spPr>
            <a:xfrm>
              <a:off x="4356000" y="765000"/>
              <a:ext cx="863640" cy="0"/>
            </a:xfrm>
            <a:prstGeom prst="line">
              <a:avLst/>
            </a:prstGeom>
            <a:ln cap="sq" w="12600">
              <a:solidFill>
                <a:srgbClr val="e4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4356000" y="76500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文本框 103429"/>
          <p:cNvSpPr/>
          <p:nvPr/>
        </p:nvSpPr>
        <p:spPr>
          <a:xfrm>
            <a:off x="5436360" y="473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图片 103437" descr="45"/>
          <p:cNvPicPr/>
          <p:nvPr/>
        </p:nvPicPr>
        <p:blipFill>
          <a:blip r:embed="rId1"/>
          <a:stretch/>
        </p:blipFill>
        <p:spPr>
          <a:xfrm>
            <a:off x="0" y="1557360"/>
            <a:ext cx="6516720" cy="30240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03441" descr="33"/>
          <p:cNvPicPr/>
          <p:nvPr/>
        </p:nvPicPr>
        <p:blipFill>
          <a:blip r:embed="rId2"/>
          <a:stretch/>
        </p:blipFill>
        <p:spPr>
          <a:xfrm>
            <a:off x="6443640" y="1052640"/>
            <a:ext cx="2478240" cy="345600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03442"/>
          <p:cNvSpPr/>
          <p:nvPr/>
        </p:nvSpPr>
        <p:spPr>
          <a:xfrm>
            <a:off x="2367000" y="5297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单细胞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文本框 103443"/>
          <p:cNvSpPr/>
          <p:nvPr/>
        </p:nvSpPr>
        <p:spPr>
          <a:xfrm>
            <a:off x="7067520" y="5370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多细胞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文本框 103444"/>
          <p:cNvSpPr/>
          <p:nvPr/>
        </p:nvSpPr>
        <p:spPr>
          <a:xfrm>
            <a:off x="6708600" y="463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华文新魏"/>
              </a:rPr>
              <a:t>（除病毒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文本框 104454"/>
          <p:cNvSpPr/>
          <p:nvPr/>
        </p:nvSpPr>
        <p:spPr>
          <a:xfrm>
            <a:off x="1196280" y="345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病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124000" y="692280"/>
            <a:ext cx="720720" cy="360"/>
            <a:chOff x="2124000" y="692280"/>
            <a:chExt cx="720720" cy="360"/>
          </a:xfrm>
        </p:grpSpPr>
        <p:sp>
          <p:nvSpPr>
            <p:cNvPr id="589" name="直接连接符 104455"/>
            <p:cNvSpPr/>
            <p:nvPr/>
          </p:nvSpPr>
          <p:spPr>
            <a:xfrm>
              <a:off x="2124000" y="692280"/>
              <a:ext cx="7207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2124000" y="69228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文本框 104456"/>
          <p:cNvSpPr/>
          <p:nvPr/>
        </p:nvSpPr>
        <p:spPr>
          <a:xfrm>
            <a:off x="3423600" y="404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无细胞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文本框 104457"/>
          <p:cNvSpPr/>
          <p:nvPr/>
        </p:nvSpPr>
        <p:spPr>
          <a:xfrm>
            <a:off x="1691280" y="1469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成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左大括号 104458"/>
          <p:cNvSpPr/>
          <p:nvPr/>
        </p:nvSpPr>
        <p:spPr>
          <a:xfrm>
            <a:off x="2627280" y="1341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文本框 104459"/>
          <p:cNvSpPr/>
          <p:nvPr/>
        </p:nvSpPr>
        <p:spPr>
          <a:xfrm>
            <a:off x="2872800" y="10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文本框 104460"/>
          <p:cNvSpPr/>
          <p:nvPr/>
        </p:nvSpPr>
        <p:spPr>
          <a:xfrm>
            <a:off x="2812680" y="1830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对象 104462" descr=""/>
          <p:cNvPicPr/>
          <p:nvPr/>
        </p:nvPicPr>
        <p:blipFill>
          <a:blip r:embed="rId1"/>
          <a:stretch/>
        </p:blipFill>
        <p:spPr>
          <a:xfrm>
            <a:off x="900000" y="2901960"/>
            <a:ext cx="3313080" cy="2982960"/>
          </a:xfrm>
          <a:prstGeom prst="rect">
            <a:avLst/>
          </a:prstGeom>
          <a:ln w="0">
            <a:noFill/>
          </a:ln>
        </p:spPr>
      </p:pic>
      <p:sp>
        <p:nvSpPr>
          <p:cNvPr id="597" name="文本框 104463"/>
          <p:cNvSpPr/>
          <p:nvPr/>
        </p:nvSpPr>
        <p:spPr>
          <a:xfrm>
            <a:off x="1799280" y="5935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腺病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对象 104464" descr=""/>
          <p:cNvPicPr/>
          <p:nvPr/>
        </p:nvPicPr>
        <p:blipFill>
          <a:blip r:embed="rId2"/>
          <a:stretch/>
        </p:blipFill>
        <p:spPr>
          <a:xfrm>
            <a:off x="5724360" y="2871720"/>
            <a:ext cx="2262240" cy="3365640"/>
          </a:xfrm>
          <a:prstGeom prst="rect">
            <a:avLst/>
          </a:prstGeom>
          <a:ln w="0">
            <a:noFill/>
          </a:ln>
        </p:spPr>
      </p:pic>
      <p:sp>
        <p:nvSpPr>
          <p:cNvPr id="599" name="文本框 104465"/>
          <p:cNvSpPr/>
          <p:nvPr/>
        </p:nvSpPr>
        <p:spPr>
          <a:xfrm>
            <a:off x="5576040" y="5923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大肠杆菌噬菌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文本框 104466"/>
          <p:cNvSpPr/>
          <p:nvPr/>
        </p:nvSpPr>
        <p:spPr>
          <a:xfrm>
            <a:off x="785520" y="227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常见病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105475"/>
          <p:cNvSpPr/>
          <p:nvPr/>
        </p:nvSpPr>
        <p:spPr>
          <a:xfrm>
            <a:off x="1878480" y="40464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感冒病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文本框 105476"/>
          <p:cNvSpPr/>
          <p:nvPr/>
        </p:nvSpPr>
        <p:spPr>
          <a:xfrm>
            <a:off x="1857600" y="11206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狂犬病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文本框 105477"/>
          <p:cNvSpPr/>
          <p:nvPr/>
        </p:nvSpPr>
        <p:spPr>
          <a:xfrm>
            <a:off x="1857600" y="18414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鸡瘟病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文本框 105478"/>
          <p:cNvSpPr/>
          <p:nvPr/>
        </p:nvSpPr>
        <p:spPr>
          <a:xfrm>
            <a:off x="1953360" y="2565360"/>
            <a:ext cx="28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爱滋病病毒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HI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文本框 105479"/>
          <p:cNvSpPr/>
          <p:nvPr/>
        </p:nvSpPr>
        <p:spPr>
          <a:xfrm>
            <a:off x="1719360" y="335772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SA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病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文本框 105480"/>
          <p:cNvSpPr/>
          <p:nvPr/>
        </p:nvSpPr>
        <p:spPr>
          <a:xfrm>
            <a:off x="5273640" y="256536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I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文本框 112643"/>
          <p:cNvSpPr/>
          <p:nvPr/>
        </p:nvSpPr>
        <p:spPr>
          <a:xfrm>
            <a:off x="3179160" y="487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二）生物体都有新陈代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文本框 112644"/>
          <p:cNvSpPr/>
          <p:nvPr/>
        </p:nvSpPr>
        <p:spPr>
          <a:xfrm>
            <a:off x="912960" y="1413000"/>
            <a:ext cx="14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．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文本框 112645"/>
          <p:cNvSpPr/>
          <p:nvPr/>
        </p:nvSpPr>
        <p:spPr>
          <a:xfrm>
            <a:off x="2450520" y="2128680"/>
            <a:ext cx="43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活细胞中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全部有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新魏"/>
              </a:rPr>
              <a:t>化学变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总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文本框 112646"/>
          <p:cNvSpPr/>
          <p:nvPr/>
        </p:nvSpPr>
        <p:spPr>
          <a:xfrm>
            <a:off x="984600" y="2852640"/>
            <a:ext cx="15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．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组合 112664"/>
          <p:cNvGrpSpPr/>
          <p:nvPr/>
        </p:nvGrpSpPr>
        <p:grpSpPr>
          <a:xfrm>
            <a:off x="435960" y="3641760"/>
            <a:ext cx="8594640" cy="1244520"/>
            <a:chOff x="435960" y="3641760"/>
            <a:chExt cx="8594640" cy="1244520"/>
          </a:xfrm>
        </p:grpSpPr>
        <p:sp>
          <p:nvSpPr>
            <p:cNvPr id="614" name="文本框 112647"/>
            <p:cNvSpPr/>
            <p:nvPr/>
          </p:nvSpPr>
          <p:spPr>
            <a:xfrm>
              <a:off x="435960" y="39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文本框 112648"/>
            <p:cNvSpPr/>
            <p:nvPr/>
          </p:nvSpPr>
          <p:spPr>
            <a:xfrm>
              <a:off x="1612440" y="364500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物质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文本框 112649"/>
            <p:cNvSpPr/>
            <p:nvPr/>
          </p:nvSpPr>
          <p:spPr>
            <a:xfrm>
              <a:off x="2239560" y="3645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能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文本框 112650"/>
            <p:cNvSpPr/>
            <p:nvPr/>
          </p:nvSpPr>
          <p:spPr>
            <a:xfrm>
              <a:off x="4645080" y="3701880"/>
              <a:ext cx="56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文本框 112651"/>
            <p:cNvSpPr/>
            <p:nvPr/>
          </p:nvSpPr>
          <p:spPr>
            <a:xfrm>
              <a:off x="4153680" y="3641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食物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文本框 112652"/>
            <p:cNvSpPr/>
            <p:nvPr/>
          </p:nvSpPr>
          <p:spPr>
            <a:xfrm>
              <a:off x="3067560" y="3645000"/>
              <a:ext cx="23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（如：           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文本框 112653"/>
            <p:cNvSpPr/>
            <p:nvPr/>
          </p:nvSpPr>
          <p:spPr>
            <a:xfrm>
              <a:off x="1906200" y="42926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物质、能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文本框 112654"/>
            <p:cNvSpPr/>
            <p:nvPr/>
          </p:nvSpPr>
          <p:spPr>
            <a:xfrm>
              <a:off x="5366520" y="4348080"/>
              <a:ext cx="8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CO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文本框 112655"/>
            <p:cNvSpPr/>
            <p:nvPr/>
          </p:nvSpPr>
          <p:spPr>
            <a:xfrm>
              <a:off x="4517640" y="43513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代谢产物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文本框 112656"/>
            <p:cNvSpPr/>
            <p:nvPr/>
          </p:nvSpPr>
          <p:spPr>
            <a:xfrm>
              <a:off x="3194640" y="4365720"/>
              <a:ext cx="326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（如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231920" y="4149720"/>
              <a:ext cx="5327640" cy="360"/>
              <a:chOff x="1231920" y="4149720"/>
              <a:chExt cx="5327640" cy="360"/>
            </a:xfrm>
          </p:grpSpPr>
          <p:sp>
            <p:nvSpPr>
              <p:cNvPr id="625" name="直接连接符 112657"/>
              <p:cNvSpPr/>
              <p:nvPr/>
            </p:nvSpPr>
            <p:spPr>
              <a:xfrm>
                <a:off x="1231920" y="4149720"/>
                <a:ext cx="5327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>
                <a:off x="1231920" y="4149720"/>
                <a:ext cx="532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1231560" y="4292640"/>
              <a:ext cx="5328000" cy="360"/>
              <a:chOff x="1231560" y="4292640"/>
              <a:chExt cx="5328000" cy="360"/>
            </a:xfrm>
          </p:grpSpPr>
          <p:sp>
            <p:nvSpPr>
              <p:cNvPr id="628" name="直接连接符 112658"/>
              <p:cNvSpPr/>
              <p:nvPr/>
            </p:nvSpPr>
            <p:spPr>
              <a:xfrm flipH="1">
                <a:off x="1231560" y="4292640"/>
                <a:ext cx="5327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1231920" y="4292640"/>
                <a:ext cx="532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文本框 112659"/>
            <p:cNvSpPr/>
            <p:nvPr/>
          </p:nvSpPr>
          <p:spPr>
            <a:xfrm>
              <a:off x="6703200" y="3919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生物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文本框 112660"/>
            <p:cNvSpPr/>
            <p:nvPr/>
          </p:nvSpPr>
          <p:spPr>
            <a:xfrm>
              <a:off x="7717680" y="390852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（如：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文本框 112661"/>
            <p:cNvSpPr/>
            <p:nvPr/>
          </p:nvSpPr>
          <p:spPr>
            <a:xfrm>
              <a:off x="8484840" y="3919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文本框 112662"/>
          <p:cNvSpPr/>
          <p:nvPr/>
        </p:nvSpPr>
        <p:spPr>
          <a:xfrm>
            <a:off x="962280" y="5226120"/>
            <a:ext cx="15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．实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文本框 112663"/>
          <p:cNvSpPr/>
          <p:nvPr/>
        </p:nvSpPr>
        <p:spPr>
          <a:xfrm>
            <a:off x="3037320" y="5286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华文新魏"/>
              </a:rPr>
              <a:t>自我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日期占位符 1"/>
          <p:cNvSpPr/>
          <p:nvPr/>
        </p:nvSpPr>
        <p:spPr>
          <a:xfrm>
            <a:off x="29844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8:35Z</dcterms:created>
  <dc:creator/>
  <dc:description/>
  <cp:keywords>走进 生物 课堂</cp:keywords>
  <dc:language>en-US</dc:language>
  <cp:lastModifiedBy>An</cp:lastModifiedBy>
  <dcterms:modified xsi:type="dcterms:W3CDTF">2016-05-01T00:48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