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0425D-BC2F-479B-9859-6D95CD8F3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7A5C4-7380-4383-8270-1B2A212BD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2FF9F-049B-49C2-AEA6-96E7D560C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B1B1D-D911-4B99-882F-6F547C35D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4874A-E262-41F2-A2B2-B358BFF87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2F185-7142-47A0-BA9A-363E85003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E764A-A602-4FFB-8EE3-31159FA96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0ABD1-1C25-4CA9-A440-9D56EA9C7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E21BF-B486-4452-A550-FEE7C6D89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D8204-0F49-452A-B1FA-7EE2C5A15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3E70D-F020-4C2D-8B3E-4B57BC986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84A5F-1CAE-4A8C-B8B1-2155E57FC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14C25-674E-4C81-9C7A-B9CF33F9A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E1E94-764E-44A0-A6F1-F914CE13B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6A2FD-C777-4C09-AE37-063692593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C3337-FAC6-4C64-BF7B-FA793B4D4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3A71A-2523-48EE-BEF1-F892E3D18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69B28-D164-4A94-B81E-3E45752E3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D03B2-E76C-4535-B6D7-1E2084480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BBBD6-585E-404B-98EB-39A1881D1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13762-397D-4582-8C6D-283FDCAE3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64F66-E64F-4FD2-A0A2-C597D5346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F6845-4A09-44CF-8F84-3718B928A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52530-FEF2-4642-AC0A-99A7B52B6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F4144-48EB-4150-A61E-E448412B5C62}" type="slidenum">
              <a:rPr b="0" lang="en-US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E44A2-C228-47C1-9467-13E287A4CA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3.png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2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image" Target="../media/image6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1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/>
          <a:srcRect l="49639" t="0" r="0" b="0"/>
          <a:stretch/>
        </p:blipFill>
        <p:spPr>
          <a:xfrm>
            <a:off x="4538520" y="0"/>
            <a:ext cx="4605480" cy="68580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"/>
          <a:srcRect l="7743" t="79838" r="69633" b="5906"/>
          <a:stretch/>
        </p:blipFill>
        <p:spPr>
          <a:xfrm>
            <a:off x="708120" y="5475240"/>
            <a:ext cx="2070000" cy="9781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4"/>
          <a:srcRect l="6021" t="13688" r="60507" b="42851"/>
          <a:stretch/>
        </p:blipFill>
        <p:spPr>
          <a:xfrm>
            <a:off x="550800" y="939960"/>
            <a:ext cx="3060720" cy="29797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5"/>
          <a:srcRect l="36732" t="51280" r="58147" b="3591"/>
          <a:stretch/>
        </p:blipFill>
        <p:spPr>
          <a:xfrm>
            <a:off x="3359160" y="3516480"/>
            <a:ext cx="468360" cy="309528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1703880" y="1808280"/>
            <a:ext cx="1642680" cy="30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2d"/>
                </a:solidFill>
                <a:latin typeface="Arial"/>
                <a:ea typeface="方正隶书简体"/>
              </a:rPr>
              <a:t>服装设计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140640" y="3679920"/>
            <a:ext cx="1155240" cy="30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50"/>
                </a:solidFill>
                <a:latin typeface="Arial"/>
                <a:ea typeface="方正隶书简体"/>
              </a:rPr>
              <a:t>主讲人：孙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-407520" y="476280"/>
            <a:ext cx="3106440" cy="267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Arial"/>
                <a:ea typeface="方正隶书简体"/>
              </a:rPr>
              <a:t>京剧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6"/>
          <a:stretch/>
        </p:blipFill>
        <p:spPr>
          <a:xfrm>
            <a:off x="-23760" y="0"/>
            <a:ext cx="9167760" cy="68756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992240" y="652320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1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500"/>
                            </p:stCondLst>
                            <p:childTnLst>
                              <p:par>
                                <p:cTn id="1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2"/>
          <a:srcRect l="45081" t="55486" r="44908" b="10721"/>
          <a:stretch/>
        </p:blipFill>
        <p:spPr>
          <a:xfrm>
            <a:off x="4122720" y="3805200"/>
            <a:ext cx="915840" cy="23176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rcRect l="45081" t="55486" r="44908" b="10721"/>
          <a:stretch/>
        </p:blipFill>
        <p:spPr>
          <a:xfrm>
            <a:off x="2266920" y="3805200"/>
            <a:ext cx="915840" cy="23176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4"/>
          <a:srcRect l="45081" t="55486" r="44908" b="10721"/>
          <a:stretch/>
        </p:blipFill>
        <p:spPr>
          <a:xfrm>
            <a:off x="6116760" y="3805200"/>
            <a:ext cx="915840" cy="23176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2736720" y="1557360"/>
            <a:ext cx="3706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方正隶书简体"/>
                <a:ea typeface="方正隶书简体"/>
              </a:rPr>
              <a:t>·</a:t>
            </a:r>
            <a:r>
              <a:rPr b="0" lang="zh-CN" sz="6600" spc="-1" strike="noStrike">
                <a:solidFill>
                  <a:srgbClr val="000000"/>
                </a:solidFill>
                <a:latin typeface="方正隶书简体"/>
                <a:ea typeface="方正隶书简体"/>
              </a:rPr>
              <a:t>目录</a:t>
            </a:r>
            <a:r>
              <a:rPr b="0" lang="zh-CN" sz="6600" spc="-1" strike="noStrike">
                <a:solidFill>
                  <a:srgbClr val="000000"/>
                </a:solidFill>
                <a:latin typeface="方正隶书简体"/>
                <a:ea typeface="方正隶书简体"/>
              </a:rPr>
              <a:t>·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87560" y="4338720"/>
            <a:ext cx="1033560" cy="16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50"/>
                </a:solidFill>
                <a:latin typeface="Arial"/>
                <a:ea typeface="方正隶书简体"/>
              </a:rPr>
              <a:t>服装特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859200" y="4338720"/>
            <a:ext cx="1033560" cy="16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50"/>
                </a:solidFill>
                <a:latin typeface="Arial"/>
                <a:ea typeface="方正隶书简体"/>
              </a:rPr>
              <a:t>花纹寓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843520" y="4338720"/>
            <a:ext cx="1033560" cy="16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50"/>
                </a:solidFill>
                <a:latin typeface="Arial"/>
                <a:ea typeface="方正隶书简体"/>
              </a:rPr>
              <a:t>行当分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000"/>
                            </p:stCondLst>
                            <p:childTnLst>
                              <p:par>
                                <p:cTn id="4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rcRect l="5550" t="26503" r="57506" b="21225"/>
          <a:stretch/>
        </p:blipFill>
        <p:spPr>
          <a:xfrm>
            <a:off x="507960" y="1817640"/>
            <a:ext cx="3378240" cy="35845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rcRect l="27440" t="48134" r="7098" b="40134"/>
          <a:stretch/>
        </p:blipFill>
        <p:spPr>
          <a:xfrm>
            <a:off x="2509920" y="3300480"/>
            <a:ext cx="5984640" cy="8049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4"/>
          <a:srcRect l="7743" t="79838" r="69633" b="5906"/>
          <a:stretch/>
        </p:blipFill>
        <p:spPr>
          <a:xfrm>
            <a:off x="5954760" y="3530520"/>
            <a:ext cx="2433600" cy="115092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2162160" y="2619360"/>
            <a:ext cx="37051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2d"/>
                </a:solidFill>
                <a:latin typeface="方正隶书简体"/>
                <a:ea typeface="方正隶书简体"/>
              </a:rPr>
              <a:t>服装特点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55640" y="98100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6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9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500"/>
                            </p:stCondLst>
                            <p:childTnLst>
                              <p:par>
                                <p:cTn id="7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826920" y="1987560"/>
            <a:ext cx="7418520" cy="4249800"/>
          </a:xfrm>
          <a:prstGeom prst="flowChartAlternateProcess">
            <a:avLst/>
          </a:prstGeom>
          <a:solidFill>
            <a:srgbClr val="ffff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rcRect l="37519" t="90413" r="37816" b="0"/>
          <a:stretch/>
        </p:blipFill>
        <p:spPr>
          <a:xfrm>
            <a:off x="3432240" y="6200640"/>
            <a:ext cx="2254320" cy="6573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rcRect l="5550" t="26503" r="57506" b="21225"/>
          <a:stretch/>
        </p:blipFill>
        <p:spPr>
          <a:xfrm>
            <a:off x="826920" y="692280"/>
            <a:ext cx="1297080" cy="13762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4"/>
          <a:srcRect l="27440" t="48134" r="7098" b="40134"/>
          <a:stretch/>
        </p:blipFill>
        <p:spPr>
          <a:xfrm>
            <a:off x="1979640" y="1268280"/>
            <a:ext cx="4824360" cy="64944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1187280" y="866880"/>
            <a:ext cx="3706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2d"/>
                </a:solidFill>
                <a:latin typeface="方正隶书简体"/>
                <a:ea typeface="方正隶书简体"/>
              </a:rPr>
              <a:t>一、服装特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187280" y="2060640"/>
            <a:ext cx="669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50"/>
                </a:solidFill>
                <a:latin typeface="方正隶书简体"/>
                <a:ea typeface="方正隶书简体"/>
              </a:rPr>
              <a:t>         </a:t>
            </a:r>
            <a:r>
              <a:rPr b="0" lang="zh-CN" sz="2400" spc="-1" strike="noStrike">
                <a:solidFill>
                  <a:srgbClr val="000050"/>
                </a:solidFill>
                <a:latin typeface="方正隶书简体"/>
                <a:ea typeface="方正隶书简体"/>
              </a:rPr>
              <a:t>京剧的服装，是一明代日常生活的服装为基础 ，参照了宋、元两代服装的样式， 同时吸收了清代服装的某些特点， 经过历代艺术家繁荣概括 、提炼 、美化形成的 。可以说 京剧服装融会了宋、 元、 明 、清各个朝代的服装特点， 体现了中华民族的审美情趣和文化意识， 形成了美观 、夸张 、概括力强 、适用范围广等特点。京剧服装大致可以分为五类： 蟒、 铍 、靠 、褶 、衣 。在这五类服装中 ，又根据人物的社会地位 、性别、 性格 、职业、 经济状况等有更详细的区别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horz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2"/>
          <a:srcRect l="55762" t="0" r="0" b="0"/>
          <a:stretch/>
        </p:blipFill>
        <p:spPr>
          <a:xfrm>
            <a:off x="5099040" y="0"/>
            <a:ext cx="4044960" cy="68580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75680" cy="688176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4"/>
          <a:srcRect l="7743" t="79838" r="69633" b="5906"/>
          <a:stretch/>
        </p:blipFill>
        <p:spPr>
          <a:xfrm>
            <a:off x="708120" y="5475240"/>
            <a:ext cx="2070000" cy="9781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5"/>
          <a:srcRect l="6021" t="13688" r="60507" b="42851"/>
          <a:stretch/>
        </p:blipFill>
        <p:spPr>
          <a:xfrm>
            <a:off x="550800" y="939960"/>
            <a:ext cx="3060720" cy="297972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1703880" y="1808280"/>
            <a:ext cx="1642680" cy="30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2d"/>
                </a:solidFill>
                <a:latin typeface="Arial"/>
                <a:ea typeface="方正隶书简体"/>
              </a:rPr>
              <a:t>服装设计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-407520" y="476280"/>
            <a:ext cx="3106440" cy="267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Arial"/>
                <a:ea typeface="方正隶书简体"/>
              </a:rPr>
              <a:t>京剧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6"/>
          <a:srcRect l="36526" t="90337" r="37852" b="0"/>
          <a:stretch/>
        </p:blipFill>
        <p:spPr>
          <a:xfrm>
            <a:off x="3340080" y="6218280"/>
            <a:ext cx="2343240" cy="6634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7"/>
          <a:srcRect l="36732" t="51280" r="58147" b="3591"/>
          <a:stretch/>
        </p:blipFill>
        <p:spPr>
          <a:xfrm>
            <a:off x="3359160" y="3516480"/>
            <a:ext cx="468360" cy="30952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968560" y="3573360"/>
            <a:ext cx="1521000" cy="30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50"/>
                </a:solidFill>
                <a:latin typeface="Arial"/>
                <a:ea typeface="方正隶书简体"/>
              </a:rPr>
              <a:t>谢谢欣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92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1000"/>
                            </p:stCondLst>
                            <p:childTnLst>
                              <p:par>
                                <p:cTn id="94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96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000"/>
                            </p:stCondLst>
                            <p:childTnLst>
                              <p:par>
                                <p:cTn id="9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2500"/>
                            </p:stCondLst>
                            <p:childTnLst>
                              <p:par>
                                <p:cTn id="10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3000"/>
                            </p:stCondLst>
                            <p:childTnLst>
                              <p:par>
                                <p:cTn id="10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3500"/>
                            </p:stCondLst>
                            <p:childTnLst>
                              <p:par>
                                <p:cTn id="110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FCCC1-FF98-4264-802E-16C91AC9D63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2:25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7T02:46:23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