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4.wmf" ContentType="image/x-wmf"/>
  <Override PartName="/ppt/media/image2.png" ContentType="image/png"/>
  <Override PartName="/ppt/media/image25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36C-A9E8-4F52-B096-05829C30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D71-281C-4875-A23E-8B5AC5CE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215-EB6F-4798-B3E0-BAE4D17B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C5E-0887-4833-BE8E-B6C1A627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3712-CED0-40F4-A626-D91549F1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67BE-F110-49FE-88AC-E7E95AAA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7399-4D9E-4898-A61A-68798A7E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E037-7158-46F6-B94A-8C996ED0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6C85-693C-4EDB-9693-DC1096F7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2F60-C303-4BC2-BAB2-0A4A2857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911C-FD31-4BAD-8A64-994755BB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294-E2D9-40F7-8EFB-3912EAF7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0268-A35A-4E10-8538-6360F7B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DDF1-92F9-4CA2-B23D-66FF12F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831B-D233-4D8E-B601-F687E5EE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1237-FBE5-4687-9CBD-0E71A5FC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2BCF-6A7D-4A0C-8C17-3876A3AE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563C-7140-49BA-9CD5-A0DBB6D8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1A8D-127F-44F2-8D08-8D09FEB5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38B0-3ABC-4B5E-ACC7-416FCBB9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1B4D-43CE-4B82-8F98-5CABFDE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ADC08-2209-4415-9750-3143CC4A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F9E-3591-4E19-9A33-3F4097DE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209E-CECD-4766-9E17-7A92033C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C01C-F985-4B20-A3D7-61C2602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5D51-274A-4F88-AE51-93B4C0C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4CBE-0A94-44A0-92BA-484C12FB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E6E9-A147-49F9-A8A0-A6CC645F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8404-6E73-4A35-B224-2CC34D82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23AC4-9E79-4FD4-83E0-BE7A3E69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62E4-34D3-42C4-B536-BB651356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336C-A134-4392-AE2D-79864FCA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29EE-5800-406F-9E48-7DF6CB09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A64-850A-4305-9F93-4F9E9F7E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22CC-451B-446A-8C44-E25DD99A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B7D0-B02B-47D1-B5CC-1E7EFD3F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B2FF-24A7-48EB-B6E9-AA662B1E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70EC-6C26-49B6-81AF-400AF218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F9D1-157E-449F-A256-EBFE084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BD6E-ED8D-40F5-91C3-CCA8755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80D2-946C-4925-831C-84ACB2D2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CDF1-0A57-49B2-AC23-17C9B5A3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45A58-02F0-4DDB-ACE7-D014527C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A52-1DEE-42AE-B0EB-70DBA239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ED3-7D63-45CB-A183-4FB39A1E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1B5-34F8-40BE-AE46-C148A89E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1BE-534E-44B3-8E7C-B8FA1E5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9C8-B9C8-4D3D-BF11-C99FA18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10.png"/><Relationship Id="rId18" Type="http://schemas.openxmlformats.org/officeDocument/2006/relationships/image" Target="../media/image4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8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<Relationship Id="rId29" Type="http://schemas.openxmlformats.org/officeDocument/2006/relationships/slideLayout" Target="../slideLayouts/slideLayout2.xml"/><Relationship Id="rId30" Type="http://schemas.openxmlformats.org/officeDocument/2006/relationships/slideLayout" Target="../slideLayouts/slideLayout3.xml"/><Relationship Id="rId31" Type="http://schemas.openxmlformats.org/officeDocument/2006/relationships/slideLayout" Target="../slideLayouts/slideLayout4.xml"/><Relationship Id="rId32" Type="http://schemas.openxmlformats.org/officeDocument/2006/relationships/slideLayout" Target="../slideLayouts/slideLayout5.xml"/><Relationship Id="rId33" Type="http://schemas.openxmlformats.org/officeDocument/2006/relationships/slideLayout" Target="../slideLayouts/slideLayout6.xml"/><Relationship Id="rId34" Type="http://schemas.openxmlformats.org/officeDocument/2006/relationships/slideLayout" Target="../slideLayouts/slideLayout7.xml"/><Relationship Id="rId35" Type="http://schemas.openxmlformats.org/officeDocument/2006/relationships/slideLayout" Target="../slideLayouts/slideLayout8.xml"/><Relationship Id="rId36" Type="http://schemas.openxmlformats.org/officeDocument/2006/relationships/slideLayout" Target="../slideLayouts/slideLayout9.xml"/><Relationship Id="rId37" Type="http://schemas.openxmlformats.org/officeDocument/2006/relationships/slideLayout" Target="../slideLayouts/slideLayout10.xml"/><Relationship Id="rId38" Type="http://schemas.openxmlformats.org/officeDocument/2006/relationships/slideLayout" Target="../slideLayouts/slideLayout11.xml"/><Relationship Id="rId3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3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8.jpe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7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8" descr="c"/>
          <p:cNvPicPr/>
          <p:nvPr/>
        </p:nvPicPr>
        <p:blipFill>
          <a:blip r:embed="rId3"/>
          <a:stretch/>
        </p:blipFill>
        <p:spPr>
          <a:xfrm>
            <a:off x="0" y="1628640"/>
            <a:ext cx="9144000" cy="3362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56" descr="bg"/>
          <p:cNvPicPr/>
          <p:nvPr/>
        </p:nvPicPr>
        <p:blipFill>
          <a:blip r:embed="rId4"/>
          <a:stretch/>
        </p:blipFill>
        <p:spPr>
          <a:xfrm>
            <a:off x="0" y="5043600"/>
            <a:ext cx="9144000" cy="18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D6B3-70D7-405F-87AE-644D1F4DA4BA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" name="Picture 33" descr="img05"/>
          <p:cNvPicPr/>
          <p:nvPr/>
        </p:nvPicPr>
        <p:blipFill>
          <a:blip r:embed="rId5"/>
          <a:stretch/>
        </p:blipFill>
        <p:spPr>
          <a:xfrm>
            <a:off x="3203640" y="5805360"/>
            <a:ext cx="936720" cy="6685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6" descr="img02"/>
          <p:cNvPicPr/>
          <p:nvPr/>
        </p:nvPicPr>
        <p:blipFill>
          <a:blip r:embed="rId6"/>
          <a:stretch/>
        </p:blipFill>
        <p:spPr>
          <a:xfrm>
            <a:off x="1187280" y="4724280"/>
            <a:ext cx="1740240" cy="11750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8" descr="f"/>
          <p:cNvPicPr/>
          <p:nvPr/>
        </p:nvPicPr>
        <p:blipFill>
          <a:blip r:embed="rId7"/>
          <a:stretch/>
        </p:blipFill>
        <p:spPr>
          <a:xfrm>
            <a:off x="-270000" y="1700280"/>
            <a:ext cx="2538360" cy="33843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9" descr="f2"/>
          <p:cNvPicPr/>
          <p:nvPr/>
        </p:nvPicPr>
        <p:blipFill>
          <a:blip r:embed="rId8"/>
          <a:stretch/>
        </p:blipFill>
        <p:spPr>
          <a:xfrm>
            <a:off x="7442280" y="2133720"/>
            <a:ext cx="2098440" cy="3676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42" descr="img03"/>
          <p:cNvPicPr/>
          <p:nvPr/>
        </p:nvPicPr>
        <p:blipFill>
          <a:blip r:embed="rId9"/>
          <a:stretch/>
        </p:blipFill>
        <p:spPr>
          <a:xfrm>
            <a:off x="5761080" y="5106960"/>
            <a:ext cx="1187280" cy="9144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43" descr="img05"/>
          <p:cNvPicPr/>
          <p:nvPr/>
        </p:nvPicPr>
        <p:blipFill>
          <a:blip r:embed="rId10"/>
          <a:stretch/>
        </p:blipFill>
        <p:spPr>
          <a:xfrm>
            <a:off x="3851280" y="5640480"/>
            <a:ext cx="865080" cy="61740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4" descr="img05"/>
          <p:cNvPicPr/>
          <p:nvPr/>
        </p:nvPicPr>
        <p:blipFill>
          <a:blip r:embed="rId11"/>
          <a:stretch/>
        </p:blipFill>
        <p:spPr>
          <a:xfrm>
            <a:off x="3635280" y="5979960"/>
            <a:ext cx="865440" cy="61776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34" descr="img04"/>
          <p:cNvPicPr/>
          <p:nvPr/>
        </p:nvPicPr>
        <p:blipFill>
          <a:blip r:embed="rId12"/>
          <a:stretch/>
        </p:blipFill>
        <p:spPr>
          <a:xfrm>
            <a:off x="4211640" y="5495760"/>
            <a:ext cx="1371600" cy="8859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45" descr="img04"/>
          <p:cNvPicPr/>
          <p:nvPr/>
        </p:nvPicPr>
        <p:blipFill>
          <a:blip r:embed="rId13"/>
          <a:stretch/>
        </p:blipFill>
        <p:spPr>
          <a:xfrm>
            <a:off x="4784760" y="5495760"/>
            <a:ext cx="1371600" cy="8859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46" descr="img03"/>
          <p:cNvPicPr/>
          <p:nvPr/>
        </p:nvPicPr>
        <p:blipFill>
          <a:blip r:embed="rId14"/>
          <a:stretch/>
        </p:blipFill>
        <p:spPr>
          <a:xfrm>
            <a:off x="1728720" y="5610240"/>
            <a:ext cx="1187640" cy="9144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47" descr="img05"/>
          <p:cNvPicPr/>
          <p:nvPr/>
        </p:nvPicPr>
        <p:blipFill>
          <a:blip r:embed="rId15"/>
          <a:stretch/>
        </p:blipFill>
        <p:spPr>
          <a:xfrm>
            <a:off x="611280" y="5445000"/>
            <a:ext cx="865080" cy="61776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48" descr="img05"/>
          <p:cNvPicPr/>
          <p:nvPr/>
        </p:nvPicPr>
        <p:blipFill>
          <a:blip r:embed="rId16"/>
          <a:stretch/>
        </p:blipFill>
        <p:spPr>
          <a:xfrm>
            <a:off x="1116000" y="5589720"/>
            <a:ext cx="865080" cy="61740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49" descr="img06"/>
          <p:cNvPicPr/>
          <p:nvPr/>
        </p:nvPicPr>
        <p:blipFill>
          <a:blip r:embed="rId17"/>
          <a:stretch/>
        </p:blipFill>
        <p:spPr>
          <a:xfrm>
            <a:off x="7451640" y="5373720"/>
            <a:ext cx="792360" cy="45720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51" descr="img05"/>
          <p:cNvPicPr/>
          <p:nvPr/>
        </p:nvPicPr>
        <p:blipFill>
          <a:blip r:embed="rId18"/>
          <a:stretch/>
        </p:blipFill>
        <p:spPr>
          <a:xfrm>
            <a:off x="7812000" y="5229360"/>
            <a:ext cx="865440" cy="61740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50" descr="img04"/>
          <p:cNvPicPr/>
          <p:nvPr/>
        </p:nvPicPr>
        <p:blipFill>
          <a:blip r:embed="rId19"/>
          <a:stretch/>
        </p:blipFill>
        <p:spPr>
          <a:xfrm>
            <a:off x="8137440" y="5445000"/>
            <a:ext cx="1042920" cy="673200"/>
          </a:xfrm>
          <a:prstGeom prst="rect">
            <a:avLst/>
          </a:prstGeom>
          <a:ln w="0">
            <a:noFill/>
          </a:ln>
        </p:spPr>
      </p:pic>
      <p:pic>
        <p:nvPicPr>
          <p:cNvPr id="23" name="Picture 52" descr="img06"/>
          <p:cNvPicPr/>
          <p:nvPr/>
        </p:nvPicPr>
        <p:blipFill>
          <a:blip r:embed="rId20"/>
          <a:stretch/>
        </p:blipFill>
        <p:spPr>
          <a:xfrm>
            <a:off x="6804000" y="5373720"/>
            <a:ext cx="792360" cy="457200"/>
          </a:xfrm>
          <a:prstGeom prst="rect">
            <a:avLst/>
          </a:prstGeom>
          <a:ln w="0">
            <a:noFill/>
          </a:ln>
        </p:spPr>
      </p:pic>
      <p:pic>
        <p:nvPicPr>
          <p:cNvPr id="24" name="Picture 53" descr="img06"/>
          <p:cNvPicPr/>
          <p:nvPr/>
        </p:nvPicPr>
        <p:blipFill>
          <a:blip r:embed="rId21"/>
          <a:stretch/>
        </p:blipFill>
        <p:spPr>
          <a:xfrm>
            <a:off x="7164360" y="5157720"/>
            <a:ext cx="792360" cy="457200"/>
          </a:xfrm>
          <a:prstGeom prst="rect">
            <a:avLst/>
          </a:prstGeom>
          <a:ln w="0">
            <a:noFill/>
          </a:ln>
        </p:spPr>
      </p:pic>
      <p:pic>
        <p:nvPicPr>
          <p:cNvPr id="25" name="Picture 35" descr="img03"/>
          <p:cNvPicPr/>
          <p:nvPr/>
        </p:nvPicPr>
        <p:blipFill>
          <a:blip r:embed="rId22"/>
          <a:stretch/>
        </p:blipFill>
        <p:spPr>
          <a:xfrm>
            <a:off x="6769080" y="5610240"/>
            <a:ext cx="1187640" cy="914400"/>
          </a:xfrm>
          <a:prstGeom prst="rect">
            <a:avLst/>
          </a:prstGeom>
          <a:ln w="0">
            <a:noFill/>
          </a:ln>
        </p:spPr>
      </p:pic>
      <p:pic>
        <p:nvPicPr>
          <p:cNvPr id="26" name="Picture 31" descr="mam"/>
          <p:cNvPicPr/>
          <p:nvPr/>
        </p:nvPicPr>
        <p:blipFill>
          <a:blip r:embed="rId23"/>
          <a:stretch/>
        </p:blipFill>
        <p:spPr>
          <a:xfrm>
            <a:off x="5076720" y="1628640"/>
            <a:ext cx="2376720" cy="4321440"/>
          </a:xfrm>
          <a:prstGeom prst="rect">
            <a:avLst/>
          </a:prstGeom>
          <a:ln w="0">
            <a:noFill/>
          </a:ln>
        </p:spPr>
      </p:pic>
      <p:pic>
        <p:nvPicPr>
          <p:cNvPr id="27" name="Picture 32" descr="img06"/>
          <p:cNvPicPr/>
          <p:nvPr/>
        </p:nvPicPr>
        <p:blipFill>
          <a:blip r:embed="rId24"/>
          <a:stretch/>
        </p:blipFill>
        <p:spPr>
          <a:xfrm>
            <a:off x="179280" y="5805360"/>
            <a:ext cx="787680" cy="455760"/>
          </a:xfrm>
          <a:prstGeom prst="rect">
            <a:avLst/>
          </a:prstGeom>
          <a:ln w="0">
            <a:noFill/>
          </a:ln>
        </p:spPr>
      </p:pic>
      <p:pic>
        <p:nvPicPr>
          <p:cNvPr id="28" name="Picture 54" descr="img06"/>
          <p:cNvPicPr/>
          <p:nvPr/>
        </p:nvPicPr>
        <p:blipFill>
          <a:blip r:embed="rId25"/>
          <a:stretch/>
        </p:blipFill>
        <p:spPr>
          <a:xfrm>
            <a:off x="-34920" y="5516640"/>
            <a:ext cx="785880" cy="455400"/>
          </a:xfrm>
          <a:prstGeom prst="rect">
            <a:avLst/>
          </a:prstGeom>
          <a:ln w="0">
            <a:noFill/>
          </a:ln>
        </p:spPr>
      </p:pic>
      <p:pic>
        <p:nvPicPr>
          <p:cNvPr id="29" name="Picture 55" descr="img06"/>
          <p:cNvPicPr/>
          <p:nvPr/>
        </p:nvPicPr>
        <p:blipFill>
          <a:blip r:embed="rId26"/>
          <a:stretch/>
        </p:blipFill>
        <p:spPr>
          <a:xfrm>
            <a:off x="-250920" y="5781600"/>
            <a:ext cx="785880" cy="45576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60" descr="ch2"/>
          <p:cNvPicPr/>
          <p:nvPr/>
        </p:nvPicPr>
        <p:blipFill>
          <a:blip r:embed="rId27"/>
          <a:stretch/>
        </p:blipFill>
        <p:spPr>
          <a:xfrm>
            <a:off x="2916360" y="2492280"/>
            <a:ext cx="1792080" cy="3241800"/>
          </a:xfrm>
          <a:prstGeom prst="rect">
            <a:avLst/>
          </a:prstGeom>
          <a:ln w="0">
            <a:noFill/>
          </a:ln>
        </p:spPr>
      </p:pic>
      <p:grpSp>
        <p:nvGrpSpPr>
          <p:cNvPr id="31" name=""/>
          <p:cNvGrpSpPr/>
          <p:nvPr/>
        </p:nvGrpSpPr>
        <p:grpSpPr>
          <a:xfrm>
            <a:off x="6226200" y="6380280"/>
            <a:ext cx="2593800" cy="288720"/>
            <a:chOff x="6226200" y="6380280"/>
            <a:chExt cx="2593800" cy="288720"/>
          </a:xfrm>
        </p:grpSpPr>
        <p:sp>
          <p:nvSpPr>
            <p:cNvPr id="32" name="WordArt 25"/>
            <p:cNvSpPr txBox="1"/>
            <p:nvPr/>
          </p:nvSpPr>
          <p:spPr>
            <a:xfrm>
              <a:off x="7667640" y="638028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33" name="WordArt 26"/>
            <p:cNvSpPr txBox="1"/>
            <p:nvPr/>
          </p:nvSpPr>
          <p:spPr>
            <a:xfrm>
              <a:off x="6226200" y="659592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8"/>
    <p:sldLayoutId id="2147483650" r:id="rId29"/>
    <p:sldLayoutId id="2147483651" r:id="rId30"/>
    <p:sldLayoutId id="2147483652" r:id="rId31"/>
    <p:sldLayoutId id="2147483653" r:id="rId32"/>
    <p:sldLayoutId id="2147483654" r:id="rId33"/>
    <p:sldLayoutId id="2147483655" r:id="rId34"/>
    <p:sldLayoutId id="2147483656" r:id="rId35"/>
    <p:sldLayoutId id="2147483657" r:id="rId36"/>
    <p:sldLayoutId id="2147483658" r:id="rId37"/>
    <p:sldLayoutId id="2147483659" r:id="rId38"/>
    <p:sldLayoutId id="2147483660" r:id="rId3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3" descr="bg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ar2"/>
          <p:cNvPicPr/>
          <p:nvPr/>
        </p:nvPicPr>
        <p:blipFill>
          <a:blip r:embed="rId3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AD9C-6126-4AFA-8DE5-8EEF28289F7F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7" name="Picture 27" descr="img05"/>
          <p:cNvPicPr/>
          <p:nvPr/>
        </p:nvPicPr>
        <p:blipFill>
          <a:blip r:embed="rId4"/>
          <a:stretch/>
        </p:blipFill>
        <p:spPr>
          <a:xfrm>
            <a:off x="7380360" y="396720"/>
            <a:ext cx="792000" cy="56520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740720" y="260280"/>
            <a:ext cx="1402920" cy="639720"/>
            <a:chOff x="7740720" y="260280"/>
            <a:chExt cx="1402920" cy="639720"/>
          </a:xfrm>
        </p:grpSpPr>
        <p:pic>
          <p:nvPicPr>
            <p:cNvPr id="79" name="Picture 28" descr="img04"/>
            <p:cNvPicPr/>
            <p:nvPr/>
          </p:nvPicPr>
          <p:blipFill>
            <a:blip r:embed="rId5"/>
            <a:stretch/>
          </p:blipFill>
          <p:spPr>
            <a:xfrm>
              <a:off x="7740720" y="260280"/>
              <a:ext cx="98964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9" descr="img04"/>
            <p:cNvPicPr/>
            <p:nvPr/>
          </p:nvPicPr>
          <p:blipFill>
            <a:blip r:embed="rId6"/>
            <a:stretch/>
          </p:blipFill>
          <p:spPr>
            <a:xfrm>
              <a:off x="8154000" y="260280"/>
              <a:ext cx="989640" cy="6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Picture 31" descr="bar2-1"/>
          <p:cNvPicPr/>
          <p:nvPr/>
        </p:nvPicPr>
        <p:blipFill>
          <a:blip r:embed="rId7"/>
          <a:stretch/>
        </p:blipFill>
        <p:spPr>
          <a:xfrm>
            <a:off x="0" y="793800"/>
            <a:ext cx="9144000" cy="11412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6226200" y="6380280"/>
            <a:ext cx="2593800" cy="288720"/>
            <a:chOff x="6226200" y="6380280"/>
            <a:chExt cx="2593800" cy="288720"/>
          </a:xfrm>
        </p:grpSpPr>
        <p:sp>
          <p:nvSpPr>
            <p:cNvPr id="83" name="WordArt 25"/>
            <p:cNvSpPr txBox="1"/>
            <p:nvPr/>
          </p:nvSpPr>
          <p:spPr>
            <a:xfrm>
              <a:off x="7667640" y="638028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84" name="WordArt 26"/>
            <p:cNvSpPr txBox="1"/>
            <p:nvPr/>
          </p:nvSpPr>
          <p:spPr>
            <a:xfrm>
              <a:off x="6226200" y="659592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8" descr="bg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2" descr="bar"/>
          <p:cNvPicPr/>
          <p:nvPr/>
        </p:nvPicPr>
        <p:blipFill>
          <a:blip r:embed="rId3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E9FB-6CD1-4224-9F1F-5967FBBB939D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28" name="Picture 40" descr="img03"/>
          <p:cNvPicPr/>
          <p:nvPr/>
        </p:nvPicPr>
        <p:blipFill>
          <a:blip r:embed="rId4"/>
          <a:stretch/>
        </p:blipFill>
        <p:spPr>
          <a:xfrm>
            <a:off x="7524720" y="404640"/>
            <a:ext cx="647640" cy="49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img02"/>
          <p:cNvPicPr/>
          <p:nvPr/>
        </p:nvPicPr>
        <p:blipFill>
          <a:blip r:embed="rId5"/>
          <a:stretch/>
        </p:blipFill>
        <p:spPr>
          <a:xfrm>
            <a:off x="7885080" y="115920"/>
            <a:ext cx="1152720" cy="779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1" descr="bar-1"/>
          <p:cNvPicPr/>
          <p:nvPr/>
        </p:nvPicPr>
        <p:blipFill>
          <a:blip r:embed="rId6"/>
          <a:stretch/>
        </p:blipFill>
        <p:spPr>
          <a:xfrm>
            <a:off x="0" y="803160"/>
            <a:ext cx="9144000" cy="11448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226200" y="6380280"/>
            <a:ext cx="2593800" cy="288720"/>
            <a:chOff x="6226200" y="6380280"/>
            <a:chExt cx="2593800" cy="288720"/>
          </a:xfrm>
        </p:grpSpPr>
        <p:sp>
          <p:nvSpPr>
            <p:cNvPr id="132" name="WordArt 25"/>
            <p:cNvSpPr txBox="1"/>
            <p:nvPr/>
          </p:nvSpPr>
          <p:spPr>
            <a:xfrm>
              <a:off x="7667640" y="638028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133" name="WordArt 26"/>
            <p:cNvSpPr txBox="1"/>
            <p:nvPr/>
          </p:nvSpPr>
          <p:spPr>
            <a:xfrm>
              <a:off x="6226200" y="659592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0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bg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428760" y="25848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15A7-FAAF-42AB-BAD4-33D7F98B7329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178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79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80" name="Picture 38" descr="img06"/>
          <p:cNvPicPr/>
          <p:nvPr/>
        </p:nvPicPr>
        <p:blipFill>
          <a:blip r:embed="rId4"/>
          <a:stretch/>
        </p:blipFill>
        <p:spPr>
          <a:xfrm>
            <a:off x="8854920" y="5904000"/>
            <a:ext cx="576360" cy="333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9" descr="img06"/>
          <p:cNvPicPr/>
          <p:nvPr/>
        </p:nvPicPr>
        <p:blipFill>
          <a:blip r:embed="rId5"/>
          <a:stretch/>
        </p:blipFill>
        <p:spPr>
          <a:xfrm>
            <a:off x="8854920" y="6093000"/>
            <a:ext cx="576360" cy="333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3" descr="img02"/>
          <p:cNvPicPr/>
          <p:nvPr/>
        </p:nvPicPr>
        <p:blipFill>
          <a:blip r:embed="rId6"/>
          <a:stretch/>
        </p:blipFill>
        <p:spPr>
          <a:xfrm>
            <a:off x="7738920" y="5651640"/>
            <a:ext cx="936720" cy="585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4" descr="img05"/>
          <p:cNvPicPr/>
          <p:nvPr/>
        </p:nvPicPr>
        <p:blipFill>
          <a:blip r:embed="rId7"/>
          <a:stretch/>
        </p:blipFill>
        <p:spPr>
          <a:xfrm>
            <a:off x="8494560" y="6067440"/>
            <a:ext cx="541440" cy="38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5" descr="img05"/>
          <p:cNvPicPr/>
          <p:nvPr/>
        </p:nvPicPr>
        <p:blipFill>
          <a:blip r:embed="rId8"/>
          <a:stretch/>
        </p:blipFill>
        <p:spPr>
          <a:xfrm>
            <a:off x="8172360" y="6067440"/>
            <a:ext cx="541440" cy="38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6" descr="img03"/>
          <p:cNvPicPr/>
          <p:nvPr/>
        </p:nvPicPr>
        <p:blipFill>
          <a:blip r:embed="rId9"/>
          <a:stretch/>
        </p:blipFill>
        <p:spPr>
          <a:xfrm>
            <a:off x="7667640" y="6093000"/>
            <a:ext cx="64944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5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bg"/>
          <p:cNvPicPr/>
          <p:nvPr/>
        </p:nvPicPr>
        <p:blipFill>
          <a:blip r:embed="rId3"/>
          <a:stretch/>
        </p:blipFill>
        <p:spPr>
          <a:xfrm>
            <a:off x="0" y="5043600"/>
            <a:ext cx="9144000" cy="1814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c"/>
          <p:cNvPicPr/>
          <p:nvPr/>
        </p:nvPicPr>
        <p:blipFill>
          <a:blip r:embed="rId4"/>
          <a:stretch/>
        </p:blipFill>
        <p:spPr>
          <a:xfrm>
            <a:off x="-33480" y="1362240"/>
            <a:ext cx="9142560" cy="3362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0" descr="img02"/>
          <p:cNvPicPr/>
          <p:nvPr/>
        </p:nvPicPr>
        <p:blipFill>
          <a:blip r:embed="rId5"/>
          <a:stretch/>
        </p:blipFill>
        <p:spPr>
          <a:xfrm>
            <a:off x="395280" y="5013360"/>
            <a:ext cx="1152360" cy="779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mam"/>
          <p:cNvPicPr/>
          <p:nvPr/>
        </p:nvPicPr>
        <p:blipFill>
          <a:blip r:embed="rId6"/>
          <a:stretch/>
        </p:blipFill>
        <p:spPr>
          <a:xfrm>
            <a:off x="179280" y="2997360"/>
            <a:ext cx="1384560" cy="25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1" descr="img05"/>
          <p:cNvPicPr/>
          <p:nvPr/>
        </p:nvPicPr>
        <p:blipFill>
          <a:blip r:embed="rId7"/>
          <a:stretch/>
        </p:blipFill>
        <p:spPr>
          <a:xfrm>
            <a:off x="0" y="5445000"/>
            <a:ext cx="611280" cy="436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2" descr="img05"/>
          <p:cNvPicPr/>
          <p:nvPr/>
        </p:nvPicPr>
        <p:blipFill>
          <a:blip r:embed="rId8"/>
          <a:stretch/>
        </p:blipFill>
        <p:spPr>
          <a:xfrm>
            <a:off x="289080" y="5589720"/>
            <a:ext cx="610920" cy="436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3" descr="img06"/>
          <p:cNvPicPr/>
          <p:nvPr/>
        </p:nvPicPr>
        <p:blipFill>
          <a:blip r:embed="rId9"/>
          <a:stretch/>
        </p:blipFill>
        <p:spPr>
          <a:xfrm>
            <a:off x="-250920" y="5661000"/>
            <a:ext cx="503280" cy="291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4" descr="img06"/>
          <p:cNvPicPr/>
          <p:nvPr/>
        </p:nvPicPr>
        <p:blipFill>
          <a:blip r:embed="rId10"/>
          <a:stretch/>
        </p:blipFill>
        <p:spPr>
          <a:xfrm>
            <a:off x="-250920" y="5805360"/>
            <a:ext cx="503280" cy="292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5" descr="f3"/>
          <p:cNvPicPr/>
          <p:nvPr/>
        </p:nvPicPr>
        <p:blipFill>
          <a:blip r:embed="rId11"/>
          <a:stretch/>
        </p:blipFill>
        <p:spPr>
          <a:xfrm>
            <a:off x="324000" y="115920"/>
            <a:ext cx="1474560" cy="158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7" descr="pr"/>
          <p:cNvPicPr/>
          <p:nvPr/>
        </p:nvPicPr>
        <p:blipFill>
          <a:blip r:embed="rId12"/>
          <a:stretch/>
        </p:blipFill>
        <p:spPr>
          <a:xfrm>
            <a:off x="971640" y="-25560"/>
            <a:ext cx="8172360" cy="68803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7640" y="433080"/>
            <a:ext cx="6823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226200" y="6380280"/>
            <a:ext cx="2593800" cy="288720"/>
            <a:chOff x="6226200" y="6380280"/>
            <a:chExt cx="2593800" cy="288720"/>
          </a:xfrm>
        </p:grpSpPr>
        <p:sp>
          <p:nvSpPr>
            <p:cNvPr id="235" name="WordArt 25"/>
            <p:cNvSpPr txBox="1"/>
            <p:nvPr/>
          </p:nvSpPr>
          <p:spPr>
            <a:xfrm>
              <a:off x="7667640" y="638028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236" name="WordArt 26"/>
            <p:cNvSpPr txBox="1"/>
            <p:nvPr/>
          </p:nvSpPr>
          <p:spPr>
            <a:xfrm>
              <a:off x="6226200" y="659592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37" name="Picture 29" descr="img03"/>
          <p:cNvPicPr/>
          <p:nvPr/>
        </p:nvPicPr>
        <p:blipFill>
          <a:blip r:embed="rId13"/>
          <a:stretch/>
        </p:blipFill>
        <p:spPr>
          <a:xfrm>
            <a:off x="684360" y="5567400"/>
            <a:ext cx="8650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6"/>
          <p:cNvSpPr/>
          <p:nvPr/>
        </p:nvSpPr>
        <p:spPr>
          <a:xfrm>
            <a:off x="0" y="68580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0" y="140652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55854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"/>
          <p:cNvSpPr/>
          <p:nvPr/>
        </p:nvSpPr>
        <p:spPr>
          <a:xfrm>
            <a:off x="2179800" y="1173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Gulim"/>
              </a:rPr>
              <a:t>健康饮食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2"/>
          <p:cNvSpPr/>
          <p:nvPr/>
        </p:nvSpPr>
        <p:spPr>
          <a:xfrm>
            <a:off x="431640" y="1268280"/>
            <a:ext cx="8280720" cy="2232000"/>
          </a:xfrm>
          <a:prstGeom prst="roundRect">
            <a:avLst>
              <a:gd name="adj" fmla="val 4319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84360" y="1590840"/>
            <a:ext cx="2482560" cy="15840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5e0cf"/>
              </a:gs>
              <a:gs pos="100000">
                <a:srgbClr val="f5e0c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684360" y="1484280"/>
            <a:ext cx="2482560" cy="93492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5e0cf"/>
              </a:gs>
              <a:gs pos="100000">
                <a:srgbClr val="f5e0c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720720" y="1519200"/>
            <a:ext cx="2411280" cy="86364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3348000" y="1590840"/>
            <a:ext cx="2482920" cy="15840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e3f6c2"/>
              </a:gs>
              <a:gs pos="100000">
                <a:srgbClr val="e3f6c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348000" y="1484280"/>
            <a:ext cx="2482920" cy="93492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e3f6c2"/>
              </a:gs>
              <a:gs pos="100000">
                <a:srgbClr val="e3f6c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3384720" y="1519200"/>
            <a:ext cx="2411280" cy="86364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99cc00"/>
              </a:gs>
              <a:gs pos="100000">
                <a:srgbClr val="7da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6012000" y="1590840"/>
            <a:ext cx="2482560" cy="15840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d8e7ec"/>
              </a:gs>
              <a:gs pos="100000">
                <a:srgbClr val="d8e7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AutoShape 10"/>
          <p:cNvSpPr/>
          <p:nvPr/>
        </p:nvSpPr>
        <p:spPr>
          <a:xfrm>
            <a:off x="6012000" y="1484280"/>
            <a:ext cx="2482560" cy="93492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d8e7ec"/>
              </a:gs>
              <a:gs pos="100000">
                <a:srgbClr val="d8e7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6048360" y="1519200"/>
            <a:ext cx="2411280" cy="86364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431640" y="3681360"/>
            <a:ext cx="8280720" cy="2411640"/>
          </a:xfrm>
          <a:prstGeom prst="roundRect">
            <a:avLst>
              <a:gd name="adj" fmla="val 5620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684360" y="5556240"/>
            <a:ext cx="7775280" cy="357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684360" y="5162400"/>
            <a:ext cx="7775280" cy="357480"/>
          </a:xfrm>
          <a:prstGeom prst="roundRect">
            <a:avLst>
              <a:gd name="adj" fmla="val 50000"/>
            </a:avLst>
          </a:prstGeom>
          <a:solidFill>
            <a:srgbClr val="ff9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AutoShape 15"/>
          <p:cNvSpPr/>
          <p:nvPr/>
        </p:nvSpPr>
        <p:spPr>
          <a:xfrm>
            <a:off x="684360" y="4767120"/>
            <a:ext cx="7775280" cy="357480"/>
          </a:xfrm>
          <a:prstGeom prst="roundRect">
            <a:avLst>
              <a:gd name="adj" fmla="val 50000"/>
            </a:avLst>
          </a:prstGeom>
          <a:solidFill>
            <a:srgbClr val="00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684360" y="4370400"/>
            <a:ext cx="7775280" cy="357120"/>
          </a:xfrm>
          <a:prstGeom prst="roundRect">
            <a:avLst>
              <a:gd name="adj" fmla="val 50000"/>
            </a:avLst>
          </a:prstGeom>
          <a:solidFill>
            <a:srgbClr val="99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900000" y="1698480"/>
            <a:ext cx="2089080" cy="431640"/>
            <a:chOff x="900000" y="1698480"/>
            <a:chExt cx="2089080" cy="431640"/>
          </a:xfrm>
        </p:grpSpPr>
        <p:sp>
          <p:nvSpPr>
            <p:cNvPr id="517" name="WordArt 18"/>
            <p:cNvSpPr txBox="1"/>
            <p:nvPr/>
          </p:nvSpPr>
          <p:spPr>
            <a:xfrm>
              <a:off x="1044360" y="169848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8" name="WordArt 19"/>
            <p:cNvSpPr txBox="1"/>
            <p:nvPr/>
          </p:nvSpPr>
          <p:spPr>
            <a:xfrm>
              <a:off x="900000" y="1996920"/>
              <a:ext cx="20890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 !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564000" y="1698480"/>
            <a:ext cx="2089080" cy="431640"/>
            <a:chOff x="3564000" y="1698480"/>
            <a:chExt cx="2089080" cy="431640"/>
          </a:xfrm>
        </p:grpSpPr>
        <p:sp>
          <p:nvSpPr>
            <p:cNvPr id="520" name="WordArt 21"/>
            <p:cNvSpPr txBox="1"/>
            <p:nvPr/>
          </p:nvSpPr>
          <p:spPr>
            <a:xfrm>
              <a:off x="3708360" y="169848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1" name="WordArt 22"/>
            <p:cNvSpPr txBox="1"/>
            <p:nvPr/>
          </p:nvSpPr>
          <p:spPr>
            <a:xfrm>
              <a:off x="3564000" y="1996920"/>
              <a:ext cx="20890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 !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227640" y="1698480"/>
            <a:ext cx="2089080" cy="431640"/>
            <a:chOff x="6227640" y="1698480"/>
            <a:chExt cx="2089080" cy="431640"/>
          </a:xfrm>
        </p:grpSpPr>
        <p:sp>
          <p:nvSpPr>
            <p:cNvPr id="523" name="WordArt 24"/>
            <p:cNvSpPr txBox="1"/>
            <p:nvPr/>
          </p:nvSpPr>
          <p:spPr>
            <a:xfrm>
              <a:off x="6372000" y="169848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4" name="WordArt 25"/>
            <p:cNvSpPr txBox="1"/>
            <p:nvPr/>
          </p:nvSpPr>
          <p:spPr>
            <a:xfrm>
              <a:off x="6227640" y="1996920"/>
              <a:ext cx="20890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 !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25" name="WordArt 26"/>
          <p:cNvSpPr txBox="1"/>
          <p:nvPr/>
        </p:nvSpPr>
        <p:spPr>
          <a:xfrm>
            <a:off x="1403280" y="2706840"/>
            <a:ext cx="93672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6" name="WordArt 27"/>
          <p:cNvSpPr txBox="1"/>
          <p:nvPr/>
        </p:nvSpPr>
        <p:spPr>
          <a:xfrm>
            <a:off x="4140360" y="2706840"/>
            <a:ext cx="93636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7" name="WordArt 28"/>
          <p:cNvSpPr txBox="1"/>
          <p:nvPr/>
        </p:nvSpPr>
        <p:spPr>
          <a:xfrm>
            <a:off x="6804000" y="2706840"/>
            <a:ext cx="93672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8" name="WordArt 29"/>
          <p:cNvSpPr txBox="1"/>
          <p:nvPr/>
        </p:nvSpPr>
        <p:spPr>
          <a:xfrm>
            <a:off x="3564000" y="3860640"/>
            <a:ext cx="2016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65000"/>
                  </a:srgbClr>
                </a:solidFill>
                <a:latin typeface="Arial Black"/>
              </a:rPr>
              <a:t>TITLE LIST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65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9" name="WordArt 30"/>
          <p:cNvSpPr txBox="1"/>
          <p:nvPr/>
        </p:nvSpPr>
        <p:spPr>
          <a:xfrm>
            <a:off x="3348000" y="4465800"/>
            <a:ext cx="244800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530" name="WordArt 31"/>
          <p:cNvSpPr txBox="1"/>
          <p:nvPr/>
        </p:nvSpPr>
        <p:spPr>
          <a:xfrm>
            <a:off x="3348000" y="4869000"/>
            <a:ext cx="244800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531" name="WordArt 32"/>
          <p:cNvSpPr txBox="1"/>
          <p:nvPr/>
        </p:nvSpPr>
        <p:spPr>
          <a:xfrm>
            <a:off x="3348000" y="5229360"/>
            <a:ext cx="244800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532" name="WordArt 33"/>
          <p:cNvSpPr txBox="1"/>
          <p:nvPr/>
        </p:nvSpPr>
        <p:spPr>
          <a:xfrm>
            <a:off x="3348000" y="5661000"/>
            <a:ext cx="244800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4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2973240" y="2201760"/>
            <a:ext cx="3254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3297240" y="1484280"/>
            <a:ext cx="2540160" cy="97164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e3f6c2"/>
              </a:gs>
              <a:gs pos="100000">
                <a:srgbClr val="97a4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3425760" y="1808280"/>
            <a:ext cx="2281320" cy="57600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99cc00"/>
              </a:gs>
              <a:gs pos="100000">
                <a:srgbClr val="7da7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WordArt 6"/>
          <p:cNvSpPr txBox="1"/>
          <p:nvPr/>
        </p:nvSpPr>
        <p:spPr>
          <a:xfrm>
            <a:off x="3780000" y="19875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0" name="WordArt 7"/>
          <p:cNvSpPr txBox="1"/>
          <p:nvPr/>
        </p:nvSpPr>
        <p:spPr>
          <a:xfrm>
            <a:off x="1908000" y="2060640"/>
            <a:ext cx="64800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1" name="WordArt 8"/>
          <p:cNvSpPr txBox="1"/>
          <p:nvPr/>
        </p:nvSpPr>
        <p:spPr>
          <a:xfrm>
            <a:off x="6661080" y="206064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2" name="WordArt 9"/>
          <p:cNvSpPr txBox="1"/>
          <p:nvPr/>
        </p:nvSpPr>
        <p:spPr>
          <a:xfrm>
            <a:off x="4211640" y="155592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43" name="Freeform 10"/>
          <p:cNvSpPr/>
          <p:nvPr/>
        </p:nvSpPr>
        <p:spPr>
          <a:xfrm>
            <a:off x="1835280" y="1987560"/>
            <a:ext cx="1368360" cy="1441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315" h="544">
                <a:moveTo>
                  <a:pt x="0" y="544"/>
                </a:moveTo>
                <a:lnTo>
                  <a:pt x="0" y="0"/>
                </a:lnTo>
                <a:lnTo>
                  <a:pt x="1315" y="0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4" name="Freeform 11"/>
          <p:cNvSpPr/>
          <p:nvPr/>
        </p:nvSpPr>
        <p:spPr>
          <a:xfrm flipH="1">
            <a:off x="5903280" y="1987560"/>
            <a:ext cx="1476360" cy="1441440"/>
          </a:xfrm>
          <a:custGeom>
            <a:avLst/>
            <a:gdLst>
              <a:gd name="textAreaLeft" fmla="*/ -360 w 1476360"/>
              <a:gd name="textAreaRight" fmla="*/ 1476360 w 14763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315" h="544">
                <a:moveTo>
                  <a:pt x="0" y="544"/>
                </a:moveTo>
                <a:lnTo>
                  <a:pt x="0" y="0"/>
                </a:lnTo>
                <a:lnTo>
                  <a:pt x="1315" y="0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5867280" y="4130640"/>
            <a:ext cx="1152720" cy="0"/>
          </a:xfrm>
          <a:prstGeom prst="line">
            <a:avLst/>
          </a:prstGeom>
          <a:ln w="101520">
            <a:solidFill>
              <a:srgbClr val="bfbfb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Line 7"/>
          <p:cNvSpPr/>
          <p:nvPr/>
        </p:nvSpPr>
        <p:spPr>
          <a:xfrm>
            <a:off x="2089080" y="4130640"/>
            <a:ext cx="1187640" cy="0"/>
          </a:xfrm>
          <a:prstGeom prst="line">
            <a:avLst/>
          </a:prstGeom>
          <a:ln w="101520">
            <a:solidFill>
              <a:srgbClr val="bfbf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Oval 8"/>
          <p:cNvSpPr/>
          <p:nvPr/>
        </p:nvSpPr>
        <p:spPr>
          <a:xfrm>
            <a:off x="3348000" y="4564080"/>
            <a:ext cx="2311560" cy="1025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Oval 20"/>
          <p:cNvSpPr/>
          <p:nvPr/>
        </p:nvSpPr>
        <p:spPr>
          <a:xfrm>
            <a:off x="3419640" y="29448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f69926"/>
              </a:gs>
              <a:gs pos="100000">
                <a:srgbClr val="7247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Oval 21"/>
          <p:cNvSpPr/>
          <p:nvPr/>
        </p:nvSpPr>
        <p:spPr>
          <a:xfrm>
            <a:off x="4284720" y="3087720"/>
            <a:ext cx="433440" cy="43344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3924360" y="3664080"/>
            <a:ext cx="1368000" cy="900720"/>
            <a:chOff x="3924360" y="3664080"/>
            <a:chExt cx="1368000" cy="900720"/>
          </a:xfrm>
        </p:grpSpPr>
        <p:sp>
          <p:nvSpPr>
            <p:cNvPr id="551" name="WordArt 23"/>
            <p:cNvSpPr txBox="1"/>
            <p:nvPr/>
          </p:nvSpPr>
          <p:spPr>
            <a:xfrm>
              <a:off x="4098960" y="3664080"/>
              <a:ext cx="1022400" cy="30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2" name="WordArt 24"/>
            <p:cNvSpPr txBox="1"/>
            <p:nvPr/>
          </p:nvSpPr>
          <p:spPr>
            <a:xfrm>
              <a:off x="3924360" y="4052520"/>
              <a:ext cx="136800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53" name="AutoShape 14"/>
          <p:cNvSpPr/>
          <p:nvPr/>
        </p:nvSpPr>
        <p:spPr>
          <a:xfrm>
            <a:off x="746280" y="464184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AutoShape 15"/>
          <p:cNvSpPr/>
          <p:nvPr/>
        </p:nvSpPr>
        <p:spPr>
          <a:xfrm>
            <a:off x="942840" y="317016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79a2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AutoShape 19"/>
          <p:cNvSpPr/>
          <p:nvPr/>
        </p:nvSpPr>
        <p:spPr>
          <a:xfrm>
            <a:off x="1039680" y="3270240"/>
            <a:ext cx="1570320" cy="538200"/>
          </a:xfrm>
          <a:prstGeom prst="roundRect">
            <a:avLst>
              <a:gd name="adj" fmla="val 2168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136520" y="3857760"/>
            <a:ext cx="1373040" cy="489960"/>
            <a:chOff x="1136520" y="3857760"/>
            <a:chExt cx="1373040" cy="489960"/>
          </a:xfrm>
        </p:grpSpPr>
        <p:sp>
          <p:nvSpPr>
            <p:cNvPr id="557" name="WordArt 27"/>
            <p:cNvSpPr txBox="1"/>
            <p:nvPr/>
          </p:nvSpPr>
          <p:spPr>
            <a:xfrm>
              <a:off x="1311840" y="3857760"/>
              <a:ext cx="1026360" cy="29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8" name="WordArt 28"/>
            <p:cNvSpPr txBox="1"/>
            <p:nvPr/>
          </p:nvSpPr>
          <p:spPr>
            <a:xfrm>
              <a:off x="1136520" y="4192200"/>
              <a:ext cx="137304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59" name="AutoShape 14"/>
          <p:cNvSpPr/>
          <p:nvPr/>
        </p:nvSpPr>
        <p:spPr>
          <a:xfrm>
            <a:off x="6286680" y="463248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6483240" y="316080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88b6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AutoShape 19"/>
          <p:cNvSpPr/>
          <p:nvPr/>
        </p:nvSpPr>
        <p:spPr>
          <a:xfrm>
            <a:off x="6580080" y="3260880"/>
            <a:ext cx="1570320" cy="537840"/>
          </a:xfrm>
          <a:prstGeom prst="roundRect">
            <a:avLst>
              <a:gd name="adj" fmla="val 2168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676920" y="3848040"/>
            <a:ext cx="1373040" cy="490320"/>
            <a:chOff x="6676920" y="3848040"/>
            <a:chExt cx="1373040" cy="490320"/>
          </a:xfrm>
        </p:grpSpPr>
        <p:sp>
          <p:nvSpPr>
            <p:cNvPr id="563" name="WordArt 27"/>
            <p:cNvSpPr txBox="1"/>
            <p:nvPr/>
          </p:nvSpPr>
          <p:spPr>
            <a:xfrm>
              <a:off x="6852240" y="3848040"/>
              <a:ext cx="1026360" cy="29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4" name="WordArt 28"/>
            <p:cNvSpPr txBox="1"/>
            <p:nvPr/>
          </p:nvSpPr>
          <p:spPr>
            <a:xfrm>
              <a:off x="6676920" y="4182840"/>
              <a:ext cx="137304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65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2"/>
          <p:cNvSpPr/>
          <p:nvPr/>
        </p:nvSpPr>
        <p:spPr>
          <a:xfrm>
            <a:off x="539640" y="1916280"/>
            <a:ext cx="8102880" cy="973080"/>
          </a:xfrm>
          <a:custGeom>
            <a:avLst/>
            <a:gdLst>
              <a:gd name="textAreaLeft" fmla="*/ 1109520 w 8102880"/>
              <a:gd name="textAreaRight" fmla="*/ 6993360 w 8102880"/>
              <a:gd name="textAreaTop" fmla="*/ 133200 h 973080"/>
              <a:gd name="textAreaBottom" fmla="*/ 839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15" y="21600"/>
                </a:lnTo>
                <a:lnTo>
                  <a:pt x="19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b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AutoShape 3"/>
          <p:cNvSpPr/>
          <p:nvPr/>
        </p:nvSpPr>
        <p:spPr>
          <a:xfrm>
            <a:off x="469800" y="1268280"/>
            <a:ext cx="8244000" cy="828720"/>
          </a:xfrm>
          <a:prstGeom prst="roundRect">
            <a:avLst>
              <a:gd name="adj" fmla="val 50000"/>
            </a:avLst>
          </a:prstGeom>
          <a:solidFill>
            <a:srgbClr val="e3f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Freeform 4"/>
          <p:cNvSpPr/>
          <p:nvPr/>
        </p:nvSpPr>
        <p:spPr>
          <a:xfrm>
            <a:off x="504720" y="1305000"/>
            <a:ext cx="8172720" cy="431640"/>
          </a:xfrm>
          <a:custGeom>
            <a:avLst/>
            <a:gdLst/>
            <a:ahLst/>
            <a:rect l="l" t="t" r="r" b="b"/>
            <a:pathLst>
              <a:path w="12020" h="636">
                <a:moveTo>
                  <a:pt x="12020" y="636"/>
                </a:moveTo>
                <a:lnTo>
                  <a:pt x="12020" y="636"/>
                </a:lnTo>
                <a:lnTo>
                  <a:pt x="12018" y="604"/>
                </a:lnTo>
                <a:lnTo>
                  <a:pt x="12016" y="570"/>
                </a:lnTo>
                <a:lnTo>
                  <a:pt x="12012" y="540"/>
                </a:lnTo>
                <a:lnTo>
                  <a:pt x="12006" y="508"/>
                </a:lnTo>
                <a:lnTo>
                  <a:pt x="12000" y="476"/>
                </a:lnTo>
                <a:lnTo>
                  <a:pt x="11990" y="446"/>
                </a:lnTo>
                <a:lnTo>
                  <a:pt x="11980" y="418"/>
                </a:lnTo>
                <a:lnTo>
                  <a:pt x="11970" y="388"/>
                </a:lnTo>
                <a:lnTo>
                  <a:pt x="11956" y="360"/>
                </a:lnTo>
                <a:lnTo>
                  <a:pt x="11942" y="332"/>
                </a:lnTo>
                <a:lnTo>
                  <a:pt x="11928" y="306"/>
                </a:lnTo>
                <a:lnTo>
                  <a:pt x="11910" y="280"/>
                </a:lnTo>
                <a:lnTo>
                  <a:pt x="11892" y="254"/>
                </a:lnTo>
                <a:lnTo>
                  <a:pt x="11874" y="230"/>
                </a:lnTo>
                <a:lnTo>
                  <a:pt x="11854" y="208"/>
                </a:lnTo>
                <a:lnTo>
                  <a:pt x="11832" y="186"/>
                </a:lnTo>
                <a:lnTo>
                  <a:pt x="11810" y="164"/>
                </a:lnTo>
                <a:lnTo>
                  <a:pt x="11788" y="144"/>
                </a:lnTo>
                <a:lnTo>
                  <a:pt x="11764" y="126"/>
                </a:lnTo>
                <a:lnTo>
                  <a:pt x="11738" y="108"/>
                </a:lnTo>
                <a:lnTo>
                  <a:pt x="11712" y="92"/>
                </a:lnTo>
                <a:lnTo>
                  <a:pt x="11686" y="76"/>
                </a:lnTo>
                <a:lnTo>
                  <a:pt x="11658" y="62"/>
                </a:lnTo>
                <a:lnTo>
                  <a:pt x="11630" y="50"/>
                </a:lnTo>
                <a:lnTo>
                  <a:pt x="11602" y="38"/>
                </a:lnTo>
                <a:lnTo>
                  <a:pt x="11572" y="28"/>
                </a:lnTo>
                <a:lnTo>
                  <a:pt x="11542" y="20"/>
                </a:lnTo>
                <a:lnTo>
                  <a:pt x="11512" y="12"/>
                </a:lnTo>
                <a:lnTo>
                  <a:pt x="11480" y="6"/>
                </a:lnTo>
                <a:lnTo>
                  <a:pt x="11448" y="2"/>
                </a:lnTo>
                <a:lnTo>
                  <a:pt x="11416" y="0"/>
                </a:lnTo>
                <a:lnTo>
                  <a:pt x="11384" y="0"/>
                </a:lnTo>
                <a:lnTo>
                  <a:pt x="636" y="0"/>
                </a:lnTo>
                <a:lnTo>
                  <a:pt x="636" y="0"/>
                </a:lnTo>
                <a:lnTo>
                  <a:pt x="604" y="0"/>
                </a:lnTo>
                <a:lnTo>
                  <a:pt x="572" y="2"/>
                </a:lnTo>
                <a:lnTo>
                  <a:pt x="540" y="6"/>
                </a:lnTo>
                <a:lnTo>
                  <a:pt x="508" y="12"/>
                </a:lnTo>
                <a:lnTo>
                  <a:pt x="478" y="20"/>
                </a:lnTo>
                <a:lnTo>
                  <a:pt x="448" y="28"/>
                </a:lnTo>
                <a:lnTo>
                  <a:pt x="418" y="38"/>
                </a:lnTo>
                <a:lnTo>
                  <a:pt x="390" y="50"/>
                </a:lnTo>
                <a:lnTo>
                  <a:pt x="362" y="62"/>
                </a:lnTo>
                <a:lnTo>
                  <a:pt x="334" y="76"/>
                </a:lnTo>
                <a:lnTo>
                  <a:pt x="308" y="92"/>
                </a:lnTo>
                <a:lnTo>
                  <a:pt x="282" y="108"/>
                </a:lnTo>
                <a:lnTo>
                  <a:pt x="256" y="126"/>
                </a:lnTo>
                <a:lnTo>
                  <a:pt x="232" y="144"/>
                </a:lnTo>
                <a:lnTo>
                  <a:pt x="210" y="164"/>
                </a:lnTo>
                <a:lnTo>
                  <a:pt x="188" y="186"/>
                </a:lnTo>
                <a:lnTo>
                  <a:pt x="166" y="208"/>
                </a:lnTo>
                <a:lnTo>
                  <a:pt x="146" y="230"/>
                </a:lnTo>
                <a:lnTo>
                  <a:pt x="128" y="254"/>
                </a:lnTo>
                <a:lnTo>
                  <a:pt x="110" y="280"/>
                </a:lnTo>
                <a:lnTo>
                  <a:pt x="92" y="306"/>
                </a:lnTo>
                <a:lnTo>
                  <a:pt x="78" y="332"/>
                </a:lnTo>
                <a:lnTo>
                  <a:pt x="64" y="360"/>
                </a:lnTo>
                <a:lnTo>
                  <a:pt x="50" y="388"/>
                </a:lnTo>
                <a:lnTo>
                  <a:pt x="40" y="418"/>
                </a:lnTo>
                <a:lnTo>
                  <a:pt x="30" y="446"/>
                </a:lnTo>
                <a:lnTo>
                  <a:pt x="20" y="476"/>
                </a:lnTo>
                <a:lnTo>
                  <a:pt x="14" y="508"/>
                </a:lnTo>
                <a:lnTo>
                  <a:pt x="8" y="540"/>
                </a:lnTo>
                <a:lnTo>
                  <a:pt x="4" y="570"/>
                </a:lnTo>
                <a:lnTo>
                  <a:pt x="2" y="604"/>
                </a:lnTo>
                <a:lnTo>
                  <a:pt x="0" y="636"/>
                </a:lnTo>
                <a:lnTo>
                  <a:pt x="12020" y="63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AutoShape 5"/>
          <p:cNvSpPr/>
          <p:nvPr/>
        </p:nvSpPr>
        <p:spPr>
          <a:xfrm>
            <a:off x="538200" y="4329000"/>
            <a:ext cx="8102520" cy="14763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AutoShape 6"/>
          <p:cNvSpPr/>
          <p:nvPr/>
        </p:nvSpPr>
        <p:spPr>
          <a:xfrm>
            <a:off x="504720" y="2673360"/>
            <a:ext cx="817272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AutoShape 7"/>
          <p:cNvSpPr/>
          <p:nvPr/>
        </p:nvSpPr>
        <p:spPr>
          <a:xfrm>
            <a:off x="50472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AutoShape 8"/>
          <p:cNvSpPr/>
          <p:nvPr/>
        </p:nvSpPr>
        <p:spPr>
          <a:xfrm>
            <a:off x="72072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AutoShape 9"/>
          <p:cNvSpPr/>
          <p:nvPr/>
        </p:nvSpPr>
        <p:spPr>
          <a:xfrm>
            <a:off x="793800" y="2925720"/>
            <a:ext cx="2338200" cy="6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AutoShape 10"/>
          <p:cNvSpPr/>
          <p:nvPr/>
        </p:nvSpPr>
        <p:spPr>
          <a:xfrm>
            <a:off x="3454560" y="3897360"/>
            <a:ext cx="2269800" cy="431640"/>
          </a:xfrm>
          <a:prstGeom prst="downArrow">
            <a:avLst>
              <a:gd name="adj1" fmla="val 49926"/>
              <a:gd name="adj2" fmla="val 68213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AutoShape 11"/>
          <p:cNvSpPr/>
          <p:nvPr/>
        </p:nvSpPr>
        <p:spPr>
          <a:xfrm>
            <a:off x="3132000" y="35002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AutoShape 12"/>
          <p:cNvSpPr/>
          <p:nvPr/>
        </p:nvSpPr>
        <p:spPr>
          <a:xfrm>
            <a:off x="334800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3f6c2"/>
              </a:gs>
              <a:gs pos="100000">
                <a:srgbClr val="97a4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7" name="AutoShape 13"/>
          <p:cNvSpPr/>
          <p:nvPr/>
        </p:nvSpPr>
        <p:spPr>
          <a:xfrm>
            <a:off x="3421080" y="2925720"/>
            <a:ext cx="2338200" cy="6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7da7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AutoShape 14"/>
          <p:cNvSpPr/>
          <p:nvPr/>
        </p:nvSpPr>
        <p:spPr>
          <a:xfrm>
            <a:off x="579600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AutoShape 15"/>
          <p:cNvSpPr/>
          <p:nvPr/>
        </p:nvSpPr>
        <p:spPr>
          <a:xfrm>
            <a:off x="5977080" y="2852640"/>
            <a:ext cx="248256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8e7ec"/>
              </a:gs>
              <a:gs pos="100000">
                <a:srgbClr val="909a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AutoShape 16"/>
          <p:cNvSpPr/>
          <p:nvPr/>
        </p:nvSpPr>
        <p:spPr>
          <a:xfrm>
            <a:off x="6049800" y="2925720"/>
            <a:ext cx="2338560" cy="6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AutoShape 17"/>
          <p:cNvSpPr/>
          <p:nvPr/>
        </p:nvSpPr>
        <p:spPr>
          <a:xfrm>
            <a:off x="755640" y="454500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AutoShape 18"/>
          <p:cNvSpPr/>
          <p:nvPr/>
        </p:nvSpPr>
        <p:spPr>
          <a:xfrm>
            <a:off x="755640" y="512136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WordArt 19"/>
          <p:cNvSpPr txBox="1"/>
          <p:nvPr/>
        </p:nvSpPr>
        <p:spPr>
          <a:xfrm>
            <a:off x="3782880" y="1482840"/>
            <a:ext cx="15811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333333">
                    <a:alpha val="75000"/>
                  </a:srgbClr>
                </a:solidFill>
                <a:latin typeface="Arial Black"/>
              </a:rPr>
              <a:t>TITLE</a:t>
            </a:r>
            <a:endParaRPr b="0" lang="en-US" sz="1400" spc="-1" strike="noStrike">
              <a:ln w="0">
                <a:noFill/>
              </a:ln>
              <a:solidFill>
                <a:srgbClr val="333333">
                  <a:alpha val="75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476360" y="3068640"/>
            <a:ext cx="1008000" cy="360000"/>
            <a:chOff x="1476360" y="3068640"/>
            <a:chExt cx="1008000" cy="360000"/>
          </a:xfrm>
        </p:grpSpPr>
        <p:sp>
          <p:nvSpPr>
            <p:cNvPr id="585" name="WordArt 21"/>
            <p:cNvSpPr txBox="1"/>
            <p:nvPr/>
          </p:nvSpPr>
          <p:spPr>
            <a:xfrm>
              <a:off x="1604880" y="3068640"/>
              <a:ext cx="75312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6" name="WordArt 22"/>
            <p:cNvSpPr txBox="1"/>
            <p:nvPr/>
          </p:nvSpPr>
          <p:spPr>
            <a:xfrm>
              <a:off x="1476360" y="3314520"/>
              <a:ext cx="1008000" cy="1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067280" y="3068640"/>
            <a:ext cx="1008000" cy="360000"/>
            <a:chOff x="4067280" y="3068640"/>
            <a:chExt cx="1008000" cy="360000"/>
          </a:xfrm>
        </p:grpSpPr>
        <p:sp>
          <p:nvSpPr>
            <p:cNvPr id="588" name="WordArt 24"/>
            <p:cNvSpPr txBox="1"/>
            <p:nvPr/>
          </p:nvSpPr>
          <p:spPr>
            <a:xfrm>
              <a:off x="4195800" y="3068640"/>
              <a:ext cx="75312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9" name="WordArt 25"/>
            <p:cNvSpPr txBox="1"/>
            <p:nvPr/>
          </p:nvSpPr>
          <p:spPr>
            <a:xfrm>
              <a:off x="4067280" y="3314520"/>
              <a:ext cx="1008000" cy="1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732720" y="3068640"/>
            <a:ext cx="1008000" cy="360000"/>
            <a:chOff x="6732720" y="3068640"/>
            <a:chExt cx="1008000" cy="360000"/>
          </a:xfrm>
        </p:grpSpPr>
        <p:sp>
          <p:nvSpPr>
            <p:cNvPr id="591" name="WordArt 27"/>
            <p:cNvSpPr txBox="1"/>
            <p:nvPr/>
          </p:nvSpPr>
          <p:spPr>
            <a:xfrm>
              <a:off x="6861240" y="3068640"/>
              <a:ext cx="75312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2" name="WordArt 28"/>
            <p:cNvSpPr txBox="1"/>
            <p:nvPr/>
          </p:nvSpPr>
          <p:spPr>
            <a:xfrm>
              <a:off x="6732720" y="3314520"/>
              <a:ext cx="1008000" cy="1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3" name="WordArt 29"/>
          <p:cNvSpPr txBox="1"/>
          <p:nvPr/>
        </p:nvSpPr>
        <p:spPr>
          <a:xfrm>
            <a:off x="3419640" y="4724280"/>
            <a:ext cx="2447640" cy="1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4" name="WordArt 30"/>
          <p:cNvSpPr txBox="1"/>
          <p:nvPr/>
        </p:nvSpPr>
        <p:spPr>
          <a:xfrm>
            <a:off x="3419640" y="5300640"/>
            <a:ext cx="244764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6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24000" y="1268280"/>
            <a:ext cx="8496000" cy="4824360"/>
            <a:chOff x="324000" y="1268280"/>
            <a:chExt cx="8496000" cy="4824360"/>
          </a:xfrm>
        </p:grpSpPr>
        <p:sp>
          <p:nvSpPr>
            <p:cNvPr id="599" name="AutoShape 4"/>
            <p:cNvSpPr/>
            <p:nvPr/>
          </p:nvSpPr>
          <p:spPr>
            <a:xfrm>
              <a:off x="324000" y="1268280"/>
              <a:ext cx="8496000" cy="4824360"/>
            </a:xfrm>
            <a:prstGeom prst="roundRect">
              <a:avLst>
                <a:gd name="adj" fmla="val 6444"/>
              </a:avLst>
            </a:prstGeom>
            <a:solidFill>
              <a:srgbClr val="c0c0c0">
                <a:alpha val="25000"/>
              </a:srgbClr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AutoShape 5"/>
            <p:cNvSpPr/>
            <p:nvPr/>
          </p:nvSpPr>
          <p:spPr>
            <a:xfrm>
              <a:off x="2614320" y="1484280"/>
              <a:ext cx="1888920" cy="792000"/>
            </a:xfrm>
            <a:prstGeom prst="roundRect">
              <a:avLst>
                <a:gd name="adj" fmla="val 12343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AutoShape 6"/>
            <p:cNvSpPr/>
            <p:nvPr/>
          </p:nvSpPr>
          <p:spPr>
            <a:xfrm>
              <a:off x="4600440" y="1484280"/>
              <a:ext cx="1888560" cy="792000"/>
            </a:xfrm>
            <a:prstGeom prst="roundRect">
              <a:avLst>
                <a:gd name="adj" fmla="val 12343"/>
              </a:avLst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AutoShape 7"/>
            <p:cNvSpPr/>
            <p:nvPr/>
          </p:nvSpPr>
          <p:spPr>
            <a:xfrm>
              <a:off x="6588000" y="1484280"/>
              <a:ext cx="1888560" cy="792000"/>
            </a:xfrm>
            <a:prstGeom prst="roundRect">
              <a:avLst>
                <a:gd name="adj" fmla="val 12343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3" name="AutoShape 8"/>
            <p:cNvSpPr/>
            <p:nvPr/>
          </p:nvSpPr>
          <p:spPr>
            <a:xfrm>
              <a:off x="628560" y="1484280"/>
              <a:ext cx="1888560" cy="792000"/>
            </a:xfrm>
            <a:prstGeom prst="roundRect">
              <a:avLst>
                <a:gd name="adj" fmla="val 12343"/>
              </a:avLst>
            </a:prstGeom>
            <a:solidFill>
              <a:srgbClr val="c0c0c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4" name="AutoShape 9"/>
            <p:cNvSpPr/>
            <p:nvPr/>
          </p:nvSpPr>
          <p:spPr>
            <a:xfrm>
              <a:off x="628560" y="2384280"/>
              <a:ext cx="1888560" cy="792000"/>
            </a:xfrm>
            <a:prstGeom prst="roundRect">
              <a:avLst>
                <a:gd name="adj" fmla="val 12343"/>
              </a:avLst>
            </a:prstGeom>
            <a:solidFill>
              <a:srgbClr val="c0c0c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AutoShape 10"/>
            <p:cNvSpPr/>
            <p:nvPr/>
          </p:nvSpPr>
          <p:spPr>
            <a:xfrm>
              <a:off x="628560" y="3284280"/>
              <a:ext cx="1888560" cy="792360"/>
            </a:xfrm>
            <a:prstGeom prst="roundRect">
              <a:avLst>
                <a:gd name="adj" fmla="val 12343"/>
              </a:avLst>
            </a:prstGeom>
            <a:solidFill>
              <a:srgbClr val="c0c0c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AutoShape 11"/>
            <p:cNvSpPr/>
            <p:nvPr/>
          </p:nvSpPr>
          <p:spPr>
            <a:xfrm>
              <a:off x="628560" y="4184640"/>
              <a:ext cx="1888560" cy="792000"/>
            </a:xfrm>
            <a:prstGeom prst="roundRect">
              <a:avLst>
                <a:gd name="adj" fmla="val 12343"/>
              </a:avLst>
            </a:prstGeom>
            <a:solidFill>
              <a:srgbClr val="c0c0c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AutoShape 12"/>
            <p:cNvSpPr/>
            <p:nvPr/>
          </p:nvSpPr>
          <p:spPr>
            <a:xfrm>
              <a:off x="628560" y="5084640"/>
              <a:ext cx="1888560" cy="792000"/>
            </a:xfrm>
            <a:prstGeom prst="roundRect">
              <a:avLst>
                <a:gd name="adj" fmla="val 12343"/>
              </a:avLst>
            </a:prstGeom>
            <a:solidFill>
              <a:srgbClr val="c0c0c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2614320" y="2384280"/>
              <a:ext cx="5861880" cy="792000"/>
              <a:chOff x="2614320" y="2384280"/>
              <a:chExt cx="5861880" cy="79200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2614320" y="2384280"/>
                <a:ext cx="188892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4600080" y="2384280"/>
                <a:ext cx="188856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6587640" y="2384280"/>
                <a:ext cx="188856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2614320" y="3284280"/>
              <a:ext cx="5861880" cy="792000"/>
              <a:chOff x="2614320" y="3284280"/>
              <a:chExt cx="5861880" cy="792000"/>
            </a:xfrm>
          </p:grpSpPr>
          <p:sp>
            <p:nvSpPr>
              <p:cNvPr id="613" name="AutoShape 18"/>
              <p:cNvSpPr/>
              <p:nvPr/>
            </p:nvSpPr>
            <p:spPr>
              <a:xfrm>
                <a:off x="2614320" y="3284280"/>
                <a:ext cx="188892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4" name="AutoShape 19"/>
              <p:cNvSpPr/>
              <p:nvPr/>
            </p:nvSpPr>
            <p:spPr>
              <a:xfrm>
                <a:off x="4600080" y="3284280"/>
                <a:ext cx="188856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5" name="AutoShape 20"/>
              <p:cNvSpPr/>
              <p:nvPr/>
            </p:nvSpPr>
            <p:spPr>
              <a:xfrm>
                <a:off x="6587640" y="3284280"/>
                <a:ext cx="188856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614320" y="4184640"/>
              <a:ext cx="5861880" cy="792000"/>
              <a:chOff x="2614320" y="4184640"/>
              <a:chExt cx="5861880" cy="79200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2614320" y="4184640"/>
                <a:ext cx="188892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4600080" y="4184640"/>
                <a:ext cx="188856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6587640" y="4184640"/>
                <a:ext cx="188856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14320" y="5084640"/>
              <a:ext cx="5861880" cy="792000"/>
              <a:chOff x="2614320" y="5084640"/>
              <a:chExt cx="5861880" cy="792000"/>
            </a:xfrm>
          </p:grpSpPr>
          <p:sp>
            <p:nvSpPr>
              <p:cNvPr id="621" name="AutoShape 26"/>
              <p:cNvSpPr/>
              <p:nvPr/>
            </p:nvSpPr>
            <p:spPr>
              <a:xfrm>
                <a:off x="2614320" y="5084640"/>
                <a:ext cx="188892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2" name="AutoShape 27"/>
              <p:cNvSpPr/>
              <p:nvPr/>
            </p:nvSpPr>
            <p:spPr>
              <a:xfrm>
                <a:off x="4600080" y="5084640"/>
                <a:ext cx="188856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3" name="AutoShape 28"/>
              <p:cNvSpPr/>
              <p:nvPr/>
            </p:nvSpPr>
            <p:spPr>
              <a:xfrm>
                <a:off x="6587640" y="5084640"/>
                <a:ext cx="1888560" cy="792000"/>
              </a:xfrm>
              <a:prstGeom prst="roundRect">
                <a:avLst>
                  <a:gd name="adj" fmla="val 12343"/>
                </a:avLst>
              </a:prstGeom>
              <a:solidFill>
                <a:srgbClr val="ffffff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24" name="WordArt 29"/>
            <p:cNvSpPr txBox="1"/>
            <p:nvPr/>
          </p:nvSpPr>
          <p:spPr>
            <a:xfrm>
              <a:off x="1039680" y="1744560"/>
              <a:ext cx="1058400" cy="26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</a:rPr>
                <a:t>TITLE</a:t>
              </a:r>
              <a:endParaRPr b="0" lang="en-US" sz="1400" spc="-1" strike="noStrike">
                <a:ln w="0">
                  <a:noFill/>
                </a:ln>
                <a:solidFill>
                  <a:srgbClr val="333333">
                    <a:alpha val="75000"/>
                  </a:srgbClr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046320" y="1699920"/>
              <a:ext cx="1007640" cy="360000"/>
              <a:chOff x="3046320" y="1699920"/>
              <a:chExt cx="1007640" cy="360000"/>
            </a:xfrm>
          </p:grpSpPr>
          <p:sp>
            <p:nvSpPr>
              <p:cNvPr id="626" name="WordArt 31"/>
              <p:cNvSpPr txBox="1"/>
              <p:nvPr/>
            </p:nvSpPr>
            <p:spPr>
              <a:xfrm>
                <a:off x="3174840" y="169992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27" name="WordArt 32"/>
              <p:cNvSpPr txBox="1"/>
              <p:nvPr/>
            </p:nvSpPr>
            <p:spPr>
              <a:xfrm>
                <a:off x="3046320" y="194580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5003640" y="1699920"/>
              <a:ext cx="1007640" cy="360000"/>
              <a:chOff x="5003640" y="1699920"/>
              <a:chExt cx="1007640" cy="360000"/>
            </a:xfrm>
          </p:grpSpPr>
          <p:sp>
            <p:nvSpPr>
              <p:cNvPr id="629" name="WordArt 34"/>
              <p:cNvSpPr txBox="1"/>
              <p:nvPr/>
            </p:nvSpPr>
            <p:spPr>
              <a:xfrm>
                <a:off x="5132160" y="169992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30" name="WordArt 35"/>
              <p:cNvSpPr txBox="1"/>
              <p:nvPr/>
            </p:nvSpPr>
            <p:spPr>
              <a:xfrm>
                <a:off x="5003640" y="194580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6986520" y="1699920"/>
              <a:ext cx="1007640" cy="360000"/>
              <a:chOff x="6986520" y="1699920"/>
              <a:chExt cx="1007640" cy="360000"/>
            </a:xfrm>
          </p:grpSpPr>
          <p:sp>
            <p:nvSpPr>
              <p:cNvPr id="632" name="WordArt 37"/>
              <p:cNvSpPr txBox="1"/>
              <p:nvPr/>
            </p:nvSpPr>
            <p:spPr>
              <a:xfrm>
                <a:off x="7115040" y="169992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33" name="WordArt 38"/>
              <p:cNvSpPr txBox="1"/>
              <p:nvPr/>
            </p:nvSpPr>
            <p:spPr>
              <a:xfrm>
                <a:off x="6986520" y="194580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044520" y="2708280"/>
              <a:ext cx="1006200" cy="2837880"/>
              <a:chOff x="3044520" y="2708280"/>
              <a:chExt cx="1006200" cy="2837880"/>
            </a:xfrm>
          </p:grpSpPr>
          <p:sp>
            <p:nvSpPr>
              <p:cNvPr id="635" name="WordArt 40"/>
              <p:cNvSpPr txBox="1"/>
              <p:nvPr/>
            </p:nvSpPr>
            <p:spPr>
              <a:xfrm>
                <a:off x="3044520" y="270828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36" name="WordArt 41"/>
              <p:cNvSpPr txBox="1"/>
              <p:nvPr/>
            </p:nvSpPr>
            <p:spPr>
              <a:xfrm>
                <a:off x="3044520" y="360648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37" name="WordArt 42"/>
              <p:cNvSpPr txBox="1"/>
              <p:nvPr/>
            </p:nvSpPr>
            <p:spPr>
              <a:xfrm>
                <a:off x="3044520" y="450504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38" name="WordArt 43"/>
              <p:cNvSpPr txBox="1"/>
              <p:nvPr/>
            </p:nvSpPr>
            <p:spPr>
              <a:xfrm>
                <a:off x="3044520" y="540360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1039680" y="2708280"/>
              <a:ext cx="1006200" cy="2837880"/>
              <a:chOff x="1039680" y="2708280"/>
              <a:chExt cx="1006200" cy="2837880"/>
            </a:xfrm>
          </p:grpSpPr>
          <p:sp>
            <p:nvSpPr>
              <p:cNvPr id="640" name="WordArt 45"/>
              <p:cNvSpPr txBox="1"/>
              <p:nvPr/>
            </p:nvSpPr>
            <p:spPr>
              <a:xfrm>
                <a:off x="1039680" y="270828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41" name="WordArt 46"/>
              <p:cNvSpPr txBox="1"/>
              <p:nvPr/>
            </p:nvSpPr>
            <p:spPr>
              <a:xfrm>
                <a:off x="1039680" y="360648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42" name="WordArt 47"/>
              <p:cNvSpPr txBox="1"/>
              <p:nvPr/>
            </p:nvSpPr>
            <p:spPr>
              <a:xfrm>
                <a:off x="1039680" y="450504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43" name="WordArt 48"/>
              <p:cNvSpPr txBox="1"/>
              <p:nvPr/>
            </p:nvSpPr>
            <p:spPr>
              <a:xfrm>
                <a:off x="1039680" y="540360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5003640" y="2708280"/>
              <a:ext cx="1006200" cy="2837880"/>
              <a:chOff x="5003640" y="2708280"/>
              <a:chExt cx="1006200" cy="2837880"/>
            </a:xfrm>
          </p:grpSpPr>
          <p:sp>
            <p:nvSpPr>
              <p:cNvPr id="645" name="WordArt 50"/>
              <p:cNvSpPr txBox="1"/>
              <p:nvPr/>
            </p:nvSpPr>
            <p:spPr>
              <a:xfrm>
                <a:off x="5003640" y="270828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46" name="WordArt 51"/>
              <p:cNvSpPr txBox="1"/>
              <p:nvPr/>
            </p:nvSpPr>
            <p:spPr>
              <a:xfrm>
                <a:off x="5003640" y="360648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47" name="WordArt 52"/>
              <p:cNvSpPr txBox="1"/>
              <p:nvPr/>
            </p:nvSpPr>
            <p:spPr>
              <a:xfrm>
                <a:off x="5003640" y="450504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48" name="WordArt 53"/>
              <p:cNvSpPr txBox="1"/>
              <p:nvPr/>
            </p:nvSpPr>
            <p:spPr>
              <a:xfrm>
                <a:off x="5003640" y="540360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7034040" y="2708280"/>
              <a:ext cx="1006200" cy="2837880"/>
              <a:chOff x="7034040" y="2708280"/>
              <a:chExt cx="1006200" cy="2837880"/>
            </a:xfrm>
          </p:grpSpPr>
          <p:sp>
            <p:nvSpPr>
              <p:cNvPr id="650" name="WordArt 55"/>
              <p:cNvSpPr txBox="1"/>
              <p:nvPr/>
            </p:nvSpPr>
            <p:spPr>
              <a:xfrm>
                <a:off x="7034040" y="270828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51" name="WordArt 56"/>
              <p:cNvSpPr txBox="1"/>
              <p:nvPr/>
            </p:nvSpPr>
            <p:spPr>
              <a:xfrm>
                <a:off x="7034040" y="360648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52" name="WordArt 57"/>
              <p:cNvSpPr txBox="1"/>
              <p:nvPr/>
            </p:nvSpPr>
            <p:spPr>
              <a:xfrm>
                <a:off x="7034040" y="450504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53" name="WordArt 58"/>
              <p:cNvSpPr txBox="1"/>
              <p:nvPr/>
            </p:nvSpPr>
            <p:spPr>
              <a:xfrm>
                <a:off x="7034040" y="5403600"/>
                <a:ext cx="10062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333333">
                        <a:alpha val="75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333333">
                      <a:alpha val="75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654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2"/>
          <p:cNvSpPr/>
          <p:nvPr/>
        </p:nvSpPr>
        <p:spPr>
          <a:xfrm>
            <a:off x="468360" y="1484280"/>
            <a:ext cx="8280360" cy="649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7da7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AutoShape 3"/>
          <p:cNvSpPr/>
          <p:nvPr/>
        </p:nvSpPr>
        <p:spPr>
          <a:xfrm>
            <a:off x="431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7" name="AutoShape 4"/>
          <p:cNvSpPr/>
          <p:nvPr/>
        </p:nvSpPr>
        <p:spPr>
          <a:xfrm>
            <a:off x="431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8" name="AutoShape 5"/>
          <p:cNvSpPr/>
          <p:nvPr/>
        </p:nvSpPr>
        <p:spPr>
          <a:xfrm>
            <a:off x="215892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9" name="AutoShape 6"/>
          <p:cNvSpPr/>
          <p:nvPr/>
        </p:nvSpPr>
        <p:spPr>
          <a:xfrm>
            <a:off x="215892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0" name="AutoShape 7"/>
          <p:cNvSpPr/>
          <p:nvPr/>
        </p:nvSpPr>
        <p:spPr>
          <a:xfrm>
            <a:off x="3887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99cc00"/>
              </a:gs>
              <a:gs pos="100000">
                <a:srgbClr val="7da7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3887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99cc00"/>
              </a:gs>
              <a:gs pos="100000">
                <a:srgbClr val="7da7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AutoShape 9"/>
          <p:cNvSpPr/>
          <p:nvPr/>
        </p:nvSpPr>
        <p:spPr>
          <a:xfrm>
            <a:off x="5977080" y="2347920"/>
            <a:ext cx="2735280" cy="3313080"/>
          </a:xfrm>
          <a:custGeom>
            <a:avLst/>
            <a:gdLst>
              <a:gd name="textAreaLeft" fmla="*/ 43200 w 2735280"/>
              <a:gd name="textAreaRight" fmla="*/ 2692080 w 2735280"/>
              <a:gd name="textAreaTop" fmla="*/ 43200 h 3313080"/>
              <a:gd name="textAreaBottom" fmla="*/ 3269880 h 3313080"/>
            </a:gdLst>
            <a:ahLst/>
            <a:rect l="textAreaLeft" t="textAreaTop" r="textAreaRight" b="textAreaBottom"/>
            <a:pathLst>
              <a:path w="21600" h="26162">
                <a:moveTo>
                  <a:pt x="1167" y="0"/>
                </a:moveTo>
                <a:arcTo wR="1167" hR="1167" stAng="16200000" swAng="-5400000"/>
                <a:lnTo>
                  <a:pt x="0" y="24995"/>
                </a:lnTo>
                <a:arcTo wR="1167" hR="1167" stAng="10800000" swAng="-5400000"/>
                <a:lnTo>
                  <a:pt x="20433" y="26162"/>
                </a:lnTo>
                <a:arcTo wR="1167" hR="1167" stAng="5400000" swAng="-5400000"/>
                <a:lnTo>
                  <a:pt x="21600" y="1167"/>
                </a:lnTo>
                <a:arcTo wR="1167" hR="11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3" name="AutoShape 10"/>
          <p:cNvSpPr/>
          <p:nvPr/>
        </p:nvSpPr>
        <p:spPr>
          <a:xfrm rot="5400000">
            <a:off x="4642560" y="3825000"/>
            <a:ext cx="2270160" cy="3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16483"/>
              </a:gs>
              <a:gs pos="100000">
                <a:srgbClr val="1e2e3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AutoShape 11"/>
          <p:cNvSpPr/>
          <p:nvPr/>
        </p:nvSpPr>
        <p:spPr>
          <a:xfrm>
            <a:off x="503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2232000" y="241920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AutoShape 13"/>
          <p:cNvSpPr/>
          <p:nvPr/>
        </p:nvSpPr>
        <p:spPr>
          <a:xfrm>
            <a:off x="3959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7" name="AutoShape 14"/>
          <p:cNvSpPr/>
          <p:nvPr/>
        </p:nvSpPr>
        <p:spPr>
          <a:xfrm>
            <a:off x="503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8" name="AutoShape 15"/>
          <p:cNvSpPr/>
          <p:nvPr/>
        </p:nvSpPr>
        <p:spPr>
          <a:xfrm>
            <a:off x="2232000" y="411156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9" name="AutoShape 16"/>
          <p:cNvSpPr/>
          <p:nvPr/>
        </p:nvSpPr>
        <p:spPr>
          <a:xfrm>
            <a:off x="3959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0" name="AutoShape 17"/>
          <p:cNvSpPr/>
          <p:nvPr/>
        </p:nvSpPr>
        <p:spPr>
          <a:xfrm>
            <a:off x="6048360" y="2419200"/>
            <a:ext cx="2592360" cy="1836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1" name="WordArt 18"/>
          <p:cNvSpPr txBox="1"/>
          <p:nvPr/>
        </p:nvSpPr>
        <p:spPr>
          <a:xfrm>
            <a:off x="684360" y="2852640"/>
            <a:ext cx="11509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PICTURE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72" name="WordArt 19"/>
          <p:cNvSpPr txBox="1"/>
          <p:nvPr/>
        </p:nvSpPr>
        <p:spPr>
          <a:xfrm>
            <a:off x="2411280" y="2852640"/>
            <a:ext cx="11509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PICTURE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73" name="WordArt 20"/>
          <p:cNvSpPr txBox="1"/>
          <p:nvPr/>
        </p:nvSpPr>
        <p:spPr>
          <a:xfrm>
            <a:off x="6588000" y="3139920"/>
            <a:ext cx="158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PICTURE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74" name="WordArt 21"/>
          <p:cNvSpPr txBox="1"/>
          <p:nvPr/>
        </p:nvSpPr>
        <p:spPr>
          <a:xfrm>
            <a:off x="684360" y="4508640"/>
            <a:ext cx="11509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PICTURE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75" name="WordArt 22"/>
          <p:cNvSpPr txBox="1"/>
          <p:nvPr/>
        </p:nvSpPr>
        <p:spPr>
          <a:xfrm>
            <a:off x="2411280" y="4508640"/>
            <a:ext cx="11509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PICTURE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76" name="WordArt 23"/>
          <p:cNvSpPr txBox="1"/>
          <p:nvPr/>
        </p:nvSpPr>
        <p:spPr>
          <a:xfrm>
            <a:off x="4140360" y="4508640"/>
            <a:ext cx="11509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PICTURE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77" name="WordArt 24"/>
          <p:cNvSpPr txBox="1"/>
          <p:nvPr/>
        </p:nvSpPr>
        <p:spPr>
          <a:xfrm>
            <a:off x="4140360" y="2852640"/>
            <a:ext cx="11509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PICTURE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826920" y="3573360"/>
            <a:ext cx="863640" cy="276120"/>
            <a:chOff x="826920" y="3573360"/>
            <a:chExt cx="863640" cy="276120"/>
          </a:xfrm>
        </p:grpSpPr>
        <p:sp>
          <p:nvSpPr>
            <p:cNvPr id="679" name="WordArt 26"/>
            <p:cNvSpPr txBox="1"/>
            <p:nvPr/>
          </p:nvSpPr>
          <p:spPr>
            <a:xfrm>
              <a:off x="937080" y="3573360"/>
              <a:ext cx="64548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0" name="WordArt 27"/>
            <p:cNvSpPr txBox="1"/>
            <p:nvPr/>
          </p:nvSpPr>
          <p:spPr>
            <a:xfrm>
              <a:off x="826920" y="3762000"/>
              <a:ext cx="86364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2556000" y="3573360"/>
            <a:ext cx="863640" cy="276120"/>
            <a:chOff x="2556000" y="3573360"/>
            <a:chExt cx="863640" cy="276120"/>
          </a:xfrm>
        </p:grpSpPr>
        <p:sp>
          <p:nvSpPr>
            <p:cNvPr id="682" name="WordArt 29"/>
            <p:cNvSpPr txBox="1"/>
            <p:nvPr/>
          </p:nvSpPr>
          <p:spPr>
            <a:xfrm>
              <a:off x="2666160" y="3573360"/>
              <a:ext cx="64548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3" name="WordArt 30"/>
            <p:cNvSpPr txBox="1"/>
            <p:nvPr/>
          </p:nvSpPr>
          <p:spPr>
            <a:xfrm>
              <a:off x="2556000" y="3762000"/>
              <a:ext cx="86364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284720" y="3573360"/>
            <a:ext cx="863640" cy="276120"/>
            <a:chOff x="4284720" y="3573360"/>
            <a:chExt cx="863640" cy="276120"/>
          </a:xfrm>
        </p:grpSpPr>
        <p:sp>
          <p:nvSpPr>
            <p:cNvPr id="685" name="WordArt 32"/>
            <p:cNvSpPr txBox="1"/>
            <p:nvPr/>
          </p:nvSpPr>
          <p:spPr>
            <a:xfrm>
              <a:off x="4394880" y="3573360"/>
              <a:ext cx="64548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6" name="WordArt 33"/>
            <p:cNvSpPr txBox="1"/>
            <p:nvPr/>
          </p:nvSpPr>
          <p:spPr>
            <a:xfrm>
              <a:off x="4284720" y="3762000"/>
              <a:ext cx="86364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826920" y="5229360"/>
            <a:ext cx="863640" cy="275760"/>
            <a:chOff x="826920" y="5229360"/>
            <a:chExt cx="863640" cy="275760"/>
          </a:xfrm>
        </p:grpSpPr>
        <p:sp>
          <p:nvSpPr>
            <p:cNvPr id="688" name="WordArt 35"/>
            <p:cNvSpPr txBox="1"/>
            <p:nvPr/>
          </p:nvSpPr>
          <p:spPr>
            <a:xfrm>
              <a:off x="937080" y="5229360"/>
              <a:ext cx="645480" cy="16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9" name="WordArt 36"/>
            <p:cNvSpPr txBox="1"/>
            <p:nvPr/>
          </p:nvSpPr>
          <p:spPr>
            <a:xfrm>
              <a:off x="826920" y="5417640"/>
              <a:ext cx="86364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556000" y="5229360"/>
            <a:ext cx="863640" cy="275760"/>
            <a:chOff x="2556000" y="5229360"/>
            <a:chExt cx="863640" cy="275760"/>
          </a:xfrm>
        </p:grpSpPr>
        <p:sp>
          <p:nvSpPr>
            <p:cNvPr id="691" name="WordArt 38"/>
            <p:cNvSpPr txBox="1"/>
            <p:nvPr/>
          </p:nvSpPr>
          <p:spPr>
            <a:xfrm>
              <a:off x="2666160" y="5229360"/>
              <a:ext cx="645480" cy="16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2" name="WordArt 39"/>
            <p:cNvSpPr txBox="1"/>
            <p:nvPr/>
          </p:nvSpPr>
          <p:spPr>
            <a:xfrm>
              <a:off x="2556000" y="5417640"/>
              <a:ext cx="86364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284720" y="5229360"/>
            <a:ext cx="863640" cy="275760"/>
            <a:chOff x="4284720" y="5229360"/>
            <a:chExt cx="863640" cy="275760"/>
          </a:xfrm>
        </p:grpSpPr>
        <p:sp>
          <p:nvSpPr>
            <p:cNvPr id="694" name="WordArt 41"/>
            <p:cNvSpPr txBox="1"/>
            <p:nvPr/>
          </p:nvSpPr>
          <p:spPr>
            <a:xfrm>
              <a:off x="4394880" y="5229360"/>
              <a:ext cx="645480" cy="16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5" name="WordArt 42"/>
            <p:cNvSpPr txBox="1"/>
            <p:nvPr/>
          </p:nvSpPr>
          <p:spPr>
            <a:xfrm>
              <a:off x="4284720" y="5417640"/>
              <a:ext cx="86364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588000" y="4641840"/>
            <a:ext cx="1584000" cy="586800"/>
            <a:chOff x="6588000" y="4641840"/>
            <a:chExt cx="1584000" cy="586800"/>
          </a:xfrm>
        </p:grpSpPr>
        <p:sp>
          <p:nvSpPr>
            <p:cNvPr id="697" name="WordArt 44"/>
            <p:cNvSpPr txBox="1"/>
            <p:nvPr/>
          </p:nvSpPr>
          <p:spPr>
            <a:xfrm>
              <a:off x="6790320" y="4641840"/>
              <a:ext cx="1183680" cy="35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8" name="WordArt 45"/>
            <p:cNvSpPr txBox="1"/>
            <p:nvPr/>
          </p:nvSpPr>
          <p:spPr>
            <a:xfrm>
              <a:off x="6588000" y="5042520"/>
              <a:ext cx="1584000" cy="18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ADD 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9" name="WordArt 46"/>
          <p:cNvSpPr txBox="1"/>
          <p:nvPr/>
        </p:nvSpPr>
        <p:spPr>
          <a:xfrm>
            <a:off x="2762280" y="1655640"/>
            <a:ext cx="3897360" cy="2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01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Arc 2"/>
          <p:cNvSpPr/>
          <p:nvPr/>
        </p:nvSpPr>
        <p:spPr>
          <a:xfrm rot="18746400">
            <a:off x="3442320" y="1231200"/>
            <a:ext cx="1014480" cy="100332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fill="none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</a:path>
              <a:path stroke="0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74280" y="1572480"/>
            <a:ext cx="7313760" cy="4623120"/>
            <a:chOff x="674280" y="1572480"/>
            <a:chExt cx="7313760" cy="4623120"/>
          </a:xfrm>
        </p:grpSpPr>
        <p:grpSp>
          <p:nvGrpSpPr>
            <p:cNvPr id="704" name=""/>
            <p:cNvGrpSpPr/>
            <p:nvPr/>
          </p:nvGrpSpPr>
          <p:grpSpPr>
            <a:xfrm>
              <a:off x="674280" y="1572480"/>
              <a:ext cx="7313760" cy="4623120"/>
              <a:chOff x="674280" y="1572480"/>
              <a:chExt cx="7313760" cy="4623120"/>
            </a:xfrm>
          </p:grpSpPr>
          <p:sp>
            <p:nvSpPr>
              <p:cNvPr id="705" name="Freeform 5"/>
              <p:cNvSpPr/>
              <p:nvPr/>
            </p:nvSpPr>
            <p:spPr>
              <a:xfrm rot="21274800">
                <a:off x="4091760" y="1690560"/>
                <a:ext cx="2629080" cy="2630160"/>
              </a:xfrm>
              <a:custGeom>
                <a:avLst/>
                <a:gdLst>
                  <a:gd name="textAreaLeft" fmla="*/ 0 w 2629080"/>
                  <a:gd name="textAreaRight" fmla="*/ 2629440 w 2629080"/>
                  <a:gd name="textAreaTop" fmla="*/ 0 h 2630160"/>
                  <a:gd name="textAreaBottom" fmla="*/ 2630520 h 2630160"/>
                </a:gdLst>
                <a:ahLst/>
                <a:rect l="textAreaLeft" t="textAreaTop" r="textAreaRight" b="textAreaBottom"/>
                <a:pathLst>
                  <a:path w="1816" h="1816">
                    <a:moveTo>
                      <a:pt x="1816" y="978"/>
                    </a:moveTo>
                    <a:lnTo>
                      <a:pt x="1816" y="836"/>
                    </a:lnTo>
                    <a:lnTo>
                      <a:pt x="1710" y="836"/>
                    </a:lnTo>
                    <a:lnTo>
                      <a:pt x="1706" y="792"/>
                    </a:lnTo>
                    <a:lnTo>
                      <a:pt x="1698" y="750"/>
                    </a:lnTo>
                    <a:lnTo>
                      <a:pt x="1688" y="708"/>
                    </a:lnTo>
                    <a:lnTo>
                      <a:pt x="1678" y="666"/>
                    </a:lnTo>
                    <a:lnTo>
                      <a:pt x="1774" y="626"/>
                    </a:lnTo>
                    <a:lnTo>
                      <a:pt x="1718" y="494"/>
                    </a:lnTo>
                    <a:lnTo>
                      <a:pt x="1622" y="534"/>
                    </a:lnTo>
                    <a:lnTo>
                      <a:pt x="1602" y="496"/>
                    </a:lnTo>
                    <a:lnTo>
                      <a:pt x="1578" y="460"/>
                    </a:lnTo>
                    <a:lnTo>
                      <a:pt x="1552" y="424"/>
                    </a:lnTo>
                    <a:lnTo>
                      <a:pt x="1526" y="390"/>
                    </a:lnTo>
                    <a:lnTo>
                      <a:pt x="1600" y="316"/>
                    </a:lnTo>
                    <a:lnTo>
                      <a:pt x="1498" y="216"/>
                    </a:lnTo>
                    <a:lnTo>
                      <a:pt x="1426" y="290"/>
                    </a:lnTo>
                    <a:lnTo>
                      <a:pt x="1392" y="262"/>
                    </a:lnTo>
                    <a:lnTo>
                      <a:pt x="1356" y="236"/>
                    </a:lnTo>
                    <a:lnTo>
                      <a:pt x="1318" y="214"/>
                    </a:lnTo>
                    <a:lnTo>
                      <a:pt x="1280" y="192"/>
                    </a:lnTo>
                    <a:lnTo>
                      <a:pt x="1320" y="96"/>
                    </a:lnTo>
                    <a:lnTo>
                      <a:pt x="1188" y="42"/>
                    </a:lnTo>
                    <a:lnTo>
                      <a:pt x="1150" y="138"/>
                    </a:lnTo>
                    <a:lnTo>
                      <a:pt x="1108" y="126"/>
                    </a:lnTo>
                    <a:lnTo>
                      <a:pt x="1066" y="116"/>
                    </a:lnTo>
                    <a:lnTo>
                      <a:pt x="1022" y="110"/>
                    </a:lnTo>
                    <a:lnTo>
                      <a:pt x="978" y="104"/>
                    </a:lnTo>
                    <a:lnTo>
                      <a:pt x="978" y="0"/>
                    </a:lnTo>
                    <a:lnTo>
                      <a:pt x="836" y="0"/>
                    </a:lnTo>
                    <a:lnTo>
                      <a:pt x="836" y="104"/>
                    </a:lnTo>
                    <a:lnTo>
                      <a:pt x="792" y="110"/>
                    </a:lnTo>
                    <a:lnTo>
                      <a:pt x="750" y="116"/>
                    </a:lnTo>
                    <a:lnTo>
                      <a:pt x="706" y="126"/>
                    </a:lnTo>
                    <a:lnTo>
                      <a:pt x="666" y="138"/>
                    </a:lnTo>
                    <a:lnTo>
                      <a:pt x="626" y="42"/>
                    </a:lnTo>
                    <a:lnTo>
                      <a:pt x="494" y="96"/>
                    </a:lnTo>
                    <a:lnTo>
                      <a:pt x="534" y="192"/>
                    </a:lnTo>
                    <a:lnTo>
                      <a:pt x="496" y="214"/>
                    </a:lnTo>
                    <a:lnTo>
                      <a:pt x="460" y="236"/>
                    </a:lnTo>
                    <a:lnTo>
                      <a:pt x="424" y="262"/>
                    </a:lnTo>
                    <a:lnTo>
                      <a:pt x="390" y="290"/>
                    </a:lnTo>
                    <a:lnTo>
                      <a:pt x="316" y="216"/>
                    </a:lnTo>
                    <a:lnTo>
                      <a:pt x="216" y="316"/>
                    </a:lnTo>
                    <a:lnTo>
                      <a:pt x="288" y="390"/>
                    </a:lnTo>
                    <a:lnTo>
                      <a:pt x="262" y="424"/>
                    </a:lnTo>
                    <a:lnTo>
                      <a:pt x="236" y="460"/>
                    </a:lnTo>
                    <a:lnTo>
                      <a:pt x="214" y="496"/>
                    </a:lnTo>
                    <a:lnTo>
                      <a:pt x="192" y="534"/>
                    </a:lnTo>
                    <a:lnTo>
                      <a:pt x="96" y="494"/>
                    </a:lnTo>
                    <a:lnTo>
                      <a:pt x="42" y="626"/>
                    </a:lnTo>
                    <a:lnTo>
                      <a:pt x="138" y="666"/>
                    </a:lnTo>
                    <a:lnTo>
                      <a:pt x="126" y="708"/>
                    </a:lnTo>
                    <a:lnTo>
                      <a:pt x="116" y="750"/>
                    </a:lnTo>
                    <a:lnTo>
                      <a:pt x="108" y="792"/>
                    </a:lnTo>
                    <a:lnTo>
                      <a:pt x="104" y="836"/>
                    </a:lnTo>
                    <a:lnTo>
                      <a:pt x="0" y="836"/>
                    </a:lnTo>
                    <a:lnTo>
                      <a:pt x="0" y="978"/>
                    </a:lnTo>
                    <a:lnTo>
                      <a:pt x="104" y="978"/>
                    </a:lnTo>
                    <a:lnTo>
                      <a:pt x="108" y="1022"/>
                    </a:lnTo>
                    <a:lnTo>
                      <a:pt x="116" y="1066"/>
                    </a:lnTo>
                    <a:lnTo>
                      <a:pt x="126" y="1108"/>
                    </a:lnTo>
                    <a:lnTo>
                      <a:pt x="138" y="1150"/>
                    </a:lnTo>
                    <a:lnTo>
                      <a:pt x="42" y="1190"/>
                    </a:lnTo>
                    <a:lnTo>
                      <a:pt x="96" y="1320"/>
                    </a:lnTo>
                    <a:lnTo>
                      <a:pt x="192" y="1280"/>
                    </a:lnTo>
                    <a:lnTo>
                      <a:pt x="214" y="1320"/>
                    </a:lnTo>
                    <a:lnTo>
                      <a:pt x="236" y="1356"/>
                    </a:lnTo>
                    <a:lnTo>
                      <a:pt x="262" y="1392"/>
                    </a:lnTo>
                    <a:lnTo>
                      <a:pt x="288" y="1426"/>
                    </a:lnTo>
                    <a:lnTo>
                      <a:pt x="216" y="1500"/>
                    </a:lnTo>
                    <a:lnTo>
                      <a:pt x="316" y="1600"/>
                    </a:lnTo>
                    <a:lnTo>
                      <a:pt x="390" y="1526"/>
                    </a:lnTo>
                    <a:lnTo>
                      <a:pt x="424" y="1554"/>
                    </a:lnTo>
                    <a:lnTo>
                      <a:pt x="460" y="1578"/>
                    </a:lnTo>
                    <a:lnTo>
                      <a:pt x="496" y="1602"/>
                    </a:lnTo>
                    <a:lnTo>
                      <a:pt x="534" y="1622"/>
                    </a:lnTo>
                    <a:lnTo>
                      <a:pt x="494" y="1718"/>
                    </a:lnTo>
                    <a:lnTo>
                      <a:pt x="626" y="1774"/>
                    </a:lnTo>
                    <a:lnTo>
                      <a:pt x="666" y="1678"/>
                    </a:lnTo>
                    <a:lnTo>
                      <a:pt x="706" y="1690"/>
                    </a:lnTo>
                    <a:lnTo>
                      <a:pt x="750" y="1698"/>
                    </a:lnTo>
                    <a:lnTo>
                      <a:pt x="792" y="1706"/>
                    </a:lnTo>
                    <a:lnTo>
                      <a:pt x="836" y="1712"/>
                    </a:lnTo>
                    <a:lnTo>
                      <a:pt x="836" y="1816"/>
                    </a:lnTo>
                    <a:lnTo>
                      <a:pt x="978" y="1816"/>
                    </a:lnTo>
                    <a:lnTo>
                      <a:pt x="978" y="1712"/>
                    </a:lnTo>
                    <a:lnTo>
                      <a:pt x="1022" y="1706"/>
                    </a:lnTo>
                    <a:lnTo>
                      <a:pt x="1066" y="1698"/>
                    </a:lnTo>
                    <a:lnTo>
                      <a:pt x="1108" y="1690"/>
                    </a:lnTo>
                    <a:lnTo>
                      <a:pt x="1150" y="1678"/>
                    </a:lnTo>
                    <a:lnTo>
                      <a:pt x="1188" y="1774"/>
                    </a:lnTo>
                    <a:lnTo>
                      <a:pt x="1320" y="1718"/>
                    </a:lnTo>
                    <a:lnTo>
                      <a:pt x="1280" y="1622"/>
                    </a:lnTo>
                    <a:lnTo>
                      <a:pt x="1318" y="1602"/>
                    </a:lnTo>
                    <a:lnTo>
                      <a:pt x="1356" y="1578"/>
                    </a:lnTo>
                    <a:lnTo>
                      <a:pt x="1392" y="1554"/>
                    </a:lnTo>
                    <a:lnTo>
                      <a:pt x="1426" y="1526"/>
                    </a:lnTo>
                    <a:lnTo>
                      <a:pt x="1498" y="1600"/>
                    </a:lnTo>
                    <a:lnTo>
                      <a:pt x="1600" y="1500"/>
                    </a:lnTo>
                    <a:lnTo>
                      <a:pt x="1526" y="1426"/>
                    </a:lnTo>
                    <a:lnTo>
                      <a:pt x="1552" y="1392"/>
                    </a:lnTo>
                    <a:lnTo>
                      <a:pt x="1578" y="1356"/>
                    </a:lnTo>
                    <a:lnTo>
                      <a:pt x="1602" y="1320"/>
                    </a:lnTo>
                    <a:lnTo>
                      <a:pt x="1622" y="1280"/>
                    </a:lnTo>
                    <a:lnTo>
                      <a:pt x="1718" y="1320"/>
                    </a:lnTo>
                    <a:lnTo>
                      <a:pt x="1774" y="1190"/>
                    </a:lnTo>
                    <a:lnTo>
                      <a:pt x="1678" y="1150"/>
                    </a:lnTo>
                    <a:lnTo>
                      <a:pt x="1688" y="1108"/>
                    </a:lnTo>
                    <a:lnTo>
                      <a:pt x="1698" y="1066"/>
                    </a:lnTo>
                    <a:lnTo>
                      <a:pt x="1706" y="1022"/>
                    </a:lnTo>
                    <a:lnTo>
                      <a:pt x="1710" y="978"/>
                    </a:lnTo>
                    <a:lnTo>
                      <a:pt x="1816" y="978"/>
                    </a:lnTo>
                    <a:close/>
                    <a:moveTo>
                      <a:pt x="908" y="1614"/>
                    </a:moveTo>
                    <a:lnTo>
                      <a:pt x="908" y="1614"/>
                    </a:lnTo>
                    <a:lnTo>
                      <a:pt x="872" y="1612"/>
                    </a:lnTo>
                    <a:lnTo>
                      <a:pt x="836" y="1610"/>
                    </a:lnTo>
                    <a:lnTo>
                      <a:pt x="800" y="1606"/>
                    </a:lnTo>
                    <a:lnTo>
                      <a:pt x="766" y="1600"/>
                    </a:lnTo>
                    <a:lnTo>
                      <a:pt x="730" y="1592"/>
                    </a:lnTo>
                    <a:lnTo>
                      <a:pt x="698" y="1582"/>
                    </a:lnTo>
                    <a:lnTo>
                      <a:pt x="664" y="1570"/>
                    </a:lnTo>
                    <a:lnTo>
                      <a:pt x="632" y="1558"/>
                    </a:lnTo>
                    <a:lnTo>
                      <a:pt x="602" y="1544"/>
                    </a:lnTo>
                    <a:lnTo>
                      <a:pt x="570" y="1528"/>
                    </a:lnTo>
                    <a:lnTo>
                      <a:pt x="542" y="1512"/>
                    </a:lnTo>
                    <a:lnTo>
                      <a:pt x="512" y="1492"/>
                    </a:lnTo>
                    <a:lnTo>
                      <a:pt x="484" y="1474"/>
                    </a:lnTo>
                    <a:lnTo>
                      <a:pt x="458" y="1452"/>
                    </a:lnTo>
                    <a:lnTo>
                      <a:pt x="432" y="1430"/>
                    </a:lnTo>
                    <a:lnTo>
                      <a:pt x="408" y="1406"/>
                    </a:lnTo>
                    <a:lnTo>
                      <a:pt x="384" y="1382"/>
                    </a:lnTo>
                    <a:lnTo>
                      <a:pt x="362" y="1356"/>
                    </a:lnTo>
                    <a:lnTo>
                      <a:pt x="342" y="1330"/>
                    </a:lnTo>
                    <a:lnTo>
                      <a:pt x="322" y="1302"/>
                    </a:lnTo>
                    <a:lnTo>
                      <a:pt x="304" y="1274"/>
                    </a:lnTo>
                    <a:lnTo>
                      <a:pt x="286" y="1244"/>
                    </a:lnTo>
                    <a:lnTo>
                      <a:pt x="272" y="1214"/>
                    </a:lnTo>
                    <a:lnTo>
                      <a:pt x="256" y="1182"/>
                    </a:lnTo>
                    <a:lnTo>
                      <a:pt x="244" y="1150"/>
                    </a:lnTo>
                    <a:lnTo>
                      <a:pt x="234" y="1118"/>
                    </a:lnTo>
                    <a:lnTo>
                      <a:pt x="224" y="1084"/>
                    </a:lnTo>
                    <a:lnTo>
                      <a:pt x="216" y="1050"/>
                    </a:lnTo>
                    <a:lnTo>
                      <a:pt x="210" y="1016"/>
                    </a:lnTo>
                    <a:lnTo>
                      <a:pt x="206" y="980"/>
                    </a:lnTo>
                    <a:lnTo>
                      <a:pt x="202" y="944"/>
                    </a:lnTo>
                    <a:lnTo>
                      <a:pt x="202" y="908"/>
                    </a:lnTo>
                    <a:lnTo>
                      <a:pt x="202" y="872"/>
                    </a:lnTo>
                    <a:lnTo>
                      <a:pt x="206" y="836"/>
                    </a:lnTo>
                    <a:lnTo>
                      <a:pt x="210" y="800"/>
                    </a:lnTo>
                    <a:lnTo>
                      <a:pt x="216" y="766"/>
                    </a:lnTo>
                    <a:lnTo>
                      <a:pt x="224" y="732"/>
                    </a:lnTo>
                    <a:lnTo>
                      <a:pt x="234" y="698"/>
                    </a:lnTo>
                    <a:lnTo>
                      <a:pt x="244" y="664"/>
                    </a:lnTo>
                    <a:lnTo>
                      <a:pt x="256" y="632"/>
                    </a:lnTo>
                    <a:lnTo>
                      <a:pt x="272" y="602"/>
                    </a:lnTo>
                    <a:lnTo>
                      <a:pt x="286" y="572"/>
                    </a:lnTo>
                    <a:lnTo>
                      <a:pt x="304" y="542"/>
                    </a:lnTo>
                    <a:lnTo>
                      <a:pt x="322" y="512"/>
                    </a:lnTo>
                    <a:lnTo>
                      <a:pt x="342" y="486"/>
                    </a:lnTo>
                    <a:lnTo>
                      <a:pt x="362" y="458"/>
                    </a:lnTo>
                    <a:lnTo>
                      <a:pt x="384" y="432"/>
                    </a:lnTo>
                    <a:lnTo>
                      <a:pt x="408" y="408"/>
                    </a:lnTo>
                    <a:lnTo>
                      <a:pt x="432" y="386"/>
                    </a:lnTo>
                    <a:lnTo>
                      <a:pt x="458" y="362"/>
                    </a:lnTo>
                    <a:lnTo>
                      <a:pt x="484" y="342"/>
                    </a:lnTo>
                    <a:lnTo>
                      <a:pt x="512" y="322"/>
                    </a:lnTo>
                    <a:lnTo>
                      <a:pt x="542" y="304"/>
                    </a:lnTo>
                    <a:lnTo>
                      <a:pt x="570" y="286"/>
                    </a:lnTo>
                    <a:lnTo>
                      <a:pt x="602" y="272"/>
                    </a:lnTo>
                    <a:lnTo>
                      <a:pt x="632" y="258"/>
                    </a:lnTo>
                    <a:lnTo>
                      <a:pt x="664" y="244"/>
                    </a:lnTo>
                    <a:lnTo>
                      <a:pt x="698" y="234"/>
                    </a:lnTo>
                    <a:lnTo>
                      <a:pt x="730" y="224"/>
                    </a:lnTo>
                    <a:lnTo>
                      <a:pt x="766" y="216"/>
                    </a:lnTo>
                    <a:lnTo>
                      <a:pt x="800" y="210"/>
                    </a:lnTo>
                    <a:lnTo>
                      <a:pt x="836" y="206"/>
                    </a:lnTo>
                    <a:lnTo>
                      <a:pt x="872" y="202"/>
                    </a:lnTo>
                    <a:lnTo>
                      <a:pt x="908" y="202"/>
                    </a:lnTo>
                    <a:lnTo>
                      <a:pt x="944" y="202"/>
                    </a:lnTo>
                    <a:lnTo>
                      <a:pt x="980" y="206"/>
                    </a:lnTo>
                    <a:lnTo>
                      <a:pt x="1014" y="210"/>
                    </a:lnTo>
                    <a:lnTo>
                      <a:pt x="1050" y="216"/>
                    </a:lnTo>
                    <a:lnTo>
                      <a:pt x="1084" y="224"/>
                    </a:lnTo>
                    <a:lnTo>
                      <a:pt x="1118" y="234"/>
                    </a:lnTo>
                    <a:lnTo>
                      <a:pt x="1150" y="244"/>
                    </a:lnTo>
                    <a:lnTo>
                      <a:pt x="1182" y="258"/>
                    </a:lnTo>
                    <a:lnTo>
                      <a:pt x="1214" y="272"/>
                    </a:lnTo>
                    <a:lnTo>
                      <a:pt x="1244" y="286"/>
                    </a:lnTo>
                    <a:lnTo>
                      <a:pt x="1274" y="304"/>
                    </a:lnTo>
                    <a:lnTo>
                      <a:pt x="1302" y="322"/>
                    </a:lnTo>
                    <a:lnTo>
                      <a:pt x="1330" y="342"/>
                    </a:lnTo>
                    <a:lnTo>
                      <a:pt x="1356" y="362"/>
                    </a:lnTo>
                    <a:lnTo>
                      <a:pt x="1382" y="386"/>
                    </a:lnTo>
                    <a:lnTo>
                      <a:pt x="1406" y="408"/>
                    </a:lnTo>
                    <a:lnTo>
                      <a:pt x="1430" y="432"/>
                    </a:lnTo>
                    <a:lnTo>
                      <a:pt x="1452" y="458"/>
                    </a:lnTo>
                    <a:lnTo>
                      <a:pt x="1474" y="486"/>
                    </a:lnTo>
                    <a:lnTo>
                      <a:pt x="1492" y="512"/>
                    </a:lnTo>
                    <a:lnTo>
                      <a:pt x="1512" y="542"/>
                    </a:lnTo>
                    <a:lnTo>
                      <a:pt x="1528" y="572"/>
                    </a:lnTo>
                    <a:lnTo>
                      <a:pt x="1544" y="602"/>
                    </a:lnTo>
                    <a:lnTo>
                      <a:pt x="1558" y="632"/>
                    </a:lnTo>
                    <a:lnTo>
                      <a:pt x="1570" y="664"/>
                    </a:lnTo>
                    <a:lnTo>
                      <a:pt x="1582" y="698"/>
                    </a:lnTo>
                    <a:lnTo>
                      <a:pt x="1592" y="732"/>
                    </a:lnTo>
                    <a:lnTo>
                      <a:pt x="1598" y="766"/>
                    </a:lnTo>
                    <a:lnTo>
                      <a:pt x="1606" y="800"/>
                    </a:lnTo>
                    <a:lnTo>
                      <a:pt x="1610" y="836"/>
                    </a:lnTo>
                    <a:lnTo>
                      <a:pt x="1612" y="872"/>
                    </a:lnTo>
                    <a:lnTo>
                      <a:pt x="1614" y="908"/>
                    </a:lnTo>
                    <a:lnTo>
                      <a:pt x="1612" y="944"/>
                    </a:lnTo>
                    <a:lnTo>
                      <a:pt x="1610" y="980"/>
                    </a:lnTo>
                    <a:lnTo>
                      <a:pt x="1606" y="1016"/>
                    </a:lnTo>
                    <a:lnTo>
                      <a:pt x="1598" y="1050"/>
                    </a:lnTo>
                    <a:lnTo>
                      <a:pt x="1592" y="1084"/>
                    </a:lnTo>
                    <a:lnTo>
                      <a:pt x="1582" y="1118"/>
                    </a:lnTo>
                    <a:lnTo>
                      <a:pt x="1570" y="1150"/>
                    </a:lnTo>
                    <a:lnTo>
                      <a:pt x="1558" y="1182"/>
                    </a:lnTo>
                    <a:lnTo>
                      <a:pt x="1544" y="1214"/>
                    </a:lnTo>
                    <a:lnTo>
                      <a:pt x="1528" y="1244"/>
                    </a:lnTo>
                    <a:lnTo>
                      <a:pt x="1512" y="1274"/>
                    </a:lnTo>
                    <a:lnTo>
                      <a:pt x="1492" y="1302"/>
                    </a:lnTo>
                    <a:lnTo>
                      <a:pt x="1474" y="1330"/>
                    </a:lnTo>
                    <a:lnTo>
                      <a:pt x="1452" y="1356"/>
                    </a:lnTo>
                    <a:lnTo>
                      <a:pt x="1430" y="1382"/>
                    </a:lnTo>
                    <a:lnTo>
                      <a:pt x="1406" y="1406"/>
                    </a:lnTo>
                    <a:lnTo>
                      <a:pt x="1382" y="1430"/>
                    </a:lnTo>
                    <a:lnTo>
                      <a:pt x="1356" y="1452"/>
                    </a:lnTo>
                    <a:lnTo>
                      <a:pt x="1330" y="1474"/>
                    </a:lnTo>
                    <a:lnTo>
                      <a:pt x="1302" y="1492"/>
                    </a:lnTo>
                    <a:lnTo>
                      <a:pt x="1274" y="1512"/>
                    </a:lnTo>
                    <a:lnTo>
                      <a:pt x="1244" y="1528"/>
                    </a:lnTo>
                    <a:lnTo>
                      <a:pt x="1214" y="1544"/>
                    </a:lnTo>
                    <a:lnTo>
                      <a:pt x="1182" y="1558"/>
                    </a:lnTo>
                    <a:lnTo>
                      <a:pt x="1150" y="1570"/>
                    </a:lnTo>
                    <a:lnTo>
                      <a:pt x="1118" y="1582"/>
                    </a:lnTo>
                    <a:lnTo>
                      <a:pt x="1084" y="1592"/>
                    </a:lnTo>
                    <a:lnTo>
                      <a:pt x="1050" y="1600"/>
                    </a:lnTo>
                    <a:lnTo>
                      <a:pt x="1014" y="1606"/>
                    </a:lnTo>
                    <a:lnTo>
                      <a:pt x="980" y="1610"/>
                    </a:lnTo>
                    <a:lnTo>
                      <a:pt x="944" y="1612"/>
                    </a:lnTo>
                    <a:lnTo>
                      <a:pt x="908" y="1614"/>
                    </a:lnTo>
                    <a:close/>
                  </a:path>
                </a:pathLst>
              </a:custGeom>
              <a:solidFill>
                <a:srgbClr val="99cc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674280" y="1606680"/>
                <a:ext cx="3736080" cy="3736800"/>
                <a:chOff x="674280" y="1606680"/>
                <a:chExt cx="3736080" cy="3736800"/>
              </a:xfrm>
            </p:grpSpPr>
            <p:sp>
              <p:nvSpPr>
                <p:cNvPr id="707" name="Freeform 7"/>
                <p:cNvSpPr/>
                <p:nvPr/>
              </p:nvSpPr>
              <p:spPr>
                <a:xfrm rot="21274800">
                  <a:off x="828360" y="1760760"/>
                  <a:ext cx="3427560" cy="3428640"/>
                </a:xfrm>
                <a:custGeom>
                  <a:avLst/>
                  <a:gdLst>
                    <a:gd name="textAreaLeft" fmla="*/ 0 w 3427560"/>
                    <a:gd name="textAreaRight" fmla="*/ 3427920 w 3427560"/>
                    <a:gd name="textAreaTop" fmla="*/ 0 h 3428640"/>
                    <a:gd name="textAreaBottom" fmla="*/ 3429000 h 3428640"/>
                  </a:gdLst>
                  <a:ahLst/>
                  <a:rect l="textAreaLeft" t="textAreaTop" r="textAreaRight" b="textAreaBottom"/>
                  <a:pathLst>
                    <a:path w="2622" h="2622">
                      <a:moveTo>
                        <a:pt x="2622" y="1382"/>
                      </a:moveTo>
                      <a:lnTo>
                        <a:pt x="2622" y="1240"/>
                      </a:lnTo>
                      <a:lnTo>
                        <a:pt x="2520" y="1240"/>
                      </a:lnTo>
                      <a:lnTo>
                        <a:pt x="2516" y="1196"/>
                      </a:lnTo>
                      <a:lnTo>
                        <a:pt x="2512" y="1152"/>
                      </a:lnTo>
                      <a:lnTo>
                        <a:pt x="2506" y="1110"/>
                      </a:lnTo>
                      <a:lnTo>
                        <a:pt x="2498" y="1068"/>
                      </a:lnTo>
                      <a:lnTo>
                        <a:pt x="2596" y="1040"/>
                      </a:lnTo>
                      <a:lnTo>
                        <a:pt x="2560" y="904"/>
                      </a:lnTo>
                      <a:lnTo>
                        <a:pt x="2460" y="930"/>
                      </a:lnTo>
                      <a:lnTo>
                        <a:pt x="2446" y="888"/>
                      </a:lnTo>
                      <a:lnTo>
                        <a:pt x="2430" y="848"/>
                      </a:lnTo>
                      <a:lnTo>
                        <a:pt x="2412" y="808"/>
                      </a:lnTo>
                      <a:lnTo>
                        <a:pt x="2394" y="768"/>
                      </a:lnTo>
                      <a:lnTo>
                        <a:pt x="2482" y="718"/>
                      </a:lnTo>
                      <a:lnTo>
                        <a:pt x="2412" y="594"/>
                      </a:lnTo>
                      <a:lnTo>
                        <a:pt x="2322" y="646"/>
                      </a:lnTo>
                      <a:lnTo>
                        <a:pt x="2298" y="610"/>
                      </a:lnTo>
                      <a:lnTo>
                        <a:pt x="2272" y="574"/>
                      </a:lnTo>
                      <a:lnTo>
                        <a:pt x="2244" y="540"/>
                      </a:lnTo>
                      <a:lnTo>
                        <a:pt x="2216" y="508"/>
                      </a:lnTo>
                      <a:lnTo>
                        <a:pt x="2290" y="434"/>
                      </a:lnTo>
                      <a:lnTo>
                        <a:pt x="2188" y="334"/>
                      </a:lnTo>
                      <a:lnTo>
                        <a:pt x="2116" y="406"/>
                      </a:lnTo>
                      <a:lnTo>
                        <a:pt x="2082" y="378"/>
                      </a:lnTo>
                      <a:lnTo>
                        <a:pt x="2048" y="352"/>
                      </a:lnTo>
                      <a:lnTo>
                        <a:pt x="2014" y="326"/>
                      </a:lnTo>
                      <a:lnTo>
                        <a:pt x="1978" y="300"/>
                      </a:lnTo>
                      <a:lnTo>
                        <a:pt x="2028" y="212"/>
                      </a:lnTo>
                      <a:lnTo>
                        <a:pt x="1906" y="140"/>
                      </a:lnTo>
                      <a:lnTo>
                        <a:pt x="1854" y="230"/>
                      </a:lnTo>
                      <a:lnTo>
                        <a:pt x="1816" y="210"/>
                      </a:lnTo>
                      <a:lnTo>
                        <a:pt x="1776" y="194"/>
                      </a:lnTo>
                      <a:lnTo>
                        <a:pt x="1734" y="178"/>
                      </a:lnTo>
                      <a:lnTo>
                        <a:pt x="1694" y="162"/>
                      </a:lnTo>
                      <a:lnTo>
                        <a:pt x="1720" y="64"/>
                      </a:lnTo>
                      <a:lnTo>
                        <a:pt x="1582" y="26"/>
                      </a:lnTo>
                      <a:lnTo>
                        <a:pt x="1556" y="126"/>
                      </a:lnTo>
                      <a:lnTo>
                        <a:pt x="1514" y="118"/>
                      </a:lnTo>
                      <a:lnTo>
                        <a:pt x="1470" y="112"/>
                      </a:lnTo>
                      <a:lnTo>
                        <a:pt x="1426" y="106"/>
                      </a:lnTo>
                      <a:lnTo>
                        <a:pt x="1382" y="104"/>
                      </a:lnTo>
                      <a:lnTo>
                        <a:pt x="1382" y="0"/>
                      </a:lnTo>
                      <a:lnTo>
                        <a:pt x="1240" y="0"/>
                      </a:lnTo>
                      <a:lnTo>
                        <a:pt x="1240" y="104"/>
                      </a:lnTo>
                      <a:lnTo>
                        <a:pt x="1196" y="106"/>
                      </a:lnTo>
                      <a:lnTo>
                        <a:pt x="1154" y="112"/>
                      </a:lnTo>
                      <a:lnTo>
                        <a:pt x="1110" y="118"/>
                      </a:lnTo>
                      <a:lnTo>
                        <a:pt x="1068" y="126"/>
                      </a:lnTo>
                      <a:lnTo>
                        <a:pt x="1042" y="26"/>
                      </a:lnTo>
                      <a:lnTo>
                        <a:pt x="904" y="64"/>
                      </a:lnTo>
                      <a:lnTo>
                        <a:pt x="930" y="162"/>
                      </a:lnTo>
                      <a:lnTo>
                        <a:pt x="890" y="178"/>
                      </a:lnTo>
                      <a:lnTo>
                        <a:pt x="848" y="194"/>
                      </a:lnTo>
                      <a:lnTo>
                        <a:pt x="808" y="210"/>
                      </a:lnTo>
                      <a:lnTo>
                        <a:pt x="770" y="230"/>
                      </a:lnTo>
                      <a:lnTo>
                        <a:pt x="718" y="140"/>
                      </a:lnTo>
                      <a:lnTo>
                        <a:pt x="594" y="212"/>
                      </a:lnTo>
                      <a:lnTo>
                        <a:pt x="646" y="300"/>
                      </a:lnTo>
                      <a:lnTo>
                        <a:pt x="610" y="326"/>
                      </a:lnTo>
                      <a:lnTo>
                        <a:pt x="576" y="352"/>
                      </a:lnTo>
                      <a:lnTo>
                        <a:pt x="542" y="378"/>
                      </a:lnTo>
                      <a:lnTo>
                        <a:pt x="508" y="406"/>
                      </a:lnTo>
                      <a:lnTo>
                        <a:pt x="436" y="334"/>
                      </a:lnTo>
                      <a:lnTo>
                        <a:pt x="334" y="434"/>
                      </a:lnTo>
                      <a:lnTo>
                        <a:pt x="408" y="508"/>
                      </a:lnTo>
                      <a:lnTo>
                        <a:pt x="378" y="540"/>
                      </a:lnTo>
                      <a:lnTo>
                        <a:pt x="352" y="574"/>
                      </a:lnTo>
                      <a:lnTo>
                        <a:pt x="326" y="610"/>
                      </a:lnTo>
                      <a:lnTo>
                        <a:pt x="302" y="646"/>
                      </a:lnTo>
                      <a:lnTo>
                        <a:pt x="212" y="594"/>
                      </a:lnTo>
                      <a:lnTo>
                        <a:pt x="140" y="718"/>
                      </a:lnTo>
                      <a:lnTo>
                        <a:pt x="230" y="768"/>
                      </a:lnTo>
                      <a:lnTo>
                        <a:pt x="212" y="808"/>
                      </a:lnTo>
                      <a:lnTo>
                        <a:pt x="194" y="848"/>
                      </a:lnTo>
                      <a:lnTo>
                        <a:pt x="178" y="888"/>
                      </a:lnTo>
                      <a:lnTo>
                        <a:pt x="164" y="930"/>
                      </a:lnTo>
                      <a:lnTo>
                        <a:pt x="64" y="904"/>
                      </a:lnTo>
                      <a:lnTo>
                        <a:pt x="26" y="1040"/>
                      </a:lnTo>
                      <a:lnTo>
                        <a:pt x="126" y="1068"/>
                      </a:lnTo>
                      <a:lnTo>
                        <a:pt x="118" y="1110"/>
                      </a:lnTo>
                      <a:lnTo>
                        <a:pt x="112" y="1152"/>
                      </a:lnTo>
                      <a:lnTo>
                        <a:pt x="108" y="1196"/>
                      </a:lnTo>
                      <a:lnTo>
                        <a:pt x="104" y="1240"/>
                      </a:lnTo>
                      <a:lnTo>
                        <a:pt x="0" y="1240"/>
                      </a:lnTo>
                      <a:lnTo>
                        <a:pt x="0" y="1382"/>
                      </a:lnTo>
                      <a:lnTo>
                        <a:pt x="104" y="1382"/>
                      </a:lnTo>
                      <a:lnTo>
                        <a:pt x="108" y="1426"/>
                      </a:lnTo>
                      <a:lnTo>
                        <a:pt x="112" y="1470"/>
                      </a:lnTo>
                      <a:lnTo>
                        <a:pt x="118" y="1512"/>
                      </a:lnTo>
                      <a:lnTo>
                        <a:pt x="126" y="1556"/>
                      </a:lnTo>
                      <a:lnTo>
                        <a:pt x="26" y="1582"/>
                      </a:lnTo>
                      <a:lnTo>
                        <a:pt x="64" y="1720"/>
                      </a:lnTo>
                      <a:lnTo>
                        <a:pt x="164" y="1692"/>
                      </a:lnTo>
                      <a:lnTo>
                        <a:pt x="178" y="1734"/>
                      </a:lnTo>
                      <a:lnTo>
                        <a:pt x="194" y="1774"/>
                      </a:lnTo>
                      <a:lnTo>
                        <a:pt x="212" y="1814"/>
                      </a:lnTo>
                      <a:lnTo>
                        <a:pt x="230" y="1854"/>
                      </a:lnTo>
                      <a:lnTo>
                        <a:pt x="140" y="1906"/>
                      </a:lnTo>
                      <a:lnTo>
                        <a:pt x="212" y="2028"/>
                      </a:lnTo>
                      <a:lnTo>
                        <a:pt x="302" y="1978"/>
                      </a:lnTo>
                      <a:lnTo>
                        <a:pt x="326" y="2014"/>
                      </a:lnTo>
                      <a:lnTo>
                        <a:pt x="352" y="2048"/>
                      </a:lnTo>
                      <a:lnTo>
                        <a:pt x="378" y="2082"/>
                      </a:lnTo>
                      <a:lnTo>
                        <a:pt x="408" y="2116"/>
                      </a:lnTo>
                      <a:lnTo>
                        <a:pt x="334" y="2188"/>
                      </a:lnTo>
                      <a:lnTo>
                        <a:pt x="436" y="2288"/>
                      </a:lnTo>
                      <a:lnTo>
                        <a:pt x="508" y="2216"/>
                      </a:lnTo>
                      <a:lnTo>
                        <a:pt x="542" y="2244"/>
                      </a:lnTo>
                      <a:lnTo>
                        <a:pt x="576" y="2272"/>
                      </a:lnTo>
                      <a:lnTo>
                        <a:pt x="610" y="2298"/>
                      </a:lnTo>
                      <a:lnTo>
                        <a:pt x="646" y="2322"/>
                      </a:lnTo>
                      <a:lnTo>
                        <a:pt x="594" y="2412"/>
                      </a:lnTo>
                      <a:lnTo>
                        <a:pt x="718" y="2482"/>
                      </a:lnTo>
                      <a:lnTo>
                        <a:pt x="770" y="2394"/>
                      </a:lnTo>
                      <a:lnTo>
                        <a:pt x="808" y="2412"/>
                      </a:lnTo>
                      <a:lnTo>
                        <a:pt x="848" y="2430"/>
                      </a:lnTo>
                      <a:lnTo>
                        <a:pt x="890" y="2446"/>
                      </a:lnTo>
                      <a:lnTo>
                        <a:pt x="930" y="2460"/>
                      </a:lnTo>
                      <a:lnTo>
                        <a:pt x="904" y="2560"/>
                      </a:lnTo>
                      <a:lnTo>
                        <a:pt x="1042" y="2596"/>
                      </a:lnTo>
                      <a:lnTo>
                        <a:pt x="1068" y="2498"/>
                      </a:lnTo>
                      <a:lnTo>
                        <a:pt x="1110" y="2504"/>
                      </a:lnTo>
                      <a:lnTo>
                        <a:pt x="1154" y="2512"/>
                      </a:lnTo>
                      <a:lnTo>
                        <a:pt x="1196" y="2516"/>
                      </a:lnTo>
                      <a:lnTo>
                        <a:pt x="1240" y="2520"/>
                      </a:lnTo>
                      <a:lnTo>
                        <a:pt x="1240" y="2622"/>
                      </a:lnTo>
                      <a:lnTo>
                        <a:pt x="1382" y="2622"/>
                      </a:lnTo>
                      <a:lnTo>
                        <a:pt x="1382" y="2520"/>
                      </a:lnTo>
                      <a:lnTo>
                        <a:pt x="1426" y="2516"/>
                      </a:lnTo>
                      <a:lnTo>
                        <a:pt x="1470" y="2512"/>
                      </a:lnTo>
                      <a:lnTo>
                        <a:pt x="1514" y="2504"/>
                      </a:lnTo>
                      <a:lnTo>
                        <a:pt x="1556" y="2498"/>
                      </a:lnTo>
                      <a:lnTo>
                        <a:pt x="1582" y="2596"/>
                      </a:lnTo>
                      <a:lnTo>
                        <a:pt x="1720" y="2560"/>
                      </a:lnTo>
                      <a:lnTo>
                        <a:pt x="1694" y="2460"/>
                      </a:lnTo>
                      <a:lnTo>
                        <a:pt x="1734" y="2446"/>
                      </a:lnTo>
                      <a:lnTo>
                        <a:pt x="1776" y="2430"/>
                      </a:lnTo>
                      <a:lnTo>
                        <a:pt x="1816" y="2412"/>
                      </a:lnTo>
                      <a:lnTo>
                        <a:pt x="1854" y="2394"/>
                      </a:lnTo>
                      <a:lnTo>
                        <a:pt x="1906" y="2482"/>
                      </a:lnTo>
                      <a:lnTo>
                        <a:pt x="2028" y="2412"/>
                      </a:lnTo>
                      <a:lnTo>
                        <a:pt x="1978" y="2322"/>
                      </a:lnTo>
                      <a:lnTo>
                        <a:pt x="2014" y="2298"/>
                      </a:lnTo>
                      <a:lnTo>
                        <a:pt x="2048" y="2272"/>
                      </a:lnTo>
                      <a:lnTo>
                        <a:pt x="2082" y="2244"/>
                      </a:lnTo>
                      <a:lnTo>
                        <a:pt x="2116" y="2216"/>
                      </a:lnTo>
                      <a:lnTo>
                        <a:pt x="2188" y="2288"/>
                      </a:lnTo>
                      <a:lnTo>
                        <a:pt x="2290" y="2188"/>
                      </a:lnTo>
                      <a:lnTo>
                        <a:pt x="2216" y="2116"/>
                      </a:lnTo>
                      <a:lnTo>
                        <a:pt x="2244" y="2082"/>
                      </a:lnTo>
                      <a:lnTo>
                        <a:pt x="2272" y="2048"/>
                      </a:lnTo>
                      <a:lnTo>
                        <a:pt x="2298" y="2014"/>
                      </a:lnTo>
                      <a:lnTo>
                        <a:pt x="2322" y="1978"/>
                      </a:lnTo>
                      <a:lnTo>
                        <a:pt x="2412" y="2028"/>
                      </a:lnTo>
                      <a:lnTo>
                        <a:pt x="2482" y="1906"/>
                      </a:lnTo>
                      <a:lnTo>
                        <a:pt x="2394" y="1854"/>
                      </a:lnTo>
                      <a:lnTo>
                        <a:pt x="2412" y="1814"/>
                      </a:lnTo>
                      <a:lnTo>
                        <a:pt x="2430" y="1774"/>
                      </a:lnTo>
                      <a:lnTo>
                        <a:pt x="2446" y="1734"/>
                      </a:lnTo>
                      <a:lnTo>
                        <a:pt x="2460" y="1692"/>
                      </a:lnTo>
                      <a:lnTo>
                        <a:pt x="2560" y="1720"/>
                      </a:lnTo>
                      <a:lnTo>
                        <a:pt x="2596" y="1582"/>
                      </a:lnTo>
                      <a:lnTo>
                        <a:pt x="2498" y="1556"/>
                      </a:lnTo>
                      <a:lnTo>
                        <a:pt x="2506" y="1512"/>
                      </a:lnTo>
                      <a:lnTo>
                        <a:pt x="2512" y="1470"/>
                      </a:lnTo>
                      <a:lnTo>
                        <a:pt x="2516" y="1426"/>
                      </a:lnTo>
                      <a:lnTo>
                        <a:pt x="2520" y="1382"/>
                      </a:lnTo>
                      <a:lnTo>
                        <a:pt x="2622" y="1382"/>
                      </a:lnTo>
                      <a:close/>
                      <a:moveTo>
                        <a:pt x="1312" y="2420"/>
                      </a:moveTo>
                      <a:lnTo>
                        <a:pt x="1312" y="2420"/>
                      </a:lnTo>
                      <a:lnTo>
                        <a:pt x="1254" y="2420"/>
                      </a:lnTo>
                      <a:lnTo>
                        <a:pt x="1198" y="2416"/>
                      </a:lnTo>
                      <a:lnTo>
                        <a:pt x="1142" y="2408"/>
                      </a:lnTo>
                      <a:lnTo>
                        <a:pt x="1088" y="2398"/>
                      </a:lnTo>
                      <a:lnTo>
                        <a:pt x="1034" y="2386"/>
                      </a:lnTo>
                      <a:lnTo>
                        <a:pt x="982" y="2370"/>
                      </a:lnTo>
                      <a:lnTo>
                        <a:pt x="930" y="2354"/>
                      </a:lnTo>
                      <a:lnTo>
                        <a:pt x="880" y="2334"/>
                      </a:lnTo>
                      <a:lnTo>
                        <a:pt x="830" y="2312"/>
                      </a:lnTo>
                      <a:lnTo>
                        <a:pt x="782" y="2286"/>
                      </a:lnTo>
                      <a:lnTo>
                        <a:pt x="736" y="2260"/>
                      </a:lnTo>
                      <a:lnTo>
                        <a:pt x="692" y="2232"/>
                      </a:lnTo>
                      <a:lnTo>
                        <a:pt x="648" y="2200"/>
                      </a:lnTo>
                      <a:lnTo>
                        <a:pt x="606" y="2168"/>
                      </a:lnTo>
                      <a:lnTo>
                        <a:pt x="566" y="2132"/>
                      </a:lnTo>
                      <a:lnTo>
                        <a:pt x="528" y="2096"/>
                      </a:lnTo>
                      <a:lnTo>
                        <a:pt x="490" y="2058"/>
                      </a:lnTo>
                      <a:lnTo>
                        <a:pt x="456" y="2018"/>
                      </a:lnTo>
                      <a:lnTo>
                        <a:pt x="422" y="1976"/>
                      </a:lnTo>
                      <a:lnTo>
                        <a:pt x="392" y="1932"/>
                      </a:lnTo>
                      <a:lnTo>
                        <a:pt x="362" y="1886"/>
                      </a:lnTo>
                      <a:lnTo>
                        <a:pt x="336" y="1840"/>
                      </a:lnTo>
                      <a:lnTo>
                        <a:pt x="312" y="1792"/>
                      </a:lnTo>
                      <a:lnTo>
                        <a:pt x="290" y="1744"/>
                      </a:lnTo>
                      <a:lnTo>
                        <a:pt x="270" y="1692"/>
                      </a:lnTo>
                      <a:lnTo>
                        <a:pt x="252" y="1642"/>
                      </a:lnTo>
                      <a:lnTo>
                        <a:pt x="238" y="1588"/>
                      </a:lnTo>
                      <a:lnTo>
                        <a:pt x="224" y="1534"/>
                      </a:lnTo>
                      <a:lnTo>
                        <a:pt x="216" y="1480"/>
                      </a:lnTo>
                      <a:lnTo>
                        <a:pt x="208" y="1424"/>
                      </a:lnTo>
                      <a:lnTo>
                        <a:pt x="204" y="1368"/>
                      </a:lnTo>
                      <a:lnTo>
                        <a:pt x="202" y="1312"/>
                      </a:lnTo>
                      <a:lnTo>
                        <a:pt x="204" y="1254"/>
                      </a:lnTo>
                      <a:lnTo>
                        <a:pt x="208" y="1198"/>
                      </a:lnTo>
                      <a:lnTo>
                        <a:pt x="216" y="1142"/>
                      </a:lnTo>
                      <a:lnTo>
                        <a:pt x="224" y="1088"/>
                      </a:lnTo>
                      <a:lnTo>
                        <a:pt x="238" y="1034"/>
                      </a:lnTo>
                      <a:lnTo>
                        <a:pt x="252" y="982"/>
                      </a:lnTo>
                      <a:lnTo>
                        <a:pt x="270" y="930"/>
                      </a:lnTo>
                      <a:lnTo>
                        <a:pt x="290" y="880"/>
                      </a:lnTo>
                      <a:lnTo>
                        <a:pt x="312" y="830"/>
                      </a:lnTo>
                      <a:lnTo>
                        <a:pt x="336" y="782"/>
                      </a:lnTo>
                      <a:lnTo>
                        <a:pt x="362" y="736"/>
                      </a:lnTo>
                      <a:lnTo>
                        <a:pt x="392" y="692"/>
                      </a:lnTo>
                      <a:lnTo>
                        <a:pt x="422" y="648"/>
                      </a:lnTo>
                      <a:lnTo>
                        <a:pt x="456" y="606"/>
                      </a:lnTo>
                      <a:lnTo>
                        <a:pt x="490" y="566"/>
                      </a:lnTo>
                      <a:lnTo>
                        <a:pt x="528" y="526"/>
                      </a:lnTo>
                      <a:lnTo>
                        <a:pt x="566" y="490"/>
                      </a:lnTo>
                      <a:lnTo>
                        <a:pt x="606" y="456"/>
                      </a:lnTo>
                      <a:lnTo>
                        <a:pt x="648" y="422"/>
                      </a:lnTo>
                      <a:lnTo>
                        <a:pt x="692" y="392"/>
                      </a:lnTo>
                      <a:lnTo>
                        <a:pt x="736" y="362"/>
                      </a:lnTo>
                      <a:lnTo>
                        <a:pt x="782" y="336"/>
                      </a:lnTo>
                      <a:lnTo>
                        <a:pt x="830" y="312"/>
                      </a:lnTo>
                      <a:lnTo>
                        <a:pt x="880" y="290"/>
                      </a:lnTo>
                      <a:lnTo>
                        <a:pt x="930" y="270"/>
                      </a:lnTo>
                      <a:lnTo>
                        <a:pt x="982" y="252"/>
                      </a:lnTo>
                      <a:lnTo>
                        <a:pt x="1034" y="236"/>
                      </a:lnTo>
                      <a:lnTo>
                        <a:pt x="1088" y="224"/>
                      </a:lnTo>
                      <a:lnTo>
                        <a:pt x="1142" y="214"/>
                      </a:lnTo>
                      <a:lnTo>
                        <a:pt x="1198" y="208"/>
                      </a:lnTo>
                      <a:lnTo>
                        <a:pt x="1254" y="204"/>
                      </a:lnTo>
                      <a:lnTo>
                        <a:pt x="1312" y="202"/>
                      </a:lnTo>
                      <a:lnTo>
                        <a:pt x="1368" y="204"/>
                      </a:lnTo>
                      <a:lnTo>
                        <a:pt x="1426" y="208"/>
                      </a:lnTo>
                      <a:lnTo>
                        <a:pt x="1480" y="214"/>
                      </a:lnTo>
                      <a:lnTo>
                        <a:pt x="1536" y="224"/>
                      </a:lnTo>
                      <a:lnTo>
                        <a:pt x="1588" y="236"/>
                      </a:lnTo>
                      <a:lnTo>
                        <a:pt x="1642" y="252"/>
                      </a:lnTo>
                      <a:lnTo>
                        <a:pt x="1694" y="270"/>
                      </a:lnTo>
                      <a:lnTo>
                        <a:pt x="1744" y="290"/>
                      </a:lnTo>
                      <a:lnTo>
                        <a:pt x="1792" y="312"/>
                      </a:lnTo>
                      <a:lnTo>
                        <a:pt x="1840" y="336"/>
                      </a:lnTo>
                      <a:lnTo>
                        <a:pt x="1886" y="362"/>
                      </a:lnTo>
                      <a:lnTo>
                        <a:pt x="1932" y="392"/>
                      </a:lnTo>
                      <a:lnTo>
                        <a:pt x="1976" y="422"/>
                      </a:lnTo>
                      <a:lnTo>
                        <a:pt x="2018" y="456"/>
                      </a:lnTo>
                      <a:lnTo>
                        <a:pt x="2058" y="490"/>
                      </a:lnTo>
                      <a:lnTo>
                        <a:pt x="2096" y="526"/>
                      </a:lnTo>
                      <a:lnTo>
                        <a:pt x="2132" y="566"/>
                      </a:lnTo>
                      <a:lnTo>
                        <a:pt x="2168" y="606"/>
                      </a:lnTo>
                      <a:lnTo>
                        <a:pt x="2200" y="648"/>
                      </a:lnTo>
                      <a:lnTo>
                        <a:pt x="2232" y="692"/>
                      </a:lnTo>
                      <a:lnTo>
                        <a:pt x="2260" y="736"/>
                      </a:lnTo>
                      <a:lnTo>
                        <a:pt x="2288" y="782"/>
                      </a:lnTo>
                      <a:lnTo>
                        <a:pt x="2312" y="830"/>
                      </a:lnTo>
                      <a:lnTo>
                        <a:pt x="2334" y="880"/>
                      </a:lnTo>
                      <a:lnTo>
                        <a:pt x="2354" y="930"/>
                      </a:lnTo>
                      <a:lnTo>
                        <a:pt x="2372" y="982"/>
                      </a:lnTo>
                      <a:lnTo>
                        <a:pt x="2386" y="1034"/>
                      </a:lnTo>
                      <a:lnTo>
                        <a:pt x="2398" y="1088"/>
                      </a:lnTo>
                      <a:lnTo>
                        <a:pt x="2408" y="1142"/>
                      </a:lnTo>
                      <a:lnTo>
                        <a:pt x="2416" y="1198"/>
                      </a:lnTo>
                      <a:lnTo>
                        <a:pt x="2420" y="1254"/>
                      </a:lnTo>
                      <a:lnTo>
                        <a:pt x="2422" y="1312"/>
                      </a:lnTo>
                      <a:lnTo>
                        <a:pt x="2420" y="1368"/>
                      </a:lnTo>
                      <a:lnTo>
                        <a:pt x="2416" y="1424"/>
                      </a:lnTo>
                      <a:lnTo>
                        <a:pt x="2408" y="1480"/>
                      </a:lnTo>
                      <a:lnTo>
                        <a:pt x="2398" y="1534"/>
                      </a:lnTo>
                      <a:lnTo>
                        <a:pt x="2386" y="1588"/>
                      </a:lnTo>
                      <a:lnTo>
                        <a:pt x="2372" y="1642"/>
                      </a:lnTo>
                      <a:lnTo>
                        <a:pt x="2354" y="1692"/>
                      </a:lnTo>
                      <a:lnTo>
                        <a:pt x="2334" y="1744"/>
                      </a:lnTo>
                      <a:lnTo>
                        <a:pt x="2312" y="1792"/>
                      </a:lnTo>
                      <a:lnTo>
                        <a:pt x="2288" y="1840"/>
                      </a:lnTo>
                      <a:lnTo>
                        <a:pt x="2260" y="1886"/>
                      </a:lnTo>
                      <a:lnTo>
                        <a:pt x="2232" y="1932"/>
                      </a:lnTo>
                      <a:lnTo>
                        <a:pt x="2200" y="1976"/>
                      </a:lnTo>
                      <a:lnTo>
                        <a:pt x="2168" y="2018"/>
                      </a:lnTo>
                      <a:lnTo>
                        <a:pt x="2132" y="2058"/>
                      </a:lnTo>
                      <a:lnTo>
                        <a:pt x="2096" y="2096"/>
                      </a:lnTo>
                      <a:lnTo>
                        <a:pt x="2058" y="2132"/>
                      </a:lnTo>
                      <a:lnTo>
                        <a:pt x="2018" y="2168"/>
                      </a:lnTo>
                      <a:lnTo>
                        <a:pt x="1976" y="2200"/>
                      </a:lnTo>
                      <a:lnTo>
                        <a:pt x="1932" y="2232"/>
                      </a:lnTo>
                      <a:lnTo>
                        <a:pt x="1886" y="2260"/>
                      </a:lnTo>
                      <a:lnTo>
                        <a:pt x="1840" y="2286"/>
                      </a:lnTo>
                      <a:lnTo>
                        <a:pt x="1792" y="2312"/>
                      </a:lnTo>
                      <a:lnTo>
                        <a:pt x="1744" y="2334"/>
                      </a:lnTo>
                      <a:lnTo>
                        <a:pt x="1694" y="2354"/>
                      </a:lnTo>
                      <a:lnTo>
                        <a:pt x="1642" y="2370"/>
                      </a:lnTo>
                      <a:lnTo>
                        <a:pt x="1588" y="2386"/>
                      </a:lnTo>
                      <a:lnTo>
                        <a:pt x="1536" y="2398"/>
                      </a:lnTo>
                      <a:lnTo>
                        <a:pt x="1480" y="2408"/>
                      </a:lnTo>
                      <a:lnTo>
                        <a:pt x="1426" y="2416"/>
                      </a:lnTo>
                      <a:lnTo>
                        <a:pt x="1368" y="2420"/>
                      </a:lnTo>
                      <a:lnTo>
                        <a:pt x="1312" y="2420"/>
                      </a:lnTo>
                      <a:close/>
                    </a:path>
                  </a:pathLst>
                </a:custGeom>
                <a:solidFill>
                  <a:srgbClr val="ff99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8" name="Oval 8"/>
                <p:cNvSpPr/>
                <p:nvPr/>
              </p:nvSpPr>
              <p:spPr>
                <a:xfrm rot="21274800">
                  <a:off x="1195200" y="2127240"/>
                  <a:ext cx="2693520" cy="269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69d26"/>
                    </a:gs>
                    <a:gs pos="100000">
                      <a:srgbClr val="ca811f"/>
                    </a:gs>
                  </a:gsLst>
                  <a:lin ang="572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09" name="Oval 9"/>
              <p:cNvSpPr/>
              <p:nvPr/>
            </p:nvSpPr>
            <p:spPr>
              <a:xfrm rot="21274800">
                <a:off x="4505040" y="2105280"/>
                <a:ext cx="1801080" cy="18025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7da700"/>
                  </a:gs>
                </a:gsLst>
                <a:lin ang="57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5477400" y="3684240"/>
                <a:ext cx="2510640" cy="2511360"/>
                <a:chOff x="5477400" y="3684240"/>
                <a:chExt cx="2510640" cy="2511360"/>
              </a:xfrm>
            </p:grpSpPr>
            <p:sp>
              <p:nvSpPr>
                <p:cNvPr id="711" name="Freeform 11"/>
                <p:cNvSpPr/>
                <p:nvPr/>
              </p:nvSpPr>
              <p:spPr>
                <a:xfrm rot="21274800">
                  <a:off x="5581080" y="3787560"/>
                  <a:ext cx="2303280" cy="2304360"/>
                </a:xfrm>
                <a:custGeom>
                  <a:avLst/>
                  <a:gdLst>
                    <a:gd name="textAreaLeft" fmla="*/ 0 w 2303280"/>
                    <a:gd name="textAreaRight" fmla="*/ 2303640 w 2303280"/>
                    <a:gd name="textAreaTop" fmla="*/ 0 h 2304360"/>
                    <a:gd name="textAreaBottom" fmla="*/ 2304720 h 2304360"/>
                  </a:gdLst>
                  <a:ahLst/>
                  <a:rect l="textAreaLeft" t="textAreaTop" r="textAreaRight" b="textAreaBottom"/>
                  <a:pathLst>
                    <a:path w="1816" h="1816">
                      <a:moveTo>
                        <a:pt x="1816" y="978"/>
                      </a:moveTo>
                      <a:lnTo>
                        <a:pt x="1816" y="836"/>
                      </a:lnTo>
                      <a:lnTo>
                        <a:pt x="1710" y="836"/>
                      </a:lnTo>
                      <a:lnTo>
                        <a:pt x="1706" y="792"/>
                      </a:lnTo>
                      <a:lnTo>
                        <a:pt x="1698" y="750"/>
                      </a:lnTo>
                      <a:lnTo>
                        <a:pt x="1688" y="708"/>
                      </a:lnTo>
                      <a:lnTo>
                        <a:pt x="1678" y="666"/>
                      </a:lnTo>
                      <a:lnTo>
                        <a:pt x="1774" y="626"/>
                      </a:lnTo>
                      <a:lnTo>
                        <a:pt x="1718" y="494"/>
                      </a:lnTo>
                      <a:lnTo>
                        <a:pt x="1622" y="534"/>
                      </a:lnTo>
                      <a:lnTo>
                        <a:pt x="1602" y="496"/>
                      </a:lnTo>
                      <a:lnTo>
                        <a:pt x="1578" y="460"/>
                      </a:lnTo>
                      <a:lnTo>
                        <a:pt x="1552" y="424"/>
                      </a:lnTo>
                      <a:lnTo>
                        <a:pt x="1526" y="390"/>
                      </a:lnTo>
                      <a:lnTo>
                        <a:pt x="1600" y="316"/>
                      </a:lnTo>
                      <a:lnTo>
                        <a:pt x="1498" y="216"/>
                      </a:lnTo>
                      <a:lnTo>
                        <a:pt x="1426" y="290"/>
                      </a:lnTo>
                      <a:lnTo>
                        <a:pt x="1392" y="262"/>
                      </a:lnTo>
                      <a:lnTo>
                        <a:pt x="1356" y="236"/>
                      </a:lnTo>
                      <a:lnTo>
                        <a:pt x="1318" y="214"/>
                      </a:lnTo>
                      <a:lnTo>
                        <a:pt x="1280" y="192"/>
                      </a:lnTo>
                      <a:lnTo>
                        <a:pt x="1320" y="96"/>
                      </a:lnTo>
                      <a:lnTo>
                        <a:pt x="1188" y="42"/>
                      </a:lnTo>
                      <a:lnTo>
                        <a:pt x="1150" y="138"/>
                      </a:lnTo>
                      <a:lnTo>
                        <a:pt x="1108" y="126"/>
                      </a:lnTo>
                      <a:lnTo>
                        <a:pt x="1066" y="116"/>
                      </a:lnTo>
                      <a:lnTo>
                        <a:pt x="1022" y="110"/>
                      </a:lnTo>
                      <a:lnTo>
                        <a:pt x="978" y="104"/>
                      </a:lnTo>
                      <a:lnTo>
                        <a:pt x="978" y="0"/>
                      </a:lnTo>
                      <a:lnTo>
                        <a:pt x="836" y="0"/>
                      </a:lnTo>
                      <a:lnTo>
                        <a:pt x="836" y="104"/>
                      </a:lnTo>
                      <a:lnTo>
                        <a:pt x="792" y="110"/>
                      </a:lnTo>
                      <a:lnTo>
                        <a:pt x="750" y="116"/>
                      </a:lnTo>
                      <a:lnTo>
                        <a:pt x="706" y="126"/>
                      </a:lnTo>
                      <a:lnTo>
                        <a:pt x="666" y="138"/>
                      </a:lnTo>
                      <a:lnTo>
                        <a:pt x="626" y="42"/>
                      </a:lnTo>
                      <a:lnTo>
                        <a:pt x="494" y="96"/>
                      </a:lnTo>
                      <a:lnTo>
                        <a:pt x="534" y="192"/>
                      </a:lnTo>
                      <a:lnTo>
                        <a:pt x="496" y="214"/>
                      </a:lnTo>
                      <a:lnTo>
                        <a:pt x="460" y="236"/>
                      </a:lnTo>
                      <a:lnTo>
                        <a:pt x="424" y="262"/>
                      </a:lnTo>
                      <a:lnTo>
                        <a:pt x="390" y="290"/>
                      </a:lnTo>
                      <a:lnTo>
                        <a:pt x="316" y="216"/>
                      </a:lnTo>
                      <a:lnTo>
                        <a:pt x="216" y="316"/>
                      </a:lnTo>
                      <a:lnTo>
                        <a:pt x="288" y="390"/>
                      </a:lnTo>
                      <a:lnTo>
                        <a:pt x="262" y="424"/>
                      </a:lnTo>
                      <a:lnTo>
                        <a:pt x="236" y="460"/>
                      </a:lnTo>
                      <a:lnTo>
                        <a:pt x="214" y="496"/>
                      </a:lnTo>
                      <a:lnTo>
                        <a:pt x="192" y="534"/>
                      </a:lnTo>
                      <a:lnTo>
                        <a:pt x="96" y="494"/>
                      </a:lnTo>
                      <a:lnTo>
                        <a:pt x="42" y="626"/>
                      </a:lnTo>
                      <a:lnTo>
                        <a:pt x="138" y="666"/>
                      </a:lnTo>
                      <a:lnTo>
                        <a:pt x="126" y="708"/>
                      </a:lnTo>
                      <a:lnTo>
                        <a:pt x="116" y="750"/>
                      </a:lnTo>
                      <a:lnTo>
                        <a:pt x="108" y="792"/>
                      </a:lnTo>
                      <a:lnTo>
                        <a:pt x="104" y="836"/>
                      </a:lnTo>
                      <a:lnTo>
                        <a:pt x="0" y="836"/>
                      </a:lnTo>
                      <a:lnTo>
                        <a:pt x="0" y="978"/>
                      </a:lnTo>
                      <a:lnTo>
                        <a:pt x="104" y="978"/>
                      </a:lnTo>
                      <a:lnTo>
                        <a:pt x="108" y="1022"/>
                      </a:lnTo>
                      <a:lnTo>
                        <a:pt x="116" y="1066"/>
                      </a:lnTo>
                      <a:lnTo>
                        <a:pt x="126" y="1108"/>
                      </a:lnTo>
                      <a:lnTo>
                        <a:pt x="138" y="1150"/>
                      </a:lnTo>
                      <a:lnTo>
                        <a:pt x="42" y="1190"/>
                      </a:lnTo>
                      <a:lnTo>
                        <a:pt x="96" y="1320"/>
                      </a:lnTo>
                      <a:lnTo>
                        <a:pt x="192" y="1280"/>
                      </a:lnTo>
                      <a:lnTo>
                        <a:pt x="214" y="1320"/>
                      </a:lnTo>
                      <a:lnTo>
                        <a:pt x="236" y="1356"/>
                      </a:lnTo>
                      <a:lnTo>
                        <a:pt x="262" y="1392"/>
                      </a:lnTo>
                      <a:lnTo>
                        <a:pt x="288" y="1426"/>
                      </a:lnTo>
                      <a:lnTo>
                        <a:pt x="216" y="1500"/>
                      </a:lnTo>
                      <a:lnTo>
                        <a:pt x="316" y="1600"/>
                      </a:lnTo>
                      <a:lnTo>
                        <a:pt x="390" y="1526"/>
                      </a:lnTo>
                      <a:lnTo>
                        <a:pt x="424" y="1554"/>
                      </a:lnTo>
                      <a:lnTo>
                        <a:pt x="460" y="1578"/>
                      </a:lnTo>
                      <a:lnTo>
                        <a:pt x="496" y="1602"/>
                      </a:lnTo>
                      <a:lnTo>
                        <a:pt x="534" y="1622"/>
                      </a:lnTo>
                      <a:lnTo>
                        <a:pt x="494" y="1718"/>
                      </a:lnTo>
                      <a:lnTo>
                        <a:pt x="626" y="1774"/>
                      </a:lnTo>
                      <a:lnTo>
                        <a:pt x="666" y="1678"/>
                      </a:lnTo>
                      <a:lnTo>
                        <a:pt x="706" y="1690"/>
                      </a:lnTo>
                      <a:lnTo>
                        <a:pt x="750" y="1698"/>
                      </a:lnTo>
                      <a:lnTo>
                        <a:pt x="792" y="1706"/>
                      </a:lnTo>
                      <a:lnTo>
                        <a:pt x="836" y="1712"/>
                      </a:lnTo>
                      <a:lnTo>
                        <a:pt x="836" y="1816"/>
                      </a:lnTo>
                      <a:lnTo>
                        <a:pt x="978" y="1816"/>
                      </a:lnTo>
                      <a:lnTo>
                        <a:pt x="978" y="1712"/>
                      </a:lnTo>
                      <a:lnTo>
                        <a:pt x="1022" y="1706"/>
                      </a:lnTo>
                      <a:lnTo>
                        <a:pt x="1066" y="1698"/>
                      </a:lnTo>
                      <a:lnTo>
                        <a:pt x="1108" y="1690"/>
                      </a:lnTo>
                      <a:lnTo>
                        <a:pt x="1150" y="1678"/>
                      </a:lnTo>
                      <a:lnTo>
                        <a:pt x="1188" y="1774"/>
                      </a:lnTo>
                      <a:lnTo>
                        <a:pt x="1320" y="1718"/>
                      </a:lnTo>
                      <a:lnTo>
                        <a:pt x="1280" y="1622"/>
                      </a:lnTo>
                      <a:lnTo>
                        <a:pt x="1318" y="1602"/>
                      </a:lnTo>
                      <a:lnTo>
                        <a:pt x="1356" y="1578"/>
                      </a:lnTo>
                      <a:lnTo>
                        <a:pt x="1392" y="1554"/>
                      </a:lnTo>
                      <a:lnTo>
                        <a:pt x="1426" y="1526"/>
                      </a:lnTo>
                      <a:lnTo>
                        <a:pt x="1498" y="1600"/>
                      </a:lnTo>
                      <a:lnTo>
                        <a:pt x="1600" y="1500"/>
                      </a:lnTo>
                      <a:lnTo>
                        <a:pt x="1526" y="1426"/>
                      </a:lnTo>
                      <a:lnTo>
                        <a:pt x="1552" y="1392"/>
                      </a:lnTo>
                      <a:lnTo>
                        <a:pt x="1578" y="1356"/>
                      </a:lnTo>
                      <a:lnTo>
                        <a:pt x="1602" y="1320"/>
                      </a:lnTo>
                      <a:lnTo>
                        <a:pt x="1622" y="1280"/>
                      </a:lnTo>
                      <a:lnTo>
                        <a:pt x="1718" y="1320"/>
                      </a:lnTo>
                      <a:lnTo>
                        <a:pt x="1774" y="1190"/>
                      </a:lnTo>
                      <a:lnTo>
                        <a:pt x="1678" y="1150"/>
                      </a:lnTo>
                      <a:lnTo>
                        <a:pt x="1688" y="1108"/>
                      </a:lnTo>
                      <a:lnTo>
                        <a:pt x="1698" y="1066"/>
                      </a:lnTo>
                      <a:lnTo>
                        <a:pt x="1706" y="1022"/>
                      </a:lnTo>
                      <a:lnTo>
                        <a:pt x="1710" y="978"/>
                      </a:lnTo>
                      <a:lnTo>
                        <a:pt x="1816" y="978"/>
                      </a:lnTo>
                      <a:close/>
                      <a:moveTo>
                        <a:pt x="908" y="1614"/>
                      </a:moveTo>
                      <a:lnTo>
                        <a:pt x="908" y="1614"/>
                      </a:lnTo>
                      <a:lnTo>
                        <a:pt x="872" y="1612"/>
                      </a:lnTo>
                      <a:lnTo>
                        <a:pt x="836" y="1610"/>
                      </a:lnTo>
                      <a:lnTo>
                        <a:pt x="800" y="1606"/>
                      </a:lnTo>
                      <a:lnTo>
                        <a:pt x="766" y="1600"/>
                      </a:lnTo>
                      <a:lnTo>
                        <a:pt x="730" y="1592"/>
                      </a:lnTo>
                      <a:lnTo>
                        <a:pt x="698" y="1582"/>
                      </a:lnTo>
                      <a:lnTo>
                        <a:pt x="664" y="1570"/>
                      </a:lnTo>
                      <a:lnTo>
                        <a:pt x="632" y="1558"/>
                      </a:lnTo>
                      <a:lnTo>
                        <a:pt x="602" y="1544"/>
                      </a:lnTo>
                      <a:lnTo>
                        <a:pt x="570" y="1528"/>
                      </a:lnTo>
                      <a:lnTo>
                        <a:pt x="542" y="1512"/>
                      </a:lnTo>
                      <a:lnTo>
                        <a:pt x="512" y="1492"/>
                      </a:lnTo>
                      <a:lnTo>
                        <a:pt x="484" y="1474"/>
                      </a:lnTo>
                      <a:lnTo>
                        <a:pt x="458" y="1452"/>
                      </a:lnTo>
                      <a:lnTo>
                        <a:pt x="432" y="1430"/>
                      </a:lnTo>
                      <a:lnTo>
                        <a:pt x="408" y="1406"/>
                      </a:lnTo>
                      <a:lnTo>
                        <a:pt x="384" y="1382"/>
                      </a:lnTo>
                      <a:lnTo>
                        <a:pt x="362" y="1356"/>
                      </a:lnTo>
                      <a:lnTo>
                        <a:pt x="342" y="1330"/>
                      </a:lnTo>
                      <a:lnTo>
                        <a:pt x="322" y="1302"/>
                      </a:lnTo>
                      <a:lnTo>
                        <a:pt x="304" y="1274"/>
                      </a:lnTo>
                      <a:lnTo>
                        <a:pt x="286" y="1244"/>
                      </a:lnTo>
                      <a:lnTo>
                        <a:pt x="272" y="1214"/>
                      </a:lnTo>
                      <a:lnTo>
                        <a:pt x="256" y="1182"/>
                      </a:lnTo>
                      <a:lnTo>
                        <a:pt x="244" y="1150"/>
                      </a:lnTo>
                      <a:lnTo>
                        <a:pt x="234" y="1118"/>
                      </a:lnTo>
                      <a:lnTo>
                        <a:pt x="224" y="1084"/>
                      </a:lnTo>
                      <a:lnTo>
                        <a:pt x="216" y="1050"/>
                      </a:lnTo>
                      <a:lnTo>
                        <a:pt x="210" y="1016"/>
                      </a:lnTo>
                      <a:lnTo>
                        <a:pt x="206" y="980"/>
                      </a:lnTo>
                      <a:lnTo>
                        <a:pt x="202" y="944"/>
                      </a:lnTo>
                      <a:lnTo>
                        <a:pt x="202" y="908"/>
                      </a:lnTo>
                      <a:lnTo>
                        <a:pt x="202" y="872"/>
                      </a:lnTo>
                      <a:lnTo>
                        <a:pt x="206" y="836"/>
                      </a:lnTo>
                      <a:lnTo>
                        <a:pt x="210" y="800"/>
                      </a:lnTo>
                      <a:lnTo>
                        <a:pt x="216" y="766"/>
                      </a:lnTo>
                      <a:lnTo>
                        <a:pt x="224" y="732"/>
                      </a:lnTo>
                      <a:lnTo>
                        <a:pt x="234" y="698"/>
                      </a:lnTo>
                      <a:lnTo>
                        <a:pt x="244" y="664"/>
                      </a:lnTo>
                      <a:lnTo>
                        <a:pt x="256" y="632"/>
                      </a:lnTo>
                      <a:lnTo>
                        <a:pt x="272" y="602"/>
                      </a:lnTo>
                      <a:lnTo>
                        <a:pt x="286" y="572"/>
                      </a:lnTo>
                      <a:lnTo>
                        <a:pt x="304" y="542"/>
                      </a:lnTo>
                      <a:lnTo>
                        <a:pt x="322" y="512"/>
                      </a:lnTo>
                      <a:lnTo>
                        <a:pt x="342" y="486"/>
                      </a:lnTo>
                      <a:lnTo>
                        <a:pt x="362" y="458"/>
                      </a:lnTo>
                      <a:lnTo>
                        <a:pt x="384" y="432"/>
                      </a:lnTo>
                      <a:lnTo>
                        <a:pt x="408" y="408"/>
                      </a:lnTo>
                      <a:lnTo>
                        <a:pt x="432" y="386"/>
                      </a:lnTo>
                      <a:lnTo>
                        <a:pt x="458" y="362"/>
                      </a:lnTo>
                      <a:lnTo>
                        <a:pt x="484" y="342"/>
                      </a:lnTo>
                      <a:lnTo>
                        <a:pt x="512" y="322"/>
                      </a:lnTo>
                      <a:lnTo>
                        <a:pt x="542" y="304"/>
                      </a:lnTo>
                      <a:lnTo>
                        <a:pt x="570" y="286"/>
                      </a:lnTo>
                      <a:lnTo>
                        <a:pt x="602" y="272"/>
                      </a:lnTo>
                      <a:lnTo>
                        <a:pt x="632" y="258"/>
                      </a:lnTo>
                      <a:lnTo>
                        <a:pt x="664" y="244"/>
                      </a:lnTo>
                      <a:lnTo>
                        <a:pt x="698" y="234"/>
                      </a:lnTo>
                      <a:lnTo>
                        <a:pt x="730" y="224"/>
                      </a:lnTo>
                      <a:lnTo>
                        <a:pt x="766" y="216"/>
                      </a:lnTo>
                      <a:lnTo>
                        <a:pt x="800" y="210"/>
                      </a:lnTo>
                      <a:lnTo>
                        <a:pt x="836" y="206"/>
                      </a:lnTo>
                      <a:lnTo>
                        <a:pt x="872" y="202"/>
                      </a:lnTo>
                      <a:lnTo>
                        <a:pt x="908" y="202"/>
                      </a:lnTo>
                      <a:lnTo>
                        <a:pt x="944" y="202"/>
                      </a:lnTo>
                      <a:lnTo>
                        <a:pt x="980" y="206"/>
                      </a:lnTo>
                      <a:lnTo>
                        <a:pt x="1014" y="210"/>
                      </a:lnTo>
                      <a:lnTo>
                        <a:pt x="1050" y="216"/>
                      </a:lnTo>
                      <a:lnTo>
                        <a:pt x="1084" y="224"/>
                      </a:lnTo>
                      <a:lnTo>
                        <a:pt x="1118" y="234"/>
                      </a:lnTo>
                      <a:lnTo>
                        <a:pt x="1150" y="244"/>
                      </a:lnTo>
                      <a:lnTo>
                        <a:pt x="1182" y="258"/>
                      </a:lnTo>
                      <a:lnTo>
                        <a:pt x="1214" y="272"/>
                      </a:lnTo>
                      <a:lnTo>
                        <a:pt x="1244" y="286"/>
                      </a:lnTo>
                      <a:lnTo>
                        <a:pt x="1274" y="304"/>
                      </a:lnTo>
                      <a:lnTo>
                        <a:pt x="1302" y="322"/>
                      </a:lnTo>
                      <a:lnTo>
                        <a:pt x="1330" y="342"/>
                      </a:lnTo>
                      <a:lnTo>
                        <a:pt x="1356" y="362"/>
                      </a:lnTo>
                      <a:lnTo>
                        <a:pt x="1382" y="386"/>
                      </a:lnTo>
                      <a:lnTo>
                        <a:pt x="1406" y="408"/>
                      </a:lnTo>
                      <a:lnTo>
                        <a:pt x="1430" y="432"/>
                      </a:lnTo>
                      <a:lnTo>
                        <a:pt x="1452" y="458"/>
                      </a:lnTo>
                      <a:lnTo>
                        <a:pt x="1474" y="486"/>
                      </a:lnTo>
                      <a:lnTo>
                        <a:pt x="1492" y="512"/>
                      </a:lnTo>
                      <a:lnTo>
                        <a:pt x="1512" y="542"/>
                      </a:lnTo>
                      <a:lnTo>
                        <a:pt x="1528" y="572"/>
                      </a:lnTo>
                      <a:lnTo>
                        <a:pt x="1544" y="602"/>
                      </a:lnTo>
                      <a:lnTo>
                        <a:pt x="1558" y="632"/>
                      </a:lnTo>
                      <a:lnTo>
                        <a:pt x="1570" y="664"/>
                      </a:lnTo>
                      <a:lnTo>
                        <a:pt x="1582" y="698"/>
                      </a:lnTo>
                      <a:lnTo>
                        <a:pt x="1592" y="732"/>
                      </a:lnTo>
                      <a:lnTo>
                        <a:pt x="1598" y="766"/>
                      </a:lnTo>
                      <a:lnTo>
                        <a:pt x="1606" y="800"/>
                      </a:lnTo>
                      <a:lnTo>
                        <a:pt x="1610" y="836"/>
                      </a:lnTo>
                      <a:lnTo>
                        <a:pt x="1612" y="872"/>
                      </a:lnTo>
                      <a:lnTo>
                        <a:pt x="1614" y="908"/>
                      </a:lnTo>
                      <a:lnTo>
                        <a:pt x="1612" y="944"/>
                      </a:lnTo>
                      <a:lnTo>
                        <a:pt x="1610" y="980"/>
                      </a:lnTo>
                      <a:lnTo>
                        <a:pt x="1606" y="1016"/>
                      </a:lnTo>
                      <a:lnTo>
                        <a:pt x="1598" y="1050"/>
                      </a:lnTo>
                      <a:lnTo>
                        <a:pt x="1592" y="1084"/>
                      </a:lnTo>
                      <a:lnTo>
                        <a:pt x="1582" y="1118"/>
                      </a:lnTo>
                      <a:lnTo>
                        <a:pt x="1570" y="1150"/>
                      </a:lnTo>
                      <a:lnTo>
                        <a:pt x="1558" y="1182"/>
                      </a:lnTo>
                      <a:lnTo>
                        <a:pt x="1544" y="1214"/>
                      </a:lnTo>
                      <a:lnTo>
                        <a:pt x="1528" y="1244"/>
                      </a:lnTo>
                      <a:lnTo>
                        <a:pt x="1512" y="1274"/>
                      </a:lnTo>
                      <a:lnTo>
                        <a:pt x="1492" y="1302"/>
                      </a:lnTo>
                      <a:lnTo>
                        <a:pt x="1474" y="1330"/>
                      </a:lnTo>
                      <a:lnTo>
                        <a:pt x="1452" y="1356"/>
                      </a:lnTo>
                      <a:lnTo>
                        <a:pt x="1430" y="1382"/>
                      </a:lnTo>
                      <a:lnTo>
                        <a:pt x="1406" y="1406"/>
                      </a:lnTo>
                      <a:lnTo>
                        <a:pt x="1382" y="1430"/>
                      </a:lnTo>
                      <a:lnTo>
                        <a:pt x="1356" y="1452"/>
                      </a:lnTo>
                      <a:lnTo>
                        <a:pt x="1330" y="1474"/>
                      </a:lnTo>
                      <a:lnTo>
                        <a:pt x="1302" y="1492"/>
                      </a:lnTo>
                      <a:lnTo>
                        <a:pt x="1274" y="1512"/>
                      </a:lnTo>
                      <a:lnTo>
                        <a:pt x="1244" y="1528"/>
                      </a:lnTo>
                      <a:lnTo>
                        <a:pt x="1214" y="1544"/>
                      </a:lnTo>
                      <a:lnTo>
                        <a:pt x="1182" y="1558"/>
                      </a:lnTo>
                      <a:lnTo>
                        <a:pt x="1150" y="1570"/>
                      </a:lnTo>
                      <a:lnTo>
                        <a:pt x="1118" y="1582"/>
                      </a:lnTo>
                      <a:lnTo>
                        <a:pt x="1084" y="1592"/>
                      </a:lnTo>
                      <a:lnTo>
                        <a:pt x="1050" y="1600"/>
                      </a:lnTo>
                      <a:lnTo>
                        <a:pt x="1014" y="1606"/>
                      </a:lnTo>
                      <a:lnTo>
                        <a:pt x="980" y="1610"/>
                      </a:lnTo>
                      <a:lnTo>
                        <a:pt x="944" y="1612"/>
                      </a:lnTo>
                      <a:lnTo>
                        <a:pt x="908" y="1614"/>
                      </a:lnTo>
                      <a:close/>
                    </a:path>
                  </a:pathLst>
                </a:custGeom>
                <a:solidFill>
                  <a:srgbClr val="0099cc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2" name="Oval 12"/>
                <p:cNvSpPr/>
                <p:nvPr/>
              </p:nvSpPr>
              <p:spPr>
                <a:xfrm rot="21274800">
                  <a:off x="5942520" y="4151160"/>
                  <a:ext cx="1578240" cy="157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7d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713" name="Arc 13"/>
            <p:cNvSpPr/>
            <p:nvPr/>
          </p:nvSpPr>
          <p:spPr>
            <a:xfrm rot="7501200">
              <a:off x="4023720" y="3713760"/>
              <a:ext cx="1906560" cy="154944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fill="none" w="21600" h="15695">
                  <a:moveTo>
                    <a:pt x="14840" y="-1"/>
                  </a:moveTo>
                  <a:cubicBezTo>
                    <a:pt x="19155" y="4079"/>
                    <a:pt x="21600" y="9756"/>
                    <a:pt x="21600" y="15695"/>
                  </a:cubicBezTo>
                </a:path>
                <a:path stroke="0" w="21600" h="15695">
                  <a:moveTo>
                    <a:pt x="14840" y="-1"/>
                  </a:moveTo>
                  <a:cubicBezTo>
                    <a:pt x="19155" y="4079"/>
                    <a:pt x="21600" y="9756"/>
                    <a:pt x="21600" y="15695"/>
                  </a:cubicBezTo>
                  <a:lnTo>
                    <a:pt x="0" y="15695"/>
                  </a:lnTo>
                  <a:lnTo>
                    <a:pt x="14840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4" name="Arc 14"/>
            <p:cNvSpPr/>
            <p:nvPr/>
          </p:nvSpPr>
          <p:spPr>
            <a:xfrm rot="256800">
              <a:off x="6907320" y="2855520"/>
              <a:ext cx="620640" cy="898560"/>
            </a:xfrm>
            <a:custGeom>
              <a:avLst/>
              <a:gdLst>
                <a:gd name="textAreaLeft" fmla="*/ 0 w 620640"/>
                <a:gd name="textAreaRight" fmla="*/ 620640 w 620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fill="none" w="21600" h="31203">
                  <a:moveTo>
                    <a:pt x="3237" y="-1"/>
                  </a:moveTo>
                  <a:cubicBezTo>
                    <a:pt x="13795" y="1600"/>
                    <a:pt x="21600" y="10676"/>
                    <a:pt x="21600" y="21356"/>
                  </a:cubicBezTo>
                  <a:cubicBezTo>
                    <a:pt x="21600" y="24780"/>
                    <a:pt x="20785" y="28155"/>
                    <a:pt x="19224" y="31202"/>
                  </a:cubicBezTo>
                </a:path>
                <a:path stroke="0" w="21600" h="31203">
                  <a:moveTo>
                    <a:pt x="3237" y="-1"/>
                  </a:moveTo>
                  <a:cubicBezTo>
                    <a:pt x="13795" y="1600"/>
                    <a:pt x="21600" y="10676"/>
                    <a:pt x="21600" y="21356"/>
                  </a:cubicBezTo>
                  <a:cubicBezTo>
                    <a:pt x="21600" y="24780"/>
                    <a:pt x="20785" y="28155"/>
                    <a:pt x="19224" y="31202"/>
                  </a:cubicBezTo>
                  <a:lnTo>
                    <a:pt x="0" y="21356"/>
                  </a:lnTo>
                  <a:lnTo>
                    <a:pt x="3237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052720" y="3025800"/>
              <a:ext cx="1008000" cy="901800"/>
              <a:chOff x="2052720" y="3025800"/>
              <a:chExt cx="1008000" cy="901800"/>
            </a:xfrm>
          </p:grpSpPr>
          <p:sp>
            <p:nvSpPr>
              <p:cNvPr id="716" name="WordArt 16"/>
              <p:cNvSpPr txBox="1"/>
              <p:nvPr/>
            </p:nvSpPr>
            <p:spPr>
              <a:xfrm>
                <a:off x="2052720" y="3025800"/>
                <a:ext cx="100800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17" name="WordArt 17"/>
              <p:cNvSpPr txBox="1"/>
              <p:nvPr/>
            </p:nvSpPr>
            <p:spPr>
              <a:xfrm>
                <a:off x="2052720" y="3414600"/>
                <a:ext cx="1008000" cy="513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1. 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2. 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3. 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4934160" y="2594160"/>
              <a:ext cx="1008000" cy="901080"/>
              <a:chOff x="4934160" y="2594160"/>
              <a:chExt cx="1008000" cy="901080"/>
            </a:xfrm>
          </p:grpSpPr>
          <p:sp>
            <p:nvSpPr>
              <p:cNvPr id="719" name="WordArt 19"/>
              <p:cNvSpPr txBox="1"/>
              <p:nvPr/>
            </p:nvSpPr>
            <p:spPr>
              <a:xfrm>
                <a:off x="4934160" y="2594160"/>
                <a:ext cx="1008000" cy="30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20" name="WordArt 20"/>
              <p:cNvSpPr txBox="1"/>
              <p:nvPr/>
            </p:nvSpPr>
            <p:spPr>
              <a:xfrm>
                <a:off x="4934160" y="2982600"/>
                <a:ext cx="100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1. 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2. 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3. 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6300720" y="4610160"/>
              <a:ext cx="792360" cy="708120"/>
              <a:chOff x="6300720" y="4610160"/>
              <a:chExt cx="792360" cy="708120"/>
            </a:xfrm>
          </p:grpSpPr>
          <p:sp>
            <p:nvSpPr>
              <p:cNvPr id="722" name="WordArt 22"/>
              <p:cNvSpPr txBox="1"/>
              <p:nvPr/>
            </p:nvSpPr>
            <p:spPr>
              <a:xfrm>
                <a:off x="6300720" y="4610160"/>
                <a:ext cx="792360" cy="23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23" name="WordArt 23"/>
              <p:cNvSpPr txBox="1"/>
              <p:nvPr/>
            </p:nvSpPr>
            <p:spPr>
              <a:xfrm>
                <a:off x="6300720" y="4915440"/>
                <a:ext cx="792360" cy="402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1. 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2. 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3. 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24" name="WordArt 24"/>
            <p:cNvSpPr txBox="1"/>
            <p:nvPr/>
          </p:nvSpPr>
          <p:spPr>
            <a:xfrm>
              <a:off x="4429080" y="48261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5" name="WordArt 25"/>
            <p:cNvSpPr txBox="1"/>
            <p:nvPr/>
          </p:nvSpPr>
          <p:spPr>
            <a:xfrm>
              <a:off x="3708360" y="16574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6" name="WordArt 26"/>
            <p:cNvSpPr txBox="1"/>
            <p:nvPr/>
          </p:nvSpPr>
          <p:spPr>
            <a:xfrm>
              <a:off x="7308720" y="2594160"/>
              <a:ext cx="64800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28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324000" y="1268280"/>
            <a:ext cx="8496000" cy="4861080"/>
            <a:chOff x="324000" y="1268280"/>
            <a:chExt cx="8496000" cy="4861080"/>
          </a:xfrm>
        </p:grpSpPr>
        <p:sp>
          <p:nvSpPr>
            <p:cNvPr id="730" name="AutoShape 3"/>
            <p:cNvSpPr/>
            <p:nvPr/>
          </p:nvSpPr>
          <p:spPr>
            <a:xfrm>
              <a:off x="324000" y="4400280"/>
              <a:ext cx="8496000" cy="1729080"/>
            </a:xfrm>
            <a:prstGeom prst="roundRect">
              <a:avLst>
                <a:gd name="adj" fmla="val 10139"/>
              </a:avLst>
            </a:prstGeom>
            <a:solidFill>
              <a:srgbClr val="c0c0c0">
                <a:alpha val="25000"/>
              </a:srgbClr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1" name="AutoShape 4"/>
            <p:cNvSpPr/>
            <p:nvPr/>
          </p:nvSpPr>
          <p:spPr>
            <a:xfrm>
              <a:off x="324000" y="1482480"/>
              <a:ext cx="8496000" cy="2881440"/>
            </a:xfrm>
            <a:prstGeom prst="roundRect">
              <a:avLst>
                <a:gd name="adj" fmla="val 6444"/>
              </a:avLst>
            </a:prstGeom>
            <a:solidFill>
              <a:srgbClr val="c0c0c0">
                <a:alpha val="25000"/>
              </a:srgbClr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2" name="AutoShape 5"/>
            <p:cNvSpPr/>
            <p:nvPr/>
          </p:nvSpPr>
          <p:spPr>
            <a:xfrm>
              <a:off x="1545840" y="1268280"/>
              <a:ext cx="6086160" cy="3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3" name="AutoShape 6"/>
            <p:cNvSpPr/>
            <p:nvPr/>
          </p:nvSpPr>
          <p:spPr>
            <a:xfrm>
              <a:off x="576000" y="1807920"/>
              <a:ext cx="3924000" cy="2411640"/>
            </a:xfrm>
            <a:prstGeom prst="roundRect">
              <a:avLst>
                <a:gd name="adj" fmla="val 6963"/>
              </a:avLst>
            </a:prstGeom>
            <a:gradFill rotWithShape="0">
              <a:gsLst>
                <a:gs pos="0">
                  <a:srgbClr val="ca811f"/>
                </a:gs>
                <a:gs pos="100000">
                  <a:srgbClr val="f69d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4" name="AutoShape 7"/>
            <p:cNvSpPr/>
            <p:nvPr/>
          </p:nvSpPr>
          <p:spPr>
            <a:xfrm>
              <a:off x="4643280" y="1807920"/>
              <a:ext cx="3924000" cy="2411640"/>
            </a:xfrm>
            <a:prstGeom prst="roundRect">
              <a:avLst>
                <a:gd name="adj" fmla="val 6134"/>
              </a:avLst>
            </a:prstGeom>
            <a:gradFill rotWithShape="0">
              <a:gsLst>
                <a:gs pos="0">
                  <a:srgbClr val="7da700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5" name="AutoShape 8"/>
            <p:cNvSpPr/>
            <p:nvPr/>
          </p:nvSpPr>
          <p:spPr>
            <a:xfrm>
              <a:off x="684000" y="1915920"/>
              <a:ext cx="3708000" cy="1619280"/>
            </a:xfrm>
            <a:prstGeom prst="roundRect">
              <a:avLst>
                <a:gd name="adj" fmla="val 5616"/>
              </a:avLst>
            </a:prstGeom>
            <a:solidFill>
              <a:srgbClr val="ffffff">
                <a:alpha val="85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6" name="AutoShape 9"/>
            <p:cNvSpPr/>
            <p:nvPr/>
          </p:nvSpPr>
          <p:spPr>
            <a:xfrm>
              <a:off x="4751280" y="1915920"/>
              <a:ext cx="3708000" cy="1619280"/>
            </a:xfrm>
            <a:prstGeom prst="roundRect">
              <a:avLst>
                <a:gd name="adj" fmla="val 5616"/>
              </a:avLst>
            </a:prstGeom>
            <a:solidFill>
              <a:srgbClr val="ffffff">
                <a:alpha val="85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7" name="AutoShape 10"/>
            <p:cNvSpPr/>
            <p:nvPr/>
          </p:nvSpPr>
          <p:spPr>
            <a:xfrm>
              <a:off x="576000" y="4545000"/>
              <a:ext cx="3924000" cy="1224000"/>
            </a:xfrm>
            <a:prstGeom prst="roundRect">
              <a:avLst>
                <a:gd name="adj" fmla="val 12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8" name="AutoShape 11"/>
            <p:cNvSpPr/>
            <p:nvPr/>
          </p:nvSpPr>
          <p:spPr>
            <a:xfrm>
              <a:off x="647640" y="4616280"/>
              <a:ext cx="3779280" cy="324000"/>
            </a:xfrm>
            <a:prstGeom prst="roundRect">
              <a:avLst>
                <a:gd name="adj" fmla="val 50000"/>
              </a:avLst>
            </a:prstGeom>
            <a:solidFill>
              <a:srgbClr val="00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9" name="AutoShape 12"/>
            <p:cNvSpPr/>
            <p:nvPr/>
          </p:nvSpPr>
          <p:spPr>
            <a:xfrm>
              <a:off x="4643280" y="4545000"/>
              <a:ext cx="3924000" cy="1224000"/>
            </a:xfrm>
            <a:prstGeom prst="roundRect">
              <a:avLst>
                <a:gd name="adj" fmla="val 12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0" name="AutoShape 13"/>
            <p:cNvSpPr/>
            <p:nvPr/>
          </p:nvSpPr>
          <p:spPr>
            <a:xfrm>
              <a:off x="4714560" y="4616280"/>
              <a:ext cx="3779640" cy="324000"/>
            </a:xfrm>
            <a:prstGeom prst="roundRect">
              <a:avLst>
                <a:gd name="adj" fmla="val 50000"/>
              </a:avLst>
            </a:prstGeom>
            <a:solidFill>
              <a:srgbClr val="00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1" name="WordArt 14"/>
            <p:cNvSpPr txBox="1"/>
            <p:nvPr/>
          </p:nvSpPr>
          <p:spPr>
            <a:xfrm>
              <a:off x="3779640" y="1374480"/>
              <a:ext cx="1584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2" name="WordArt 15"/>
            <p:cNvSpPr txBox="1"/>
            <p:nvPr/>
          </p:nvSpPr>
          <p:spPr>
            <a:xfrm>
              <a:off x="1763640" y="3751200"/>
              <a:ext cx="15822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3" name="WordArt 16"/>
            <p:cNvSpPr txBox="1"/>
            <p:nvPr/>
          </p:nvSpPr>
          <p:spPr>
            <a:xfrm>
              <a:off x="5867280" y="3751200"/>
              <a:ext cx="15822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4" name="WordArt 17"/>
            <p:cNvSpPr txBox="1"/>
            <p:nvPr/>
          </p:nvSpPr>
          <p:spPr>
            <a:xfrm>
              <a:off x="1763640" y="2600280"/>
              <a:ext cx="1584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PICTURE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5" name="WordArt 18"/>
            <p:cNvSpPr txBox="1"/>
            <p:nvPr/>
          </p:nvSpPr>
          <p:spPr>
            <a:xfrm>
              <a:off x="5867280" y="2600280"/>
              <a:ext cx="1584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PICTURE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6" name="WordArt 19"/>
            <p:cNvSpPr txBox="1"/>
            <p:nvPr/>
          </p:nvSpPr>
          <p:spPr>
            <a:xfrm>
              <a:off x="1692000" y="4687920"/>
              <a:ext cx="15825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7" name="WordArt 20"/>
            <p:cNvSpPr txBox="1"/>
            <p:nvPr/>
          </p:nvSpPr>
          <p:spPr>
            <a:xfrm>
              <a:off x="5940360" y="4687920"/>
              <a:ext cx="158220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8" name="WordArt 21"/>
            <p:cNvSpPr txBox="1"/>
            <p:nvPr/>
          </p:nvSpPr>
          <p:spPr>
            <a:xfrm>
              <a:off x="1834920" y="5113080"/>
              <a:ext cx="136800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01. ADD 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02. ADD 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03. ADD 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9" name="WordArt 22"/>
            <p:cNvSpPr txBox="1"/>
            <p:nvPr/>
          </p:nvSpPr>
          <p:spPr>
            <a:xfrm>
              <a:off x="5940360" y="5113080"/>
              <a:ext cx="136800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01. ADD 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02. ADD 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 Black"/>
                </a:rPr>
                <a:t>03. ADD 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51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24000" y="1341360"/>
            <a:ext cx="8424720" cy="4608360"/>
            <a:chOff x="324000" y="1341360"/>
            <a:chExt cx="8424720" cy="4608360"/>
          </a:xfrm>
        </p:grpSpPr>
        <p:sp>
          <p:nvSpPr>
            <p:cNvPr id="754" name="AutoShape 4"/>
            <p:cNvSpPr/>
            <p:nvPr/>
          </p:nvSpPr>
          <p:spPr>
            <a:xfrm>
              <a:off x="2411640" y="1412640"/>
              <a:ext cx="6337080" cy="4392720"/>
            </a:xfrm>
            <a:prstGeom prst="roundRect">
              <a:avLst>
                <a:gd name="adj" fmla="val 4171"/>
              </a:avLst>
            </a:prstGeom>
            <a:solidFill>
              <a:srgbClr val="c0c0c0">
                <a:alpha val="25000"/>
              </a:srgbClr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AutoShape 5"/>
            <p:cNvSpPr/>
            <p:nvPr/>
          </p:nvSpPr>
          <p:spPr>
            <a:xfrm>
              <a:off x="2624400" y="4352760"/>
              <a:ext cx="5806800" cy="320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6" name="AutoShape 6"/>
            <p:cNvSpPr/>
            <p:nvPr/>
          </p:nvSpPr>
          <p:spPr>
            <a:xfrm>
              <a:off x="2721240" y="5394240"/>
              <a:ext cx="5806800" cy="320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7" name="AutoShape 7"/>
            <p:cNvSpPr/>
            <p:nvPr/>
          </p:nvSpPr>
          <p:spPr>
            <a:xfrm>
              <a:off x="2767320" y="3286080"/>
              <a:ext cx="5806800" cy="320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AutoShape 8"/>
            <p:cNvSpPr/>
            <p:nvPr/>
          </p:nvSpPr>
          <p:spPr>
            <a:xfrm>
              <a:off x="2521080" y="4868640"/>
              <a:ext cx="6137280" cy="720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9" name="AutoShape 9"/>
            <p:cNvSpPr/>
            <p:nvPr/>
          </p:nvSpPr>
          <p:spPr>
            <a:xfrm>
              <a:off x="2521080" y="2709720"/>
              <a:ext cx="6137280" cy="720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0" name="AutoShape 10"/>
            <p:cNvSpPr/>
            <p:nvPr/>
          </p:nvSpPr>
          <p:spPr>
            <a:xfrm>
              <a:off x="2521080" y="3789360"/>
              <a:ext cx="6137280" cy="720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1" name="AutoShape 11"/>
            <p:cNvSpPr/>
            <p:nvPr/>
          </p:nvSpPr>
          <p:spPr>
            <a:xfrm>
              <a:off x="2762280" y="4984560"/>
              <a:ext cx="5689800" cy="49068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46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2" name="AutoShape 12"/>
            <p:cNvSpPr/>
            <p:nvPr/>
          </p:nvSpPr>
          <p:spPr>
            <a:xfrm>
              <a:off x="2762280" y="2824200"/>
              <a:ext cx="5689800" cy="49032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46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3" name="AutoShape 13"/>
            <p:cNvSpPr/>
            <p:nvPr/>
          </p:nvSpPr>
          <p:spPr>
            <a:xfrm>
              <a:off x="2762280" y="3903480"/>
              <a:ext cx="5689800" cy="49068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46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4" name="AutoShape 14"/>
            <p:cNvSpPr/>
            <p:nvPr/>
          </p:nvSpPr>
          <p:spPr>
            <a:xfrm>
              <a:off x="324000" y="1341360"/>
              <a:ext cx="2016000" cy="4608360"/>
            </a:xfrm>
            <a:prstGeom prst="upArrow">
              <a:avLst>
                <a:gd name="adj1" fmla="val 66296"/>
                <a:gd name="adj2" fmla="val 58428"/>
              </a:avLst>
            </a:prstGeom>
            <a:gradFill rotWithShape="0">
              <a:gsLst>
                <a:gs pos="0">
                  <a:srgbClr val="ff9933">
                    <a:alpha val="50196"/>
                  </a:srgbClr>
                </a:gs>
                <a:gs pos="100000">
                  <a:srgbClr val="764718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865440" y="4776840"/>
              <a:ext cx="903240" cy="906480"/>
              <a:chOff x="865440" y="4776840"/>
              <a:chExt cx="903240" cy="906480"/>
            </a:xfrm>
          </p:grpSpPr>
          <p:sp>
            <p:nvSpPr>
              <p:cNvPr id="766" name="Oval 16"/>
              <p:cNvSpPr/>
              <p:nvPr/>
            </p:nvSpPr>
            <p:spPr>
              <a:xfrm>
                <a:off x="865440" y="4776840"/>
                <a:ext cx="903240" cy="90648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7d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7" name="Oval 17"/>
              <p:cNvSpPr/>
              <p:nvPr/>
            </p:nvSpPr>
            <p:spPr>
              <a:xfrm>
                <a:off x="1184760" y="4795200"/>
                <a:ext cx="240480" cy="24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865440" y="3695760"/>
              <a:ext cx="903240" cy="906480"/>
              <a:chOff x="865440" y="3695760"/>
              <a:chExt cx="903240" cy="906480"/>
            </a:xfrm>
          </p:grpSpPr>
          <p:sp>
            <p:nvSpPr>
              <p:cNvPr id="769" name="Oval 19"/>
              <p:cNvSpPr/>
              <p:nvPr/>
            </p:nvSpPr>
            <p:spPr>
              <a:xfrm>
                <a:off x="865440" y="3695760"/>
                <a:ext cx="903240" cy="9064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7da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0" name="Oval 20"/>
              <p:cNvSpPr/>
              <p:nvPr/>
            </p:nvSpPr>
            <p:spPr>
              <a:xfrm>
                <a:off x="1184760" y="3714120"/>
                <a:ext cx="240480" cy="24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865440" y="2616120"/>
              <a:ext cx="903240" cy="906480"/>
              <a:chOff x="865440" y="2616120"/>
              <a:chExt cx="903240" cy="906480"/>
            </a:xfrm>
          </p:grpSpPr>
          <p:sp>
            <p:nvSpPr>
              <p:cNvPr id="772" name="Oval 22"/>
              <p:cNvSpPr/>
              <p:nvPr/>
            </p:nvSpPr>
            <p:spPr>
              <a:xfrm>
                <a:off x="865440" y="2616120"/>
                <a:ext cx="903240" cy="906480"/>
              </a:xfrm>
              <a:prstGeom prst="ellipse">
                <a:avLst/>
              </a:prstGeom>
              <a:gradFill rotWithShape="0">
                <a:gsLst>
                  <a:gs pos="0">
                    <a:srgbClr val="f69d26"/>
                  </a:gs>
                  <a:gs pos="100000">
                    <a:srgbClr val="ca811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3" name="Oval 23"/>
              <p:cNvSpPr/>
              <p:nvPr/>
            </p:nvSpPr>
            <p:spPr>
              <a:xfrm>
                <a:off x="1184760" y="2634480"/>
                <a:ext cx="240480" cy="24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74" name="Line 24"/>
            <p:cNvSpPr/>
            <p:nvPr/>
          </p:nvSpPr>
          <p:spPr>
            <a:xfrm flipH="1">
              <a:off x="1847520" y="3068640"/>
              <a:ext cx="1150920" cy="0"/>
            </a:xfrm>
            <a:prstGeom prst="line">
              <a:avLst/>
            </a:prstGeom>
            <a:ln cap="rnd" w="316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5" name="Line 25"/>
            <p:cNvSpPr/>
            <p:nvPr/>
          </p:nvSpPr>
          <p:spPr>
            <a:xfrm flipH="1">
              <a:off x="1847520" y="4149720"/>
              <a:ext cx="1150920" cy="0"/>
            </a:xfrm>
            <a:prstGeom prst="line">
              <a:avLst/>
            </a:prstGeom>
            <a:ln cap="rnd" w="316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6" name="Line 26"/>
            <p:cNvSpPr/>
            <p:nvPr/>
          </p:nvSpPr>
          <p:spPr>
            <a:xfrm flipH="1">
              <a:off x="1847520" y="5229000"/>
              <a:ext cx="1150920" cy="0"/>
            </a:xfrm>
            <a:prstGeom prst="line">
              <a:avLst/>
            </a:prstGeom>
            <a:ln cap="rnd" w="316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911520" y="2932200"/>
              <a:ext cx="792000" cy="275760"/>
              <a:chOff x="911520" y="2932200"/>
              <a:chExt cx="792000" cy="275760"/>
            </a:xfrm>
          </p:grpSpPr>
          <p:sp>
            <p:nvSpPr>
              <p:cNvPr id="778" name="WordArt 28"/>
              <p:cNvSpPr txBox="1"/>
              <p:nvPr/>
            </p:nvSpPr>
            <p:spPr>
              <a:xfrm>
                <a:off x="1012680" y="2932200"/>
                <a:ext cx="591840" cy="168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79" name="WordArt 29"/>
              <p:cNvSpPr txBox="1"/>
              <p:nvPr/>
            </p:nvSpPr>
            <p:spPr>
              <a:xfrm>
                <a:off x="911520" y="3120480"/>
                <a:ext cx="792000" cy="87480"/>
              </a:xfrm>
              <a:prstGeom prst="rect">
                <a:avLst/>
              </a:prstGeom>
            </p:spPr>
            <p:txBody>
              <a:bodyPr wrap="none" lIns="90000" rIns="90000" tIns="40680" bIns="406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911520" y="4011480"/>
              <a:ext cx="792000" cy="275760"/>
              <a:chOff x="911520" y="4011480"/>
              <a:chExt cx="792000" cy="275760"/>
            </a:xfrm>
          </p:grpSpPr>
          <p:sp>
            <p:nvSpPr>
              <p:cNvPr id="781" name="WordArt 31"/>
              <p:cNvSpPr txBox="1"/>
              <p:nvPr/>
            </p:nvSpPr>
            <p:spPr>
              <a:xfrm>
                <a:off x="1012680" y="4011480"/>
                <a:ext cx="591840" cy="168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82" name="WordArt 32"/>
              <p:cNvSpPr txBox="1"/>
              <p:nvPr/>
            </p:nvSpPr>
            <p:spPr>
              <a:xfrm>
                <a:off x="911520" y="4199760"/>
                <a:ext cx="792000" cy="87480"/>
              </a:xfrm>
              <a:prstGeom prst="rect">
                <a:avLst/>
              </a:prstGeom>
            </p:spPr>
            <p:txBody>
              <a:bodyPr wrap="none" lIns="90000" rIns="90000" tIns="40680" bIns="406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911520" y="5092560"/>
              <a:ext cx="792000" cy="275760"/>
              <a:chOff x="911520" y="5092560"/>
              <a:chExt cx="792000" cy="275760"/>
            </a:xfrm>
          </p:grpSpPr>
          <p:sp>
            <p:nvSpPr>
              <p:cNvPr id="784" name="WordArt 34"/>
              <p:cNvSpPr txBox="1"/>
              <p:nvPr/>
            </p:nvSpPr>
            <p:spPr>
              <a:xfrm>
                <a:off x="1012680" y="5092560"/>
                <a:ext cx="591840" cy="168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85" name="WordArt 35"/>
              <p:cNvSpPr txBox="1"/>
              <p:nvPr/>
            </p:nvSpPr>
            <p:spPr>
              <a:xfrm>
                <a:off x="911520" y="5280840"/>
                <a:ext cx="792000" cy="87480"/>
              </a:xfrm>
              <a:prstGeom prst="rect">
                <a:avLst/>
              </a:prstGeom>
            </p:spPr>
            <p:txBody>
              <a:bodyPr wrap="none" lIns="90000" rIns="90000" tIns="40680" bIns="406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86" name="WordArt 36"/>
            <p:cNvSpPr txBox="1"/>
            <p:nvPr/>
          </p:nvSpPr>
          <p:spPr>
            <a:xfrm>
              <a:off x="3314880" y="2987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787" name="WordArt 37"/>
            <p:cNvSpPr txBox="1"/>
            <p:nvPr/>
          </p:nvSpPr>
          <p:spPr>
            <a:xfrm>
              <a:off x="3313440" y="4066920"/>
              <a:ext cx="244764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788" name="WordArt 38"/>
            <p:cNvSpPr txBox="1"/>
            <p:nvPr/>
          </p:nvSpPr>
          <p:spPr>
            <a:xfrm>
              <a:off x="3311640" y="514836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789" name="AutoShape 39"/>
            <p:cNvSpPr/>
            <p:nvPr/>
          </p:nvSpPr>
          <p:spPr>
            <a:xfrm>
              <a:off x="2602080" y="1569960"/>
              <a:ext cx="5977080" cy="851040"/>
            </a:xfrm>
            <a:prstGeom prst="roundRect">
              <a:avLst>
                <a:gd name="adj" fmla="val 17352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572000" y="1785960"/>
              <a:ext cx="2089080" cy="431640"/>
              <a:chOff x="4572000" y="1785960"/>
              <a:chExt cx="2089080" cy="431640"/>
            </a:xfrm>
          </p:grpSpPr>
          <p:sp>
            <p:nvSpPr>
              <p:cNvPr id="791" name="WordArt 41"/>
              <p:cNvSpPr txBox="1"/>
              <p:nvPr/>
            </p:nvSpPr>
            <p:spPr>
              <a:xfrm>
                <a:off x="4716360" y="1785960"/>
                <a:ext cx="172872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792" name="WordArt 42"/>
              <p:cNvSpPr txBox="1"/>
              <p:nvPr/>
            </p:nvSpPr>
            <p:spPr>
              <a:xfrm>
                <a:off x="4572000" y="2084400"/>
                <a:ext cx="20890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793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766440" y="1413000"/>
            <a:ext cx="7405920" cy="4541760"/>
            <a:chOff x="766440" y="1413000"/>
            <a:chExt cx="7405920" cy="4541760"/>
          </a:xfrm>
        </p:grpSpPr>
        <p:sp>
          <p:nvSpPr>
            <p:cNvPr id="796" name="Rectangle 4"/>
            <p:cNvSpPr/>
            <p:nvPr/>
          </p:nvSpPr>
          <p:spPr>
            <a:xfrm>
              <a:off x="784440" y="2602080"/>
              <a:ext cx="2376360" cy="2124000"/>
            </a:xfrm>
            <a:prstGeom prst="rect">
              <a:avLst/>
            </a:prstGeom>
            <a:solidFill>
              <a:srgbClr val="96969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7" name="Oval 5"/>
            <p:cNvSpPr/>
            <p:nvPr/>
          </p:nvSpPr>
          <p:spPr>
            <a:xfrm>
              <a:off x="784440" y="1413000"/>
              <a:ext cx="2376360" cy="2376360"/>
            </a:xfrm>
            <a:prstGeom prst="ellipse">
              <a:avLst/>
            </a:prstGeom>
            <a:gradFill rotWithShape="0">
              <a:gsLst>
                <a:gs pos="0">
                  <a:srgbClr val="74c7e3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8" name="Freeform 6"/>
            <p:cNvSpPr/>
            <p:nvPr/>
          </p:nvSpPr>
          <p:spPr>
            <a:xfrm>
              <a:off x="779400" y="5023080"/>
              <a:ext cx="2386080" cy="931680"/>
            </a:xfrm>
            <a:custGeom>
              <a:avLst/>
              <a:gdLst/>
              <a:ahLst/>
              <a:rect l="l" t="t" r="r" b="b"/>
              <a:pathLst>
                <a:path w="1005" h="754">
                  <a:moveTo>
                    <a:pt x="1005" y="503"/>
                  </a:moveTo>
                  <a:lnTo>
                    <a:pt x="1005" y="503"/>
                  </a:lnTo>
                  <a:lnTo>
                    <a:pt x="1005" y="516"/>
                  </a:lnTo>
                  <a:lnTo>
                    <a:pt x="1002" y="528"/>
                  </a:lnTo>
                  <a:lnTo>
                    <a:pt x="999" y="541"/>
                  </a:lnTo>
                  <a:lnTo>
                    <a:pt x="995" y="554"/>
                  </a:lnTo>
                  <a:lnTo>
                    <a:pt x="989" y="565"/>
                  </a:lnTo>
                  <a:lnTo>
                    <a:pt x="982" y="578"/>
                  </a:lnTo>
                  <a:lnTo>
                    <a:pt x="975" y="589"/>
                  </a:lnTo>
                  <a:lnTo>
                    <a:pt x="965" y="600"/>
                  </a:lnTo>
                  <a:lnTo>
                    <a:pt x="955" y="612"/>
                  </a:lnTo>
                  <a:lnTo>
                    <a:pt x="944" y="623"/>
                  </a:lnTo>
                  <a:lnTo>
                    <a:pt x="933" y="633"/>
                  </a:lnTo>
                  <a:lnTo>
                    <a:pt x="919" y="643"/>
                  </a:lnTo>
                  <a:lnTo>
                    <a:pt x="891" y="662"/>
                  </a:lnTo>
                  <a:lnTo>
                    <a:pt x="858" y="681"/>
                  </a:lnTo>
                  <a:lnTo>
                    <a:pt x="822" y="696"/>
                  </a:lnTo>
                  <a:lnTo>
                    <a:pt x="783" y="712"/>
                  </a:lnTo>
                  <a:lnTo>
                    <a:pt x="743" y="723"/>
                  </a:lnTo>
                  <a:lnTo>
                    <a:pt x="699" y="734"/>
                  </a:lnTo>
                  <a:lnTo>
                    <a:pt x="652" y="743"/>
                  </a:lnTo>
                  <a:lnTo>
                    <a:pt x="604" y="748"/>
                  </a:lnTo>
                  <a:lnTo>
                    <a:pt x="554" y="752"/>
                  </a:lnTo>
                  <a:lnTo>
                    <a:pt x="503" y="754"/>
                  </a:lnTo>
                  <a:lnTo>
                    <a:pt x="503" y="754"/>
                  </a:lnTo>
                  <a:lnTo>
                    <a:pt x="451" y="752"/>
                  </a:lnTo>
                  <a:lnTo>
                    <a:pt x="402" y="748"/>
                  </a:lnTo>
                  <a:lnTo>
                    <a:pt x="354" y="743"/>
                  </a:lnTo>
                  <a:lnTo>
                    <a:pt x="307" y="734"/>
                  </a:lnTo>
                  <a:lnTo>
                    <a:pt x="263" y="723"/>
                  </a:lnTo>
                  <a:lnTo>
                    <a:pt x="223" y="712"/>
                  </a:lnTo>
                  <a:lnTo>
                    <a:pt x="183" y="696"/>
                  </a:lnTo>
                  <a:lnTo>
                    <a:pt x="148" y="681"/>
                  </a:lnTo>
                  <a:lnTo>
                    <a:pt x="115" y="662"/>
                  </a:lnTo>
                  <a:lnTo>
                    <a:pt x="86" y="643"/>
                  </a:lnTo>
                  <a:lnTo>
                    <a:pt x="73" y="633"/>
                  </a:lnTo>
                  <a:lnTo>
                    <a:pt x="60" y="623"/>
                  </a:lnTo>
                  <a:lnTo>
                    <a:pt x="51" y="612"/>
                  </a:lnTo>
                  <a:lnTo>
                    <a:pt x="39" y="600"/>
                  </a:lnTo>
                  <a:lnTo>
                    <a:pt x="31" y="589"/>
                  </a:lnTo>
                  <a:lnTo>
                    <a:pt x="22" y="578"/>
                  </a:lnTo>
                  <a:lnTo>
                    <a:pt x="17" y="565"/>
                  </a:lnTo>
                  <a:lnTo>
                    <a:pt x="11" y="554"/>
                  </a:lnTo>
                  <a:lnTo>
                    <a:pt x="7" y="541"/>
                  </a:lnTo>
                  <a:lnTo>
                    <a:pt x="3" y="528"/>
                  </a:lnTo>
                  <a:lnTo>
                    <a:pt x="1" y="516"/>
                  </a:lnTo>
                  <a:lnTo>
                    <a:pt x="0" y="503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lnTo>
                    <a:pt x="1005" y="503"/>
                  </a:lnTo>
                  <a:close/>
                </a:path>
              </a:pathLst>
            </a:custGeom>
            <a:gradFill rotWithShape="0">
              <a:gsLst>
                <a:gs pos="0">
                  <a:srgbClr val="3c50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9" name="Freeform 7"/>
            <p:cNvSpPr/>
            <p:nvPr/>
          </p:nvSpPr>
          <p:spPr>
            <a:xfrm>
              <a:off x="779400" y="5023080"/>
              <a:ext cx="2386080" cy="620640"/>
            </a:xfrm>
            <a:custGeom>
              <a:avLst/>
              <a:gdLst>
                <a:gd name="textAreaLeft" fmla="*/ 0 w 2386080"/>
                <a:gd name="textAreaRight" fmla="*/ 2386440 w 238608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1005" h="503">
                  <a:moveTo>
                    <a:pt x="1005" y="252"/>
                  </a:moveTo>
                  <a:lnTo>
                    <a:pt x="1005" y="252"/>
                  </a:lnTo>
                  <a:lnTo>
                    <a:pt x="1005" y="265"/>
                  </a:lnTo>
                  <a:lnTo>
                    <a:pt x="1002" y="277"/>
                  </a:lnTo>
                  <a:lnTo>
                    <a:pt x="999" y="290"/>
                  </a:lnTo>
                  <a:lnTo>
                    <a:pt x="995" y="301"/>
                  </a:lnTo>
                  <a:lnTo>
                    <a:pt x="989" y="314"/>
                  </a:lnTo>
                  <a:lnTo>
                    <a:pt x="982" y="327"/>
                  </a:lnTo>
                  <a:lnTo>
                    <a:pt x="975" y="338"/>
                  </a:lnTo>
                  <a:lnTo>
                    <a:pt x="965" y="349"/>
                  </a:lnTo>
                  <a:lnTo>
                    <a:pt x="955" y="361"/>
                  </a:lnTo>
                  <a:lnTo>
                    <a:pt x="944" y="372"/>
                  </a:lnTo>
                  <a:lnTo>
                    <a:pt x="933" y="382"/>
                  </a:lnTo>
                  <a:lnTo>
                    <a:pt x="919" y="392"/>
                  </a:lnTo>
                  <a:lnTo>
                    <a:pt x="891" y="411"/>
                  </a:lnTo>
                  <a:lnTo>
                    <a:pt x="858" y="430"/>
                  </a:lnTo>
                  <a:lnTo>
                    <a:pt x="822" y="445"/>
                  </a:lnTo>
                  <a:lnTo>
                    <a:pt x="783" y="459"/>
                  </a:lnTo>
                  <a:lnTo>
                    <a:pt x="743" y="472"/>
                  </a:lnTo>
                  <a:lnTo>
                    <a:pt x="699" y="483"/>
                  </a:lnTo>
                  <a:lnTo>
                    <a:pt x="652" y="492"/>
                  </a:lnTo>
                  <a:lnTo>
                    <a:pt x="604" y="497"/>
                  </a:lnTo>
                  <a:lnTo>
                    <a:pt x="554" y="502"/>
                  </a:lnTo>
                  <a:lnTo>
                    <a:pt x="503" y="503"/>
                  </a:lnTo>
                  <a:lnTo>
                    <a:pt x="451" y="502"/>
                  </a:lnTo>
                  <a:lnTo>
                    <a:pt x="402" y="497"/>
                  </a:lnTo>
                  <a:lnTo>
                    <a:pt x="354" y="492"/>
                  </a:lnTo>
                  <a:lnTo>
                    <a:pt x="307" y="483"/>
                  </a:lnTo>
                  <a:lnTo>
                    <a:pt x="263" y="472"/>
                  </a:lnTo>
                  <a:lnTo>
                    <a:pt x="223" y="459"/>
                  </a:lnTo>
                  <a:lnTo>
                    <a:pt x="183" y="445"/>
                  </a:lnTo>
                  <a:lnTo>
                    <a:pt x="148" y="430"/>
                  </a:lnTo>
                  <a:lnTo>
                    <a:pt x="115" y="411"/>
                  </a:lnTo>
                  <a:lnTo>
                    <a:pt x="86" y="392"/>
                  </a:lnTo>
                  <a:lnTo>
                    <a:pt x="73" y="382"/>
                  </a:lnTo>
                  <a:lnTo>
                    <a:pt x="60" y="372"/>
                  </a:lnTo>
                  <a:lnTo>
                    <a:pt x="51" y="361"/>
                  </a:lnTo>
                  <a:lnTo>
                    <a:pt x="39" y="349"/>
                  </a:lnTo>
                  <a:lnTo>
                    <a:pt x="31" y="338"/>
                  </a:lnTo>
                  <a:lnTo>
                    <a:pt x="22" y="327"/>
                  </a:lnTo>
                  <a:lnTo>
                    <a:pt x="17" y="314"/>
                  </a:lnTo>
                  <a:lnTo>
                    <a:pt x="11" y="301"/>
                  </a:lnTo>
                  <a:lnTo>
                    <a:pt x="7" y="290"/>
                  </a:lnTo>
                  <a:lnTo>
                    <a:pt x="3" y="277"/>
                  </a:lnTo>
                  <a:lnTo>
                    <a:pt x="1" y="265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892080" y="5510160"/>
              <a:ext cx="108000" cy="29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1" name="Freeform 9"/>
            <p:cNvSpPr/>
            <p:nvPr/>
          </p:nvSpPr>
          <p:spPr>
            <a:xfrm>
              <a:off x="779400" y="4667400"/>
              <a:ext cx="2386080" cy="931680"/>
            </a:xfrm>
            <a:custGeom>
              <a:avLst/>
              <a:gdLst>
                <a:gd name="textAreaLeft" fmla="*/ 0 w 2386080"/>
                <a:gd name="textAreaRight" fmla="*/ 2386440 w 238608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005" h="754">
                  <a:moveTo>
                    <a:pt x="1005" y="503"/>
                  </a:moveTo>
                  <a:lnTo>
                    <a:pt x="1005" y="503"/>
                  </a:lnTo>
                  <a:lnTo>
                    <a:pt x="1005" y="516"/>
                  </a:lnTo>
                  <a:lnTo>
                    <a:pt x="1002" y="528"/>
                  </a:lnTo>
                  <a:lnTo>
                    <a:pt x="999" y="541"/>
                  </a:lnTo>
                  <a:lnTo>
                    <a:pt x="995" y="554"/>
                  </a:lnTo>
                  <a:lnTo>
                    <a:pt x="989" y="565"/>
                  </a:lnTo>
                  <a:lnTo>
                    <a:pt x="982" y="578"/>
                  </a:lnTo>
                  <a:lnTo>
                    <a:pt x="975" y="589"/>
                  </a:lnTo>
                  <a:lnTo>
                    <a:pt x="965" y="600"/>
                  </a:lnTo>
                  <a:lnTo>
                    <a:pt x="955" y="612"/>
                  </a:lnTo>
                  <a:lnTo>
                    <a:pt x="944" y="623"/>
                  </a:lnTo>
                  <a:lnTo>
                    <a:pt x="933" y="633"/>
                  </a:lnTo>
                  <a:lnTo>
                    <a:pt x="919" y="643"/>
                  </a:lnTo>
                  <a:lnTo>
                    <a:pt x="891" y="662"/>
                  </a:lnTo>
                  <a:lnTo>
                    <a:pt x="858" y="681"/>
                  </a:lnTo>
                  <a:lnTo>
                    <a:pt x="822" y="696"/>
                  </a:lnTo>
                  <a:lnTo>
                    <a:pt x="783" y="712"/>
                  </a:lnTo>
                  <a:lnTo>
                    <a:pt x="743" y="723"/>
                  </a:lnTo>
                  <a:lnTo>
                    <a:pt x="699" y="734"/>
                  </a:lnTo>
                  <a:lnTo>
                    <a:pt x="652" y="743"/>
                  </a:lnTo>
                  <a:lnTo>
                    <a:pt x="604" y="748"/>
                  </a:lnTo>
                  <a:lnTo>
                    <a:pt x="554" y="752"/>
                  </a:lnTo>
                  <a:lnTo>
                    <a:pt x="503" y="754"/>
                  </a:lnTo>
                  <a:lnTo>
                    <a:pt x="451" y="752"/>
                  </a:lnTo>
                  <a:lnTo>
                    <a:pt x="402" y="748"/>
                  </a:lnTo>
                  <a:lnTo>
                    <a:pt x="354" y="743"/>
                  </a:lnTo>
                  <a:lnTo>
                    <a:pt x="307" y="734"/>
                  </a:lnTo>
                  <a:lnTo>
                    <a:pt x="263" y="723"/>
                  </a:lnTo>
                  <a:lnTo>
                    <a:pt x="223" y="712"/>
                  </a:lnTo>
                  <a:lnTo>
                    <a:pt x="183" y="696"/>
                  </a:lnTo>
                  <a:lnTo>
                    <a:pt x="148" y="681"/>
                  </a:lnTo>
                  <a:lnTo>
                    <a:pt x="115" y="662"/>
                  </a:lnTo>
                  <a:lnTo>
                    <a:pt x="86" y="643"/>
                  </a:lnTo>
                  <a:lnTo>
                    <a:pt x="73" y="633"/>
                  </a:lnTo>
                  <a:lnTo>
                    <a:pt x="60" y="623"/>
                  </a:lnTo>
                  <a:lnTo>
                    <a:pt x="51" y="612"/>
                  </a:lnTo>
                  <a:lnTo>
                    <a:pt x="39" y="600"/>
                  </a:lnTo>
                  <a:lnTo>
                    <a:pt x="31" y="589"/>
                  </a:lnTo>
                  <a:lnTo>
                    <a:pt x="22" y="578"/>
                  </a:lnTo>
                  <a:lnTo>
                    <a:pt x="17" y="565"/>
                  </a:lnTo>
                  <a:lnTo>
                    <a:pt x="11" y="554"/>
                  </a:lnTo>
                  <a:lnTo>
                    <a:pt x="7" y="541"/>
                  </a:lnTo>
                  <a:lnTo>
                    <a:pt x="3" y="528"/>
                  </a:lnTo>
                  <a:lnTo>
                    <a:pt x="1" y="516"/>
                  </a:lnTo>
                  <a:lnTo>
                    <a:pt x="0" y="503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lnTo>
                    <a:pt x="1005" y="503"/>
                  </a:lnTo>
                  <a:close/>
                </a:path>
              </a:pathLst>
            </a:custGeom>
            <a:gradFill rotWithShape="0">
              <a:gsLst>
                <a:gs pos="0">
                  <a:srgbClr val="643c14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2" name="Freeform 10"/>
            <p:cNvSpPr/>
            <p:nvPr/>
          </p:nvSpPr>
          <p:spPr>
            <a:xfrm>
              <a:off x="779400" y="4667400"/>
              <a:ext cx="2386080" cy="620640"/>
            </a:xfrm>
            <a:custGeom>
              <a:avLst/>
              <a:gdLst>
                <a:gd name="textAreaLeft" fmla="*/ 0 w 2386080"/>
                <a:gd name="textAreaRight" fmla="*/ 2386440 w 238608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1005" h="503">
                  <a:moveTo>
                    <a:pt x="1005" y="252"/>
                  </a:moveTo>
                  <a:lnTo>
                    <a:pt x="1005" y="252"/>
                  </a:lnTo>
                  <a:lnTo>
                    <a:pt x="1005" y="265"/>
                  </a:lnTo>
                  <a:lnTo>
                    <a:pt x="1002" y="277"/>
                  </a:lnTo>
                  <a:lnTo>
                    <a:pt x="999" y="290"/>
                  </a:lnTo>
                  <a:lnTo>
                    <a:pt x="995" y="301"/>
                  </a:lnTo>
                  <a:lnTo>
                    <a:pt x="989" y="314"/>
                  </a:lnTo>
                  <a:lnTo>
                    <a:pt x="982" y="327"/>
                  </a:lnTo>
                  <a:lnTo>
                    <a:pt x="975" y="338"/>
                  </a:lnTo>
                  <a:lnTo>
                    <a:pt x="965" y="349"/>
                  </a:lnTo>
                  <a:lnTo>
                    <a:pt x="955" y="361"/>
                  </a:lnTo>
                  <a:lnTo>
                    <a:pt x="944" y="372"/>
                  </a:lnTo>
                  <a:lnTo>
                    <a:pt x="933" y="382"/>
                  </a:lnTo>
                  <a:lnTo>
                    <a:pt x="919" y="392"/>
                  </a:lnTo>
                  <a:lnTo>
                    <a:pt x="891" y="411"/>
                  </a:lnTo>
                  <a:lnTo>
                    <a:pt x="858" y="430"/>
                  </a:lnTo>
                  <a:lnTo>
                    <a:pt x="822" y="445"/>
                  </a:lnTo>
                  <a:lnTo>
                    <a:pt x="783" y="459"/>
                  </a:lnTo>
                  <a:lnTo>
                    <a:pt x="743" y="472"/>
                  </a:lnTo>
                  <a:lnTo>
                    <a:pt x="699" y="483"/>
                  </a:lnTo>
                  <a:lnTo>
                    <a:pt x="652" y="492"/>
                  </a:lnTo>
                  <a:lnTo>
                    <a:pt x="604" y="497"/>
                  </a:lnTo>
                  <a:lnTo>
                    <a:pt x="554" y="502"/>
                  </a:lnTo>
                  <a:lnTo>
                    <a:pt x="503" y="503"/>
                  </a:lnTo>
                  <a:lnTo>
                    <a:pt x="451" y="502"/>
                  </a:lnTo>
                  <a:lnTo>
                    <a:pt x="402" y="497"/>
                  </a:lnTo>
                  <a:lnTo>
                    <a:pt x="354" y="492"/>
                  </a:lnTo>
                  <a:lnTo>
                    <a:pt x="307" y="483"/>
                  </a:lnTo>
                  <a:lnTo>
                    <a:pt x="263" y="472"/>
                  </a:lnTo>
                  <a:lnTo>
                    <a:pt x="223" y="459"/>
                  </a:lnTo>
                  <a:lnTo>
                    <a:pt x="183" y="445"/>
                  </a:lnTo>
                  <a:lnTo>
                    <a:pt x="148" y="430"/>
                  </a:lnTo>
                  <a:lnTo>
                    <a:pt x="115" y="411"/>
                  </a:lnTo>
                  <a:lnTo>
                    <a:pt x="86" y="392"/>
                  </a:lnTo>
                  <a:lnTo>
                    <a:pt x="73" y="382"/>
                  </a:lnTo>
                  <a:lnTo>
                    <a:pt x="60" y="372"/>
                  </a:lnTo>
                  <a:lnTo>
                    <a:pt x="51" y="361"/>
                  </a:lnTo>
                  <a:lnTo>
                    <a:pt x="39" y="349"/>
                  </a:lnTo>
                  <a:lnTo>
                    <a:pt x="31" y="338"/>
                  </a:lnTo>
                  <a:lnTo>
                    <a:pt x="22" y="327"/>
                  </a:lnTo>
                  <a:lnTo>
                    <a:pt x="17" y="314"/>
                  </a:lnTo>
                  <a:lnTo>
                    <a:pt x="11" y="301"/>
                  </a:lnTo>
                  <a:lnTo>
                    <a:pt x="7" y="290"/>
                  </a:lnTo>
                  <a:lnTo>
                    <a:pt x="3" y="277"/>
                  </a:lnTo>
                  <a:lnTo>
                    <a:pt x="1" y="265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892080" y="5154840"/>
              <a:ext cx="108000" cy="29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4" name="Freeform 12"/>
            <p:cNvSpPr/>
            <p:nvPr/>
          </p:nvSpPr>
          <p:spPr>
            <a:xfrm>
              <a:off x="779400" y="4310280"/>
              <a:ext cx="2386080" cy="931680"/>
            </a:xfrm>
            <a:custGeom>
              <a:avLst/>
              <a:gdLst>
                <a:gd name="textAreaLeft" fmla="*/ 0 w 2386080"/>
                <a:gd name="textAreaRight" fmla="*/ 2386440 w 238608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005" h="754">
                  <a:moveTo>
                    <a:pt x="1005" y="503"/>
                  </a:moveTo>
                  <a:lnTo>
                    <a:pt x="1005" y="503"/>
                  </a:lnTo>
                  <a:lnTo>
                    <a:pt x="1005" y="516"/>
                  </a:lnTo>
                  <a:lnTo>
                    <a:pt x="1002" y="528"/>
                  </a:lnTo>
                  <a:lnTo>
                    <a:pt x="999" y="541"/>
                  </a:lnTo>
                  <a:lnTo>
                    <a:pt x="995" y="554"/>
                  </a:lnTo>
                  <a:lnTo>
                    <a:pt x="989" y="565"/>
                  </a:lnTo>
                  <a:lnTo>
                    <a:pt x="982" y="578"/>
                  </a:lnTo>
                  <a:lnTo>
                    <a:pt x="975" y="589"/>
                  </a:lnTo>
                  <a:lnTo>
                    <a:pt x="965" y="600"/>
                  </a:lnTo>
                  <a:lnTo>
                    <a:pt x="955" y="612"/>
                  </a:lnTo>
                  <a:lnTo>
                    <a:pt x="944" y="623"/>
                  </a:lnTo>
                  <a:lnTo>
                    <a:pt x="933" y="633"/>
                  </a:lnTo>
                  <a:lnTo>
                    <a:pt x="919" y="643"/>
                  </a:lnTo>
                  <a:lnTo>
                    <a:pt x="891" y="662"/>
                  </a:lnTo>
                  <a:lnTo>
                    <a:pt x="858" y="681"/>
                  </a:lnTo>
                  <a:lnTo>
                    <a:pt x="822" y="696"/>
                  </a:lnTo>
                  <a:lnTo>
                    <a:pt x="783" y="712"/>
                  </a:lnTo>
                  <a:lnTo>
                    <a:pt x="743" y="723"/>
                  </a:lnTo>
                  <a:lnTo>
                    <a:pt x="699" y="734"/>
                  </a:lnTo>
                  <a:lnTo>
                    <a:pt x="652" y="743"/>
                  </a:lnTo>
                  <a:lnTo>
                    <a:pt x="604" y="748"/>
                  </a:lnTo>
                  <a:lnTo>
                    <a:pt x="554" y="752"/>
                  </a:lnTo>
                  <a:lnTo>
                    <a:pt x="503" y="754"/>
                  </a:lnTo>
                  <a:lnTo>
                    <a:pt x="451" y="752"/>
                  </a:lnTo>
                  <a:lnTo>
                    <a:pt x="402" y="748"/>
                  </a:lnTo>
                  <a:lnTo>
                    <a:pt x="354" y="743"/>
                  </a:lnTo>
                  <a:lnTo>
                    <a:pt x="307" y="734"/>
                  </a:lnTo>
                  <a:lnTo>
                    <a:pt x="263" y="723"/>
                  </a:lnTo>
                  <a:lnTo>
                    <a:pt x="223" y="712"/>
                  </a:lnTo>
                  <a:lnTo>
                    <a:pt x="183" y="696"/>
                  </a:lnTo>
                  <a:lnTo>
                    <a:pt x="148" y="681"/>
                  </a:lnTo>
                  <a:lnTo>
                    <a:pt x="115" y="662"/>
                  </a:lnTo>
                  <a:lnTo>
                    <a:pt x="86" y="643"/>
                  </a:lnTo>
                  <a:lnTo>
                    <a:pt x="73" y="633"/>
                  </a:lnTo>
                  <a:lnTo>
                    <a:pt x="60" y="623"/>
                  </a:lnTo>
                  <a:lnTo>
                    <a:pt x="51" y="612"/>
                  </a:lnTo>
                  <a:lnTo>
                    <a:pt x="39" y="600"/>
                  </a:lnTo>
                  <a:lnTo>
                    <a:pt x="31" y="589"/>
                  </a:lnTo>
                  <a:lnTo>
                    <a:pt x="22" y="578"/>
                  </a:lnTo>
                  <a:lnTo>
                    <a:pt x="17" y="565"/>
                  </a:lnTo>
                  <a:lnTo>
                    <a:pt x="11" y="554"/>
                  </a:lnTo>
                  <a:lnTo>
                    <a:pt x="7" y="541"/>
                  </a:lnTo>
                  <a:lnTo>
                    <a:pt x="3" y="528"/>
                  </a:lnTo>
                  <a:lnTo>
                    <a:pt x="1" y="516"/>
                  </a:lnTo>
                  <a:lnTo>
                    <a:pt x="0" y="503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lnTo>
                    <a:pt x="1005" y="503"/>
                  </a:lnTo>
                  <a:close/>
                </a:path>
              </a:pathLst>
            </a:custGeom>
            <a:gradFill rotWithShape="0">
              <a:gsLst>
                <a:gs pos="0">
                  <a:srgbClr val="285064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5" name="Freeform 13"/>
            <p:cNvSpPr/>
            <p:nvPr/>
          </p:nvSpPr>
          <p:spPr>
            <a:xfrm>
              <a:off x="779400" y="4310280"/>
              <a:ext cx="2386080" cy="620640"/>
            </a:xfrm>
            <a:custGeom>
              <a:avLst/>
              <a:gdLst>
                <a:gd name="textAreaLeft" fmla="*/ 0 w 2386080"/>
                <a:gd name="textAreaRight" fmla="*/ 2386440 w 238608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1005" h="503">
                  <a:moveTo>
                    <a:pt x="1005" y="252"/>
                  </a:moveTo>
                  <a:lnTo>
                    <a:pt x="1005" y="252"/>
                  </a:lnTo>
                  <a:lnTo>
                    <a:pt x="1005" y="265"/>
                  </a:lnTo>
                  <a:lnTo>
                    <a:pt x="1002" y="277"/>
                  </a:lnTo>
                  <a:lnTo>
                    <a:pt x="999" y="290"/>
                  </a:lnTo>
                  <a:lnTo>
                    <a:pt x="995" y="301"/>
                  </a:lnTo>
                  <a:lnTo>
                    <a:pt x="989" y="314"/>
                  </a:lnTo>
                  <a:lnTo>
                    <a:pt x="982" y="327"/>
                  </a:lnTo>
                  <a:lnTo>
                    <a:pt x="975" y="338"/>
                  </a:lnTo>
                  <a:lnTo>
                    <a:pt x="965" y="349"/>
                  </a:lnTo>
                  <a:lnTo>
                    <a:pt x="955" y="361"/>
                  </a:lnTo>
                  <a:lnTo>
                    <a:pt x="944" y="372"/>
                  </a:lnTo>
                  <a:lnTo>
                    <a:pt x="933" y="382"/>
                  </a:lnTo>
                  <a:lnTo>
                    <a:pt x="919" y="392"/>
                  </a:lnTo>
                  <a:lnTo>
                    <a:pt x="891" y="411"/>
                  </a:lnTo>
                  <a:lnTo>
                    <a:pt x="858" y="430"/>
                  </a:lnTo>
                  <a:lnTo>
                    <a:pt x="822" y="445"/>
                  </a:lnTo>
                  <a:lnTo>
                    <a:pt x="783" y="459"/>
                  </a:lnTo>
                  <a:lnTo>
                    <a:pt x="743" y="472"/>
                  </a:lnTo>
                  <a:lnTo>
                    <a:pt x="699" y="483"/>
                  </a:lnTo>
                  <a:lnTo>
                    <a:pt x="652" y="492"/>
                  </a:lnTo>
                  <a:lnTo>
                    <a:pt x="604" y="497"/>
                  </a:lnTo>
                  <a:lnTo>
                    <a:pt x="554" y="502"/>
                  </a:lnTo>
                  <a:lnTo>
                    <a:pt x="503" y="503"/>
                  </a:lnTo>
                  <a:lnTo>
                    <a:pt x="451" y="502"/>
                  </a:lnTo>
                  <a:lnTo>
                    <a:pt x="402" y="497"/>
                  </a:lnTo>
                  <a:lnTo>
                    <a:pt x="354" y="492"/>
                  </a:lnTo>
                  <a:lnTo>
                    <a:pt x="307" y="483"/>
                  </a:lnTo>
                  <a:lnTo>
                    <a:pt x="263" y="472"/>
                  </a:lnTo>
                  <a:lnTo>
                    <a:pt x="223" y="459"/>
                  </a:lnTo>
                  <a:lnTo>
                    <a:pt x="183" y="445"/>
                  </a:lnTo>
                  <a:lnTo>
                    <a:pt x="148" y="430"/>
                  </a:lnTo>
                  <a:lnTo>
                    <a:pt x="115" y="411"/>
                  </a:lnTo>
                  <a:lnTo>
                    <a:pt x="86" y="392"/>
                  </a:lnTo>
                  <a:lnTo>
                    <a:pt x="73" y="382"/>
                  </a:lnTo>
                  <a:lnTo>
                    <a:pt x="60" y="372"/>
                  </a:lnTo>
                  <a:lnTo>
                    <a:pt x="51" y="361"/>
                  </a:lnTo>
                  <a:lnTo>
                    <a:pt x="39" y="349"/>
                  </a:lnTo>
                  <a:lnTo>
                    <a:pt x="31" y="338"/>
                  </a:lnTo>
                  <a:lnTo>
                    <a:pt x="22" y="327"/>
                  </a:lnTo>
                  <a:lnTo>
                    <a:pt x="17" y="314"/>
                  </a:lnTo>
                  <a:lnTo>
                    <a:pt x="11" y="301"/>
                  </a:lnTo>
                  <a:lnTo>
                    <a:pt x="7" y="290"/>
                  </a:lnTo>
                  <a:lnTo>
                    <a:pt x="3" y="277"/>
                  </a:lnTo>
                  <a:lnTo>
                    <a:pt x="1" y="265"/>
                  </a:lnTo>
                  <a:lnTo>
                    <a:pt x="0" y="252"/>
                  </a:lnTo>
                  <a:lnTo>
                    <a:pt x="1" y="238"/>
                  </a:lnTo>
                  <a:lnTo>
                    <a:pt x="3" y="225"/>
                  </a:lnTo>
                  <a:lnTo>
                    <a:pt x="7" y="213"/>
                  </a:lnTo>
                  <a:lnTo>
                    <a:pt x="11" y="201"/>
                  </a:lnTo>
                  <a:lnTo>
                    <a:pt x="17" y="189"/>
                  </a:lnTo>
                  <a:lnTo>
                    <a:pt x="22" y="177"/>
                  </a:lnTo>
                  <a:lnTo>
                    <a:pt x="31" y="165"/>
                  </a:lnTo>
                  <a:lnTo>
                    <a:pt x="39" y="153"/>
                  </a:lnTo>
                  <a:lnTo>
                    <a:pt x="51" y="142"/>
                  </a:lnTo>
                  <a:lnTo>
                    <a:pt x="60" y="132"/>
                  </a:lnTo>
                  <a:lnTo>
                    <a:pt x="73" y="121"/>
                  </a:lnTo>
                  <a:lnTo>
                    <a:pt x="86" y="111"/>
                  </a:lnTo>
                  <a:lnTo>
                    <a:pt x="115" y="91"/>
                  </a:lnTo>
                  <a:lnTo>
                    <a:pt x="148" y="75"/>
                  </a:lnTo>
                  <a:lnTo>
                    <a:pt x="183" y="58"/>
                  </a:lnTo>
                  <a:lnTo>
                    <a:pt x="223" y="44"/>
                  </a:lnTo>
                  <a:lnTo>
                    <a:pt x="263" y="31"/>
                  </a:lnTo>
                  <a:lnTo>
                    <a:pt x="307" y="20"/>
                  </a:lnTo>
                  <a:lnTo>
                    <a:pt x="354" y="11"/>
                  </a:lnTo>
                  <a:lnTo>
                    <a:pt x="402" y="5"/>
                  </a:lnTo>
                  <a:lnTo>
                    <a:pt x="451" y="1"/>
                  </a:lnTo>
                  <a:lnTo>
                    <a:pt x="503" y="0"/>
                  </a:lnTo>
                  <a:lnTo>
                    <a:pt x="554" y="1"/>
                  </a:lnTo>
                  <a:lnTo>
                    <a:pt x="604" y="5"/>
                  </a:lnTo>
                  <a:lnTo>
                    <a:pt x="652" y="11"/>
                  </a:lnTo>
                  <a:lnTo>
                    <a:pt x="699" y="20"/>
                  </a:lnTo>
                  <a:lnTo>
                    <a:pt x="743" y="31"/>
                  </a:lnTo>
                  <a:lnTo>
                    <a:pt x="783" y="44"/>
                  </a:lnTo>
                  <a:lnTo>
                    <a:pt x="822" y="58"/>
                  </a:lnTo>
                  <a:lnTo>
                    <a:pt x="858" y="75"/>
                  </a:lnTo>
                  <a:lnTo>
                    <a:pt x="891" y="91"/>
                  </a:lnTo>
                  <a:lnTo>
                    <a:pt x="919" y="111"/>
                  </a:lnTo>
                  <a:lnTo>
                    <a:pt x="933" y="121"/>
                  </a:lnTo>
                  <a:lnTo>
                    <a:pt x="944" y="132"/>
                  </a:lnTo>
                  <a:lnTo>
                    <a:pt x="955" y="142"/>
                  </a:lnTo>
                  <a:lnTo>
                    <a:pt x="965" y="153"/>
                  </a:lnTo>
                  <a:lnTo>
                    <a:pt x="975" y="165"/>
                  </a:lnTo>
                  <a:lnTo>
                    <a:pt x="982" y="177"/>
                  </a:lnTo>
                  <a:lnTo>
                    <a:pt x="989" y="189"/>
                  </a:lnTo>
                  <a:lnTo>
                    <a:pt x="995" y="201"/>
                  </a:lnTo>
                  <a:lnTo>
                    <a:pt x="999" y="213"/>
                  </a:lnTo>
                  <a:lnTo>
                    <a:pt x="1002" y="225"/>
                  </a:lnTo>
                  <a:lnTo>
                    <a:pt x="1005" y="238"/>
                  </a:lnTo>
                  <a:lnTo>
                    <a:pt x="1005" y="252"/>
                  </a:ln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892080" y="4797720"/>
              <a:ext cx="108000" cy="29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7" name="Freeform 15"/>
            <p:cNvSpPr/>
            <p:nvPr/>
          </p:nvSpPr>
          <p:spPr>
            <a:xfrm rot="10800000">
              <a:off x="766440" y="4676400"/>
              <a:ext cx="2413080" cy="243000"/>
            </a:xfrm>
            <a:custGeom>
              <a:avLst/>
              <a:gdLst>
                <a:gd name="textAreaLeft" fmla="*/ 0 w 2413080"/>
                <a:gd name="textAreaRight" fmla="*/ 2413440 w 24130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8" name="Arc 16"/>
            <p:cNvSpPr/>
            <p:nvPr/>
          </p:nvSpPr>
          <p:spPr>
            <a:xfrm>
              <a:off x="1973160" y="1413000"/>
              <a:ext cx="1187640" cy="11872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1187280"/>
                <a:gd name="textAreaBottom" fmla="*/ 1187280 h 118728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be6e"/>
                </a:gs>
                <a:gs pos="100000">
                  <a:srgbClr val="f69d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9" name="Arc 17"/>
            <p:cNvSpPr/>
            <p:nvPr/>
          </p:nvSpPr>
          <p:spPr>
            <a:xfrm>
              <a:off x="1973160" y="2552760"/>
              <a:ext cx="1187640" cy="654120"/>
            </a:xfrm>
            <a:custGeom>
              <a:avLst/>
              <a:gdLst/>
              <a:ahLst/>
              <a:rect l="l" t="t" r="r" b="b"/>
              <a:pathLst>
                <a:path fill="none" w="21600" h="11907">
                  <a:moveTo>
                    <a:pt x="21580" y="-1"/>
                  </a:moveTo>
                  <a:cubicBezTo>
                    <a:pt x="21593" y="307"/>
                    <a:pt x="21600" y="614"/>
                    <a:pt x="21600" y="922"/>
                  </a:cubicBezTo>
                  <a:cubicBezTo>
                    <a:pt x="21600" y="4786"/>
                    <a:pt x="20563" y="8579"/>
                    <a:pt x="18598" y="11907"/>
                  </a:cubicBezTo>
                </a:path>
                <a:path stroke="0" w="21600" h="11907">
                  <a:moveTo>
                    <a:pt x="21580" y="-1"/>
                  </a:moveTo>
                  <a:cubicBezTo>
                    <a:pt x="21593" y="307"/>
                    <a:pt x="21600" y="614"/>
                    <a:pt x="21600" y="922"/>
                  </a:cubicBezTo>
                  <a:cubicBezTo>
                    <a:pt x="21600" y="4786"/>
                    <a:pt x="20563" y="8579"/>
                    <a:pt x="18598" y="11907"/>
                  </a:cubicBezTo>
                  <a:lnTo>
                    <a:pt x="0" y="922"/>
                  </a:lnTo>
                  <a:lnTo>
                    <a:pt x="2158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84440" y="1413000"/>
              <a:ext cx="2376360" cy="23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1" name="Line 19"/>
            <p:cNvSpPr/>
            <p:nvPr/>
          </p:nvSpPr>
          <p:spPr>
            <a:xfrm flipV="1">
              <a:off x="784440" y="2565360"/>
              <a:ext cx="0" cy="20527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2" name="Line 20"/>
            <p:cNvSpPr/>
            <p:nvPr/>
          </p:nvSpPr>
          <p:spPr>
            <a:xfrm flipV="1">
              <a:off x="3160800" y="2565360"/>
              <a:ext cx="0" cy="20527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3" name="Freeform 21"/>
            <p:cNvSpPr/>
            <p:nvPr/>
          </p:nvSpPr>
          <p:spPr>
            <a:xfrm>
              <a:off x="892080" y="1462320"/>
              <a:ext cx="2160720" cy="77940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4" name="WordArt 22"/>
            <p:cNvSpPr txBox="1"/>
            <p:nvPr/>
          </p:nvSpPr>
          <p:spPr>
            <a:xfrm>
              <a:off x="1216080" y="4942080"/>
              <a:ext cx="151128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Design Inspiration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5" name="WordArt 23"/>
            <p:cNvSpPr txBox="1"/>
            <p:nvPr/>
          </p:nvSpPr>
          <p:spPr>
            <a:xfrm>
              <a:off x="1287360" y="5302440"/>
              <a:ext cx="136872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arity &amp; Impac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6" name="WordArt 24"/>
            <p:cNvSpPr txBox="1"/>
            <p:nvPr/>
          </p:nvSpPr>
          <p:spPr>
            <a:xfrm>
              <a:off x="1287360" y="5661000"/>
              <a:ext cx="136872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Premium Design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7" name="Freeform 25"/>
            <p:cNvSpPr/>
            <p:nvPr/>
          </p:nvSpPr>
          <p:spPr>
            <a:xfrm>
              <a:off x="2511360" y="1521000"/>
              <a:ext cx="5654880" cy="576360"/>
            </a:xfrm>
            <a:custGeom>
              <a:avLst/>
              <a:gdLst>
                <a:gd name="textAreaLeft" fmla="*/ 0 w 5654880"/>
                <a:gd name="textAreaRight" fmla="*/ 5654880 w 56548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3198" h="363">
                  <a:moveTo>
                    <a:pt x="0" y="363"/>
                  </a:moveTo>
                  <a:lnTo>
                    <a:pt x="363" y="0"/>
                  </a:lnTo>
                  <a:lnTo>
                    <a:pt x="3198" y="0"/>
                  </a:lnTo>
                </a:path>
              </a:pathLst>
            </a:custGeom>
            <a:noFill/>
            <a:ln w="25560">
              <a:solidFill>
                <a:srgbClr val="333333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8" name="Line 26"/>
            <p:cNvSpPr/>
            <p:nvPr/>
          </p:nvSpPr>
          <p:spPr>
            <a:xfrm>
              <a:off x="2873520" y="2818080"/>
              <a:ext cx="5292720" cy="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9" name="Freeform 27"/>
            <p:cNvSpPr/>
            <p:nvPr/>
          </p:nvSpPr>
          <p:spPr>
            <a:xfrm>
              <a:off x="2195640" y="3292560"/>
              <a:ext cx="5976720" cy="611280"/>
            </a:xfrm>
            <a:custGeom>
              <a:avLst/>
              <a:gdLst>
                <a:gd name="textAreaLeft" fmla="*/ 0 w 5976720"/>
                <a:gd name="textAreaRight" fmla="*/ 5977080 w 5976720"/>
                <a:gd name="textAreaTop" fmla="*/ 0 h 611280"/>
                <a:gd name="textAreaBottom" fmla="*/ 611280 h 611280"/>
              </a:gdLst>
              <a:ahLst/>
              <a:rect l="textAreaLeft" t="textAreaTop" r="textAreaRight" b="textAreaBottom"/>
              <a:pathLst>
                <a:path w="3356" h="385">
                  <a:moveTo>
                    <a:pt x="0" y="0"/>
                  </a:moveTo>
                  <a:lnTo>
                    <a:pt x="385" y="385"/>
                  </a:lnTo>
                  <a:lnTo>
                    <a:pt x="3356" y="385"/>
                  </a:lnTo>
                </a:path>
              </a:pathLst>
            </a:custGeom>
            <a:noFill/>
            <a:ln w="25560">
              <a:solidFill>
                <a:srgbClr val="333333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0" name="Text Box 28"/>
            <p:cNvSpPr/>
            <p:nvPr/>
          </p:nvSpPr>
          <p:spPr>
            <a:xfrm>
              <a:off x="4932360" y="1594080"/>
              <a:ext cx="3240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 Black"/>
                </a:rPr>
                <a:t>Stylish templates can b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 Black"/>
                </a:rPr>
                <a:t>a valuable aid to creative professionals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1" name="Text Box 29"/>
            <p:cNvSpPr/>
            <p:nvPr/>
          </p:nvSpPr>
          <p:spPr>
            <a:xfrm>
              <a:off x="4932360" y="2390760"/>
              <a:ext cx="3240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 Black"/>
                </a:rPr>
                <a:t>Enrich your powerpoint Presentations and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 Black"/>
                </a:rPr>
                <a:t> </a:t>
              </a:r>
              <a:r>
                <a:rPr b="0" lang="en-US" sz="1000" spc="-1" strike="noStrike">
                  <a:solidFill>
                    <a:srgbClr val="333333"/>
                  </a:solidFill>
                  <a:latin typeface="Arial Black"/>
                </a:rPr>
                <a:t>captivate your viewing audienc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2" name="Text Box 30"/>
            <p:cNvSpPr/>
            <p:nvPr/>
          </p:nvSpPr>
          <p:spPr>
            <a:xfrm>
              <a:off x="4932360" y="3471840"/>
              <a:ext cx="3240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 Black"/>
                </a:rPr>
                <a:t>Each work is featured with simplicit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Arial Black"/>
                </a:rPr>
                <a:t>but supreme beaut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3652920" y="4077000"/>
              <a:ext cx="4519440" cy="1800000"/>
              <a:chOff x="3652920" y="4077000"/>
              <a:chExt cx="4519440" cy="1800000"/>
            </a:xfrm>
          </p:grpSpPr>
          <p:sp>
            <p:nvSpPr>
              <p:cNvPr id="824" name="AutoShape 32"/>
              <p:cNvSpPr/>
              <p:nvPr/>
            </p:nvSpPr>
            <p:spPr>
              <a:xfrm>
                <a:off x="3652920" y="4077000"/>
                <a:ext cx="4464000" cy="1800000"/>
              </a:xfrm>
              <a:prstGeom prst="roundRect">
                <a:avLst>
                  <a:gd name="adj" fmla="val 4171"/>
                </a:avLst>
              </a:prstGeom>
              <a:solidFill>
                <a:srgbClr val="c0c0c0">
                  <a:alpha val="25000"/>
                </a:srgbClr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5" name="AutoShape 33"/>
              <p:cNvSpPr/>
              <p:nvPr/>
            </p:nvSpPr>
            <p:spPr>
              <a:xfrm>
                <a:off x="3772080" y="4284720"/>
                <a:ext cx="4209840" cy="3949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6" name="AutoShape 34"/>
              <p:cNvSpPr/>
              <p:nvPr/>
            </p:nvSpPr>
            <p:spPr>
              <a:xfrm>
                <a:off x="3772080" y="5013360"/>
                <a:ext cx="4209840" cy="3949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7" name="Text Box 35"/>
              <p:cNvSpPr/>
              <p:nvPr/>
            </p:nvSpPr>
            <p:spPr>
              <a:xfrm>
                <a:off x="3881520" y="5429160"/>
                <a:ext cx="429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33"/>
                    </a:solidFill>
                    <a:latin typeface="Arial"/>
                  </a:rPr>
                  <a:t>Catch The feel of Design in contemporary colors and styles.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8" name="Rectangle 36"/>
              <p:cNvSpPr/>
              <p:nvPr/>
            </p:nvSpPr>
            <p:spPr>
              <a:xfrm>
                <a:off x="3871440" y="4668840"/>
                <a:ext cx="3230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33"/>
                    </a:solidFill>
                    <a:latin typeface="Arial"/>
                  </a:rPr>
                  <a:t>Feel the touch of Design on the cutting edge.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9" name="Rectangle 37"/>
              <p:cNvSpPr/>
              <p:nvPr/>
            </p:nvSpPr>
            <p:spPr>
              <a:xfrm>
                <a:off x="4078800" y="4292640"/>
                <a:ext cx="233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 Black"/>
                  </a:rPr>
                  <a:t>Creative Visual Aids!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0" name="Rectangle 38"/>
              <p:cNvSpPr/>
              <p:nvPr/>
            </p:nvSpPr>
            <p:spPr>
              <a:xfrm>
                <a:off x="4133160" y="5045040"/>
                <a:ext cx="316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 Black"/>
                  </a:rPr>
                  <a:t>Pictures speak 1,000 words!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831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24000" y="1384200"/>
            <a:ext cx="8605800" cy="4997520"/>
            <a:chOff x="324000" y="1384200"/>
            <a:chExt cx="8605800" cy="4997520"/>
          </a:xfrm>
        </p:grpSpPr>
        <p:sp>
          <p:nvSpPr>
            <p:cNvPr id="834" name="AutoShape 4"/>
            <p:cNvSpPr/>
            <p:nvPr/>
          </p:nvSpPr>
          <p:spPr>
            <a:xfrm>
              <a:off x="324000" y="3784680"/>
              <a:ext cx="2665440" cy="49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5" name="AutoShape 5"/>
            <p:cNvSpPr/>
            <p:nvPr/>
          </p:nvSpPr>
          <p:spPr>
            <a:xfrm>
              <a:off x="2038680" y="1812960"/>
              <a:ext cx="2665080" cy="49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6" name="AutoShape 6"/>
            <p:cNvSpPr/>
            <p:nvPr/>
          </p:nvSpPr>
          <p:spPr>
            <a:xfrm>
              <a:off x="2324160" y="1384200"/>
              <a:ext cx="2144880" cy="682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0cf"/>
                </a:gs>
                <a:gs pos="100000">
                  <a:srgbClr val="a395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7" name="AutoShape 7"/>
            <p:cNvSpPr/>
            <p:nvPr/>
          </p:nvSpPr>
          <p:spPr>
            <a:xfrm>
              <a:off x="2421000" y="1474560"/>
              <a:ext cx="1954440" cy="49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8" name="AutoShape 8"/>
            <p:cNvSpPr/>
            <p:nvPr/>
          </p:nvSpPr>
          <p:spPr>
            <a:xfrm>
              <a:off x="4513320" y="1812960"/>
              <a:ext cx="2665440" cy="49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9" name="AutoShape 9"/>
            <p:cNvSpPr/>
            <p:nvPr/>
          </p:nvSpPr>
          <p:spPr>
            <a:xfrm>
              <a:off x="4658040" y="1384200"/>
              <a:ext cx="2092320" cy="682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3f6c2"/>
                </a:gs>
                <a:gs pos="100000">
                  <a:srgbClr val="97a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0" name="AutoShape 10"/>
            <p:cNvSpPr/>
            <p:nvPr/>
          </p:nvSpPr>
          <p:spPr>
            <a:xfrm>
              <a:off x="4753080" y="1474560"/>
              <a:ext cx="1903320" cy="49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1" name="Oval 11"/>
            <p:cNvSpPr/>
            <p:nvPr/>
          </p:nvSpPr>
          <p:spPr>
            <a:xfrm>
              <a:off x="3132360" y="4606920"/>
              <a:ext cx="2820960" cy="1154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3137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2" name="AutoShape 12"/>
            <p:cNvSpPr/>
            <p:nvPr/>
          </p:nvSpPr>
          <p:spPr>
            <a:xfrm>
              <a:off x="2038680" y="5886360"/>
              <a:ext cx="2665080" cy="49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3" name="AutoShape 13"/>
            <p:cNvSpPr/>
            <p:nvPr/>
          </p:nvSpPr>
          <p:spPr>
            <a:xfrm>
              <a:off x="2324160" y="5457600"/>
              <a:ext cx="2144880" cy="68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3f6c2"/>
                </a:gs>
                <a:gs pos="100000">
                  <a:srgbClr val="97a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4" name="AutoShape 14"/>
            <p:cNvSpPr/>
            <p:nvPr/>
          </p:nvSpPr>
          <p:spPr>
            <a:xfrm>
              <a:off x="2421000" y="5548320"/>
              <a:ext cx="1954440" cy="49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5" name="AutoShape 15"/>
            <p:cNvSpPr/>
            <p:nvPr/>
          </p:nvSpPr>
          <p:spPr>
            <a:xfrm>
              <a:off x="4513320" y="5886360"/>
              <a:ext cx="2665440" cy="49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6" name="AutoShape 16"/>
            <p:cNvSpPr/>
            <p:nvPr/>
          </p:nvSpPr>
          <p:spPr>
            <a:xfrm>
              <a:off x="4658040" y="5457600"/>
              <a:ext cx="2092320" cy="68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e0cf"/>
                </a:gs>
                <a:gs pos="100000">
                  <a:srgbClr val="a395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7" name="AutoShape 17"/>
            <p:cNvSpPr/>
            <p:nvPr/>
          </p:nvSpPr>
          <p:spPr>
            <a:xfrm>
              <a:off x="4753080" y="5548320"/>
              <a:ext cx="1903320" cy="49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8" name="AutoShape 18"/>
            <p:cNvSpPr/>
            <p:nvPr/>
          </p:nvSpPr>
          <p:spPr>
            <a:xfrm>
              <a:off x="574920" y="3355920"/>
              <a:ext cx="2144520" cy="682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3f6c2"/>
                </a:gs>
                <a:gs pos="100000">
                  <a:srgbClr val="97a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9" name="AutoShape 19"/>
            <p:cNvSpPr/>
            <p:nvPr/>
          </p:nvSpPr>
          <p:spPr>
            <a:xfrm>
              <a:off x="671760" y="3446280"/>
              <a:ext cx="1954080" cy="49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0" name="AutoShape 20"/>
            <p:cNvSpPr/>
            <p:nvPr/>
          </p:nvSpPr>
          <p:spPr>
            <a:xfrm>
              <a:off x="6264360" y="3784680"/>
              <a:ext cx="2665440" cy="49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1" name="AutoShape 21"/>
            <p:cNvSpPr/>
            <p:nvPr/>
          </p:nvSpPr>
          <p:spPr>
            <a:xfrm>
              <a:off x="6408720" y="3355920"/>
              <a:ext cx="2092320" cy="682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3f6c2"/>
                </a:gs>
                <a:gs pos="100000">
                  <a:srgbClr val="97a4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2" name="AutoShape 22"/>
            <p:cNvSpPr/>
            <p:nvPr/>
          </p:nvSpPr>
          <p:spPr>
            <a:xfrm>
              <a:off x="6504120" y="3446280"/>
              <a:ext cx="1903320" cy="49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3" name="AutoShape 23"/>
            <p:cNvSpPr/>
            <p:nvPr/>
          </p:nvSpPr>
          <p:spPr>
            <a:xfrm rot="10800000">
              <a:off x="2751120" y="3301560"/>
              <a:ext cx="719280" cy="863640"/>
            </a:xfrm>
            <a:prstGeom prst="rightArrow">
              <a:avLst>
                <a:gd name="adj1" fmla="val 50000"/>
                <a:gd name="adj2" fmla="val 46139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00475e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4" name="AutoShape 24"/>
            <p:cNvSpPr/>
            <p:nvPr/>
          </p:nvSpPr>
          <p:spPr>
            <a:xfrm>
              <a:off x="5639040" y="3301920"/>
              <a:ext cx="718920" cy="863640"/>
            </a:xfrm>
            <a:prstGeom prst="rightArrow">
              <a:avLst>
                <a:gd name="adj1" fmla="val 50000"/>
                <a:gd name="adj2" fmla="val 46139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00475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5" name="WordArt 25"/>
            <p:cNvSpPr txBox="1"/>
            <p:nvPr/>
          </p:nvSpPr>
          <p:spPr>
            <a:xfrm>
              <a:off x="887400" y="3589200"/>
              <a:ext cx="158292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6" name="WordArt 26"/>
            <p:cNvSpPr txBox="1"/>
            <p:nvPr/>
          </p:nvSpPr>
          <p:spPr>
            <a:xfrm>
              <a:off x="2614680" y="5699160"/>
              <a:ext cx="15829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7" name="WordArt 27"/>
            <p:cNvSpPr txBox="1"/>
            <p:nvPr/>
          </p:nvSpPr>
          <p:spPr>
            <a:xfrm>
              <a:off x="4919760" y="5699160"/>
              <a:ext cx="15829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8" name="WordArt 28"/>
            <p:cNvSpPr txBox="1"/>
            <p:nvPr/>
          </p:nvSpPr>
          <p:spPr>
            <a:xfrm>
              <a:off x="2614680" y="1600200"/>
              <a:ext cx="15829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9" name="WordArt 29"/>
            <p:cNvSpPr txBox="1"/>
            <p:nvPr/>
          </p:nvSpPr>
          <p:spPr>
            <a:xfrm>
              <a:off x="4919760" y="1600200"/>
              <a:ext cx="15829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0" name="WordArt 30"/>
            <p:cNvSpPr txBox="1"/>
            <p:nvPr/>
          </p:nvSpPr>
          <p:spPr>
            <a:xfrm>
              <a:off x="6647040" y="3589200"/>
              <a:ext cx="15825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61" name="Freeform 31"/>
            <p:cNvSpPr/>
            <p:nvPr/>
          </p:nvSpPr>
          <p:spPr>
            <a:xfrm rot="1800000">
              <a:off x="4716720" y="2165400"/>
              <a:ext cx="1073160" cy="76176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216" h="2586">
                  <a:moveTo>
                    <a:pt x="1108" y="0"/>
                  </a:moveTo>
                  <a:lnTo>
                    <a:pt x="0" y="1108"/>
                  </a:lnTo>
                  <a:lnTo>
                    <a:pt x="554" y="1108"/>
                  </a:lnTo>
                  <a:lnTo>
                    <a:pt x="696" y="2586"/>
                  </a:lnTo>
                  <a:lnTo>
                    <a:pt x="1518" y="2586"/>
                  </a:lnTo>
                  <a:lnTo>
                    <a:pt x="1662" y="1108"/>
                  </a:lnTo>
                  <a:lnTo>
                    <a:pt x="2216" y="1108"/>
                  </a:lnTo>
                  <a:lnTo>
                    <a:pt x="110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00475e">
                    <a:alpha val="0"/>
                  </a:srgbClr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2" name="Freeform 32"/>
            <p:cNvSpPr/>
            <p:nvPr/>
          </p:nvSpPr>
          <p:spPr>
            <a:xfrm rot="20700000">
              <a:off x="3348360" y="2108160"/>
              <a:ext cx="1072800" cy="762120"/>
            </a:xfrm>
            <a:custGeom>
              <a:avLst/>
              <a:gdLst>
                <a:gd name="textAreaLeft" fmla="*/ 0 w 1072800"/>
                <a:gd name="textAreaRight" fmla="*/ 1073160 w 10728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216" h="2586">
                  <a:moveTo>
                    <a:pt x="1108" y="0"/>
                  </a:moveTo>
                  <a:lnTo>
                    <a:pt x="0" y="1108"/>
                  </a:lnTo>
                  <a:lnTo>
                    <a:pt x="554" y="1108"/>
                  </a:lnTo>
                  <a:lnTo>
                    <a:pt x="696" y="2586"/>
                  </a:lnTo>
                  <a:lnTo>
                    <a:pt x="1518" y="2586"/>
                  </a:lnTo>
                  <a:lnTo>
                    <a:pt x="1662" y="1108"/>
                  </a:lnTo>
                  <a:lnTo>
                    <a:pt x="2216" y="1108"/>
                  </a:lnTo>
                  <a:lnTo>
                    <a:pt x="110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00475e">
                    <a:alpha val="0"/>
                  </a:srgbClr>
                </a:gs>
              </a:gsLst>
              <a:lin ang="6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3" name="Freeform 33"/>
            <p:cNvSpPr/>
            <p:nvPr/>
          </p:nvSpPr>
          <p:spPr>
            <a:xfrm rot="9000000">
              <a:off x="5003280" y="4612680"/>
              <a:ext cx="1073160" cy="76212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216" h="2586">
                  <a:moveTo>
                    <a:pt x="1108" y="0"/>
                  </a:moveTo>
                  <a:lnTo>
                    <a:pt x="0" y="1108"/>
                  </a:lnTo>
                  <a:lnTo>
                    <a:pt x="554" y="1108"/>
                  </a:lnTo>
                  <a:lnTo>
                    <a:pt x="696" y="2586"/>
                  </a:lnTo>
                  <a:lnTo>
                    <a:pt x="1518" y="2586"/>
                  </a:lnTo>
                  <a:lnTo>
                    <a:pt x="1662" y="1108"/>
                  </a:lnTo>
                  <a:lnTo>
                    <a:pt x="2216" y="1108"/>
                  </a:lnTo>
                  <a:lnTo>
                    <a:pt x="110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00475e">
                    <a:alpha val="0"/>
                  </a:srgbClr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4" name="Freeform 34"/>
            <p:cNvSpPr/>
            <p:nvPr/>
          </p:nvSpPr>
          <p:spPr>
            <a:xfrm rot="12600000">
              <a:off x="3003120" y="4612320"/>
              <a:ext cx="1073160" cy="76212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216" h="2586">
                  <a:moveTo>
                    <a:pt x="1108" y="0"/>
                  </a:moveTo>
                  <a:lnTo>
                    <a:pt x="0" y="1108"/>
                  </a:lnTo>
                  <a:lnTo>
                    <a:pt x="554" y="1108"/>
                  </a:lnTo>
                  <a:lnTo>
                    <a:pt x="696" y="2586"/>
                  </a:lnTo>
                  <a:lnTo>
                    <a:pt x="1518" y="2586"/>
                  </a:lnTo>
                  <a:lnTo>
                    <a:pt x="1662" y="1108"/>
                  </a:lnTo>
                  <a:lnTo>
                    <a:pt x="2216" y="1108"/>
                  </a:lnTo>
                  <a:lnTo>
                    <a:pt x="110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00475e">
                    <a:alpha val="0"/>
                  </a:srgbClr>
                </a:gs>
              </a:gsLst>
              <a:lin ang="14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5" name="Oval 35"/>
            <p:cNvSpPr/>
            <p:nvPr/>
          </p:nvSpPr>
          <p:spPr>
            <a:xfrm>
              <a:off x="3132360" y="2381040"/>
              <a:ext cx="2803320" cy="2818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866" name="Picture 36" descr="그림1"/>
            <p:cNvPicPr/>
            <p:nvPr/>
          </p:nvPicPr>
          <p:blipFill>
            <a:blip r:embed="rId1"/>
            <a:stretch/>
          </p:blipFill>
          <p:spPr>
            <a:xfrm>
              <a:off x="3122640" y="2371680"/>
              <a:ext cx="281952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Oval 37"/>
            <p:cNvSpPr/>
            <p:nvPr/>
          </p:nvSpPr>
          <p:spPr>
            <a:xfrm>
              <a:off x="4276800" y="2413080"/>
              <a:ext cx="490680" cy="490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68" name=""/>
            <p:cNvGrpSpPr/>
            <p:nvPr/>
          </p:nvGrpSpPr>
          <p:grpSpPr>
            <a:xfrm>
              <a:off x="3695760" y="3230640"/>
              <a:ext cx="1655640" cy="1090080"/>
              <a:chOff x="3695760" y="3230640"/>
              <a:chExt cx="1655640" cy="1090080"/>
            </a:xfrm>
          </p:grpSpPr>
          <p:sp>
            <p:nvSpPr>
              <p:cNvPr id="869" name="WordArt 39"/>
              <p:cNvSpPr txBox="1"/>
              <p:nvPr/>
            </p:nvSpPr>
            <p:spPr>
              <a:xfrm>
                <a:off x="3907080" y="3230640"/>
                <a:ext cx="1237320" cy="367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70" name="WordArt 40"/>
              <p:cNvSpPr txBox="1"/>
              <p:nvPr/>
            </p:nvSpPr>
            <p:spPr>
              <a:xfrm>
                <a:off x="3695760" y="3700800"/>
                <a:ext cx="1655640" cy="619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871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Edit Title Style 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9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846000" y="1455840"/>
            <a:ext cx="7488360" cy="4349160"/>
            <a:chOff x="846000" y="1455840"/>
            <a:chExt cx="7488360" cy="4349160"/>
          </a:xfrm>
        </p:grpSpPr>
        <p:sp>
          <p:nvSpPr>
            <p:cNvPr id="873" name="Line 3"/>
            <p:cNvSpPr/>
            <p:nvPr/>
          </p:nvSpPr>
          <p:spPr>
            <a:xfrm flipV="1">
              <a:off x="4606920" y="3282840"/>
              <a:ext cx="0" cy="11520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 flipH="1">
              <a:off x="6588000" y="3282840"/>
              <a:ext cx="503280" cy="129492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318" h="816">
                  <a:moveTo>
                    <a:pt x="318" y="816"/>
                  </a:moveTo>
                  <a:lnTo>
                    <a:pt x="0" y="816"/>
                  </a:lnTo>
                  <a:lnTo>
                    <a:pt x="0" y="0"/>
                  </a:lnTo>
                </a:path>
              </a:pathLst>
            </a:custGeom>
            <a:noFill/>
            <a:ln w="63360">
              <a:solidFill>
                <a:srgbClr val="0099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5" name="Freeform 5"/>
            <p:cNvSpPr/>
            <p:nvPr/>
          </p:nvSpPr>
          <p:spPr>
            <a:xfrm>
              <a:off x="2050920" y="3282840"/>
              <a:ext cx="504720" cy="129492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318" h="816">
                  <a:moveTo>
                    <a:pt x="318" y="816"/>
                  </a:moveTo>
                  <a:lnTo>
                    <a:pt x="0" y="816"/>
                  </a:lnTo>
                  <a:lnTo>
                    <a:pt x="0" y="0"/>
                  </a:lnTo>
                </a:path>
              </a:pathLst>
            </a:custGeom>
            <a:noFill/>
            <a:ln w="633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6" name="AutoShape 6"/>
            <p:cNvSpPr/>
            <p:nvPr/>
          </p:nvSpPr>
          <p:spPr>
            <a:xfrm>
              <a:off x="846000" y="1455840"/>
              <a:ext cx="7488360" cy="1785600"/>
            </a:xfrm>
            <a:prstGeom prst="roundRect">
              <a:avLst>
                <a:gd name="adj" fmla="val 12343"/>
              </a:avLst>
            </a:prstGeom>
            <a:solidFill>
              <a:srgbClr val="c0c0c0">
                <a:alpha val="25000"/>
              </a:srgbClr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7" name="AutoShape 7"/>
            <p:cNvSpPr/>
            <p:nvPr/>
          </p:nvSpPr>
          <p:spPr>
            <a:xfrm>
              <a:off x="931680" y="1577880"/>
              <a:ext cx="2382840" cy="1532880"/>
            </a:xfrm>
            <a:prstGeom prst="roundRect">
              <a:avLst>
                <a:gd name="adj" fmla="val 11417"/>
              </a:avLst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8" name="AutoShape 8"/>
            <p:cNvSpPr/>
            <p:nvPr/>
          </p:nvSpPr>
          <p:spPr>
            <a:xfrm>
              <a:off x="3398760" y="1577880"/>
              <a:ext cx="2382840" cy="1532880"/>
            </a:xfrm>
            <a:prstGeom prst="roundRect">
              <a:avLst>
                <a:gd name="adj" fmla="val 1141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9" name="AutoShape 9"/>
            <p:cNvSpPr/>
            <p:nvPr/>
          </p:nvSpPr>
          <p:spPr>
            <a:xfrm>
              <a:off x="5867280" y="1577880"/>
              <a:ext cx="2382840" cy="1532880"/>
            </a:xfrm>
            <a:prstGeom prst="roundRect">
              <a:avLst>
                <a:gd name="adj" fmla="val 11417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3941640" y="1854000"/>
              <a:ext cx="1368000" cy="900720"/>
              <a:chOff x="3941640" y="1854000"/>
              <a:chExt cx="1368000" cy="900720"/>
            </a:xfrm>
          </p:grpSpPr>
          <p:sp>
            <p:nvSpPr>
              <p:cNvPr id="881" name="WordArt 11"/>
              <p:cNvSpPr txBox="1"/>
              <p:nvPr/>
            </p:nvSpPr>
            <p:spPr>
              <a:xfrm>
                <a:off x="4116240" y="1854000"/>
                <a:ext cx="1022400" cy="303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82" name="WordArt 12"/>
              <p:cNvSpPr txBox="1"/>
              <p:nvPr/>
            </p:nvSpPr>
            <p:spPr>
              <a:xfrm>
                <a:off x="3941640" y="2242440"/>
                <a:ext cx="1368000" cy="51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1420560" y="1854000"/>
              <a:ext cx="1368360" cy="900720"/>
              <a:chOff x="1420560" y="1854000"/>
              <a:chExt cx="1368360" cy="900720"/>
            </a:xfrm>
          </p:grpSpPr>
          <p:sp>
            <p:nvSpPr>
              <p:cNvPr id="884" name="WordArt 14"/>
              <p:cNvSpPr txBox="1"/>
              <p:nvPr/>
            </p:nvSpPr>
            <p:spPr>
              <a:xfrm>
                <a:off x="1595160" y="1854000"/>
                <a:ext cx="1022760" cy="303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85" name="WordArt 15"/>
              <p:cNvSpPr txBox="1"/>
              <p:nvPr/>
            </p:nvSpPr>
            <p:spPr>
              <a:xfrm>
                <a:off x="1420560" y="2242440"/>
                <a:ext cx="1368360" cy="51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6389640" y="1854000"/>
              <a:ext cx="1368000" cy="900720"/>
              <a:chOff x="6389640" y="1854000"/>
              <a:chExt cx="1368000" cy="900720"/>
            </a:xfrm>
          </p:grpSpPr>
          <p:sp>
            <p:nvSpPr>
              <p:cNvPr id="887" name="WordArt 17"/>
              <p:cNvSpPr txBox="1"/>
              <p:nvPr/>
            </p:nvSpPr>
            <p:spPr>
              <a:xfrm>
                <a:off x="6564240" y="1854000"/>
                <a:ext cx="1022400" cy="303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88" name="WordArt 18"/>
              <p:cNvSpPr txBox="1"/>
              <p:nvPr/>
            </p:nvSpPr>
            <p:spPr>
              <a:xfrm>
                <a:off x="6389640" y="2242440"/>
                <a:ext cx="1368000" cy="51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1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2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03. 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2340000" y="3697200"/>
              <a:ext cx="1794960" cy="1404000"/>
              <a:chOff x="2340000" y="3697200"/>
              <a:chExt cx="1794960" cy="1404000"/>
            </a:xfrm>
          </p:grpSpPr>
          <p:sp>
            <p:nvSpPr>
              <p:cNvPr id="890" name="AutoShape 20"/>
              <p:cNvSpPr/>
              <p:nvPr/>
            </p:nvSpPr>
            <p:spPr>
              <a:xfrm rot="10800000">
                <a:off x="2340000" y="3697200"/>
                <a:ext cx="1794960" cy="1404000"/>
              </a:xfrm>
              <a:prstGeom prst="hexagon">
                <a:avLst>
                  <a:gd name="adj" fmla="val 31962"/>
                  <a:gd name="vf" fmla="val 115470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d17d2a"/>
                  </a:gs>
                  <a:gs pos="100000">
                    <a:srgbClr val="ff9933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1" name="AutoShape 21"/>
              <p:cNvSpPr/>
              <p:nvPr/>
            </p:nvSpPr>
            <p:spPr>
              <a:xfrm rot="10800000">
                <a:off x="2341800" y="3699000"/>
                <a:ext cx="1793160" cy="1402200"/>
              </a:xfrm>
              <a:prstGeom prst="hexagon">
                <a:avLst>
                  <a:gd name="adj" fmla="val 31970"/>
                  <a:gd name="vf" fmla="val 11547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5056560" y="3703320"/>
              <a:ext cx="1791720" cy="1399680"/>
              <a:chOff x="5056560" y="3703320"/>
              <a:chExt cx="1791720" cy="1399680"/>
            </a:xfrm>
          </p:grpSpPr>
          <p:sp>
            <p:nvSpPr>
              <p:cNvPr id="893" name="AutoShape 23"/>
              <p:cNvSpPr/>
              <p:nvPr/>
            </p:nvSpPr>
            <p:spPr>
              <a:xfrm rot="10800000">
                <a:off x="5056560" y="3703320"/>
                <a:ext cx="1791720" cy="1399680"/>
              </a:xfrm>
              <a:prstGeom prst="hexagon">
                <a:avLst>
                  <a:gd name="adj" fmla="val 32002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50000">
                    <a:srgbClr val="006b8e"/>
                  </a:gs>
                  <a:gs pos="100000">
                    <a:srgbClr val="0099cc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4" name="AutoShape 24"/>
              <p:cNvSpPr/>
              <p:nvPr/>
            </p:nvSpPr>
            <p:spPr>
              <a:xfrm rot="10800000">
                <a:off x="5056560" y="3703320"/>
                <a:ext cx="1791720" cy="1399680"/>
              </a:xfrm>
              <a:prstGeom prst="hexagon">
                <a:avLst>
                  <a:gd name="adj" fmla="val 32002"/>
                  <a:gd name="vf" fmla="val 11547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95" name="AutoShape 25"/>
            <p:cNvSpPr/>
            <p:nvPr/>
          </p:nvSpPr>
          <p:spPr>
            <a:xfrm rot="10800000">
              <a:off x="3697200" y="4398480"/>
              <a:ext cx="1797120" cy="1404360"/>
            </a:xfrm>
            <a:prstGeom prst="hexagon">
              <a:avLst>
                <a:gd name="adj" fmla="val 31992"/>
                <a:gd name="vf" fmla="val 11547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6" name="AutoShape 26"/>
            <p:cNvSpPr/>
            <p:nvPr/>
          </p:nvSpPr>
          <p:spPr>
            <a:xfrm rot="10800000">
              <a:off x="3695400" y="4401720"/>
              <a:ext cx="1795680" cy="1403280"/>
            </a:xfrm>
            <a:prstGeom prst="hexagon">
              <a:avLst>
                <a:gd name="adj" fmla="val 31991"/>
                <a:gd name="vf" fmla="val 115470"/>
              </a:avLst>
            </a:pr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7" name="WordArt 27"/>
            <p:cNvSpPr txBox="1"/>
            <p:nvPr/>
          </p:nvSpPr>
          <p:spPr>
            <a:xfrm>
              <a:off x="4171680" y="5011560"/>
              <a:ext cx="866880" cy="22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8" name="WordArt 28"/>
            <p:cNvSpPr txBox="1"/>
            <p:nvPr/>
          </p:nvSpPr>
          <p:spPr>
            <a:xfrm>
              <a:off x="2805120" y="4290840"/>
              <a:ext cx="866520" cy="22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9" name="WordArt 29"/>
            <p:cNvSpPr txBox="1"/>
            <p:nvPr/>
          </p:nvSpPr>
          <p:spPr>
            <a:xfrm>
              <a:off x="5541840" y="4290840"/>
              <a:ext cx="866880" cy="22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1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607680" y="4950000"/>
            <a:ext cx="8280720" cy="808920"/>
            <a:chOff x="607680" y="4950000"/>
            <a:chExt cx="8280720" cy="808920"/>
          </a:xfrm>
        </p:grpSpPr>
        <p:sp>
          <p:nvSpPr>
            <p:cNvPr id="903" name="AutoShape 3"/>
            <p:cNvSpPr/>
            <p:nvPr/>
          </p:nvSpPr>
          <p:spPr>
            <a:xfrm rot="10800000">
              <a:off x="607680" y="4949640"/>
              <a:ext cx="8280360" cy="452160"/>
            </a:xfrm>
            <a:custGeom>
              <a:avLst/>
              <a:gdLst>
                <a:gd name="textAreaLeft" fmla="*/ 1012680 w 8280360"/>
                <a:gd name="textAreaRight" fmla="*/ 7267680 w 8280360"/>
                <a:gd name="textAreaTop" fmla="*/ 55440 h 452160"/>
                <a:gd name="textAreaBottom" fmla="*/ 3967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6" y="21600"/>
                  </a:lnTo>
                  <a:lnTo>
                    <a:pt x="1991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4" name="Rectangle 4"/>
            <p:cNvSpPr/>
            <p:nvPr/>
          </p:nvSpPr>
          <p:spPr>
            <a:xfrm>
              <a:off x="608040" y="5398920"/>
              <a:ext cx="8280360" cy="3600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906" name="Object 6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712000" cy="486720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15"/>
          <p:cNvSpPr/>
          <p:nvPr/>
        </p:nvSpPr>
        <p:spPr>
          <a:xfrm>
            <a:off x="1506960" y="6016680"/>
            <a:ext cx="35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파워포인트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3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에서 만든 막대그래프 입니다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더블클릭하시면 엑셀과 연동되어 데이터값을 입력하여 변형 할수 있습니다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8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"/>
          <p:cNvGrpSpPr/>
          <p:nvPr/>
        </p:nvGrpSpPr>
        <p:grpSpPr>
          <a:xfrm>
            <a:off x="4319640" y="981000"/>
            <a:ext cx="1955880" cy="1955880"/>
            <a:chOff x="4319640" y="981000"/>
            <a:chExt cx="1955880" cy="1955880"/>
          </a:xfrm>
        </p:grpSpPr>
        <p:sp>
          <p:nvSpPr>
            <p:cNvPr id="910" name="Freeform 76"/>
            <p:cNvSpPr/>
            <p:nvPr/>
          </p:nvSpPr>
          <p:spPr>
            <a:xfrm>
              <a:off x="5005440" y="1666800"/>
              <a:ext cx="584280" cy="584280"/>
            </a:xfrm>
            <a:custGeom>
              <a:avLst/>
              <a:gdLst/>
              <a:ahLst/>
              <a:rect l="l" t="t" r="r" b="b"/>
              <a:pathLst>
                <a:path w="368" h="368">
                  <a:moveTo>
                    <a:pt x="0" y="184"/>
                  </a:moveTo>
                  <a:lnTo>
                    <a:pt x="0" y="184"/>
                  </a:lnTo>
                  <a:lnTo>
                    <a:pt x="0" y="202"/>
                  </a:lnTo>
                  <a:lnTo>
                    <a:pt x="4" y="222"/>
                  </a:lnTo>
                  <a:lnTo>
                    <a:pt x="8" y="238"/>
                  </a:lnTo>
                  <a:lnTo>
                    <a:pt x="14" y="256"/>
                  </a:lnTo>
                  <a:lnTo>
                    <a:pt x="22" y="272"/>
                  </a:lnTo>
                  <a:lnTo>
                    <a:pt x="32" y="286"/>
                  </a:lnTo>
                  <a:lnTo>
                    <a:pt x="42" y="300"/>
                  </a:lnTo>
                  <a:lnTo>
                    <a:pt x="54" y="314"/>
                  </a:lnTo>
                  <a:lnTo>
                    <a:pt x="68" y="326"/>
                  </a:lnTo>
                  <a:lnTo>
                    <a:pt x="82" y="336"/>
                  </a:lnTo>
                  <a:lnTo>
                    <a:pt x="96" y="346"/>
                  </a:lnTo>
                  <a:lnTo>
                    <a:pt x="112" y="354"/>
                  </a:lnTo>
                  <a:lnTo>
                    <a:pt x="130" y="360"/>
                  </a:lnTo>
                  <a:lnTo>
                    <a:pt x="146" y="364"/>
                  </a:lnTo>
                  <a:lnTo>
                    <a:pt x="166" y="368"/>
                  </a:lnTo>
                  <a:lnTo>
                    <a:pt x="184" y="368"/>
                  </a:lnTo>
                  <a:lnTo>
                    <a:pt x="202" y="368"/>
                  </a:lnTo>
                  <a:lnTo>
                    <a:pt x="222" y="364"/>
                  </a:lnTo>
                  <a:lnTo>
                    <a:pt x="238" y="360"/>
                  </a:lnTo>
                  <a:lnTo>
                    <a:pt x="256" y="354"/>
                  </a:lnTo>
                  <a:lnTo>
                    <a:pt x="272" y="346"/>
                  </a:lnTo>
                  <a:lnTo>
                    <a:pt x="286" y="336"/>
                  </a:lnTo>
                  <a:lnTo>
                    <a:pt x="300" y="326"/>
                  </a:lnTo>
                  <a:lnTo>
                    <a:pt x="314" y="314"/>
                  </a:lnTo>
                  <a:lnTo>
                    <a:pt x="326" y="300"/>
                  </a:lnTo>
                  <a:lnTo>
                    <a:pt x="336" y="286"/>
                  </a:lnTo>
                  <a:lnTo>
                    <a:pt x="346" y="272"/>
                  </a:lnTo>
                  <a:lnTo>
                    <a:pt x="354" y="256"/>
                  </a:lnTo>
                  <a:lnTo>
                    <a:pt x="360" y="238"/>
                  </a:lnTo>
                  <a:lnTo>
                    <a:pt x="364" y="222"/>
                  </a:lnTo>
                  <a:lnTo>
                    <a:pt x="368" y="202"/>
                  </a:lnTo>
                  <a:lnTo>
                    <a:pt x="368" y="184"/>
                  </a:lnTo>
                  <a:lnTo>
                    <a:pt x="368" y="166"/>
                  </a:lnTo>
                  <a:lnTo>
                    <a:pt x="364" y="146"/>
                  </a:lnTo>
                  <a:lnTo>
                    <a:pt x="360" y="130"/>
                  </a:lnTo>
                  <a:lnTo>
                    <a:pt x="354" y="112"/>
                  </a:lnTo>
                  <a:lnTo>
                    <a:pt x="346" y="96"/>
                  </a:lnTo>
                  <a:lnTo>
                    <a:pt x="336" y="82"/>
                  </a:lnTo>
                  <a:lnTo>
                    <a:pt x="326" y="68"/>
                  </a:lnTo>
                  <a:lnTo>
                    <a:pt x="314" y="54"/>
                  </a:lnTo>
                  <a:lnTo>
                    <a:pt x="300" y="42"/>
                  </a:lnTo>
                  <a:lnTo>
                    <a:pt x="286" y="32"/>
                  </a:lnTo>
                  <a:lnTo>
                    <a:pt x="272" y="22"/>
                  </a:lnTo>
                  <a:lnTo>
                    <a:pt x="256" y="14"/>
                  </a:lnTo>
                  <a:lnTo>
                    <a:pt x="238" y="8"/>
                  </a:lnTo>
                  <a:lnTo>
                    <a:pt x="222" y="4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6" y="4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96" y="22"/>
                  </a:lnTo>
                  <a:lnTo>
                    <a:pt x="82" y="32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6"/>
                  </a:lnTo>
                  <a:lnTo>
                    <a:pt x="14" y="112"/>
                  </a:lnTo>
                  <a:lnTo>
                    <a:pt x="8" y="130"/>
                  </a:lnTo>
                  <a:lnTo>
                    <a:pt x="4" y="146"/>
                  </a:lnTo>
                  <a:lnTo>
                    <a:pt x="0" y="166"/>
                  </a:lnTo>
                  <a:lnTo>
                    <a:pt x="0" y="184"/>
                  </a:lnTo>
                  <a:close/>
                  <a:moveTo>
                    <a:pt x="80" y="184"/>
                  </a:moveTo>
                  <a:lnTo>
                    <a:pt x="80" y="184"/>
                  </a:lnTo>
                  <a:lnTo>
                    <a:pt x="82" y="164"/>
                  </a:lnTo>
                  <a:lnTo>
                    <a:pt x="88" y="144"/>
                  </a:lnTo>
                  <a:lnTo>
                    <a:pt x="98" y="126"/>
                  </a:lnTo>
                  <a:lnTo>
                    <a:pt x="110" y="110"/>
                  </a:lnTo>
                  <a:lnTo>
                    <a:pt x="126" y="98"/>
                  </a:lnTo>
                  <a:lnTo>
                    <a:pt x="144" y="88"/>
                  </a:lnTo>
                  <a:lnTo>
                    <a:pt x="164" y="82"/>
                  </a:lnTo>
                  <a:lnTo>
                    <a:pt x="184" y="80"/>
                  </a:lnTo>
                  <a:lnTo>
                    <a:pt x="204" y="82"/>
                  </a:lnTo>
                  <a:lnTo>
                    <a:pt x="224" y="88"/>
                  </a:lnTo>
                  <a:lnTo>
                    <a:pt x="242" y="98"/>
                  </a:lnTo>
                  <a:lnTo>
                    <a:pt x="258" y="110"/>
                  </a:lnTo>
                  <a:lnTo>
                    <a:pt x="270" y="126"/>
                  </a:lnTo>
                  <a:lnTo>
                    <a:pt x="280" y="144"/>
                  </a:lnTo>
                  <a:lnTo>
                    <a:pt x="286" y="164"/>
                  </a:lnTo>
                  <a:lnTo>
                    <a:pt x="288" y="184"/>
                  </a:lnTo>
                  <a:lnTo>
                    <a:pt x="286" y="204"/>
                  </a:lnTo>
                  <a:lnTo>
                    <a:pt x="280" y="224"/>
                  </a:lnTo>
                  <a:lnTo>
                    <a:pt x="270" y="242"/>
                  </a:lnTo>
                  <a:lnTo>
                    <a:pt x="258" y="258"/>
                  </a:lnTo>
                  <a:lnTo>
                    <a:pt x="242" y="270"/>
                  </a:lnTo>
                  <a:lnTo>
                    <a:pt x="224" y="280"/>
                  </a:lnTo>
                  <a:lnTo>
                    <a:pt x="204" y="286"/>
                  </a:lnTo>
                  <a:lnTo>
                    <a:pt x="184" y="288"/>
                  </a:lnTo>
                  <a:lnTo>
                    <a:pt x="164" y="286"/>
                  </a:lnTo>
                  <a:lnTo>
                    <a:pt x="144" y="280"/>
                  </a:lnTo>
                  <a:lnTo>
                    <a:pt x="126" y="270"/>
                  </a:lnTo>
                  <a:lnTo>
                    <a:pt x="110" y="258"/>
                  </a:lnTo>
                  <a:lnTo>
                    <a:pt x="98" y="242"/>
                  </a:lnTo>
                  <a:lnTo>
                    <a:pt x="88" y="224"/>
                  </a:lnTo>
                  <a:lnTo>
                    <a:pt x="82" y="204"/>
                  </a:lnTo>
                  <a:lnTo>
                    <a:pt x="80" y="184"/>
                  </a:lnTo>
                  <a:close/>
                </a:path>
              </a:pathLst>
            </a:custGeom>
            <a:solidFill>
              <a:srgbClr val="c0c0c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1" name="Freeform 77"/>
            <p:cNvSpPr/>
            <p:nvPr/>
          </p:nvSpPr>
          <p:spPr>
            <a:xfrm>
              <a:off x="4776840" y="1438200"/>
              <a:ext cx="1041480" cy="1041480"/>
            </a:xfrm>
            <a:custGeom>
              <a:avLst/>
              <a:gdLst/>
              <a:ahLst/>
              <a:rect l="l" t="t" r="r" b="b"/>
              <a:pathLst>
                <a:path w="656" h="656">
                  <a:moveTo>
                    <a:pt x="0" y="328"/>
                  </a:moveTo>
                  <a:lnTo>
                    <a:pt x="0" y="328"/>
                  </a:lnTo>
                  <a:lnTo>
                    <a:pt x="2" y="362"/>
                  </a:lnTo>
                  <a:lnTo>
                    <a:pt x="6" y="394"/>
                  </a:lnTo>
                  <a:lnTo>
                    <a:pt x="14" y="426"/>
                  </a:lnTo>
                  <a:lnTo>
                    <a:pt x="26" y="456"/>
                  </a:lnTo>
                  <a:lnTo>
                    <a:pt x="40" y="484"/>
                  </a:lnTo>
                  <a:lnTo>
                    <a:pt x="56" y="512"/>
                  </a:lnTo>
                  <a:lnTo>
                    <a:pt x="74" y="536"/>
                  </a:lnTo>
                  <a:lnTo>
                    <a:pt x="96" y="560"/>
                  </a:lnTo>
                  <a:lnTo>
                    <a:pt x="120" y="582"/>
                  </a:lnTo>
                  <a:lnTo>
                    <a:pt x="144" y="600"/>
                  </a:lnTo>
                  <a:lnTo>
                    <a:pt x="172" y="616"/>
                  </a:lnTo>
                  <a:lnTo>
                    <a:pt x="200" y="630"/>
                  </a:lnTo>
                  <a:lnTo>
                    <a:pt x="230" y="642"/>
                  </a:lnTo>
                  <a:lnTo>
                    <a:pt x="262" y="650"/>
                  </a:lnTo>
                  <a:lnTo>
                    <a:pt x="294" y="654"/>
                  </a:lnTo>
                  <a:lnTo>
                    <a:pt x="328" y="656"/>
                  </a:lnTo>
                  <a:lnTo>
                    <a:pt x="362" y="654"/>
                  </a:lnTo>
                  <a:lnTo>
                    <a:pt x="394" y="650"/>
                  </a:lnTo>
                  <a:lnTo>
                    <a:pt x="426" y="642"/>
                  </a:lnTo>
                  <a:lnTo>
                    <a:pt x="456" y="630"/>
                  </a:lnTo>
                  <a:lnTo>
                    <a:pt x="484" y="616"/>
                  </a:lnTo>
                  <a:lnTo>
                    <a:pt x="512" y="600"/>
                  </a:lnTo>
                  <a:lnTo>
                    <a:pt x="536" y="582"/>
                  </a:lnTo>
                  <a:lnTo>
                    <a:pt x="560" y="560"/>
                  </a:lnTo>
                  <a:lnTo>
                    <a:pt x="582" y="536"/>
                  </a:lnTo>
                  <a:lnTo>
                    <a:pt x="600" y="512"/>
                  </a:lnTo>
                  <a:lnTo>
                    <a:pt x="616" y="484"/>
                  </a:lnTo>
                  <a:lnTo>
                    <a:pt x="630" y="456"/>
                  </a:lnTo>
                  <a:lnTo>
                    <a:pt x="642" y="426"/>
                  </a:lnTo>
                  <a:lnTo>
                    <a:pt x="650" y="394"/>
                  </a:lnTo>
                  <a:lnTo>
                    <a:pt x="654" y="362"/>
                  </a:lnTo>
                  <a:lnTo>
                    <a:pt x="656" y="328"/>
                  </a:lnTo>
                  <a:lnTo>
                    <a:pt x="654" y="294"/>
                  </a:lnTo>
                  <a:lnTo>
                    <a:pt x="650" y="262"/>
                  </a:lnTo>
                  <a:lnTo>
                    <a:pt x="642" y="230"/>
                  </a:lnTo>
                  <a:lnTo>
                    <a:pt x="630" y="200"/>
                  </a:lnTo>
                  <a:lnTo>
                    <a:pt x="616" y="172"/>
                  </a:lnTo>
                  <a:lnTo>
                    <a:pt x="600" y="144"/>
                  </a:lnTo>
                  <a:lnTo>
                    <a:pt x="582" y="120"/>
                  </a:lnTo>
                  <a:lnTo>
                    <a:pt x="560" y="96"/>
                  </a:lnTo>
                  <a:lnTo>
                    <a:pt x="536" y="74"/>
                  </a:lnTo>
                  <a:lnTo>
                    <a:pt x="512" y="56"/>
                  </a:lnTo>
                  <a:lnTo>
                    <a:pt x="484" y="40"/>
                  </a:lnTo>
                  <a:lnTo>
                    <a:pt x="456" y="26"/>
                  </a:lnTo>
                  <a:lnTo>
                    <a:pt x="426" y="14"/>
                  </a:lnTo>
                  <a:lnTo>
                    <a:pt x="394" y="6"/>
                  </a:lnTo>
                  <a:lnTo>
                    <a:pt x="362" y="2"/>
                  </a:lnTo>
                  <a:lnTo>
                    <a:pt x="328" y="0"/>
                  </a:lnTo>
                  <a:lnTo>
                    <a:pt x="294" y="2"/>
                  </a:lnTo>
                  <a:lnTo>
                    <a:pt x="262" y="6"/>
                  </a:lnTo>
                  <a:lnTo>
                    <a:pt x="230" y="14"/>
                  </a:lnTo>
                  <a:lnTo>
                    <a:pt x="200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20" y="74"/>
                  </a:lnTo>
                  <a:lnTo>
                    <a:pt x="96" y="96"/>
                  </a:lnTo>
                  <a:lnTo>
                    <a:pt x="74" y="120"/>
                  </a:lnTo>
                  <a:lnTo>
                    <a:pt x="56" y="144"/>
                  </a:lnTo>
                  <a:lnTo>
                    <a:pt x="40" y="172"/>
                  </a:lnTo>
                  <a:lnTo>
                    <a:pt x="26" y="200"/>
                  </a:lnTo>
                  <a:lnTo>
                    <a:pt x="14" y="230"/>
                  </a:lnTo>
                  <a:lnTo>
                    <a:pt x="6" y="262"/>
                  </a:lnTo>
                  <a:lnTo>
                    <a:pt x="2" y="294"/>
                  </a:lnTo>
                  <a:lnTo>
                    <a:pt x="0" y="328"/>
                  </a:lnTo>
                  <a:close/>
                  <a:moveTo>
                    <a:pt x="80" y="328"/>
                  </a:moveTo>
                  <a:lnTo>
                    <a:pt x="80" y="328"/>
                  </a:lnTo>
                  <a:lnTo>
                    <a:pt x="82" y="302"/>
                  </a:lnTo>
                  <a:lnTo>
                    <a:pt x="86" y="278"/>
                  </a:lnTo>
                  <a:lnTo>
                    <a:pt x="92" y="254"/>
                  </a:lnTo>
                  <a:lnTo>
                    <a:pt x="100" y="232"/>
                  </a:lnTo>
                  <a:lnTo>
                    <a:pt x="110" y="210"/>
                  </a:lnTo>
                  <a:lnTo>
                    <a:pt x="122" y="190"/>
                  </a:lnTo>
                  <a:lnTo>
                    <a:pt x="136" y="170"/>
                  </a:lnTo>
                  <a:lnTo>
                    <a:pt x="152" y="152"/>
                  </a:lnTo>
                  <a:lnTo>
                    <a:pt x="170" y="136"/>
                  </a:lnTo>
                  <a:lnTo>
                    <a:pt x="190" y="122"/>
                  </a:lnTo>
                  <a:lnTo>
                    <a:pt x="210" y="110"/>
                  </a:lnTo>
                  <a:lnTo>
                    <a:pt x="232" y="100"/>
                  </a:lnTo>
                  <a:lnTo>
                    <a:pt x="254" y="92"/>
                  </a:lnTo>
                  <a:lnTo>
                    <a:pt x="278" y="86"/>
                  </a:lnTo>
                  <a:lnTo>
                    <a:pt x="302" y="82"/>
                  </a:lnTo>
                  <a:lnTo>
                    <a:pt x="328" y="80"/>
                  </a:lnTo>
                  <a:lnTo>
                    <a:pt x="354" y="82"/>
                  </a:lnTo>
                  <a:lnTo>
                    <a:pt x="378" y="86"/>
                  </a:lnTo>
                  <a:lnTo>
                    <a:pt x="402" y="92"/>
                  </a:lnTo>
                  <a:lnTo>
                    <a:pt x="424" y="100"/>
                  </a:lnTo>
                  <a:lnTo>
                    <a:pt x="446" y="110"/>
                  </a:lnTo>
                  <a:lnTo>
                    <a:pt x="466" y="122"/>
                  </a:lnTo>
                  <a:lnTo>
                    <a:pt x="486" y="136"/>
                  </a:lnTo>
                  <a:lnTo>
                    <a:pt x="504" y="152"/>
                  </a:lnTo>
                  <a:lnTo>
                    <a:pt x="520" y="170"/>
                  </a:lnTo>
                  <a:lnTo>
                    <a:pt x="534" y="190"/>
                  </a:lnTo>
                  <a:lnTo>
                    <a:pt x="546" y="210"/>
                  </a:lnTo>
                  <a:lnTo>
                    <a:pt x="556" y="232"/>
                  </a:lnTo>
                  <a:lnTo>
                    <a:pt x="564" y="254"/>
                  </a:lnTo>
                  <a:lnTo>
                    <a:pt x="570" y="278"/>
                  </a:lnTo>
                  <a:lnTo>
                    <a:pt x="574" y="302"/>
                  </a:lnTo>
                  <a:lnTo>
                    <a:pt x="576" y="328"/>
                  </a:lnTo>
                  <a:lnTo>
                    <a:pt x="574" y="354"/>
                  </a:lnTo>
                  <a:lnTo>
                    <a:pt x="570" y="378"/>
                  </a:lnTo>
                  <a:lnTo>
                    <a:pt x="564" y="402"/>
                  </a:lnTo>
                  <a:lnTo>
                    <a:pt x="556" y="424"/>
                  </a:lnTo>
                  <a:lnTo>
                    <a:pt x="546" y="446"/>
                  </a:lnTo>
                  <a:lnTo>
                    <a:pt x="534" y="466"/>
                  </a:lnTo>
                  <a:lnTo>
                    <a:pt x="520" y="486"/>
                  </a:lnTo>
                  <a:lnTo>
                    <a:pt x="504" y="504"/>
                  </a:lnTo>
                  <a:lnTo>
                    <a:pt x="486" y="520"/>
                  </a:lnTo>
                  <a:lnTo>
                    <a:pt x="466" y="534"/>
                  </a:lnTo>
                  <a:lnTo>
                    <a:pt x="446" y="546"/>
                  </a:lnTo>
                  <a:lnTo>
                    <a:pt x="424" y="556"/>
                  </a:lnTo>
                  <a:lnTo>
                    <a:pt x="402" y="564"/>
                  </a:lnTo>
                  <a:lnTo>
                    <a:pt x="378" y="570"/>
                  </a:lnTo>
                  <a:lnTo>
                    <a:pt x="354" y="574"/>
                  </a:lnTo>
                  <a:lnTo>
                    <a:pt x="328" y="576"/>
                  </a:lnTo>
                  <a:lnTo>
                    <a:pt x="302" y="574"/>
                  </a:lnTo>
                  <a:lnTo>
                    <a:pt x="278" y="570"/>
                  </a:lnTo>
                  <a:lnTo>
                    <a:pt x="254" y="564"/>
                  </a:lnTo>
                  <a:lnTo>
                    <a:pt x="232" y="556"/>
                  </a:lnTo>
                  <a:lnTo>
                    <a:pt x="210" y="546"/>
                  </a:lnTo>
                  <a:lnTo>
                    <a:pt x="190" y="534"/>
                  </a:lnTo>
                  <a:lnTo>
                    <a:pt x="170" y="520"/>
                  </a:lnTo>
                  <a:lnTo>
                    <a:pt x="152" y="504"/>
                  </a:lnTo>
                  <a:lnTo>
                    <a:pt x="136" y="486"/>
                  </a:lnTo>
                  <a:lnTo>
                    <a:pt x="122" y="466"/>
                  </a:lnTo>
                  <a:lnTo>
                    <a:pt x="110" y="446"/>
                  </a:lnTo>
                  <a:lnTo>
                    <a:pt x="100" y="424"/>
                  </a:lnTo>
                  <a:lnTo>
                    <a:pt x="92" y="402"/>
                  </a:lnTo>
                  <a:lnTo>
                    <a:pt x="86" y="378"/>
                  </a:lnTo>
                  <a:lnTo>
                    <a:pt x="82" y="354"/>
                  </a:lnTo>
                  <a:lnTo>
                    <a:pt x="80" y="328"/>
                  </a:lnTo>
                  <a:close/>
                </a:path>
              </a:pathLst>
            </a:custGeom>
            <a:solidFill>
              <a:srgbClr val="c0c0c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2" name="Freeform 78"/>
            <p:cNvSpPr/>
            <p:nvPr/>
          </p:nvSpPr>
          <p:spPr>
            <a:xfrm>
              <a:off x="4548240" y="1209600"/>
              <a:ext cx="1498680" cy="149868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944" h="944">
                  <a:moveTo>
                    <a:pt x="0" y="472"/>
                  </a:moveTo>
                  <a:lnTo>
                    <a:pt x="0" y="472"/>
                  </a:lnTo>
                  <a:lnTo>
                    <a:pt x="0" y="496"/>
                  </a:lnTo>
                  <a:lnTo>
                    <a:pt x="2" y="520"/>
                  </a:lnTo>
                  <a:lnTo>
                    <a:pt x="6" y="544"/>
                  </a:lnTo>
                  <a:lnTo>
                    <a:pt x="10" y="568"/>
                  </a:lnTo>
                  <a:lnTo>
                    <a:pt x="22" y="612"/>
                  </a:lnTo>
                  <a:lnTo>
                    <a:pt x="38" y="656"/>
                  </a:lnTo>
                  <a:lnTo>
                    <a:pt x="58" y="696"/>
                  </a:lnTo>
                  <a:lnTo>
                    <a:pt x="80" y="736"/>
                  </a:lnTo>
                  <a:lnTo>
                    <a:pt x="108" y="772"/>
                  </a:lnTo>
                  <a:lnTo>
                    <a:pt x="138" y="806"/>
                  </a:lnTo>
                  <a:lnTo>
                    <a:pt x="172" y="836"/>
                  </a:lnTo>
                  <a:lnTo>
                    <a:pt x="208" y="864"/>
                  </a:lnTo>
                  <a:lnTo>
                    <a:pt x="248" y="886"/>
                  </a:lnTo>
                  <a:lnTo>
                    <a:pt x="288" y="906"/>
                  </a:lnTo>
                  <a:lnTo>
                    <a:pt x="332" y="922"/>
                  </a:lnTo>
                  <a:lnTo>
                    <a:pt x="376" y="934"/>
                  </a:lnTo>
                  <a:lnTo>
                    <a:pt x="400" y="938"/>
                  </a:lnTo>
                  <a:lnTo>
                    <a:pt x="424" y="942"/>
                  </a:lnTo>
                  <a:lnTo>
                    <a:pt x="448" y="944"/>
                  </a:lnTo>
                  <a:lnTo>
                    <a:pt x="472" y="944"/>
                  </a:lnTo>
                  <a:lnTo>
                    <a:pt x="496" y="944"/>
                  </a:lnTo>
                  <a:lnTo>
                    <a:pt x="520" y="942"/>
                  </a:lnTo>
                  <a:lnTo>
                    <a:pt x="544" y="938"/>
                  </a:lnTo>
                  <a:lnTo>
                    <a:pt x="568" y="934"/>
                  </a:lnTo>
                  <a:lnTo>
                    <a:pt x="612" y="922"/>
                  </a:lnTo>
                  <a:lnTo>
                    <a:pt x="656" y="906"/>
                  </a:lnTo>
                  <a:lnTo>
                    <a:pt x="696" y="886"/>
                  </a:lnTo>
                  <a:lnTo>
                    <a:pt x="736" y="864"/>
                  </a:lnTo>
                  <a:lnTo>
                    <a:pt x="772" y="836"/>
                  </a:lnTo>
                  <a:lnTo>
                    <a:pt x="806" y="806"/>
                  </a:lnTo>
                  <a:lnTo>
                    <a:pt x="836" y="772"/>
                  </a:lnTo>
                  <a:lnTo>
                    <a:pt x="864" y="736"/>
                  </a:lnTo>
                  <a:lnTo>
                    <a:pt x="886" y="696"/>
                  </a:lnTo>
                  <a:lnTo>
                    <a:pt x="906" y="656"/>
                  </a:lnTo>
                  <a:lnTo>
                    <a:pt x="922" y="612"/>
                  </a:lnTo>
                  <a:lnTo>
                    <a:pt x="934" y="568"/>
                  </a:lnTo>
                  <a:lnTo>
                    <a:pt x="938" y="544"/>
                  </a:lnTo>
                  <a:lnTo>
                    <a:pt x="942" y="520"/>
                  </a:lnTo>
                  <a:lnTo>
                    <a:pt x="944" y="496"/>
                  </a:lnTo>
                  <a:lnTo>
                    <a:pt x="944" y="472"/>
                  </a:lnTo>
                  <a:lnTo>
                    <a:pt x="944" y="448"/>
                  </a:lnTo>
                  <a:lnTo>
                    <a:pt x="942" y="424"/>
                  </a:lnTo>
                  <a:lnTo>
                    <a:pt x="938" y="400"/>
                  </a:lnTo>
                  <a:lnTo>
                    <a:pt x="934" y="376"/>
                  </a:lnTo>
                  <a:lnTo>
                    <a:pt x="922" y="332"/>
                  </a:lnTo>
                  <a:lnTo>
                    <a:pt x="906" y="288"/>
                  </a:lnTo>
                  <a:lnTo>
                    <a:pt x="886" y="248"/>
                  </a:lnTo>
                  <a:lnTo>
                    <a:pt x="864" y="208"/>
                  </a:lnTo>
                  <a:lnTo>
                    <a:pt x="836" y="172"/>
                  </a:lnTo>
                  <a:lnTo>
                    <a:pt x="806" y="138"/>
                  </a:lnTo>
                  <a:lnTo>
                    <a:pt x="772" y="108"/>
                  </a:lnTo>
                  <a:lnTo>
                    <a:pt x="736" y="80"/>
                  </a:lnTo>
                  <a:lnTo>
                    <a:pt x="696" y="58"/>
                  </a:lnTo>
                  <a:lnTo>
                    <a:pt x="656" y="38"/>
                  </a:lnTo>
                  <a:lnTo>
                    <a:pt x="612" y="22"/>
                  </a:lnTo>
                  <a:lnTo>
                    <a:pt x="568" y="10"/>
                  </a:lnTo>
                  <a:lnTo>
                    <a:pt x="544" y="6"/>
                  </a:lnTo>
                  <a:lnTo>
                    <a:pt x="520" y="2"/>
                  </a:lnTo>
                  <a:lnTo>
                    <a:pt x="496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24" y="2"/>
                  </a:lnTo>
                  <a:lnTo>
                    <a:pt x="400" y="6"/>
                  </a:lnTo>
                  <a:lnTo>
                    <a:pt x="376" y="10"/>
                  </a:lnTo>
                  <a:lnTo>
                    <a:pt x="332" y="22"/>
                  </a:lnTo>
                  <a:lnTo>
                    <a:pt x="288" y="38"/>
                  </a:lnTo>
                  <a:lnTo>
                    <a:pt x="248" y="58"/>
                  </a:lnTo>
                  <a:lnTo>
                    <a:pt x="208" y="80"/>
                  </a:lnTo>
                  <a:lnTo>
                    <a:pt x="172" y="108"/>
                  </a:lnTo>
                  <a:lnTo>
                    <a:pt x="138" y="138"/>
                  </a:lnTo>
                  <a:lnTo>
                    <a:pt x="108" y="172"/>
                  </a:lnTo>
                  <a:lnTo>
                    <a:pt x="80" y="208"/>
                  </a:lnTo>
                  <a:lnTo>
                    <a:pt x="58" y="248"/>
                  </a:lnTo>
                  <a:lnTo>
                    <a:pt x="38" y="288"/>
                  </a:lnTo>
                  <a:lnTo>
                    <a:pt x="22" y="332"/>
                  </a:lnTo>
                  <a:lnTo>
                    <a:pt x="10" y="376"/>
                  </a:lnTo>
                  <a:lnTo>
                    <a:pt x="6" y="400"/>
                  </a:lnTo>
                  <a:lnTo>
                    <a:pt x="2" y="424"/>
                  </a:lnTo>
                  <a:lnTo>
                    <a:pt x="0" y="448"/>
                  </a:lnTo>
                  <a:lnTo>
                    <a:pt x="0" y="472"/>
                  </a:lnTo>
                  <a:close/>
                  <a:moveTo>
                    <a:pt x="80" y="472"/>
                  </a:moveTo>
                  <a:lnTo>
                    <a:pt x="80" y="472"/>
                  </a:lnTo>
                  <a:lnTo>
                    <a:pt x="82" y="432"/>
                  </a:lnTo>
                  <a:lnTo>
                    <a:pt x="88" y="394"/>
                  </a:lnTo>
                  <a:lnTo>
                    <a:pt x="98" y="356"/>
                  </a:lnTo>
                  <a:lnTo>
                    <a:pt x="110" y="320"/>
                  </a:lnTo>
                  <a:lnTo>
                    <a:pt x="128" y="286"/>
                  </a:lnTo>
                  <a:lnTo>
                    <a:pt x="148" y="252"/>
                  </a:lnTo>
                  <a:lnTo>
                    <a:pt x="170" y="222"/>
                  </a:lnTo>
                  <a:lnTo>
                    <a:pt x="194" y="194"/>
                  </a:lnTo>
                  <a:lnTo>
                    <a:pt x="222" y="170"/>
                  </a:lnTo>
                  <a:lnTo>
                    <a:pt x="252" y="148"/>
                  </a:lnTo>
                  <a:lnTo>
                    <a:pt x="286" y="128"/>
                  </a:lnTo>
                  <a:lnTo>
                    <a:pt x="320" y="110"/>
                  </a:lnTo>
                  <a:lnTo>
                    <a:pt x="356" y="98"/>
                  </a:lnTo>
                  <a:lnTo>
                    <a:pt x="394" y="88"/>
                  </a:lnTo>
                  <a:lnTo>
                    <a:pt x="432" y="82"/>
                  </a:lnTo>
                  <a:lnTo>
                    <a:pt x="472" y="80"/>
                  </a:lnTo>
                  <a:lnTo>
                    <a:pt x="512" y="82"/>
                  </a:lnTo>
                  <a:lnTo>
                    <a:pt x="550" y="88"/>
                  </a:lnTo>
                  <a:lnTo>
                    <a:pt x="588" y="98"/>
                  </a:lnTo>
                  <a:lnTo>
                    <a:pt x="624" y="110"/>
                  </a:lnTo>
                  <a:lnTo>
                    <a:pt x="658" y="128"/>
                  </a:lnTo>
                  <a:lnTo>
                    <a:pt x="692" y="148"/>
                  </a:lnTo>
                  <a:lnTo>
                    <a:pt x="722" y="170"/>
                  </a:lnTo>
                  <a:lnTo>
                    <a:pt x="750" y="194"/>
                  </a:lnTo>
                  <a:lnTo>
                    <a:pt x="774" y="222"/>
                  </a:lnTo>
                  <a:lnTo>
                    <a:pt x="796" y="252"/>
                  </a:lnTo>
                  <a:lnTo>
                    <a:pt x="816" y="286"/>
                  </a:lnTo>
                  <a:lnTo>
                    <a:pt x="834" y="320"/>
                  </a:lnTo>
                  <a:lnTo>
                    <a:pt x="846" y="356"/>
                  </a:lnTo>
                  <a:lnTo>
                    <a:pt x="856" y="394"/>
                  </a:lnTo>
                  <a:lnTo>
                    <a:pt x="862" y="432"/>
                  </a:lnTo>
                  <a:lnTo>
                    <a:pt x="864" y="472"/>
                  </a:lnTo>
                  <a:lnTo>
                    <a:pt x="862" y="512"/>
                  </a:lnTo>
                  <a:lnTo>
                    <a:pt x="856" y="550"/>
                  </a:lnTo>
                  <a:lnTo>
                    <a:pt x="846" y="588"/>
                  </a:lnTo>
                  <a:lnTo>
                    <a:pt x="834" y="624"/>
                  </a:lnTo>
                  <a:lnTo>
                    <a:pt x="816" y="658"/>
                  </a:lnTo>
                  <a:lnTo>
                    <a:pt x="796" y="692"/>
                  </a:lnTo>
                  <a:lnTo>
                    <a:pt x="774" y="722"/>
                  </a:lnTo>
                  <a:lnTo>
                    <a:pt x="750" y="750"/>
                  </a:lnTo>
                  <a:lnTo>
                    <a:pt x="722" y="774"/>
                  </a:lnTo>
                  <a:lnTo>
                    <a:pt x="692" y="796"/>
                  </a:lnTo>
                  <a:lnTo>
                    <a:pt x="658" y="816"/>
                  </a:lnTo>
                  <a:lnTo>
                    <a:pt x="624" y="834"/>
                  </a:lnTo>
                  <a:lnTo>
                    <a:pt x="588" y="846"/>
                  </a:lnTo>
                  <a:lnTo>
                    <a:pt x="550" y="856"/>
                  </a:lnTo>
                  <a:lnTo>
                    <a:pt x="512" y="862"/>
                  </a:lnTo>
                  <a:lnTo>
                    <a:pt x="472" y="864"/>
                  </a:lnTo>
                  <a:lnTo>
                    <a:pt x="432" y="862"/>
                  </a:lnTo>
                  <a:lnTo>
                    <a:pt x="394" y="856"/>
                  </a:lnTo>
                  <a:lnTo>
                    <a:pt x="356" y="846"/>
                  </a:lnTo>
                  <a:lnTo>
                    <a:pt x="320" y="834"/>
                  </a:lnTo>
                  <a:lnTo>
                    <a:pt x="286" y="816"/>
                  </a:lnTo>
                  <a:lnTo>
                    <a:pt x="252" y="796"/>
                  </a:lnTo>
                  <a:lnTo>
                    <a:pt x="222" y="774"/>
                  </a:lnTo>
                  <a:lnTo>
                    <a:pt x="194" y="750"/>
                  </a:lnTo>
                  <a:lnTo>
                    <a:pt x="170" y="722"/>
                  </a:lnTo>
                  <a:lnTo>
                    <a:pt x="148" y="692"/>
                  </a:lnTo>
                  <a:lnTo>
                    <a:pt x="128" y="658"/>
                  </a:lnTo>
                  <a:lnTo>
                    <a:pt x="110" y="624"/>
                  </a:lnTo>
                  <a:lnTo>
                    <a:pt x="98" y="588"/>
                  </a:lnTo>
                  <a:lnTo>
                    <a:pt x="88" y="550"/>
                  </a:lnTo>
                  <a:lnTo>
                    <a:pt x="82" y="512"/>
                  </a:lnTo>
                  <a:lnTo>
                    <a:pt x="80" y="472"/>
                  </a:lnTo>
                  <a:close/>
                </a:path>
              </a:pathLst>
            </a:custGeom>
            <a:solidFill>
              <a:srgbClr val="c0c0c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3" name="Freeform 79"/>
            <p:cNvSpPr/>
            <p:nvPr/>
          </p:nvSpPr>
          <p:spPr>
            <a:xfrm>
              <a:off x="4319640" y="981000"/>
              <a:ext cx="1955880" cy="1955880"/>
            </a:xfrm>
            <a:custGeom>
              <a:avLst/>
              <a:gdLst>
                <a:gd name="textAreaLeft" fmla="*/ 0 w 1955880"/>
                <a:gd name="textAreaRight" fmla="*/ 1956240 w 19558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1232" h="1232">
                  <a:moveTo>
                    <a:pt x="0" y="616"/>
                  </a:moveTo>
                  <a:lnTo>
                    <a:pt x="0" y="616"/>
                  </a:lnTo>
                  <a:lnTo>
                    <a:pt x="0" y="648"/>
                  </a:lnTo>
                  <a:lnTo>
                    <a:pt x="4" y="678"/>
                  </a:lnTo>
                  <a:lnTo>
                    <a:pt x="8" y="710"/>
                  </a:lnTo>
                  <a:lnTo>
                    <a:pt x="12" y="740"/>
                  </a:lnTo>
                  <a:lnTo>
                    <a:pt x="20" y="770"/>
                  </a:lnTo>
                  <a:lnTo>
                    <a:pt x="28" y="798"/>
                  </a:lnTo>
                  <a:lnTo>
                    <a:pt x="38" y="828"/>
                  </a:lnTo>
                  <a:lnTo>
                    <a:pt x="48" y="856"/>
                  </a:lnTo>
                  <a:lnTo>
                    <a:pt x="60" y="882"/>
                  </a:lnTo>
                  <a:lnTo>
                    <a:pt x="74" y="910"/>
                  </a:lnTo>
                  <a:lnTo>
                    <a:pt x="90" y="936"/>
                  </a:lnTo>
                  <a:lnTo>
                    <a:pt x="106" y="960"/>
                  </a:lnTo>
                  <a:lnTo>
                    <a:pt x="122" y="984"/>
                  </a:lnTo>
                  <a:lnTo>
                    <a:pt x="140" y="1008"/>
                  </a:lnTo>
                  <a:lnTo>
                    <a:pt x="160" y="1030"/>
                  </a:lnTo>
                  <a:lnTo>
                    <a:pt x="180" y="1052"/>
                  </a:lnTo>
                  <a:lnTo>
                    <a:pt x="202" y="1072"/>
                  </a:lnTo>
                  <a:lnTo>
                    <a:pt x="224" y="1092"/>
                  </a:lnTo>
                  <a:lnTo>
                    <a:pt x="248" y="1110"/>
                  </a:lnTo>
                  <a:lnTo>
                    <a:pt x="272" y="1126"/>
                  </a:lnTo>
                  <a:lnTo>
                    <a:pt x="296" y="1142"/>
                  </a:lnTo>
                  <a:lnTo>
                    <a:pt x="322" y="1158"/>
                  </a:lnTo>
                  <a:lnTo>
                    <a:pt x="350" y="1172"/>
                  </a:lnTo>
                  <a:lnTo>
                    <a:pt x="376" y="1184"/>
                  </a:lnTo>
                  <a:lnTo>
                    <a:pt x="404" y="1194"/>
                  </a:lnTo>
                  <a:lnTo>
                    <a:pt x="434" y="1204"/>
                  </a:lnTo>
                  <a:lnTo>
                    <a:pt x="462" y="1212"/>
                  </a:lnTo>
                  <a:lnTo>
                    <a:pt x="492" y="1220"/>
                  </a:lnTo>
                  <a:lnTo>
                    <a:pt x="522" y="1224"/>
                  </a:lnTo>
                  <a:lnTo>
                    <a:pt x="554" y="1228"/>
                  </a:lnTo>
                  <a:lnTo>
                    <a:pt x="584" y="1232"/>
                  </a:lnTo>
                  <a:lnTo>
                    <a:pt x="616" y="1232"/>
                  </a:lnTo>
                  <a:lnTo>
                    <a:pt x="648" y="1232"/>
                  </a:lnTo>
                  <a:lnTo>
                    <a:pt x="678" y="1228"/>
                  </a:lnTo>
                  <a:lnTo>
                    <a:pt x="710" y="1224"/>
                  </a:lnTo>
                  <a:lnTo>
                    <a:pt x="740" y="1220"/>
                  </a:lnTo>
                  <a:lnTo>
                    <a:pt x="770" y="1212"/>
                  </a:lnTo>
                  <a:lnTo>
                    <a:pt x="798" y="1204"/>
                  </a:lnTo>
                  <a:lnTo>
                    <a:pt x="828" y="1194"/>
                  </a:lnTo>
                  <a:lnTo>
                    <a:pt x="856" y="1184"/>
                  </a:lnTo>
                  <a:lnTo>
                    <a:pt x="882" y="1172"/>
                  </a:lnTo>
                  <a:lnTo>
                    <a:pt x="910" y="1158"/>
                  </a:lnTo>
                  <a:lnTo>
                    <a:pt x="936" y="1142"/>
                  </a:lnTo>
                  <a:lnTo>
                    <a:pt x="960" y="1126"/>
                  </a:lnTo>
                  <a:lnTo>
                    <a:pt x="984" y="1110"/>
                  </a:lnTo>
                  <a:lnTo>
                    <a:pt x="1008" y="1092"/>
                  </a:lnTo>
                  <a:lnTo>
                    <a:pt x="1030" y="1072"/>
                  </a:lnTo>
                  <a:lnTo>
                    <a:pt x="1052" y="1052"/>
                  </a:lnTo>
                  <a:lnTo>
                    <a:pt x="1072" y="1030"/>
                  </a:lnTo>
                  <a:lnTo>
                    <a:pt x="1092" y="1008"/>
                  </a:lnTo>
                  <a:lnTo>
                    <a:pt x="1110" y="984"/>
                  </a:lnTo>
                  <a:lnTo>
                    <a:pt x="1126" y="960"/>
                  </a:lnTo>
                  <a:lnTo>
                    <a:pt x="1142" y="936"/>
                  </a:lnTo>
                  <a:lnTo>
                    <a:pt x="1158" y="910"/>
                  </a:lnTo>
                  <a:lnTo>
                    <a:pt x="1172" y="882"/>
                  </a:lnTo>
                  <a:lnTo>
                    <a:pt x="1184" y="856"/>
                  </a:lnTo>
                  <a:lnTo>
                    <a:pt x="1194" y="828"/>
                  </a:lnTo>
                  <a:lnTo>
                    <a:pt x="1204" y="798"/>
                  </a:lnTo>
                  <a:lnTo>
                    <a:pt x="1212" y="770"/>
                  </a:lnTo>
                  <a:lnTo>
                    <a:pt x="1220" y="740"/>
                  </a:lnTo>
                  <a:lnTo>
                    <a:pt x="1224" y="710"/>
                  </a:lnTo>
                  <a:lnTo>
                    <a:pt x="1228" y="678"/>
                  </a:lnTo>
                  <a:lnTo>
                    <a:pt x="1232" y="648"/>
                  </a:lnTo>
                  <a:lnTo>
                    <a:pt x="1232" y="616"/>
                  </a:lnTo>
                  <a:lnTo>
                    <a:pt x="1232" y="584"/>
                  </a:lnTo>
                  <a:lnTo>
                    <a:pt x="1228" y="554"/>
                  </a:lnTo>
                  <a:lnTo>
                    <a:pt x="1224" y="522"/>
                  </a:lnTo>
                  <a:lnTo>
                    <a:pt x="1220" y="492"/>
                  </a:lnTo>
                  <a:lnTo>
                    <a:pt x="1212" y="462"/>
                  </a:lnTo>
                  <a:lnTo>
                    <a:pt x="1204" y="434"/>
                  </a:lnTo>
                  <a:lnTo>
                    <a:pt x="1194" y="404"/>
                  </a:lnTo>
                  <a:lnTo>
                    <a:pt x="1184" y="376"/>
                  </a:lnTo>
                  <a:lnTo>
                    <a:pt x="1172" y="350"/>
                  </a:lnTo>
                  <a:lnTo>
                    <a:pt x="1158" y="322"/>
                  </a:lnTo>
                  <a:lnTo>
                    <a:pt x="1142" y="296"/>
                  </a:lnTo>
                  <a:lnTo>
                    <a:pt x="1126" y="272"/>
                  </a:lnTo>
                  <a:lnTo>
                    <a:pt x="1110" y="248"/>
                  </a:lnTo>
                  <a:lnTo>
                    <a:pt x="1092" y="224"/>
                  </a:lnTo>
                  <a:lnTo>
                    <a:pt x="1072" y="202"/>
                  </a:lnTo>
                  <a:lnTo>
                    <a:pt x="1052" y="180"/>
                  </a:lnTo>
                  <a:lnTo>
                    <a:pt x="1030" y="160"/>
                  </a:lnTo>
                  <a:lnTo>
                    <a:pt x="1008" y="140"/>
                  </a:lnTo>
                  <a:lnTo>
                    <a:pt x="984" y="122"/>
                  </a:lnTo>
                  <a:lnTo>
                    <a:pt x="960" y="106"/>
                  </a:lnTo>
                  <a:lnTo>
                    <a:pt x="936" y="90"/>
                  </a:lnTo>
                  <a:lnTo>
                    <a:pt x="910" y="74"/>
                  </a:lnTo>
                  <a:lnTo>
                    <a:pt x="882" y="60"/>
                  </a:lnTo>
                  <a:lnTo>
                    <a:pt x="856" y="48"/>
                  </a:lnTo>
                  <a:lnTo>
                    <a:pt x="828" y="38"/>
                  </a:lnTo>
                  <a:lnTo>
                    <a:pt x="798" y="28"/>
                  </a:lnTo>
                  <a:lnTo>
                    <a:pt x="770" y="20"/>
                  </a:lnTo>
                  <a:lnTo>
                    <a:pt x="740" y="12"/>
                  </a:lnTo>
                  <a:lnTo>
                    <a:pt x="710" y="8"/>
                  </a:lnTo>
                  <a:lnTo>
                    <a:pt x="678" y="4"/>
                  </a:lnTo>
                  <a:lnTo>
                    <a:pt x="648" y="0"/>
                  </a:lnTo>
                  <a:lnTo>
                    <a:pt x="616" y="0"/>
                  </a:lnTo>
                  <a:lnTo>
                    <a:pt x="584" y="0"/>
                  </a:lnTo>
                  <a:lnTo>
                    <a:pt x="554" y="4"/>
                  </a:lnTo>
                  <a:lnTo>
                    <a:pt x="522" y="8"/>
                  </a:lnTo>
                  <a:lnTo>
                    <a:pt x="492" y="12"/>
                  </a:lnTo>
                  <a:lnTo>
                    <a:pt x="462" y="20"/>
                  </a:lnTo>
                  <a:lnTo>
                    <a:pt x="434" y="28"/>
                  </a:lnTo>
                  <a:lnTo>
                    <a:pt x="404" y="38"/>
                  </a:lnTo>
                  <a:lnTo>
                    <a:pt x="376" y="48"/>
                  </a:lnTo>
                  <a:lnTo>
                    <a:pt x="350" y="60"/>
                  </a:lnTo>
                  <a:lnTo>
                    <a:pt x="322" y="74"/>
                  </a:lnTo>
                  <a:lnTo>
                    <a:pt x="296" y="90"/>
                  </a:lnTo>
                  <a:lnTo>
                    <a:pt x="272" y="106"/>
                  </a:lnTo>
                  <a:lnTo>
                    <a:pt x="248" y="122"/>
                  </a:lnTo>
                  <a:lnTo>
                    <a:pt x="224" y="140"/>
                  </a:lnTo>
                  <a:lnTo>
                    <a:pt x="202" y="160"/>
                  </a:lnTo>
                  <a:lnTo>
                    <a:pt x="180" y="180"/>
                  </a:lnTo>
                  <a:lnTo>
                    <a:pt x="160" y="202"/>
                  </a:lnTo>
                  <a:lnTo>
                    <a:pt x="140" y="224"/>
                  </a:lnTo>
                  <a:lnTo>
                    <a:pt x="122" y="248"/>
                  </a:lnTo>
                  <a:lnTo>
                    <a:pt x="106" y="272"/>
                  </a:lnTo>
                  <a:lnTo>
                    <a:pt x="90" y="296"/>
                  </a:lnTo>
                  <a:lnTo>
                    <a:pt x="74" y="322"/>
                  </a:lnTo>
                  <a:lnTo>
                    <a:pt x="60" y="350"/>
                  </a:lnTo>
                  <a:lnTo>
                    <a:pt x="48" y="376"/>
                  </a:lnTo>
                  <a:lnTo>
                    <a:pt x="38" y="404"/>
                  </a:lnTo>
                  <a:lnTo>
                    <a:pt x="28" y="434"/>
                  </a:lnTo>
                  <a:lnTo>
                    <a:pt x="20" y="462"/>
                  </a:lnTo>
                  <a:lnTo>
                    <a:pt x="12" y="492"/>
                  </a:lnTo>
                  <a:lnTo>
                    <a:pt x="8" y="522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6"/>
                  </a:lnTo>
                  <a:close/>
                  <a:moveTo>
                    <a:pt x="80" y="616"/>
                  </a:moveTo>
                  <a:lnTo>
                    <a:pt x="80" y="616"/>
                  </a:lnTo>
                  <a:lnTo>
                    <a:pt x="80" y="588"/>
                  </a:lnTo>
                  <a:lnTo>
                    <a:pt x="82" y="562"/>
                  </a:lnTo>
                  <a:lnTo>
                    <a:pt x="86" y="534"/>
                  </a:lnTo>
                  <a:lnTo>
                    <a:pt x="90" y="508"/>
                  </a:lnTo>
                  <a:lnTo>
                    <a:pt x="96" y="482"/>
                  </a:lnTo>
                  <a:lnTo>
                    <a:pt x="104" y="456"/>
                  </a:lnTo>
                  <a:lnTo>
                    <a:pt x="112" y="432"/>
                  </a:lnTo>
                  <a:lnTo>
                    <a:pt x="122" y="408"/>
                  </a:lnTo>
                  <a:lnTo>
                    <a:pt x="132" y="384"/>
                  </a:lnTo>
                  <a:lnTo>
                    <a:pt x="144" y="360"/>
                  </a:lnTo>
                  <a:lnTo>
                    <a:pt x="158" y="338"/>
                  </a:lnTo>
                  <a:lnTo>
                    <a:pt x="172" y="316"/>
                  </a:lnTo>
                  <a:lnTo>
                    <a:pt x="186" y="296"/>
                  </a:lnTo>
                  <a:lnTo>
                    <a:pt x="202" y="276"/>
                  </a:lnTo>
                  <a:lnTo>
                    <a:pt x="220" y="256"/>
                  </a:lnTo>
                  <a:lnTo>
                    <a:pt x="238" y="238"/>
                  </a:lnTo>
                  <a:lnTo>
                    <a:pt x="256" y="220"/>
                  </a:lnTo>
                  <a:lnTo>
                    <a:pt x="276" y="202"/>
                  </a:lnTo>
                  <a:lnTo>
                    <a:pt x="296" y="186"/>
                  </a:lnTo>
                  <a:lnTo>
                    <a:pt x="316" y="172"/>
                  </a:lnTo>
                  <a:lnTo>
                    <a:pt x="338" y="158"/>
                  </a:lnTo>
                  <a:lnTo>
                    <a:pt x="360" y="144"/>
                  </a:lnTo>
                  <a:lnTo>
                    <a:pt x="384" y="132"/>
                  </a:lnTo>
                  <a:lnTo>
                    <a:pt x="408" y="122"/>
                  </a:lnTo>
                  <a:lnTo>
                    <a:pt x="432" y="112"/>
                  </a:lnTo>
                  <a:lnTo>
                    <a:pt x="456" y="104"/>
                  </a:lnTo>
                  <a:lnTo>
                    <a:pt x="482" y="96"/>
                  </a:lnTo>
                  <a:lnTo>
                    <a:pt x="508" y="90"/>
                  </a:lnTo>
                  <a:lnTo>
                    <a:pt x="534" y="86"/>
                  </a:lnTo>
                  <a:lnTo>
                    <a:pt x="562" y="82"/>
                  </a:lnTo>
                  <a:lnTo>
                    <a:pt x="588" y="80"/>
                  </a:lnTo>
                  <a:lnTo>
                    <a:pt x="616" y="80"/>
                  </a:lnTo>
                  <a:lnTo>
                    <a:pt x="644" y="80"/>
                  </a:lnTo>
                  <a:lnTo>
                    <a:pt x="670" y="82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0" y="96"/>
                  </a:lnTo>
                  <a:lnTo>
                    <a:pt x="776" y="104"/>
                  </a:lnTo>
                  <a:lnTo>
                    <a:pt x="800" y="112"/>
                  </a:lnTo>
                  <a:lnTo>
                    <a:pt x="824" y="122"/>
                  </a:lnTo>
                  <a:lnTo>
                    <a:pt x="848" y="132"/>
                  </a:lnTo>
                  <a:lnTo>
                    <a:pt x="872" y="144"/>
                  </a:lnTo>
                  <a:lnTo>
                    <a:pt x="894" y="158"/>
                  </a:lnTo>
                  <a:lnTo>
                    <a:pt x="916" y="172"/>
                  </a:lnTo>
                  <a:lnTo>
                    <a:pt x="936" y="186"/>
                  </a:lnTo>
                  <a:lnTo>
                    <a:pt x="956" y="202"/>
                  </a:lnTo>
                  <a:lnTo>
                    <a:pt x="976" y="220"/>
                  </a:lnTo>
                  <a:lnTo>
                    <a:pt x="994" y="238"/>
                  </a:lnTo>
                  <a:lnTo>
                    <a:pt x="1012" y="256"/>
                  </a:lnTo>
                  <a:lnTo>
                    <a:pt x="1030" y="276"/>
                  </a:lnTo>
                  <a:lnTo>
                    <a:pt x="1046" y="296"/>
                  </a:lnTo>
                  <a:lnTo>
                    <a:pt x="1060" y="316"/>
                  </a:lnTo>
                  <a:lnTo>
                    <a:pt x="1074" y="338"/>
                  </a:lnTo>
                  <a:lnTo>
                    <a:pt x="1088" y="360"/>
                  </a:lnTo>
                  <a:lnTo>
                    <a:pt x="1100" y="384"/>
                  </a:lnTo>
                  <a:lnTo>
                    <a:pt x="1110" y="408"/>
                  </a:lnTo>
                  <a:lnTo>
                    <a:pt x="1120" y="432"/>
                  </a:lnTo>
                  <a:lnTo>
                    <a:pt x="1128" y="456"/>
                  </a:lnTo>
                  <a:lnTo>
                    <a:pt x="1136" y="482"/>
                  </a:lnTo>
                  <a:lnTo>
                    <a:pt x="1142" y="508"/>
                  </a:lnTo>
                  <a:lnTo>
                    <a:pt x="1146" y="534"/>
                  </a:lnTo>
                  <a:lnTo>
                    <a:pt x="1150" y="562"/>
                  </a:lnTo>
                  <a:lnTo>
                    <a:pt x="1152" y="588"/>
                  </a:lnTo>
                  <a:lnTo>
                    <a:pt x="1152" y="616"/>
                  </a:lnTo>
                  <a:lnTo>
                    <a:pt x="1152" y="644"/>
                  </a:lnTo>
                  <a:lnTo>
                    <a:pt x="1150" y="670"/>
                  </a:lnTo>
                  <a:lnTo>
                    <a:pt x="1146" y="698"/>
                  </a:lnTo>
                  <a:lnTo>
                    <a:pt x="1142" y="724"/>
                  </a:lnTo>
                  <a:lnTo>
                    <a:pt x="1136" y="750"/>
                  </a:lnTo>
                  <a:lnTo>
                    <a:pt x="1128" y="776"/>
                  </a:lnTo>
                  <a:lnTo>
                    <a:pt x="1120" y="800"/>
                  </a:lnTo>
                  <a:lnTo>
                    <a:pt x="1110" y="824"/>
                  </a:lnTo>
                  <a:lnTo>
                    <a:pt x="1100" y="848"/>
                  </a:lnTo>
                  <a:lnTo>
                    <a:pt x="1088" y="872"/>
                  </a:lnTo>
                  <a:lnTo>
                    <a:pt x="1074" y="894"/>
                  </a:lnTo>
                  <a:lnTo>
                    <a:pt x="1060" y="916"/>
                  </a:lnTo>
                  <a:lnTo>
                    <a:pt x="1046" y="936"/>
                  </a:lnTo>
                  <a:lnTo>
                    <a:pt x="1030" y="956"/>
                  </a:lnTo>
                  <a:lnTo>
                    <a:pt x="1012" y="976"/>
                  </a:lnTo>
                  <a:lnTo>
                    <a:pt x="994" y="994"/>
                  </a:lnTo>
                  <a:lnTo>
                    <a:pt x="976" y="1012"/>
                  </a:lnTo>
                  <a:lnTo>
                    <a:pt x="956" y="1030"/>
                  </a:lnTo>
                  <a:lnTo>
                    <a:pt x="936" y="1046"/>
                  </a:lnTo>
                  <a:lnTo>
                    <a:pt x="916" y="1060"/>
                  </a:lnTo>
                  <a:lnTo>
                    <a:pt x="894" y="1074"/>
                  </a:lnTo>
                  <a:lnTo>
                    <a:pt x="872" y="1088"/>
                  </a:lnTo>
                  <a:lnTo>
                    <a:pt x="848" y="1100"/>
                  </a:lnTo>
                  <a:lnTo>
                    <a:pt x="824" y="1110"/>
                  </a:lnTo>
                  <a:lnTo>
                    <a:pt x="800" y="1120"/>
                  </a:lnTo>
                  <a:lnTo>
                    <a:pt x="776" y="1128"/>
                  </a:lnTo>
                  <a:lnTo>
                    <a:pt x="750" y="1136"/>
                  </a:lnTo>
                  <a:lnTo>
                    <a:pt x="724" y="1142"/>
                  </a:lnTo>
                  <a:lnTo>
                    <a:pt x="698" y="1146"/>
                  </a:lnTo>
                  <a:lnTo>
                    <a:pt x="670" y="1150"/>
                  </a:lnTo>
                  <a:lnTo>
                    <a:pt x="644" y="1152"/>
                  </a:lnTo>
                  <a:lnTo>
                    <a:pt x="616" y="1152"/>
                  </a:lnTo>
                  <a:lnTo>
                    <a:pt x="588" y="1152"/>
                  </a:lnTo>
                  <a:lnTo>
                    <a:pt x="562" y="1150"/>
                  </a:lnTo>
                  <a:lnTo>
                    <a:pt x="534" y="1146"/>
                  </a:lnTo>
                  <a:lnTo>
                    <a:pt x="508" y="1142"/>
                  </a:lnTo>
                  <a:lnTo>
                    <a:pt x="482" y="1136"/>
                  </a:lnTo>
                  <a:lnTo>
                    <a:pt x="456" y="1128"/>
                  </a:lnTo>
                  <a:lnTo>
                    <a:pt x="432" y="1120"/>
                  </a:lnTo>
                  <a:lnTo>
                    <a:pt x="408" y="1110"/>
                  </a:lnTo>
                  <a:lnTo>
                    <a:pt x="384" y="1100"/>
                  </a:lnTo>
                  <a:lnTo>
                    <a:pt x="360" y="1088"/>
                  </a:lnTo>
                  <a:lnTo>
                    <a:pt x="338" y="1074"/>
                  </a:lnTo>
                  <a:lnTo>
                    <a:pt x="316" y="1060"/>
                  </a:lnTo>
                  <a:lnTo>
                    <a:pt x="296" y="1046"/>
                  </a:lnTo>
                  <a:lnTo>
                    <a:pt x="276" y="1030"/>
                  </a:lnTo>
                  <a:lnTo>
                    <a:pt x="256" y="1012"/>
                  </a:lnTo>
                  <a:lnTo>
                    <a:pt x="238" y="994"/>
                  </a:lnTo>
                  <a:lnTo>
                    <a:pt x="220" y="976"/>
                  </a:lnTo>
                  <a:lnTo>
                    <a:pt x="202" y="956"/>
                  </a:lnTo>
                  <a:lnTo>
                    <a:pt x="186" y="936"/>
                  </a:lnTo>
                  <a:lnTo>
                    <a:pt x="172" y="916"/>
                  </a:lnTo>
                  <a:lnTo>
                    <a:pt x="158" y="894"/>
                  </a:lnTo>
                  <a:lnTo>
                    <a:pt x="144" y="872"/>
                  </a:lnTo>
                  <a:lnTo>
                    <a:pt x="132" y="848"/>
                  </a:lnTo>
                  <a:lnTo>
                    <a:pt x="122" y="824"/>
                  </a:lnTo>
                  <a:lnTo>
                    <a:pt x="112" y="800"/>
                  </a:lnTo>
                  <a:lnTo>
                    <a:pt x="104" y="776"/>
                  </a:lnTo>
                  <a:lnTo>
                    <a:pt x="96" y="750"/>
                  </a:lnTo>
                  <a:lnTo>
                    <a:pt x="90" y="724"/>
                  </a:lnTo>
                  <a:lnTo>
                    <a:pt x="86" y="698"/>
                  </a:lnTo>
                  <a:lnTo>
                    <a:pt x="82" y="670"/>
                  </a:lnTo>
                  <a:lnTo>
                    <a:pt x="80" y="644"/>
                  </a:lnTo>
                  <a:lnTo>
                    <a:pt x="80" y="616"/>
                  </a:lnTo>
                  <a:close/>
                </a:path>
              </a:pathLst>
            </a:custGeom>
            <a:solidFill>
              <a:srgbClr val="c0c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14" name="AutoShape 7"/>
          <p:cNvSpPr/>
          <p:nvPr/>
        </p:nvSpPr>
        <p:spPr>
          <a:xfrm rot="18900000">
            <a:off x="2997000" y="1233000"/>
            <a:ext cx="1152360" cy="4608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aa000"/>
              </a:gs>
              <a:gs pos="100000">
                <a:srgbClr val="cd8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5" name="Freeform 8"/>
          <p:cNvSpPr/>
          <p:nvPr/>
        </p:nvSpPr>
        <p:spPr>
          <a:xfrm>
            <a:off x="1366920" y="4124160"/>
            <a:ext cx="1625400" cy="160200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w="1024" h="1076">
                <a:moveTo>
                  <a:pt x="1024" y="1076"/>
                </a:moveTo>
                <a:lnTo>
                  <a:pt x="1024" y="1076"/>
                </a:lnTo>
                <a:lnTo>
                  <a:pt x="1024" y="1040"/>
                </a:lnTo>
                <a:lnTo>
                  <a:pt x="1022" y="986"/>
                </a:lnTo>
                <a:lnTo>
                  <a:pt x="1018" y="934"/>
                </a:lnTo>
                <a:lnTo>
                  <a:pt x="1012" y="884"/>
                </a:lnTo>
                <a:lnTo>
                  <a:pt x="1004" y="832"/>
                </a:lnTo>
                <a:lnTo>
                  <a:pt x="992" y="782"/>
                </a:lnTo>
                <a:lnTo>
                  <a:pt x="978" y="734"/>
                </a:lnTo>
                <a:lnTo>
                  <a:pt x="962" y="686"/>
                </a:lnTo>
                <a:lnTo>
                  <a:pt x="944" y="638"/>
                </a:lnTo>
                <a:lnTo>
                  <a:pt x="924" y="592"/>
                </a:lnTo>
                <a:lnTo>
                  <a:pt x="900" y="548"/>
                </a:lnTo>
                <a:lnTo>
                  <a:pt x="876" y="506"/>
                </a:lnTo>
                <a:lnTo>
                  <a:pt x="850" y="464"/>
                </a:lnTo>
                <a:lnTo>
                  <a:pt x="820" y="422"/>
                </a:lnTo>
                <a:lnTo>
                  <a:pt x="790" y="384"/>
                </a:lnTo>
                <a:lnTo>
                  <a:pt x="758" y="346"/>
                </a:lnTo>
                <a:lnTo>
                  <a:pt x="724" y="310"/>
                </a:lnTo>
                <a:lnTo>
                  <a:pt x="690" y="276"/>
                </a:lnTo>
                <a:lnTo>
                  <a:pt x="652" y="242"/>
                </a:lnTo>
                <a:lnTo>
                  <a:pt x="614" y="212"/>
                </a:lnTo>
                <a:lnTo>
                  <a:pt x="574" y="182"/>
                </a:lnTo>
                <a:lnTo>
                  <a:pt x="532" y="156"/>
                </a:lnTo>
                <a:lnTo>
                  <a:pt x="488" y="130"/>
                </a:lnTo>
                <a:lnTo>
                  <a:pt x="444" y="108"/>
                </a:lnTo>
                <a:lnTo>
                  <a:pt x="400" y="86"/>
                </a:lnTo>
                <a:lnTo>
                  <a:pt x="352" y="68"/>
                </a:lnTo>
                <a:lnTo>
                  <a:pt x="306" y="50"/>
                </a:lnTo>
                <a:lnTo>
                  <a:pt x="256" y="36"/>
                </a:lnTo>
                <a:lnTo>
                  <a:pt x="206" y="24"/>
                </a:lnTo>
                <a:lnTo>
                  <a:pt x="156" y="14"/>
                </a:lnTo>
                <a:lnTo>
                  <a:pt x="104" y="8"/>
                </a:lnTo>
                <a:lnTo>
                  <a:pt x="52" y="2"/>
                </a:lnTo>
                <a:lnTo>
                  <a:pt x="0" y="0"/>
                </a:lnTo>
                <a:lnTo>
                  <a:pt x="0" y="1076"/>
                </a:lnTo>
                <a:lnTo>
                  <a:pt x="1024" y="1076"/>
                </a:lnTo>
                <a:close/>
              </a:path>
            </a:pathLst>
          </a:custGeom>
          <a:gradFill rotWithShape="0">
            <a:gsLst>
              <a:gs pos="0">
                <a:srgbClr val="faa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7" name="Text Box 73"/>
          <p:cNvSpPr/>
          <p:nvPr/>
        </p:nvSpPr>
        <p:spPr>
          <a:xfrm>
            <a:off x="5224320" y="2125800"/>
            <a:ext cx="32036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look to your presentation Animation PowerPoint Templates &amp; Backgrounds for Your Impressive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asy Search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easy to use and functional search engine helps you locate the right templates quickly saving you tim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8" name="Text Box 74"/>
          <p:cNvSpPr/>
          <p:nvPr/>
        </p:nvSpPr>
        <p:spPr>
          <a:xfrm>
            <a:off x="1944720" y="5972040"/>
            <a:ext cx="33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o offer you what you want, when you wa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9" name="Text Box 55"/>
          <p:cNvSpPr/>
          <p:nvPr/>
        </p:nvSpPr>
        <p:spPr>
          <a:xfrm>
            <a:off x="448200" y="2330280"/>
            <a:ext cx="7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arity &amp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0" name="Text Box 56"/>
          <p:cNvSpPr/>
          <p:nvPr/>
        </p:nvSpPr>
        <p:spPr>
          <a:xfrm>
            <a:off x="421920" y="2951280"/>
            <a:ext cx="84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emiu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1" name="Text Box 57"/>
          <p:cNvSpPr/>
          <p:nvPr/>
        </p:nvSpPr>
        <p:spPr>
          <a:xfrm>
            <a:off x="627840" y="3564000"/>
            <a:ext cx="63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ubtl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ouch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2" name="Text Box 58"/>
          <p:cNvSpPr/>
          <p:nvPr/>
        </p:nvSpPr>
        <p:spPr>
          <a:xfrm>
            <a:off x="343080" y="4716360"/>
            <a:ext cx="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isual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ppeal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3" name="Oval 60"/>
          <p:cNvSpPr/>
          <p:nvPr/>
        </p:nvSpPr>
        <p:spPr>
          <a:xfrm>
            <a:off x="1476360" y="4211640"/>
            <a:ext cx="35568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4" name="Freeform 61"/>
          <p:cNvSpPr/>
          <p:nvPr/>
        </p:nvSpPr>
        <p:spPr>
          <a:xfrm>
            <a:off x="1370160" y="4124160"/>
            <a:ext cx="1118880" cy="48276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5" name="AutoShape 62"/>
          <p:cNvSpPr/>
          <p:nvPr/>
        </p:nvSpPr>
        <p:spPr>
          <a:xfrm rot="2700000">
            <a:off x="-870840" y="3484800"/>
            <a:ext cx="4481640" cy="4480200"/>
          </a:xfrm>
          <a:custGeom>
            <a:avLst/>
            <a:gdLst>
              <a:gd name="textAreaLeft" fmla="*/ 345960 w 4481640"/>
              <a:gd name="textAreaRight" fmla="*/ 4135680 w 4481640"/>
              <a:gd name="textAreaTop" fmla="*/ 0 h 4480200"/>
              <a:gd name="textAreaBottom" fmla="*/ 1339560 h 4480200"/>
            </a:gdLst>
            <a:ahLst/>
            <a:rect l="textAreaLeft" t="textAreaTop" r="textAreaRight" b="textAreaBottom"/>
            <a:pathLst>
              <a:path w="18469" h="5074">
                <a:moveTo>
                  <a:pt x="5024" y="5073"/>
                </a:moveTo>
                <a:cubicBezTo>
                  <a:pt x="6551" y="3533"/>
                  <a:pt x="8630" y="2666"/>
                  <a:pt x="10800" y="2667"/>
                </a:cubicBezTo>
                <a:cubicBezTo>
                  <a:pt x="12969" y="2667"/>
                  <a:pt x="15048" y="3533"/>
                  <a:pt x="16575" y="5073"/>
                </a:cubicBezTo>
                <a:lnTo>
                  <a:pt x="18469" y="3195"/>
                </a:lnTo>
                <a:cubicBezTo>
                  <a:pt x="16441" y="1150"/>
                  <a:pt x="13680" y="-1"/>
                  <a:pt x="10799" y="0"/>
                </a:cubicBezTo>
                <a:cubicBezTo>
                  <a:pt x="7919" y="0"/>
                  <a:pt x="5158" y="1150"/>
                  <a:pt x="3130" y="3195"/>
                </a:cubicBezTo>
                <a:lnTo>
                  <a:pt x="5024" y="5073"/>
                </a:lnTo>
                <a:close/>
              </a:path>
            </a:pathLst>
          </a:custGeom>
          <a:solidFill>
            <a:srgbClr val="99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6" name="AutoShape 63"/>
          <p:cNvSpPr/>
          <p:nvPr/>
        </p:nvSpPr>
        <p:spPr>
          <a:xfrm rot="2700000">
            <a:off x="-1490760" y="2865240"/>
            <a:ext cx="5727600" cy="5724360"/>
          </a:xfrm>
          <a:custGeom>
            <a:avLst/>
            <a:gdLst>
              <a:gd name="textAreaLeft" fmla="*/ 442800 w 5727600"/>
              <a:gd name="textAreaRight" fmla="*/ 5284800 w 5727600"/>
              <a:gd name="textAreaTop" fmla="*/ 0 h 5724360"/>
              <a:gd name="textAreaBottom" fmla="*/ 1645200 h 5724360"/>
            </a:gdLst>
            <a:ahLst/>
            <a:rect l="textAreaLeft" t="textAreaTop" r="textAreaRight" b="textAreaBottom"/>
            <a:pathLst>
              <a:path w="18470" h="4744">
                <a:moveTo>
                  <a:pt x="4689" y="4743"/>
                </a:moveTo>
                <a:cubicBezTo>
                  <a:pt x="6304" y="3113"/>
                  <a:pt x="8504" y="2195"/>
                  <a:pt x="10800" y="2196"/>
                </a:cubicBezTo>
                <a:cubicBezTo>
                  <a:pt x="13095" y="2196"/>
                  <a:pt x="15295" y="3113"/>
                  <a:pt x="16910" y="4743"/>
                </a:cubicBezTo>
                <a:lnTo>
                  <a:pt x="18470" y="3197"/>
                </a:lnTo>
                <a:cubicBezTo>
                  <a:pt x="16442" y="1151"/>
                  <a:pt x="13680" y="-1"/>
                  <a:pt x="10799" y="0"/>
                </a:cubicBezTo>
                <a:cubicBezTo>
                  <a:pt x="7919" y="0"/>
                  <a:pt x="5157" y="1151"/>
                  <a:pt x="3129" y="3197"/>
                </a:cubicBezTo>
                <a:lnTo>
                  <a:pt x="4689" y="4743"/>
                </a:lnTo>
                <a:close/>
              </a:path>
            </a:pathLst>
          </a:custGeom>
          <a:solidFill>
            <a:srgbClr val="ff9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7" name="AutoShape 64"/>
          <p:cNvSpPr/>
          <p:nvPr/>
        </p:nvSpPr>
        <p:spPr>
          <a:xfrm rot="2700000">
            <a:off x="-2122560" y="2232000"/>
            <a:ext cx="6983280" cy="6983640"/>
          </a:xfrm>
          <a:custGeom>
            <a:avLst/>
            <a:gdLst>
              <a:gd name="textAreaLeft" fmla="*/ 545760 w 6983280"/>
              <a:gd name="textAreaRight" fmla="*/ 6437520 w 6983280"/>
              <a:gd name="textAreaTop" fmla="*/ 0 h 6983640"/>
              <a:gd name="textAreaBottom" fmla="*/ 1931400 h 6983640"/>
            </a:gdLst>
            <a:ahLst/>
            <a:rect l="textAreaLeft" t="textAreaTop" r="textAreaRight" b="textAreaBottom"/>
            <a:pathLst>
              <a:path w="18448" h="4450">
                <a:moveTo>
                  <a:pt x="4430" y="4449"/>
                </a:moveTo>
                <a:cubicBezTo>
                  <a:pt x="6117" y="2756"/>
                  <a:pt x="8409" y="1804"/>
                  <a:pt x="10800" y="1805"/>
                </a:cubicBezTo>
                <a:cubicBezTo>
                  <a:pt x="13190" y="1805"/>
                  <a:pt x="15482" y="2756"/>
                  <a:pt x="17169" y="4449"/>
                </a:cubicBezTo>
                <a:lnTo>
                  <a:pt x="18448" y="3174"/>
                </a:lnTo>
                <a:cubicBezTo>
                  <a:pt x="16421" y="1142"/>
                  <a:pt x="13669" y="-1"/>
                  <a:pt x="10799" y="0"/>
                </a:cubicBezTo>
                <a:cubicBezTo>
                  <a:pt x="7930" y="0"/>
                  <a:pt x="5178" y="1142"/>
                  <a:pt x="3151" y="3174"/>
                </a:cubicBezTo>
                <a:lnTo>
                  <a:pt x="4430" y="4449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8" name="Freeform 65"/>
          <p:cNvSpPr/>
          <p:nvPr/>
        </p:nvSpPr>
        <p:spPr>
          <a:xfrm>
            <a:off x="1370160" y="2268360"/>
            <a:ext cx="2503440" cy="107820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1078200"/>
              <a:gd name="textAreaBottom" fmla="*/ 1078560 h 107820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9" name="Freeform 66"/>
          <p:cNvSpPr/>
          <p:nvPr/>
        </p:nvSpPr>
        <p:spPr>
          <a:xfrm>
            <a:off x="1370160" y="2892600"/>
            <a:ext cx="2009520" cy="865080"/>
          </a:xfrm>
          <a:custGeom>
            <a:avLst/>
            <a:gdLst>
              <a:gd name="textAreaLeft" fmla="*/ 0 w 2009520"/>
              <a:gd name="textAreaRight" fmla="*/ 2009880 w 20095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0" name="Freeform 67"/>
          <p:cNvSpPr/>
          <p:nvPr/>
        </p:nvSpPr>
        <p:spPr>
          <a:xfrm>
            <a:off x="1370160" y="3517920"/>
            <a:ext cx="1581120" cy="68112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1" name="Freeform 68"/>
          <p:cNvSpPr/>
          <p:nvPr/>
        </p:nvSpPr>
        <p:spPr>
          <a:xfrm>
            <a:off x="1370160" y="1692360"/>
            <a:ext cx="4070160" cy="4033800"/>
          </a:xfrm>
          <a:custGeom>
            <a:avLst/>
            <a:gdLst>
              <a:gd name="textAreaLeft" fmla="*/ 0 w 4070160"/>
              <a:gd name="textAreaRight" fmla="*/ 4070520 w 4070160"/>
              <a:gd name="textAreaTop" fmla="*/ 0 h 4033800"/>
              <a:gd name="textAreaBottom" fmla="*/ 4034160 h 4033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cap="rnd" w="38160">
            <a:solidFill>
              <a:srgbClr val="c0c0c0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2" name="WordArt 69"/>
          <p:cNvSpPr txBox="1"/>
          <p:nvPr/>
        </p:nvSpPr>
        <p:spPr>
          <a:xfrm rot="2700000">
            <a:off x="-641880" y="2820240"/>
            <a:ext cx="5332320" cy="455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797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Immense Visual Appeal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3" name="WordArt 70"/>
          <p:cNvSpPr txBox="1"/>
          <p:nvPr/>
        </p:nvSpPr>
        <p:spPr>
          <a:xfrm rot="2700000">
            <a:off x="-698040" y="3283560"/>
            <a:ext cx="4632480" cy="438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79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Eye-Catching Visual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4" name="WordArt 71"/>
          <p:cNvSpPr txBox="1"/>
          <p:nvPr/>
        </p:nvSpPr>
        <p:spPr>
          <a:xfrm rot="2700000">
            <a:off x="119880" y="3980880"/>
            <a:ext cx="3324240" cy="266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8030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Easy To Use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5" name="WordArt 72"/>
          <p:cNvSpPr txBox="1"/>
          <p:nvPr/>
        </p:nvSpPr>
        <p:spPr>
          <a:xfrm rot="2700000">
            <a:off x="-470880" y="4210560"/>
            <a:ext cx="3160800" cy="348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797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Universal Design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6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85840" y="1197000"/>
            <a:ext cx="8569080" cy="4965840"/>
            <a:chOff x="285840" y="1197000"/>
            <a:chExt cx="8569080" cy="4965840"/>
          </a:xfrm>
        </p:grpSpPr>
        <p:grpSp>
          <p:nvGrpSpPr>
            <p:cNvPr id="939" name=""/>
            <p:cNvGrpSpPr/>
            <p:nvPr/>
          </p:nvGrpSpPr>
          <p:grpSpPr>
            <a:xfrm>
              <a:off x="631800" y="1197000"/>
              <a:ext cx="3290760" cy="2517480"/>
              <a:chOff x="631800" y="1197000"/>
              <a:chExt cx="3290760" cy="251748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631800" y="1197000"/>
                <a:ext cx="3290760" cy="2516040"/>
                <a:chOff x="631800" y="1197000"/>
                <a:chExt cx="3290760" cy="2516040"/>
              </a:xfrm>
            </p:grpSpPr>
            <p:sp>
              <p:nvSpPr>
                <p:cNvPr id="941" name="Freeform 91"/>
                <p:cNvSpPr/>
                <p:nvPr/>
              </p:nvSpPr>
              <p:spPr>
                <a:xfrm>
                  <a:off x="2984400" y="2994120"/>
                  <a:ext cx="196920" cy="12060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24" h="76">
                      <a:moveTo>
                        <a:pt x="12" y="76"/>
                      </a:moveTo>
                      <a:lnTo>
                        <a:pt x="0" y="49"/>
                      </a:lnTo>
                      <a:lnTo>
                        <a:pt x="8" y="19"/>
                      </a:lnTo>
                      <a:lnTo>
                        <a:pt x="58" y="0"/>
                      </a:lnTo>
                      <a:lnTo>
                        <a:pt x="124" y="19"/>
                      </a:lnTo>
                      <a:lnTo>
                        <a:pt x="112" y="54"/>
                      </a:lnTo>
                      <a:lnTo>
                        <a:pt x="62" y="54"/>
                      </a:lnTo>
                      <a:lnTo>
                        <a:pt x="56" y="58"/>
                      </a:lnTo>
                      <a:lnTo>
                        <a:pt x="42" y="66"/>
                      </a:lnTo>
                      <a:lnTo>
                        <a:pt x="35" y="70"/>
                      </a:lnTo>
                      <a:lnTo>
                        <a:pt x="26" y="75"/>
                      </a:lnTo>
                      <a:lnTo>
                        <a:pt x="18" y="76"/>
                      </a:lnTo>
                      <a:lnTo>
                        <a:pt x="12" y="7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42" name="Freeform 92"/>
                <p:cNvSpPr/>
                <p:nvPr/>
              </p:nvSpPr>
              <p:spPr>
                <a:xfrm>
                  <a:off x="2365200" y="1890720"/>
                  <a:ext cx="567000" cy="671400"/>
                </a:xfrm>
                <a:custGeom>
                  <a:avLst/>
                  <a:gdLst>
                    <a:gd name="textAreaLeft" fmla="*/ 0 w 567000"/>
                    <a:gd name="textAreaRight" fmla="*/ 567360 w 567000"/>
                    <a:gd name="textAreaTop" fmla="*/ 0 h 671400"/>
                    <a:gd name="textAreaBottom" fmla="*/ 671760 h 671400"/>
                  </a:gdLst>
                  <a:ahLst/>
                  <a:rect l="textAreaLeft" t="textAreaTop" r="textAreaRight" b="textAreaBottom"/>
                  <a:pathLst>
                    <a:path w="357" h="423">
                      <a:moveTo>
                        <a:pt x="261" y="423"/>
                      </a:moveTo>
                      <a:lnTo>
                        <a:pt x="234" y="389"/>
                      </a:lnTo>
                      <a:lnTo>
                        <a:pt x="231" y="362"/>
                      </a:lnTo>
                      <a:lnTo>
                        <a:pt x="181" y="339"/>
                      </a:lnTo>
                      <a:lnTo>
                        <a:pt x="142" y="301"/>
                      </a:lnTo>
                      <a:lnTo>
                        <a:pt x="131" y="279"/>
                      </a:lnTo>
                      <a:lnTo>
                        <a:pt x="173" y="262"/>
                      </a:lnTo>
                      <a:lnTo>
                        <a:pt x="188" y="205"/>
                      </a:lnTo>
                      <a:lnTo>
                        <a:pt x="176" y="140"/>
                      </a:lnTo>
                      <a:lnTo>
                        <a:pt x="104" y="148"/>
                      </a:lnTo>
                      <a:lnTo>
                        <a:pt x="47" y="125"/>
                      </a:lnTo>
                      <a:lnTo>
                        <a:pt x="0" y="68"/>
                      </a:lnTo>
                      <a:lnTo>
                        <a:pt x="24" y="26"/>
                      </a:lnTo>
                      <a:lnTo>
                        <a:pt x="62" y="95"/>
                      </a:lnTo>
                      <a:lnTo>
                        <a:pt x="60" y="92"/>
                      </a:lnTo>
                      <a:lnTo>
                        <a:pt x="59" y="84"/>
                      </a:lnTo>
                      <a:lnTo>
                        <a:pt x="59" y="81"/>
                      </a:lnTo>
                      <a:lnTo>
                        <a:pt x="60" y="78"/>
                      </a:lnTo>
                      <a:lnTo>
                        <a:pt x="62" y="77"/>
                      </a:lnTo>
                      <a:lnTo>
                        <a:pt x="66" y="75"/>
                      </a:lnTo>
                      <a:lnTo>
                        <a:pt x="68" y="75"/>
                      </a:lnTo>
                      <a:lnTo>
                        <a:pt x="69" y="72"/>
                      </a:lnTo>
                      <a:lnTo>
                        <a:pt x="69" y="65"/>
                      </a:lnTo>
                      <a:lnTo>
                        <a:pt x="68" y="54"/>
                      </a:lnTo>
                      <a:lnTo>
                        <a:pt x="66" y="42"/>
                      </a:lnTo>
                      <a:lnTo>
                        <a:pt x="60" y="21"/>
                      </a:lnTo>
                      <a:lnTo>
                        <a:pt x="59" y="11"/>
                      </a:lnTo>
                      <a:lnTo>
                        <a:pt x="63" y="8"/>
                      </a:lnTo>
                      <a:lnTo>
                        <a:pt x="74" y="3"/>
                      </a:lnTo>
                      <a:lnTo>
                        <a:pt x="80" y="1"/>
                      </a:lnTo>
                      <a:lnTo>
                        <a:pt x="86" y="0"/>
                      </a:lnTo>
                      <a:lnTo>
                        <a:pt x="90" y="3"/>
                      </a:lnTo>
                      <a:lnTo>
                        <a:pt x="92" y="6"/>
                      </a:lnTo>
                      <a:lnTo>
                        <a:pt x="93" y="14"/>
                      </a:lnTo>
                      <a:lnTo>
                        <a:pt x="93" y="23"/>
                      </a:lnTo>
                      <a:lnTo>
                        <a:pt x="92" y="41"/>
                      </a:lnTo>
                      <a:lnTo>
                        <a:pt x="93" y="50"/>
                      </a:lnTo>
                      <a:lnTo>
                        <a:pt x="98" y="57"/>
                      </a:lnTo>
                      <a:lnTo>
                        <a:pt x="101" y="60"/>
                      </a:lnTo>
                      <a:lnTo>
                        <a:pt x="106" y="62"/>
                      </a:lnTo>
                      <a:lnTo>
                        <a:pt x="110" y="63"/>
                      </a:lnTo>
                      <a:lnTo>
                        <a:pt x="116" y="63"/>
                      </a:lnTo>
                      <a:lnTo>
                        <a:pt x="127" y="63"/>
                      </a:lnTo>
                      <a:lnTo>
                        <a:pt x="137" y="62"/>
                      </a:lnTo>
                      <a:lnTo>
                        <a:pt x="145" y="59"/>
                      </a:lnTo>
                      <a:lnTo>
                        <a:pt x="151" y="56"/>
                      </a:lnTo>
                      <a:lnTo>
                        <a:pt x="160" y="51"/>
                      </a:lnTo>
                      <a:lnTo>
                        <a:pt x="161" y="48"/>
                      </a:lnTo>
                      <a:lnTo>
                        <a:pt x="246" y="71"/>
                      </a:lnTo>
                      <a:lnTo>
                        <a:pt x="250" y="77"/>
                      </a:lnTo>
                      <a:lnTo>
                        <a:pt x="261" y="89"/>
                      </a:lnTo>
                      <a:lnTo>
                        <a:pt x="267" y="98"/>
                      </a:lnTo>
                      <a:lnTo>
                        <a:pt x="271" y="107"/>
                      </a:lnTo>
                      <a:lnTo>
                        <a:pt x="274" y="118"/>
                      </a:lnTo>
                      <a:lnTo>
                        <a:pt x="276" y="130"/>
                      </a:lnTo>
                      <a:lnTo>
                        <a:pt x="279" y="181"/>
                      </a:lnTo>
                      <a:lnTo>
                        <a:pt x="280" y="209"/>
                      </a:lnTo>
                      <a:lnTo>
                        <a:pt x="338" y="220"/>
                      </a:lnTo>
                      <a:lnTo>
                        <a:pt x="357" y="286"/>
                      </a:lnTo>
                      <a:lnTo>
                        <a:pt x="326" y="294"/>
                      </a:lnTo>
                      <a:lnTo>
                        <a:pt x="307" y="279"/>
                      </a:lnTo>
                      <a:lnTo>
                        <a:pt x="280" y="267"/>
                      </a:lnTo>
                      <a:lnTo>
                        <a:pt x="280" y="274"/>
                      </a:lnTo>
                      <a:lnTo>
                        <a:pt x="280" y="291"/>
                      </a:lnTo>
                      <a:lnTo>
                        <a:pt x="282" y="298"/>
                      </a:lnTo>
                      <a:lnTo>
                        <a:pt x="283" y="307"/>
                      </a:lnTo>
                      <a:lnTo>
                        <a:pt x="286" y="313"/>
                      </a:lnTo>
                      <a:lnTo>
                        <a:pt x="289" y="315"/>
                      </a:lnTo>
                      <a:lnTo>
                        <a:pt x="291" y="316"/>
                      </a:lnTo>
                      <a:lnTo>
                        <a:pt x="301" y="318"/>
                      </a:lnTo>
                      <a:lnTo>
                        <a:pt x="304" y="319"/>
                      </a:lnTo>
                      <a:lnTo>
                        <a:pt x="307" y="322"/>
                      </a:lnTo>
                      <a:lnTo>
                        <a:pt x="309" y="325"/>
                      </a:lnTo>
                      <a:lnTo>
                        <a:pt x="310" y="331"/>
                      </a:lnTo>
                      <a:lnTo>
                        <a:pt x="310" y="351"/>
                      </a:lnTo>
                      <a:lnTo>
                        <a:pt x="310" y="363"/>
                      </a:lnTo>
                      <a:lnTo>
                        <a:pt x="307" y="372"/>
                      </a:lnTo>
                      <a:lnTo>
                        <a:pt x="304" y="380"/>
                      </a:lnTo>
                      <a:lnTo>
                        <a:pt x="301" y="384"/>
                      </a:lnTo>
                      <a:lnTo>
                        <a:pt x="294" y="392"/>
                      </a:lnTo>
                      <a:lnTo>
                        <a:pt x="291" y="393"/>
                      </a:lnTo>
                      <a:lnTo>
                        <a:pt x="291" y="423"/>
                      </a:lnTo>
                      <a:lnTo>
                        <a:pt x="261" y="42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43" name="Freeform 93"/>
                <p:cNvSpPr/>
                <p:nvPr/>
              </p:nvSpPr>
              <p:spPr>
                <a:xfrm>
                  <a:off x="2676600" y="1197000"/>
                  <a:ext cx="1245960" cy="1428840"/>
                </a:xfrm>
                <a:custGeom>
                  <a:avLst/>
                  <a:gdLst>
                    <a:gd name="textAreaLeft" fmla="*/ 0 w 1245960"/>
                    <a:gd name="textAreaRight" fmla="*/ 1246320 w 1245960"/>
                    <a:gd name="textAreaTop" fmla="*/ 0 h 1428840"/>
                    <a:gd name="textAreaBottom" fmla="*/ 1429200 h 1428840"/>
                  </a:gdLst>
                  <a:ahLst/>
                  <a:rect l="textAreaLeft" t="textAreaTop" r="textAreaRight" b="textAreaBottom"/>
                  <a:pathLst>
                    <a:path w="785" h="900">
                      <a:moveTo>
                        <a:pt x="368" y="848"/>
                      </a:moveTo>
                      <a:lnTo>
                        <a:pt x="328" y="781"/>
                      </a:lnTo>
                      <a:lnTo>
                        <a:pt x="291" y="731"/>
                      </a:lnTo>
                      <a:lnTo>
                        <a:pt x="291" y="646"/>
                      </a:lnTo>
                      <a:lnTo>
                        <a:pt x="294" y="567"/>
                      </a:lnTo>
                      <a:lnTo>
                        <a:pt x="294" y="508"/>
                      </a:lnTo>
                      <a:lnTo>
                        <a:pt x="256" y="535"/>
                      </a:lnTo>
                      <a:lnTo>
                        <a:pt x="256" y="478"/>
                      </a:lnTo>
                      <a:lnTo>
                        <a:pt x="229" y="378"/>
                      </a:lnTo>
                      <a:lnTo>
                        <a:pt x="199" y="318"/>
                      </a:lnTo>
                      <a:lnTo>
                        <a:pt x="126" y="301"/>
                      </a:lnTo>
                      <a:lnTo>
                        <a:pt x="62" y="268"/>
                      </a:lnTo>
                      <a:lnTo>
                        <a:pt x="23" y="241"/>
                      </a:lnTo>
                      <a:lnTo>
                        <a:pt x="62" y="229"/>
                      </a:lnTo>
                      <a:lnTo>
                        <a:pt x="0" y="191"/>
                      </a:lnTo>
                      <a:lnTo>
                        <a:pt x="0" y="184"/>
                      </a:lnTo>
                      <a:lnTo>
                        <a:pt x="1" y="176"/>
                      </a:lnTo>
                      <a:lnTo>
                        <a:pt x="3" y="169"/>
                      </a:lnTo>
                      <a:lnTo>
                        <a:pt x="7" y="160"/>
                      </a:lnTo>
                      <a:lnTo>
                        <a:pt x="12" y="152"/>
                      </a:lnTo>
                      <a:lnTo>
                        <a:pt x="16" y="149"/>
                      </a:lnTo>
                      <a:lnTo>
                        <a:pt x="21" y="148"/>
                      </a:lnTo>
                      <a:lnTo>
                        <a:pt x="26" y="146"/>
                      </a:lnTo>
                      <a:lnTo>
                        <a:pt x="30" y="145"/>
                      </a:lnTo>
                      <a:lnTo>
                        <a:pt x="44" y="145"/>
                      </a:lnTo>
                      <a:lnTo>
                        <a:pt x="62" y="142"/>
                      </a:lnTo>
                      <a:lnTo>
                        <a:pt x="99" y="134"/>
                      </a:lnTo>
                      <a:lnTo>
                        <a:pt x="145" y="122"/>
                      </a:lnTo>
                      <a:lnTo>
                        <a:pt x="166" y="101"/>
                      </a:lnTo>
                      <a:lnTo>
                        <a:pt x="182" y="83"/>
                      </a:lnTo>
                      <a:lnTo>
                        <a:pt x="194" y="72"/>
                      </a:lnTo>
                      <a:lnTo>
                        <a:pt x="205" y="63"/>
                      </a:lnTo>
                      <a:lnTo>
                        <a:pt x="218" y="53"/>
                      </a:lnTo>
                      <a:lnTo>
                        <a:pt x="226" y="47"/>
                      </a:lnTo>
                      <a:lnTo>
                        <a:pt x="235" y="42"/>
                      </a:lnTo>
                      <a:lnTo>
                        <a:pt x="246" y="39"/>
                      </a:lnTo>
                      <a:lnTo>
                        <a:pt x="256" y="38"/>
                      </a:lnTo>
                      <a:lnTo>
                        <a:pt x="267" y="38"/>
                      </a:lnTo>
                      <a:lnTo>
                        <a:pt x="279" y="36"/>
                      </a:lnTo>
                      <a:lnTo>
                        <a:pt x="298" y="32"/>
                      </a:lnTo>
                      <a:lnTo>
                        <a:pt x="316" y="29"/>
                      </a:lnTo>
                      <a:lnTo>
                        <a:pt x="333" y="27"/>
                      </a:lnTo>
                      <a:lnTo>
                        <a:pt x="340" y="29"/>
                      </a:lnTo>
                      <a:lnTo>
                        <a:pt x="350" y="33"/>
                      </a:lnTo>
                      <a:lnTo>
                        <a:pt x="371" y="45"/>
                      </a:lnTo>
                      <a:lnTo>
                        <a:pt x="389" y="59"/>
                      </a:lnTo>
                      <a:lnTo>
                        <a:pt x="396" y="63"/>
                      </a:lnTo>
                      <a:lnTo>
                        <a:pt x="401" y="65"/>
                      </a:lnTo>
                      <a:lnTo>
                        <a:pt x="413" y="63"/>
                      </a:lnTo>
                      <a:lnTo>
                        <a:pt x="428" y="62"/>
                      </a:lnTo>
                      <a:lnTo>
                        <a:pt x="435" y="59"/>
                      </a:lnTo>
                      <a:lnTo>
                        <a:pt x="443" y="56"/>
                      </a:lnTo>
                      <a:lnTo>
                        <a:pt x="450" y="51"/>
                      </a:lnTo>
                      <a:lnTo>
                        <a:pt x="455" y="45"/>
                      </a:lnTo>
                      <a:lnTo>
                        <a:pt x="461" y="41"/>
                      </a:lnTo>
                      <a:lnTo>
                        <a:pt x="470" y="35"/>
                      </a:lnTo>
                      <a:lnTo>
                        <a:pt x="482" y="30"/>
                      </a:lnTo>
                      <a:lnTo>
                        <a:pt x="494" y="27"/>
                      </a:lnTo>
                      <a:lnTo>
                        <a:pt x="520" y="21"/>
                      </a:lnTo>
                      <a:lnTo>
                        <a:pt x="539" y="20"/>
                      </a:lnTo>
                      <a:lnTo>
                        <a:pt x="557" y="17"/>
                      </a:lnTo>
                      <a:lnTo>
                        <a:pt x="582" y="12"/>
                      </a:lnTo>
                      <a:lnTo>
                        <a:pt x="624" y="3"/>
                      </a:lnTo>
                      <a:lnTo>
                        <a:pt x="643" y="0"/>
                      </a:lnTo>
                      <a:lnTo>
                        <a:pt x="655" y="0"/>
                      </a:lnTo>
                      <a:lnTo>
                        <a:pt x="669" y="0"/>
                      </a:lnTo>
                      <a:lnTo>
                        <a:pt x="681" y="0"/>
                      </a:lnTo>
                      <a:lnTo>
                        <a:pt x="692" y="3"/>
                      </a:lnTo>
                      <a:lnTo>
                        <a:pt x="696" y="5"/>
                      </a:lnTo>
                      <a:lnTo>
                        <a:pt x="699" y="8"/>
                      </a:lnTo>
                      <a:lnTo>
                        <a:pt x="702" y="11"/>
                      </a:lnTo>
                      <a:lnTo>
                        <a:pt x="704" y="15"/>
                      </a:lnTo>
                      <a:lnTo>
                        <a:pt x="704" y="23"/>
                      </a:lnTo>
                      <a:lnTo>
                        <a:pt x="704" y="29"/>
                      </a:lnTo>
                      <a:lnTo>
                        <a:pt x="702" y="35"/>
                      </a:lnTo>
                      <a:lnTo>
                        <a:pt x="702" y="42"/>
                      </a:lnTo>
                      <a:lnTo>
                        <a:pt x="704" y="51"/>
                      </a:lnTo>
                      <a:lnTo>
                        <a:pt x="710" y="63"/>
                      </a:lnTo>
                      <a:lnTo>
                        <a:pt x="719" y="80"/>
                      </a:lnTo>
                      <a:lnTo>
                        <a:pt x="734" y="102"/>
                      </a:lnTo>
                      <a:lnTo>
                        <a:pt x="752" y="128"/>
                      </a:lnTo>
                      <a:lnTo>
                        <a:pt x="765" y="152"/>
                      </a:lnTo>
                      <a:lnTo>
                        <a:pt x="776" y="175"/>
                      </a:lnTo>
                      <a:lnTo>
                        <a:pt x="782" y="194"/>
                      </a:lnTo>
                      <a:lnTo>
                        <a:pt x="785" y="209"/>
                      </a:lnTo>
                      <a:lnTo>
                        <a:pt x="785" y="217"/>
                      </a:lnTo>
                      <a:lnTo>
                        <a:pt x="785" y="223"/>
                      </a:lnTo>
                      <a:lnTo>
                        <a:pt x="783" y="228"/>
                      </a:lnTo>
                      <a:lnTo>
                        <a:pt x="780" y="231"/>
                      </a:lnTo>
                      <a:lnTo>
                        <a:pt x="777" y="232"/>
                      </a:lnTo>
                      <a:lnTo>
                        <a:pt x="773" y="234"/>
                      </a:lnTo>
                      <a:lnTo>
                        <a:pt x="755" y="234"/>
                      </a:lnTo>
                      <a:lnTo>
                        <a:pt x="749" y="235"/>
                      </a:lnTo>
                      <a:lnTo>
                        <a:pt x="743" y="238"/>
                      </a:lnTo>
                      <a:lnTo>
                        <a:pt x="740" y="246"/>
                      </a:lnTo>
                      <a:lnTo>
                        <a:pt x="737" y="258"/>
                      </a:lnTo>
                      <a:lnTo>
                        <a:pt x="735" y="274"/>
                      </a:lnTo>
                      <a:lnTo>
                        <a:pt x="734" y="298"/>
                      </a:lnTo>
                      <a:lnTo>
                        <a:pt x="734" y="470"/>
                      </a:lnTo>
                      <a:lnTo>
                        <a:pt x="735" y="506"/>
                      </a:lnTo>
                      <a:lnTo>
                        <a:pt x="735" y="529"/>
                      </a:lnTo>
                      <a:lnTo>
                        <a:pt x="734" y="550"/>
                      </a:lnTo>
                      <a:lnTo>
                        <a:pt x="732" y="570"/>
                      </a:lnTo>
                      <a:lnTo>
                        <a:pt x="728" y="588"/>
                      </a:lnTo>
                      <a:lnTo>
                        <a:pt x="725" y="594"/>
                      </a:lnTo>
                      <a:lnTo>
                        <a:pt x="722" y="598"/>
                      </a:lnTo>
                      <a:lnTo>
                        <a:pt x="717" y="603"/>
                      </a:lnTo>
                      <a:lnTo>
                        <a:pt x="711" y="604"/>
                      </a:lnTo>
                      <a:lnTo>
                        <a:pt x="687" y="607"/>
                      </a:lnTo>
                      <a:lnTo>
                        <a:pt x="660" y="612"/>
                      </a:lnTo>
                      <a:lnTo>
                        <a:pt x="648" y="616"/>
                      </a:lnTo>
                      <a:lnTo>
                        <a:pt x="636" y="621"/>
                      </a:lnTo>
                      <a:lnTo>
                        <a:pt x="625" y="627"/>
                      </a:lnTo>
                      <a:lnTo>
                        <a:pt x="616" y="634"/>
                      </a:lnTo>
                      <a:lnTo>
                        <a:pt x="606" y="643"/>
                      </a:lnTo>
                      <a:lnTo>
                        <a:pt x="595" y="649"/>
                      </a:lnTo>
                      <a:lnTo>
                        <a:pt x="574" y="663"/>
                      </a:lnTo>
                      <a:lnTo>
                        <a:pt x="554" y="674"/>
                      </a:lnTo>
                      <a:lnTo>
                        <a:pt x="547" y="680"/>
                      </a:lnTo>
                      <a:lnTo>
                        <a:pt x="542" y="684"/>
                      </a:lnTo>
                      <a:lnTo>
                        <a:pt x="535" y="704"/>
                      </a:lnTo>
                      <a:lnTo>
                        <a:pt x="532" y="711"/>
                      </a:lnTo>
                      <a:lnTo>
                        <a:pt x="527" y="711"/>
                      </a:lnTo>
                      <a:lnTo>
                        <a:pt x="517" y="711"/>
                      </a:lnTo>
                      <a:lnTo>
                        <a:pt x="511" y="713"/>
                      </a:lnTo>
                      <a:lnTo>
                        <a:pt x="506" y="716"/>
                      </a:lnTo>
                      <a:lnTo>
                        <a:pt x="500" y="720"/>
                      </a:lnTo>
                      <a:lnTo>
                        <a:pt x="497" y="726"/>
                      </a:lnTo>
                      <a:lnTo>
                        <a:pt x="488" y="744"/>
                      </a:lnTo>
                      <a:lnTo>
                        <a:pt x="475" y="768"/>
                      </a:lnTo>
                      <a:lnTo>
                        <a:pt x="469" y="781"/>
                      </a:lnTo>
                      <a:lnTo>
                        <a:pt x="464" y="794"/>
                      </a:lnTo>
                      <a:lnTo>
                        <a:pt x="460" y="806"/>
                      </a:lnTo>
                      <a:lnTo>
                        <a:pt x="460" y="818"/>
                      </a:lnTo>
                      <a:lnTo>
                        <a:pt x="460" y="862"/>
                      </a:lnTo>
                      <a:lnTo>
                        <a:pt x="461" y="878"/>
                      </a:lnTo>
                      <a:lnTo>
                        <a:pt x="460" y="891"/>
                      </a:lnTo>
                      <a:lnTo>
                        <a:pt x="458" y="894"/>
                      </a:lnTo>
                      <a:lnTo>
                        <a:pt x="455" y="895"/>
                      </a:lnTo>
                      <a:lnTo>
                        <a:pt x="446" y="897"/>
                      </a:lnTo>
                      <a:lnTo>
                        <a:pt x="432" y="898"/>
                      </a:lnTo>
                      <a:lnTo>
                        <a:pt x="419" y="900"/>
                      </a:lnTo>
                      <a:lnTo>
                        <a:pt x="393" y="900"/>
                      </a:lnTo>
                      <a:lnTo>
                        <a:pt x="383" y="898"/>
                      </a:lnTo>
                      <a:lnTo>
                        <a:pt x="368" y="848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44" name="Freeform 94"/>
                <p:cNvSpPr/>
                <p:nvPr/>
              </p:nvSpPr>
              <p:spPr>
                <a:xfrm>
                  <a:off x="631800" y="2033640"/>
                  <a:ext cx="2408400" cy="1679400"/>
                </a:xfrm>
                <a:custGeom>
                  <a:avLst/>
                  <a:gdLst>
                    <a:gd name="textAreaLeft" fmla="*/ 0 w 2408400"/>
                    <a:gd name="textAreaRight" fmla="*/ 2408760 w 2408400"/>
                    <a:gd name="textAreaTop" fmla="*/ 0 h 1679400"/>
                    <a:gd name="textAreaBottom" fmla="*/ 1679760 h 1679400"/>
                  </a:gdLst>
                  <a:ahLst/>
                  <a:rect l="textAreaLeft" t="textAreaTop" r="textAreaRight" b="textAreaBottom"/>
                  <a:pathLst>
                    <a:path w="1517" h="1058">
                      <a:moveTo>
                        <a:pt x="815" y="971"/>
                      </a:moveTo>
                      <a:lnTo>
                        <a:pt x="815" y="971"/>
                      </a:lnTo>
                      <a:lnTo>
                        <a:pt x="828" y="971"/>
                      </a:lnTo>
                      <a:lnTo>
                        <a:pt x="842" y="974"/>
                      </a:lnTo>
                      <a:lnTo>
                        <a:pt x="854" y="977"/>
                      </a:lnTo>
                      <a:lnTo>
                        <a:pt x="861" y="980"/>
                      </a:lnTo>
                      <a:lnTo>
                        <a:pt x="883" y="996"/>
                      </a:lnTo>
                      <a:lnTo>
                        <a:pt x="893" y="1005"/>
                      </a:lnTo>
                      <a:lnTo>
                        <a:pt x="898" y="1007"/>
                      </a:lnTo>
                      <a:lnTo>
                        <a:pt x="902" y="1007"/>
                      </a:lnTo>
                      <a:lnTo>
                        <a:pt x="913" y="1001"/>
                      </a:lnTo>
                      <a:lnTo>
                        <a:pt x="917" y="1001"/>
                      </a:lnTo>
                      <a:lnTo>
                        <a:pt x="919" y="1001"/>
                      </a:lnTo>
                      <a:lnTo>
                        <a:pt x="920" y="1002"/>
                      </a:lnTo>
                      <a:lnTo>
                        <a:pt x="934" y="1018"/>
                      </a:lnTo>
                      <a:lnTo>
                        <a:pt x="947" y="1031"/>
                      </a:lnTo>
                      <a:lnTo>
                        <a:pt x="949" y="1033"/>
                      </a:lnTo>
                      <a:lnTo>
                        <a:pt x="949" y="1034"/>
                      </a:lnTo>
                      <a:lnTo>
                        <a:pt x="949" y="1039"/>
                      </a:lnTo>
                      <a:lnTo>
                        <a:pt x="950" y="1042"/>
                      </a:lnTo>
                      <a:lnTo>
                        <a:pt x="953" y="1045"/>
                      </a:lnTo>
                      <a:lnTo>
                        <a:pt x="958" y="1048"/>
                      </a:lnTo>
                      <a:lnTo>
                        <a:pt x="967" y="1051"/>
                      </a:lnTo>
                      <a:lnTo>
                        <a:pt x="967" y="1043"/>
                      </a:lnTo>
                      <a:lnTo>
                        <a:pt x="968" y="1037"/>
                      </a:lnTo>
                      <a:lnTo>
                        <a:pt x="970" y="1031"/>
                      </a:lnTo>
                      <a:lnTo>
                        <a:pt x="974" y="1025"/>
                      </a:lnTo>
                      <a:lnTo>
                        <a:pt x="982" y="1016"/>
                      </a:lnTo>
                      <a:lnTo>
                        <a:pt x="993" y="1007"/>
                      </a:lnTo>
                      <a:lnTo>
                        <a:pt x="1005" y="1001"/>
                      </a:lnTo>
                      <a:lnTo>
                        <a:pt x="1017" y="996"/>
                      </a:lnTo>
                      <a:lnTo>
                        <a:pt x="1039" y="992"/>
                      </a:lnTo>
                      <a:lnTo>
                        <a:pt x="1051" y="989"/>
                      </a:lnTo>
                      <a:lnTo>
                        <a:pt x="1060" y="987"/>
                      </a:lnTo>
                      <a:lnTo>
                        <a:pt x="1077" y="989"/>
                      </a:lnTo>
                      <a:lnTo>
                        <a:pt x="1088" y="990"/>
                      </a:lnTo>
                      <a:lnTo>
                        <a:pt x="1097" y="992"/>
                      </a:lnTo>
                      <a:lnTo>
                        <a:pt x="1103" y="992"/>
                      </a:lnTo>
                      <a:lnTo>
                        <a:pt x="1109" y="995"/>
                      </a:lnTo>
                      <a:lnTo>
                        <a:pt x="1125" y="1001"/>
                      </a:lnTo>
                      <a:lnTo>
                        <a:pt x="1146" y="1010"/>
                      </a:lnTo>
                      <a:lnTo>
                        <a:pt x="1166" y="1057"/>
                      </a:lnTo>
                      <a:lnTo>
                        <a:pt x="1170" y="1057"/>
                      </a:lnTo>
                      <a:lnTo>
                        <a:pt x="1181" y="1058"/>
                      </a:lnTo>
                      <a:lnTo>
                        <a:pt x="1187" y="1058"/>
                      </a:lnTo>
                      <a:lnTo>
                        <a:pt x="1191" y="1057"/>
                      </a:lnTo>
                      <a:lnTo>
                        <a:pt x="1194" y="1054"/>
                      </a:lnTo>
                      <a:lnTo>
                        <a:pt x="1196" y="1049"/>
                      </a:lnTo>
                      <a:lnTo>
                        <a:pt x="1196" y="968"/>
                      </a:lnTo>
                      <a:lnTo>
                        <a:pt x="1198" y="953"/>
                      </a:lnTo>
                      <a:lnTo>
                        <a:pt x="1204" y="935"/>
                      </a:lnTo>
                      <a:lnTo>
                        <a:pt x="1211" y="915"/>
                      </a:lnTo>
                      <a:lnTo>
                        <a:pt x="1222" y="894"/>
                      </a:lnTo>
                      <a:lnTo>
                        <a:pt x="1238" y="861"/>
                      </a:lnTo>
                      <a:lnTo>
                        <a:pt x="1246" y="846"/>
                      </a:lnTo>
                      <a:lnTo>
                        <a:pt x="1261" y="835"/>
                      </a:lnTo>
                      <a:lnTo>
                        <a:pt x="1267" y="831"/>
                      </a:lnTo>
                      <a:lnTo>
                        <a:pt x="1271" y="829"/>
                      </a:lnTo>
                      <a:lnTo>
                        <a:pt x="1279" y="828"/>
                      </a:lnTo>
                      <a:lnTo>
                        <a:pt x="1282" y="829"/>
                      </a:lnTo>
                      <a:lnTo>
                        <a:pt x="1283" y="831"/>
                      </a:lnTo>
                      <a:lnTo>
                        <a:pt x="1323" y="823"/>
                      </a:lnTo>
                      <a:lnTo>
                        <a:pt x="1332" y="799"/>
                      </a:lnTo>
                      <a:lnTo>
                        <a:pt x="1345" y="766"/>
                      </a:lnTo>
                      <a:lnTo>
                        <a:pt x="1350" y="755"/>
                      </a:lnTo>
                      <a:lnTo>
                        <a:pt x="1356" y="745"/>
                      </a:lnTo>
                      <a:lnTo>
                        <a:pt x="1365" y="731"/>
                      </a:lnTo>
                      <a:lnTo>
                        <a:pt x="1381" y="718"/>
                      </a:lnTo>
                      <a:lnTo>
                        <a:pt x="1396" y="709"/>
                      </a:lnTo>
                      <a:lnTo>
                        <a:pt x="1404" y="706"/>
                      </a:lnTo>
                      <a:lnTo>
                        <a:pt x="1410" y="704"/>
                      </a:lnTo>
                      <a:lnTo>
                        <a:pt x="1413" y="704"/>
                      </a:lnTo>
                      <a:lnTo>
                        <a:pt x="1416" y="703"/>
                      </a:lnTo>
                      <a:lnTo>
                        <a:pt x="1419" y="698"/>
                      </a:lnTo>
                      <a:lnTo>
                        <a:pt x="1424" y="691"/>
                      </a:lnTo>
                      <a:lnTo>
                        <a:pt x="1425" y="683"/>
                      </a:lnTo>
                      <a:lnTo>
                        <a:pt x="1428" y="669"/>
                      </a:lnTo>
                      <a:lnTo>
                        <a:pt x="1430" y="662"/>
                      </a:lnTo>
                      <a:lnTo>
                        <a:pt x="1383" y="662"/>
                      </a:lnTo>
                      <a:lnTo>
                        <a:pt x="1357" y="654"/>
                      </a:lnTo>
                      <a:lnTo>
                        <a:pt x="1374" y="635"/>
                      </a:lnTo>
                      <a:lnTo>
                        <a:pt x="1389" y="620"/>
                      </a:lnTo>
                      <a:lnTo>
                        <a:pt x="1396" y="614"/>
                      </a:lnTo>
                      <a:lnTo>
                        <a:pt x="1402" y="609"/>
                      </a:lnTo>
                      <a:lnTo>
                        <a:pt x="1410" y="606"/>
                      </a:lnTo>
                      <a:lnTo>
                        <a:pt x="1421" y="605"/>
                      </a:lnTo>
                      <a:lnTo>
                        <a:pt x="1443" y="602"/>
                      </a:lnTo>
                      <a:lnTo>
                        <a:pt x="1472" y="602"/>
                      </a:lnTo>
                      <a:lnTo>
                        <a:pt x="1517" y="562"/>
                      </a:lnTo>
                      <a:lnTo>
                        <a:pt x="1502" y="519"/>
                      </a:lnTo>
                      <a:lnTo>
                        <a:pt x="1491" y="484"/>
                      </a:lnTo>
                      <a:lnTo>
                        <a:pt x="1488" y="469"/>
                      </a:lnTo>
                      <a:lnTo>
                        <a:pt x="1487" y="460"/>
                      </a:lnTo>
                      <a:lnTo>
                        <a:pt x="1485" y="455"/>
                      </a:lnTo>
                      <a:lnTo>
                        <a:pt x="1484" y="451"/>
                      </a:lnTo>
                      <a:lnTo>
                        <a:pt x="1476" y="437"/>
                      </a:lnTo>
                      <a:lnTo>
                        <a:pt x="1464" y="424"/>
                      </a:lnTo>
                      <a:lnTo>
                        <a:pt x="1452" y="409"/>
                      </a:lnTo>
                      <a:lnTo>
                        <a:pt x="1428" y="383"/>
                      </a:lnTo>
                      <a:lnTo>
                        <a:pt x="1418" y="371"/>
                      </a:lnTo>
                      <a:lnTo>
                        <a:pt x="1410" y="418"/>
                      </a:lnTo>
                      <a:lnTo>
                        <a:pt x="1402" y="415"/>
                      </a:lnTo>
                      <a:lnTo>
                        <a:pt x="1386" y="409"/>
                      </a:lnTo>
                      <a:lnTo>
                        <a:pt x="1377" y="404"/>
                      </a:lnTo>
                      <a:lnTo>
                        <a:pt x="1368" y="398"/>
                      </a:lnTo>
                      <a:lnTo>
                        <a:pt x="1362" y="391"/>
                      </a:lnTo>
                      <a:lnTo>
                        <a:pt x="1357" y="383"/>
                      </a:lnTo>
                      <a:lnTo>
                        <a:pt x="1353" y="374"/>
                      </a:lnTo>
                      <a:lnTo>
                        <a:pt x="1347" y="364"/>
                      </a:lnTo>
                      <a:lnTo>
                        <a:pt x="1339" y="354"/>
                      </a:lnTo>
                      <a:lnTo>
                        <a:pt x="1330" y="344"/>
                      </a:lnTo>
                      <a:lnTo>
                        <a:pt x="1320" y="333"/>
                      </a:lnTo>
                      <a:lnTo>
                        <a:pt x="1308" y="323"/>
                      </a:lnTo>
                      <a:lnTo>
                        <a:pt x="1294" y="314"/>
                      </a:lnTo>
                      <a:lnTo>
                        <a:pt x="1280" y="306"/>
                      </a:lnTo>
                      <a:lnTo>
                        <a:pt x="1273" y="305"/>
                      </a:lnTo>
                      <a:lnTo>
                        <a:pt x="1267" y="305"/>
                      </a:lnTo>
                      <a:lnTo>
                        <a:pt x="1261" y="308"/>
                      </a:lnTo>
                      <a:lnTo>
                        <a:pt x="1256" y="312"/>
                      </a:lnTo>
                      <a:lnTo>
                        <a:pt x="1250" y="318"/>
                      </a:lnTo>
                      <a:lnTo>
                        <a:pt x="1246" y="324"/>
                      </a:lnTo>
                      <a:lnTo>
                        <a:pt x="1240" y="341"/>
                      </a:lnTo>
                      <a:lnTo>
                        <a:pt x="1234" y="359"/>
                      </a:lnTo>
                      <a:lnTo>
                        <a:pt x="1229" y="376"/>
                      </a:lnTo>
                      <a:lnTo>
                        <a:pt x="1226" y="391"/>
                      </a:lnTo>
                      <a:lnTo>
                        <a:pt x="1226" y="433"/>
                      </a:lnTo>
                      <a:lnTo>
                        <a:pt x="1223" y="505"/>
                      </a:lnTo>
                      <a:lnTo>
                        <a:pt x="1208" y="555"/>
                      </a:lnTo>
                      <a:lnTo>
                        <a:pt x="1188" y="559"/>
                      </a:lnTo>
                      <a:lnTo>
                        <a:pt x="1166" y="513"/>
                      </a:lnTo>
                      <a:lnTo>
                        <a:pt x="1154" y="508"/>
                      </a:lnTo>
                      <a:lnTo>
                        <a:pt x="1127" y="495"/>
                      </a:lnTo>
                      <a:lnTo>
                        <a:pt x="1113" y="486"/>
                      </a:lnTo>
                      <a:lnTo>
                        <a:pt x="1101" y="478"/>
                      </a:lnTo>
                      <a:lnTo>
                        <a:pt x="1092" y="471"/>
                      </a:lnTo>
                      <a:lnTo>
                        <a:pt x="1091" y="466"/>
                      </a:lnTo>
                      <a:lnTo>
                        <a:pt x="1089" y="463"/>
                      </a:lnTo>
                      <a:lnTo>
                        <a:pt x="1089" y="460"/>
                      </a:lnTo>
                      <a:lnTo>
                        <a:pt x="1086" y="457"/>
                      </a:lnTo>
                      <a:lnTo>
                        <a:pt x="1080" y="449"/>
                      </a:lnTo>
                      <a:lnTo>
                        <a:pt x="1062" y="431"/>
                      </a:lnTo>
                      <a:lnTo>
                        <a:pt x="1053" y="421"/>
                      </a:lnTo>
                      <a:lnTo>
                        <a:pt x="1044" y="412"/>
                      </a:lnTo>
                      <a:lnTo>
                        <a:pt x="1038" y="401"/>
                      </a:lnTo>
                      <a:lnTo>
                        <a:pt x="1036" y="395"/>
                      </a:lnTo>
                      <a:lnTo>
                        <a:pt x="1035" y="391"/>
                      </a:lnTo>
                      <a:lnTo>
                        <a:pt x="1035" y="386"/>
                      </a:lnTo>
                      <a:lnTo>
                        <a:pt x="1033" y="383"/>
                      </a:lnTo>
                      <a:lnTo>
                        <a:pt x="1032" y="382"/>
                      </a:lnTo>
                      <a:lnTo>
                        <a:pt x="1030" y="380"/>
                      </a:lnTo>
                      <a:lnTo>
                        <a:pt x="1024" y="380"/>
                      </a:lnTo>
                      <a:lnTo>
                        <a:pt x="1018" y="382"/>
                      </a:lnTo>
                      <a:lnTo>
                        <a:pt x="1012" y="385"/>
                      </a:lnTo>
                      <a:lnTo>
                        <a:pt x="1006" y="386"/>
                      </a:lnTo>
                      <a:lnTo>
                        <a:pt x="1005" y="385"/>
                      </a:lnTo>
                      <a:lnTo>
                        <a:pt x="1003" y="385"/>
                      </a:lnTo>
                      <a:lnTo>
                        <a:pt x="1002" y="382"/>
                      </a:lnTo>
                      <a:lnTo>
                        <a:pt x="1002" y="379"/>
                      </a:lnTo>
                      <a:lnTo>
                        <a:pt x="1002" y="371"/>
                      </a:lnTo>
                      <a:lnTo>
                        <a:pt x="1005" y="364"/>
                      </a:lnTo>
                      <a:lnTo>
                        <a:pt x="1011" y="347"/>
                      </a:lnTo>
                      <a:lnTo>
                        <a:pt x="1017" y="332"/>
                      </a:lnTo>
                      <a:lnTo>
                        <a:pt x="1020" y="324"/>
                      </a:lnTo>
                      <a:lnTo>
                        <a:pt x="1020" y="318"/>
                      </a:lnTo>
                      <a:lnTo>
                        <a:pt x="1021" y="306"/>
                      </a:lnTo>
                      <a:lnTo>
                        <a:pt x="1023" y="300"/>
                      </a:lnTo>
                      <a:lnTo>
                        <a:pt x="1024" y="294"/>
                      </a:lnTo>
                      <a:lnTo>
                        <a:pt x="1029" y="288"/>
                      </a:lnTo>
                      <a:lnTo>
                        <a:pt x="1033" y="282"/>
                      </a:lnTo>
                      <a:lnTo>
                        <a:pt x="1039" y="276"/>
                      </a:lnTo>
                      <a:lnTo>
                        <a:pt x="1047" y="272"/>
                      </a:lnTo>
                      <a:lnTo>
                        <a:pt x="1065" y="264"/>
                      </a:lnTo>
                      <a:lnTo>
                        <a:pt x="1084" y="257"/>
                      </a:lnTo>
                      <a:lnTo>
                        <a:pt x="1104" y="249"/>
                      </a:lnTo>
                      <a:lnTo>
                        <a:pt x="1062" y="214"/>
                      </a:lnTo>
                      <a:lnTo>
                        <a:pt x="1112" y="207"/>
                      </a:lnTo>
                      <a:lnTo>
                        <a:pt x="1118" y="205"/>
                      </a:lnTo>
                      <a:lnTo>
                        <a:pt x="1124" y="201"/>
                      </a:lnTo>
                      <a:lnTo>
                        <a:pt x="1131" y="195"/>
                      </a:lnTo>
                      <a:lnTo>
                        <a:pt x="1142" y="186"/>
                      </a:lnTo>
                      <a:lnTo>
                        <a:pt x="1152" y="172"/>
                      </a:lnTo>
                      <a:lnTo>
                        <a:pt x="1164" y="154"/>
                      </a:lnTo>
                      <a:lnTo>
                        <a:pt x="1176" y="130"/>
                      </a:lnTo>
                      <a:lnTo>
                        <a:pt x="1182" y="119"/>
                      </a:lnTo>
                      <a:lnTo>
                        <a:pt x="1185" y="109"/>
                      </a:lnTo>
                      <a:lnTo>
                        <a:pt x="1187" y="100"/>
                      </a:lnTo>
                      <a:lnTo>
                        <a:pt x="1187" y="92"/>
                      </a:lnTo>
                      <a:lnTo>
                        <a:pt x="1185" y="86"/>
                      </a:lnTo>
                      <a:lnTo>
                        <a:pt x="1184" y="82"/>
                      </a:lnTo>
                      <a:lnTo>
                        <a:pt x="1181" y="79"/>
                      </a:lnTo>
                      <a:lnTo>
                        <a:pt x="1176" y="76"/>
                      </a:lnTo>
                      <a:lnTo>
                        <a:pt x="1167" y="73"/>
                      </a:lnTo>
                      <a:lnTo>
                        <a:pt x="1160" y="73"/>
                      </a:lnTo>
                      <a:lnTo>
                        <a:pt x="1151" y="73"/>
                      </a:lnTo>
                      <a:lnTo>
                        <a:pt x="1149" y="77"/>
                      </a:lnTo>
                      <a:lnTo>
                        <a:pt x="1143" y="89"/>
                      </a:lnTo>
                      <a:lnTo>
                        <a:pt x="1134" y="104"/>
                      </a:lnTo>
                      <a:lnTo>
                        <a:pt x="1127" y="112"/>
                      </a:lnTo>
                      <a:lnTo>
                        <a:pt x="1119" y="119"/>
                      </a:lnTo>
                      <a:lnTo>
                        <a:pt x="1115" y="122"/>
                      </a:lnTo>
                      <a:lnTo>
                        <a:pt x="1110" y="124"/>
                      </a:lnTo>
                      <a:lnTo>
                        <a:pt x="1104" y="125"/>
                      </a:lnTo>
                      <a:lnTo>
                        <a:pt x="1100" y="125"/>
                      </a:lnTo>
                      <a:lnTo>
                        <a:pt x="1088" y="122"/>
                      </a:lnTo>
                      <a:lnTo>
                        <a:pt x="1077" y="119"/>
                      </a:lnTo>
                      <a:lnTo>
                        <a:pt x="1066" y="113"/>
                      </a:lnTo>
                      <a:lnTo>
                        <a:pt x="1059" y="109"/>
                      </a:lnTo>
                      <a:lnTo>
                        <a:pt x="1051" y="104"/>
                      </a:lnTo>
                      <a:lnTo>
                        <a:pt x="1047" y="94"/>
                      </a:lnTo>
                      <a:lnTo>
                        <a:pt x="1039" y="70"/>
                      </a:lnTo>
                      <a:lnTo>
                        <a:pt x="1035" y="56"/>
                      </a:lnTo>
                      <a:lnTo>
                        <a:pt x="1030" y="46"/>
                      </a:lnTo>
                      <a:lnTo>
                        <a:pt x="1024" y="38"/>
                      </a:lnTo>
                      <a:lnTo>
                        <a:pt x="1023" y="37"/>
                      </a:lnTo>
                      <a:lnTo>
                        <a:pt x="1020" y="35"/>
                      </a:lnTo>
                      <a:lnTo>
                        <a:pt x="1017" y="34"/>
                      </a:lnTo>
                      <a:lnTo>
                        <a:pt x="1014" y="29"/>
                      </a:lnTo>
                      <a:lnTo>
                        <a:pt x="1011" y="25"/>
                      </a:lnTo>
                      <a:lnTo>
                        <a:pt x="1011" y="18"/>
                      </a:lnTo>
                      <a:lnTo>
                        <a:pt x="1009" y="6"/>
                      </a:lnTo>
                      <a:lnTo>
                        <a:pt x="1009" y="0"/>
                      </a:lnTo>
                      <a:lnTo>
                        <a:pt x="982" y="0"/>
                      </a:lnTo>
                      <a:lnTo>
                        <a:pt x="970" y="20"/>
                      </a:lnTo>
                      <a:lnTo>
                        <a:pt x="962" y="43"/>
                      </a:lnTo>
                      <a:lnTo>
                        <a:pt x="964" y="47"/>
                      </a:lnTo>
                      <a:lnTo>
                        <a:pt x="971" y="58"/>
                      </a:lnTo>
                      <a:lnTo>
                        <a:pt x="976" y="65"/>
                      </a:lnTo>
                      <a:lnTo>
                        <a:pt x="984" y="71"/>
                      </a:lnTo>
                      <a:lnTo>
                        <a:pt x="993" y="79"/>
                      </a:lnTo>
                      <a:lnTo>
                        <a:pt x="1005" y="85"/>
                      </a:lnTo>
                      <a:lnTo>
                        <a:pt x="1011" y="88"/>
                      </a:lnTo>
                      <a:lnTo>
                        <a:pt x="1015" y="91"/>
                      </a:lnTo>
                      <a:lnTo>
                        <a:pt x="1017" y="94"/>
                      </a:lnTo>
                      <a:lnTo>
                        <a:pt x="1018" y="98"/>
                      </a:lnTo>
                      <a:lnTo>
                        <a:pt x="1020" y="101"/>
                      </a:lnTo>
                      <a:lnTo>
                        <a:pt x="1018" y="104"/>
                      </a:lnTo>
                      <a:lnTo>
                        <a:pt x="1015" y="112"/>
                      </a:lnTo>
                      <a:lnTo>
                        <a:pt x="1011" y="118"/>
                      </a:lnTo>
                      <a:lnTo>
                        <a:pt x="1006" y="122"/>
                      </a:lnTo>
                      <a:lnTo>
                        <a:pt x="1002" y="127"/>
                      </a:lnTo>
                      <a:lnTo>
                        <a:pt x="974" y="127"/>
                      </a:lnTo>
                      <a:lnTo>
                        <a:pt x="952" y="127"/>
                      </a:lnTo>
                      <a:lnTo>
                        <a:pt x="922" y="127"/>
                      </a:lnTo>
                      <a:lnTo>
                        <a:pt x="896" y="125"/>
                      </a:lnTo>
                      <a:lnTo>
                        <a:pt x="875" y="122"/>
                      </a:lnTo>
                      <a:lnTo>
                        <a:pt x="858" y="122"/>
                      </a:lnTo>
                      <a:lnTo>
                        <a:pt x="845" y="124"/>
                      </a:lnTo>
                      <a:lnTo>
                        <a:pt x="836" y="125"/>
                      </a:lnTo>
                      <a:lnTo>
                        <a:pt x="833" y="127"/>
                      </a:lnTo>
                      <a:lnTo>
                        <a:pt x="825" y="147"/>
                      </a:lnTo>
                      <a:lnTo>
                        <a:pt x="798" y="147"/>
                      </a:lnTo>
                      <a:lnTo>
                        <a:pt x="748" y="147"/>
                      </a:lnTo>
                      <a:lnTo>
                        <a:pt x="744" y="145"/>
                      </a:lnTo>
                      <a:lnTo>
                        <a:pt x="739" y="141"/>
                      </a:lnTo>
                      <a:lnTo>
                        <a:pt x="736" y="135"/>
                      </a:lnTo>
                      <a:lnTo>
                        <a:pt x="735" y="128"/>
                      </a:lnTo>
                      <a:lnTo>
                        <a:pt x="733" y="116"/>
                      </a:lnTo>
                      <a:lnTo>
                        <a:pt x="733" y="112"/>
                      </a:lnTo>
                      <a:lnTo>
                        <a:pt x="730" y="107"/>
                      </a:lnTo>
                      <a:lnTo>
                        <a:pt x="724" y="98"/>
                      </a:lnTo>
                      <a:lnTo>
                        <a:pt x="718" y="94"/>
                      </a:lnTo>
                      <a:lnTo>
                        <a:pt x="712" y="88"/>
                      </a:lnTo>
                      <a:lnTo>
                        <a:pt x="705" y="82"/>
                      </a:lnTo>
                      <a:lnTo>
                        <a:pt x="694" y="77"/>
                      </a:lnTo>
                      <a:lnTo>
                        <a:pt x="685" y="74"/>
                      </a:lnTo>
                      <a:lnTo>
                        <a:pt x="676" y="73"/>
                      </a:lnTo>
                      <a:lnTo>
                        <a:pt x="667" y="73"/>
                      </a:lnTo>
                      <a:lnTo>
                        <a:pt x="658" y="73"/>
                      </a:lnTo>
                      <a:lnTo>
                        <a:pt x="644" y="76"/>
                      </a:lnTo>
                      <a:lnTo>
                        <a:pt x="634" y="77"/>
                      </a:lnTo>
                      <a:lnTo>
                        <a:pt x="620" y="74"/>
                      </a:lnTo>
                      <a:lnTo>
                        <a:pt x="601" y="67"/>
                      </a:lnTo>
                      <a:lnTo>
                        <a:pt x="590" y="62"/>
                      </a:lnTo>
                      <a:lnTo>
                        <a:pt x="581" y="56"/>
                      </a:lnTo>
                      <a:lnTo>
                        <a:pt x="572" y="50"/>
                      </a:lnTo>
                      <a:lnTo>
                        <a:pt x="565" y="43"/>
                      </a:lnTo>
                      <a:lnTo>
                        <a:pt x="559" y="37"/>
                      </a:lnTo>
                      <a:lnTo>
                        <a:pt x="550" y="34"/>
                      </a:lnTo>
                      <a:lnTo>
                        <a:pt x="541" y="34"/>
                      </a:lnTo>
                      <a:lnTo>
                        <a:pt x="533" y="34"/>
                      </a:lnTo>
                      <a:lnTo>
                        <a:pt x="518" y="37"/>
                      </a:lnTo>
                      <a:lnTo>
                        <a:pt x="512" y="40"/>
                      </a:lnTo>
                      <a:lnTo>
                        <a:pt x="462" y="85"/>
                      </a:lnTo>
                      <a:lnTo>
                        <a:pt x="412" y="97"/>
                      </a:lnTo>
                      <a:lnTo>
                        <a:pt x="381" y="77"/>
                      </a:lnTo>
                      <a:lnTo>
                        <a:pt x="343" y="55"/>
                      </a:lnTo>
                      <a:lnTo>
                        <a:pt x="308" y="40"/>
                      </a:lnTo>
                      <a:lnTo>
                        <a:pt x="259" y="40"/>
                      </a:lnTo>
                      <a:lnTo>
                        <a:pt x="194" y="35"/>
                      </a:lnTo>
                      <a:lnTo>
                        <a:pt x="152" y="5"/>
                      </a:lnTo>
                      <a:lnTo>
                        <a:pt x="90" y="35"/>
                      </a:lnTo>
                      <a:lnTo>
                        <a:pt x="82" y="80"/>
                      </a:lnTo>
                      <a:lnTo>
                        <a:pt x="18" y="92"/>
                      </a:lnTo>
                      <a:lnTo>
                        <a:pt x="0" y="119"/>
                      </a:lnTo>
                      <a:lnTo>
                        <a:pt x="25" y="154"/>
                      </a:lnTo>
                      <a:lnTo>
                        <a:pt x="72" y="189"/>
                      </a:lnTo>
                      <a:lnTo>
                        <a:pt x="18" y="196"/>
                      </a:lnTo>
                      <a:lnTo>
                        <a:pt x="33" y="241"/>
                      </a:lnTo>
                      <a:lnTo>
                        <a:pt x="79" y="241"/>
                      </a:lnTo>
                      <a:lnTo>
                        <a:pt x="75" y="284"/>
                      </a:lnTo>
                      <a:lnTo>
                        <a:pt x="30" y="329"/>
                      </a:lnTo>
                      <a:lnTo>
                        <a:pt x="30" y="361"/>
                      </a:lnTo>
                      <a:lnTo>
                        <a:pt x="64" y="388"/>
                      </a:lnTo>
                      <a:lnTo>
                        <a:pt x="90" y="403"/>
                      </a:lnTo>
                      <a:lnTo>
                        <a:pt x="114" y="403"/>
                      </a:lnTo>
                      <a:lnTo>
                        <a:pt x="97" y="433"/>
                      </a:lnTo>
                      <a:lnTo>
                        <a:pt x="102" y="471"/>
                      </a:lnTo>
                      <a:lnTo>
                        <a:pt x="147" y="471"/>
                      </a:lnTo>
                      <a:lnTo>
                        <a:pt x="167" y="437"/>
                      </a:lnTo>
                      <a:lnTo>
                        <a:pt x="209" y="391"/>
                      </a:lnTo>
                      <a:lnTo>
                        <a:pt x="229" y="361"/>
                      </a:lnTo>
                      <a:lnTo>
                        <a:pt x="256" y="371"/>
                      </a:lnTo>
                      <a:lnTo>
                        <a:pt x="289" y="368"/>
                      </a:lnTo>
                      <a:lnTo>
                        <a:pt x="324" y="368"/>
                      </a:lnTo>
                      <a:lnTo>
                        <a:pt x="346" y="395"/>
                      </a:lnTo>
                      <a:lnTo>
                        <a:pt x="393" y="395"/>
                      </a:lnTo>
                      <a:lnTo>
                        <a:pt x="427" y="406"/>
                      </a:lnTo>
                      <a:lnTo>
                        <a:pt x="488" y="463"/>
                      </a:lnTo>
                      <a:lnTo>
                        <a:pt x="530" y="520"/>
                      </a:lnTo>
                      <a:lnTo>
                        <a:pt x="542" y="570"/>
                      </a:lnTo>
                      <a:lnTo>
                        <a:pt x="592" y="632"/>
                      </a:lnTo>
                      <a:lnTo>
                        <a:pt x="599" y="674"/>
                      </a:lnTo>
                      <a:lnTo>
                        <a:pt x="599" y="719"/>
                      </a:lnTo>
                      <a:lnTo>
                        <a:pt x="607" y="727"/>
                      </a:lnTo>
                      <a:lnTo>
                        <a:pt x="613" y="734"/>
                      </a:lnTo>
                      <a:lnTo>
                        <a:pt x="619" y="745"/>
                      </a:lnTo>
                      <a:lnTo>
                        <a:pt x="625" y="758"/>
                      </a:lnTo>
                      <a:lnTo>
                        <a:pt x="626" y="766"/>
                      </a:lnTo>
                      <a:lnTo>
                        <a:pt x="626" y="775"/>
                      </a:lnTo>
                      <a:lnTo>
                        <a:pt x="626" y="784"/>
                      </a:lnTo>
                      <a:lnTo>
                        <a:pt x="625" y="793"/>
                      </a:lnTo>
                      <a:lnTo>
                        <a:pt x="623" y="804"/>
                      </a:lnTo>
                      <a:lnTo>
                        <a:pt x="619" y="816"/>
                      </a:lnTo>
                      <a:lnTo>
                        <a:pt x="614" y="826"/>
                      </a:lnTo>
                      <a:lnTo>
                        <a:pt x="611" y="835"/>
                      </a:lnTo>
                      <a:lnTo>
                        <a:pt x="611" y="843"/>
                      </a:lnTo>
                      <a:lnTo>
                        <a:pt x="611" y="849"/>
                      </a:lnTo>
                      <a:lnTo>
                        <a:pt x="611" y="853"/>
                      </a:lnTo>
                      <a:lnTo>
                        <a:pt x="614" y="856"/>
                      </a:lnTo>
                      <a:lnTo>
                        <a:pt x="620" y="862"/>
                      </a:lnTo>
                      <a:lnTo>
                        <a:pt x="634" y="871"/>
                      </a:lnTo>
                      <a:lnTo>
                        <a:pt x="640" y="876"/>
                      </a:lnTo>
                      <a:lnTo>
                        <a:pt x="641" y="880"/>
                      </a:lnTo>
                      <a:lnTo>
                        <a:pt x="641" y="885"/>
                      </a:lnTo>
                      <a:lnTo>
                        <a:pt x="643" y="889"/>
                      </a:lnTo>
                      <a:lnTo>
                        <a:pt x="644" y="895"/>
                      </a:lnTo>
                      <a:lnTo>
                        <a:pt x="655" y="912"/>
                      </a:lnTo>
                      <a:lnTo>
                        <a:pt x="670" y="933"/>
                      </a:lnTo>
                      <a:lnTo>
                        <a:pt x="687" y="956"/>
                      </a:lnTo>
                      <a:lnTo>
                        <a:pt x="717" y="957"/>
                      </a:lnTo>
                      <a:lnTo>
                        <a:pt x="727" y="959"/>
                      </a:lnTo>
                      <a:lnTo>
                        <a:pt x="736" y="960"/>
                      </a:lnTo>
                      <a:lnTo>
                        <a:pt x="745" y="965"/>
                      </a:lnTo>
                      <a:lnTo>
                        <a:pt x="754" y="966"/>
                      </a:lnTo>
                      <a:lnTo>
                        <a:pt x="777" y="969"/>
                      </a:lnTo>
                      <a:lnTo>
                        <a:pt x="798" y="971"/>
                      </a:lnTo>
                      <a:lnTo>
                        <a:pt x="815" y="971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631800" y="1198440"/>
                <a:ext cx="3290760" cy="2516040"/>
                <a:chOff x="631800" y="1198440"/>
                <a:chExt cx="3290760" cy="2516040"/>
              </a:xfrm>
            </p:grpSpPr>
            <p:sp>
              <p:nvSpPr>
                <p:cNvPr id="946" name="Freeform 96"/>
                <p:cNvSpPr/>
                <p:nvPr/>
              </p:nvSpPr>
              <p:spPr>
                <a:xfrm>
                  <a:off x="2984400" y="2995560"/>
                  <a:ext cx="196920" cy="12060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24" h="76">
                      <a:moveTo>
                        <a:pt x="12" y="76"/>
                      </a:moveTo>
                      <a:lnTo>
                        <a:pt x="0" y="49"/>
                      </a:lnTo>
                      <a:lnTo>
                        <a:pt x="8" y="19"/>
                      </a:lnTo>
                      <a:lnTo>
                        <a:pt x="58" y="0"/>
                      </a:lnTo>
                      <a:lnTo>
                        <a:pt x="124" y="19"/>
                      </a:lnTo>
                      <a:lnTo>
                        <a:pt x="112" y="54"/>
                      </a:lnTo>
                      <a:lnTo>
                        <a:pt x="62" y="54"/>
                      </a:lnTo>
                      <a:lnTo>
                        <a:pt x="56" y="58"/>
                      </a:lnTo>
                      <a:lnTo>
                        <a:pt x="42" y="66"/>
                      </a:lnTo>
                      <a:lnTo>
                        <a:pt x="35" y="70"/>
                      </a:lnTo>
                      <a:lnTo>
                        <a:pt x="26" y="75"/>
                      </a:lnTo>
                      <a:lnTo>
                        <a:pt x="18" y="76"/>
                      </a:lnTo>
                      <a:lnTo>
                        <a:pt x="12" y="76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47" name="Freeform 97"/>
                <p:cNvSpPr/>
                <p:nvPr/>
              </p:nvSpPr>
              <p:spPr>
                <a:xfrm>
                  <a:off x="2365200" y="1892160"/>
                  <a:ext cx="567000" cy="671400"/>
                </a:xfrm>
                <a:custGeom>
                  <a:avLst/>
                  <a:gdLst>
                    <a:gd name="textAreaLeft" fmla="*/ 0 w 567000"/>
                    <a:gd name="textAreaRight" fmla="*/ 567360 w 567000"/>
                    <a:gd name="textAreaTop" fmla="*/ 0 h 671400"/>
                    <a:gd name="textAreaBottom" fmla="*/ 671760 h 671400"/>
                  </a:gdLst>
                  <a:ahLst/>
                  <a:rect l="textAreaLeft" t="textAreaTop" r="textAreaRight" b="textAreaBottom"/>
                  <a:pathLst>
                    <a:path w="357" h="423">
                      <a:moveTo>
                        <a:pt x="261" y="423"/>
                      </a:moveTo>
                      <a:lnTo>
                        <a:pt x="234" y="389"/>
                      </a:lnTo>
                      <a:lnTo>
                        <a:pt x="231" y="362"/>
                      </a:lnTo>
                      <a:lnTo>
                        <a:pt x="181" y="339"/>
                      </a:lnTo>
                      <a:lnTo>
                        <a:pt x="142" y="301"/>
                      </a:lnTo>
                      <a:lnTo>
                        <a:pt x="131" y="279"/>
                      </a:lnTo>
                      <a:lnTo>
                        <a:pt x="173" y="262"/>
                      </a:lnTo>
                      <a:lnTo>
                        <a:pt x="188" y="205"/>
                      </a:lnTo>
                      <a:lnTo>
                        <a:pt x="176" y="140"/>
                      </a:lnTo>
                      <a:lnTo>
                        <a:pt x="104" y="148"/>
                      </a:lnTo>
                      <a:lnTo>
                        <a:pt x="47" y="125"/>
                      </a:lnTo>
                      <a:lnTo>
                        <a:pt x="0" y="68"/>
                      </a:lnTo>
                      <a:lnTo>
                        <a:pt x="24" y="26"/>
                      </a:lnTo>
                      <a:lnTo>
                        <a:pt x="62" y="95"/>
                      </a:lnTo>
                      <a:lnTo>
                        <a:pt x="60" y="92"/>
                      </a:lnTo>
                      <a:lnTo>
                        <a:pt x="59" y="84"/>
                      </a:lnTo>
                      <a:lnTo>
                        <a:pt x="59" y="81"/>
                      </a:lnTo>
                      <a:lnTo>
                        <a:pt x="60" y="78"/>
                      </a:lnTo>
                      <a:lnTo>
                        <a:pt x="62" y="77"/>
                      </a:lnTo>
                      <a:lnTo>
                        <a:pt x="66" y="75"/>
                      </a:lnTo>
                      <a:lnTo>
                        <a:pt x="68" y="75"/>
                      </a:lnTo>
                      <a:lnTo>
                        <a:pt x="69" y="72"/>
                      </a:lnTo>
                      <a:lnTo>
                        <a:pt x="69" y="65"/>
                      </a:lnTo>
                      <a:lnTo>
                        <a:pt x="68" y="54"/>
                      </a:lnTo>
                      <a:lnTo>
                        <a:pt x="66" y="42"/>
                      </a:lnTo>
                      <a:lnTo>
                        <a:pt x="60" y="21"/>
                      </a:lnTo>
                      <a:lnTo>
                        <a:pt x="59" y="11"/>
                      </a:lnTo>
                      <a:lnTo>
                        <a:pt x="63" y="8"/>
                      </a:lnTo>
                      <a:lnTo>
                        <a:pt x="74" y="3"/>
                      </a:lnTo>
                      <a:lnTo>
                        <a:pt x="80" y="1"/>
                      </a:lnTo>
                      <a:lnTo>
                        <a:pt x="86" y="0"/>
                      </a:lnTo>
                      <a:lnTo>
                        <a:pt x="90" y="3"/>
                      </a:lnTo>
                      <a:lnTo>
                        <a:pt x="92" y="6"/>
                      </a:lnTo>
                      <a:lnTo>
                        <a:pt x="93" y="14"/>
                      </a:lnTo>
                      <a:lnTo>
                        <a:pt x="93" y="23"/>
                      </a:lnTo>
                      <a:lnTo>
                        <a:pt x="92" y="41"/>
                      </a:lnTo>
                      <a:lnTo>
                        <a:pt x="93" y="50"/>
                      </a:lnTo>
                      <a:lnTo>
                        <a:pt x="98" y="57"/>
                      </a:lnTo>
                      <a:lnTo>
                        <a:pt x="101" y="60"/>
                      </a:lnTo>
                      <a:lnTo>
                        <a:pt x="106" y="62"/>
                      </a:lnTo>
                      <a:lnTo>
                        <a:pt x="110" y="63"/>
                      </a:lnTo>
                      <a:lnTo>
                        <a:pt x="116" y="63"/>
                      </a:lnTo>
                      <a:lnTo>
                        <a:pt x="127" y="63"/>
                      </a:lnTo>
                      <a:lnTo>
                        <a:pt x="137" y="62"/>
                      </a:lnTo>
                      <a:lnTo>
                        <a:pt x="145" y="59"/>
                      </a:lnTo>
                      <a:lnTo>
                        <a:pt x="151" y="56"/>
                      </a:lnTo>
                      <a:lnTo>
                        <a:pt x="160" y="51"/>
                      </a:lnTo>
                      <a:lnTo>
                        <a:pt x="161" y="48"/>
                      </a:lnTo>
                      <a:lnTo>
                        <a:pt x="246" y="71"/>
                      </a:lnTo>
                      <a:lnTo>
                        <a:pt x="250" y="77"/>
                      </a:lnTo>
                      <a:lnTo>
                        <a:pt x="261" y="89"/>
                      </a:lnTo>
                      <a:lnTo>
                        <a:pt x="267" y="98"/>
                      </a:lnTo>
                      <a:lnTo>
                        <a:pt x="271" y="107"/>
                      </a:lnTo>
                      <a:lnTo>
                        <a:pt x="274" y="118"/>
                      </a:lnTo>
                      <a:lnTo>
                        <a:pt x="276" y="130"/>
                      </a:lnTo>
                      <a:lnTo>
                        <a:pt x="279" y="181"/>
                      </a:lnTo>
                      <a:lnTo>
                        <a:pt x="280" y="209"/>
                      </a:lnTo>
                      <a:lnTo>
                        <a:pt x="338" y="220"/>
                      </a:lnTo>
                      <a:lnTo>
                        <a:pt x="357" y="286"/>
                      </a:lnTo>
                      <a:lnTo>
                        <a:pt x="326" y="294"/>
                      </a:lnTo>
                      <a:lnTo>
                        <a:pt x="307" y="279"/>
                      </a:lnTo>
                      <a:lnTo>
                        <a:pt x="280" y="267"/>
                      </a:lnTo>
                      <a:lnTo>
                        <a:pt x="280" y="274"/>
                      </a:lnTo>
                      <a:lnTo>
                        <a:pt x="280" y="291"/>
                      </a:lnTo>
                      <a:lnTo>
                        <a:pt x="282" y="298"/>
                      </a:lnTo>
                      <a:lnTo>
                        <a:pt x="283" y="307"/>
                      </a:lnTo>
                      <a:lnTo>
                        <a:pt x="286" y="313"/>
                      </a:lnTo>
                      <a:lnTo>
                        <a:pt x="289" y="315"/>
                      </a:lnTo>
                      <a:lnTo>
                        <a:pt x="291" y="316"/>
                      </a:lnTo>
                      <a:lnTo>
                        <a:pt x="301" y="318"/>
                      </a:lnTo>
                      <a:lnTo>
                        <a:pt x="304" y="319"/>
                      </a:lnTo>
                      <a:lnTo>
                        <a:pt x="307" y="322"/>
                      </a:lnTo>
                      <a:lnTo>
                        <a:pt x="309" y="325"/>
                      </a:lnTo>
                      <a:lnTo>
                        <a:pt x="310" y="331"/>
                      </a:lnTo>
                      <a:lnTo>
                        <a:pt x="310" y="351"/>
                      </a:lnTo>
                      <a:lnTo>
                        <a:pt x="310" y="363"/>
                      </a:lnTo>
                      <a:lnTo>
                        <a:pt x="307" y="372"/>
                      </a:lnTo>
                      <a:lnTo>
                        <a:pt x="304" y="380"/>
                      </a:lnTo>
                      <a:lnTo>
                        <a:pt x="301" y="384"/>
                      </a:lnTo>
                      <a:lnTo>
                        <a:pt x="294" y="392"/>
                      </a:lnTo>
                      <a:lnTo>
                        <a:pt x="291" y="393"/>
                      </a:lnTo>
                      <a:lnTo>
                        <a:pt x="291" y="423"/>
                      </a:lnTo>
                      <a:lnTo>
                        <a:pt x="261" y="423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48" name="Freeform 98"/>
                <p:cNvSpPr/>
                <p:nvPr/>
              </p:nvSpPr>
              <p:spPr>
                <a:xfrm>
                  <a:off x="2676600" y="1198440"/>
                  <a:ext cx="1245960" cy="1428840"/>
                </a:xfrm>
                <a:custGeom>
                  <a:avLst/>
                  <a:gdLst>
                    <a:gd name="textAreaLeft" fmla="*/ 0 w 1245960"/>
                    <a:gd name="textAreaRight" fmla="*/ 1246320 w 1245960"/>
                    <a:gd name="textAreaTop" fmla="*/ 0 h 1428840"/>
                    <a:gd name="textAreaBottom" fmla="*/ 1429200 h 1428840"/>
                  </a:gdLst>
                  <a:ahLst/>
                  <a:rect l="textAreaLeft" t="textAreaTop" r="textAreaRight" b="textAreaBottom"/>
                  <a:pathLst>
                    <a:path w="785" h="900">
                      <a:moveTo>
                        <a:pt x="368" y="848"/>
                      </a:moveTo>
                      <a:lnTo>
                        <a:pt x="328" y="781"/>
                      </a:lnTo>
                      <a:lnTo>
                        <a:pt x="291" y="731"/>
                      </a:lnTo>
                      <a:lnTo>
                        <a:pt x="291" y="646"/>
                      </a:lnTo>
                      <a:lnTo>
                        <a:pt x="294" y="567"/>
                      </a:lnTo>
                      <a:lnTo>
                        <a:pt x="294" y="508"/>
                      </a:lnTo>
                      <a:lnTo>
                        <a:pt x="256" y="535"/>
                      </a:lnTo>
                      <a:lnTo>
                        <a:pt x="256" y="478"/>
                      </a:lnTo>
                      <a:lnTo>
                        <a:pt x="229" y="378"/>
                      </a:lnTo>
                      <a:lnTo>
                        <a:pt x="199" y="318"/>
                      </a:lnTo>
                      <a:lnTo>
                        <a:pt x="126" y="301"/>
                      </a:lnTo>
                      <a:lnTo>
                        <a:pt x="62" y="268"/>
                      </a:lnTo>
                      <a:lnTo>
                        <a:pt x="23" y="241"/>
                      </a:lnTo>
                      <a:lnTo>
                        <a:pt x="62" y="229"/>
                      </a:lnTo>
                      <a:lnTo>
                        <a:pt x="0" y="191"/>
                      </a:lnTo>
                      <a:lnTo>
                        <a:pt x="0" y="184"/>
                      </a:lnTo>
                      <a:lnTo>
                        <a:pt x="1" y="176"/>
                      </a:lnTo>
                      <a:lnTo>
                        <a:pt x="3" y="169"/>
                      </a:lnTo>
                      <a:lnTo>
                        <a:pt x="7" y="160"/>
                      </a:lnTo>
                      <a:lnTo>
                        <a:pt x="12" y="152"/>
                      </a:lnTo>
                      <a:lnTo>
                        <a:pt x="16" y="149"/>
                      </a:lnTo>
                      <a:lnTo>
                        <a:pt x="21" y="148"/>
                      </a:lnTo>
                      <a:lnTo>
                        <a:pt x="26" y="146"/>
                      </a:lnTo>
                      <a:lnTo>
                        <a:pt x="30" y="145"/>
                      </a:lnTo>
                      <a:lnTo>
                        <a:pt x="44" y="145"/>
                      </a:lnTo>
                      <a:lnTo>
                        <a:pt x="62" y="142"/>
                      </a:lnTo>
                      <a:lnTo>
                        <a:pt x="99" y="134"/>
                      </a:lnTo>
                      <a:lnTo>
                        <a:pt x="145" y="122"/>
                      </a:lnTo>
                      <a:lnTo>
                        <a:pt x="166" y="101"/>
                      </a:lnTo>
                      <a:lnTo>
                        <a:pt x="182" y="83"/>
                      </a:lnTo>
                      <a:lnTo>
                        <a:pt x="194" y="72"/>
                      </a:lnTo>
                      <a:lnTo>
                        <a:pt x="205" y="63"/>
                      </a:lnTo>
                      <a:lnTo>
                        <a:pt x="218" y="53"/>
                      </a:lnTo>
                      <a:lnTo>
                        <a:pt x="226" y="47"/>
                      </a:lnTo>
                      <a:lnTo>
                        <a:pt x="235" y="42"/>
                      </a:lnTo>
                      <a:lnTo>
                        <a:pt x="246" y="39"/>
                      </a:lnTo>
                      <a:lnTo>
                        <a:pt x="256" y="38"/>
                      </a:lnTo>
                      <a:lnTo>
                        <a:pt x="267" y="38"/>
                      </a:lnTo>
                      <a:lnTo>
                        <a:pt x="279" y="36"/>
                      </a:lnTo>
                      <a:lnTo>
                        <a:pt x="298" y="32"/>
                      </a:lnTo>
                      <a:lnTo>
                        <a:pt x="316" y="29"/>
                      </a:lnTo>
                      <a:lnTo>
                        <a:pt x="333" y="27"/>
                      </a:lnTo>
                      <a:lnTo>
                        <a:pt x="340" y="29"/>
                      </a:lnTo>
                      <a:lnTo>
                        <a:pt x="350" y="33"/>
                      </a:lnTo>
                      <a:lnTo>
                        <a:pt x="371" y="45"/>
                      </a:lnTo>
                      <a:lnTo>
                        <a:pt x="389" y="59"/>
                      </a:lnTo>
                      <a:lnTo>
                        <a:pt x="396" y="63"/>
                      </a:lnTo>
                      <a:lnTo>
                        <a:pt x="401" y="65"/>
                      </a:lnTo>
                      <a:lnTo>
                        <a:pt x="413" y="63"/>
                      </a:lnTo>
                      <a:lnTo>
                        <a:pt x="428" y="62"/>
                      </a:lnTo>
                      <a:lnTo>
                        <a:pt x="435" y="59"/>
                      </a:lnTo>
                      <a:lnTo>
                        <a:pt x="443" y="56"/>
                      </a:lnTo>
                      <a:lnTo>
                        <a:pt x="450" y="51"/>
                      </a:lnTo>
                      <a:lnTo>
                        <a:pt x="455" y="45"/>
                      </a:lnTo>
                      <a:lnTo>
                        <a:pt x="461" y="41"/>
                      </a:lnTo>
                      <a:lnTo>
                        <a:pt x="470" y="35"/>
                      </a:lnTo>
                      <a:lnTo>
                        <a:pt x="482" y="30"/>
                      </a:lnTo>
                      <a:lnTo>
                        <a:pt x="494" y="27"/>
                      </a:lnTo>
                      <a:lnTo>
                        <a:pt x="520" y="21"/>
                      </a:lnTo>
                      <a:lnTo>
                        <a:pt x="539" y="20"/>
                      </a:lnTo>
                      <a:lnTo>
                        <a:pt x="557" y="17"/>
                      </a:lnTo>
                      <a:lnTo>
                        <a:pt x="582" y="12"/>
                      </a:lnTo>
                      <a:lnTo>
                        <a:pt x="624" y="3"/>
                      </a:lnTo>
                      <a:lnTo>
                        <a:pt x="643" y="0"/>
                      </a:lnTo>
                      <a:lnTo>
                        <a:pt x="655" y="0"/>
                      </a:lnTo>
                      <a:lnTo>
                        <a:pt x="669" y="0"/>
                      </a:lnTo>
                      <a:lnTo>
                        <a:pt x="681" y="0"/>
                      </a:lnTo>
                      <a:lnTo>
                        <a:pt x="692" y="3"/>
                      </a:lnTo>
                      <a:lnTo>
                        <a:pt x="696" y="5"/>
                      </a:lnTo>
                      <a:lnTo>
                        <a:pt x="699" y="8"/>
                      </a:lnTo>
                      <a:lnTo>
                        <a:pt x="702" y="11"/>
                      </a:lnTo>
                      <a:lnTo>
                        <a:pt x="704" y="15"/>
                      </a:lnTo>
                      <a:lnTo>
                        <a:pt x="704" y="23"/>
                      </a:lnTo>
                      <a:lnTo>
                        <a:pt x="704" y="29"/>
                      </a:lnTo>
                      <a:lnTo>
                        <a:pt x="702" y="35"/>
                      </a:lnTo>
                      <a:lnTo>
                        <a:pt x="702" y="42"/>
                      </a:lnTo>
                      <a:lnTo>
                        <a:pt x="704" y="51"/>
                      </a:lnTo>
                      <a:lnTo>
                        <a:pt x="710" y="63"/>
                      </a:lnTo>
                      <a:lnTo>
                        <a:pt x="719" y="80"/>
                      </a:lnTo>
                      <a:lnTo>
                        <a:pt x="734" y="102"/>
                      </a:lnTo>
                      <a:lnTo>
                        <a:pt x="752" y="128"/>
                      </a:lnTo>
                      <a:lnTo>
                        <a:pt x="765" y="152"/>
                      </a:lnTo>
                      <a:lnTo>
                        <a:pt x="776" y="175"/>
                      </a:lnTo>
                      <a:lnTo>
                        <a:pt x="782" y="194"/>
                      </a:lnTo>
                      <a:lnTo>
                        <a:pt x="785" y="209"/>
                      </a:lnTo>
                      <a:lnTo>
                        <a:pt x="785" y="217"/>
                      </a:lnTo>
                      <a:lnTo>
                        <a:pt x="785" y="223"/>
                      </a:lnTo>
                      <a:lnTo>
                        <a:pt x="783" y="228"/>
                      </a:lnTo>
                      <a:lnTo>
                        <a:pt x="780" y="231"/>
                      </a:lnTo>
                      <a:lnTo>
                        <a:pt x="777" y="232"/>
                      </a:lnTo>
                      <a:lnTo>
                        <a:pt x="773" y="234"/>
                      </a:lnTo>
                      <a:lnTo>
                        <a:pt x="755" y="234"/>
                      </a:lnTo>
                      <a:lnTo>
                        <a:pt x="749" y="235"/>
                      </a:lnTo>
                      <a:lnTo>
                        <a:pt x="743" y="238"/>
                      </a:lnTo>
                      <a:lnTo>
                        <a:pt x="740" y="246"/>
                      </a:lnTo>
                      <a:lnTo>
                        <a:pt x="737" y="258"/>
                      </a:lnTo>
                      <a:lnTo>
                        <a:pt x="735" y="274"/>
                      </a:lnTo>
                      <a:lnTo>
                        <a:pt x="734" y="298"/>
                      </a:lnTo>
                      <a:lnTo>
                        <a:pt x="734" y="470"/>
                      </a:lnTo>
                      <a:lnTo>
                        <a:pt x="735" y="506"/>
                      </a:lnTo>
                      <a:lnTo>
                        <a:pt x="735" y="529"/>
                      </a:lnTo>
                      <a:lnTo>
                        <a:pt x="734" y="550"/>
                      </a:lnTo>
                      <a:lnTo>
                        <a:pt x="732" y="570"/>
                      </a:lnTo>
                      <a:lnTo>
                        <a:pt x="728" y="588"/>
                      </a:lnTo>
                      <a:lnTo>
                        <a:pt x="725" y="594"/>
                      </a:lnTo>
                      <a:lnTo>
                        <a:pt x="722" y="598"/>
                      </a:lnTo>
                      <a:lnTo>
                        <a:pt x="717" y="603"/>
                      </a:lnTo>
                      <a:lnTo>
                        <a:pt x="711" y="604"/>
                      </a:lnTo>
                      <a:lnTo>
                        <a:pt x="687" y="607"/>
                      </a:lnTo>
                      <a:lnTo>
                        <a:pt x="660" y="612"/>
                      </a:lnTo>
                      <a:lnTo>
                        <a:pt x="648" y="616"/>
                      </a:lnTo>
                      <a:lnTo>
                        <a:pt x="636" y="621"/>
                      </a:lnTo>
                      <a:lnTo>
                        <a:pt x="625" y="627"/>
                      </a:lnTo>
                      <a:lnTo>
                        <a:pt x="616" y="634"/>
                      </a:lnTo>
                      <a:lnTo>
                        <a:pt x="606" y="643"/>
                      </a:lnTo>
                      <a:lnTo>
                        <a:pt x="595" y="649"/>
                      </a:lnTo>
                      <a:lnTo>
                        <a:pt x="574" y="663"/>
                      </a:lnTo>
                      <a:lnTo>
                        <a:pt x="554" y="674"/>
                      </a:lnTo>
                      <a:lnTo>
                        <a:pt x="547" y="680"/>
                      </a:lnTo>
                      <a:lnTo>
                        <a:pt x="542" y="684"/>
                      </a:lnTo>
                      <a:lnTo>
                        <a:pt x="535" y="704"/>
                      </a:lnTo>
                      <a:lnTo>
                        <a:pt x="532" y="711"/>
                      </a:lnTo>
                      <a:lnTo>
                        <a:pt x="527" y="711"/>
                      </a:lnTo>
                      <a:lnTo>
                        <a:pt x="517" y="711"/>
                      </a:lnTo>
                      <a:lnTo>
                        <a:pt x="511" y="713"/>
                      </a:lnTo>
                      <a:lnTo>
                        <a:pt x="506" y="716"/>
                      </a:lnTo>
                      <a:lnTo>
                        <a:pt x="500" y="720"/>
                      </a:lnTo>
                      <a:lnTo>
                        <a:pt x="497" y="726"/>
                      </a:lnTo>
                      <a:lnTo>
                        <a:pt x="488" y="744"/>
                      </a:lnTo>
                      <a:lnTo>
                        <a:pt x="475" y="768"/>
                      </a:lnTo>
                      <a:lnTo>
                        <a:pt x="469" y="781"/>
                      </a:lnTo>
                      <a:lnTo>
                        <a:pt x="464" y="794"/>
                      </a:lnTo>
                      <a:lnTo>
                        <a:pt x="460" y="806"/>
                      </a:lnTo>
                      <a:lnTo>
                        <a:pt x="460" y="818"/>
                      </a:lnTo>
                      <a:lnTo>
                        <a:pt x="460" y="862"/>
                      </a:lnTo>
                      <a:lnTo>
                        <a:pt x="461" y="878"/>
                      </a:lnTo>
                      <a:lnTo>
                        <a:pt x="460" y="891"/>
                      </a:lnTo>
                      <a:lnTo>
                        <a:pt x="458" y="894"/>
                      </a:lnTo>
                      <a:lnTo>
                        <a:pt x="455" y="895"/>
                      </a:lnTo>
                      <a:lnTo>
                        <a:pt x="446" y="897"/>
                      </a:lnTo>
                      <a:lnTo>
                        <a:pt x="432" y="898"/>
                      </a:lnTo>
                      <a:lnTo>
                        <a:pt x="419" y="900"/>
                      </a:lnTo>
                      <a:lnTo>
                        <a:pt x="393" y="900"/>
                      </a:lnTo>
                      <a:lnTo>
                        <a:pt x="383" y="898"/>
                      </a:lnTo>
                      <a:lnTo>
                        <a:pt x="368" y="848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49" name="Freeform 99"/>
                <p:cNvSpPr/>
                <p:nvPr/>
              </p:nvSpPr>
              <p:spPr>
                <a:xfrm>
                  <a:off x="631800" y="2035080"/>
                  <a:ext cx="2408400" cy="1679400"/>
                </a:xfrm>
                <a:custGeom>
                  <a:avLst/>
                  <a:gdLst>
                    <a:gd name="textAreaLeft" fmla="*/ 0 w 2408400"/>
                    <a:gd name="textAreaRight" fmla="*/ 2408760 w 2408400"/>
                    <a:gd name="textAreaTop" fmla="*/ 0 h 1679400"/>
                    <a:gd name="textAreaBottom" fmla="*/ 1679760 h 1679400"/>
                  </a:gdLst>
                  <a:ahLst/>
                  <a:rect l="textAreaLeft" t="textAreaTop" r="textAreaRight" b="textAreaBottom"/>
                  <a:pathLst>
                    <a:path w="1517" h="1058">
                      <a:moveTo>
                        <a:pt x="815" y="971"/>
                      </a:moveTo>
                      <a:lnTo>
                        <a:pt x="815" y="971"/>
                      </a:lnTo>
                      <a:lnTo>
                        <a:pt x="828" y="971"/>
                      </a:lnTo>
                      <a:lnTo>
                        <a:pt x="842" y="974"/>
                      </a:lnTo>
                      <a:lnTo>
                        <a:pt x="854" y="977"/>
                      </a:lnTo>
                      <a:lnTo>
                        <a:pt x="861" y="980"/>
                      </a:lnTo>
                      <a:lnTo>
                        <a:pt x="883" y="996"/>
                      </a:lnTo>
                      <a:lnTo>
                        <a:pt x="893" y="1005"/>
                      </a:lnTo>
                      <a:lnTo>
                        <a:pt x="898" y="1007"/>
                      </a:lnTo>
                      <a:lnTo>
                        <a:pt x="902" y="1007"/>
                      </a:lnTo>
                      <a:lnTo>
                        <a:pt x="913" y="1001"/>
                      </a:lnTo>
                      <a:lnTo>
                        <a:pt x="917" y="1001"/>
                      </a:lnTo>
                      <a:lnTo>
                        <a:pt x="919" y="1001"/>
                      </a:lnTo>
                      <a:lnTo>
                        <a:pt x="920" y="1002"/>
                      </a:lnTo>
                      <a:lnTo>
                        <a:pt x="934" y="1018"/>
                      </a:lnTo>
                      <a:lnTo>
                        <a:pt x="947" y="1031"/>
                      </a:lnTo>
                      <a:lnTo>
                        <a:pt x="949" y="1033"/>
                      </a:lnTo>
                      <a:lnTo>
                        <a:pt x="949" y="1034"/>
                      </a:lnTo>
                      <a:lnTo>
                        <a:pt x="949" y="1039"/>
                      </a:lnTo>
                      <a:lnTo>
                        <a:pt x="950" y="1042"/>
                      </a:lnTo>
                      <a:lnTo>
                        <a:pt x="953" y="1045"/>
                      </a:lnTo>
                      <a:lnTo>
                        <a:pt x="958" y="1048"/>
                      </a:lnTo>
                      <a:lnTo>
                        <a:pt x="967" y="1051"/>
                      </a:lnTo>
                      <a:lnTo>
                        <a:pt x="967" y="1043"/>
                      </a:lnTo>
                      <a:lnTo>
                        <a:pt x="968" y="1037"/>
                      </a:lnTo>
                      <a:lnTo>
                        <a:pt x="970" y="1031"/>
                      </a:lnTo>
                      <a:lnTo>
                        <a:pt x="974" y="1025"/>
                      </a:lnTo>
                      <a:lnTo>
                        <a:pt x="982" y="1016"/>
                      </a:lnTo>
                      <a:lnTo>
                        <a:pt x="993" y="1007"/>
                      </a:lnTo>
                      <a:lnTo>
                        <a:pt x="1005" y="1001"/>
                      </a:lnTo>
                      <a:lnTo>
                        <a:pt x="1017" y="996"/>
                      </a:lnTo>
                      <a:lnTo>
                        <a:pt x="1039" y="992"/>
                      </a:lnTo>
                      <a:lnTo>
                        <a:pt x="1051" y="989"/>
                      </a:lnTo>
                      <a:lnTo>
                        <a:pt x="1060" y="987"/>
                      </a:lnTo>
                      <a:lnTo>
                        <a:pt x="1077" y="989"/>
                      </a:lnTo>
                      <a:lnTo>
                        <a:pt x="1088" y="990"/>
                      </a:lnTo>
                      <a:lnTo>
                        <a:pt x="1097" y="992"/>
                      </a:lnTo>
                      <a:lnTo>
                        <a:pt x="1103" y="992"/>
                      </a:lnTo>
                      <a:lnTo>
                        <a:pt x="1109" y="995"/>
                      </a:lnTo>
                      <a:lnTo>
                        <a:pt x="1125" y="1001"/>
                      </a:lnTo>
                      <a:lnTo>
                        <a:pt x="1146" y="1010"/>
                      </a:lnTo>
                      <a:lnTo>
                        <a:pt x="1166" y="1057"/>
                      </a:lnTo>
                      <a:lnTo>
                        <a:pt x="1170" y="1057"/>
                      </a:lnTo>
                      <a:lnTo>
                        <a:pt x="1181" y="1058"/>
                      </a:lnTo>
                      <a:lnTo>
                        <a:pt x="1187" y="1058"/>
                      </a:lnTo>
                      <a:lnTo>
                        <a:pt x="1191" y="1057"/>
                      </a:lnTo>
                      <a:lnTo>
                        <a:pt x="1194" y="1054"/>
                      </a:lnTo>
                      <a:lnTo>
                        <a:pt x="1196" y="1049"/>
                      </a:lnTo>
                      <a:lnTo>
                        <a:pt x="1196" y="968"/>
                      </a:lnTo>
                      <a:lnTo>
                        <a:pt x="1198" y="953"/>
                      </a:lnTo>
                      <a:lnTo>
                        <a:pt x="1204" y="935"/>
                      </a:lnTo>
                      <a:lnTo>
                        <a:pt x="1211" y="915"/>
                      </a:lnTo>
                      <a:lnTo>
                        <a:pt x="1222" y="894"/>
                      </a:lnTo>
                      <a:lnTo>
                        <a:pt x="1238" y="861"/>
                      </a:lnTo>
                      <a:lnTo>
                        <a:pt x="1246" y="846"/>
                      </a:lnTo>
                      <a:lnTo>
                        <a:pt x="1261" y="835"/>
                      </a:lnTo>
                      <a:lnTo>
                        <a:pt x="1267" y="831"/>
                      </a:lnTo>
                      <a:lnTo>
                        <a:pt x="1271" y="829"/>
                      </a:lnTo>
                      <a:lnTo>
                        <a:pt x="1279" y="828"/>
                      </a:lnTo>
                      <a:lnTo>
                        <a:pt x="1282" y="829"/>
                      </a:lnTo>
                      <a:lnTo>
                        <a:pt x="1283" y="831"/>
                      </a:lnTo>
                      <a:lnTo>
                        <a:pt x="1323" y="823"/>
                      </a:lnTo>
                      <a:lnTo>
                        <a:pt x="1332" y="799"/>
                      </a:lnTo>
                      <a:lnTo>
                        <a:pt x="1345" y="766"/>
                      </a:lnTo>
                      <a:lnTo>
                        <a:pt x="1350" y="755"/>
                      </a:lnTo>
                      <a:lnTo>
                        <a:pt x="1356" y="745"/>
                      </a:lnTo>
                      <a:lnTo>
                        <a:pt x="1365" y="731"/>
                      </a:lnTo>
                      <a:lnTo>
                        <a:pt x="1381" y="718"/>
                      </a:lnTo>
                      <a:lnTo>
                        <a:pt x="1396" y="709"/>
                      </a:lnTo>
                      <a:lnTo>
                        <a:pt x="1404" y="706"/>
                      </a:lnTo>
                      <a:lnTo>
                        <a:pt x="1410" y="704"/>
                      </a:lnTo>
                      <a:lnTo>
                        <a:pt x="1413" y="704"/>
                      </a:lnTo>
                      <a:lnTo>
                        <a:pt x="1416" y="703"/>
                      </a:lnTo>
                      <a:lnTo>
                        <a:pt x="1419" y="698"/>
                      </a:lnTo>
                      <a:lnTo>
                        <a:pt x="1424" y="691"/>
                      </a:lnTo>
                      <a:lnTo>
                        <a:pt x="1425" y="683"/>
                      </a:lnTo>
                      <a:lnTo>
                        <a:pt x="1428" y="669"/>
                      </a:lnTo>
                      <a:lnTo>
                        <a:pt x="1430" y="662"/>
                      </a:lnTo>
                      <a:lnTo>
                        <a:pt x="1383" y="662"/>
                      </a:lnTo>
                      <a:lnTo>
                        <a:pt x="1357" y="654"/>
                      </a:lnTo>
                      <a:lnTo>
                        <a:pt x="1374" y="635"/>
                      </a:lnTo>
                      <a:lnTo>
                        <a:pt x="1389" y="620"/>
                      </a:lnTo>
                      <a:lnTo>
                        <a:pt x="1396" y="614"/>
                      </a:lnTo>
                      <a:lnTo>
                        <a:pt x="1402" y="609"/>
                      </a:lnTo>
                      <a:lnTo>
                        <a:pt x="1410" y="606"/>
                      </a:lnTo>
                      <a:lnTo>
                        <a:pt x="1421" y="605"/>
                      </a:lnTo>
                      <a:lnTo>
                        <a:pt x="1443" y="602"/>
                      </a:lnTo>
                      <a:lnTo>
                        <a:pt x="1472" y="602"/>
                      </a:lnTo>
                      <a:lnTo>
                        <a:pt x="1517" y="562"/>
                      </a:lnTo>
                      <a:lnTo>
                        <a:pt x="1502" y="519"/>
                      </a:lnTo>
                      <a:lnTo>
                        <a:pt x="1491" y="484"/>
                      </a:lnTo>
                      <a:lnTo>
                        <a:pt x="1488" y="469"/>
                      </a:lnTo>
                      <a:lnTo>
                        <a:pt x="1487" y="460"/>
                      </a:lnTo>
                      <a:lnTo>
                        <a:pt x="1485" y="455"/>
                      </a:lnTo>
                      <a:lnTo>
                        <a:pt x="1484" y="451"/>
                      </a:lnTo>
                      <a:lnTo>
                        <a:pt x="1476" y="437"/>
                      </a:lnTo>
                      <a:lnTo>
                        <a:pt x="1464" y="424"/>
                      </a:lnTo>
                      <a:lnTo>
                        <a:pt x="1452" y="409"/>
                      </a:lnTo>
                      <a:lnTo>
                        <a:pt x="1428" y="383"/>
                      </a:lnTo>
                      <a:lnTo>
                        <a:pt x="1418" y="371"/>
                      </a:lnTo>
                      <a:lnTo>
                        <a:pt x="1410" y="418"/>
                      </a:lnTo>
                      <a:lnTo>
                        <a:pt x="1402" y="415"/>
                      </a:lnTo>
                      <a:lnTo>
                        <a:pt x="1386" y="409"/>
                      </a:lnTo>
                      <a:lnTo>
                        <a:pt x="1377" y="404"/>
                      </a:lnTo>
                      <a:lnTo>
                        <a:pt x="1368" y="398"/>
                      </a:lnTo>
                      <a:lnTo>
                        <a:pt x="1362" y="391"/>
                      </a:lnTo>
                      <a:lnTo>
                        <a:pt x="1357" y="383"/>
                      </a:lnTo>
                      <a:lnTo>
                        <a:pt x="1353" y="374"/>
                      </a:lnTo>
                      <a:lnTo>
                        <a:pt x="1347" y="364"/>
                      </a:lnTo>
                      <a:lnTo>
                        <a:pt x="1339" y="354"/>
                      </a:lnTo>
                      <a:lnTo>
                        <a:pt x="1330" y="344"/>
                      </a:lnTo>
                      <a:lnTo>
                        <a:pt x="1320" y="333"/>
                      </a:lnTo>
                      <a:lnTo>
                        <a:pt x="1308" y="323"/>
                      </a:lnTo>
                      <a:lnTo>
                        <a:pt x="1294" y="314"/>
                      </a:lnTo>
                      <a:lnTo>
                        <a:pt x="1280" y="306"/>
                      </a:lnTo>
                      <a:lnTo>
                        <a:pt x="1273" y="305"/>
                      </a:lnTo>
                      <a:lnTo>
                        <a:pt x="1267" y="305"/>
                      </a:lnTo>
                      <a:lnTo>
                        <a:pt x="1261" y="308"/>
                      </a:lnTo>
                      <a:lnTo>
                        <a:pt x="1256" y="312"/>
                      </a:lnTo>
                      <a:lnTo>
                        <a:pt x="1250" y="318"/>
                      </a:lnTo>
                      <a:lnTo>
                        <a:pt x="1246" y="324"/>
                      </a:lnTo>
                      <a:lnTo>
                        <a:pt x="1240" y="341"/>
                      </a:lnTo>
                      <a:lnTo>
                        <a:pt x="1234" y="359"/>
                      </a:lnTo>
                      <a:lnTo>
                        <a:pt x="1229" y="376"/>
                      </a:lnTo>
                      <a:lnTo>
                        <a:pt x="1226" y="391"/>
                      </a:lnTo>
                      <a:lnTo>
                        <a:pt x="1226" y="433"/>
                      </a:lnTo>
                      <a:lnTo>
                        <a:pt x="1223" y="505"/>
                      </a:lnTo>
                      <a:lnTo>
                        <a:pt x="1208" y="555"/>
                      </a:lnTo>
                      <a:lnTo>
                        <a:pt x="1188" y="559"/>
                      </a:lnTo>
                      <a:lnTo>
                        <a:pt x="1166" y="513"/>
                      </a:lnTo>
                      <a:lnTo>
                        <a:pt x="1154" y="508"/>
                      </a:lnTo>
                      <a:lnTo>
                        <a:pt x="1127" y="495"/>
                      </a:lnTo>
                      <a:lnTo>
                        <a:pt x="1113" y="486"/>
                      </a:lnTo>
                      <a:lnTo>
                        <a:pt x="1101" y="478"/>
                      </a:lnTo>
                      <a:lnTo>
                        <a:pt x="1092" y="471"/>
                      </a:lnTo>
                      <a:lnTo>
                        <a:pt x="1091" y="466"/>
                      </a:lnTo>
                      <a:lnTo>
                        <a:pt x="1089" y="463"/>
                      </a:lnTo>
                      <a:lnTo>
                        <a:pt x="1089" y="460"/>
                      </a:lnTo>
                      <a:lnTo>
                        <a:pt x="1086" y="457"/>
                      </a:lnTo>
                      <a:lnTo>
                        <a:pt x="1080" y="449"/>
                      </a:lnTo>
                      <a:lnTo>
                        <a:pt x="1062" y="431"/>
                      </a:lnTo>
                      <a:lnTo>
                        <a:pt x="1053" y="421"/>
                      </a:lnTo>
                      <a:lnTo>
                        <a:pt x="1044" y="412"/>
                      </a:lnTo>
                      <a:lnTo>
                        <a:pt x="1038" y="401"/>
                      </a:lnTo>
                      <a:lnTo>
                        <a:pt x="1036" y="395"/>
                      </a:lnTo>
                      <a:lnTo>
                        <a:pt x="1035" y="391"/>
                      </a:lnTo>
                      <a:lnTo>
                        <a:pt x="1035" y="386"/>
                      </a:lnTo>
                      <a:lnTo>
                        <a:pt x="1033" y="383"/>
                      </a:lnTo>
                      <a:lnTo>
                        <a:pt x="1032" y="382"/>
                      </a:lnTo>
                      <a:lnTo>
                        <a:pt x="1030" y="380"/>
                      </a:lnTo>
                      <a:lnTo>
                        <a:pt x="1024" y="380"/>
                      </a:lnTo>
                      <a:lnTo>
                        <a:pt x="1018" y="382"/>
                      </a:lnTo>
                      <a:lnTo>
                        <a:pt x="1012" y="385"/>
                      </a:lnTo>
                      <a:lnTo>
                        <a:pt x="1006" y="386"/>
                      </a:lnTo>
                      <a:lnTo>
                        <a:pt x="1005" y="385"/>
                      </a:lnTo>
                      <a:lnTo>
                        <a:pt x="1003" y="385"/>
                      </a:lnTo>
                      <a:lnTo>
                        <a:pt x="1002" y="382"/>
                      </a:lnTo>
                      <a:lnTo>
                        <a:pt x="1002" y="379"/>
                      </a:lnTo>
                      <a:lnTo>
                        <a:pt x="1002" y="371"/>
                      </a:lnTo>
                      <a:lnTo>
                        <a:pt x="1005" y="364"/>
                      </a:lnTo>
                      <a:lnTo>
                        <a:pt x="1011" y="347"/>
                      </a:lnTo>
                      <a:lnTo>
                        <a:pt x="1017" y="332"/>
                      </a:lnTo>
                      <a:lnTo>
                        <a:pt x="1020" y="324"/>
                      </a:lnTo>
                      <a:lnTo>
                        <a:pt x="1020" y="318"/>
                      </a:lnTo>
                      <a:lnTo>
                        <a:pt x="1021" y="306"/>
                      </a:lnTo>
                      <a:lnTo>
                        <a:pt x="1023" y="300"/>
                      </a:lnTo>
                      <a:lnTo>
                        <a:pt x="1024" y="294"/>
                      </a:lnTo>
                      <a:lnTo>
                        <a:pt x="1029" y="288"/>
                      </a:lnTo>
                      <a:lnTo>
                        <a:pt x="1033" y="282"/>
                      </a:lnTo>
                      <a:lnTo>
                        <a:pt x="1039" y="276"/>
                      </a:lnTo>
                      <a:lnTo>
                        <a:pt x="1047" y="272"/>
                      </a:lnTo>
                      <a:lnTo>
                        <a:pt x="1065" y="264"/>
                      </a:lnTo>
                      <a:lnTo>
                        <a:pt x="1084" y="257"/>
                      </a:lnTo>
                      <a:lnTo>
                        <a:pt x="1104" y="249"/>
                      </a:lnTo>
                      <a:lnTo>
                        <a:pt x="1062" y="214"/>
                      </a:lnTo>
                      <a:lnTo>
                        <a:pt x="1112" y="207"/>
                      </a:lnTo>
                      <a:lnTo>
                        <a:pt x="1118" y="205"/>
                      </a:lnTo>
                      <a:lnTo>
                        <a:pt x="1124" y="201"/>
                      </a:lnTo>
                      <a:lnTo>
                        <a:pt x="1131" y="195"/>
                      </a:lnTo>
                      <a:lnTo>
                        <a:pt x="1142" y="186"/>
                      </a:lnTo>
                      <a:lnTo>
                        <a:pt x="1152" y="172"/>
                      </a:lnTo>
                      <a:lnTo>
                        <a:pt x="1164" y="154"/>
                      </a:lnTo>
                      <a:lnTo>
                        <a:pt x="1176" y="130"/>
                      </a:lnTo>
                      <a:lnTo>
                        <a:pt x="1182" y="119"/>
                      </a:lnTo>
                      <a:lnTo>
                        <a:pt x="1185" y="109"/>
                      </a:lnTo>
                      <a:lnTo>
                        <a:pt x="1187" y="100"/>
                      </a:lnTo>
                      <a:lnTo>
                        <a:pt x="1187" y="92"/>
                      </a:lnTo>
                      <a:lnTo>
                        <a:pt x="1185" y="86"/>
                      </a:lnTo>
                      <a:lnTo>
                        <a:pt x="1184" y="82"/>
                      </a:lnTo>
                      <a:lnTo>
                        <a:pt x="1181" y="79"/>
                      </a:lnTo>
                      <a:lnTo>
                        <a:pt x="1176" y="76"/>
                      </a:lnTo>
                      <a:lnTo>
                        <a:pt x="1167" y="73"/>
                      </a:lnTo>
                      <a:lnTo>
                        <a:pt x="1160" y="73"/>
                      </a:lnTo>
                      <a:lnTo>
                        <a:pt x="1151" y="73"/>
                      </a:lnTo>
                      <a:lnTo>
                        <a:pt x="1149" y="77"/>
                      </a:lnTo>
                      <a:lnTo>
                        <a:pt x="1143" y="89"/>
                      </a:lnTo>
                      <a:lnTo>
                        <a:pt x="1134" y="104"/>
                      </a:lnTo>
                      <a:lnTo>
                        <a:pt x="1127" y="112"/>
                      </a:lnTo>
                      <a:lnTo>
                        <a:pt x="1119" y="119"/>
                      </a:lnTo>
                      <a:lnTo>
                        <a:pt x="1115" y="122"/>
                      </a:lnTo>
                      <a:lnTo>
                        <a:pt x="1110" y="124"/>
                      </a:lnTo>
                      <a:lnTo>
                        <a:pt x="1104" y="125"/>
                      </a:lnTo>
                      <a:lnTo>
                        <a:pt x="1100" y="125"/>
                      </a:lnTo>
                      <a:lnTo>
                        <a:pt x="1088" y="122"/>
                      </a:lnTo>
                      <a:lnTo>
                        <a:pt x="1077" y="119"/>
                      </a:lnTo>
                      <a:lnTo>
                        <a:pt x="1066" y="113"/>
                      </a:lnTo>
                      <a:lnTo>
                        <a:pt x="1059" y="109"/>
                      </a:lnTo>
                      <a:lnTo>
                        <a:pt x="1051" y="104"/>
                      </a:lnTo>
                      <a:lnTo>
                        <a:pt x="1047" y="94"/>
                      </a:lnTo>
                      <a:lnTo>
                        <a:pt x="1039" y="70"/>
                      </a:lnTo>
                      <a:lnTo>
                        <a:pt x="1035" y="56"/>
                      </a:lnTo>
                      <a:lnTo>
                        <a:pt x="1030" y="46"/>
                      </a:lnTo>
                      <a:lnTo>
                        <a:pt x="1024" y="38"/>
                      </a:lnTo>
                      <a:lnTo>
                        <a:pt x="1023" y="37"/>
                      </a:lnTo>
                      <a:lnTo>
                        <a:pt x="1020" y="35"/>
                      </a:lnTo>
                      <a:lnTo>
                        <a:pt x="1017" y="34"/>
                      </a:lnTo>
                      <a:lnTo>
                        <a:pt x="1014" y="29"/>
                      </a:lnTo>
                      <a:lnTo>
                        <a:pt x="1011" y="25"/>
                      </a:lnTo>
                      <a:lnTo>
                        <a:pt x="1011" y="18"/>
                      </a:lnTo>
                      <a:lnTo>
                        <a:pt x="1009" y="6"/>
                      </a:lnTo>
                      <a:lnTo>
                        <a:pt x="1009" y="0"/>
                      </a:lnTo>
                      <a:lnTo>
                        <a:pt x="982" y="0"/>
                      </a:lnTo>
                      <a:lnTo>
                        <a:pt x="970" y="20"/>
                      </a:lnTo>
                      <a:lnTo>
                        <a:pt x="962" y="43"/>
                      </a:lnTo>
                      <a:lnTo>
                        <a:pt x="964" y="47"/>
                      </a:lnTo>
                      <a:lnTo>
                        <a:pt x="971" y="58"/>
                      </a:lnTo>
                      <a:lnTo>
                        <a:pt x="976" y="65"/>
                      </a:lnTo>
                      <a:lnTo>
                        <a:pt x="984" y="71"/>
                      </a:lnTo>
                      <a:lnTo>
                        <a:pt x="993" y="79"/>
                      </a:lnTo>
                      <a:lnTo>
                        <a:pt x="1005" y="85"/>
                      </a:lnTo>
                      <a:lnTo>
                        <a:pt x="1011" y="88"/>
                      </a:lnTo>
                      <a:lnTo>
                        <a:pt x="1015" y="91"/>
                      </a:lnTo>
                      <a:lnTo>
                        <a:pt x="1017" y="94"/>
                      </a:lnTo>
                      <a:lnTo>
                        <a:pt x="1018" y="98"/>
                      </a:lnTo>
                      <a:lnTo>
                        <a:pt x="1020" y="101"/>
                      </a:lnTo>
                      <a:lnTo>
                        <a:pt x="1018" y="104"/>
                      </a:lnTo>
                      <a:lnTo>
                        <a:pt x="1015" y="112"/>
                      </a:lnTo>
                      <a:lnTo>
                        <a:pt x="1011" y="118"/>
                      </a:lnTo>
                      <a:lnTo>
                        <a:pt x="1006" y="122"/>
                      </a:lnTo>
                      <a:lnTo>
                        <a:pt x="1002" y="127"/>
                      </a:lnTo>
                      <a:lnTo>
                        <a:pt x="974" y="127"/>
                      </a:lnTo>
                      <a:lnTo>
                        <a:pt x="952" y="127"/>
                      </a:lnTo>
                      <a:lnTo>
                        <a:pt x="922" y="127"/>
                      </a:lnTo>
                      <a:lnTo>
                        <a:pt x="896" y="125"/>
                      </a:lnTo>
                      <a:lnTo>
                        <a:pt x="875" y="122"/>
                      </a:lnTo>
                      <a:lnTo>
                        <a:pt x="858" y="122"/>
                      </a:lnTo>
                      <a:lnTo>
                        <a:pt x="845" y="124"/>
                      </a:lnTo>
                      <a:lnTo>
                        <a:pt x="836" y="125"/>
                      </a:lnTo>
                      <a:lnTo>
                        <a:pt x="833" y="127"/>
                      </a:lnTo>
                      <a:lnTo>
                        <a:pt x="825" y="147"/>
                      </a:lnTo>
                      <a:lnTo>
                        <a:pt x="798" y="147"/>
                      </a:lnTo>
                      <a:lnTo>
                        <a:pt x="748" y="147"/>
                      </a:lnTo>
                      <a:lnTo>
                        <a:pt x="744" y="145"/>
                      </a:lnTo>
                      <a:lnTo>
                        <a:pt x="739" y="141"/>
                      </a:lnTo>
                      <a:lnTo>
                        <a:pt x="736" y="135"/>
                      </a:lnTo>
                      <a:lnTo>
                        <a:pt x="735" y="128"/>
                      </a:lnTo>
                      <a:lnTo>
                        <a:pt x="733" y="116"/>
                      </a:lnTo>
                      <a:lnTo>
                        <a:pt x="733" y="112"/>
                      </a:lnTo>
                      <a:lnTo>
                        <a:pt x="730" y="107"/>
                      </a:lnTo>
                      <a:lnTo>
                        <a:pt x="724" y="98"/>
                      </a:lnTo>
                      <a:lnTo>
                        <a:pt x="718" y="94"/>
                      </a:lnTo>
                      <a:lnTo>
                        <a:pt x="712" y="88"/>
                      </a:lnTo>
                      <a:lnTo>
                        <a:pt x="705" y="82"/>
                      </a:lnTo>
                      <a:lnTo>
                        <a:pt x="694" y="77"/>
                      </a:lnTo>
                      <a:lnTo>
                        <a:pt x="685" y="74"/>
                      </a:lnTo>
                      <a:lnTo>
                        <a:pt x="676" y="73"/>
                      </a:lnTo>
                      <a:lnTo>
                        <a:pt x="667" y="73"/>
                      </a:lnTo>
                      <a:lnTo>
                        <a:pt x="658" y="73"/>
                      </a:lnTo>
                      <a:lnTo>
                        <a:pt x="644" y="76"/>
                      </a:lnTo>
                      <a:lnTo>
                        <a:pt x="634" y="77"/>
                      </a:lnTo>
                      <a:lnTo>
                        <a:pt x="620" y="74"/>
                      </a:lnTo>
                      <a:lnTo>
                        <a:pt x="601" y="67"/>
                      </a:lnTo>
                      <a:lnTo>
                        <a:pt x="590" y="62"/>
                      </a:lnTo>
                      <a:lnTo>
                        <a:pt x="581" y="56"/>
                      </a:lnTo>
                      <a:lnTo>
                        <a:pt x="572" y="50"/>
                      </a:lnTo>
                      <a:lnTo>
                        <a:pt x="565" y="43"/>
                      </a:lnTo>
                      <a:lnTo>
                        <a:pt x="559" y="37"/>
                      </a:lnTo>
                      <a:lnTo>
                        <a:pt x="550" y="34"/>
                      </a:lnTo>
                      <a:lnTo>
                        <a:pt x="541" y="34"/>
                      </a:lnTo>
                      <a:lnTo>
                        <a:pt x="533" y="34"/>
                      </a:lnTo>
                      <a:lnTo>
                        <a:pt x="518" y="37"/>
                      </a:lnTo>
                      <a:lnTo>
                        <a:pt x="512" y="40"/>
                      </a:lnTo>
                      <a:lnTo>
                        <a:pt x="462" y="85"/>
                      </a:lnTo>
                      <a:lnTo>
                        <a:pt x="412" y="97"/>
                      </a:lnTo>
                      <a:lnTo>
                        <a:pt x="381" y="77"/>
                      </a:lnTo>
                      <a:lnTo>
                        <a:pt x="343" y="55"/>
                      </a:lnTo>
                      <a:lnTo>
                        <a:pt x="308" y="40"/>
                      </a:lnTo>
                      <a:lnTo>
                        <a:pt x="259" y="40"/>
                      </a:lnTo>
                      <a:lnTo>
                        <a:pt x="194" y="35"/>
                      </a:lnTo>
                      <a:lnTo>
                        <a:pt x="152" y="5"/>
                      </a:lnTo>
                      <a:lnTo>
                        <a:pt x="90" y="35"/>
                      </a:lnTo>
                      <a:lnTo>
                        <a:pt x="82" y="80"/>
                      </a:lnTo>
                      <a:lnTo>
                        <a:pt x="18" y="92"/>
                      </a:lnTo>
                      <a:lnTo>
                        <a:pt x="0" y="119"/>
                      </a:lnTo>
                      <a:lnTo>
                        <a:pt x="25" y="154"/>
                      </a:lnTo>
                      <a:lnTo>
                        <a:pt x="72" y="189"/>
                      </a:lnTo>
                      <a:lnTo>
                        <a:pt x="18" y="196"/>
                      </a:lnTo>
                      <a:lnTo>
                        <a:pt x="33" y="241"/>
                      </a:lnTo>
                      <a:lnTo>
                        <a:pt x="79" y="241"/>
                      </a:lnTo>
                      <a:lnTo>
                        <a:pt x="75" y="284"/>
                      </a:lnTo>
                      <a:lnTo>
                        <a:pt x="30" y="329"/>
                      </a:lnTo>
                      <a:lnTo>
                        <a:pt x="30" y="361"/>
                      </a:lnTo>
                      <a:lnTo>
                        <a:pt x="64" y="388"/>
                      </a:lnTo>
                      <a:lnTo>
                        <a:pt x="90" y="403"/>
                      </a:lnTo>
                      <a:lnTo>
                        <a:pt x="114" y="403"/>
                      </a:lnTo>
                      <a:lnTo>
                        <a:pt x="97" y="433"/>
                      </a:lnTo>
                      <a:lnTo>
                        <a:pt x="102" y="471"/>
                      </a:lnTo>
                      <a:lnTo>
                        <a:pt x="147" y="471"/>
                      </a:lnTo>
                      <a:lnTo>
                        <a:pt x="167" y="437"/>
                      </a:lnTo>
                      <a:lnTo>
                        <a:pt x="209" y="391"/>
                      </a:lnTo>
                      <a:lnTo>
                        <a:pt x="229" y="361"/>
                      </a:lnTo>
                      <a:lnTo>
                        <a:pt x="256" y="371"/>
                      </a:lnTo>
                      <a:lnTo>
                        <a:pt x="289" y="368"/>
                      </a:lnTo>
                      <a:lnTo>
                        <a:pt x="324" y="368"/>
                      </a:lnTo>
                      <a:lnTo>
                        <a:pt x="346" y="395"/>
                      </a:lnTo>
                      <a:lnTo>
                        <a:pt x="393" y="395"/>
                      </a:lnTo>
                      <a:lnTo>
                        <a:pt x="427" y="406"/>
                      </a:lnTo>
                      <a:lnTo>
                        <a:pt x="488" y="463"/>
                      </a:lnTo>
                      <a:lnTo>
                        <a:pt x="530" y="520"/>
                      </a:lnTo>
                      <a:lnTo>
                        <a:pt x="542" y="570"/>
                      </a:lnTo>
                      <a:lnTo>
                        <a:pt x="592" y="632"/>
                      </a:lnTo>
                      <a:lnTo>
                        <a:pt x="599" y="674"/>
                      </a:lnTo>
                      <a:lnTo>
                        <a:pt x="599" y="719"/>
                      </a:lnTo>
                      <a:lnTo>
                        <a:pt x="607" y="727"/>
                      </a:lnTo>
                      <a:lnTo>
                        <a:pt x="613" y="734"/>
                      </a:lnTo>
                      <a:lnTo>
                        <a:pt x="619" y="745"/>
                      </a:lnTo>
                      <a:lnTo>
                        <a:pt x="625" y="758"/>
                      </a:lnTo>
                      <a:lnTo>
                        <a:pt x="626" y="766"/>
                      </a:lnTo>
                      <a:lnTo>
                        <a:pt x="626" y="775"/>
                      </a:lnTo>
                      <a:lnTo>
                        <a:pt x="626" y="784"/>
                      </a:lnTo>
                      <a:lnTo>
                        <a:pt x="625" y="793"/>
                      </a:lnTo>
                      <a:lnTo>
                        <a:pt x="623" y="804"/>
                      </a:lnTo>
                      <a:lnTo>
                        <a:pt x="619" y="816"/>
                      </a:lnTo>
                      <a:lnTo>
                        <a:pt x="614" y="826"/>
                      </a:lnTo>
                      <a:lnTo>
                        <a:pt x="611" y="835"/>
                      </a:lnTo>
                      <a:lnTo>
                        <a:pt x="611" y="843"/>
                      </a:lnTo>
                      <a:lnTo>
                        <a:pt x="611" y="849"/>
                      </a:lnTo>
                      <a:lnTo>
                        <a:pt x="611" y="853"/>
                      </a:lnTo>
                      <a:lnTo>
                        <a:pt x="614" y="856"/>
                      </a:lnTo>
                      <a:lnTo>
                        <a:pt x="620" y="862"/>
                      </a:lnTo>
                      <a:lnTo>
                        <a:pt x="634" y="871"/>
                      </a:lnTo>
                      <a:lnTo>
                        <a:pt x="640" y="876"/>
                      </a:lnTo>
                      <a:lnTo>
                        <a:pt x="641" y="880"/>
                      </a:lnTo>
                      <a:lnTo>
                        <a:pt x="641" y="885"/>
                      </a:lnTo>
                      <a:lnTo>
                        <a:pt x="643" y="889"/>
                      </a:lnTo>
                      <a:lnTo>
                        <a:pt x="644" y="895"/>
                      </a:lnTo>
                      <a:lnTo>
                        <a:pt x="655" y="912"/>
                      </a:lnTo>
                      <a:lnTo>
                        <a:pt x="670" y="933"/>
                      </a:lnTo>
                      <a:lnTo>
                        <a:pt x="687" y="956"/>
                      </a:lnTo>
                      <a:lnTo>
                        <a:pt x="717" y="957"/>
                      </a:lnTo>
                      <a:lnTo>
                        <a:pt x="727" y="959"/>
                      </a:lnTo>
                      <a:lnTo>
                        <a:pt x="736" y="960"/>
                      </a:lnTo>
                      <a:lnTo>
                        <a:pt x="745" y="965"/>
                      </a:lnTo>
                      <a:lnTo>
                        <a:pt x="754" y="966"/>
                      </a:lnTo>
                      <a:lnTo>
                        <a:pt x="777" y="969"/>
                      </a:lnTo>
                      <a:lnTo>
                        <a:pt x="798" y="971"/>
                      </a:lnTo>
                      <a:lnTo>
                        <a:pt x="815" y="971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950" name=""/>
            <p:cNvGrpSpPr/>
            <p:nvPr/>
          </p:nvGrpSpPr>
          <p:grpSpPr>
            <a:xfrm>
              <a:off x="1738080" y="3570480"/>
              <a:ext cx="1849320" cy="2205000"/>
              <a:chOff x="1738080" y="3570480"/>
              <a:chExt cx="1849320" cy="2205000"/>
            </a:xfrm>
          </p:grpSpPr>
          <p:sp>
            <p:nvSpPr>
              <p:cNvPr id="951" name="Freeform 101"/>
              <p:cNvSpPr/>
              <p:nvPr/>
            </p:nvSpPr>
            <p:spPr>
              <a:xfrm>
                <a:off x="1738080" y="3570480"/>
                <a:ext cx="1832040" cy="2195640"/>
              </a:xfrm>
              <a:custGeom>
                <a:avLst/>
                <a:gdLst>
                  <a:gd name="textAreaLeft" fmla="*/ 0 w 1832040"/>
                  <a:gd name="textAreaRight" fmla="*/ 1832400 w 1832040"/>
                  <a:gd name="textAreaTop" fmla="*/ 0 h 2195640"/>
                  <a:gd name="textAreaBottom" fmla="*/ 2196000 h 2195640"/>
                </a:gdLst>
                <a:ahLst/>
                <a:rect l="textAreaLeft" t="textAreaTop" r="textAreaRight" b="textAreaBottom"/>
                <a:pathLst>
                  <a:path w="1154" h="1383">
                    <a:moveTo>
                      <a:pt x="1133" y="544"/>
                    </a:moveTo>
                    <a:lnTo>
                      <a:pt x="1133" y="544"/>
                    </a:lnTo>
                    <a:lnTo>
                      <a:pt x="1130" y="536"/>
                    </a:lnTo>
                    <a:lnTo>
                      <a:pt x="1125" y="532"/>
                    </a:lnTo>
                    <a:lnTo>
                      <a:pt x="1121" y="529"/>
                    </a:lnTo>
                    <a:lnTo>
                      <a:pt x="1113" y="529"/>
                    </a:lnTo>
                    <a:lnTo>
                      <a:pt x="1100" y="530"/>
                    </a:lnTo>
                    <a:lnTo>
                      <a:pt x="1086" y="533"/>
                    </a:lnTo>
                    <a:lnTo>
                      <a:pt x="1080" y="533"/>
                    </a:lnTo>
                    <a:lnTo>
                      <a:pt x="1074" y="535"/>
                    </a:lnTo>
                    <a:lnTo>
                      <a:pt x="1061" y="541"/>
                    </a:lnTo>
                    <a:lnTo>
                      <a:pt x="1044" y="548"/>
                    </a:lnTo>
                    <a:lnTo>
                      <a:pt x="1039" y="542"/>
                    </a:lnTo>
                    <a:lnTo>
                      <a:pt x="1024" y="529"/>
                    </a:lnTo>
                    <a:lnTo>
                      <a:pt x="1015" y="521"/>
                    </a:lnTo>
                    <a:lnTo>
                      <a:pt x="1006" y="515"/>
                    </a:lnTo>
                    <a:lnTo>
                      <a:pt x="996" y="511"/>
                    </a:lnTo>
                    <a:lnTo>
                      <a:pt x="987" y="509"/>
                    </a:lnTo>
                    <a:lnTo>
                      <a:pt x="969" y="509"/>
                    </a:lnTo>
                    <a:lnTo>
                      <a:pt x="948" y="506"/>
                    </a:lnTo>
                    <a:lnTo>
                      <a:pt x="940" y="503"/>
                    </a:lnTo>
                    <a:lnTo>
                      <a:pt x="932" y="500"/>
                    </a:lnTo>
                    <a:lnTo>
                      <a:pt x="928" y="495"/>
                    </a:lnTo>
                    <a:lnTo>
                      <a:pt x="926" y="491"/>
                    </a:lnTo>
                    <a:lnTo>
                      <a:pt x="926" y="477"/>
                    </a:lnTo>
                    <a:lnTo>
                      <a:pt x="929" y="459"/>
                    </a:lnTo>
                    <a:lnTo>
                      <a:pt x="929" y="438"/>
                    </a:lnTo>
                    <a:lnTo>
                      <a:pt x="928" y="426"/>
                    </a:lnTo>
                    <a:lnTo>
                      <a:pt x="926" y="414"/>
                    </a:lnTo>
                    <a:lnTo>
                      <a:pt x="923" y="408"/>
                    </a:lnTo>
                    <a:lnTo>
                      <a:pt x="922" y="404"/>
                    </a:lnTo>
                    <a:lnTo>
                      <a:pt x="917" y="399"/>
                    </a:lnTo>
                    <a:lnTo>
                      <a:pt x="914" y="395"/>
                    </a:lnTo>
                    <a:lnTo>
                      <a:pt x="904" y="388"/>
                    </a:lnTo>
                    <a:lnTo>
                      <a:pt x="892" y="384"/>
                    </a:lnTo>
                    <a:lnTo>
                      <a:pt x="880" y="378"/>
                    </a:lnTo>
                    <a:lnTo>
                      <a:pt x="866" y="372"/>
                    </a:lnTo>
                    <a:lnTo>
                      <a:pt x="854" y="364"/>
                    </a:lnTo>
                    <a:lnTo>
                      <a:pt x="842" y="352"/>
                    </a:lnTo>
                    <a:lnTo>
                      <a:pt x="836" y="346"/>
                    </a:lnTo>
                    <a:lnTo>
                      <a:pt x="828" y="342"/>
                    </a:lnTo>
                    <a:lnTo>
                      <a:pt x="819" y="339"/>
                    </a:lnTo>
                    <a:lnTo>
                      <a:pt x="810" y="336"/>
                    </a:lnTo>
                    <a:lnTo>
                      <a:pt x="791" y="331"/>
                    </a:lnTo>
                    <a:lnTo>
                      <a:pt x="771" y="330"/>
                    </a:lnTo>
                    <a:lnTo>
                      <a:pt x="753" y="331"/>
                    </a:lnTo>
                    <a:lnTo>
                      <a:pt x="737" y="331"/>
                    </a:lnTo>
                    <a:lnTo>
                      <a:pt x="715" y="334"/>
                    </a:lnTo>
                    <a:lnTo>
                      <a:pt x="657" y="330"/>
                    </a:lnTo>
                    <a:lnTo>
                      <a:pt x="593" y="327"/>
                    </a:lnTo>
                    <a:lnTo>
                      <a:pt x="586" y="327"/>
                    </a:lnTo>
                    <a:lnTo>
                      <a:pt x="578" y="331"/>
                    </a:lnTo>
                    <a:lnTo>
                      <a:pt x="563" y="342"/>
                    </a:lnTo>
                    <a:lnTo>
                      <a:pt x="550" y="352"/>
                    </a:lnTo>
                    <a:lnTo>
                      <a:pt x="545" y="355"/>
                    </a:lnTo>
                    <a:lnTo>
                      <a:pt x="539" y="357"/>
                    </a:lnTo>
                    <a:lnTo>
                      <a:pt x="535" y="355"/>
                    </a:lnTo>
                    <a:lnTo>
                      <a:pt x="530" y="354"/>
                    </a:lnTo>
                    <a:lnTo>
                      <a:pt x="524" y="351"/>
                    </a:lnTo>
                    <a:lnTo>
                      <a:pt x="518" y="346"/>
                    </a:lnTo>
                    <a:lnTo>
                      <a:pt x="512" y="339"/>
                    </a:lnTo>
                    <a:lnTo>
                      <a:pt x="506" y="330"/>
                    </a:lnTo>
                    <a:lnTo>
                      <a:pt x="500" y="318"/>
                    </a:lnTo>
                    <a:lnTo>
                      <a:pt x="494" y="303"/>
                    </a:lnTo>
                    <a:lnTo>
                      <a:pt x="488" y="291"/>
                    </a:lnTo>
                    <a:lnTo>
                      <a:pt x="483" y="282"/>
                    </a:lnTo>
                    <a:lnTo>
                      <a:pt x="479" y="275"/>
                    </a:lnTo>
                    <a:lnTo>
                      <a:pt x="474" y="272"/>
                    </a:lnTo>
                    <a:lnTo>
                      <a:pt x="470" y="269"/>
                    </a:lnTo>
                    <a:lnTo>
                      <a:pt x="467" y="266"/>
                    </a:lnTo>
                    <a:lnTo>
                      <a:pt x="465" y="262"/>
                    </a:lnTo>
                    <a:lnTo>
                      <a:pt x="464" y="253"/>
                    </a:lnTo>
                    <a:lnTo>
                      <a:pt x="462" y="248"/>
                    </a:lnTo>
                    <a:lnTo>
                      <a:pt x="461" y="245"/>
                    </a:lnTo>
                    <a:lnTo>
                      <a:pt x="458" y="244"/>
                    </a:lnTo>
                    <a:lnTo>
                      <a:pt x="456" y="242"/>
                    </a:lnTo>
                    <a:lnTo>
                      <a:pt x="450" y="241"/>
                    </a:lnTo>
                    <a:lnTo>
                      <a:pt x="444" y="244"/>
                    </a:lnTo>
                    <a:lnTo>
                      <a:pt x="434" y="250"/>
                    </a:lnTo>
                    <a:lnTo>
                      <a:pt x="429" y="253"/>
                    </a:lnTo>
                    <a:lnTo>
                      <a:pt x="432" y="203"/>
                    </a:lnTo>
                    <a:lnTo>
                      <a:pt x="387" y="173"/>
                    </a:lnTo>
                    <a:lnTo>
                      <a:pt x="388" y="185"/>
                    </a:lnTo>
                    <a:lnTo>
                      <a:pt x="388" y="197"/>
                    </a:lnTo>
                    <a:lnTo>
                      <a:pt x="387" y="202"/>
                    </a:lnTo>
                    <a:lnTo>
                      <a:pt x="385" y="206"/>
                    </a:lnTo>
                    <a:lnTo>
                      <a:pt x="382" y="209"/>
                    </a:lnTo>
                    <a:lnTo>
                      <a:pt x="378" y="212"/>
                    </a:lnTo>
                    <a:lnTo>
                      <a:pt x="373" y="211"/>
                    </a:lnTo>
                    <a:lnTo>
                      <a:pt x="366" y="209"/>
                    </a:lnTo>
                    <a:lnTo>
                      <a:pt x="357" y="203"/>
                    </a:lnTo>
                    <a:lnTo>
                      <a:pt x="346" y="194"/>
                    </a:lnTo>
                    <a:lnTo>
                      <a:pt x="333" y="182"/>
                    </a:lnTo>
                    <a:lnTo>
                      <a:pt x="318" y="165"/>
                    </a:lnTo>
                    <a:lnTo>
                      <a:pt x="301" y="144"/>
                    </a:lnTo>
                    <a:lnTo>
                      <a:pt x="289" y="126"/>
                    </a:lnTo>
                    <a:lnTo>
                      <a:pt x="283" y="110"/>
                    </a:lnTo>
                    <a:lnTo>
                      <a:pt x="280" y="95"/>
                    </a:lnTo>
                    <a:lnTo>
                      <a:pt x="271" y="92"/>
                    </a:lnTo>
                    <a:lnTo>
                      <a:pt x="266" y="89"/>
                    </a:lnTo>
                    <a:lnTo>
                      <a:pt x="263" y="86"/>
                    </a:lnTo>
                    <a:lnTo>
                      <a:pt x="262" y="83"/>
                    </a:lnTo>
                    <a:lnTo>
                      <a:pt x="262" y="78"/>
                    </a:lnTo>
                    <a:lnTo>
                      <a:pt x="262" y="77"/>
                    </a:lnTo>
                    <a:lnTo>
                      <a:pt x="260" y="75"/>
                    </a:lnTo>
                    <a:lnTo>
                      <a:pt x="247" y="62"/>
                    </a:lnTo>
                    <a:lnTo>
                      <a:pt x="233" y="46"/>
                    </a:lnTo>
                    <a:lnTo>
                      <a:pt x="232" y="45"/>
                    </a:lnTo>
                    <a:lnTo>
                      <a:pt x="230" y="45"/>
                    </a:lnTo>
                    <a:lnTo>
                      <a:pt x="226" y="45"/>
                    </a:lnTo>
                    <a:lnTo>
                      <a:pt x="215" y="51"/>
                    </a:lnTo>
                    <a:lnTo>
                      <a:pt x="211" y="51"/>
                    </a:lnTo>
                    <a:lnTo>
                      <a:pt x="206" y="49"/>
                    </a:lnTo>
                    <a:lnTo>
                      <a:pt x="196" y="40"/>
                    </a:lnTo>
                    <a:lnTo>
                      <a:pt x="174" y="24"/>
                    </a:lnTo>
                    <a:lnTo>
                      <a:pt x="167" y="21"/>
                    </a:lnTo>
                    <a:lnTo>
                      <a:pt x="155" y="18"/>
                    </a:lnTo>
                    <a:lnTo>
                      <a:pt x="141" y="15"/>
                    </a:lnTo>
                    <a:lnTo>
                      <a:pt x="128" y="15"/>
                    </a:lnTo>
                    <a:lnTo>
                      <a:pt x="111" y="15"/>
                    </a:lnTo>
                    <a:lnTo>
                      <a:pt x="90" y="13"/>
                    </a:lnTo>
                    <a:lnTo>
                      <a:pt x="67" y="10"/>
                    </a:lnTo>
                    <a:lnTo>
                      <a:pt x="58" y="9"/>
                    </a:lnTo>
                    <a:lnTo>
                      <a:pt x="49" y="4"/>
                    </a:lnTo>
                    <a:lnTo>
                      <a:pt x="40" y="3"/>
                    </a:lnTo>
                    <a:lnTo>
                      <a:pt x="30" y="1"/>
                    </a:lnTo>
                    <a:lnTo>
                      <a:pt x="0" y="0"/>
                    </a:lnTo>
                    <a:lnTo>
                      <a:pt x="25" y="30"/>
                    </a:lnTo>
                    <a:lnTo>
                      <a:pt x="49" y="58"/>
                    </a:lnTo>
                    <a:lnTo>
                      <a:pt x="74" y="86"/>
                    </a:lnTo>
                    <a:lnTo>
                      <a:pt x="93" y="110"/>
                    </a:lnTo>
                    <a:lnTo>
                      <a:pt x="110" y="129"/>
                    </a:lnTo>
                    <a:lnTo>
                      <a:pt x="117" y="135"/>
                    </a:lnTo>
                    <a:lnTo>
                      <a:pt x="123" y="138"/>
                    </a:lnTo>
                    <a:lnTo>
                      <a:pt x="126" y="138"/>
                    </a:lnTo>
                    <a:lnTo>
                      <a:pt x="128" y="135"/>
                    </a:lnTo>
                    <a:lnTo>
                      <a:pt x="128" y="131"/>
                    </a:lnTo>
                    <a:lnTo>
                      <a:pt x="126" y="126"/>
                    </a:lnTo>
                    <a:lnTo>
                      <a:pt x="119" y="113"/>
                    </a:lnTo>
                    <a:lnTo>
                      <a:pt x="116" y="108"/>
                    </a:lnTo>
                    <a:lnTo>
                      <a:pt x="111" y="104"/>
                    </a:lnTo>
                    <a:lnTo>
                      <a:pt x="107" y="99"/>
                    </a:lnTo>
                    <a:lnTo>
                      <a:pt x="102" y="89"/>
                    </a:lnTo>
                    <a:lnTo>
                      <a:pt x="96" y="63"/>
                    </a:lnTo>
                    <a:lnTo>
                      <a:pt x="90" y="39"/>
                    </a:lnTo>
                    <a:lnTo>
                      <a:pt x="89" y="28"/>
                    </a:lnTo>
                    <a:lnTo>
                      <a:pt x="113" y="60"/>
                    </a:lnTo>
                    <a:lnTo>
                      <a:pt x="137" y="89"/>
                    </a:lnTo>
                    <a:lnTo>
                      <a:pt x="161" y="116"/>
                    </a:lnTo>
                    <a:lnTo>
                      <a:pt x="176" y="129"/>
                    </a:lnTo>
                    <a:lnTo>
                      <a:pt x="187" y="135"/>
                    </a:lnTo>
                    <a:lnTo>
                      <a:pt x="194" y="137"/>
                    </a:lnTo>
                    <a:lnTo>
                      <a:pt x="197" y="135"/>
                    </a:lnTo>
                    <a:lnTo>
                      <a:pt x="199" y="135"/>
                    </a:lnTo>
                    <a:lnTo>
                      <a:pt x="197" y="135"/>
                    </a:lnTo>
                    <a:lnTo>
                      <a:pt x="190" y="143"/>
                    </a:lnTo>
                    <a:lnTo>
                      <a:pt x="181" y="155"/>
                    </a:lnTo>
                    <a:lnTo>
                      <a:pt x="176" y="162"/>
                    </a:lnTo>
                    <a:lnTo>
                      <a:pt x="173" y="172"/>
                    </a:lnTo>
                    <a:lnTo>
                      <a:pt x="171" y="179"/>
                    </a:lnTo>
                    <a:lnTo>
                      <a:pt x="173" y="188"/>
                    </a:lnTo>
                    <a:lnTo>
                      <a:pt x="174" y="194"/>
                    </a:lnTo>
                    <a:lnTo>
                      <a:pt x="179" y="199"/>
                    </a:lnTo>
                    <a:lnTo>
                      <a:pt x="190" y="211"/>
                    </a:lnTo>
                    <a:lnTo>
                      <a:pt x="205" y="223"/>
                    </a:lnTo>
                    <a:lnTo>
                      <a:pt x="223" y="235"/>
                    </a:lnTo>
                    <a:lnTo>
                      <a:pt x="242" y="245"/>
                    </a:lnTo>
                    <a:lnTo>
                      <a:pt x="260" y="253"/>
                    </a:lnTo>
                    <a:lnTo>
                      <a:pt x="277" y="259"/>
                    </a:lnTo>
                    <a:lnTo>
                      <a:pt x="291" y="260"/>
                    </a:lnTo>
                    <a:lnTo>
                      <a:pt x="345" y="260"/>
                    </a:lnTo>
                    <a:lnTo>
                      <a:pt x="372" y="300"/>
                    </a:lnTo>
                    <a:lnTo>
                      <a:pt x="376" y="300"/>
                    </a:lnTo>
                    <a:lnTo>
                      <a:pt x="381" y="300"/>
                    </a:lnTo>
                    <a:lnTo>
                      <a:pt x="388" y="303"/>
                    </a:lnTo>
                    <a:lnTo>
                      <a:pt x="397" y="306"/>
                    </a:lnTo>
                    <a:lnTo>
                      <a:pt x="407" y="312"/>
                    </a:lnTo>
                    <a:lnTo>
                      <a:pt x="417" y="321"/>
                    </a:lnTo>
                    <a:lnTo>
                      <a:pt x="429" y="334"/>
                    </a:lnTo>
                    <a:lnTo>
                      <a:pt x="435" y="340"/>
                    </a:lnTo>
                    <a:lnTo>
                      <a:pt x="443" y="348"/>
                    </a:lnTo>
                    <a:lnTo>
                      <a:pt x="462" y="360"/>
                    </a:lnTo>
                    <a:lnTo>
                      <a:pt x="483" y="370"/>
                    </a:lnTo>
                    <a:lnTo>
                      <a:pt x="504" y="381"/>
                    </a:lnTo>
                    <a:lnTo>
                      <a:pt x="542" y="395"/>
                    </a:lnTo>
                    <a:lnTo>
                      <a:pt x="559" y="399"/>
                    </a:lnTo>
                    <a:lnTo>
                      <a:pt x="544" y="441"/>
                    </a:lnTo>
                    <a:lnTo>
                      <a:pt x="536" y="446"/>
                    </a:lnTo>
                    <a:lnTo>
                      <a:pt x="523" y="456"/>
                    </a:lnTo>
                    <a:lnTo>
                      <a:pt x="514" y="465"/>
                    </a:lnTo>
                    <a:lnTo>
                      <a:pt x="506" y="473"/>
                    </a:lnTo>
                    <a:lnTo>
                      <a:pt x="500" y="482"/>
                    </a:lnTo>
                    <a:lnTo>
                      <a:pt x="497" y="491"/>
                    </a:lnTo>
                    <a:lnTo>
                      <a:pt x="497" y="498"/>
                    </a:lnTo>
                    <a:lnTo>
                      <a:pt x="497" y="508"/>
                    </a:lnTo>
                    <a:lnTo>
                      <a:pt x="498" y="517"/>
                    </a:lnTo>
                    <a:lnTo>
                      <a:pt x="501" y="526"/>
                    </a:lnTo>
                    <a:lnTo>
                      <a:pt x="509" y="544"/>
                    </a:lnTo>
                    <a:lnTo>
                      <a:pt x="517" y="563"/>
                    </a:lnTo>
                    <a:lnTo>
                      <a:pt x="521" y="572"/>
                    </a:lnTo>
                    <a:lnTo>
                      <a:pt x="527" y="581"/>
                    </a:lnTo>
                    <a:lnTo>
                      <a:pt x="541" y="595"/>
                    </a:lnTo>
                    <a:lnTo>
                      <a:pt x="553" y="605"/>
                    </a:lnTo>
                    <a:lnTo>
                      <a:pt x="556" y="612"/>
                    </a:lnTo>
                    <a:lnTo>
                      <a:pt x="559" y="616"/>
                    </a:lnTo>
                    <a:lnTo>
                      <a:pt x="565" y="636"/>
                    </a:lnTo>
                    <a:lnTo>
                      <a:pt x="569" y="648"/>
                    </a:lnTo>
                    <a:lnTo>
                      <a:pt x="577" y="661"/>
                    </a:lnTo>
                    <a:lnTo>
                      <a:pt x="584" y="675"/>
                    </a:lnTo>
                    <a:lnTo>
                      <a:pt x="595" y="687"/>
                    </a:lnTo>
                    <a:lnTo>
                      <a:pt x="601" y="691"/>
                    </a:lnTo>
                    <a:lnTo>
                      <a:pt x="607" y="696"/>
                    </a:lnTo>
                    <a:lnTo>
                      <a:pt x="613" y="699"/>
                    </a:lnTo>
                    <a:lnTo>
                      <a:pt x="621" y="700"/>
                    </a:lnTo>
                    <a:lnTo>
                      <a:pt x="633" y="705"/>
                    </a:lnTo>
                    <a:lnTo>
                      <a:pt x="643" y="711"/>
                    </a:lnTo>
                    <a:lnTo>
                      <a:pt x="651" y="718"/>
                    </a:lnTo>
                    <a:lnTo>
                      <a:pt x="655" y="728"/>
                    </a:lnTo>
                    <a:lnTo>
                      <a:pt x="660" y="738"/>
                    </a:lnTo>
                    <a:lnTo>
                      <a:pt x="663" y="749"/>
                    </a:lnTo>
                    <a:lnTo>
                      <a:pt x="666" y="770"/>
                    </a:lnTo>
                    <a:lnTo>
                      <a:pt x="669" y="794"/>
                    </a:lnTo>
                    <a:lnTo>
                      <a:pt x="669" y="824"/>
                    </a:lnTo>
                    <a:lnTo>
                      <a:pt x="669" y="841"/>
                    </a:lnTo>
                    <a:lnTo>
                      <a:pt x="666" y="854"/>
                    </a:lnTo>
                    <a:lnTo>
                      <a:pt x="663" y="866"/>
                    </a:lnTo>
                    <a:lnTo>
                      <a:pt x="658" y="877"/>
                    </a:lnTo>
                    <a:lnTo>
                      <a:pt x="654" y="886"/>
                    </a:lnTo>
                    <a:lnTo>
                      <a:pt x="652" y="898"/>
                    </a:lnTo>
                    <a:lnTo>
                      <a:pt x="652" y="910"/>
                    </a:lnTo>
                    <a:lnTo>
                      <a:pt x="652" y="922"/>
                    </a:lnTo>
                    <a:lnTo>
                      <a:pt x="657" y="943"/>
                    </a:lnTo>
                    <a:lnTo>
                      <a:pt x="658" y="957"/>
                    </a:lnTo>
                    <a:lnTo>
                      <a:pt x="657" y="964"/>
                    </a:lnTo>
                    <a:lnTo>
                      <a:pt x="652" y="976"/>
                    </a:lnTo>
                    <a:lnTo>
                      <a:pt x="639" y="1005"/>
                    </a:lnTo>
                    <a:lnTo>
                      <a:pt x="621" y="1045"/>
                    </a:lnTo>
                    <a:lnTo>
                      <a:pt x="613" y="1217"/>
                    </a:lnTo>
                    <a:lnTo>
                      <a:pt x="613" y="1354"/>
                    </a:lnTo>
                    <a:lnTo>
                      <a:pt x="613" y="1360"/>
                    </a:lnTo>
                    <a:lnTo>
                      <a:pt x="614" y="1366"/>
                    </a:lnTo>
                    <a:lnTo>
                      <a:pt x="616" y="1369"/>
                    </a:lnTo>
                    <a:lnTo>
                      <a:pt x="619" y="1374"/>
                    </a:lnTo>
                    <a:lnTo>
                      <a:pt x="625" y="1378"/>
                    </a:lnTo>
                    <a:lnTo>
                      <a:pt x="634" y="1381"/>
                    </a:lnTo>
                    <a:lnTo>
                      <a:pt x="642" y="1383"/>
                    </a:lnTo>
                    <a:lnTo>
                      <a:pt x="648" y="1383"/>
                    </a:lnTo>
                    <a:lnTo>
                      <a:pt x="654" y="1381"/>
                    </a:lnTo>
                    <a:lnTo>
                      <a:pt x="669" y="1368"/>
                    </a:lnTo>
                    <a:lnTo>
                      <a:pt x="681" y="1354"/>
                    </a:lnTo>
                    <a:lnTo>
                      <a:pt x="685" y="1347"/>
                    </a:lnTo>
                    <a:lnTo>
                      <a:pt x="688" y="1339"/>
                    </a:lnTo>
                    <a:lnTo>
                      <a:pt x="697" y="1324"/>
                    </a:lnTo>
                    <a:lnTo>
                      <a:pt x="708" y="1306"/>
                    </a:lnTo>
                    <a:lnTo>
                      <a:pt x="727" y="1279"/>
                    </a:lnTo>
                    <a:lnTo>
                      <a:pt x="731" y="1271"/>
                    </a:lnTo>
                    <a:lnTo>
                      <a:pt x="732" y="1262"/>
                    </a:lnTo>
                    <a:lnTo>
                      <a:pt x="738" y="1237"/>
                    </a:lnTo>
                    <a:lnTo>
                      <a:pt x="741" y="1205"/>
                    </a:lnTo>
                    <a:lnTo>
                      <a:pt x="743" y="1175"/>
                    </a:lnTo>
                    <a:lnTo>
                      <a:pt x="744" y="1163"/>
                    </a:lnTo>
                    <a:lnTo>
                      <a:pt x="747" y="1152"/>
                    </a:lnTo>
                    <a:lnTo>
                      <a:pt x="752" y="1143"/>
                    </a:lnTo>
                    <a:lnTo>
                      <a:pt x="758" y="1137"/>
                    </a:lnTo>
                    <a:lnTo>
                      <a:pt x="770" y="1127"/>
                    </a:lnTo>
                    <a:lnTo>
                      <a:pt x="774" y="1121"/>
                    </a:lnTo>
                    <a:lnTo>
                      <a:pt x="777" y="1113"/>
                    </a:lnTo>
                    <a:lnTo>
                      <a:pt x="779" y="1107"/>
                    </a:lnTo>
                    <a:lnTo>
                      <a:pt x="782" y="1100"/>
                    </a:lnTo>
                    <a:lnTo>
                      <a:pt x="786" y="1094"/>
                    </a:lnTo>
                    <a:lnTo>
                      <a:pt x="791" y="1086"/>
                    </a:lnTo>
                    <a:lnTo>
                      <a:pt x="797" y="1080"/>
                    </a:lnTo>
                    <a:lnTo>
                      <a:pt x="804" y="1076"/>
                    </a:lnTo>
                    <a:lnTo>
                      <a:pt x="813" y="1071"/>
                    </a:lnTo>
                    <a:lnTo>
                      <a:pt x="822" y="1068"/>
                    </a:lnTo>
                    <a:lnTo>
                      <a:pt x="833" y="1065"/>
                    </a:lnTo>
                    <a:lnTo>
                      <a:pt x="841" y="1061"/>
                    </a:lnTo>
                    <a:lnTo>
                      <a:pt x="856" y="1051"/>
                    </a:lnTo>
                    <a:lnTo>
                      <a:pt x="865" y="1044"/>
                    </a:lnTo>
                    <a:lnTo>
                      <a:pt x="869" y="1041"/>
                    </a:lnTo>
                    <a:lnTo>
                      <a:pt x="837" y="1011"/>
                    </a:lnTo>
                    <a:lnTo>
                      <a:pt x="887" y="988"/>
                    </a:lnTo>
                    <a:lnTo>
                      <a:pt x="896" y="982"/>
                    </a:lnTo>
                    <a:lnTo>
                      <a:pt x="907" y="973"/>
                    </a:lnTo>
                    <a:lnTo>
                      <a:pt x="934" y="946"/>
                    </a:lnTo>
                    <a:lnTo>
                      <a:pt x="961" y="919"/>
                    </a:lnTo>
                    <a:lnTo>
                      <a:pt x="970" y="908"/>
                    </a:lnTo>
                    <a:lnTo>
                      <a:pt x="976" y="899"/>
                    </a:lnTo>
                    <a:lnTo>
                      <a:pt x="982" y="884"/>
                    </a:lnTo>
                    <a:lnTo>
                      <a:pt x="988" y="868"/>
                    </a:lnTo>
                    <a:lnTo>
                      <a:pt x="994" y="847"/>
                    </a:lnTo>
                    <a:lnTo>
                      <a:pt x="1006" y="844"/>
                    </a:lnTo>
                    <a:lnTo>
                      <a:pt x="1029" y="833"/>
                    </a:lnTo>
                    <a:lnTo>
                      <a:pt x="1042" y="827"/>
                    </a:lnTo>
                    <a:lnTo>
                      <a:pt x="1053" y="821"/>
                    </a:lnTo>
                    <a:lnTo>
                      <a:pt x="1061" y="812"/>
                    </a:lnTo>
                    <a:lnTo>
                      <a:pt x="1064" y="809"/>
                    </a:lnTo>
                    <a:lnTo>
                      <a:pt x="1064" y="804"/>
                    </a:lnTo>
                    <a:lnTo>
                      <a:pt x="1064" y="764"/>
                    </a:lnTo>
                    <a:lnTo>
                      <a:pt x="1062" y="744"/>
                    </a:lnTo>
                    <a:lnTo>
                      <a:pt x="1061" y="728"/>
                    </a:lnTo>
                    <a:lnTo>
                      <a:pt x="1059" y="723"/>
                    </a:lnTo>
                    <a:lnTo>
                      <a:pt x="1062" y="723"/>
                    </a:lnTo>
                    <a:lnTo>
                      <a:pt x="1067" y="725"/>
                    </a:lnTo>
                    <a:lnTo>
                      <a:pt x="1073" y="725"/>
                    </a:lnTo>
                    <a:lnTo>
                      <a:pt x="1077" y="723"/>
                    </a:lnTo>
                    <a:lnTo>
                      <a:pt x="1082" y="721"/>
                    </a:lnTo>
                    <a:lnTo>
                      <a:pt x="1088" y="717"/>
                    </a:lnTo>
                    <a:lnTo>
                      <a:pt x="1095" y="711"/>
                    </a:lnTo>
                    <a:lnTo>
                      <a:pt x="1103" y="702"/>
                    </a:lnTo>
                    <a:lnTo>
                      <a:pt x="1110" y="690"/>
                    </a:lnTo>
                    <a:lnTo>
                      <a:pt x="1119" y="676"/>
                    </a:lnTo>
                    <a:lnTo>
                      <a:pt x="1128" y="658"/>
                    </a:lnTo>
                    <a:lnTo>
                      <a:pt x="1145" y="625"/>
                    </a:lnTo>
                    <a:lnTo>
                      <a:pt x="1149" y="612"/>
                    </a:lnTo>
                    <a:lnTo>
                      <a:pt x="1152" y="601"/>
                    </a:lnTo>
                    <a:lnTo>
                      <a:pt x="1154" y="592"/>
                    </a:lnTo>
                    <a:lnTo>
                      <a:pt x="1154" y="584"/>
                    </a:lnTo>
                    <a:lnTo>
                      <a:pt x="1154" y="578"/>
                    </a:lnTo>
                    <a:lnTo>
                      <a:pt x="1152" y="572"/>
                    </a:lnTo>
                    <a:lnTo>
                      <a:pt x="1146" y="565"/>
                    </a:lnTo>
                    <a:lnTo>
                      <a:pt x="1140" y="559"/>
                    </a:lnTo>
                    <a:lnTo>
                      <a:pt x="1136" y="553"/>
                    </a:lnTo>
                    <a:lnTo>
                      <a:pt x="1134" y="548"/>
                    </a:lnTo>
                    <a:lnTo>
                      <a:pt x="1133" y="54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2" name="Freeform 102"/>
              <p:cNvSpPr/>
              <p:nvPr/>
            </p:nvSpPr>
            <p:spPr>
              <a:xfrm>
                <a:off x="1755720" y="3579840"/>
                <a:ext cx="1831680" cy="2195640"/>
              </a:xfrm>
              <a:custGeom>
                <a:avLst/>
                <a:gdLst>
                  <a:gd name="textAreaLeft" fmla="*/ 0 w 1831680"/>
                  <a:gd name="textAreaRight" fmla="*/ 1832040 w 1831680"/>
                  <a:gd name="textAreaTop" fmla="*/ 0 h 2195640"/>
                  <a:gd name="textAreaBottom" fmla="*/ 2196000 h 2195640"/>
                </a:gdLst>
                <a:ahLst/>
                <a:rect l="textAreaLeft" t="textAreaTop" r="textAreaRight" b="textAreaBottom"/>
                <a:pathLst>
                  <a:path w="1154" h="1383">
                    <a:moveTo>
                      <a:pt x="1133" y="544"/>
                    </a:moveTo>
                    <a:lnTo>
                      <a:pt x="1133" y="544"/>
                    </a:lnTo>
                    <a:lnTo>
                      <a:pt x="1130" y="536"/>
                    </a:lnTo>
                    <a:lnTo>
                      <a:pt x="1125" y="532"/>
                    </a:lnTo>
                    <a:lnTo>
                      <a:pt x="1121" y="529"/>
                    </a:lnTo>
                    <a:lnTo>
                      <a:pt x="1113" y="529"/>
                    </a:lnTo>
                    <a:lnTo>
                      <a:pt x="1100" y="530"/>
                    </a:lnTo>
                    <a:lnTo>
                      <a:pt x="1086" y="533"/>
                    </a:lnTo>
                    <a:lnTo>
                      <a:pt x="1080" y="533"/>
                    </a:lnTo>
                    <a:lnTo>
                      <a:pt x="1074" y="535"/>
                    </a:lnTo>
                    <a:lnTo>
                      <a:pt x="1061" y="541"/>
                    </a:lnTo>
                    <a:lnTo>
                      <a:pt x="1044" y="548"/>
                    </a:lnTo>
                    <a:lnTo>
                      <a:pt x="1039" y="542"/>
                    </a:lnTo>
                    <a:lnTo>
                      <a:pt x="1024" y="529"/>
                    </a:lnTo>
                    <a:lnTo>
                      <a:pt x="1015" y="521"/>
                    </a:lnTo>
                    <a:lnTo>
                      <a:pt x="1006" y="515"/>
                    </a:lnTo>
                    <a:lnTo>
                      <a:pt x="996" y="511"/>
                    </a:lnTo>
                    <a:lnTo>
                      <a:pt x="987" y="509"/>
                    </a:lnTo>
                    <a:lnTo>
                      <a:pt x="969" y="509"/>
                    </a:lnTo>
                    <a:lnTo>
                      <a:pt x="948" y="506"/>
                    </a:lnTo>
                    <a:lnTo>
                      <a:pt x="940" y="503"/>
                    </a:lnTo>
                    <a:lnTo>
                      <a:pt x="932" y="500"/>
                    </a:lnTo>
                    <a:lnTo>
                      <a:pt x="928" y="495"/>
                    </a:lnTo>
                    <a:lnTo>
                      <a:pt x="926" y="491"/>
                    </a:lnTo>
                    <a:lnTo>
                      <a:pt x="926" y="477"/>
                    </a:lnTo>
                    <a:lnTo>
                      <a:pt x="929" y="459"/>
                    </a:lnTo>
                    <a:lnTo>
                      <a:pt x="929" y="438"/>
                    </a:lnTo>
                    <a:lnTo>
                      <a:pt x="928" y="426"/>
                    </a:lnTo>
                    <a:lnTo>
                      <a:pt x="926" y="414"/>
                    </a:lnTo>
                    <a:lnTo>
                      <a:pt x="923" y="408"/>
                    </a:lnTo>
                    <a:lnTo>
                      <a:pt x="922" y="404"/>
                    </a:lnTo>
                    <a:lnTo>
                      <a:pt x="917" y="399"/>
                    </a:lnTo>
                    <a:lnTo>
                      <a:pt x="914" y="395"/>
                    </a:lnTo>
                    <a:lnTo>
                      <a:pt x="904" y="388"/>
                    </a:lnTo>
                    <a:lnTo>
                      <a:pt x="892" y="384"/>
                    </a:lnTo>
                    <a:lnTo>
                      <a:pt x="880" y="378"/>
                    </a:lnTo>
                    <a:lnTo>
                      <a:pt x="866" y="372"/>
                    </a:lnTo>
                    <a:lnTo>
                      <a:pt x="854" y="364"/>
                    </a:lnTo>
                    <a:lnTo>
                      <a:pt x="842" y="352"/>
                    </a:lnTo>
                    <a:lnTo>
                      <a:pt x="836" y="346"/>
                    </a:lnTo>
                    <a:lnTo>
                      <a:pt x="828" y="342"/>
                    </a:lnTo>
                    <a:lnTo>
                      <a:pt x="819" y="339"/>
                    </a:lnTo>
                    <a:lnTo>
                      <a:pt x="810" y="336"/>
                    </a:lnTo>
                    <a:lnTo>
                      <a:pt x="791" y="331"/>
                    </a:lnTo>
                    <a:lnTo>
                      <a:pt x="771" y="330"/>
                    </a:lnTo>
                    <a:lnTo>
                      <a:pt x="753" y="331"/>
                    </a:lnTo>
                    <a:lnTo>
                      <a:pt x="737" y="331"/>
                    </a:lnTo>
                    <a:lnTo>
                      <a:pt x="715" y="334"/>
                    </a:lnTo>
                    <a:lnTo>
                      <a:pt x="657" y="330"/>
                    </a:lnTo>
                    <a:lnTo>
                      <a:pt x="593" y="327"/>
                    </a:lnTo>
                    <a:lnTo>
                      <a:pt x="586" y="327"/>
                    </a:lnTo>
                    <a:lnTo>
                      <a:pt x="578" y="331"/>
                    </a:lnTo>
                    <a:lnTo>
                      <a:pt x="563" y="342"/>
                    </a:lnTo>
                    <a:lnTo>
                      <a:pt x="550" y="352"/>
                    </a:lnTo>
                    <a:lnTo>
                      <a:pt x="545" y="355"/>
                    </a:lnTo>
                    <a:lnTo>
                      <a:pt x="539" y="357"/>
                    </a:lnTo>
                    <a:lnTo>
                      <a:pt x="535" y="355"/>
                    </a:lnTo>
                    <a:lnTo>
                      <a:pt x="530" y="354"/>
                    </a:lnTo>
                    <a:lnTo>
                      <a:pt x="524" y="351"/>
                    </a:lnTo>
                    <a:lnTo>
                      <a:pt x="518" y="346"/>
                    </a:lnTo>
                    <a:lnTo>
                      <a:pt x="512" y="339"/>
                    </a:lnTo>
                    <a:lnTo>
                      <a:pt x="506" y="330"/>
                    </a:lnTo>
                    <a:lnTo>
                      <a:pt x="500" y="318"/>
                    </a:lnTo>
                    <a:lnTo>
                      <a:pt x="494" y="303"/>
                    </a:lnTo>
                    <a:lnTo>
                      <a:pt x="488" y="291"/>
                    </a:lnTo>
                    <a:lnTo>
                      <a:pt x="483" y="282"/>
                    </a:lnTo>
                    <a:lnTo>
                      <a:pt x="479" y="275"/>
                    </a:lnTo>
                    <a:lnTo>
                      <a:pt x="474" y="272"/>
                    </a:lnTo>
                    <a:lnTo>
                      <a:pt x="470" y="269"/>
                    </a:lnTo>
                    <a:lnTo>
                      <a:pt x="467" y="266"/>
                    </a:lnTo>
                    <a:lnTo>
                      <a:pt x="465" y="262"/>
                    </a:lnTo>
                    <a:lnTo>
                      <a:pt x="464" y="253"/>
                    </a:lnTo>
                    <a:lnTo>
                      <a:pt x="462" y="248"/>
                    </a:lnTo>
                    <a:lnTo>
                      <a:pt x="461" y="245"/>
                    </a:lnTo>
                    <a:lnTo>
                      <a:pt x="458" y="244"/>
                    </a:lnTo>
                    <a:lnTo>
                      <a:pt x="456" y="242"/>
                    </a:lnTo>
                    <a:lnTo>
                      <a:pt x="450" y="241"/>
                    </a:lnTo>
                    <a:lnTo>
                      <a:pt x="444" y="244"/>
                    </a:lnTo>
                    <a:lnTo>
                      <a:pt x="434" y="250"/>
                    </a:lnTo>
                    <a:lnTo>
                      <a:pt x="429" y="253"/>
                    </a:lnTo>
                    <a:lnTo>
                      <a:pt x="432" y="203"/>
                    </a:lnTo>
                    <a:lnTo>
                      <a:pt x="387" y="173"/>
                    </a:lnTo>
                    <a:lnTo>
                      <a:pt x="388" y="185"/>
                    </a:lnTo>
                    <a:lnTo>
                      <a:pt x="388" y="197"/>
                    </a:lnTo>
                    <a:lnTo>
                      <a:pt x="387" y="202"/>
                    </a:lnTo>
                    <a:lnTo>
                      <a:pt x="385" y="206"/>
                    </a:lnTo>
                    <a:lnTo>
                      <a:pt x="382" y="209"/>
                    </a:lnTo>
                    <a:lnTo>
                      <a:pt x="378" y="212"/>
                    </a:lnTo>
                    <a:lnTo>
                      <a:pt x="373" y="211"/>
                    </a:lnTo>
                    <a:lnTo>
                      <a:pt x="366" y="209"/>
                    </a:lnTo>
                    <a:lnTo>
                      <a:pt x="357" y="203"/>
                    </a:lnTo>
                    <a:lnTo>
                      <a:pt x="346" y="194"/>
                    </a:lnTo>
                    <a:lnTo>
                      <a:pt x="333" y="182"/>
                    </a:lnTo>
                    <a:lnTo>
                      <a:pt x="318" y="165"/>
                    </a:lnTo>
                    <a:lnTo>
                      <a:pt x="301" y="144"/>
                    </a:lnTo>
                    <a:lnTo>
                      <a:pt x="289" y="126"/>
                    </a:lnTo>
                    <a:lnTo>
                      <a:pt x="283" y="110"/>
                    </a:lnTo>
                    <a:lnTo>
                      <a:pt x="280" y="95"/>
                    </a:lnTo>
                    <a:lnTo>
                      <a:pt x="271" y="92"/>
                    </a:lnTo>
                    <a:lnTo>
                      <a:pt x="266" y="89"/>
                    </a:lnTo>
                    <a:lnTo>
                      <a:pt x="263" y="86"/>
                    </a:lnTo>
                    <a:lnTo>
                      <a:pt x="262" y="83"/>
                    </a:lnTo>
                    <a:lnTo>
                      <a:pt x="262" y="78"/>
                    </a:lnTo>
                    <a:lnTo>
                      <a:pt x="262" y="77"/>
                    </a:lnTo>
                    <a:lnTo>
                      <a:pt x="260" y="75"/>
                    </a:lnTo>
                    <a:lnTo>
                      <a:pt x="247" y="62"/>
                    </a:lnTo>
                    <a:lnTo>
                      <a:pt x="233" y="46"/>
                    </a:lnTo>
                    <a:lnTo>
                      <a:pt x="232" y="45"/>
                    </a:lnTo>
                    <a:lnTo>
                      <a:pt x="230" y="45"/>
                    </a:lnTo>
                    <a:lnTo>
                      <a:pt x="226" y="45"/>
                    </a:lnTo>
                    <a:lnTo>
                      <a:pt x="215" y="51"/>
                    </a:lnTo>
                    <a:lnTo>
                      <a:pt x="211" y="51"/>
                    </a:lnTo>
                    <a:lnTo>
                      <a:pt x="206" y="49"/>
                    </a:lnTo>
                    <a:lnTo>
                      <a:pt x="196" y="40"/>
                    </a:lnTo>
                    <a:lnTo>
                      <a:pt x="174" y="24"/>
                    </a:lnTo>
                    <a:lnTo>
                      <a:pt x="167" y="21"/>
                    </a:lnTo>
                    <a:lnTo>
                      <a:pt x="155" y="18"/>
                    </a:lnTo>
                    <a:lnTo>
                      <a:pt x="141" y="15"/>
                    </a:lnTo>
                    <a:lnTo>
                      <a:pt x="128" y="15"/>
                    </a:lnTo>
                    <a:lnTo>
                      <a:pt x="111" y="15"/>
                    </a:lnTo>
                    <a:lnTo>
                      <a:pt x="90" y="13"/>
                    </a:lnTo>
                    <a:lnTo>
                      <a:pt x="67" y="10"/>
                    </a:lnTo>
                    <a:lnTo>
                      <a:pt x="58" y="9"/>
                    </a:lnTo>
                    <a:lnTo>
                      <a:pt x="49" y="4"/>
                    </a:lnTo>
                    <a:lnTo>
                      <a:pt x="40" y="3"/>
                    </a:lnTo>
                    <a:lnTo>
                      <a:pt x="30" y="1"/>
                    </a:lnTo>
                    <a:lnTo>
                      <a:pt x="0" y="0"/>
                    </a:lnTo>
                    <a:lnTo>
                      <a:pt x="25" y="30"/>
                    </a:lnTo>
                    <a:lnTo>
                      <a:pt x="49" y="58"/>
                    </a:lnTo>
                    <a:lnTo>
                      <a:pt x="74" y="86"/>
                    </a:lnTo>
                    <a:lnTo>
                      <a:pt x="93" y="110"/>
                    </a:lnTo>
                    <a:lnTo>
                      <a:pt x="110" y="129"/>
                    </a:lnTo>
                    <a:lnTo>
                      <a:pt x="117" y="135"/>
                    </a:lnTo>
                    <a:lnTo>
                      <a:pt x="123" y="138"/>
                    </a:lnTo>
                    <a:lnTo>
                      <a:pt x="126" y="138"/>
                    </a:lnTo>
                    <a:lnTo>
                      <a:pt x="128" y="135"/>
                    </a:lnTo>
                    <a:lnTo>
                      <a:pt x="128" y="131"/>
                    </a:lnTo>
                    <a:lnTo>
                      <a:pt x="126" y="126"/>
                    </a:lnTo>
                    <a:lnTo>
                      <a:pt x="119" y="113"/>
                    </a:lnTo>
                    <a:lnTo>
                      <a:pt x="116" y="108"/>
                    </a:lnTo>
                    <a:lnTo>
                      <a:pt x="111" y="104"/>
                    </a:lnTo>
                    <a:lnTo>
                      <a:pt x="107" y="99"/>
                    </a:lnTo>
                    <a:lnTo>
                      <a:pt x="102" y="89"/>
                    </a:lnTo>
                    <a:lnTo>
                      <a:pt x="96" y="63"/>
                    </a:lnTo>
                    <a:lnTo>
                      <a:pt x="90" y="39"/>
                    </a:lnTo>
                    <a:lnTo>
                      <a:pt x="89" y="28"/>
                    </a:lnTo>
                    <a:lnTo>
                      <a:pt x="113" y="60"/>
                    </a:lnTo>
                    <a:lnTo>
                      <a:pt x="137" y="89"/>
                    </a:lnTo>
                    <a:lnTo>
                      <a:pt x="161" y="116"/>
                    </a:lnTo>
                    <a:lnTo>
                      <a:pt x="176" y="129"/>
                    </a:lnTo>
                    <a:lnTo>
                      <a:pt x="187" y="135"/>
                    </a:lnTo>
                    <a:lnTo>
                      <a:pt x="194" y="137"/>
                    </a:lnTo>
                    <a:lnTo>
                      <a:pt x="197" y="135"/>
                    </a:lnTo>
                    <a:lnTo>
                      <a:pt x="199" y="135"/>
                    </a:lnTo>
                    <a:lnTo>
                      <a:pt x="197" y="135"/>
                    </a:lnTo>
                    <a:lnTo>
                      <a:pt x="190" y="143"/>
                    </a:lnTo>
                    <a:lnTo>
                      <a:pt x="181" y="155"/>
                    </a:lnTo>
                    <a:lnTo>
                      <a:pt x="176" y="162"/>
                    </a:lnTo>
                    <a:lnTo>
                      <a:pt x="173" y="172"/>
                    </a:lnTo>
                    <a:lnTo>
                      <a:pt x="171" y="179"/>
                    </a:lnTo>
                    <a:lnTo>
                      <a:pt x="173" y="188"/>
                    </a:lnTo>
                    <a:lnTo>
                      <a:pt x="174" y="194"/>
                    </a:lnTo>
                    <a:lnTo>
                      <a:pt x="179" y="199"/>
                    </a:lnTo>
                    <a:lnTo>
                      <a:pt x="190" y="211"/>
                    </a:lnTo>
                    <a:lnTo>
                      <a:pt x="205" y="223"/>
                    </a:lnTo>
                    <a:lnTo>
                      <a:pt x="223" y="235"/>
                    </a:lnTo>
                    <a:lnTo>
                      <a:pt x="242" y="245"/>
                    </a:lnTo>
                    <a:lnTo>
                      <a:pt x="260" y="253"/>
                    </a:lnTo>
                    <a:lnTo>
                      <a:pt x="277" y="259"/>
                    </a:lnTo>
                    <a:lnTo>
                      <a:pt x="291" y="260"/>
                    </a:lnTo>
                    <a:lnTo>
                      <a:pt x="345" y="260"/>
                    </a:lnTo>
                    <a:lnTo>
                      <a:pt x="372" y="300"/>
                    </a:lnTo>
                    <a:lnTo>
                      <a:pt x="376" y="300"/>
                    </a:lnTo>
                    <a:lnTo>
                      <a:pt x="381" y="300"/>
                    </a:lnTo>
                    <a:lnTo>
                      <a:pt x="388" y="303"/>
                    </a:lnTo>
                    <a:lnTo>
                      <a:pt x="397" y="306"/>
                    </a:lnTo>
                    <a:lnTo>
                      <a:pt x="407" y="312"/>
                    </a:lnTo>
                    <a:lnTo>
                      <a:pt x="417" y="321"/>
                    </a:lnTo>
                    <a:lnTo>
                      <a:pt x="429" y="334"/>
                    </a:lnTo>
                    <a:lnTo>
                      <a:pt x="435" y="340"/>
                    </a:lnTo>
                    <a:lnTo>
                      <a:pt x="443" y="348"/>
                    </a:lnTo>
                    <a:lnTo>
                      <a:pt x="462" y="360"/>
                    </a:lnTo>
                    <a:lnTo>
                      <a:pt x="483" y="370"/>
                    </a:lnTo>
                    <a:lnTo>
                      <a:pt x="504" y="381"/>
                    </a:lnTo>
                    <a:lnTo>
                      <a:pt x="542" y="395"/>
                    </a:lnTo>
                    <a:lnTo>
                      <a:pt x="559" y="399"/>
                    </a:lnTo>
                    <a:lnTo>
                      <a:pt x="544" y="441"/>
                    </a:lnTo>
                    <a:lnTo>
                      <a:pt x="536" y="446"/>
                    </a:lnTo>
                    <a:lnTo>
                      <a:pt x="523" y="456"/>
                    </a:lnTo>
                    <a:lnTo>
                      <a:pt x="514" y="465"/>
                    </a:lnTo>
                    <a:lnTo>
                      <a:pt x="506" y="473"/>
                    </a:lnTo>
                    <a:lnTo>
                      <a:pt x="500" y="482"/>
                    </a:lnTo>
                    <a:lnTo>
                      <a:pt x="497" y="491"/>
                    </a:lnTo>
                    <a:lnTo>
                      <a:pt x="497" y="498"/>
                    </a:lnTo>
                    <a:lnTo>
                      <a:pt x="497" y="508"/>
                    </a:lnTo>
                    <a:lnTo>
                      <a:pt x="498" y="517"/>
                    </a:lnTo>
                    <a:lnTo>
                      <a:pt x="501" y="526"/>
                    </a:lnTo>
                    <a:lnTo>
                      <a:pt x="509" y="544"/>
                    </a:lnTo>
                    <a:lnTo>
                      <a:pt x="517" y="563"/>
                    </a:lnTo>
                    <a:lnTo>
                      <a:pt x="521" y="572"/>
                    </a:lnTo>
                    <a:lnTo>
                      <a:pt x="527" y="581"/>
                    </a:lnTo>
                    <a:lnTo>
                      <a:pt x="541" y="595"/>
                    </a:lnTo>
                    <a:lnTo>
                      <a:pt x="553" y="605"/>
                    </a:lnTo>
                    <a:lnTo>
                      <a:pt x="556" y="612"/>
                    </a:lnTo>
                    <a:lnTo>
                      <a:pt x="559" y="616"/>
                    </a:lnTo>
                    <a:lnTo>
                      <a:pt x="565" y="636"/>
                    </a:lnTo>
                    <a:lnTo>
                      <a:pt x="569" y="648"/>
                    </a:lnTo>
                    <a:lnTo>
                      <a:pt x="577" y="661"/>
                    </a:lnTo>
                    <a:lnTo>
                      <a:pt x="584" y="675"/>
                    </a:lnTo>
                    <a:lnTo>
                      <a:pt x="595" y="687"/>
                    </a:lnTo>
                    <a:lnTo>
                      <a:pt x="601" y="691"/>
                    </a:lnTo>
                    <a:lnTo>
                      <a:pt x="607" y="696"/>
                    </a:lnTo>
                    <a:lnTo>
                      <a:pt x="613" y="699"/>
                    </a:lnTo>
                    <a:lnTo>
                      <a:pt x="621" y="700"/>
                    </a:lnTo>
                    <a:lnTo>
                      <a:pt x="633" y="705"/>
                    </a:lnTo>
                    <a:lnTo>
                      <a:pt x="643" y="711"/>
                    </a:lnTo>
                    <a:lnTo>
                      <a:pt x="651" y="718"/>
                    </a:lnTo>
                    <a:lnTo>
                      <a:pt x="655" y="728"/>
                    </a:lnTo>
                    <a:lnTo>
                      <a:pt x="660" y="738"/>
                    </a:lnTo>
                    <a:lnTo>
                      <a:pt x="663" y="749"/>
                    </a:lnTo>
                    <a:lnTo>
                      <a:pt x="666" y="770"/>
                    </a:lnTo>
                    <a:lnTo>
                      <a:pt x="669" y="794"/>
                    </a:lnTo>
                    <a:lnTo>
                      <a:pt x="669" y="824"/>
                    </a:lnTo>
                    <a:lnTo>
                      <a:pt x="669" y="841"/>
                    </a:lnTo>
                    <a:lnTo>
                      <a:pt x="666" y="854"/>
                    </a:lnTo>
                    <a:lnTo>
                      <a:pt x="663" y="866"/>
                    </a:lnTo>
                    <a:lnTo>
                      <a:pt x="658" y="877"/>
                    </a:lnTo>
                    <a:lnTo>
                      <a:pt x="654" y="886"/>
                    </a:lnTo>
                    <a:lnTo>
                      <a:pt x="652" y="898"/>
                    </a:lnTo>
                    <a:lnTo>
                      <a:pt x="652" y="910"/>
                    </a:lnTo>
                    <a:lnTo>
                      <a:pt x="652" y="922"/>
                    </a:lnTo>
                    <a:lnTo>
                      <a:pt x="657" y="943"/>
                    </a:lnTo>
                    <a:lnTo>
                      <a:pt x="658" y="957"/>
                    </a:lnTo>
                    <a:lnTo>
                      <a:pt x="657" y="964"/>
                    </a:lnTo>
                    <a:lnTo>
                      <a:pt x="652" y="976"/>
                    </a:lnTo>
                    <a:lnTo>
                      <a:pt x="639" y="1005"/>
                    </a:lnTo>
                    <a:lnTo>
                      <a:pt x="621" y="1045"/>
                    </a:lnTo>
                    <a:lnTo>
                      <a:pt x="613" y="1217"/>
                    </a:lnTo>
                    <a:lnTo>
                      <a:pt x="613" y="1354"/>
                    </a:lnTo>
                    <a:lnTo>
                      <a:pt x="613" y="1360"/>
                    </a:lnTo>
                    <a:lnTo>
                      <a:pt x="614" y="1366"/>
                    </a:lnTo>
                    <a:lnTo>
                      <a:pt x="616" y="1369"/>
                    </a:lnTo>
                    <a:lnTo>
                      <a:pt x="619" y="1374"/>
                    </a:lnTo>
                    <a:lnTo>
                      <a:pt x="625" y="1378"/>
                    </a:lnTo>
                    <a:lnTo>
                      <a:pt x="634" y="1381"/>
                    </a:lnTo>
                    <a:lnTo>
                      <a:pt x="642" y="1383"/>
                    </a:lnTo>
                    <a:lnTo>
                      <a:pt x="648" y="1383"/>
                    </a:lnTo>
                    <a:lnTo>
                      <a:pt x="654" y="1381"/>
                    </a:lnTo>
                    <a:lnTo>
                      <a:pt x="669" y="1368"/>
                    </a:lnTo>
                    <a:lnTo>
                      <a:pt x="681" y="1354"/>
                    </a:lnTo>
                    <a:lnTo>
                      <a:pt x="685" y="1347"/>
                    </a:lnTo>
                    <a:lnTo>
                      <a:pt x="688" y="1339"/>
                    </a:lnTo>
                    <a:lnTo>
                      <a:pt x="697" y="1324"/>
                    </a:lnTo>
                    <a:lnTo>
                      <a:pt x="708" y="1306"/>
                    </a:lnTo>
                    <a:lnTo>
                      <a:pt x="727" y="1279"/>
                    </a:lnTo>
                    <a:lnTo>
                      <a:pt x="731" y="1271"/>
                    </a:lnTo>
                    <a:lnTo>
                      <a:pt x="732" y="1262"/>
                    </a:lnTo>
                    <a:lnTo>
                      <a:pt x="738" y="1237"/>
                    </a:lnTo>
                    <a:lnTo>
                      <a:pt x="741" y="1205"/>
                    </a:lnTo>
                    <a:lnTo>
                      <a:pt x="743" y="1175"/>
                    </a:lnTo>
                    <a:lnTo>
                      <a:pt x="744" y="1163"/>
                    </a:lnTo>
                    <a:lnTo>
                      <a:pt x="747" y="1152"/>
                    </a:lnTo>
                    <a:lnTo>
                      <a:pt x="752" y="1143"/>
                    </a:lnTo>
                    <a:lnTo>
                      <a:pt x="758" y="1137"/>
                    </a:lnTo>
                    <a:lnTo>
                      <a:pt x="770" y="1127"/>
                    </a:lnTo>
                    <a:lnTo>
                      <a:pt x="774" y="1121"/>
                    </a:lnTo>
                    <a:lnTo>
                      <a:pt x="777" y="1113"/>
                    </a:lnTo>
                    <a:lnTo>
                      <a:pt x="779" y="1107"/>
                    </a:lnTo>
                    <a:lnTo>
                      <a:pt x="782" y="1100"/>
                    </a:lnTo>
                    <a:lnTo>
                      <a:pt x="786" y="1094"/>
                    </a:lnTo>
                    <a:lnTo>
                      <a:pt x="791" y="1086"/>
                    </a:lnTo>
                    <a:lnTo>
                      <a:pt x="797" y="1080"/>
                    </a:lnTo>
                    <a:lnTo>
                      <a:pt x="804" y="1076"/>
                    </a:lnTo>
                    <a:lnTo>
                      <a:pt x="813" y="1071"/>
                    </a:lnTo>
                    <a:lnTo>
                      <a:pt x="822" y="1068"/>
                    </a:lnTo>
                    <a:lnTo>
                      <a:pt x="833" y="1065"/>
                    </a:lnTo>
                    <a:lnTo>
                      <a:pt x="841" y="1061"/>
                    </a:lnTo>
                    <a:lnTo>
                      <a:pt x="856" y="1051"/>
                    </a:lnTo>
                    <a:lnTo>
                      <a:pt x="865" y="1044"/>
                    </a:lnTo>
                    <a:lnTo>
                      <a:pt x="869" y="1041"/>
                    </a:lnTo>
                    <a:lnTo>
                      <a:pt x="837" y="1011"/>
                    </a:lnTo>
                    <a:lnTo>
                      <a:pt x="887" y="988"/>
                    </a:lnTo>
                    <a:lnTo>
                      <a:pt x="896" y="982"/>
                    </a:lnTo>
                    <a:lnTo>
                      <a:pt x="907" y="973"/>
                    </a:lnTo>
                    <a:lnTo>
                      <a:pt x="934" y="946"/>
                    </a:lnTo>
                    <a:lnTo>
                      <a:pt x="961" y="919"/>
                    </a:lnTo>
                    <a:lnTo>
                      <a:pt x="970" y="908"/>
                    </a:lnTo>
                    <a:lnTo>
                      <a:pt x="976" y="899"/>
                    </a:lnTo>
                    <a:lnTo>
                      <a:pt x="982" y="884"/>
                    </a:lnTo>
                    <a:lnTo>
                      <a:pt x="988" y="868"/>
                    </a:lnTo>
                    <a:lnTo>
                      <a:pt x="994" y="847"/>
                    </a:lnTo>
                    <a:lnTo>
                      <a:pt x="1006" y="844"/>
                    </a:lnTo>
                    <a:lnTo>
                      <a:pt x="1029" y="833"/>
                    </a:lnTo>
                    <a:lnTo>
                      <a:pt x="1042" y="827"/>
                    </a:lnTo>
                    <a:lnTo>
                      <a:pt x="1053" y="821"/>
                    </a:lnTo>
                    <a:lnTo>
                      <a:pt x="1061" y="812"/>
                    </a:lnTo>
                    <a:lnTo>
                      <a:pt x="1064" y="809"/>
                    </a:lnTo>
                    <a:lnTo>
                      <a:pt x="1064" y="804"/>
                    </a:lnTo>
                    <a:lnTo>
                      <a:pt x="1064" y="764"/>
                    </a:lnTo>
                    <a:lnTo>
                      <a:pt x="1062" y="744"/>
                    </a:lnTo>
                    <a:lnTo>
                      <a:pt x="1061" y="728"/>
                    </a:lnTo>
                    <a:lnTo>
                      <a:pt x="1059" y="723"/>
                    </a:lnTo>
                    <a:lnTo>
                      <a:pt x="1062" y="723"/>
                    </a:lnTo>
                    <a:lnTo>
                      <a:pt x="1067" y="725"/>
                    </a:lnTo>
                    <a:lnTo>
                      <a:pt x="1073" y="725"/>
                    </a:lnTo>
                    <a:lnTo>
                      <a:pt x="1077" y="723"/>
                    </a:lnTo>
                    <a:lnTo>
                      <a:pt x="1082" y="721"/>
                    </a:lnTo>
                    <a:lnTo>
                      <a:pt x="1088" y="717"/>
                    </a:lnTo>
                    <a:lnTo>
                      <a:pt x="1095" y="711"/>
                    </a:lnTo>
                    <a:lnTo>
                      <a:pt x="1103" y="702"/>
                    </a:lnTo>
                    <a:lnTo>
                      <a:pt x="1110" y="690"/>
                    </a:lnTo>
                    <a:lnTo>
                      <a:pt x="1119" y="676"/>
                    </a:lnTo>
                    <a:lnTo>
                      <a:pt x="1128" y="658"/>
                    </a:lnTo>
                    <a:lnTo>
                      <a:pt x="1145" y="625"/>
                    </a:lnTo>
                    <a:lnTo>
                      <a:pt x="1149" y="612"/>
                    </a:lnTo>
                    <a:lnTo>
                      <a:pt x="1152" y="601"/>
                    </a:lnTo>
                    <a:lnTo>
                      <a:pt x="1154" y="592"/>
                    </a:lnTo>
                    <a:lnTo>
                      <a:pt x="1154" y="584"/>
                    </a:lnTo>
                    <a:lnTo>
                      <a:pt x="1154" y="578"/>
                    </a:lnTo>
                    <a:lnTo>
                      <a:pt x="1152" y="572"/>
                    </a:lnTo>
                    <a:lnTo>
                      <a:pt x="1146" y="565"/>
                    </a:lnTo>
                    <a:lnTo>
                      <a:pt x="1140" y="559"/>
                    </a:lnTo>
                    <a:lnTo>
                      <a:pt x="1136" y="553"/>
                    </a:lnTo>
                    <a:lnTo>
                      <a:pt x="1134" y="548"/>
                    </a:lnTo>
                    <a:lnTo>
                      <a:pt x="1133" y="54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53" name="AutoShape 103"/>
            <p:cNvSpPr/>
            <p:nvPr/>
          </p:nvSpPr>
          <p:spPr>
            <a:xfrm>
              <a:off x="646200" y="148248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4" name="AutoShape 104"/>
            <p:cNvSpPr/>
            <p:nvPr/>
          </p:nvSpPr>
          <p:spPr>
            <a:xfrm>
              <a:off x="285840" y="450720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uth Americ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5" name="Oval 105"/>
            <p:cNvSpPr/>
            <p:nvPr/>
          </p:nvSpPr>
          <p:spPr>
            <a:xfrm>
              <a:off x="1762200" y="2562120"/>
              <a:ext cx="144360" cy="144360"/>
            </a:xfrm>
            <a:prstGeom prst="ellipse">
              <a:avLst/>
            </a:prstGeom>
            <a:solidFill>
              <a:srgbClr val="ff66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6" name="Oval 106"/>
            <p:cNvSpPr/>
            <p:nvPr/>
          </p:nvSpPr>
          <p:spPr>
            <a:xfrm>
              <a:off x="3130560" y="4578480"/>
              <a:ext cx="144360" cy="144360"/>
            </a:xfrm>
            <a:prstGeom prst="ellipse">
              <a:avLst/>
            </a:prstGeom>
            <a:solidFill>
              <a:srgbClr val="ff66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957" name="AutoShape 107"/>
            <p:cNvCxnSpPr>
              <a:stCxn id="953" idx="2"/>
              <a:endCxn id="955" idx="0"/>
            </p:cNvCxnSpPr>
            <p:nvPr/>
          </p:nvCxnSpPr>
          <p:spPr>
            <a:xfrm>
              <a:off x="1438200" y="1770120"/>
              <a:ext cx="397440" cy="78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AutoShape 108"/>
            <p:cNvCxnSpPr>
              <a:stCxn id="954" idx="3"/>
              <a:endCxn id="956" idx="2"/>
            </p:cNvCxnSpPr>
            <p:nvPr/>
          </p:nvCxnSpPr>
          <p:spPr>
            <a:xfrm>
              <a:off x="1869840" y="4651200"/>
              <a:ext cx="1251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59" name=""/>
            <p:cNvGrpSpPr/>
            <p:nvPr/>
          </p:nvGrpSpPr>
          <p:grpSpPr>
            <a:xfrm>
              <a:off x="4073400" y="1539720"/>
              <a:ext cx="4324320" cy="2014560"/>
              <a:chOff x="4073400" y="1539720"/>
              <a:chExt cx="4324320" cy="2014560"/>
            </a:xfrm>
          </p:grpSpPr>
          <p:sp>
            <p:nvSpPr>
              <p:cNvPr id="960" name="Freeform 110"/>
              <p:cNvSpPr/>
              <p:nvPr/>
            </p:nvSpPr>
            <p:spPr>
              <a:xfrm>
                <a:off x="4073400" y="1539720"/>
                <a:ext cx="4324320" cy="2014560"/>
              </a:xfrm>
              <a:custGeom>
                <a:avLst/>
                <a:gdLst>
                  <a:gd name="textAreaLeft" fmla="*/ 0 w 4324320"/>
                  <a:gd name="textAreaRight" fmla="*/ 4324680 w 4324320"/>
                  <a:gd name="textAreaTop" fmla="*/ 0 h 2014560"/>
                  <a:gd name="textAreaBottom" fmla="*/ 2014560 h 2014560"/>
                </a:gdLst>
                <a:ahLst/>
                <a:rect l="textAreaLeft" t="textAreaTop" r="textAreaRight" b="textAreaBottom"/>
                <a:pathLst>
                  <a:path w="2724" h="1269">
                    <a:moveTo>
                      <a:pt x="2705" y="500"/>
                    </a:moveTo>
                    <a:lnTo>
                      <a:pt x="2705" y="500"/>
                    </a:lnTo>
                    <a:lnTo>
                      <a:pt x="2711" y="494"/>
                    </a:lnTo>
                    <a:lnTo>
                      <a:pt x="2715" y="488"/>
                    </a:lnTo>
                    <a:lnTo>
                      <a:pt x="2721" y="481"/>
                    </a:lnTo>
                    <a:lnTo>
                      <a:pt x="2724" y="475"/>
                    </a:lnTo>
                    <a:lnTo>
                      <a:pt x="2724" y="472"/>
                    </a:lnTo>
                    <a:lnTo>
                      <a:pt x="2724" y="469"/>
                    </a:lnTo>
                    <a:lnTo>
                      <a:pt x="2723" y="466"/>
                    </a:lnTo>
                    <a:lnTo>
                      <a:pt x="2720" y="464"/>
                    </a:lnTo>
                    <a:lnTo>
                      <a:pt x="2715" y="463"/>
                    </a:lnTo>
                    <a:lnTo>
                      <a:pt x="2708" y="463"/>
                    </a:lnTo>
                    <a:lnTo>
                      <a:pt x="2684" y="461"/>
                    </a:lnTo>
                    <a:lnTo>
                      <a:pt x="2675" y="460"/>
                    </a:lnTo>
                    <a:lnTo>
                      <a:pt x="2667" y="458"/>
                    </a:lnTo>
                    <a:lnTo>
                      <a:pt x="2663" y="455"/>
                    </a:lnTo>
                    <a:lnTo>
                      <a:pt x="2660" y="451"/>
                    </a:lnTo>
                    <a:lnTo>
                      <a:pt x="2658" y="446"/>
                    </a:lnTo>
                    <a:lnTo>
                      <a:pt x="2658" y="440"/>
                    </a:lnTo>
                    <a:lnTo>
                      <a:pt x="2660" y="436"/>
                    </a:lnTo>
                    <a:lnTo>
                      <a:pt x="2658" y="434"/>
                    </a:lnTo>
                    <a:lnTo>
                      <a:pt x="2655" y="429"/>
                    </a:lnTo>
                    <a:lnTo>
                      <a:pt x="2649" y="428"/>
                    </a:lnTo>
                    <a:lnTo>
                      <a:pt x="2641" y="428"/>
                    </a:lnTo>
                    <a:lnTo>
                      <a:pt x="2626" y="429"/>
                    </a:lnTo>
                    <a:lnTo>
                      <a:pt x="2620" y="431"/>
                    </a:lnTo>
                    <a:lnTo>
                      <a:pt x="2571" y="366"/>
                    </a:lnTo>
                    <a:lnTo>
                      <a:pt x="2554" y="363"/>
                    </a:lnTo>
                    <a:lnTo>
                      <a:pt x="2538" y="360"/>
                    </a:lnTo>
                    <a:lnTo>
                      <a:pt x="2519" y="357"/>
                    </a:lnTo>
                    <a:lnTo>
                      <a:pt x="2500" y="356"/>
                    </a:lnTo>
                    <a:lnTo>
                      <a:pt x="2483" y="357"/>
                    </a:lnTo>
                    <a:lnTo>
                      <a:pt x="2477" y="359"/>
                    </a:lnTo>
                    <a:lnTo>
                      <a:pt x="2471" y="362"/>
                    </a:lnTo>
                    <a:lnTo>
                      <a:pt x="2468" y="365"/>
                    </a:lnTo>
                    <a:lnTo>
                      <a:pt x="2468" y="371"/>
                    </a:lnTo>
                    <a:lnTo>
                      <a:pt x="2468" y="380"/>
                    </a:lnTo>
                    <a:lnTo>
                      <a:pt x="2471" y="387"/>
                    </a:lnTo>
                    <a:lnTo>
                      <a:pt x="2474" y="392"/>
                    </a:lnTo>
                    <a:lnTo>
                      <a:pt x="2476" y="395"/>
                    </a:lnTo>
                    <a:lnTo>
                      <a:pt x="2477" y="396"/>
                    </a:lnTo>
                    <a:lnTo>
                      <a:pt x="2477" y="398"/>
                    </a:lnTo>
                    <a:lnTo>
                      <a:pt x="2468" y="401"/>
                    </a:lnTo>
                    <a:lnTo>
                      <a:pt x="2459" y="402"/>
                    </a:lnTo>
                    <a:lnTo>
                      <a:pt x="2452" y="401"/>
                    </a:lnTo>
                    <a:lnTo>
                      <a:pt x="2446" y="398"/>
                    </a:lnTo>
                    <a:lnTo>
                      <a:pt x="2438" y="395"/>
                    </a:lnTo>
                    <a:lnTo>
                      <a:pt x="2431" y="390"/>
                    </a:lnTo>
                    <a:lnTo>
                      <a:pt x="2423" y="386"/>
                    </a:lnTo>
                    <a:lnTo>
                      <a:pt x="2412" y="383"/>
                    </a:lnTo>
                    <a:lnTo>
                      <a:pt x="2402" y="381"/>
                    </a:lnTo>
                    <a:lnTo>
                      <a:pt x="2378" y="381"/>
                    </a:lnTo>
                    <a:lnTo>
                      <a:pt x="2355" y="380"/>
                    </a:lnTo>
                    <a:lnTo>
                      <a:pt x="2330" y="378"/>
                    </a:lnTo>
                    <a:lnTo>
                      <a:pt x="2331" y="369"/>
                    </a:lnTo>
                    <a:lnTo>
                      <a:pt x="2331" y="351"/>
                    </a:lnTo>
                    <a:lnTo>
                      <a:pt x="2331" y="342"/>
                    </a:lnTo>
                    <a:lnTo>
                      <a:pt x="2328" y="333"/>
                    </a:lnTo>
                    <a:lnTo>
                      <a:pt x="2324" y="327"/>
                    </a:lnTo>
                    <a:lnTo>
                      <a:pt x="2322" y="326"/>
                    </a:lnTo>
                    <a:lnTo>
                      <a:pt x="2319" y="324"/>
                    </a:lnTo>
                    <a:lnTo>
                      <a:pt x="2238" y="324"/>
                    </a:lnTo>
                    <a:lnTo>
                      <a:pt x="2191" y="322"/>
                    </a:lnTo>
                    <a:lnTo>
                      <a:pt x="2165" y="321"/>
                    </a:lnTo>
                    <a:lnTo>
                      <a:pt x="2150" y="282"/>
                    </a:lnTo>
                    <a:lnTo>
                      <a:pt x="2120" y="264"/>
                    </a:lnTo>
                    <a:lnTo>
                      <a:pt x="2078" y="252"/>
                    </a:lnTo>
                    <a:lnTo>
                      <a:pt x="2072" y="250"/>
                    </a:lnTo>
                    <a:lnTo>
                      <a:pt x="2060" y="247"/>
                    </a:lnTo>
                    <a:lnTo>
                      <a:pt x="2052" y="246"/>
                    </a:lnTo>
                    <a:lnTo>
                      <a:pt x="2046" y="247"/>
                    </a:lnTo>
                    <a:lnTo>
                      <a:pt x="2042" y="250"/>
                    </a:lnTo>
                    <a:lnTo>
                      <a:pt x="2040" y="253"/>
                    </a:lnTo>
                    <a:lnTo>
                      <a:pt x="2039" y="256"/>
                    </a:lnTo>
                    <a:lnTo>
                      <a:pt x="2034" y="279"/>
                    </a:lnTo>
                    <a:lnTo>
                      <a:pt x="2031" y="286"/>
                    </a:lnTo>
                    <a:lnTo>
                      <a:pt x="2016" y="298"/>
                    </a:lnTo>
                    <a:lnTo>
                      <a:pt x="1986" y="298"/>
                    </a:lnTo>
                    <a:lnTo>
                      <a:pt x="1972" y="297"/>
                    </a:lnTo>
                    <a:lnTo>
                      <a:pt x="1965" y="295"/>
                    </a:lnTo>
                    <a:lnTo>
                      <a:pt x="1957" y="294"/>
                    </a:lnTo>
                    <a:lnTo>
                      <a:pt x="1947" y="298"/>
                    </a:lnTo>
                    <a:lnTo>
                      <a:pt x="1933" y="303"/>
                    </a:lnTo>
                    <a:lnTo>
                      <a:pt x="1921" y="304"/>
                    </a:lnTo>
                    <a:lnTo>
                      <a:pt x="1909" y="306"/>
                    </a:lnTo>
                    <a:lnTo>
                      <a:pt x="1897" y="264"/>
                    </a:lnTo>
                    <a:lnTo>
                      <a:pt x="1879" y="217"/>
                    </a:lnTo>
                    <a:lnTo>
                      <a:pt x="1887" y="187"/>
                    </a:lnTo>
                    <a:lnTo>
                      <a:pt x="1810" y="187"/>
                    </a:lnTo>
                    <a:lnTo>
                      <a:pt x="1802" y="209"/>
                    </a:lnTo>
                    <a:lnTo>
                      <a:pt x="1810" y="229"/>
                    </a:lnTo>
                    <a:lnTo>
                      <a:pt x="1810" y="249"/>
                    </a:lnTo>
                    <a:lnTo>
                      <a:pt x="1781" y="235"/>
                    </a:lnTo>
                    <a:lnTo>
                      <a:pt x="1740" y="217"/>
                    </a:lnTo>
                    <a:lnTo>
                      <a:pt x="1724" y="211"/>
                    </a:lnTo>
                    <a:lnTo>
                      <a:pt x="1701" y="203"/>
                    </a:lnTo>
                    <a:lnTo>
                      <a:pt x="1673" y="194"/>
                    </a:lnTo>
                    <a:lnTo>
                      <a:pt x="1673" y="175"/>
                    </a:lnTo>
                    <a:lnTo>
                      <a:pt x="1653" y="179"/>
                    </a:lnTo>
                    <a:lnTo>
                      <a:pt x="1611" y="209"/>
                    </a:lnTo>
                    <a:lnTo>
                      <a:pt x="1645" y="152"/>
                    </a:lnTo>
                    <a:lnTo>
                      <a:pt x="1673" y="115"/>
                    </a:lnTo>
                    <a:lnTo>
                      <a:pt x="1674" y="107"/>
                    </a:lnTo>
                    <a:lnTo>
                      <a:pt x="1676" y="89"/>
                    </a:lnTo>
                    <a:lnTo>
                      <a:pt x="1677" y="80"/>
                    </a:lnTo>
                    <a:lnTo>
                      <a:pt x="1677" y="71"/>
                    </a:lnTo>
                    <a:lnTo>
                      <a:pt x="1676" y="63"/>
                    </a:lnTo>
                    <a:lnTo>
                      <a:pt x="1674" y="62"/>
                    </a:lnTo>
                    <a:lnTo>
                      <a:pt x="1673" y="60"/>
                    </a:lnTo>
                    <a:lnTo>
                      <a:pt x="1661" y="56"/>
                    </a:lnTo>
                    <a:lnTo>
                      <a:pt x="1648" y="48"/>
                    </a:lnTo>
                    <a:lnTo>
                      <a:pt x="1633" y="38"/>
                    </a:lnTo>
                    <a:lnTo>
                      <a:pt x="1596" y="60"/>
                    </a:lnTo>
                    <a:lnTo>
                      <a:pt x="1576" y="23"/>
                    </a:lnTo>
                    <a:lnTo>
                      <a:pt x="1576" y="0"/>
                    </a:lnTo>
                    <a:lnTo>
                      <a:pt x="1534" y="0"/>
                    </a:lnTo>
                    <a:lnTo>
                      <a:pt x="1514" y="45"/>
                    </a:lnTo>
                    <a:lnTo>
                      <a:pt x="1484" y="92"/>
                    </a:lnTo>
                    <a:lnTo>
                      <a:pt x="1377" y="83"/>
                    </a:lnTo>
                    <a:lnTo>
                      <a:pt x="1290" y="172"/>
                    </a:lnTo>
                    <a:lnTo>
                      <a:pt x="1285" y="214"/>
                    </a:lnTo>
                    <a:lnTo>
                      <a:pt x="1236" y="217"/>
                    </a:lnTo>
                    <a:lnTo>
                      <a:pt x="1234" y="223"/>
                    </a:lnTo>
                    <a:lnTo>
                      <a:pt x="1233" y="237"/>
                    </a:lnTo>
                    <a:lnTo>
                      <a:pt x="1231" y="246"/>
                    </a:lnTo>
                    <a:lnTo>
                      <a:pt x="1233" y="255"/>
                    </a:lnTo>
                    <a:lnTo>
                      <a:pt x="1236" y="264"/>
                    </a:lnTo>
                    <a:lnTo>
                      <a:pt x="1240" y="271"/>
                    </a:lnTo>
                    <a:lnTo>
                      <a:pt x="1252" y="285"/>
                    </a:lnTo>
                    <a:lnTo>
                      <a:pt x="1263" y="295"/>
                    </a:lnTo>
                    <a:lnTo>
                      <a:pt x="1270" y="306"/>
                    </a:lnTo>
                    <a:lnTo>
                      <a:pt x="1273" y="312"/>
                    </a:lnTo>
                    <a:lnTo>
                      <a:pt x="1275" y="316"/>
                    </a:lnTo>
                    <a:lnTo>
                      <a:pt x="1273" y="319"/>
                    </a:lnTo>
                    <a:lnTo>
                      <a:pt x="1272" y="319"/>
                    </a:lnTo>
                    <a:lnTo>
                      <a:pt x="1264" y="318"/>
                    </a:lnTo>
                    <a:lnTo>
                      <a:pt x="1254" y="313"/>
                    </a:lnTo>
                    <a:lnTo>
                      <a:pt x="1242" y="307"/>
                    </a:lnTo>
                    <a:lnTo>
                      <a:pt x="1219" y="294"/>
                    </a:lnTo>
                    <a:lnTo>
                      <a:pt x="1208" y="286"/>
                    </a:lnTo>
                    <a:lnTo>
                      <a:pt x="1171" y="279"/>
                    </a:lnTo>
                    <a:lnTo>
                      <a:pt x="1171" y="363"/>
                    </a:lnTo>
                    <a:lnTo>
                      <a:pt x="1169" y="368"/>
                    </a:lnTo>
                    <a:lnTo>
                      <a:pt x="1168" y="372"/>
                    </a:lnTo>
                    <a:lnTo>
                      <a:pt x="1165" y="378"/>
                    </a:lnTo>
                    <a:lnTo>
                      <a:pt x="1163" y="384"/>
                    </a:lnTo>
                    <a:lnTo>
                      <a:pt x="1165" y="390"/>
                    </a:lnTo>
                    <a:lnTo>
                      <a:pt x="1169" y="396"/>
                    </a:lnTo>
                    <a:lnTo>
                      <a:pt x="1178" y="402"/>
                    </a:lnTo>
                    <a:lnTo>
                      <a:pt x="1193" y="408"/>
                    </a:lnTo>
                    <a:lnTo>
                      <a:pt x="1186" y="431"/>
                    </a:lnTo>
                    <a:lnTo>
                      <a:pt x="1166" y="443"/>
                    </a:lnTo>
                    <a:lnTo>
                      <a:pt x="1160" y="448"/>
                    </a:lnTo>
                    <a:lnTo>
                      <a:pt x="1145" y="461"/>
                    </a:lnTo>
                    <a:lnTo>
                      <a:pt x="1138" y="470"/>
                    </a:lnTo>
                    <a:lnTo>
                      <a:pt x="1130" y="479"/>
                    </a:lnTo>
                    <a:lnTo>
                      <a:pt x="1124" y="488"/>
                    </a:lnTo>
                    <a:lnTo>
                      <a:pt x="1121" y="497"/>
                    </a:lnTo>
                    <a:lnTo>
                      <a:pt x="1124" y="482"/>
                    </a:lnTo>
                    <a:lnTo>
                      <a:pt x="1127" y="451"/>
                    </a:lnTo>
                    <a:lnTo>
                      <a:pt x="1129" y="432"/>
                    </a:lnTo>
                    <a:lnTo>
                      <a:pt x="1127" y="414"/>
                    </a:lnTo>
                    <a:lnTo>
                      <a:pt x="1126" y="407"/>
                    </a:lnTo>
                    <a:lnTo>
                      <a:pt x="1124" y="399"/>
                    </a:lnTo>
                    <a:lnTo>
                      <a:pt x="1121" y="393"/>
                    </a:lnTo>
                    <a:lnTo>
                      <a:pt x="1117" y="390"/>
                    </a:lnTo>
                    <a:lnTo>
                      <a:pt x="1110" y="383"/>
                    </a:lnTo>
                    <a:lnTo>
                      <a:pt x="1110" y="380"/>
                    </a:lnTo>
                    <a:lnTo>
                      <a:pt x="1109" y="377"/>
                    </a:lnTo>
                    <a:lnTo>
                      <a:pt x="1110" y="371"/>
                    </a:lnTo>
                    <a:lnTo>
                      <a:pt x="1115" y="365"/>
                    </a:lnTo>
                    <a:lnTo>
                      <a:pt x="1120" y="362"/>
                    </a:lnTo>
                    <a:lnTo>
                      <a:pt x="1124" y="357"/>
                    </a:lnTo>
                    <a:lnTo>
                      <a:pt x="1129" y="356"/>
                    </a:lnTo>
                    <a:lnTo>
                      <a:pt x="1114" y="274"/>
                    </a:lnTo>
                    <a:lnTo>
                      <a:pt x="1100" y="280"/>
                    </a:lnTo>
                    <a:lnTo>
                      <a:pt x="1086" y="286"/>
                    </a:lnTo>
                    <a:lnTo>
                      <a:pt x="1070" y="295"/>
                    </a:lnTo>
                    <a:lnTo>
                      <a:pt x="1055" y="307"/>
                    </a:lnTo>
                    <a:lnTo>
                      <a:pt x="1047" y="315"/>
                    </a:lnTo>
                    <a:lnTo>
                      <a:pt x="1041" y="324"/>
                    </a:lnTo>
                    <a:lnTo>
                      <a:pt x="1035" y="332"/>
                    </a:lnTo>
                    <a:lnTo>
                      <a:pt x="1032" y="342"/>
                    </a:lnTo>
                    <a:lnTo>
                      <a:pt x="1029" y="351"/>
                    </a:lnTo>
                    <a:lnTo>
                      <a:pt x="1029" y="363"/>
                    </a:lnTo>
                    <a:lnTo>
                      <a:pt x="1032" y="369"/>
                    </a:lnTo>
                    <a:lnTo>
                      <a:pt x="1037" y="386"/>
                    </a:lnTo>
                    <a:lnTo>
                      <a:pt x="1038" y="396"/>
                    </a:lnTo>
                    <a:lnTo>
                      <a:pt x="1040" y="408"/>
                    </a:lnTo>
                    <a:lnTo>
                      <a:pt x="1038" y="420"/>
                    </a:lnTo>
                    <a:lnTo>
                      <a:pt x="1037" y="431"/>
                    </a:lnTo>
                    <a:lnTo>
                      <a:pt x="1034" y="423"/>
                    </a:lnTo>
                    <a:lnTo>
                      <a:pt x="1025" y="405"/>
                    </a:lnTo>
                    <a:lnTo>
                      <a:pt x="1019" y="396"/>
                    </a:lnTo>
                    <a:lnTo>
                      <a:pt x="1013" y="390"/>
                    </a:lnTo>
                    <a:lnTo>
                      <a:pt x="1007" y="386"/>
                    </a:lnTo>
                    <a:lnTo>
                      <a:pt x="1002" y="386"/>
                    </a:lnTo>
                    <a:lnTo>
                      <a:pt x="999" y="386"/>
                    </a:lnTo>
                    <a:lnTo>
                      <a:pt x="991" y="389"/>
                    </a:lnTo>
                    <a:lnTo>
                      <a:pt x="985" y="395"/>
                    </a:lnTo>
                    <a:lnTo>
                      <a:pt x="976" y="405"/>
                    </a:lnTo>
                    <a:lnTo>
                      <a:pt x="970" y="416"/>
                    </a:lnTo>
                    <a:lnTo>
                      <a:pt x="967" y="420"/>
                    </a:lnTo>
                    <a:lnTo>
                      <a:pt x="927" y="413"/>
                    </a:lnTo>
                    <a:lnTo>
                      <a:pt x="900" y="405"/>
                    </a:lnTo>
                    <a:lnTo>
                      <a:pt x="900" y="436"/>
                    </a:lnTo>
                    <a:lnTo>
                      <a:pt x="877" y="440"/>
                    </a:lnTo>
                    <a:lnTo>
                      <a:pt x="857" y="440"/>
                    </a:lnTo>
                    <a:lnTo>
                      <a:pt x="818" y="440"/>
                    </a:lnTo>
                    <a:lnTo>
                      <a:pt x="818" y="478"/>
                    </a:lnTo>
                    <a:lnTo>
                      <a:pt x="777" y="463"/>
                    </a:lnTo>
                    <a:lnTo>
                      <a:pt x="765" y="436"/>
                    </a:lnTo>
                    <a:lnTo>
                      <a:pt x="753" y="451"/>
                    </a:lnTo>
                    <a:lnTo>
                      <a:pt x="750" y="490"/>
                    </a:lnTo>
                    <a:lnTo>
                      <a:pt x="750" y="515"/>
                    </a:lnTo>
                    <a:lnTo>
                      <a:pt x="731" y="520"/>
                    </a:lnTo>
                    <a:lnTo>
                      <a:pt x="704" y="527"/>
                    </a:lnTo>
                    <a:lnTo>
                      <a:pt x="693" y="542"/>
                    </a:lnTo>
                    <a:lnTo>
                      <a:pt x="646" y="573"/>
                    </a:lnTo>
                    <a:lnTo>
                      <a:pt x="624" y="550"/>
                    </a:lnTo>
                    <a:lnTo>
                      <a:pt x="624" y="508"/>
                    </a:lnTo>
                    <a:lnTo>
                      <a:pt x="597" y="490"/>
                    </a:lnTo>
                    <a:lnTo>
                      <a:pt x="600" y="488"/>
                    </a:lnTo>
                    <a:lnTo>
                      <a:pt x="606" y="485"/>
                    </a:lnTo>
                    <a:lnTo>
                      <a:pt x="610" y="485"/>
                    </a:lnTo>
                    <a:lnTo>
                      <a:pt x="615" y="485"/>
                    </a:lnTo>
                    <a:lnTo>
                      <a:pt x="621" y="488"/>
                    </a:lnTo>
                    <a:lnTo>
                      <a:pt x="628" y="493"/>
                    </a:lnTo>
                    <a:lnTo>
                      <a:pt x="636" y="499"/>
                    </a:lnTo>
                    <a:lnTo>
                      <a:pt x="648" y="506"/>
                    </a:lnTo>
                    <a:lnTo>
                      <a:pt x="658" y="511"/>
                    </a:lnTo>
                    <a:lnTo>
                      <a:pt x="664" y="512"/>
                    </a:lnTo>
                    <a:lnTo>
                      <a:pt x="669" y="511"/>
                    </a:lnTo>
                    <a:lnTo>
                      <a:pt x="675" y="509"/>
                    </a:lnTo>
                    <a:lnTo>
                      <a:pt x="678" y="506"/>
                    </a:lnTo>
                    <a:lnTo>
                      <a:pt x="681" y="502"/>
                    </a:lnTo>
                    <a:lnTo>
                      <a:pt x="684" y="493"/>
                    </a:lnTo>
                    <a:lnTo>
                      <a:pt x="684" y="484"/>
                    </a:lnTo>
                    <a:lnTo>
                      <a:pt x="684" y="470"/>
                    </a:lnTo>
                    <a:lnTo>
                      <a:pt x="681" y="455"/>
                    </a:lnTo>
                    <a:lnTo>
                      <a:pt x="678" y="436"/>
                    </a:lnTo>
                    <a:lnTo>
                      <a:pt x="672" y="428"/>
                    </a:lnTo>
                    <a:lnTo>
                      <a:pt x="663" y="420"/>
                    </a:lnTo>
                    <a:lnTo>
                      <a:pt x="652" y="413"/>
                    </a:lnTo>
                    <a:lnTo>
                      <a:pt x="637" y="404"/>
                    </a:lnTo>
                    <a:lnTo>
                      <a:pt x="618" y="396"/>
                    </a:lnTo>
                    <a:lnTo>
                      <a:pt x="607" y="393"/>
                    </a:lnTo>
                    <a:lnTo>
                      <a:pt x="594" y="392"/>
                    </a:lnTo>
                    <a:lnTo>
                      <a:pt x="582" y="390"/>
                    </a:lnTo>
                    <a:lnTo>
                      <a:pt x="567" y="390"/>
                    </a:lnTo>
                    <a:lnTo>
                      <a:pt x="562" y="380"/>
                    </a:lnTo>
                    <a:lnTo>
                      <a:pt x="556" y="372"/>
                    </a:lnTo>
                    <a:lnTo>
                      <a:pt x="548" y="362"/>
                    </a:lnTo>
                    <a:lnTo>
                      <a:pt x="539" y="354"/>
                    </a:lnTo>
                    <a:lnTo>
                      <a:pt x="535" y="350"/>
                    </a:lnTo>
                    <a:lnTo>
                      <a:pt x="529" y="348"/>
                    </a:lnTo>
                    <a:lnTo>
                      <a:pt x="524" y="347"/>
                    </a:lnTo>
                    <a:lnTo>
                      <a:pt x="518" y="347"/>
                    </a:lnTo>
                    <a:lnTo>
                      <a:pt x="512" y="348"/>
                    </a:lnTo>
                    <a:lnTo>
                      <a:pt x="505" y="351"/>
                    </a:lnTo>
                    <a:lnTo>
                      <a:pt x="491" y="360"/>
                    </a:lnTo>
                    <a:lnTo>
                      <a:pt x="476" y="368"/>
                    </a:lnTo>
                    <a:lnTo>
                      <a:pt x="444" y="381"/>
                    </a:lnTo>
                    <a:lnTo>
                      <a:pt x="431" y="387"/>
                    </a:lnTo>
                    <a:lnTo>
                      <a:pt x="420" y="393"/>
                    </a:lnTo>
                    <a:lnTo>
                      <a:pt x="413" y="399"/>
                    </a:lnTo>
                    <a:lnTo>
                      <a:pt x="410" y="402"/>
                    </a:lnTo>
                    <a:lnTo>
                      <a:pt x="410" y="405"/>
                    </a:lnTo>
                    <a:lnTo>
                      <a:pt x="408" y="410"/>
                    </a:lnTo>
                    <a:lnTo>
                      <a:pt x="404" y="416"/>
                    </a:lnTo>
                    <a:lnTo>
                      <a:pt x="398" y="420"/>
                    </a:lnTo>
                    <a:lnTo>
                      <a:pt x="390" y="423"/>
                    </a:lnTo>
                    <a:lnTo>
                      <a:pt x="377" y="429"/>
                    </a:lnTo>
                    <a:lnTo>
                      <a:pt x="371" y="431"/>
                    </a:lnTo>
                    <a:lnTo>
                      <a:pt x="360" y="470"/>
                    </a:lnTo>
                    <a:lnTo>
                      <a:pt x="325" y="497"/>
                    </a:lnTo>
                    <a:lnTo>
                      <a:pt x="271" y="558"/>
                    </a:lnTo>
                    <a:lnTo>
                      <a:pt x="238" y="622"/>
                    </a:lnTo>
                    <a:lnTo>
                      <a:pt x="211" y="639"/>
                    </a:lnTo>
                    <a:lnTo>
                      <a:pt x="203" y="692"/>
                    </a:lnTo>
                    <a:lnTo>
                      <a:pt x="211" y="726"/>
                    </a:lnTo>
                    <a:lnTo>
                      <a:pt x="256" y="741"/>
                    </a:lnTo>
                    <a:lnTo>
                      <a:pt x="291" y="738"/>
                    </a:lnTo>
                    <a:lnTo>
                      <a:pt x="298" y="769"/>
                    </a:lnTo>
                    <a:lnTo>
                      <a:pt x="298" y="799"/>
                    </a:lnTo>
                    <a:lnTo>
                      <a:pt x="345" y="796"/>
                    </a:lnTo>
                    <a:lnTo>
                      <a:pt x="356" y="756"/>
                    </a:lnTo>
                    <a:lnTo>
                      <a:pt x="380" y="707"/>
                    </a:lnTo>
                    <a:lnTo>
                      <a:pt x="375" y="657"/>
                    </a:lnTo>
                    <a:lnTo>
                      <a:pt x="398" y="615"/>
                    </a:lnTo>
                    <a:lnTo>
                      <a:pt x="429" y="573"/>
                    </a:lnTo>
                    <a:lnTo>
                      <a:pt x="455" y="542"/>
                    </a:lnTo>
                    <a:lnTo>
                      <a:pt x="461" y="539"/>
                    </a:lnTo>
                    <a:lnTo>
                      <a:pt x="467" y="536"/>
                    </a:lnTo>
                    <a:lnTo>
                      <a:pt x="473" y="533"/>
                    </a:lnTo>
                    <a:lnTo>
                      <a:pt x="479" y="533"/>
                    </a:lnTo>
                    <a:lnTo>
                      <a:pt x="481" y="535"/>
                    </a:lnTo>
                    <a:lnTo>
                      <a:pt x="484" y="536"/>
                    </a:lnTo>
                    <a:lnTo>
                      <a:pt x="484" y="539"/>
                    </a:lnTo>
                    <a:lnTo>
                      <a:pt x="485" y="542"/>
                    </a:lnTo>
                    <a:lnTo>
                      <a:pt x="482" y="555"/>
                    </a:lnTo>
                    <a:lnTo>
                      <a:pt x="478" y="567"/>
                    </a:lnTo>
                    <a:lnTo>
                      <a:pt x="472" y="577"/>
                    </a:lnTo>
                    <a:lnTo>
                      <a:pt x="466" y="585"/>
                    </a:lnTo>
                    <a:lnTo>
                      <a:pt x="460" y="589"/>
                    </a:lnTo>
                    <a:lnTo>
                      <a:pt x="454" y="592"/>
                    </a:lnTo>
                    <a:lnTo>
                      <a:pt x="449" y="595"/>
                    </a:lnTo>
                    <a:lnTo>
                      <a:pt x="444" y="597"/>
                    </a:lnTo>
                    <a:lnTo>
                      <a:pt x="429" y="642"/>
                    </a:lnTo>
                    <a:lnTo>
                      <a:pt x="429" y="648"/>
                    </a:lnTo>
                    <a:lnTo>
                      <a:pt x="431" y="654"/>
                    </a:lnTo>
                    <a:lnTo>
                      <a:pt x="434" y="662"/>
                    </a:lnTo>
                    <a:lnTo>
                      <a:pt x="440" y="669"/>
                    </a:lnTo>
                    <a:lnTo>
                      <a:pt x="447" y="677"/>
                    </a:lnTo>
                    <a:lnTo>
                      <a:pt x="461" y="681"/>
                    </a:lnTo>
                    <a:lnTo>
                      <a:pt x="469" y="683"/>
                    </a:lnTo>
                    <a:lnTo>
                      <a:pt x="479" y="684"/>
                    </a:lnTo>
                    <a:lnTo>
                      <a:pt x="497" y="686"/>
                    </a:lnTo>
                    <a:lnTo>
                      <a:pt x="512" y="690"/>
                    </a:lnTo>
                    <a:lnTo>
                      <a:pt x="526" y="695"/>
                    </a:lnTo>
                    <a:lnTo>
                      <a:pt x="536" y="699"/>
                    </a:lnTo>
                    <a:lnTo>
                      <a:pt x="550" y="707"/>
                    </a:lnTo>
                    <a:lnTo>
                      <a:pt x="554" y="711"/>
                    </a:lnTo>
                    <a:lnTo>
                      <a:pt x="517" y="722"/>
                    </a:lnTo>
                    <a:lnTo>
                      <a:pt x="475" y="719"/>
                    </a:lnTo>
                    <a:lnTo>
                      <a:pt x="444" y="769"/>
                    </a:lnTo>
                    <a:lnTo>
                      <a:pt x="413" y="784"/>
                    </a:lnTo>
                    <a:lnTo>
                      <a:pt x="410" y="833"/>
                    </a:lnTo>
                    <a:lnTo>
                      <a:pt x="387" y="853"/>
                    </a:lnTo>
                    <a:lnTo>
                      <a:pt x="276" y="848"/>
                    </a:lnTo>
                    <a:lnTo>
                      <a:pt x="276" y="796"/>
                    </a:lnTo>
                    <a:lnTo>
                      <a:pt x="273" y="794"/>
                    </a:lnTo>
                    <a:lnTo>
                      <a:pt x="268" y="794"/>
                    </a:lnTo>
                    <a:lnTo>
                      <a:pt x="264" y="794"/>
                    </a:lnTo>
                    <a:lnTo>
                      <a:pt x="259" y="796"/>
                    </a:lnTo>
                    <a:lnTo>
                      <a:pt x="255" y="800"/>
                    </a:lnTo>
                    <a:lnTo>
                      <a:pt x="252" y="806"/>
                    </a:lnTo>
                    <a:lnTo>
                      <a:pt x="249" y="814"/>
                    </a:lnTo>
                    <a:lnTo>
                      <a:pt x="246" y="833"/>
                    </a:lnTo>
                    <a:lnTo>
                      <a:pt x="243" y="851"/>
                    </a:lnTo>
                    <a:lnTo>
                      <a:pt x="238" y="868"/>
                    </a:lnTo>
                    <a:lnTo>
                      <a:pt x="203" y="883"/>
                    </a:lnTo>
                    <a:lnTo>
                      <a:pt x="172" y="933"/>
                    </a:lnTo>
                    <a:lnTo>
                      <a:pt x="142" y="955"/>
                    </a:lnTo>
                    <a:lnTo>
                      <a:pt x="104" y="960"/>
                    </a:lnTo>
                    <a:lnTo>
                      <a:pt x="92" y="982"/>
                    </a:lnTo>
                    <a:lnTo>
                      <a:pt x="104" y="1020"/>
                    </a:lnTo>
                    <a:lnTo>
                      <a:pt x="107" y="1026"/>
                    </a:lnTo>
                    <a:lnTo>
                      <a:pt x="110" y="1031"/>
                    </a:lnTo>
                    <a:lnTo>
                      <a:pt x="111" y="1038"/>
                    </a:lnTo>
                    <a:lnTo>
                      <a:pt x="113" y="1046"/>
                    </a:lnTo>
                    <a:lnTo>
                      <a:pt x="111" y="1055"/>
                    </a:lnTo>
                    <a:lnTo>
                      <a:pt x="107" y="1062"/>
                    </a:lnTo>
                    <a:lnTo>
                      <a:pt x="104" y="1067"/>
                    </a:lnTo>
                    <a:lnTo>
                      <a:pt x="99" y="1070"/>
                    </a:lnTo>
                    <a:lnTo>
                      <a:pt x="95" y="1073"/>
                    </a:lnTo>
                    <a:lnTo>
                      <a:pt x="89" y="1076"/>
                    </a:lnTo>
                    <a:lnTo>
                      <a:pt x="74" y="1079"/>
                    </a:lnTo>
                    <a:lnTo>
                      <a:pt x="59" y="1080"/>
                    </a:lnTo>
                    <a:lnTo>
                      <a:pt x="44" y="1079"/>
                    </a:lnTo>
                    <a:lnTo>
                      <a:pt x="18" y="1076"/>
                    </a:lnTo>
                    <a:lnTo>
                      <a:pt x="7" y="1074"/>
                    </a:lnTo>
                    <a:lnTo>
                      <a:pt x="0" y="1144"/>
                    </a:lnTo>
                    <a:lnTo>
                      <a:pt x="24" y="1204"/>
                    </a:lnTo>
                    <a:lnTo>
                      <a:pt x="74" y="1193"/>
                    </a:lnTo>
                    <a:lnTo>
                      <a:pt x="127" y="1174"/>
                    </a:lnTo>
                    <a:lnTo>
                      <a:pt x="157" y="1166"/>
                    </a:lnTo>
                    <a:lnTo>
                      <a:pt x="161" y="1132"/>
                    </a:lnTo>
                    <a:lnTo>
                      <a:pt x="184" y="1109"/>
                    </a:lnTo>
                    <a:lnTo>
                      <a:pt x="184" y="1059"/>
                    </a:lnTo>
                    <a:lnTo>
                      <a:pt x="188" y="1062"/>
                    </a:lnTo>
                    <a:lnTo>
                      <a:pt x="194" y="1067"/>
                    </a:lnTo>
                    <a:lnTo>
                      <a:pt x="202" y="1070"/>
                    </a:lnTo>
                    <a:lnTo>
                      <a:pt x="211" y="1073"/>
                    </a:lnTo>
                    <a:lnTo>
                      <a:pt x="223" y="1074"/>
                    </a:lnTo>
                    <a:lnTo>
                      <a:pt x="235" y="1074"/>
                    </a:lnTo>
                    <a:lnTo>
                      <a:pt x="249" y="1070"/>
                    </a:lnTo>
                    <a:lnTo>
                      <a:pt x="256" y="1068"/>
                    </a:lnTo>
                    <a:lnTo>
                      <a:pt x="262" y="1068"/>
                    </a:lnTo>
                    <a:lnTo>
                      <a:pt x="270" y="1068"/>
                    </a:lnTo>
                    <a:lnTo>
                      <a:pt x="276" y="1070"/>
                    </a:lnTo>
                    <a:lnTo>
                      <a:pt x="286" y="1076"/>
                    </a:lnTo>
                    <a:lnTo>
                      <a:pt x="295" y="1083"/>
                    </a:lnTo>
                    <a:lnTo>
                      <a:pt x="303" y="1092"/>
                    </a:lnTo>
                    <a:lnTo>
                      <a:pt x="309" y="1100"/>
                    </a:lnTo>
                    <a:lnTo>
                      <a:pt x="313" y="1109"/>
                    </a:lnTo>
                    <a:lnTo>
                      <a:pt x="345" y="1159"/>
                    </a:lnTo>
                    <a:lnTo>
                      <a:pt x="368" y="1159"/>
                    </a:lnTo>
                    <a:lnTo>
                      <a:pt x="375" y="1136"/>
                    </a:lnTo>
                    <a:lnTo>
                      <a:pt x="353" y="1102"/>
                    </a:lnTo>
                    <a:lnTo>
                      <a:pt x="337" y="1082"/>
                    </a:lnTo>
                    <a:lnTo>
                      <a:pt x="337" y="1062"/>
                    </a:lnTo>
                    <a:lnTo>
                      <a:pt x="348" y="1055"/>
                    </a:lnTo>
                    <a:lnTo>
                      <a:pt x="375" y="1094"/>
                    </a:lnTo>
                    <a:lnTo>
                      <a:pt x="405" y="1117"/>
                    </a:lnTo>
                    <a:lnTo>
                      <a:pt x="417" y="1151"/>
                    </a:lnTo>
                    <a:lnTo>
                      <a:pt x="425" y="1156"/>
                    </a:lnTo>
                    <a:lnTo>
                      <a:pt x="432" y="1160"/>
                    </a:lnTo>
                    <a:lnTo>
                      <a:pt x="441" y="1166"/>
                    </a:lnTo>
                    <a:lnTo>
                      <a:pt x="452" y="1168"/>
                    </a:lnTo>
                    <a:lnTo>
                      <a:pt x="455" y="1169"/>
                    </a:lnTo>
                    <a:lnTo>
                      <a:pt x="460" y="1168"/>
                    </a:lnTo>
                    <a:lnTo>
                      <a:pt x="463" y="1166"/>
                    </a:lnTo>
                    <a:lnTo>
                      <a:pt x="466" y="1165"/>
                    </a:lnTo>
                    <a:lnTo>
                      <a:pt x="467" y="1160"/>
                    </a:lnTo>
                    <a:lnTo>
                      <a:pt x="467" y="1154"/>
                    </a:lnTo>
                    <a:lnTo>
                      <a:pt x="467" y="1132"/>
                    </a:lnTo>
                    <a:lnTo>
                      <a:pt x="469" y="1117"/>
                    </a:lnTo>
                    <a:lnTo>
                      <a:pt x="470" y="1105"/>
                    </a:lnTo>
                    <a:lnTo>
                      <a:pt x="502" y="1117"/>
                    </a:lnTo>
                    <a:lnTo>
                      <a:pt x="524" y="1117"/>
                    </a:lnTo>
                    <a:lnTo>
                      <a:pt x="524" y="1082"/>
                    </a:lnTo>
                    <a:lnTo>
                      <a:pt x="524" y="1055"/>
                    </a:lnTo>
                    <a:lnTo>
                      <a:pt x="532" y="1025"/>
                    </a:lnTo>
                    <a:lnTo>
                      <a:pt x="586" y="1017"/>
                    </a:lnTo>
                    <a:lnTo>
                      <a:pt x="586" y="1023"/>
                    </a:lnTo>
                    <a:lnTo>
                      <a:pt x="588" y="1037"/>
                    </a:lnTo>
                    <a:lnTo>
                      <a:pt x="589" y="1043"/>
                    </a:lnTo>
                    <a:lnTo>
                      <a:pt x="591" y="1049"/>
                    </a:lnTo>
                    <a:lnTo>
                      <a:pt x="594" y="1053"/>
                    </a:lnTo>
                    <a:lnTo>
                      <a:pt x="597" y="1055"/>
                    </a:lnTo>
                    <a:lnTo>
                      <a:pt x="651" y="1055"/>
                    </a:lnTo>
                    <a:lnTo>
                      <a:pt x="628" y="1005"/>
                    </a:lnTo>
                    <a:lnTo>
                      <a:pt x="654" y="1005"/>
                    </a:lnTo>
                    <a:lnTo>
                      <a:pt x="686" y="1055"/>
                    </a:lnTo>
                    <a:lnTo>
                      <a:pt x="687" y="1062"/>
                    </a:lnTo>
                    <a:lnTo>
                      <a:pt x="687" y="1071"/>
                    </a:lnTo>
                    <a:lnTo>
                      <a:pt x="687" y="1080"/>
                    </a:lnTo>
                    <a:lnTo>
                      <a:pt x="684" y="1089"/>
                    </a:lnTo>
                    <a:lnTo>
                      <a:pt x="681" y="1094"/>
                    </a:lnTo>
                    <a:lnTo>
                      <a:pt x="677" y="1097"/>
                    </a:lnTo>
                    <a:lnTo>
                      <a:pt x="672" y="1100"/>
                    </a:lnTo>
                    <a:lnTo>
                      <a:pt x="666" y="1103"/>
                    </a:lnTo>
                    <a:lnTo>
                      <a:pt x="658" y="1105"/>
                    </a:lnTo>
                    <a:lnTo>
                      <a:pt x="651" y="1105"/>
                    </a:lnTo>
                    <a:lnTo>
                      <a:pt x="616" y="1106"/>
                    </a:lnTo>
                    <a:lnTo>
                      <a:pt x="591" y="1109"/>
                    </a:lnTo>
                    <a:lnTo>
                      <a:pt x="567" y="1112"/>
                    </a:lnTo>
                    <a:lnTo>
                      <a:pt x="532" y="1147"/>
                    </a:lnTo>
                    <a:lnTo>
                      <a:pt x="533" y="1156"/>
                    </a:lnTo>
                    <a:lnTo>
                      <a:pt x="536" y="1165"/>
                    </a:lnTo>
                    <a:lnTo>
                      <a:pt x="541" y="1175"/>
                    </a:lnTo>
                    <a:lnTo>
                      <a:pt x="548" y="1186"/>
                    </a:lnTo>
                    <a:lnTo>
                      <a:pt x="554" y="1190"/>
                    </a:lnTo>
                    <a:lnTo>
                      <a:pt x="560" y="1195"/>
                    </a:lnTo>
                    <a:lnTo>
                      <a:pt x="570" y="1199"/>
                    </a:lnTo>
                    <a:lnTo>
                      <a:pt x="579" y="1204"/>
                    </a:lnTo>
                    <a:lnTo>
                      <a:pt x="589" y="1205"/>
                    </a:lnTo>
                    <a:lnTo>
                      <a:pt x="601" y="1209"/>
                    </a:lnTo>
                    <a:lnTo>
                      <a:pt x="607" y="1209"/>
                    </a:lnTo>
                    <a:lnTo>
                      <a:pt x="613" y="1210"/>
                    </a:lnTo>
                    <a:lnTo>
                      <a:pt x="618" y="1213"/>
                    </a:lnTo>
                    <a:lnTo>
                      <a:pt x="621" y="1216"/>
                    </a:lnTo>
                    <a:lnTo>
                      <a:pt x="622" y="1221"/>
                    </a:lnTo>
                    <a:lnTo>
                      <a:pt x="622" y="1225"/>
                    </a:lnTo>
                    <a:lnTo>
                      <a:pt x="622" y="1230"/>
                    </a:lnTo>
                    <a:lnTo>
                      <a:pt x="621" y="1237"/>
                    </a:lnTo>
                    <a:lnTo>
                      <a:pt x="616" y="1245"/>
                    </a:lnTo>
                    <a:lnTo>
                      <a:pt x="612" y="1254"/>
                    </a:lnTo>
                    <a:lnTo>
                      <a:pt x="606" y="1264"/>
                    </a:lnTo>
                    <a:lnTo>
                      <a:pt x="606" y="1269"/>
                    </a:lnTo>
                    <a:lnTo>
                      <a:pt x="619" y="1257"/>
                    </a:lnTo>
                    <a:lnTo>
                      <a:pt x="633" y="1246"/>
                    </a:lnTo>
                    <a:lnTo>
                      <a:pt x="646" y="1240"/>
                    </a:lnTo>
                    <a:lnTo>
                      <a:pt x="652" y="1237"/>
                    </a:lnTo>
                    <a:lnTo>
                      <a:pt x="658" y="1237"/>
                    </a:lnTo>
                    <a:lnTo>
                      <a:pt x="675" y="1237"/>
                    </a:lnTo>
                    <a:lnTo>
                      <a:pt x="690" y="1234"/>
                    </a:lnTo>
                    <a:lnTo>
                      <a:pt x="717" y="1228"/>
                    </a:lnTo>
                    <a:lnTo>
                      <a:pt x="738" y="1222"/>
                    </a:lnTo>
                    <a:lnTo>
                      <a:pt x="750" y="1219"/>
                    </a:lnTo>
                    <a:lnTo>
                      <a:pt x="753" y="1218"/>
                    </a:lnTo>
                    <a:lnTo>
                      <a:pt x="756" y="1215"/>
                    </a:lnTo>
                    <a:lnTo>
                      <a:pt x="762" y="1205"/>
                    </a:lnTo>
                    <a:lnTo>
                      <a:pt x="770" y="1190"/>
                    </a:lnTo>
                    <a:lnTo>
                      <a:pt x="799" y="1207"/>
                    </a:lnTo>
                    <a:lnTo>
                      <a:pt x="821" y="1219"/>
                    </a:lnTo>
                    <a:lnTo>
                      <a:pt x="838" y="1227"/>
                    </a:lnTo>
                    <a:lnTo>
                      <a:pt x="845" y="1228"/>
                    </a:lnTo>
                    <a:lnTo>
                      <a:pt x="854" y="1225"/>
                    </a:lnTo>
                    <a:lnTo>
                      <a:pt x="878" y="1216"/>
                    </a:lnTo>
                    <a:lnTo>
                      <a:pt x="901" y="1207"/>
                    </a:lnTo>
                    <a:lnTo>
                      <a:pt x="909" y="1204"/>
                    </a:lnTo>
                    <a:lnTo>
                      <a:pt x="915" y="1202"/>
                    </a:lnTo>
                    <a:lnTo>
                      <a:pt x="919" y="1204"/>
                    </a:lnTo>
                    <a:lnTo>
                      <a:pt x="925" y="1210"/>
                    </a:lnTo>
                    <a:lnTo>
                      <a:pt x="943" y="1227"/>
                    </a:lnTo>
                    <a:lnTo>
                      <a:pt x="961" y="1245"/>
                    </a:lnTo>
                    <a:lnTo>
                      <a:pt x="967" y="1251"/>
                    </a:lnTo>
                    <a:lnTo>
                      <a:pt x="972" y="1254"/>
                    </a:lnTo>
                    <a:lnTo>
                      <a:pt x="976" y="1254"/>
                    </a:lnTo>
                    <a:lnTo>
                      <a:pt x="981" y="1252"/>
                    </a:lnTo>
                    <a:lnTo>
                      <a:pt x="994" y="1243"/>
                    </a:lnTo>
                    <a:lnTo>
                      <a:pt x="1002" y="1239"/>
                    </a:lnTo>
                    <a:lnTo>
                      <a:pt x="1010" y="1234"/>
                    </a:lnTo>
                    <a:lnTo>
                      <a:pt x="1019" y="1231"/>
                    </a:lnTo>
                    <a:lnTo>
                      <a:pt x="1028" y="1231"/>
                    </a:lnTo>
                    <a:lnTo>
                      <a:pt x="1073" y="1233"/>
                    </a:lnTo>
                    <a:lnTo>
                      <a:pt x="1109" y="1234"/>
                    </a:lnTo>
                    <a:lnTo>
                      <a:pt x="1117" y="1233"/>
                    </a:lnTo>
                    <a:lnTo>
                      <a:pt x="1124" y="1228"/>
                    </a:lnTo>
                    <a:lnTo>
                      <a:pt x="1142" y="1216"/>
                    </a:lnTo>
                    <a:lnTo>
                      <a:pt x="1165" y="1198"/>
                    </a:lnTo>
                    <a:lnTo>
                      <a:pt x="1202" y="1153"/>
                    </a:lnTo>
                    <a:lnTo>
                      <a:pt x="1230" y="1121"/>
                    </a:lnTo>
                    <a:lnTo>
                      <a:pt x="1248" y="1099"/>
                    </a:lnTo>
                    <a:lnTo>
                      <a:pt x="1252" y="1089"/>
                    </a:lnTo>
                    <a:lnTo>
                      <a:pt x="1254" y="1086"/>
                    </a:lnTo>
                    <a:lnTo>
                      <a:pt x="1254" y="1085"/>
                    </a:lnTo>
                    <a:lnTo>
                      <a:pt x="1254" y="1083"/>
                    </a:lnTo>
                    <a:lnTo>
                      <a:pt x="1255" y="1080"/>
                    </a:lnTo>
                    <a:lnTo>
                      <a:pt x="1260" y="1073"/>
                    </a:lnTo>
                    <a:lnTo>
                      <a:pt x="1276" y="1055"/>
                    </a:lnTo>
                    <a:lnTo>
                      <a:pt x="1305" y="1025"/>
                    </a:lnTo>
                    <a:lnTo>
                      <a:pt x="1318" y="1016"/>
                    </a:lnTo>
                    <a:lnTo>
                      <a:pt x="1344" y="999"/>
                    </a:lnTo>
                    <a:lnTo>
                      <a:pt x="1370" y="984"/>
                    </a:lnTo>
                    <a:lnTo>
                      <a:pt x="1380" y="979"/>
                    </a:lnTo>
                    <a:lnTo>
                      <a:pt x="1386" y="979"/>
                    </a:lnTo>
                    <a:lnTo>
                      <a:pt x="1419" y="989"/>
                    </a:lnTo>
                    <a:lnTo>
                      <a:pt x="1447" y="998"/>
                    </a:lnTo>
                    <a:lnTo>
                      <a:pt x="1447" y="958"/>
                    </a:lnTo>
                    <a:lnTo>
                      <a:pt x="1451" y="958"/>
                    </a:lnTo>
                    <a:lnTo>
                      <a:pt x="1466" y="957"/>
                    </a:lnTo>
                    <a:lnTo>
                      <a:pt x="1475" y="958"/>
                    </a:lnTo>
                    <a:lnTo>
                      <a:pt x="1484" y="961"/>
                    </a:lnTo>
                    <a:lnTo>
                      <a:pt x="1495" y="966"/>
                    </a:lnTo>
                    <a:lnTo>
                      <a:pt x="1504" y="972"/>
                    </a:lnTo>
                    <a:lnTo>
                      <a:pt x="1513" y="979"/>
                    </a:lnTo>
                    <a:lnTo>
                      <a:pt x="1522" y="985"/>
                    </a:lnTo>
                    <a:lnTo>
                      <a:pt x="1537" y="993"/>
                    </a:lnTo>
                    <a:lnTo>
                      <a:pt x="1551" y="998"/>
                    </a:lnTo>
                    <a:lnTo>
                      <a:pt x="1560" y="999"/>
                    </a:lnTo>
                    <a:lnTo>
                      <a:pt x="1587" y="999"/>
                    </a:lnTo>
                    <a:lnTo>
                      <a:pt x="1632" y="999"/>
                    </a:lnTo>
                    <a:lnTo>
                      <a:pt x="1680" y="998"/>
                    </a:lnTo>
                    <a:lnTo>
                      <a:pt x="1697" y="998"/>
                    </a:lnTo>
                    <a:lnTo>
                      <a:pt x="1707" y="996"/>
                    </a:lnTo>
                    <a:lnTo>
                      <a:pt x="1715" y="992"/>
                    </a:lnTo>
                    <a:lnTo>
                      <a:pt x="1722" y="982"/>
                    </a:lnTo>
                    <a:lnTo>
                      <a:pt x="1740" y="958"/>
                    </a:lnTo>
                    <a:lnTo>
                      <a:pt x="1755" y="936"/>
                    </a:lnTo>
                    <a:lnTo>
                      <a:pt x="1761" y="925"/>
                    </a:lnTo>
                    <a:lnTo>
                      <a:pt x="1799" y="919"/>
                    </a:lnTo>
                    <a:lnTo>
                      <a:pt x="1801" y="924"/>
                    </a:lnTo>
                    <a:lnTo>
                      <a:pt x="1807" y="937"/>
                    </a:lnTo>
                    <a:lnTo>
                      <a:pt x="1813" y="957"/>
                    </a:lnTo>
                    <a:lnTo>
                      <a:pt x="1816" y="967"/>
                    </a:lnTo>
                    <a:lnTo>
                      <a:pt x="1817" y="979"/>
                    </a:lnTo>
                    <a:lnTo>
                      <a:pt x="1819" y="989"/>
                    </a:lnTo>
                    <a:lnTo>
                      <a:pt x="1825" y="998"/>
                    </a:lnTo>
                    <a:lnTo>
                      <a:pt x="1831" y="1004"/>
                    </a:lnTo>
                    <a:lnTo>
                      <a:pt x="1838" y="1010"/>
                    </a:lnTo>
                    <a:lnTo>
                      <a:pt x="1846" y="1013"/>
                    </a:lnTo>
                    <a:lnTo>
                      <a:pt x="1852" y="1016"/>
                    </a:lnTo>
                    <a:lnTo>
                      <a:pt x="1858" y="1017"/>
                    </a:lnTo>
                    <a:lnTo>
                      <a:pt x="1861" y="1037"/>
                    </a:lnTo>
                    <a:lnTo>
                      <a:pt x="1862" y="1052"/>
                    </a:lnTo>
                    <a:lnTo>
                      <a:pt x="1864" y="1062"/>
                    </a:lnTo>
                    <a:lnTo>
                      <a:pt x="1864" y="1064"/>
                    </a:lnTo>
                    <a:lnTo>
                      <a:pt x="1867" y="1062"/>
                    </a:lnTo>
                    <a:lnTo>
                      <a:pt x="1877" y="1058"/>
                    </a:lnTo>
                    <a:lnTo>
                      <a:pt x="1893" y="1049"/>
                    </a:lnTo>
                    <a:lnTo>
                      <a:pt x="1888" y="1061"/>
                    </a:lnTo>
                    <a:lnTo>
                      <a:pt x="1874" y="1092"/>
                    </a:lnTo>
                    <a:lnTo>
                      <a:pt x="1862" y="1127"/>
                    </a:lnTo>
                    <a:lnTo>
                      <a:pt x="1859" y="1142"/>
                    </a:lnTo>
                    <a:lnTo>
                      <a:pt x="1858" y="1153"/>
                    </a:lnTo>
                    <a:lnTo>
                      <a:pt x="1859" y="1157"/>
                    </a:lnTo>
                    <a:lnTo>
                      <a:pt x="1862" y="1162"/>
                    </a:lnTo>
                    <a:lnTo>
                      <a:pt x="1867" y="1165"/>
                    </a:lnTo>
                    <a:lnTo>
                      <a:pt x="1871" y="1168"/>
                    </a:lnTo>
                    <a:lnTo>
                      <a:pt x="1884" y="1172"/>
                    </a:lnTo>
                    <a:lnTo>
                      <a:pt x="1897" y="1174"/>
                    </a:lnTo>
                    <a:lnTo>
                      <a:pt x="1897" y="1159"/>
                    </a:lnTo>
                    <a:lnTo>
                      <a:pt x="1874" y="1127"/>
                    </a:lnTo>
                    <a:lnTo>
                      <a:pt x="1897" y="1102"/>
                    </a:lnTo>
                    <a:lnTo>
                      <a:pt x="1905" y="1074"/>
                    </a:lnTo>
                    <a:lnTo>
                      <a:pt x="1959" y="1067"/>
                    </a:lnTo>
                    <a:lnTo>
                      <a:pt x="1968" y="1058"/>
                    </a:lnTo>
                    <a:lnTo>
                      <a:pt x="1991" y="1037"/>
                    </a:lnTo>
                    <a:lnTo>
                      <a:pt x="2003" y="1023"/>
                    </a:lnTo>
                    <a:lnTo>
                      <a:pt x="2013" y="1010"/>
                    </a:lnTo>
                    <a:lnTo>
                      <a:pt x="2022" y="998"/>
                    </a:lnTo>
                    <a:lnTo>
                      <a:pt x="2028" y="987"/>
                    </a:lnTo>
                    <a:lnTo>
                      <a:pt x="2036" y="951"/>
                    </a:lnTo>
                    <a:lnTo>
                      <a:pt x="2042" y="927"/>
                    </a:lnTo>
                    <a:lnTo>
                      <a:pt x="2045" y="900"/>
                    </a:lnTo>
                    <a:lnTo>
                      <a:pt x="2048" y="874"/>
                    </a:lnTo>
                    <a:lnTo>
                      <a:pt x="2048" y="863"/>
                    </a:lnTo>
                    <a:lnTo>
                      <a:pt x="2046" y="853"/>
                    </a:lnTo>
                    <a:lnTo>
                      <a:pt x="2045" y="845"/>
                    </a:lnTo>
                    <a:lnTo>
                      <a:pt x="2042" y="839"/>
                    </a:lnTo>
                    <a:lnTo>
                      <a:pt x="2037" y="835"/>
                    </a:lnTo>
                    <a:lnTo>
                      <a:pt x="2031" y="833"/>
                    </a:lnTo>
                    <a:lnTo>
                      <a:pt x="2021" y="833"/>
                    </a:lnTo>
                    <a:lnTo>
                      <a:pt x="2015" y="832"/>
                    </a:lnTo>
                    <a:lnTo>
                      <a:pt x="2013" y="830"/>
                    </a:lnTo>
                    <a:lnTo>
                      <a:pt x="2013" y="829"/>
                    </a:lnTo>
                    <a:lnTo>
                      <a:pt x="2018" y="827"/>
                    </a:lnTo>
                    <a:lnTo>
                      <a:pt x="2021" y="826"/>
                    </a:lnTo>
                    <a:lnTo>
                      <a:pt x="1997" y="833"/>
                    </a:lnTo>
                    <a:lnTo>
                      <a:pt x="2009" y="799"/>
                    </a:lnTo>
                    <a:lnTo>
                      <a:pt x="2043" y="761"/>
                    </a:lnTo>
                    <a:lnTo>
                      <a:pt x="2073" y="699"/>
                    </a:lnTo>
                    <a:lnTo>
                      <a:pt x="2165" y="704"/>
                    </a:lnTo>
                    <a:lnTo>
                      <a:pt x="2223" y="722"/>
                    </a:lnTo>
                    <a:lnTo>
                      <a:pt x="2269" y="707"/>
                    </a:lnTo>
                    <a:lnTo>
                      <a:pt x="2295" y="662"/>
                    </a:lnTo>
                    <a:lnTo>
                      <a:pt x="2342" y="654"/>
                    </a:lnTo>
                    <a:lnTo>
                      <a:pt x="2331" y="668"/>
                    </a:lnTo>
                    <a:lnTo>
                      <a:pt x="2319" y="684"/>
                    </a:lnTo>
                    <a:lnTo>
                      <a:pt x="2307" y="707"/>
                    </a:lnTo>
                    <a:lnTo>
                      <a:pt x="2295" y="737"/>
                    </a:lnTo>
                    <a:lnTo>
                      <a:pt x="2289" y="753"/>
                    </a:lnTo>
                    <a:lnTo>
                      <a:pt x="2283" y="773"/>
                    </a:lnTo>
                    <a:lnTo>
                      <a:pt x="2278" y="793"/>
                    </a:lnTo>
                    <a:lnTo>
                      <a:pt x="2275" y="815"/>
                    </a:lnTo>
                    <a:lnTo>
                      <a:pt x="2274" y="839"/>
                    </a:lnTo>
                    <a:lnTo>
                      <a:pt x="2272" y="863"/>
                    </a:lnTo>
                    <a:lnTo>
                      <a:pt x="2284" y="910"/>
                    </a:lnTo>
                    <a:lnTo>
                      <a:pt x="2334" y="833"/>
                    </a:lnTo>
                    <a:lnTo>
                      <a:pt x="2340" y="826"/>
                    </a:lnTo>
                    <a:lnTo>
                      <a:pt x="2352" y="811"/>
                    </a:lnTo>
                    <a:lnTo>
                      <a:pt x="2358" y="800"/>
                    </a:lnTo>
                    <a:lnTo>
                      <a:pt x="2363" y="791"/>
                    </a:lnTo>
                    <a:lnTo>
                      <a:pt x="2366" y="782"/>
                    </a:lnTo>
                    <a:lnTo>
                      <a:pt x="2366" y="779"/>
                    </a:lnTo>
                    <a:lnTo>
                      <a:pt x="2364" y="776"/>
                    </a:lnTo>
                    <a:lnTo>
                      <a:pt x="2349" y="743"/>
                    </a:lnTo>
                    <a:lnTo>
                      <a:pt x="2342" y="722"/>
                    </a:lnTo>
                    <a:lnTo>
                      <a:pt x="2346" y="716"/>
                    </a:lnTo>
                    <a:lnTo>
                      <a:pt x="2357" y="701"/>
                    </a:lnTo>
                    <a:lnTo>
                      <a:pt x="2372" y="684"/>
                    </a:lnTo>
                    <a:lnTo>
                      <a:pt x="2379" y="677"/>
                    </a:lnTo>
                    <a:lnTo>
                      <a:pt x="2387" y="672"/>
                    </a:lnTo>
                    <a:lnTo>
                      <a:pt x="2449" y="665"/>
                    </a:lnTo>
                    <a:lnTo>
                      <a:pt x="2459" y="662"/>
                    </a:lnTo>
                    <a:lnTo>
                      <a:pt x="2485" y="654"/>
                    </a:lnTo>
                    <a:lnTo>
                      <a:pt x="2518" y="642"/>
                    </a:lnTo>
                    <a:lnTo>
                      <a:pt x="2533" y="634"/>
                    </a:lnTo>
                    <a:lnTo>
                      <a:pt x="2548" y="627"/>
                    </a:lnTo>
                    <a:lnTo>
                      <a:pt x="2560" y="618"/>
                    </a:lnTo>
                    <a:lnTo>
                      <a:pt x="2571" y="607"/>
                    </a:lnTo>
                    <a:lnTo>
                      <a:pt x="2580" y="595"/>
                    </a:lnTo>
                    <a:lnTo>
                      <a:pt x="2586" y="583"/>
                    </a:lnTo>
                    <a:lnTo>
                      <a:pt x="2587" y="573"/>
                    </a:lnTo>
                    <a:lnTo>
                      <a:pt x="2587" y="567"/>
                    </a:lnTo>
                    <a:lnTo>
                      <a:pt x="2587" y="562"/>
                    </a:lnTo>
                    <a:lnTo>
                      <a:pt x="2584" y="558"/>
                    </a:lnTo>
                    <a:lnTo>
                      <a:pt x="2581" y="553"/>
                    </a:lnTo>
                    <a:lnTo>
                      <a:pt x="2577" y="550"/>
                    </a:lnTo>
                    <a:lnTo>
                      <a:pt x="2571" y="547"/>
                    </a:lnTo>
                    <a:lnTo>
                      <a:pt x="2580" y="544"/>
                    </a:lnTo>
                    <a:lnTo>
                      <a:pt x="2598" y="535"/>
                    </a:lnTo>
                    <a:lnTo>
                      <a:pt x="2608" y="529"/>
                    </a:lnTo>
                    <a:lnTo>
                      <a:pt x="2617" y="523"/>
                    </a:lnTo>
                    <a:lnTo>
                      <a:pt x="2625" y="514"/>
                    </a:lnTo>
                    <a:lnTo>
                      <a:pt x="2626" y="509"/>
                    </a:lnTo>
                    <a:lnTo>
                      <a:pt x="2628" y="505"/>
                    </a:lnTo>
                    <a:lnTo>
                      <a:pt x="2629" y="500"/>
                    </a:lnTo>
                    <a:lnTo>
                      <a:pt x="2629" y="499"/>
                    </a:lnTo>
                    <a:lnTo>
                      <a:pt x="2631" y="499"/>
                    </a:lnTo>
                    <a:lnTo>
                      <a:pt x="2634" y="499"/>
                    </a:lnTo>
                    <a:lnTo>
                      <a:pt x="2644" y="514"/>
                    </a:lnTo>
                    <a:lnTo>
                      <a:pt x="2654" y="523"/>
                    </a:lnTo>
                    <a:lnTo>
                      <a:pt x="2658" y="526"/>
                    </a:lnTo>
                    <a:lnTo>
                      <a:pt x="2664" y="529"/>
                    </a:lnTo>
                    <a:lnTo>
                      <a:pt x="2670" y="532"/>
                    </a:lnTo>
                    <a:lnTo>
                      <a:pt x="2678" y="533"/>
                    </a:lnTo>
                    <a:lnTo>
                      <a:pt x="2685" y="533"/>
                    </a:lnTo>
                    <a:lnTo>
                      <a:pt x="2693" y="530"/>
                    </a:lnTo>
                    <a:lnTo>
                      <a:pt x="2706" y="526"/>
                    </a:lnTo>
                    <a:lnTo>
                      <a:pt x="2714" y="520"/>
                    </a:lnTo>
                    <a:lnTo>
                      <a:pt x="2717" y="517"/>
                    </a:lnTo>
                    <a:lnTo>
                      <a:pt x="2717" y="515"/>
                    </a:lnTo>
                    <a:lnTo>
                      <a:pt x="2717" y="509"/>
                    </a:lnTo>
                    <a:lnTo>
                      <a:pt x="2714" y="506"/>
                    </a:lnTo>
                    <a:lnTo>
                      <a:pt x="2709" y="503"/>
                    </a:lnTo>
                    <a:lnTo>
                      <a:pt x="2705" y="5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1" name="Freeform 111"/>
              <p:cNvSpPr/>
              <p:nvPr/>
            </p:nvSpPr>
            <p:spPr>
              <a:xfrm>
                <a:off x="4073400" y="1539720"/>
                <a:ext cx="4324320" cy="2014560"/>
              </a:xfrm>
              <a:custGeom>
                <a:avLst/>
                <a:gdLst>
                  <a:gd name="textAreaLeft" fmla="*/ 0 w 4324320"/>
                  <a:gd name="textAreaRight" fmla="*/ 4324680 w 4324320"/>
                  <a:gd name="textAreaTop" fmla="*/ 0 h 2014560"/>
                  <a:gd name="textAreaBottom" fmla="*/ 2014560 h 2014560"/>
                </a:gdLst>
                <a:ahLst/>
                <a:rect l="textAreaLeft" t="textAreaTop" r="textAreaRight" b="textAreaBottom"/>
                <a:pathLst>
                  <a:path w="2724" h="1269">
                    <a:moveTo>
                      <a:pt x="2705" y="500"/>
                    </a:moveTo>
                    <a:lnTo>
                      <a:pt x="2705" y="500"/>
                    </a:lnTo>
                    <a:lnTo>
                      <a:pt x="2711" y="494"/>
                    </a:lnTo>
                    <a:lnTo>
                      <a:pt x="2715" y="488"/>
                    </a:lnTo>
                    <a:lnTo>
                      <a:pt x="2721" y="481"/>
                    </a:lnTo>
                    <a:lnTo>
                      <a:pt x="2724" y="475"/>
                    </a:lnTo>
                    <a:lnTo>
                      <a:pt x="2724" y="472"/>
                    </a:lnTo>
                    <a:lnTo>
                      <a:pt x="2724" y="469"/>
                    </a:lnTo>
                    <a:lnTo>
                      <a:pt x="2723" y="466"/>
                    </a:lnTo>
                    <a:lnTo>
                      <a:pt x="2720" y="464"/>
                    </a:lnTo>
                    <a:lnTo>
                      <a:pt x="2715" y="463"/>
                    </a:lnTo>
                    <a:lnTo>
                      <a:pt x="2708" y="463"/>
                    </a:lnTo>
                    <a:lnTo>
                      <a:pt x="2684" y="461"/>
                    </a:lnTo>
                    <a:lnTo>
                      <a:pt x="2675" y="460"/>
                    </a:lnTo>
                    <a:lnTo>
                      <a:pt x="2667" y="458"/>
                    </a:lnTo>
                    <a:lnTo>
                      <a:pt x="2663" y="455"/>
                    </a:lnTo>
                    <a:lnTo>
                      <a:pt x="2660" y="451"/>
                    </a:lnTo>
                    <a:lnTo>
                      <a:pt x="2658" y="446"/>
                    </a:lnTo>
                    <a:lnTo>
                      <a:pt x="2658" y="440"/>
                    </a:lnTo>
                    <a:lnTo>
                      <a:pt x="2660" y="436"/>
                    </a:lnTo>
                    <a:lnTo>
                      <a:pt x="2658" y="434"/>
                    </a:lnTo>
                    <a:lnTo>
                      <a:pt x="2655" y="429"/>
                    </a:lnTo>
                    <a:lnTo>
                      <a:pt x="2649" y="428"/>
                    </a:lnTo>
                    <a:lnTo>
                      <a:pt x="2641" y="428"/>
                    </a:lnTo>
                    <a:lnTo>
                      <a:pt x="2626" y="429"/>
                    </a:lnTo>
                    <a:lnTo>
                      <a:pt x="2620" y="431"/>
                    </a:lnTo>
                    <a:lnTo>
                      <a:pt x="2571" y="366"/>
                    </a:lnTo>
                    <a:lnTo>
                      <a:pt x="2554" y="363"/>
                    </a:lnTo>
                    <a:lnTo>
                      <a:pt x="2538" y="360"/>
                    </a:lnTo>
                    <a:lnTo>
                      <a:pt x="2519" y="357"/>
                    </a:lnTo>
                    <a:lnTo>
                      <a:pt x="2500" y="356"/>
                    </a:lnTo>
                    <a:lnTo>
                      <a:pt x="2483" y="357"/>
                    </a:lnTo>
                    <a:lnTo>
                      <a:pt x="2477" y="359"/>
                    </a:lnTo>
                    <a:lnTo>
                      <a:pt x="2471" y="362"/>
                    </a:lnTo>
                    <a:lnTo>
                      <a:pt x="2468" y="365"/>
                    </a:lnTo>
                    <a:lnTo>
                      <a:pt x="2468" y="371"/>
                    </a:lnTo>
                    <a:lnTo>
                      <a:pt x="2468" y="380"/>
                    </a:lnTo>
                    <a:lnTo>
                      <a:pt x="2471" y="387"/>
                    </a:lnTo>
                    <a:lnTo>
                      <a:pt x="2474" y="392"/>
                    </a:lnTo>
                    <a:lnTo>
                      <a:pt x="2476" y="395"/>
                    </a:lnTo>
                    <a:lnTo>
                      <a:pt x="2477" y="396"/>
                    </a:lnTo>
                    <a:lnTo>
                      <a:pt x="2477" y="398"/>
                    </a:lnTo>
                    <a:lnTo>
                      <a:pt x="2468" y="401"/>
                    </a:lnTo>
                    <a:lnTo>
                      <a:pt x="2459" y="402"/>
                    </a:lnTo>
                    <a:lnTo>
                      <a:pt x="2452" y="401"/>
                    </a:lnTo>
                    <a:lnTo>
                      <a:pt x="2446" y="398"/>
                    </a:lnTo>
                    <a:lnTo>
                      <a:pt x="2438" y="395"/>
                    </a:lnTo>
                    <a:lnTo>
                      <a:pt x="2431" y="390"/>
                    </a:lnTo>
                    <a:lnTo>
                      <a:pt x="2423" y="386"/>
                    </a:lnTo>
                    <a:lnTo>
                      <a:pt x="2412" y="383"/>
                    </a:lnTo>
                    <a:lnTo>
                      <a:pt x="2402" y="381"/>
                    </a:lnTo>
                    <a:lnTo>
                      <a:pt x="2378" y="381"/>
                    </a:lnTo>
                    <a:lnTo>
                      <a:pt x="2355" y="380"/>
                    </a:lnTo>
                    <a:lnTo>
                      <a:pt x="2330" y="378"/>
                    </a:lnTo>
                    <a:lnTo>
                      <a:pt x="2331" y="369"/>
                    </a:lnTo>
                    <a:lnTo>
                      <a:pt x="2331" y="351"/>
                    </a:lnTo>
                    <a:lnTo>
                      <a:pt x="2331" y="342"/>
                    </a:lnTo>
                    <a:lnTo>
                      <a:pt x="2328" y="333"/>
                    </a:lnTo>
                    <a:lnTo>
                      <a:pt x="2324" y="327"/>
                    </a:lnTo>
                    <a:lnTo>
                      <a:pt x="2322" y="326"/>
                    </a:lnTo>
                    <a:lnTo>
                      <a:pt x="2319" y="324"/>
                    </a:lnTo>
                    <a:lnTo>
                      <a:pt x="2238" y="324"/>
                    </a:lnTo>
                    <a:lnTo>
                      <a:pt x="2191" y="322"/>
                    </a:lnTo>
                    <a:lnTo>
                      <a:pt x="2165" y="321"/>
                    </a:lnTo>
                    <a:lnTo>
                      <a:pt x="2150" y="282"/>
                    </a:lnTo>
                    <a:lnTo>
                      <a:pt x="2120" y="264"/>
                    </a:lnTo>
                    <a:lnTo>
                      <a:pt x="2078" y="252"/>
                    </a:lnTo>
                    <a:lnTo>
                      <a:pt x="2072" y="250"/>
                    </a:lnTo>
                    <a:lnTo>
                      <a:pt x="2060" y="247"/>
                    </a:lnTo>
                    <a:lnTo>
                      <a:pt x="2052" y="246"/>
                    </a:lnTo>
                    <a:lnTo>
                      <a:pt x="2046" y="247"/>
                    </a:lnTo>
                    <a:lnTo>
                      <a:pt x="2042" y="250"/>
                    </a:lnTo>
                    <a:lnTo>
                      <a:pt x="2040" y="253"/>
                    </a:lnTo>
                    <a:lnTo>
                      <a:pt x="2039" y="256"/>
                    </a:lnTo>
                    <a:lnTo>
                      <a:pt x="2034" y="279"/>
                    </a:lnTo>
                    <a:lnTo>
                      <a:pt x="2031" y="286"/>
                    </a:lnTo>
                    <a:lnTo>
                      <a:pt x="2016" y="298"/>
                    </a:lnTo>
                    <a:lnTo>
                      <a:pt x="1986" y="298"/>
                    </a:lnTo>
                    <a:lnTo>
                      <a:pt x="1972" y="297"/>
                    </a:lnTo>
                    <a:lnTo>
                      <a:pt x="1965" y="295"/>
                    </a:lnTo>
                    <a:lnTo>
                      <a:pt x="1957" y="294"/>
                    </a:lnTo>
                    <a:lnTo>
                      <a:pt x="1947" y="298"/>
                    </a:lnTo>
                    <a:lnTo>
                      <a:pt x="1933" y="303"/>
                    </a:lnTo>
                    <a:lnTo>
                      <a:pt x="1921" y="304"/>
                    </a:lnTo>
                    <a:lnTo>
                      <a:pt x="1909" y="306"/>
                    </a:lnTo>
                    <a:lnTo>
                      <a:pt x="1897" y="264"/>
                    </a:lnTo>
                    <a:lnTo>
                      <a:pt x="1879" y="217"/>
                    </a:lnTo>
                    <a:lnTo>
                      <a:pt x="1887" y="187"/>
                    </a:lnTo>
                    <a:lnTo>
                      <a:pt x="1810" y="187"/>
                    </a:lnTo>
                    <a:lnTo>
                      <a:pt x="1802" y="209"/>
                    </a:lnTo>
                    <a:lnTo>
                      <a:pt x="1810" y="229"/>
                    </a:lnTo>
                    <a:lnTo>
                      <a:pt x="1810" y="249"/>
                    </a:lnTo>
                    <a:lnTo>
                      <a:pt x="1781" y="235"/>
                    </a:lnTo>
                    <a:lnTo>
                      <a:pt x="1740" y="217"/>
                    </a:lnTo>
                    <a:lnTo>
                      <a:pt x="1724" y="211"/>
                    </a:lnTo>
                    <a:lnTo>
                      <a:pt x="1701" y="203"/>
                    </a:lnTo>
                    <a:lnTo>
                      <a:pt x="1673" y="194"/>
                    </a:lnTo>
                    <a:lnTo>
                      <a:pt x="1673" y="175"/>
                    </a:lnTo>
                    <a:lnTo>
                      <a:pt x="1653" y="179"/>
                    </a:lnTo>
                    <a:lnTo>
                      <a:pt x="1611" y="209"/>
                    </a:lnTo>
                    <a:lnTo>
                      <a:pt x="1645" y="152"/>
                    </a:lnTo>
                    <a:lnTo>
                      <a:pt x="1673" y="115"/>
                    </a:lnTo>
                    <a:lnTo>
                      <a:pt x="1674" y="107"/>
                    </a:lnTo>
                    <a:lnTo>
                      <a:pt x="1676" y="89"/>
                    </a:lnTo>
                    <a:lnTo>
                      <a:pt x="1677" y="80"/>
                    </a:lnTo>
                    <a:lnTo>
                      <a:pt x="1677" y="71"/>
                    </a:lnTo>
                    <a:lnTo>
                      <a:pt x="1676" y="63"/>
                    </a:lnTo>
                    <a:lnTo>
                      <a:pt x="1674" y="62"/>
                    </a:lnTo>
                    <a:lnTo>
                      <a:pt x="1673" y="60"/>
                    </a:lnTo>
                    <a:lnTo>
                      <a:pt x="1661" y="56"/>
                    </a:lnTo>
                    <a:lnTo>
                      <a:pt x="1648" y="48"/>
                    </a:lnTo>
                    <a:lnTo>
                      <a:pt x="1633" y="38"/>
                    </a:lnTo>
                    <a:lnTo>
                      <a:pt x="1596" y="60"/>
                    </a:lnTo>
                    <a:lnTo>
                      <a:pt x="1576" y="23"/>
                    </a:lnTo>
                    <a:lnTo>
                      <a:pt x="1576" y="0"/>
                    </a:lnTo>
                    <a:lnTo>
                      <a:pt x="1534" y="0"/>
                    </a:lnTo>
                    <a:lnTo>
                      <a:pt x="1514" y="45"/>
                    </a:lnTo>
                    <a:lnTo>
                      <a:pt x="1484" y="92"/>
                    </a:lnTo>
                    <a:lnTo>
                      <a:pt x="1377" y="83"/>
                    </a:lnTo>
                    <a:lnTo>
                      <a:pt x="1290" y="172"/>
                    </a:lnTo>
                    <a:lnTo>
                      <a:pt x="1285" y="214"/>
                    </a:lnTo>
                    <a:lnTo>
                      <a:pt x="1236" y="217"/>
                    </a:lnTo>
                    <a:lnTo>
                      <a:pt x="1234" y="223"/>
                    </a:lnTo>
                    <a:lnTo>
                      <a:pt x="1233" y="237"/>
                    </a:lnTo>
                    <a:lnTo>
                      <a:pt x="1231" y="246"/>
                    </a:lnTo>
                    <a:lnTo>
                      <a:pt x="1233" y="255"/>
                    </a:lnTo>
                    <a:lnTo>
                      <a:pt x="1236" y="264"/>
                    </a:lnTo>
                    <a:lnTo>
                      <a:pt x="1240" y="271"/>
                    </a:lnTo>
                    <a:lnTo>
                      <a:pt x="1252" y="285"/>
                    </a:lnTo>
                    <a:lnTo>
                      <a:pt x="1263" y="295"/>
                    </a:lnTo>
                    <a:lnTo>
                      <a:pt x="1270" y="306"/>
                    </a:lnTo>
                    <a:lnTo>
                      <a:pt x="1273" y="312"/>
                    </a:lnTo>
                    <a:lnTo>
                      <a:pt x="1275" y="316"/>
                    </a:lnTo>
                    <a:lnTo>
                      <a:pt x="1273" y="319"/>
                    </a:lnTo>
                    <a:lnTo>
                      <a:pt x="1272" y="319"/>
                    </a:lnTo>
                    <a:lnTo>
                      <a:pt x="1264" y="318"/>
                    </a:lnTo>
                    <a:lnTo>
                      <a:pt x="1254" y="313"/>
                    </a:lnTo>
                    <a:lnTo>
                      <a:pt x="1242" y="307"/>
                    </a:lnTo>
                    <a:lnTo>
                      <a:pt x="1219" y="294"/>
                    </a:lnTo>
                    <a:lnTo>
                      <a:pt x="1208" y="286"/>
                    </a:lnTo>
                    <a:lnTo>
                      <a:pt x="1171" y="279"/>
                    </a:lnTo>
                    <a:lnTo>
                      <a:pt x="1171" y="363"/>
                    </a:lnTo>
                    <a:lnTo>
                      <a:pt x="1169" y="368"/>
                    </a:lnTo>
                    <a:lnTo>
                      <a:pt x="1168" y="372"/>
                    </a:lnTo>
                    <a:lnTo>
                      <a:pt x="1165" y="378"/>
                    </a:lnTo>
                    <a:lnTo>
                      <a:pt x="1163" y="384"/>
                    </a:lnTo>
                    <a:lnTo>
                      <a:pt x="1165" y="390"/>
                    </a:lnTo>
                    <a:lnTo>
                      <a:pt x="1169" y="396"/>
                    </a:lnTo>
                    <a:lnTo>
                      <a:pt x="1178" y="402"/>
                    </a:lnTo>
                    <a:lnTo>
                      <a:pt x="1193" y="408"/>
                    </a:lnTo>
                    <a:lnTo>
                      <a:pt x="1186" y="431"/>
                    </a:lnTo>
                    <a:lnTo>
                      <a:pt x="1166" y="443"/>
                    </a:lnTo>
                    <a:lnTo>
                      <a:pt x="1160" y="448"/>
                    </a:lnTo>
                    <a:lnTo>
                      <a:pt x="1145" y="461"/>
                    </a:lnTo>
                    <a:lnTo>
                      <a:pt x="1138" y="470"/>
                    </a:lnTo>
                    <a:lnTo>
                      <a:pt x="1130" y="479"/>
                    </a:lnTo>
                    <a:lnTo>
                      <a:pt x="1124" y="488"/>
                    </a:lnTo>
                    <a:lnTo>
                      <a:pt x="1121" y="497"/>
                    </a:lnTo>
                    <a:lnTo>
                      <a:pt x="1124" y="482"/>
                    </a:lnTo>
                    <a:lnTo>
                      <a:pt x="1127" y="451"/>
                    </a:lnTo>
                    <a:lnTo>
                      <a:pt x="1129" y="432"/>
                    </a:lnTo>
                    <a:lnTo>
                      <a:pt x="1127" y="414"/>
                    </a:lnTo>
                    <a:lnTo>
                      <a:pt x="1126" y="407"/>
                    </a:lnTo>
                    <a:lnTo>
                      <a:pt x="1124" y="399"/>
                    </a:lnTo>
                    <a:lnTo>
                      <a:pt x="1121" y="393"/>
                    </a:lnTo>
                    <a:lnTo>
                      <a:pt x="1117" y="390"/>
                    </a:lnTo>
                    <a:lnTo>
                      <a:pt x="1110" y="383"/>
                    </a:lnTo>
                    <a:lnTo>
                      <a:pt x="1110" y="380"/>
                    </a:lnTo>
                    <a:lnTo>
                      <a:pt x="1109" y="377"/>
                    </a:lnTo>
                    <a:lnTo>
                      <a:pt x="1110" y="371"/>
                    </a:lnTo>
                    <a:lnTo>
                      <a:pt x="1115" y="365"/>
                    </a:lnTo>
                    <a:lnTo>
                      <a:pt x="1120" y="362"/>
                    </a:lnTo>
                    <a:lnTo>
                      <a:pt x="1124" y="357"/>
                    </a:lnTo>
                    <a:lnTo>
                      <a:pt x="1129" y="356"/>
                    </a:lnTo>
                    <a:lnTo>
                      <a:pt x="1114" y="274"/>
                    </a:lnTo>
                    <a:lnTo>
                      <a:pt x="1100" y="280"/>
                    </a:lnTo>
                    <a:lnTo>
                      <a:pt x="1086" y="286"/>
                    </a:lnTo>
                    <a:lnTo>
                      <a:pt x="1070" y="295"/>
                    </a:lnTo>
                    <a:lnTo>
                      <a:pt x="1055" y="307"/>
                    </a:lnTo>
                    <a:lnTo>
                      <a:pt x="1047" y="315"/>
                    </a:lnTo>
                    <a:lnTo>
                      <a:pt x="1041" y="324"/>
                    </a:lnTo>
                    <a:lnTo>
                      <a:pt x="1035" y="332"/>
                    </a:lnTo>
                    <a:lnTo>
                      <a:pt x="1032" y="342"/>
                    </a:lnTo>
                    <a:lnTo>
                      <a:pt x="1029" y="351"/>
                    </a:lnTo>
                    <a:lnTo>
                      <a:pt x="1029" y="363"/>
                    </a:lnTo>
                    <a:lnTo>
                      <a:pt x="1032" y="369"/>
                    </a:lnTo>
                    <a:lnTo>
                      <a:pt x="1037" y="386"/>
                    </a:lnTo>
                    <a:lnTo>
                      <a:pt x="1038" y="396"/>
                    </a:lnTo>
                    <a:lnTo>
                      <a:pt x="1040" y="408"/>
                    </a:lnTo>
                    <a:lnTo>
                      <a:pt x="1038" y="420"/>
                    </a:lnTo>
                    <a:lnTo>
                      <a:pt x="1037" y="431"/>
                    </a:lnTo>
                    <a:lnTo>
                      <a:pt x="1034" y="423"/>
                    </a:lnTo>
                    <a:lnTo>
                      <a:pt x="1025" y="405"/>
                    </a:lnTo>
                    <a:lnTo>
                      <a:pt x="1019" y="396"/>
                    </a:lnTo>
                    <a:lnTo>
                      <a:pt x="1013" y="390"/>
                    </a:lnTo>
                    <a:lnTo>
                      <a:pt x="1007" y="386"/>
                    </a:lnTo>
                    <a:lnTo>
                      <a:pt x="1002" y="386"/>
                    </a:lnTo>
                    <a:lnTo>
                      <a:pt x="999" y="386"/>
                    </a:lnTo>
                    <a:lnTo>
                      <a:pt x="991" y="389"/>
                    </a:lnTo>
                    <a:lnTo>
                      <a:pt x="985" y="395"/>
                    </a:lnTo>
                    <a:lnTo>
                      <a:pt x="976" y="405"/>
                    </a:lnTo>
                    <a:lnTo>
                      <a:pt x="970" y="416"/>
                    </a:lnTo>
                    <a:lnTo>
                      <a:pt x="967" y="420"/>
                    </a:lnTo>
                    <a:lnTo>
                      <a:pt x="927" y="413"/>
                    </a:lnTo>
                    <a:lnTo>
                      <a:pt x="900" y="405"/>
                    </a:lnTo>
                    <a:lnTo>
                      <a:pt x="900" y="436"/>
                    </a:lnTo>
                    <a:lnTo>
                      <a:pt x="877" y="440"/>
                    </a:lnTo>
                    <a:lnTo>
                      <a:pt x="857" y="440"/>
                    </a:lnTo>
                    <a:lnTo>
                      <a:pt x="818" y="440"/>
                    </a:lnTo>
                    <a:lnTo>
                      <a:pt x="818" y="478"/>
                    </a:lnTo>
                    <a:lnTo>
                      <a:pt x="777" y="463"/>
                    </a:lnTo>
                    <a:lnTo>
                      <a:pt x="765" y="436"/>
                    </a:lnTo>
                    <a:lnTo>
                      <a:pt x="753" y="451"/>
                    </a:lnTo>
                    <a:lnTo>
                      <a:pt x="750" y="490"/>
                    </a:lnTo>
                    <a:lnTo>
                      <a:pt x="750" y="515"/>
                    </a:lnTo>
                    <a:lnTo>
                      <a:pt x="731" y="520"/>
                    </a:lnTo>
                    <a:lnTo>
                      <a:pt x="704" y="527"/>
                    </a:lnTo>
                    <a:lnTo>
                      <a:pt x="693" y="542"/>
                    </a:lnTo>
                    <a:lnTo>
                      <a:pt x="646" y="573"/>
                    </a:lnTo>
                    <a:lnTo>
                      <a:pt x="624" y="550"/>
                    </a:lnTo>
                    <a:lnTo>
                      <a:pt x="624" y="508"/>
                    </a:lnTo>
                    <a:lnTo>
                      <a:pt x="597" y="490"/>
                    </a:lnTo>
                    <a:lnTo>
                      <a:pt x="600" y="488"/>
                    </a:lnTo>
                    <a:lnTo>
                      <a:pt x="606" y="485"/>
                    </a:lnTo>
                    <a:lnTo>
                      <a:pt x="610" y="485"/>
                    </a:lnTo>
                    <a:lnTo>
                      <a:pt x="615" y="485"/>
                    </a:lnTo>
                    <a:lnTo>
                      <a:pt x="621" y="488"/>
                    </a:lnTo>
                    <a:lnTo>
                      <a:pt x="628" y="493"/>
                    </a:lnTo>
                    <a:lnTo>
                      <a:pt x="636" y="499"/>
                    </a:lnTo>
                    <a:lnTo>
                      <a:pt x="648" y="506"/>
                    </a:lnTo>
                    <a:lnTo>
                      <a:pt x="658" y="511"/>
                    </a:lnTo>
                    <a:lnTo>
                      <a:pt x="664" y="512"/>
                    </a:lnTo>
                    <a:lnTo>
                      <a:pt x="669" y="511"/>
                    </a:lnTo>
                    <a:lnTo>
                      <a:pt x="675" y="509"/>
                    </a:lnTo>
                    <a:lnTo>
                      <a:pt x="678" y="506"/>
                    </a:lnTo>
                    <a:lnTo>
                      <a:pt x="681" y="502"/>
                    </a:lnTo>
                    <a:lnTo>
                      <a:pt x="684" y="493"/>
                    </a:lnTo>
                    <a:lnTo>
                      <a:pt x="684" y="484"/>
                    </a:lnTo>
                    <a:lnTo>
                      <a:pt x="684" y="470"/>
                    </a:lnTo>
                    <a:lnTo>
                      <a:pt x="681" y="455"/>
                    </a:lnTo>
                    <a:lnTo>
                      <a:pt x="678" y="436"/>
                    </a:lnTo>
                    <a:lnTo>
                      <a:pt x="672" y="428"/>
                    </a:lnTo>
                    <a:lnTo>
                      <a:pt x="663" y="420"/>
                    </a:lnTo>
                    <a:lnTo>
                      <a:pt x="652" y="413"/>
                    </a:lnTo>
                    <a:lnTo>
                      <a:pt x="637" y="404"/>
                    </a:lnTo>
                    <a:lnTo>
                      <a:pt x="618" y="396"/>
                    </a:lnTo>
                    <a:lnTo>
                      <a:pt x="607" y="393"/>
                    </a:lnTo>
                    <a:lnTo>
                      <a:pt x="594" y="392"/>
                    </a:lnTo>
                    <a:lnTo>
                      <a:pt x="582" y="390"/>
                    </a:lnTo>
                    <a:lnTo>
                      <a:pt x="567" y="390"/>
                    </a:lnTo>
                    <a:lnTo>
                      <a:pt x="562" y="380"/>
                    </a:lnTo>
                    <a:lnTo>
                      <a:pt x="556" y="372"/>
                    </a:lnTo>
                    <a:lnTo>
                      <a:pt x="548" y="362"/>
                    </a:lnTo>
                    <a:lnTo>
                      <a:pt x="539" y="354"/>
                    </a:lnTo>
                    <a:lnTo>
                      <a:pt x="535" y="350"/>
                    </a:lnTo>
                    <a:lnTo>
                      <a:pt x="529" y="348"/>
                    </a:lnTo>
                    <a:lnTo>
                      <a:pt x="524" y="347"/>
                    </a:lnTo>
                    <a:lnTo>
                      <a:pt x="518" y="347"/>
                    </a:lnTo>
                    <a:lnTo>
                      <a:pt x="512" y="348"/>
                    </a:lnTo>
                    <a:lnTo>
                      <a:pt x="505" y="351"/>
                    </a:lnTo>
                    <a:lnTo>
                      <a:pt x="491" y="360"/>
                    </a:lnTo>
                    <a:lnTo>
                      <a:pt x="476" y="368"/>
                    </a:lnTo>
                    <a:lnTo>
                      <a:pt x="444" y="381"/>
                    </a:lnTo>
                    <a:lnTo>
                      <a:pt x="431" y="387"/>
                    </a:lnTo>
                    <a:lnTo>
                      <a:pt x="420" y="393"/>
                    </a:lnTo>
                    <a:lnTo>
                      <a:pt x="413" y="399"/>
                    </a:lnTo>
                    <a:lnTo>
                      <a:pt x="410" y="402"/>
                    </a:lnTo>
                    <a:lnTo>
                      <a:pt x="410" y="405"/>
                    </a:lnTo>
                    <a:lnTo>
                      <a:pt x="408" y="410"/>
                    </a:lnTo>
                    <a:lnTo>
                      <a:pt x="404" y="416"/>
                    </a:lnTo>
                    <a:lnTo>
                      <a:pt x="398" y="420"/>
                    </a:lnTo>
                    <a:lnTo>
                      <a:pt x="390" y="423"/>
                    </a:lnTo>
                    <a:lnTo>
                      <a:pt x="377" y="429"/>
                    </a:lnTo>
                    <a:lnTo>
                      <a:pt x="371" y="431"/>
                    </a:lnTo>
                    <a:lnTo>
                      <a:pt x="360" y="470"/>
                    </a:lnTo>
                    <a:lnTo>
                      <a:pt x="325" y="497"/>
                    </a:lnTo>
                    <a:lnTo>
                      <a:pt x="271" y="558"/>
                    </a:lnTo>
                    <a:lnTo>
                      <a:pt x="238" y="622"/>
                    </a:lnTo>
                    <a:lnTo>
                      <a:pt x="211" y="639"/>
                    </a:lnTo>
                    <a:lnTo>
                      <a:pt x="203" y="692"/>
                    </a:lnTo>
                    <a:lnTo>
                      <a:pt x="211" y="726"/>
                    </a:lnTo>
                    <a:lnTo>
                      <a:pt x="256" y="741"/>
                    </a:lnTo>
                    <a:lnTo>
                      <a:pt x="291" y="738"/>
                    </a:lnTo>
                    <a:lnTo>
                      <a:pt x="298" y="769"/>
                    </a:lnTo>
                    <a:lnTo>
                      <a:pt x="298" y="799"/>
                    </a:lnTo>
                    <a:lnTo>
                      <a:pt x="345" y="796"/>
                    </a:lnTo>
                    <a:lnTo>
                      <a:pt x="356" y="756"/>
                    </a:lnTo>
                    <a:lnTo>
                      <a:pt x="380" y="707"/>
                    </a:lnTo>
                    <a:lnTo>
                      <a:pt x="375" y="657"/>
                    </a:lnTo>
                    <a:lnTo>
                      <a:pt x="398" y="615"/>
                    </a:lnTo>
                    <a:lnTo>
                      <a:pt x="429" y="573"/>
                    </a:lnTo>
                    <a:lnTo>
                      <a:pt x="455" y="542"/>
                    </a:lnTo>
                    <a:lnTo>
                      <a:pt x="461" y="539"/>
                    </a:lnTo>
                    <a:lnTo>
                      <a:pt x="467" y="536"/>
                    </a:lnTo>
                    <a:lnTo>
                      <a:pt x="473" y="533"/>
                    </a:lnTo>
                    <a:lnTo>
                      <a:pt x="479" y="533"/>
                    </a:lnTo>
                    <a:lnTo>
                      <a:pt x="481" y="535"/>
                    </a:lnTo>
                    <a:lnTo>
                      <a:pt x="484" y="536"/>
                    </a:lnTo>
                    <a:lnTo>
                      <a:pt x="484" y="539"/>
                    </a:lnTo>
                    <a:lnTo>
                      <a:pt x="485" y="542"/>
                    </a:lnTo>
                    <a:lnTo>
                      <a:pt x="482" y="555"/>
                    </a:lnTo>
                    <a:lnTo>
                      <a:pt x="478" y="567"/>
                    </a:lnTo>
                    <a:lnTo>
                      <a:pt x="472" y="577"/>
                    </a:lnTo>
                    <a:lnTo>
                      <a:pt x="466" y="585"/>
                    </a:lnTo>
                    <a:lnTo>
                      <a:pt x="460" y="589"/>
                    </a:lnTo>
                    <a:lnTo>
                      <a:pt x="454" y="592"/>
                    </a:lnTo>
                    <a:lnTo>
                      <a:pt x="449" y="595"/>
                    </a:lnTo>
                    <a:lnTo>
                      <a:pt x="444" y="597"/>
                    </a:lnTo>
                    <a:lnTo>
                      <a:pt x="429" y="642"/>
                    </a:lnTo>
                    <a:lnTo>
                      <a:pt x="429" y="648"/>
                    </a:lnTo>
                    <a:lnTo>
                      <a:pt x="431" y="654"/>
                    </a:lnTo>
                    <a:lnTo>
                      <a:pt x="434" y="662"/>
                    </a:lnTo>
                    <a:lnTo>
                      <a:pt x="440" y="669"/>
                    </a:lnTo>
                    <a:lnTo>
                      <a:pt x="447" y="677"/>
                    </a:lnTo>
                    <a:lnTo>
                      <a:pt x="461" y="681"/>
                    </a:lnTo>
                    <a:lnTo>
                      <a:pt x="469" y="683"/>
                    </a:lnTo>
                    <a:lnTo>
                      <a:pt x="479" y="684"/>
                    </a:lnTo>
                    <a:lnTo>
                      <a:pt x="497" y="686"/>
                    </a:lnTo>
                    <a:lnTo>
                      <a:pt x="512" y="690"/>
                    </a:lnTo>
                    <a:lnTo>
                      <a:pt x="526" y="695"/>
                    </a:lnTo>
                    <a:lnTo>
                      <a:pt x="536" y="699"/>
                    </a:lnTo>
                    <a:lnTo>
                      <a:pt x="550" y="707"/>
                    </a:lnTo>
                    <a:lnTo>
                      <a:pt x="554" y="711"/>
                    </a:lnTo>
                    <a:lnTo>
                      <a:pt x="517" y="722"/>
                    </a:lnTo>
                    <a:lnTo>
                      <a:pt x="475" y="719"/>
                    </a:lnTo>
                    <a:lnTo>
                      <a:pt x="444" y="769"/>
                    </a:lnTo>
                    <a:lnTo>
                      <a:pt x="413" y="784"/>
                    </a:lnTo>
                    <a:lnTo>
                      <a:pt x="410" y="833"/>
                    </a:lnTo>
                    <a:lnTo>
                      <a:pt x="387" y="853"/>
                    </a:lnTo>
                    <a:lnTo>
                      <a:pt x="276" y="848"/>
                    </a:lnTo>
                    <a:lnTo>
                      <a:pt x="276" y="796"/>
                    </a:lnTo>
                    <a:lnTo>
                      <a:pt x="273" y="794"/>
                    </a:lnTo>
                    <a:lnTo>
                      <a:pt x="268" y="794"/>
                    </a:lnTo>
                    <a:lnTo>
                      <a:pt x="264" y="794"/>
                    </a:lnTo>
                    <a:lnTo>
                      <a:pt x="259" y="796"/>
                    </a:lnTo>
                    <a:lnTo>
                      <a:pt x="255" y="800"/>
                    </a:lnTo>
                    <a:lnTo>
                      <a:pt x="252" y="806"/>
                    </a:lnTo>
                    <a:lnTo>
                      <a:pt x="249" y="814"/>
                    </a:lnTo>
                    <a:lnTo>
                      <a:pt x="246" y="833"/>
                    </a:lnTo>
                    <a:lnTo>
                      <a:pt x="243" y="851"/>
                    </a:lnTo>
                    <a:lnTo>
                      <a:pt x="238" y="868"/>
                    </a:lnTo>
                    <a:lnTo>
                      <a:pt x="203" y="883"/>
                    </a:lnTo>
                    <a:lnTo>
                      <a:pt x="172" y="933"/>
                    </a:lnTo>
                    <a:lnTo>
                      <a:pt x="142" y="955"/>
                    </a:lnTo>
                    <a:lnTo>
                      <a:pt x="104" y="960"/>
                    </a:lnTo>
                    <a:lnTo>
                      <a:pt x="92" y="982"/>
                    </a:lnTo>
                    <a:lnTo>
                      <a:pt x="104" y="1020"/>
                    </a:lnTo>
                    <a:lnTo>
                      <a:pt x="107" y="1026"/>
                    </a:lnTo>
                    <a:lnTo>
                      <a:pt x="110" y="1031"/>
                    </a:lnTo>
                    <a:lnTo>
                      <a:pt x="111" y="1038"/>
                    </a:lnTo>
                    <a:lnTo>
                      <a:pt x="113" y="1046"/>
                    </a:lnTo>
                    <a:lnTo>
                      <a:pt x="111" y="1055"/>
                    </a:lnTo>
                    <a:lnTo>
                      <a:pt x="107" y="1062"/>
                    </a:lnTo>
                    <a:lnTo>
                      <a:pt x="104" y="1067"/>
                    </a:lnTo>
                    <a:lnTo>
                      <a:pt x="99" y="1070"/>
                    </a:lnTo>
                    <a:lnTo>
                      <a:pt x="95" y="1073"/>
                    </a:lnTo>
                    <a:lnTo>
                      <a:pt x="89" y="1076"/>
                    </a:lnTo>
                    <a:lnTo>
                      <a:pt x="74" y="1079"/>
                    </a:lnTo>
                    <a:lnTo>
                      <a:pt x="59" y="1080"/>
                    </a:lnTo>
                    <a:lnTo>
                      <a:pt x="44" y="1079"/>
                    </a:lnTo>
                    <a:lnTo>
                      <a:pt x="18" y="1076"/>
                    </a:lnTo>
                    <a:lnTo>
                      <a:pt x="7" y="1074"/>
                    </a:lnTo>
                    <a:lnTo>
                      <a:pt x="0" y="1144"/>
                    </a:lnTo>
                    <a:lnTo>
                      <a:pt x="24" y="1204"/>
                    </a:lnTo>
                    <a:lnTo>
                      <a:pt x="74" y="1193"/>
                    </a:lnTo>
                    <a:lnTo>
                      <a:pt x="127" y="1174"/>
                    </a:lnTo>
                    <a:lnTo>
                      <a:pt x="157" y="1166"/>
                    </a:lnTo>
                    <a:lnTo>
                      <a:pt x="161" y="1132"/>
                    </a:lnTo>
                    <a:lnTo>
                      <a:pt x="184" y="1109"/>
                    </a:lnTo>
                    <a:lnTo>
                      <a:pt x="184" y="1059"/>
                    </a:lnTo>
                    <a:lnTo>
                      <a:pt x="188" y="1062"/>
                    </a:lnTo>
                    <a:lnTo>
                      <a:pt x="194" y="1067"/>
                    </a:lnTo>
                    <a:lnTo>
                      <a:pt x="202" y="1070"/>
                    </a:lnTo>
                    <a:lnTo>
                      <a:pt x="211" y="1073"/>
                    </a:lnTo>
                    <a:lnTo>
                      <a:pt x="223" y="1074"/>
                    </a:lnTo>
                    <a:lnTo>
                      <a:pt x="235" y="1074"/>
                    </a:lnTo>
                    <a:lnTo>
                      <a:pt x="249" y="1070"/>
                    </a:lnTo>
                    <a:lnTo>
                      <a:pt x="256" y="1068"/>
                    </a:lnTo>
                    <a:lnTo>
                      <a:pt x="262" y="1068"/>
                    </a:lnTo>
                    <a:lnTo>
                      <a:pt x="270" y="1068"/>
                    </a:lnTo>
                    <a:lnTo>
                      <a:pt x="276" y="1070"/>
                    </a:lnTo>
                    <a:lnTo>
                      <a:pt x="286" y="1076"/>
                    </a:lnTo>
                    <a:lnTo>
                      <a:pt x="295" y="1083"/>
                    </a:lnTo>
                    <a:lnTo>
                      <a:pt x="303" y="1092"/>
                    </a:lnTo>
                    <a:lnTo>
                      <a:pt x="309" y="1100"/>
                    </a:lnTo>
                    <a:lnTo>
                      <a:pt x="313" y="1109"/>
                    </a:lnTo>
                    <a:lnTo>
                      <a:pt x="345" y="1159"/>
                    </a:lnTo>
                    <a:lnTo>
                      <a:pt x="368" y="1159"/>
                    </a:lnTo>
                    <a:lnTo>
                      <a:pt x="375" y="1136"/>
                    </a:lnTo>
                    <a:lnTo>
                      <a:pt x="353" y="1102"/>
                    </a:lnTo>
                    <a:lnTo>
                      <a:pt x="337" y="1082"/>
                    </a:lnTo>
                    <a:lnTo>
                      <a:pt x="337" y="1062"/>
                    </a:lnTo>
                    <a:lnTo>
                      <a:pt x="348" y="1055"/>
                    </a:lnTo>
                    <a:lnTo>
                      <a:pt x="375" y="1094"/>
                    </a:lnTo>
                    <a:lnTo>
                      <a:pt x="405" y="1117"/>
                    </a:lnTo>
                    <a:lnTo>
                      <a:pt x="417" y="1151"/>
                    </a:lnTo>
                    <a:lnTo>
                      <a:pt x="425" y="1156"/>
                    </a:lnTo>
                    <a:lnTo>
                      <a:pt x="432" y="1160"/>
                    </a:lnTo>
                    <a:lnTo>
                      <a:pt x="441" y="1166"/>
                    </a:lnTo>
                    <a:lnTo>
                      <a:pt x="452" y="1168"/>
                    </a:lnTo>
                    <a:lnTo>
                      <a:pt x="455" y="1169"/>
                    </a:lnTo>
                    <a:lnTo>
                      <a:pt x="460" y="1168"/>
                    </a:lnTo>
                    <a:lnTo>
                      <a:pt x="463" y="1166"/>
                    </a:lnTo>
                    <a:lnTo>
                      <a:pt x="466" y="1165"/>
                    </a:lnTo>
                    <a:lnTo>
                      <a:pt x="467" y="1160"/>
                    </a:lnTo>
                    <a:lnTo>
                      <a:pt x="467" y="1154"/>
                    </a:lnTo>
                    <a:lnTo>
                      <a:pt x="467" y="1132"/>
                    </a:lnTo>
                    <a:lnTo>
                      <a:pt x="469" y="1117"/>
                    </a:lnTo>
                    <a:lnTo>
                      <a:pt x="470" y="1105"/>
                    </a:lnTo>
                    <a:lnTo>
                      <a:pt x="502" y="1117"/>
                    </a:lnTo>
                    <a:lnTo>
                      <a:pt x="524" y="1117"/>
                    </a:lnTo>
                    <a:lnTo>
                      <a:pt x="524" y="1082"/>
                    </a:lnTo>
                    <a:lnTo>
                      <a:pt x="524" y="1055"/>
                    </a:lnTo>
                    <a:lnTo>
                      <a:pt x="532" y="1025"/>
                    </a:lnTo>
                    <a:lnTo>
                      <a:pt x="586" y="1017"/>
                    </a:lnTo>
                    <a:lnTo>
                      <a:pt x="586" y="1023"/>
                    </a:lnTo>
                    <a:lnTo>
                      <a:pt x="588" y="1037"/>
                    </a:lnTo>
                    <a:lnTo>
                      <a:pt x="589" y="1043"/>
                    </a:lnTo>
                    <a:lnTo>
                      <a:pt x="591" y="1049"/>
                    </a:lnTo>
                    <a:lnTo>
                      <a:pt x="594" y="1053"/>
                    </a:lnTo>
                    <a:lnTo>
                      <a:pt x="597" y="1055"/>
                    </a:lnTo>
                    <a:lnTo>
                      <a:pt x="651" y="1055"/>
                    </a:lnTo>
                    <a:lnTo>
                      <a:pt x="628" y="1005"/>
                    </a:lnTo>
                    <a:lnTo>
                      <a:pt x="654" y="1005"/>
                    </a:lnTo>
                    <a:lnTo>
                      <a:pt x="686" y="1055"/>
                    </a:lnTo>
                    <a:lnTo>
                      <a:pt x="687" y="1062"/>
                    </a:lnTo>
                    <a:lnTo>
                      <a:pt x="687" y="1071"/>
                    </a:lnTo>
                    <a:lnTo>
                      <a:pt x="687" y="1080"/>
                    </a:lnTo>
                    <a:lnTo>
                      <a:pt x="684" y="1089"/>
                    </a:lnTo>
                    <a:lnTo>
                      <a:pt x="681" y="1094"/>
                    </a:lnTo>
                    <a:lnTo>
                      <a:pt x="677" y="1097"/>
                    </a:lnTo>
                    <a:lnTo>
                      <a:pt x="672" y="1100"/>
                    </a:lnTo>
                    <a:lnTo>
                      <a:pt x="666" y="1103"/>
                    </a:lnTo>
                    <a:lnTo>
                      <a:pt x="658" y="1105"/>
                    </a:lnTo>
                    <a:lnTo>
                      <a:pt x="651" y="1105"/>
                    </a:lnTo>
                    <a:lnTo>
                      <a:pt x="616" y="1106"/>
                    </a:lnTo>
                    <a:lnTo>
                      <a:pt x="591" y="1109"/>
                    </a:lnTo>
                    <a:lnTo>
                      <a:pt x="567" y="1112"/>
                    </a:lnTo>
                    <a:lnTo>
                      <a:pt x="532" y="1147"/>
                    </a:lnTo>
                    <a:lnTo>
                      <a:pt x="533" y="1156"/>
                    </a:lnTo>
                    <a:lnTo>
                      <a:pt x="536" y="1165"/>
                    </a:lnTo>
                    <a:lnTo>
                      <a:pt x="541" y="1175"/>
                    </a:lnTo>
                    <a:lnTo>
                      <a:pt x="548" y="1186"/>
                    </a:lnTo>
                    <a:lnTo>
                      <a:pt x="554" y="1190"/>
                    </a:lnTo>
                    <a:lnTo>
                      <a:pt x="560" y="1195"/>
                    </a:lnTo>
                    <a:lnTo>
                      <a:pt x="570" y="1199"/>
                    </a:lnTo>
                    <a:lnTo>
                      <a:pt x="579" y="1204"/>
                    </a:lnTo>
                    <a:lnTo>
                      <a:pt x="589" y="1205"/>
                    </a:lnTo>
                    <a:lnTo>
                      <a:pt x="601" y="1209"/>
                    </a:lnTo>
                    <a:lnTo>
                      <a:pt x="607" y="1209"/>
                    </a:lnTo>
                    <a:lnTo>
                      <a:pt x="613" y="1210"/>
                    </a:lnTo>
                    <a:lnTo>
                      <a:pt x="618" y="1213"/>
                    </a:lnTo>
                    <a:lnTo>
                      <a:pt x="621" y="1216"/>
                    </a:lnTo>
                    <a:lnTo>
                      <a:pt x="622" y="1221"/>
                    </a:lnTo>
                    <a:lnTo>
                      <a:pt x="622" y="1225"/>
                    </a:lnTo>
                    <a:lnTo>
                      <a:pt x="622" y="1230"/>
                    </a:lnTo>
                    <a:lnTo>
                      <a:pt x="621" y="1237"/>
                    </a:lnTo>
                    <a:lnTo>
                      <a:pt x="616" y="1245"/>
                    </a:lnTo>
                    <a:lnTo>
                      <a:pt x="612" y="1254"/>
                    </a:lnTo>
                    <a:lnTo>
                      <a:pt x="606" y="1264"/>
                    </a:lnTo>
                    <a:lnTo>
                      <a:pt x="606" y="1269"/>
                    </a:lnTo>
                    <a:lnTo>
                      <a:pt x="619" y="1257"/>
                    </a:lnTo>
                    <a:lnTo>
                      <a:pt x="633" y="1246"/>
                    </a:lnTo>
                    <a:lnTo>
                      <a:pt x="646" y="1240"/>
                    </a:lnTo>
                    <a:lnTo>
                      <a:pt x="652" y="1237"/>
                    </a:lnTo>
                    <a:lnTo>
                      <a:pt x="658" y="1237"/>
                    </a:lnTo>
                    <a:lnTo>
                      <a:pt x="675" y="1237"/>
                    </a:lnTo>
                    <a:lnTo>
                      <a:pt x="690" y="1234"/>
                    </a:lnTo>
                    <a:lnTo>
                      <a:pt x="717" y="1228"/>
                    </a:lnTo>
                    <a:lnTo>
                      <a:pt x="738" y="1222"/>
                    </a:lnTo>
                    <a:lnTo>
                      <a:pt x="750" y="1219"/>
                    </a:lnTo>
                    <a:lnTo>
                      <a:pt x="753" y="1218"/>
                    </a:lnTo>
                    <a:lnTo>
                      <a:pt x="756" y="1215"/>
                    </a:lnTo>
                    <a:lnTo>
                      <a:pt x="762" y="1205"/>
                    </a:lnTo>
                    <a:lnTo>
                      <a:pt x="770" y="1190"/>
                    </a:lnTo>
                    <a:lnTo>
                      <a:pt x="799" y="1207"/>
                    </a:lnTo>
                    <a:lnTo>
                      <a:pt x="821" y="1219"/>
                    </a:lnTo>
                    <a:lnTo>
                      <a:pt x="838" y="1227"/>
                    </a:lnTo>
                    <a:lnTo>
                      <a:pt x="845" y="1228"/>
                    </a:lnTo>
                    <a:lnTo>
                      <a:pt x="854" y="1225"/>
                    </a:lnTo>
                    <a:lnTo>
                      <a:pt x="878" y="1216"/>
                    </a:lnTo>
                    <a:lnTo>
                      <a:pt x="901" y="1207"/>
                    </a:lnTo>
                    <a:lnTo>
                      <a:pt x="909" y="1204"/>
                    </a:lnTo>
                    <a:lnTo>
                      <a:pt x="915" y="1202"/>
                    </a:lnTo>
                    <a:lnTo>
                      <a:pt x="919" y="1204"/>
                    </a:lnTo>
                    <a:lnTo>
                      <a:pt x="925" y="1210"/>
                    </a:lnTo>
                    <a:lnTo>
                      <a:pt x="943" y="1227"/>
                    </a:lnTo>
                    <a:lnTo>
                      <a:pt x="961" y="1245"/>
                    </a:lnTo>
                    <a:lnTo>
                      <a:pt x="967" y="1251"/>
                    </a:lnTo>
                    <a:lnTo>
                      <a:pt x="972" y="1254"/>
                    </a:lnTo>
                    <a:lnTo>
                      <a:pt x="976" y="1254"/>
                    </a:lnTo>
                    <a:lnTo>
                      <a:pt x="981" y="1252"/>
                    </a:lnTo>
                    <a:lnTo>
                      <a:pt x="994" y="1243"/>
                    </a:lnTo>
                    <a:lnTo>
                      <a:pt x="1002" y="1239"/>
                    </a:lnTo>
                    <a:lnTo>
                      <a:pt x="1010" y="1234"/>
                    </a:lnTo>
                    <a:lnTo>
                      <a:pt x="1019" y="1231"/>
                    </a:lnTo>
                    <a:lnTo>
                      <a:pt x="1028" y="1231"/>
                    </a:lnTo>
                    <a:lnTo>
                      <a:pt x="1073" y="1233"/>
                    </a:lnTo>
                    <a:lnTo>
                      <a:pt x="1109" y="1234"/>
                    </a:lnTo>
                    <a:lnTo>
                      <a:pt x="1117" y="1233"/>
                    </a:lnTo>
                    <a:lnTo>
                      <a:pt x="1124" y="1228"/>
                    </a:lnTo>
                    <a:lnTo>
                      <a:pt x="1142" y="1216"/>
                    </a:lnTo>
                    <a:lnTo>
                      <a:pt x="1165" y="1198"/>
                    </a:lnTo>
                    <a:lnTo>
                      <a:pt x="1202" y="1153"/>
                    </a:lnTo>
                    <a:lnTo>
                      <a:pt x="1230" y="1121"/>
                    </a:lnTo>
                    <a:lnTo>
                      <a:pt x="1248" y="1099"/>
                    </a:lnTo>
                    <a:lnTo>
                      <a:pt x="1252" y="1089"/>
                    </a:lnTo>
                    <a:lnTo>
                      <a:pt x="1254" y="1086"/>
                    </a:lnTo>
                    <a:lnTo>
                      <a:pt x="1254" y="1085"/>
                    </a:lnTo>
                    <a:lnTo>
                      <a:pt x="1254" y="1083"/>
                    </a:lnTo>
                    <a:lnTo>
                      <a:pt x="1255" y="1080"/>
                    </a:lnTo>
                    <a:lnTo>
                      <a:pt x="1260" y="1073"/>
                    </a:lnTo>
                    <a:lnTo>
                      <a:pt x="1276" y="1055"/>
                    </a:lnTo>
                    <a:lnTo>
                      <a:pt x="1305" y="1025"/>
                    </a:lnTo>
                    <a:lnTo>
                      <a:pt x="1318" y="1016"/>
                    </a:lnTo>
                    <a:lnTo>
                      <a:pt x="1344" y="999"/>
                    </a:lnTo>
                    <a:lnTo>
                      <a:pt x="1370" y="984"/>
                    </a:lnTo>
                    <a:lnTo>
                      <a:pt x="1380" y="979"/>
                    </a:lnTo>
                    <a:lnTo>
                      <a:pt x="1386" y="979"/>
                    </a:lnTo>
                    <a:lnTo>
                      <a:pt x="1419" y="989"/>
                    </a:lnTo>
                    <a:lnTo>
                      <a:pt x="1447" y="998"/>
                    </a:lnTo>
                    <a:lnTo>
                      <a:pt x="1447" y="958"/>
                    </a:lnTo>
                    <a:lnTo>
                      <a:pt x="1451" y="958"/>
                    </a:lnTo>
                    <a:lnTo>
                      <a:pt x="1466" y="957"/>
                    </a:lnTo>
                    <a:lnTo>
                      <a:pt x="1475" y="958"/>
                    </a:lnTo>
                    <a:lnTo>
                      <a:pt x="1484" y="961"/>
                    </a:lnTo>
                    <a:lnTo>
                      <a:pt x="1495" y="966"/>
                    </a:lnTo>
                    <a:lnTo>
                      <a:pt x="1504" y="972"/>
                    </a:lnTo>
                    <a:lnTo>
                      <a:pt x="1513" y="979"/>
                    </a:lnTo>
                    <a:lnTo>
                      <a:pt x="1522" y="985"/>
                    </a:lnTo>
                    <a:lnTo>
                      <a:pt x="1537" y="993"/>
                    </a:lnTo>
                    <a:lnTo>
                      <a:pt x="1551" y="998"/>
                    </a:lnTo>
                    <a:lnTo>
                      <a:pt x="1560" y="999"/>
                    </a:lnTo>
                    <a:lnTo>
                      <a:pt x="1587" y="999"/>
                    </a:lnTo>
                    <a:lnTo>
                      <a:pt x="1632" y="999"/>
                    </a:lnTo>
                    <a:lnTo>
                      <a:pt x="1680" y="998"/>
                    </a:lnTo>
                    <a:lnTo>
                      <a:pt x="1697" y="998"/>
                    </a:lnTo>
                    <a:lnTo>
                      <a:pt x="1707" y="996"/>
                    </a:lnTo>
                    <a:lnTo>
                      <a:pt x="1715" y="992"/>
                    </a:lnTo>
                    <a:lnTo>
                      <a:pt x="1722" y="982"/>
                    </a:lnTo>
                    <a:lnTo>
                      <a:pt x="1740" y="958"/>
                    </a:lnTo>
                    <a:lnTo>
                      <a:pt x="1755" y="936"/>
                    </a:lnTo>
                    <a:lnTo>
                      <a:pt x="1761" y="925"/>
                    </a:lnTo>
                    <a:lnTo>
                      <a:pt x="1799" y="919"/>
                    </a:lnTo>
                    <a:lnTo>
                      <a:pt x="1801" y="924"/>
                    </a:lnTo>
                    <a:lnTo>
                      <a:pt x="1807" y="937"/>
                    </a:lnTo>
                    <a:lnTo>
                      <a:pt x="1813" y="957"/>
                    </a:lnTo>
                    <a:lnTo>
                      <a:pt x="1816" y="967"/>
                    </a:lnTo>
                    <a:lnTo>
                      <a:pt x="1817" y="979"/>
                    </a:lnTo>
                    <a:lnTo>
                      <a:pt x="1819" y="989"/>
                    </a:lnTo>
                    <a:lnTo>
                      <a:pt x="1825" y="998"/>
                    </a:lnTo>
                    <a:lnTo>
                      <a:pt x="1831" y="1004"/>
                    </a:lnTo>
                    <a:lnTo>
                      <a:pt x="1838" y="1010"/>
                    </a:lnTo>
                    <a:lnTo>
                      <a:pt x="1846" y="1013"/>
                    </a:lnTo>
                    <a:lnTo>
                      <a:pt x="1852" y="1016"/>
                    </a:lnTo>
                    <a:lnTo>
                      <a:pt x="1858" y="1017"/>
                    </a:lnTo>
                    <a:lnTo>
                      <a:pt x="1861" y="1037"/>
                    </a:lnTo>
                    <a:lnTo>
                      <a:pt x="1862" y="1052"/>
                    </a:lnTo>
                    <a:lnTo>
                      <a:pt x="1864" y="1062"/>
                    </a:lnTo>
                    <a:lnTo>
                      <a:pt x="1864" y="1064"/>
                    </a:lnTo>
                    <a:lnTo>
                      <a:pt x="1867" y="1062"/>
                    </a:lnTo>
                    <a:lnTo>
                      <a:pt x="1877" y="1058"/>
                    </a:lnTo>
                    <a:lnTo>
                      <a:pt x="1893" y="1049"/>
                    </a:lnTo>
                    <a:lnTo>
                      <a:pt x="1888" y="1061"/>
                    </a:lnTo>
                    <a:lnTo>
                      <a:pt x="1874" y="1092"/>
                    </a:lnTo>
                    <a:lnTo>
                      <a:pt x="1862" y="1127"/>
                    </a:lnTo>
                    <a:lnTo>
                      <a:pt x="1859" y="1142"/>
                    </a:lnTo>
                    <a:lnTo>
                      <a:pt x="1858" y="1153"/>
                    </a:lnTo>
                    <a:lnTo>
                      <a:pt x="1859" y="1157"/>
                    </a:lnTo>
                    <a:lnTo>
                      <a:pt x="1862" y="1162"/>
                    </a:lnTo>
                    <a:lnTo>
                      <a:pt x="1867" y="1165"/>
                    </a:lnTo>
                    <a:lnTo>
                      <a:pt x="1871" y="1168"/>
                    </a:lnTo>
                    <a:lnTo>
                      <a:pt x="1884" y="1172"/>
                    </a:lnTo>
                    <a:lnTo>
                      <a:pt x="1897" y="1174"/>
                    </a:lnTo>
                    <a:lnTo>
                      <a:pt x="1897" y="1159"/>
                    </a:lnTo>
                    <a:lnTo>
                      <a:pt x="1874" y="1127"/>
                    </a:lnTo>
                    <a:lnTo>
                      <a:pt x="1897" y="1102"/>
                    </a:lnTo>
                    <a:lnTo>
                      <a:pt x="1905" y="1074"/>
                    </a:lnTo>
                    <a:lnTo>
                      <a:pt x="1959" y="1067"/>
                    </a:lnTo>
                    <a:lnTo>
                      <a:pt x="1968" y="1058"/>
                    </a:lnTo>
                    <a:lnTo>
                      <a:pt x="1991" y="1037"/>
                    </a:lnTo>
                    <a:lnTo>
                      <a:pt x="2003" y="1023"/>
                    </a:lnTo>
                    <a:lnTo>
                      <a:pt x="2013" y="1010"/>
                    </a:lnTo>
                    <a:lnTo>
                      <a:pt x="2022" y="998"/>
                    </a:lnTo>
                    <a:lnTo>
                      <a:pt x="2028" y="987"/>
                    </a:lnTo>
                    <a:lnTo>
                      <a:pt x="2036" y="951"/>
                    </a:lnTo>
                    <a:lnTo>
                      <a:pt x="2042" y="927"/>
                    </a:lnTo>
                    <a:lnTo>
                      <a:pt x="2045" y="900"/>
                    </a:lnTo>
                    <a:lnTo>
                      <a:pt x="2048" y="874"/>
                    </a:lnTo>
                    <a:lnTo>
                      <a:pt x="2048" y="863"/>
                    </a:lnTo>
                    <a:lnTo>
                      <a:pt x="2046" y="853"/>
                    </a:lnTo>
                    <a:lnTo>
                      <a:pt x="2045" y="845"/>
                    </a:lnTo>
                    <a:lnTo>
                      <a:pt x="2042" y="839"/>
                    </a:lnTo>
                    <a:lnTo>
                      <a:pt x="2037" y="835"/>
                    </a:lnTo>
                    <a:lnTo>
                      <a:pt x="2031" y="833"/>
                    </a:lnTo>
                    <a:lnTo>
                      <a:pt x="2021" y="833"/>
                    </a:lnTo>
                    <a:lnTo>
                      <a:pt x="2015" y="832"/>
                    </a:lnTo>
                    <a:lnTo>
                      <a:pt x="2013" y="830"/>
                    </a:lnTo>
                    <a:lnTo>
                      <a:pt x="2013" y="829"/>
                    </a:lnTo>
                    <a:lnTo>
                      <a:pt x="2018" y="827"/>
                    </a:lnTo>
                    <a:lnTo>
                      <a:pt x="2021" y="826"/>
                    </a:lnTo>
                    <a:lnTo>
                      <a:pt x="1997" y="833"/>
                    </a:lnTo>
                    <a:lnTo>
                      <a:pt x="2009" y="799"/>
                    </a:lnTo>
                    <a:lnTo>
                      <a:pt x="2043" y="761"/>
                    </a:lnTo>
                    <a:lnTo>
                      <a:pt x="2073" y="699"/>
                    </a:lnTo>
                    <a:lnTo>
                      <a:pt x="2165" y="704"/>
                    </a:lnTo>
                    <a:lnTo>
                      <a:pt x="2223" y="722"/>
                    </a:lnTo>
                    <a:lnTo>
                      <a:pt x="2269" y="707"/>
                    </a:lnTo>
                    <a:lnTo>
                      <a:pt x="2295" y="662"/>
                    </a:lnTo>
                    <a:lnTo>
                      <a:pt x="2342" y="654"/>
                    </a:lnTo>
                    <a:lnTo>
                      <a:pt x="2331" y="668"/>
                    </a:lnTo>
                    <a:lnTo>
                      <a:pt x="2319" y="684"/>
                    </a:lnTo>
                    <a:lnTo>
                      <a:pt x="2307" y="707"/>
                    </a:lnTo>
                    <a:lnTo>
                      <a:pt x="2295" y="737"/>
                    </a:lnTo>
                    <a:lnTo>
                      <a:pt x="2289" y="753"/>
                    </a:lnTo>
                    <a:lnTo>
                      <a:pt x="2283" y="773"/>
                    </a:lnTo>
                    <a:lnTo>
                      <a:pt x="2278" y="793"/>
                    </a:lnTo>
                    <a:lnTo>
                      <a:pt x="2275" y="815"/>
                    </a:lnTo>
                    <a:lnTo>
                      <a:pt x="2274" y="839"/>
                    </a:lnTo>
                    <a:lnTo>
                      <a:pt x="2272" y="863"/>
                    </a:lnTo>
                    <a:lnTo>
                      <a:pt x="2284" y="910"/>
                    </a:lnTo>
                    <a:lnTo>
                      <a:pt x="2334" y="833"/>
                    </a:lnTo>
                    <a:lnTo>
                      <a:pt x="2340" y="826"/>
                    </a:lnTo>
                    <a:lnTo>
                      <a:pt x="2352" y="811"/>
                    </a:lnTo>
                    <a:lnTo>
                      <a:pt x="2358" y="800"/>
                    </a:lnTo>
                    <a:lnTo>
                      <a:pt x="2363" y="791"/>
                    </a:lnTo>
                    <a:lnTo>
                      <a:pt x="2366" y="782"/>
                    </a:lnTo>
                    <a:lnTo>
                      <a:pt x="2366" y="779"/>
                    </a:lnTo>
                    <a:lnTo>
                      <a:pt x="2364" y="776"/>
                    </a:lnTo>
                    <a:lnTo>
                      <a:pt x="2349" y="743"/>
                    </a:lnTo>
                    <a:lnTo>
                      <a:pt x="2342" y="722"/>
                    </a:lnTo>
                    <a:lnTo>
                      <a:pt x="2346" y="716"/>
                    </a:lnTo>
                    <a:lnTo>
                      <a:pt x="2357" y="701"/>
                    </a:lnTo>
                    <a:lnTo>
                      <a:pt x="2372" y="684"/>
                    </a:lnTo>
                    <a:lnTo>
                      <a:pt x="2379" y="677"/>
                    </a:lnTo>
                    <a:lnTo>
                      <a:pt x="2387" y="672"/>
                    </a:lnTo>
                    <a:lnTo>
                      <a:pt x="2449" y="665"/>
                    </a:lnTo>
                    <a:lnTo>
                      <a:pt x="2459" y="662"/>
                    </a:lnTo>
                    <a:lnTo>
                      <a:pt x="2485" y="654"/>
                    </a:lnTo>
                    <a:lnTo>
                      <a:pt x="2518" y="642"/>
                    </a:lnTo>
                    <a:lnTo>
                      <a:pt x="2533" y="634"/>
                    </a:lnTo>
                    <a:lnTo>
                      <a:pt x="2548" y="627"/>
                    </a:lnTo>
                    <a:lnTo>
                      <a:pt x="2560" y="618"/>
                    </a:lnTo>
                    <a:lnTo>
                      <a:pt x="2571" y="607"/>
                    </a:lnTo>
                    <a:lnTo>
                      <a:pt x="2580" y="595"/>
                    </a:lnTo>
                    <a:lnTo>
                      <a:pt x="2586" y="583"/>
                    </a:lnTo>
                    <a:lnTo>
                      <a:pt x="2587" y="573"/>
                    </a:lnTo>
                    <a:lnTo>
                      <a:pt x="2587" y="567"/>
                    </a:lnTo>
                    <a:lnTo>
                      <a:pt x="2587" y="562"/>
                    </a:lnTo>
                    <a:lnTo>
                      <a:pt x="2584" y="558"/>
                    </a:lnTo>
                    <a:lnTo>
                      <a:pt x="2581" y="553"/>
                    </a:lnTo>
                    <a:lnTo>
                      <a:pt x="2577" y="550"/>
                    </a:lnTo>
                    <a:lnTo>
                      <a:pt x="2571" y="547"/>
                    </a:lnTo>
                    <a:lnTo>
                      <a:pt x="2580" y="544"/>
                    </a:lnTo>
                    <a:lnTo>
                      <a:pt x="2598" y="535"/>
                    </a:lnTo>
                    <a:lnTo>
                      <a:pt x="2608" y="529"/>
                    </a:lnTo>
                    <a:lnTo>
                      <a:pt x="2617" y="523"/>
                    </a:lnTo>
                    <a:lnTo>
                      <a:pt x="2625" y="514"/>
                    </a:lnTo>
                    <a:lnTo>
                      <a:pt x="2626" y="509"/>
                    </a:lnTo>
                    <a:lnTo>
                      <a:pt x="2628" y="505"/>
                    </a:lnTo>
                    <a:lnTo>
                      <a:pt x="2629" y="500"/>
                    </a:lnTo>
                    <a:lnTo>
                      <a:pt x="2629" y="499"/>
                    </a:lnTo>
                    <a:lnTo>
                      <a:pt x="2631" y="499"/>
                    </a:lnTo>
                    <a:lnTo>
                      <a:pt x="2634" y="499"/>
                    </a:lnTo>
                    <a:lnTo>
                      <a:pt x="2644" y="514"/>
                    </a:lnTo>
                    <a:lnTo>
                      <a:pt x="2654" y="523"/>
                    </a:lnTo>
                    <a:lnTo>
                      <a:pt x="2658" y="526"/>
                    </a:lnTo>
                    <a:lnTo>
                      <a:pt x="2664" y="529"/>
                    </a:lnTo>
                    <a:lnTo>
                      <a:pt x="2670" y="532"/>
                    </a:lnTo>
                    <a:lnTo>
                      <a:pt x="2678" y="533"/>
                    </a:lnTo>
                    <a:lnTo>
                      <a:pt x="2685" y="533"/>
                    </a:lnTo>
                    <a:lnTo>
                      <a:pt x="2693" y="530"/>
                    </a:lnTo>
                    <a:lnTo>
                      <a:pt x="2706" y="526"/>
                    </a:lnTo>
                    <a:lnTo>
                      <a:pt x="2714" y="520"/>
                    </a:lnTo>
                    <a:lnTo>
                      <a:pt x="2717" y="517"/>
                    </a:lnTo>
                    <a:lnTo>
                      <a:pt x="2717" y="515"/>
                    </a:lnTo>
                    <a:lnTo>
                      <a:pt x="2717" y="509"/>
                    </a:lnTo>
                    <a:lnTo>
                      <a:pt x="2714" y="506"/>
                    </a:lnTo>
                    <a:lnTo>
                      <a:pt x="2709" y="503"/>
                    </a:lnTo>
                    <a:lnTo>
                      <a:pt x="2705" y="50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5022720" y="2908440"/>
              <a:ext cx="2409840" cy="1682640"/>
              <a:chOff x="5022720" y="2908440"/>
              <a:chExt cx="2409840" cy="1682640"/>
            </a:xfrm>
          </p:grpSpPr>
          <p:grpSp>
            <p:nvGrpSpPr>
              <p:cNvPr id="963" name=""/>
              <p:cNvGrpSpPr/>
              <p:nvPr/>
            </p:nvGrpSpPr>
            <p:grpSpPr>
              <a:xfrm>
                <a:off x="5022720" y="2908440"/>
                <a:ext cx="2408400" cy="1682640"/>
                <a:chOff x="5022720" y="2908440"/>
                <a:chExt cx="2408400" cy="1682640"/>
              </a:xfrm>
            </p:grpSpPr>
            <p:sp>
              <p:nvSpPr>
                <p:cNvPr id="964" name="Freeform 114"/>
                <p:cNvSpPr/>
                <p:nvPr/>
              </p:nvSpPr>
              <p:spPr>
                <a:xfrm>
                  <a:off x="7351560" y="2908440"/>
                  <a:ext cx="68400" cy="2541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43" h="160">
                      <a:moveTo>
                        <a:pt x="5" y="160"/>
                      </a:moveTo>
                      <a:lnTo>
                        <a:pt x="35" y="145"/>
                      </a:lnTo>
                      <a:lnTo>
                        <a:pt x="35" y="107"/>
                      </a:lnTo>
                      <a:lnTo>
                        <a:pt x="43" y="65"/>
                      </a:lnTo>
                      <a:lnTo>
                        <a:pt x="35" y="11"/>
                      </a:lnTo>
                      <a:lnTo>
                        <a:pt x="23" y="0"/>
                      </a:lnTo>
                      <a:lnTo>
                        <a:pt x="8" y="26"/>
                      </a:lnTo>
                      <a:lnTo>
                        <a:pt x="8" y="88"/>
                      </a:lnTo>
                      <a:lnTo>
                        <a:pt x="0" y="137"/>
                      </a:lnTo>
                      <a:lnTo>
                        <a:pt x="5" y="16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5" name="Freeform 115"/>
                <p:cNvSpPr/>
                <p:nvPr/>
              </p:nvSpPr>
              <p:spPr>
                <a:xfrm>
                  <a:off x="7304040" y="3218040"/>
                  <a:ext cx="127080" cy="77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80" h="49">
                      <a:moveTo>
                        <a:pt x="27" y="46"/>
                      </a:moveTo>
                      <a:lnTo>
                        <a:pt x="0" y="49"/>
                      </a:lnTo>
                      <a:lnTo>
                        <a:pt x="18" y="7"/>
                      </a:lnTo>
                      <a:lnTo>
                        <a:pt x="50" y="0"/>
                      </a:lnTo>
                      <a:lnTo>
                        <a:pt x="80" y="30"/>
                      </a:lnTo>
                      <a:lnTo>
                        <a:pt x="61" y="49"/>
                      </a:lnTo>
                      <a:lnTo>
                        <a:pt x="27" y="4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6" name="Freeform 116"/>
                <p:cNvSpPr/>
                <p:nvPr/>
              </p:nvSpPr>
              <p:spPr>
                <a:xfrm>
                  <a:off x="7103880" y="3327480"/>
                  <a:ext cx="255600" cy="2304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61" h="145">
                      <a:moveTo>
                        <a:pt x="134" y="8"/>
                      </a:moveTo>
                      <a:lnTo>
                        <a:pt x="114" y="27"/>
                      </a:lnTo>
                      <a:lnTo>
                        <a:pt x="99" y="45"/>
                      </a:lnTo>
                      <a:lnTo>
                        <a:pt x="87" y="50"/>
                      </a:lnTo>
                      <a:lnTo>
                        <a:pt x="72" y="60"/>
                      </a:lnTo>
                      <a:lnTo>
                        <a:pt x="69" y="87"/>
                      </a:lnTo>
                      <a:lnTo>
                        <a:pt x="22" y="87"/>
                      </a:lnTo>
                      <a:lnTo>
                        <a:pt x="0" y="110"/>
                      </a:lnTo>
                      <a:lnTo>
                        <a:pt x="22" y="134"/>
                      </a:lnTo>
                      <a:lnTo>
                        <a:pt x="61" y="142"/>
                      </a:lnTo>
                      <a:lnTo>
                        <a:pt x="84" y="145"/>
                      </a:lnTo>
                      <a:lnTo>
                        <a:pt x="114" y="130"/>
                      </a:lnTo>
                      <a:lnTo>
                        <a:pt x="129" y="77"/>
                      </a:lnTo>
                      <a:lnTo>
                        <a:pt x="149" y="50"/>
                      </a:lnTo>
                      <a:lnTo>
                        <a:pt x="161" y="23"/>
                      </a:lnTo>
                      <a:lnTo>
                        <a:pt x="161" y="0"/>
                      </a:lnTo>
                      <a:lnTo>
                        <a:pt x="134" y="8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7" name="Freeform 117"/>
                <p:cNvSpPr/>
                <p:nvPr/>
              </p:nvSpPr>
              <p:spPr>
                <a:xfrm>
                  <a:off x="7067520" y="3557880"/>
                  <a:ext cx="71280" cy="489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45" h="31">
                      <a:moveTo>
                        <a:pt x="18" y="27"/>
                      </a:move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45" y="12"/>
                      </a:lnTo>
                      <a:lnTo>
                        <a:pt x="38" y="31"/>
                      </a:lnTo>
                      <a:lnTo>
                        <a:pt x="18" y="27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8" name="Freeform 118"/>
                <p:cNvSpPr/>
                <p:nvPr/>
              </p:nvSpPr>
              <p:spPr>
                <a:xfrm>
                  <a:off x="6859440" y="3765600"/>
                  <a:ext cx="104760" cy="795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66" h="50">
                      <a:moveTo>
                        <a:pt x="24" y="50"/>
                      </a:moveTo>
                      <a:lnTo>
                        <a:pt x="47" y="37"/>
                      </a:lnTo>
                      <a:lnTo>
                        <a:pt x="66" y="7"/>
                      </a:lnTo>
                      <a:lnTo>
                        <a:pt x="39" y="0"/>
                      </a:lnTo>
                      <a:lnTo>
                        <a:pt x="0" y="3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9" name="Freeform 119"/>
                <p:cNvSpPr/>
                <p:nvPr/>
              </p:nvSpPr>
              <p:spPr>
                <a:xfrm>
                  <a:off x="6648480" y="4208760"/>
                  <a:ext cx="217440" cy="2412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7" h="152">
                      <a:moveTo>
                        <a:pt x="118" y="0"/>
                      </a:moveTo>
                      <a:lnTo>
                        <a:pt x="80" y="10"/>
                      </a:lnTo>
                      <a:lnTo>
                        <a:pt x="43" y="30"/>
                      </a:lnTo>
                      <a:lnTo>
                        <a:pt x="18" y="60"/>
                      </a:lnTo>
                      <a:lnTo>
                        <a:pt x="15" y="61"/>
                      </a:lnTo>
                      <a:lnTo>
                        <a:pt x="9" y="66"/>
                      </a:lnTo>
                      <a:lnTo>
                        <a:pt x="3" y="72"/>
                      </a:lnTo>
                      <a:lnTo>
                        <a:pt x="0" y="75"/>
                      </a:lnTo>
                      <a:lnTo>
                        <a:pt x="0" y="79"/>
                      </a:lnTo>
                      <a:lnTo>
                        <a:pt x="0" y="85"/>
                      </a:lnTo>
                      <a:lnTo>
                        <a:pt x="3" y="95"/>
                      </a:lnTo>
                      <a:lnTo>
                        <a:pt x="11" y="114"/>
                      </a:lnTo>
                      <a:lnTo>
                        <a:pt x="23" y="141"/>
                      </a:lnTo>
                      <a:lnTo>
                        <a:pt x="61" y="152"/>
                      </a:lnTo>
                      <a:lnTo>
                        <a:pt x="103" y="107"/>
                      </a:lnTo>
                      <a:lnTo>
                        <a:pt x="110" y="104"/>
                      </a:lnTo>
                      <a:lnTo>
                        <a:pt x="116" y="99"/>
                      </a:lnTo>
                      <a:lnTo>
                        <a:pt x="124" y="95"/>
                      </a:lnTo>
                      <a:lnTo>
                        <a:pt x="130" y="88"/>
                      </a:lnTo>
                      <a:lnTo>
                        <a:pt x="136" y="81"/>
                      </a:lnTo>
                      <a:lnTo>
                        <a:pt x="136" y="76"/>
                      </a:lnTo>
                      <a:lnTo>
                        <a:pt x="137" y="73"/>
                      </a:lnTo>
                      <a:lnTo>
                        <a:pt x="136" y="69"/>
                      </a:lnTo>
                      <a:lnTo>
                        <a:pt x="133" y="64"/>
                      </a:lnTo>
                      <a:lnTo>
                        <a:pt x="128" y="55"/>
                      </a:lnTo>
                      <a:lnTo>
                        <a:pt x="125" y="45"/>
                      </a:lnTo>
                      <a:lnTo>
                        <a:pt x="122" y="34"/>
                      </a:lnTo>
                      <a:lnTo>
                        <a:pt x="121" y="24"/>
                      </a:lnTo>
                      <a:lnTo>
                        <a:pt x="118" y="6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0" name="Freeform 120"/>
                <p:cNvSpPr/>
                <p:nvPr/>
              </p:nvSpPr>
              <p:spPr>
                <a:xfrm>
                  <a:off x="6362640" y="4280040"/>
                  <a:ext cx="207720" cy="20016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00160"/>
                    <a:gd name="textAreaBottom" fmla="*/ 200520 h 200160"/>
                  </a:gdLst>
                  <a:ahLst/>
                  <a:rect l="textAreaLeft" t="textAreaTop" r="textAreaRight" b="textAreaBottom"/>
                  <a:pathLst>
                    <a:path w="131" h="126">
                      <a:moveTo>
                        <a:pt x="84" y="119"/>
                      </a:moveTo>
                      <a:lnTo>
                        <a:pt x="69" y="89"/>
                      </a:lnTo>
                      <a:lnTo>
                        <a:pt x="42" y="50"/>
                      </a:lnTo>
                      <a:lnTo>
                        <a:pt x="0" y="7"/>
                      </a:lnTo>
                      <a:lnTo>
                        <a:pt x="31" y="0"/>
                      </a:lnTo>
                      <a:lnTo>
                        <a:pt x="73" y="19"/>
                      </a:lnTo>
                      <a:lnTo>
                        <a:pt x="99" y="74"/>
                      </a:lnTo>
                      <a:lnTo>
                        <a:pt x="107" y="81"/>
                      </a:lnTo>
                      <a:lnTo>
                        <a:pt x="122" y="99"/>
                      </a:lnTo>
                      <a:lnTo>
                        <a:pt x="128" y="110"/>
                      </a:lnTo>
                      <a:lnTo>
                        <a:pt x="131" y="117"/>
                      </a:lnTo>
                      <a:lnTo>
                        <a:pt x="131" y="122"/>
                      </a:lnTo>
                      <a:lnTo>
                        <a:pt x="129" y="125"/>
                      </a:lnTo>
                      <a:lnTo>
                        <a:pt x="126" y="126"/>
                      </a:lnTo>
                      <a:lnTo>
                        <a:pt x="123" y="126"/>
                      </a:lnTo>
                      <a:lnTo>
                        <a:pt x="105" y="125"/>
                      </a:lnTo>
                      <a:lnTo>
                        <a:pt x="93" y="123"/>
                      </a:lnTo>
                      <a:lnTo>
                        <a:pt x="87" y="120"/>
                      </a:lnTo>
                      <a:lnTo>
                        <a:pt x="84" y="119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1" name="Freeform 121"/>
                <p:cNvSpPr/>
                <p:nvPr/>
              </p:nvSpPr>
              <p:spPr>
                <a:xfrm>
                  <a:off x="6605280" y="4499280"/>
                  <a:ext cx="158760" cy="9180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100" h="58">
                      <a:moveTo>
                        <a:pt x="0" y="43"/>
                      </a:moveTo>
                      <a:lnTo>
                        <a:pt x="0" y="0"/>
                      </a:lnTo>
                      <a:lnTo>
                        <a:pt x="38" y="15"/>
                      </a:lnTo>
                      <a:lnTo>
                        <a:pt x="100" y="35"/>
                      </a:lnTo>
                      <a:lnTo>
                        <a:pt x="73" y="53"/>
                      </a:lnTo>
                      <a:lnTo>
                        <a:pt x="27" y="58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2" name="Freeform 122"/>
                <p:cNvSpPr/>
                <p:nvPr/>
              </p:nvSpPr>
              <p:spPr>
                <a:xfrm>
                  <a:off x="6823080" y="4318200"/>
                  <a:ext cx="141120" cy="1746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89" h="110">
                      <a:moveTo>
                        <a:pt x="65" y="110"/>
                      </a:moveTo>
                      <a:lnTo>
                        <a:pt x="23" y="90"/>
                      </a:lnTo>
                      <a:lnTo>
                        <a:pt x="0" y="83"/>
                      </a:lnTo>
                      <a:lnTo>
                        <a:pt x="23" y="45"/>
                      </a:lnTo>
                      <a:lnTo>
                        <a:pt x="65" y="0"/>
                      </a:lnTo>
                      <a:lnTo>
                        <a:pt x="89" y="41"/>
                      </a:lnTo>
                      <a:lnTo>
                        <a:pt x="77" y="57"/>
                      </a:lnTo>
                      <a:lnTo>
                        <a:pt x="65" y="11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3" name="Freeform 123"/>
                <p:cNvSpPr/>
                <p:nvPr/>
              </p:nvSpPr>
              <p:spPr>
                <a:xfrm>
                  <a:off x="5022720" y="3025800"/>
                  <a:ext cx="2049480" cy="1317600"/>
                </a:xfrm>
                <a:custGeom>
                  <a:avLst/>
                  <a:gdLst>
                    <a:gd name="textAreaLeft" fmla="*/ 0 w 2049480"/>
                    <a:gd name="textAreaRight" fmla="*/ 2049840 w 2049480"/>
                    <a:gd name="textAreaTop" fmla="*/ 0 h 1317600"/>
                    <a:gd name="textAreaBottom" fmla="*/ 1317960 h 1317600"/>
                  </a:gdLst>
                  <a:ahLst/>
                  <a:rect l="textAreaLeft" t="textAreaTop" r="textAreaRight" b="textAreaBottom"/>
                  <a:pathLst>
                    <a:path w="1291" h="830">
                      <a:moveTo>
                        <a:pt x="1252" y="234"/>
                      </a:moveTo>
                      <a:lnTo>
                        <a:pt x="1252" y="234"/>
                      </a:lnTo>
                      <a:lnTo>
                        <a:pt x="1253" y="223"/>
                      </a:lnTo>
                      <a:lnTo>
                        <a:pt x="1256" y="208"/>
                      </a:lnTo>
                      <a:lnTo>
                        <a:pt x="1268" y="173"/>
                      </a:lnTo>
                      <a:lnTo>
                        <a:pt x="1282" y="142"/>
                      </a:lnTo>
                      <a:lnTo>
                        <a:pt x="1287" y="130"/>
                      </a:lnTo>
                      <a:lnTo>
                        <a:pt x="1271" y="139"/>
                      </a:lnTo>
                      <a:lnTo>
                        <a:pt x="1261" y="143"/>
                      </a:lnTo>
                      <a:lnTo>
                        <a:pt x="1258" y="145"/>
                      </a:lnTo>
                      <a:lnTo>
                        <a:pt x="1258" y="143"/>
                      </a:lnTo>
                      <a:lnTo>
                        <a:pt x="1256" y="133"/>
                      </a:lnTo>
                      <a:lnTo>
                        <a:pt x="1255" y="118"/>
                      </a:lnTo>
                      <a:lnTo>
                        <a:pt x="1252" y="98"/>
                      </a:lnTo>
                      <a:lnTo>
                        <a:pt x="1246" y="97"/>
                      </a:lnTo>
                      <a:lnTo>
                        <a:pt x="1240" y="94"/>
                      </a:lnTo>
                      <a:lnTo>
                        <a:pt x="1232" y="91"/>
                      </a:lnTo>
                      <a:lnTo>
                        <a:pt x="1225" y="85"/>
                      </a:lnTo>
                      <a:lnTo>
                        <a:pt x="1219" y="79"/>
                      </a:lnTo>
                      <a:lnTo>
                        <a:pt x="1213" y="70"/>
                      </a:lnTo>
                      <a:lnTo>
                        <a:pt x="1211" y="60"/>
                      </a:lnTo>
                      <a:lnTo>
                        <a:pt x="1210" y="48"/>
                      </a:lnTo>
                      <a:lnTo>
                        <a:pt x="1207" y="38"/>
                      </a:lnTo>
                      <a:lnTo>
                        <a:pt x="1201" y="18"/>
                      </a:lnTo>
                      <a:lnTo>
                        <a:pt x="1195" y="5"/>
                      </a:lnTo>
                      <a:lnTo>
                        <a:pt x="1193" y="0"/>
                      </a:lnTo>
                      <a:lnTo>
                        <a:pt x="1155" y="6"/>
                      </a:lnTo>
                      <a:lnTo>
                        <a:pt x="1149" y="17"/>
                      </a:lnTo>
                      <a:lnTo>
                        <a:pt x="1134" y="39"/>
                      </a:lnTo>
                      <a:lnTo>
                        <a:pt x="1116" y="63"/>
                      </a:lnTo>
                      <a:lnTo>
                        <a:pt x="1109" y="73"/>
                      </a:lnTo>
                      <a:lnTo>
                        <a:pt x="1101" y="77"/>
                      </a:lnTo>
                      <a:lnTo>
                        <a:pt x="1091" y="79"/>
                      </a:lnTo>
                      <a:lnTo>
                        <a:pt x="1074" y="79"/>
                      </a:lnTo>
                      <a:lnTo>
                        <a:pt x="1026" y="80"/>
                      </a:lnTo>
                      <a:lnTo>
                        <a:pt x="981" y="80"/>
                      </a:lnTo>
                      <a:lnTo>
                        <a:pt x="954" y="80"/>
                      </a:lnTo>
                      <a:lnTo>
                        <a:pt x="945" y="79"/>
                      </a:lnTo>
                      <a:lnTo>
                        <a:pt x="931" y="74"/>
                      </a:lnTo>
                      <a:lnTo>
                        <a:pt x="916" y="66"/>
                      </a:lnTo>
                      <a:lnTo>
                        <a:pt x="907" y="60"/>
                      </a:lnTo>
                      <a:lnTo>
                        <a:pt x="898" y="53"/>
                      </a:lnTo>
                      <a:lnTo>
                        <a:pt x="889" y="47"/>
                      </a:lnTo>
                      <a:lnTo>
                        <a:pt x="878" y="42"/>
                      </a:lnTo>
                      <a:lnTo>
                        <a:pt x="869" y="39"/>
                      </a:lnTo>
                      <a:lnTo>
                        <a:pt x="860" y="38"/>
                      </a:lnTo>
                      <a:lnTo>
                        <a:pt x="845" y="39"/>
                      </a:lnTo>
                      <a:lnTo>
                        <a:pt x="841" y="39"/>
                      </a:lnTo>
                      <a:lnTo>
                        <a:pt x="841" y="79"/>
                      </a:lnTo>
                      <a:lnTo>
                        <a:pt x="813" y="70"/>
                      </a:lnTo>
                      <a:lnTo>
                        <a:pt x="780" y="60"/>
                      </a:lnTo>
                      <a:lnTo>
                        <a:pt x="774" y="60"/>
                      </a:lnTo>
                      <a:lnTo>
                        <a:pt x="764" y="65"/>
                      </a:lnTo>
                      <a:lnTo>
                        <a:pt x="738" y="80"/>
                      </a:lnTo>
                      <a:lnTo>
                        <a:pt x="712" y="97"/>
                      </a:lnTo>
                      <a:lnTo>
                        <a:pt x="699" y="106"/>
                      </a:lnTo>
                      <a:lnTo>
                        <a:pt x="670" y="136"/>
                      </a:lnTo>
                      <a:lnTo>
                        <a:pt x="654" y="154"/>
                      </a:lnTo>
                      <a:lnTo>
                        <a:pt x="649" y="161"/>
                      </a:lnTo>
                      <a:lnTo>
                        <a:pt x="648" y="164"/>
                      </a:lnTo>
                      <a:lnTo>
                        <a:pt x="648" y="166"/>
                      </a:lnTo>
                      <a:lnTo>
                        <a:pt x="648" y="167"/>
                      </a:lnTo>
                      <a:lnTo>
                        <a:pt x="646" y="170"/>
                      </a:lnTo>
                      <a:lnTo>
                        <a:pt x="642" y="180"/>
                      </a:lnTo>
                      <a:lnTo>
                        <a:pt x="624" y="202"/>
                      </a:lnTo>
                      <a:lnTo>
                        <a:pt x="596" y="234"/>
                      </a:lnTo>
                      <a:lnTo>
                        <a:pt x="559" y="279"/>
                      </a:lnTo>
                      <a:lnTo>
                        <a:pt x="536" y="297"/>
                      </a:lnTo>
                      <a:lnTo>
                        <a:pt x="518" y="309"/>
                      </a:lnTo>
                      <a:lnTo>
                        <a:pt x="511" y="314"/>
                      </a:lnTo>
                      <a:lnTo>
                        <a:pt x="503" y="315"/>
                      </a:lnTo>
                      <a:lnTo>
                        <a:pt x="467" y="314"/>
                      </a:lnTo>
                      <a:lnTo>
                        <a:pt x="422" y="312"/>
                      </a:lnTo>
                      <a:lnTo>
                        <a:pt x="413" y="312"/>
                      </a:lnTo>
                      <a:lnTo>
                        <a:pt x="404" y="315"/>
                      </a:lnTo>
                      <a:lnTo>
                        <a:pt x="396" y="320"/>
                      </a:lnTo>
                      <a:lnTo>
                        <a:pt x="388" y="324"/>
                      </a:lnTo>
                      <a:lnTo>
                        <a:pt x="375" y="333"/>
                      </a:lnTo>
                      <a:lnTo>
                        <a:pt x="370" y="335"/>
                      </a:lnTo>
                      <a:lnTo>
                        <a:pt x="366" y="335"/>
                      </a:lnTo>
                      <a:lnTo>
                        <a:pt x="361" y="332"/>
                      </a:lnTo>
                      <a:lnTo>
                        <a:pt x="355" y="326"/>
                      </a:lnTo>
                      <a:lnTo>
                        <a:pt x="337" y="308"/>
                      </a:lnTo>
                      <a:lnTo>
                        <a:pt x="319" y="291"/>
                      </a:lnTo>
                      <a:lnTo>
                        <a:pt x="313" y="285"/>
                      </a:lnTo>
                      <a:lnTo>
                        <a:pt x="309" y="283"/>
                      </a:lnTo>
                      <a:lnTo>
                        <a:pt x="303" y="285"/>
                      </a:lnTo>
                      <a:lnTo>
                        <a:pt x="295" y="288"/>
                      </a:lnTo>
                      <a:lnTo>
                        <a:pt x="272" y="297"/>
                      </a:lnTo>
                      <a:lnTo>
                        <a:pt x="248" y="306"/>
                      </a:lnTo>
                      <a:lnTo>
                        <a:pt x="239" y="309"/>
                      </a:lnTo>
                      <a:lnTo>
                        <a:pt x="232" y="308"/>
                      </a:lnTo>
                      <a:lnTo>
                        <a:pt x="215" y="300"/>
                      </a:lnTo>
                      <a:lnTo>
                        <a:pt x="193" y="288"/>
                      </a:lnTo>
                      <a:lnTo>
                        <a:pt x="164" y="271"/>
                      </a:lnTo>
                      <a:lnTo>
                        <a:pt x="156" y="286"/>
                      </a:lnTo>
                      <a:lnTo>
                        <a:pt x="150" y="296"/>
                      </a:lnTo>
                      <a:lnTo>
                        <a:pt x="147" y="299"/>
                      </a:lnTo>
                      <a:lnTo>
                        <a:pt x="144" y="300"/>
                      </a:lnTo>
                      <a:lnTo>
                        <a:pt x="132" y="303"/>
                      </a:lnTo>
                      <a:lnTo>
                        <a:pt x="111" y="309"/>
                      </a:lnTo>
                      <a:lnTo>
                        <a:pt x="84" y="315"/>
                      </a:lnTo>
                      <a:lnTo>
                        <a:pt x="69" y="318"/>
                      </a:lnTo>
                      <a:lnTo>
                        <a:pt x="52" y="318"/>
                      </a:lnTo>
                      <a:lnTo>
                        <a:pt x="46" y="318"/>
                      </a:lnTo>
                      <a:lnTo>
                        <a:pt x="40" y="321"/>
                      </a:lnTo>
                      <a:lnTo>
                        <a:pt x="27" y="327"/>
                      </a:lnTo>
                      <a:lnTo>
                        <a:pt x="13" y="338"/>
                      </a:lnTo>
                      <a:lnTo>
                        <a:pt x="0" y="350"/>
                      </a:lnTo>
                      <a:lnTo>
                        <a:pt x="7" y="413"/>
                      </a:lnTo>
                      <a:lnTo>
                        <a:pt x="18" y="404"/>
                      </a:lnTo>
                      <a:lnTo>
                        <a:pt x="25" y="449"/>
                      </a:lnTo>
                      <a:lnTo>
                        <a:pt x="75" y="519"/>
                      </a:lnTo>
                      <a:lnTo>
                        <a:pt x="117" y="588"/>
                      </a:lnTo>
                      <a:lnTo>
                        <a:pt x="144" y="653"/>
                      </a:lnTo>
                      <a:lnTo>
                        <a:pt x="174" y="638"/>
                      </a:lnTo>
                      <a:lnTo>
                        <a:pt x="229" y="606"/>
                      </a:lnTo>
                      <a:lnTo>
                        <a:pt x="278" y="583"/>
                      </a:lnTo>
                      <a:lnTo>
                        <a:pt x="328" y="561"/>
                      </a:lnTo>
                      <a:lnTo>
                        <a:pt x="321" y="523"/>
                      </a:lnTo>
                      <a:lnTo>
                        <a:pt x="301" y="496"/>
                      </a:lnTo>
                      <a:lnTo>
                        <a:pt x="297" y="461"/>
                      </a:lnTo>
                      <a:lnTo>
                        <a:pt x="254" y="466"/>
                      </a:lnTo>
                      <a:lnTo>
                        <a:pt x="212" y="419"/>
                      </a:lnTo>
                      <a:lnTo>
                        <a:pt x="212" y="392"/>
                      </a:lnTo>
                      <a:lnTo>
                        <a:pt x="226" y="403"/>
                      </a:lnTo>
                      <a:lnTo>
                        <a:pt x="239" y="413"/>
                      </a:lnTo>
                      <a:lnTo>
                        <a:pt x="259" y="425"/>
                      </a:lnTo>
                      <a:lnTo>
                        <a:pt x="281" y="437"/>
                      </a:lnTo>
                      <a:lnTo>
                        <a:pt x="307" y="449"/>
                      </a:lnTo>
                      <a:lnTo>
                        <a:pt x="334" y="458"/>
                      </a:lnTo>
                      <a:lnTo>
                        <a:pt x="348" y="463"/>
                      </a:lnTo>
                      <a:lnTo>
                        <a:pt x="361" y="466"/>
                      </a:lnTo>
                      <a:lnTo>
                        <a:pt x="450" y="488"/>
                      </a:lnTo>
                      <a:lnTo>
                        <a:pt x="453" y="534"/>
                      </a:lnTo>
                      <a:lnTo>
                        <a:pt x="515" y="531"/>
                      </a:lnTo>
                      <a:lnTo>
                        <a:pt x="500" y="588"/>
                      </a:lnTo>
                      <a:lnTo>
                        <a:pt x="572" y="710"/>
                      </a:lnTo>
                      <a:lnTo>
                        <a:pt x="575" y="713"/>
                      </a:lnTo>
                      <a:lnTo>
                        <a:pt x="580" y="714"/>
                      </a:lnTo>
                      <a:lnTo>
                        <a:pt x="584" y="714"/>
                      </a:lnTo>
                      <a:lnTo>
                        <a:pt x="589" y="714"/>
                      </a:lnTo>
                      <a:lnTo>
                        <a:pt x="595" y="711"/>
                      </a:lnTo>
                      <a:lnTo>
                        <a:pt x="601" y="705"/>
                      </a:lnTo>
                      <a:lnTo>
                        <a:pt x="607" y="695"/>
                      </a:lnTo>
                      <a:lnTo>
                        <a:pt x="614" y="678"/>
                      </a:lnTo>
                      <a:lnTo>
                        <a:pt x="627" y="656"/>
                      </a:lnTo>
                      <a:lnTo>
                        <a:pt x="642" y="632"/>
                      </a:lnTo>
                      <a:lnTo>
                        <a:pt x="651" y="618"/>
                      </a:lnTo>
                      <a:lnTo>
                        <a:pt x="661" y="604"/>
                      </a:lnTo>
                      <a:lnTo>
                        <a:pt x="672" y="592"/>
                      </a:lnTo>
                      <a:lnTo>
                        <a:pt x="685" y="580"/>
                      </a:lnTo>
                      <a:lnTo>
                        <a:pt x="699" y="568"/>
                      </a:lnTo>
                      <a:lnTo>
                        <a:pt x="714" y="559"/>
                      </a:lnTo>
                      <a:lnTo>
                        <a:pt x="731" y="550"/>
                      </a:lnTo>
                      <a:lnTo>
                        <a:pt x="747" y="544"/>
                      </a:lnTo>
                      <a:lnTo>
                        <a:pt x="767" y="540"/>
                      </a:lnTo>
                      <a:lnTo>
                        <a:pt x="786" y="538"/>
                      </a:lnTo>
                      <a:lnTo>
                        <a:pt x="798" y="574"/>
                      </a:lnTo>
                      <a:lnTo>
                        <a:pt x="806" y="604"/>
                      </a:lnTo>
                      <a:lnTo>
                        <a:pt x="809" y="618"/>
                      </a:lnTo>
                      <a:lnTo>
                        <a:pt x="809" y="630"/>
                      </a:lnTo>
                      <a:lnTo>
                        <a:pt x="813" y="632"/>
                      </a:lnTo>
                      <a:lnTo>
                        <a:pt x="818" y="633"/>
                      </a:lnTo>
                      <a:lnTo>
                        <a:pt x="822" y="635"/>
                      </a:lnTo>
                      <a:lnTo>
                        <a:pt x="828" y="633"/>
                      </a:lnTo>
                      <a:lnTo>
                        <a:pt x="836" y="632"/>
                      </a:lnTo>
                      <a:lnTo>
                        <a:pt x="842" y="626"/>
                      </a:lnTo>
                      <a:lnTo>
                        <a:pt x="848" y="618"/>
                      </a:lnTo>
                      <a:lnTo>
                        <a:pt x="848" y="638"/>
                      </a:lnTo>
                      <a:lnTo>
                        <a:pt x="850" y="659"/>
                      </a:lnTo>
                      <a:lnTo>
                        <a:pt x="851" y="683"/>
                      </a:lnTo>
                      <a:lnTo>
                        <a:pt x="856" y="707"/>
                      </a:lnTo>
                      <a:lnTo>
                        <a:pt x="860" y="731"/>
                      </a:lnTo>
                      <a:lnTo>
                        <a:pt x="865" y="742"/>
                      </a:lnTo>
                      <a:lnTo>
                        <a:pt x="868" y="751"/>
                      </a:lnTo>
                      <a:lnTo>
                        <a:pt x="874" y="758"/>
                      </a:lnTo>
                      <a:lnTo>
                        <a:pt x="878" y="763"/>
                      </a:lnTo>
                      <a:lnTo>
                        <a:pt x="890" y="773"/>
                      </a:lnTo>
                      <a:lnTo>
                        <a:pt x="904" y="785"/>
                      </a:lnTo>
                      <a:lnTo>
                        <a:pt x="931" y="811"/>
                      </a:lnTo>
                      <a:lnTo>
                        <a:pt x="945" y="820"/>
                      </a:lnTo>
                      <a:lnTo>
                        <a:pt x="955" y="827"/>
                      </a:lnTo>
                      <a:lnTo>
                        <a:pt x="960" y="830"/>
                      </a:lnTo>
                      <a:lnTo>
                        <a:pt x="964" y="830"/>
                      </a:lnTo>
                      <a:lnTo>
                        <a:pt x="967" y="830"/>
                      </a:lnTo>
                      <a:lnTo>
                        <a:pt x="970" y="829"/>
                      </a:lnTo>
                      <a:lnTo>
                        <a:pt x="975" y="823"/>
                      </a:lnTo>
                      <a:lnTo>
                        <a:pt x="976" y="817"/>
                      </a:lnTo>
                      <a:lnTo>
                        <a:pt x="978" y="809"/>
                      </a:lnTo>
                      <a:lnTo>
                        <a:pt x="978" y="803"/>
                      </a:lnTo>
                      <a:lnTo>
                        <a:pt x="978" y="797"/>
                      </a:lnTo>
                      <a:lnTo>
                        <a:pt x="975" y="791"/>
                      </a:lnTo>
                      <a:lnTo>
                        <a:pt x="972" y="785"/>
                      </a:lnTo>
                      <a:lnTo>
                        <a:pt x="967" y="779"/>
                      </a:lnTo>
                      <a:lnTo>
                        <a:pt x="961" y="772"/>
                      </a:lnTo>
                      <a:lnTo>
                        <a:pt x="955" y="764"/>
                      </a:lnTo>
                      <a:lnTo>
                        <a:pt x="941" y="743"/>
                      </a:lnTo>
                      <a:lnTo>
                        <a:pt x="920" y="705"/>
                      </a:lnTo>
                      <a:lnTo>
                        <a:pt x="917" y="698"/>
                      </a:lnTo>
                      <a:lnTo>
                        <a:pt x="914" y="689"/>
                      </a:lnTo>
                      <a:lnTo>
                        <a:pt x="910" y="671"/>
                      </a:lnTo>
                      <a:lnTo>
                        <a:pt x="910" y="656"/>
                      </a:lnTo>
                      <a:lnTo>
                        <a:pt x="908" y="648"/>
                      </a:lnTo>
                      <a:lnTo>
                        <a:pt x="940" y="687"/>
                      </a:lnTo>
                      <a:lnTo>
                        <a:pt x="941" y="692"/>
                      </a:lnTo>
                      <a:lnTo>
                        <a:pt x="943" y="698"/>
                      </a:lnTo>
                      <a:lnTo>
                        <a:pt x="948" y="702"/>
                      </a:lnTo>
                      <a:lnTo>
                        <a:pt x="952" y="707"/>
                      </a:lnTo>
                      <a:lnTo>
                        <a:pt x="957" y="707"/>
                      </a:lnTo>
                      <a:lnTo>
                        <a:pt x="961" y="708"/>
                      </a:lnTo>
                      <a:lnTo>
                        <a:pt x="966" y="707"/>
                      </a:lnTo>
                      <a:lnTo>
                        <a:pt x="972" y="705"/>
                      </a:lnTo>
                      <a:lnTo>
                        <a:pt x="985" y="698"/>
                      </a:lnTo>
                      <a:lnTo>
                        <a:pt x="993" y="693"/>
                      </a:lnTo>
                      <a:lnTo>
                        <a:pt x="999" y="687"/>
                      </a:lnTo>
                      <a:lnTo>
                        <a:pt x="1003" y="681"/>
                      </a:lnTo>
                      <a:lnTo>
                        <a:pt x="1008" y="674"/>
                      </a:lnTo>
                      <a:lnTo>
                        <a:pt x="1014" y="660"/>
                      </a:lnTo>
                      <a:lnTo>
                        <a:pt x="1017" y="647"/>
                      </a:lnTo>
                      <a:lnTo>
                        <a:pt x="1017" y="633"/>
                      </a:lnTo>
                      <a:lnTo>
                        <a:pt x="1017" y="624"/>
                      </a:lnTo>
                      <a:lnTo>
                        <a:pt x="1017" y="615"/>
                      </a:lnTo>
                      <a:lnTo>
                        <a:pt x="975" y="588"/>
                      </a:lnTo>
                      <a:lnTo>
                        <a:pt x="975" y="541"/>
                      </a:lnTo>
                      <a:lnTo>
                        <a:pt x="1020" y="526"/>
                      </a:lnTo>
                      <a:lnTo>
                        <a:pt x="1017" y="565"/>
                      </a:lnTo>
                      <a:lnTo>
                        <a:pt x="1018" y="568"/>
                      </a:lnTo>
                      <a:lnTo>
                        <a:pt x="1023" y="577"/>
                      </a:lnTo>
                      <a:lnTo>
                        <a:pt x="1027" y="580"/>
                      </a:lnTo>
                      <a:lnTo>
                        <a:pt x="1030" y="583"/>
                      </a:lnTo>
                      <a:lnTo>
                        <a:pt x="1035" y="585"/>
                      </a:lnTo>
                      <a:lnTo>
                        <a:pt x="1039" y="583"/>
                      </a:lnTo>
                      <a:lnTo>
                        <a:pt x="1047" y="577"/>
                      </a:lnTo>
                      <a:lnTo>
                        <a:pt x="1051" y="570"/>
                      </a:lnTo>
                      <a:lnTo>
                        <a:pt x="1055" y="561"/>
                      </a:lnTo>
                      <a:lnTo>
                        <a:pt x="1055" y="534"/>
                      </a:lnTo>
                      <a:lnTo>
                        <a:pt x="1074" y="520"/>
                      </a:lnTo>
                      <a:lnTo>
                        <a:pt x="1095" y="505"/>
                      </a:lnTo>
                      <a:lnTo>
                        <a:pt x="1119" y="487"/>
                      </a:lnTo>
                      <a:lnTo>
                        <a:pt x="1145" y="467"/>
                      </a:lnTo>
                      <a:lnTo>
                        <a:pt x="1166" y="446"/>
                      </a:lnTo>
                      <a:lnTo>
                        <a:pt x="1175" y="437"/>
                      </a:lnTo>
                      <a:lnTo>
                        <a:pt x="1181" y="428"/>
                      </a:lnTo>
                      <a:lnTo>
                        <a:pt x="1186" y="419"/>
                      </a:lnTo>
                      <a:lnTo>
                        <a:pt x="1189" y="412"/>
                      </a:lnTo>
                      <a:lnTo>
                        <a:pt x="1192" y="389"/>
                      </a:lnTo>
                      <a:lnTo>
                        <a:pt x="1195" y="375"/>
                      </a:lnTo>
                      <a:lnTo>
                        <a:pt x="1195" y="366"/>
                      </a:lnTo>
                      <a:lnTo>
                        <a:pt x="1195" y="362"/>
                      </a:lnTo>
                      <a:lnTo>
                        <a:pt x="1192" y="357"/>
                      </a:lnTo>
                      <a:lnTo>
                        <a:pt x="1186" y="345"/>
                      </a:lnTo>
                      <a:lnTo>
                        <a:pt x="1180" y="329"/>
                      </a:lnTo>
                      <a:lnTo>
                        <a:pt x="1174" y="308"/>
                      </a:lnTo>
                      <a:lnTo>
                        <a:pt x="1189" y="262"/>
                      </a:lnTo>
                      <a:lnTo>
                        <a:pt x="1149" y="258"/>
                      </a:lnTo>
                      <a:lnTo>
                        <a:pt x="1149" y="235"/>
                      </a:lnTo>
                      <a:lnTo>
                        <a:pt x="1189" y="220"/>
                      </a:lnTo>
                      <a:lnTo>
                        <a:pt x="1226" y="220"/>
                      </a:lnTo>
                      <a:lnTo>
                        <a:pt x="1246" y="255"/>
                      </a:lnTo>
                      <a:lnTo>
                        <a:pt x="1243" y="312"/>
                      </a:lnTo>
                      <a:lnTo>
                        <a:pt x="1291" y="290"/>
                      </a:lnTo>
                      <a:lnTo>
                        <a:pt x="1291" y="255"/>
                      </a:lnTo>
                      <a:lnTo>
                        <a:pt x="1278" y="253"/>
                      </a:lnTo>
                      <a:lnTo>
                        <a:pt x="1265" y="249"/>
                      </a:lnTo>
                      <a:lnTo>
                        <a:pt x="1261" y="246"/>
                      </a:lnTo>
                      <a:lnTo>
                        <a:pt x="1256" y="243"/>
                      </a:lnTo>
                      <a:lnTo>
                        <a:pt x="1253" y="238"/>
                      </a:lnTo>
                      <a:lnTo>
                        <a:pt x="1252" y="234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024160" y="2908440"/>
                <a:ext cx="2408400" cy="1682640"/>
                <a:chOff x="5024160" y="2908440"/>
                <a:chExt cx="2408400" cy="1682640"/>
              </a:xfrm>
            </p:grpSpPr>
            <p:sp>
              <p:nvSpPr>
                <p:cNvPr id="975" name="Freeform 125"/>
                <p:cNvSpPr/>
                <p:nvPr/>
              </p:nvSpPr>
              <p:spPr>
                <a:xfrm>
                  <a:off x="7353000" y="2908440"/>
                  <a:ext cx="68400" cy="2541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43" h="160">
                      <a:moveTo>
                        <a:pt x="5" y="160"/>
                      </a:moveTo>
                      <a:lnTo>
                        <a:pt x="35" y="145"/>
                      </a:lnTo>
                      <a:lnTo>
                        <a:pt x="35" y="107"/>
                      </a:lnTo>
                      <a:lnTo>
                        <a:pt x="43" y="65"/>
                      </a:lnTo>
                      <a:lnTo>
                        <a:pt x="35" y="11"/>
                      </a:lnTo>
                      <a:lnTo>
                        <a:pt x="23" y="0"/>
                      </a:lnTo>
                      <a:lnTo>
                        <a:pt x="8" y="26"/>
                      </a:lnTo>
                      <a:lnTo>
                        <a:pt x="8" y="88"/>
                      </a:lnTo>
                      <a:lnTo>
                        <a:pt x="0" y="137"/>
                      </a:lnTo>
                      <a:lnTo>
                        <a:pt x="5" y="16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6" name="Freeform 126"/>
                <p:cNvSpPr/>
                <p:nvPr/>
              </p:nvSpPr>
              <p:spPr>
                <a:xfrm>
                  <a:off x="7305480" y="3218040"/>
                  <a:ext cx="127080" cy="77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80" h="49">
                      <a:moveTo>
                        <a:pt x="27" y="46"/>
                      </a:moveTo>
                      <a:lnTo>
                        <a:pt x="0" y="49"/>
                      </a:lnTo>
                      <a:lnTo>
                        <a:pt x="18" y="7"/>
                      </a:lnTo>
                      <a:lnTo>
                        <a:pt x="50" y="0"/>
                      </a:lnTo>
                      <a:lnTo>
                        <a:pt x="80" y="30"/>
                      </a:lnTo>
                      <a:lnTo>
                        <a:pt x="61" y="49"/>
                      </a:lnTo>
                      <a:lnTo>
                        <a:pt x="27" y="46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7" name="Freeform 127"/>
                <p:cNvSpPr/>
                <p:nvPr/>
              </p:nvSpPr>
              <p:spPr>
                <a:xfrm>
                  <a:off x="7105320" y="3327480"/>
                  <a:ext cx="255600" cy="2304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30400"/>
                    <a:gd name="textAreaBottom" fmla="*/ 230760 h 230400"/>
                  </a:gdLst>
                  <a:ahLst/>
                  <a:rect l="textAreaLeft" t="textAreaTop" r="textAreaRight" b="textAreaBottom"/>
                  <a:pathLst>
                    <a:path w="161" h="145">
                      <a:moveTo>
                        <a:pt x="134" y="8"/>
                      </a:moveTo>
                      <a:lnTo>
                        <a:pt x="114" y="27"/>
                      </a:lnTo>
                      <a:lnTo>
                        <a:pt x="99" y="45"/>
                      </a:lnTo>
                      <a:lnTo>
                        <a:pt x="87" y="50"/>
                      </a:lnTo>
                      <a:lnTo>
                        <a:pt x="72" y="60"/>
                      </a:lnTo>
                      <a:lnTo>
                        <a:pt x="69" y="87"/>
                      </a:lnTo>
                      <a:lnTo>
                        <a:pt x="22" y="87"/>
                      </a:lnTo>
                      <a:lnTo>
                        <a:pt x="0" y="110"/>
                      </a:lnTo>
                      <a:lnTo>
                        <a:pt x="22" y="134"/>
                      </a:lnTo>
                      <a:lnTo>
                        <a:pt x="61" y="142"/>
                      </a:lnTo>
                      <a:lnTo>
                        <a:pt x="84" y="145"/>
                      </a:lnTo>
                      <a:lnTo>
                        <a:pt x="114" y="130"/>
                      </a:lnTo>
                      <a:lnTo>
                        <a:pt x="129" y="77"/>
                      </a:lnTo>
                      <a:lnTo>
                        <a:pt x="149" y="50"/>
                      </a:lnTo>
                      <a:lnTo>
                        <a:pt x="161" y="23"/>
                      </a:lnTo>
                      <a:lnTo>
                        <a:pt x="161" y="0"/>
                      </a:lnTo>
                      <a:lnTo>
                        <a:pt x="134" y="8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8" name="Freeform 128"/>
                <p:cNvSpPr/>
                <p:nvPr/>
              </p:nvSpPr>
              <p:spPr>
                <a:xfrm>
                  <a:off x="7068960" y="3557880"/>
                  <a:ext cx="71280" cy="489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45" h="31">
                      <a:moveTo>
                        <a:pt x="18" y="27"/>
                      </a:moveTo>
                      <a:lnTo>
                        <a:pt x="0" y="7"/>
                      </a:lnTo>
                      <a:lnTo>
                        <a:pt x="27" y="0"/>
                      </a:lnTo>
                      <a:lnTo>
                        <a:pt x="45" y="12"/>
                      </a:lnTo>
                      <a:lnTo>
                        <a:pt x="38" y="31"/>
                      </a:lnTo>
                      <a:lnTo>
                        <a:pt x="18" y="2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9" name="Freeform 129"/>
                <p:cNvSpPr/>
                <p:nvPr/>
              </p:nvSpPr>
              <p:spPr>
                <a:xfrm>
                  <a:off x="6860880" y="3765600"/>
                  <a:ext cx="104760" cy="7956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66" h="50">
                      <a:moveTo>
                        <a:pt x="24" y="50"/>
                      </a:moveTo>
                      <a:lnTo>
                        <a:pt x="47" y="37"/>
                      </a:lnTo>
                      <a:lnTo>
                        <a:pt x="66" y="7"/>
                      </a:lnTo>
                      <a:lnTo>
                        <a:pt x="39" y="0"/>
                      </a:lnTo>
                      <a:lnTo>
                        <a:pt x="0" y="3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0" name="Freeform 130"/>
                <p:cNvSpPr/>
                <p:nvPr/>
              </p:nvSpPr>
              <p:spPr>
                <a:xfrm>
                  <a:off x="6649920" y="4208760"/>
                  <a:ext cx="217440" cy="2412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7" h="152">
                      <a:moveTo>
                        <a:pt x="118" y="0"/>
                      </a:moveTo>
                      <a:lnTo>
                        <a:pt x="80" y="10"/>
                      </a:lnTo>
                      <a:lnTo>
                        <a:pt x="43" y="30"/>
                      </a:lnTo>
                      <a:lnTo>
                        <a:pt x="18" y="60"/>
                      </a:lnTo>
                      <a:lnTo>
                        <a:pt x="15" y="61"/>
                      </a:lnTo>
                      <a:lnTo>
                        <a:pt x="9" y="66"/>
                      </a:lnTo>
                      <a:lnTo>
                        <a:pt x="3" y="72"/>
                      </a:lnTo>
                      <a:lnTo>
                        <a:pt x="0" y="75"/>
                      </a:lnTo>
                      <a:lnTo>
                        <a:pt x="0" y="79"/>
                      </a:lnTo>
                      <a:lnTo>
                        <a:pt x="0" y="85"/>
                      </a:lnTo>
                      <a:lnTo>
                        <a:pt x="3" y="95"/>
                      </a:lnTo>
                      <a:lnTo>
                        <a:pt x="11" y="114"/>
                      </a:lnTo>
                      <a:lnTo>
                        <a:pt x="23" y="141"/>
                      </a:lnTo>
                      <a:lnTo>
                        <a:pt x="61" y="152"/>
                      </a:lnTo>
                      <a:lnTo>
                        <a:pt x="103" y="107"/>
                      </a:lnTo>
                      <a:lnTo>
                        <a:pt x="110" y="104"/>
                      </a:lnTo>
                      <a:lnTo>
                        <a:pt x="116" y="99"/>
                      </a:lnTo>
                      <a:lnTo>
                        <a:pt x="124" y="95"/>
                      </a:lnTo>
                      <a:lnTo>
                        <a:pt x="130" y="88"/>
                      </a:lnTo>
                      <a:lnTo>
                        <a:pt x="136" y="81"/>
                      </a:lnTo>
                      <a:lnTo>
                        <a:pt x="136" y="76"/>
                      </a:lnTo>
                      <a:lnTo>
                        <a:pt x="137" y="73"/>
                      </a:lnTo>
                      <a:lnTo>
                        <a:pt x="136" y="69"/>
                      </a:lnTo>
                      <a:lnTo>
                        <a:pt x="133" y="64"/>
                      </a:lnTo>
                      <a:lnTo>
                        <a:pt x="128" y="55"/>
                      </a:lnTo>
                      <a:lnTo>
                        <a:pt x="125" y="45"/>
                      </a:lnTo>
                      <a:lnTo>
                        <a:pt x="122" y="34"/>
                      </a:lnTo>
                      <a:lnTo>
                        <a:pt x="121" y="24"/>
                      </a:lnTo>
                      <a:lnTo>
                        <a:pt x="118" y="6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1" name="Freeform 131"/>
                <p:cNvSpPr/>
                <p:nvPr/>
              </p:nvSpPr>
              <p:spPr>
                <a:xfrm>
                  <a:off x="6364080" y="4280040"/>
                  <a:ext cx="207720" cy="20016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00160"/>
                    <a:gd name="textAreaBottom" fmla="*/ 200520 h 200160"/>
                  </a:gdLst>
                  <a:ahLst/>
                  <a:rect l="textAreaLeft" t="textAreaTop" r="textAreaRight" b="textAreaBottom"/>
                  <a:pathLst>
                    <a:path w="131" h="126">
                      <a:moveTo>
                        <a:pt x="84" y="119"/>
                      </a:moveTo>
                      <a:lnTo>
                        <a:pt x="69" y="89"/>
                      </a:lnTo>
                      <a:lnTo>
                        <a:pt x="42" y="50"/>
                      </a:lnTo>
                      <a:lnTo>
                        <a:pt x="0" y="7"/>
                      </a:lnTo>
                      <a:lnTo>
                        <a:pt x="31" y="0"/>
                      </a:lnTo>
                      <a:lnTo>
                        <a:pt x="73" y="19"/>
                      </a:lnTo>
                      <a:lnTo>
                        <a:pt x="99" y="74"/>
                      </a:lnTo>
                      <a:lnTo>
                        <a:pt x="107" y="81"/>
                      </a:lnTo>
                      <a:lnTo>
                        <a:pt x="122" y="99"/>
                      </a:lnTo>
                      <a:lnTo>
                        <a:pt x="128" y="110"/>
                      </a:lnTo>
                      <a:lnTo>
                        <a:pt x="131" y="117"/>
                      </a:lnTo>
                      <a:lnTo>
                        <a:pt x="131" y="122"/>
                      </a:lnTo>
                      <a:lnTo>
                        <a:pt x="129" y="125"/>
                      </a:lnTo>
                      <a:lnTo>
                        <a:pt x="126" y="126"/>
                      </a:lnTo>
                      <a:lnTo>
                        <a:pt x="123" y="126"/>
                      </a:lnTo>
                      <a:lnTo>
                        <a:pt x="105" y="125"/>
                      </a:lnTo>
                      <a:lnTo>
                        <a:pt x="93" y="123"/>
                      </a:lnTo>
                      <a:lnTo>
                        <a:pt x="87" y="120"/>
                      </a:lnTo>
                      <a:lnTo>
                        <a:pt x="84" y="11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2" name="Freeform 132"/>
                <p:cNvSpPr/>
                <p:nvPr/>
              </p:nvSpPr>
              <p:spPr>
                <a:xfrm>
                  <a:off x="6606720" y="4499280"/>
                  <a:ext cx="158760" cy="9180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100" h="58">
                      <a:moveTo>
                        <a:pt x="0" y="43"/>
                      </a:moveTo>
                      <a:lnTo>
                        <a:pt x="0" y="0"/>
                      </a:lnTo>
                      <a:lnTo>
                        <a:pt x="38" y="15"/>
                      </a:lnTo>
                      <a:lnTo>
                        <a:pt x="100" y="35"/>
                      </a:lnTo>
                      <a:lnTo>
                        <a:pt x="73" y="53"/>
                      </a:lnTo>
                      <a:lnTo>
                        <a:pt x="27" y="58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3" name="Freeform 133"/>
                <p:cNvSpPr/>
                <p:nvPr/>
              </p:nvSpPr>
              <p:spPr>
                <a:xfrm>
                  <a:off x="6824520" y="4318200"/>
                  <a:ext cx="141120" cy="1746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89" h="110">
                      <a:moveTo>
                        <a:pt x="65" y="110"/>
                      </a:moveTo>
                      <a:lnTo>
                        <a:pt x="23" y="90"/>
                      </a:lnTo>
                      <a:lnTo>
                        <a:pt x="0" y="83"/>
                      </a:lnTo>
                      <a:lnTo>
                        <a:pt x="23" y="45"/>
                      </a:lnTo>
                      <a:lnTo>
                        <a:pt x="65" y="0"/>
                      </a:lnTo>
                      <a:lnTo>
                        <a:pt x="89" y="41"/>
                      </a:lnTo>
                      <a:lnTo>
                        <a:pt x="77" y="57"/>
                      </a:lnTo>
                      <a:lnTo>
                        <a:pt x="65" y="11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4" name="Freeform 134"/>
                <p:cNvSpPr/>
                <p:nvPr/>
              </p:nvSpPr>
              <p:spPr>
                <a:xfrm>
                  <a:off x="5024160" y="3025800"/>
                  <a:ext cx="2049480" cy="1317600"/>
                </a:xfrm>
                <a:custGeom>
                  <a:avLst/>
                  <a:gdLst>
                    <a:gd name="textAreaLeft" fmla="*/ 0 w 2049480"/>
                    <a:gd name="textAreaRight" fmla="*/ 2049840 w 2049480"/>
                    <a:gd name="textAreaTop" fmla="*/ 0 h 1317600"/>
                    <a:gd name="textAreaBottom" fmla="*/ 1317960 h 1317600"/>
                  </a:gdLst>
                  <a:ahLst/>
                  <a:rect l="textAreaLeft" t="textAreaTop" r="textAreaRight" b="textAreaBottom"/>
                  <a:pathLst>
                    <a:path w="1291" h="830">
                      <a:moveTo>
                        <a:pt x="1252" y="234"/>
                      </a:moveTo>
                      <a:lnTo>
                        <a:pt x="1252" y="234"/>
                      </a:lnTo>
                      <a:lnTo>
                        <a:pt x="1253" y="223"/>
                      </a:lnTo>
                      <a:lnTo>
                        <a:pt x="1256" y="208"/>
                      </a:lnTo>
                      <a:lnTo>
                        <a:pt x="1268" y="173"/>
                      </a:lnTo>
                      <a:lnTo>
                        <a:pt x="1282" y="142"/>
                      </a:lnTo>
                      <a:lnTo>
                        <a:pt x="1287" y="130"/>
                      </a:lnTo>
                      <a:lnTo>
                        <a:pt x="1271" y="139"/>
                      </a:lnTo>
                      <a:lnTo>
                        <a:pt x="1261" y="143"/>
                      </a:lnTo>
                      <a:lnTo>
                        <a:pt x="1258" y="145"/>
                      </a:lnTo>
                      <a:lnTo>
                        <a:pt x="1258" y="143"/>
                      </a:lnTo>
                      <a:lnTo>
                        <a:pt x="1256" y="133"/>
                      </a:lnTo>
                      <a:lnTo>
                        <a:pt x="1255" y="118"/>
                      </a:lnTo>
                      <a:lnTo>
                        <a:pt x="1252" y="98"/>
                      </a:lnTo>
                      <a:lnTo>
                        <a:pt x="1246" y="97"/>
                      </a:lnTo>
                      <a:lnTo>
                        <a:pt x="1240" y="94"/>
                      </a:lnTo>
                      <a:lnTo>
                        <a:pt x="1232" y="91"/>
                      </a:lnTo>
                      <a:lnTo>
                        <a:pt x="1225" y="85"/>
                      </a:lnTo>
                      <a:lnTo>
                        <a:pt x="1219" y="79"/>
                      </a:lnTo>
                      <a:lnTo>
                        <a:pt x="1213" y="70"/>
                      </a:lnTo>
                      <a:lnTo>
                        <a:pt x="1211" y="60"/>
                      </a:lnTo>
                      <a:lnTo>
                        <a:pt x="1210" y="48"/>
                      </a:lnTo>
                      <a:lnTo>
                        <a:pt x="1207" y="38"/>
                      </a:lnTo>
                      <a:lnTo>
                        <a:pt x="1201" y="18"/>
                      </a:lnTo>
                      <a:lnTo>
                        <a:pt x="1195" y="5"/>
                      </a:lnTo>
                      <a:lnTo>
                        <a:pt x="1193" y="0"/>
                      </a:lnTo>
                      <a:lnTo>
                        <a:pt x="1155" y="6"/>
                      </a:lnTo>
                      <a:lnTo>
                        <a:pt x="1149" y="17"/>
                      </a:lnTo>
                      <a:lnTo>
                        <a:pt x="1134" y="39"/>
                      </a:lnTo>
                      <a:lnTo>
                        <a:pt x="1116" y="63"/>
                      </a:lnTo>
                      <a:lnTo>
                        <a:pt x="1109" y="73"/>
                      </a:lnTo>
                      <a:lnTo>
                        <a:pt x="1101" y="77"/>
                      </a:lnTo>
                      <a:lnTo>
                        <a:pt x="1091" y="79"/>
                      </a:lnTo>
                      <a:lnTo>
                        <a:pt x="1074" y="79"/>
                      </a:lnTo>
                      <a:lnTo>
                        <a:pt x="1026" y="80"/>
                      </a:lnTo>
                      <a:lnTo>
                        <a:pt x="981" y="80"/>
                      </a:lnTo>
                      <a:lnTo>
                        <a:pt x="954" y="80"/>
                      </a:lnTo>
                      <a:lnTo>
                        <a:pt x="945" y="79"/>
                      </a:lnTo>
                      <a:lnTo>
                        <a:pt x="931" y="74"/>
                      </a:lnTo>
                      <a:lnTo>
                        <a:pt x="916" y="66"/>
                      </a:lnTo>
                      <a:lnTo>
                        <a:pt x="907" y="60"/>
                      </a:lnTo>
                      <a:lnTo>
                        <a:pt x="898" y="53"/>
                      </a:lnTo>
                      <a:lnTo>
                        <a:pt x="889" y="47"/>
                      </a:lnTo>
                      <a:lnTo>
                        <a:pt x="878" y="42"/>
                      </a:lnTo>
                      <a:lnTo>
                        <a:pt x="869" y="39"/>
                      </a:lnTo>
                      <a:lnTo>
                        <a:pt x="860" y="38"/>
                      </a:lnTo>
                      <a:lnTo>
                        <a:pt x="845" y="39"/>
                      </a:lnTo>
                      <a:lnTo>
                        <a:pt x="841" y="39"/>
                      </a:lnTo>
                      <a:lnTo>
                        <a:pt x="841" y="79"/>
                      </a:lnTo>
                      <a:lnTo>
                        <a:pt x="813" y="70"/>
                      </a:lnTo>
                      <a:lnTo>
                        <a:pt x="780" y="60"/>
                      </a:lnTo>
                      <a:lnTo>
                        <a:pt x="774" y="60"/>
                      </a:lnTo>
                      <a:lnTo>
                        <a:pt x="764" y="65"/>
                      </a:lnTo>
                      <a:lnTo>
                        <a:pt x="738" y="80"/>
                      </a:lnTo>
                      <a:lnTo>
                        <a:pt x="712" y="97"/>
                      </a:lnTo>
                      <a:lnTo>
                        <a:pt x="699" y="106"/>
                      </a:lnTo>
                      <a:lnTo>
                        <a:pt x="670" y="136"/>
                      </a:lnTo>
                      <a:lnTo>
                        <a:pt x="654" y="154"/>
                      </a:lnTo>
                      <a:lnTo>
                        <a:pt x="649" y="161"/>
                      </a:lnTo>
                      <a:lnTo>
                        <a:pt x="648" y="164"/>
                      </a:lnTo>
                      <a:lnTo>
                        <a:pt x="648" y="166"/>
                      </a:lnTo>
                      <a:lnTo>
                        <a:pt x="648" y="167"/>
                      </a:lnTo>
                      <a:lnTo>
                        <a:pt x="646" y="170"/>
                      </a:lnTo>
                      <a:lnTo>
                        <a:pt x="642" y="180"/>
                      </a:lnTo>
                      <a:lnTo>
                        <a:pt x="624" y="202"/>
                      </a:lnTo>
                      <a:lnTo>
                        <a:pt x="596" y="234"/>
                      </a:lnTo>
                      <a:lnTo>
                        <a:pt x="559" y="279"/>
                      </a:lnTo>
                      <a:lnTo>
                        <a:pt x="536" y="297"/>
                      </a:lnTo>
                      <a:lnTo>
                        <a:pt x="518" y="309"/>
                      </a:lnTo>
                      <a:lnTo>
                        <a:pt x="511" y="314"/>
                      </a:lnTo>
                      <a:lnTo>
                        <a:pt x="503" y="315"/>
                      </a:lnTo>
                      <a:lnTo>
                        <a:pt x="467" y="314"/>
                      </a:lnTo>
                      <a:lnTo>
                        <a:pt x="422" y="312"/>
                      </a:lnTo>
                      <a:lnTo>
                        <a:pt x="413" y="312"/>
                      </a:lnTo>
                      <a:lnTo>
                        <a:pt x="404" y="315"/>
                      </a:lnTo>
                      <a:lnTo>
                        <a:pt x="396" y="320"/>
                      </a:lnTo>
                      <a:lnTo>
                        <a:pt x="388" y="324"/>
                      </a:lnTo>
                      <a:lnTo>
                        <a:pt x="375" y="333"/>
                      </a:lnTo>
                      <a:lnTo>
                        <a:pt x="370" y="335"/>
                      </a:lnTo>
                      <a:lnTo>
                        <a:pt x="366" y="335"/>
                      </a:lnTo>
                      <a:lnTo>
                        <a:pt x="361" y="332"/>
                      </a:lnTo>
                      <a:lnTo>
                        <a:pt x="355" y="326"/>
                      </a:lnTo>
                      <a:lnTo>
                        <a:pt x="337" y="308"/>
                      </a:lnTo>
                      <a:lnTo>
                        <a:pt x="319" y="291"/>
                      </a:lnTo>
                      <a:lnTo>
                        <a:pt x="313" y="285"/>
                      </a:lnTo>
                      <a:lnTo>
                        <a:pt x="309" y="283"/>
                      </a:lnTo>
                      <a:lnTo>
                        <a:pt x="303" y="285"/>
                      </a:lnTo>
                      <a:lnTo>
                        <a:pt x="295" y="288"/>
                      </a:lnTo>
                      <a:lnTo>
                        <a:pt x="272" y="297"/>
                      </a:lnTo>
                      <a:lnTo>
                        <a:pt x="248" y="306"/>
                      </a:lnTo>
                      <a:lnTo>
                        <a:pt x="239" y="309"/>
                      </a:lnTo>
                      <a:lnTo>
                        <a:pt x="232" y="308"/>
                      </a:lnTo>
                      <a:lnTo>
                        <a:pt x="215" y="300"/>
                      </a:lnTo>
                      <a:lnTo>
                        <a:pt x="193" y="288"/>
                      </a:lnTo>
                      <a:lnTo>
                        <a:pt x="164" y="271"/>
                      </a:lnTo>
                      <a:lnTo>
                        <a:pt x="156" y="286"/>
                      </a:lnTo>
                      <a:lnTo>
                        <a:pt x="150" y="296"/>
                      </a:lnTo>
                      <a:lnTo>
                        <a:pt x="147" y="299"/>
                      </a:lnTo>
                      <a:lnTo>
                        <a:pt x="144" y="300"/>
                      </a:lnTo>
                      <a:lnTo>
                        <a:pt x="132" y="303"/>
                      </a:lnTo>
                      <a:lnTo>
                        <a:pt x="111" y="309"/>
                      </a:lnTo>
                      <a:lnTo>
                        <a:pt x="84" y="315"/>
                      </a:lnTo>
                      <a:lnTo>
                        <a:pt x="69" y="318"/>
                      </a:lnTo>
                      <a:lnTo>
                        <a:pt x="52" y="318"/>
                      </a:lnTo>
                      <a:lnTo>
                        <a:pt x="46" y="318"/>
                      </a:lnTo>
                      <a:lnTo>
                        <a:pt x="40" y="321"/>
                      </a:lnTo>
                      <a:lnTo>
                        <a:pt x="27" y="327"/>
                      </a:lnTo>
                      <a:lnTo>
                        <a:pt x="13" y="338"/>
                      </a:lnTo>
                      <a:lnTo>
                        <a:pt x="0" y="350"/>
                      </a:lnTo>
                      <a:lnTo>
                        <a:pt x="7" y="413"/>
                      </a:lnTo>
                      <a:lnTo>
                        <a:pt x="18" y="404"/>
                      </a:lnTo>
                      <a:lnTo>
                        <a:pt x="25" y="449"/>
                      </a:lnTo>
                      <a:lnTo>
                        <a:pt x="75" y="519"/>
                      </a:lnTo>
                      <a:lnTo>
                        <a:pt x="117" y="588"/>
                      </a:lnTo>
                      <a:lnTo>
                        <a:pt x="144" y="653"/>
                      </a:lnTo>
                      <a:lnTo>
                        <a:pt x="174" y="638"/>
                      </a:lnTo>
                      <a:lnTo>
                        <a:pt x="229" y="606"/>
                      </a:lnTo>
                      <a:lnTo>
                        <a:pt x="278" y="583"/>
                      </a:lnTo>
                      <a:lnTo>
                        <a:pt x="328" y="561"/>
                      </a:lnTo>
                      <a:lnTo>
                        <a:pt x="321" y="523"/>
                      </a:lnTo>
                      <a:lnTo>
                        <a:pt x="301" y="496"/>
                      </a:lnTo>
                      <a:lnTo>
                        <a:pt x="297" y="461"/>
                      </a:lnTo>
                      <a:lnTo>
                        <a:pt x="254" y="466"/>
                      </a:lnTo>
                      <a:lnTo>
                        <a:pt x="212" y="419"/>
                      </a:lnTo>
                      <a:lnTo>
                        <a:pt x="212" y="392"/>
                      </a:lnTo>
                      <a:lnTo>
                        <a:pt x="226" y="403"/>
                      </a:lnTo>
                      <a:lnTo>
                        <a:pt x="239" y="413"/>
                      </a:lnTo>
                      <a:lnTo>
                        <a:pt x="259" y="425"/>
                      </a:lnTo>
                      <a:lnTo>
                        <a:pt x="281" y="437"/>
                      </a:lnTo>
                      <a:lnTo>
                        <a:pt x="307" y="449"/>
                      </a:lnTo>
                      <a:lnTo>
                        <a:pt x="334" y="458"/>
                      </a:lnTo>
                      <a:lnTo>
                        <a:pt x="348" y="463"/>
                      </a:lnTo>
                      <a:lnTo>
                        <a:pt x="361" y="466"/>
                      </a:lnTo>
                      <a:lnTo>
                        <a:pt x="450" y="488"/>
                      </a:lnTo>
                      <a:lnTo>
                        <a:pt x="453" y="534"/>
                      </a:lnTo>
                      <a:lnTo>
                        <a:pt x="515" y="531"/>
                      </a:lnTo>
                      <a:lnTo>
                        <a:pt x="500" y="588"/>
                      </a:lnTo>
                      <a:lnTo>
                        <a:pt x="572" y="710"/>
                      </a:lnTo>
                      <a:lnTo>
                        <a:pt x="575" y="713"/>
                      </a:lnTo>
                      <a:lnTo>
                        <a:pt x="580" y="714"/>
                      </a:lnTo>
                      <a:lnTo>
                        <a:pt x="584" y="714"/>
                      </a:lnTo>
                      <a:lnTo>
                        <a:pt x="589" y="714"/>
                      </a:lnTo>
                      <a:lnTo>
                        <a:pt x="595" y="711"/>
                      </a:lnTo>
                      <a:lnTo>
                        <a:pt x="601" y="705"/>
                      </a:lnTo>
                      <a:lnTo>
                        <a:pt x="607" y="695"/>
                      </a:lnTo>
                      <a:lnTo>
                        <a:pt x="614" y="678"/>
                      </a:lnTo>
                      <a:lnTo>
                        <a:pt x="627" y="656"/>
                      </a:lnTo>
                      <a:lnTo>
                        <a:pt x="642" y="632"/>
                      </a:lnTo>
                      <a:lnTo>
                        <a:pt x="651" y="618"/>
                      </a:lnTo>
                      <a:lnTo>
                        <a:pt x="661" y="604"/>
                      </a:lnTo>
                      <a:lnTo>
                        <a:pt x="672" y="592"/>
                      </a:lnTo>
                      <a:lnTo>
                        <a:pt x="685" y="580"/>
                      </a:lnTo>
                      <a:lnTo>
                        <a:pt x="699" y="568"/>
                      </a:lnTo>
                      <a:lnTo>
                        <a:pt x="714" y="559"/>
                      </a:lnTo>
                      <a:lnTo>
                        <a:pt x="731" y="550"/>
                      </a:lnTo>
                      <a:lnTo>
                        <a:pt x="747" y="544"/>
                      </a:lnTo>
                      <a:lnTo>
                        <a:pt x="767" y="540"/>
                      </a:lnTo>
                      <a:lnTo>
                        <a:pt x="786" y="538"/>
                      </a:lnTo>
                      <a:lnTo>
                        <a:pt x="798" y="574"/>
                      </a:lnTo>
                      <a:lnTo>
                        <a:pt x="806" y="604"/>
                      </a:lnTo>
                      <a:lnTo>
                        <a:pt x="809" y="618"/>
                      </a:lnTo>
                      <a:lnTo>
                        <a:pt x="809" y="630"/>
                      </a:lnTo>
                      <a:lnTo>
                        <a:pt x="813" y="632"/>
                      </a:lnTo>
                      <a:lnTo>
                        <a:pt x="818" y="633"/>
                      </a:lnTo>
                      <a:lnTo>
                        <a:pt x="822" y="635"/>
                      </a:lnTo>
                      <a:lnTo>
                        <a:pt x="828" y="633"/>
                      </a:lnTo>
                      <a:lnTo>
                        <a:pt x="836" y="632"/>
                      </a:lnTo>
                      <a:lnTo>
                        <a:pt x="842" y="626"/>
                      </a:lnTo>
                      <a:lnTo>
                        <a:pt x="848" y="618"/>
                      </a:lnTo>
                      <a:lnTo>
                        <a:pt x="848" y="638"/>
                      </a:lnTo>
                      <a:lnTo>
                        <a:pt x="850" y="659"/>
                      </a:lnTo>
                      <a:lnTo>
                        <a:pt x="851" y="683"/>
                      </a:lnTo>
                      <a:lnTo>
                        <a:pt x="856" y="707"/>
                      </a:lnTo>
                      <a:lnTo>
                        <a:pt x="860" y="731"/>
                      </a:lnTo>
                      <a:lnTo>
                        <a:pt x="865" y="742"/>
                      </a:lnTo>
                      <a:lnTo>
                        <a:pt x="868" y="751"/>
                      </a:lnTo>
                      <a:lnTo>
                        <a:pt x="874" y="758"/>
                      </a:lnTo>
                      <a:lnTo>
                        <a:pt x="878" y="763"/>
                      </a:lnTo>
                      <a:lnTo>
                        <a:pt x="890" y="773"/>
                      </a:lnTo>
                      <a:lnTo>
                        <a:pt x="904" y="785"/>
                      </a:lnTo>
                      <a:lnTo>
                        <a:pt x="931" y="811"/>
                      </a:lnTo>
                      <a:lnTo>
                        <a:pt x="945" y="820"/>
                      </a:lnTo>
                      <a:lnTo>
                        <a:pt x="955" y="827"/>
                      </a:lnTo>
                      <a:lnTo>
                        <a:pt x="960" y="830"/>
                      </a:lnTo>
                      <a:lnTo>
                        <a:pt x="964" y="830"/>
                      </a:lnTo>
                      <a:lnTo>
                        <a:pt x="967" y="830"/>
                      </a:lnTo>
                      <a:lnTo>
                        <a:pt x="970" y="829"/>
                      </a:lnTo>
                      <a:lnTo>
                        <a:pt x="975" y="823"/>
                      </a:lnTo>
                      <a:lnTo>
                        <a:pt x="976" y="817"/>
                      </a:lnTo>
                      <a:lnTo>
                        <a:pt x="978" y="809"/>
                      </a:lnTo>
                      <a:lnTo>
                        <a:pt x="978" y="803"/>
                      </a:lnTo>
                      <a:lnTo>
                        <a:pt x="978" y="797"/>
                      </a:lnTo>
                      <a:lnTo>
                        <a:pt x="975" y="791"/>
                      </a:lnTo>
                      <a:lnTo>
                        <a:pt x="972" y="785"/>
                      </a:lnTo>
                      <a:lnTo>
                        <a:pt x="967" y="779"/>
                      </a:lnTo>
                      <a:lnTo>
                        <a:pt x="961" y="772"/>
                      </a:lnTo>
                      <a:lnTo>
                        <a:pt x="955" y="764"/>
                      </a:lnTo>
                      <a:lnTo>
                        <a:pt x="941" y="743"/>
                      </a:lnTo>
                      <a:lnTo>
                        <a:pt x="920" y="705"/>
                      </a:lnTo>
                      <a:lnTo>
                        <a:pt x="917" y="698"/>
                      </a:lnTo>
                      <a:lnTo>
                        <a:pt x="914" y="689"/>
                      </a:lnTo>
                      <a:lnTo>
                        <a:pt x="910" y="671"/>
                      </a:lnTo>
                      <a:lnTo>
                        <a:pt x="910" y="656"/>
                      </a:lnTo>
                      <a:lnTo>
                        <a:pt x="908" y="648"/>
                      </a:lnTo>
                      <a:lnTo>
                        <a:pt x="940" y="687"/>
                      </a:lnTo>
                      <a:lnTo>
                        <a:pt x="941" y="692"/>
                      </a:lnTo>
                      <a:lnTo>
                        <a:pt x="943" y="698"/>
                      </a:lnTo>
                      <a:lnTo>
                        <a:pt x="948" y="702"/>
                      </a:lnTo>
                      <a:lnTo>
                        <a:pt x="952" y="707"/>
                      </a:lnTo>
                      <a:lnTo>
                        <a:pt x="957" y="707"/>
                      </a:lnTo>
                      <a:lnTo>
                        <a:pt x="961" y="708"/>
                      </a:lnTo>
                      <a:lnTo>
                        <a:pt x="966" y="707"/>
                      </a:lnTo>
                      <a:lnTo>
                        <a:pt x="972" y="705"/>
                      </a:lnTo>
                      <a:lnTo>
                        <a:pt x="985" y="698"/>
                      </a:lnTo>
                      <a:lnTo>
                        <a:pt x="993" y="693"/>
                      </a:lnTo>
                      <a:lnTo>
                        <a:pt x="999" y="687"/>
                      </a:lnTo>
                      <a:lnTo>
                        <a:pt x="1003" y="681"/>
                      </a:lnTo>
                      <a:lnTo>
                        <a:pt x="1008" y="674"/>
                      </a:lnTo>
                      <a:lnTo>
                        <a:pt x="1014" y="660"/>
                      </a:lnTo>
                      <a:lnTo>
                        <a:pt x="1017" y="647"/>
                      </a:lnTo>
                      <a:lnTo>
                        <a:pt x="1017" y="633"/>
                      </a:lnTo>
                      <a:lnTo>
                        <a:pt x="1017" y="624"/>
                      </a:lnTo>
                      <a:lnTo>
                        <a:pt x="1017" y="615"/>
                      </a:lnTo>
                      <a:lnTo>
                        <a:pt x="975" y="588"/>
                      </a:lnTo>
                      <a:lnTo>
                        <a:pt x="975" y="541"/>
                      </a:lnTo>
                      <a:lnTo>
                        <a:pt x="1020" y="526"/>
                      </a:lnTo>
                      <a:lnTo>
                        <a:pt x="1017" y="565"/>
                      </a:lnTo>
                      <a:lnTo>
                        <a:pt x="1018" y="568"/>
                      </a:lnTo>
                      <a:lnTo>
                        <a:pt x="1023" y="577"/>
                      </a:lnTo>
                      <a:lnTo>
                        <a:pt x="1027" y="580"/>
                      </a:lnTo>
                      <a:lnTo>
                        <a:pt x="1030" y="583"/>
                      </a:lnTo>
                      <a:lnTo>
                        <a:pt x="1035" y="585"/>
                      </a:lnTo>
                      <a:lnTo>
                        <a:pt x="1039" y="583"/>
                      </a:lnTo>
                      <a:lnTo>
                        <a:pt x="1047" y="577"/>
                      </a:lnTo>
                      <a:lnTo>
                        <a:pt x="1051" y="570"/>
                      </a:lnTo>
                      <a:lnTo>
                        <a:pt x="1055" y="561"/>
                      </a:lnTo>
                      <a:lnTo>
                        <a:pt x="1055" y="534"/>
                      </a:lnTo>
                      <a:lnTo>
                        <a:pt x="1074" y="520"/>
                      </a:lnTo>
                      <a:lnTo>
                        <a:pt x="1095" y="505"/>
                      </a:lnTo>
                      <a:lnTo>
                        <a:pt x="1119" y="487"/>
                      </a:lnTo>
                      <a:lnTo>
                        <a:pt x="1145" y="467"/>
                      </a:lnTo>
                      <a:lnTo>
                        <a:pt x="1166" y="446"/>
                      </a:lnTo>
                      <a:lnTo>
                        <a:pt x="1175" y="437"/>
                      </a:lnTo>
                      <a:lnTo>
                        <a:pt x="1181" y="428"/>
                      </a:lnTo>
                      <a:lnTo>
                        <a:pt x="1186" y="419"/>
                      </a:lnTo>
                      <a:lnTo>
                        <a:pt x="1189" y="412"/>
                      </a:lnTo>
                      <a:lnTo>
                        <a:pt x="1192" y="389"/>
                      </a:lnTo>
                      <a:lnTo>
                        <a:pt x="1195" y="375"/>
                      </a:lnTo>
                      <a:lnTo>
                        <a:pt x="1195" y="366"/>
                      </a:lnTo>
                      <a:lnTo>
                        <a:pt x="1195" y="362"/>
                      </a:lnTo>
                      <a:lnTo>
                        <a:pt x="1192" y="357"/>
                      </a:lnTo>
                      <a:lnTo>
                        <a:pt x="1186" y="345"/>
                      </a:lnTo>
                      <a:lnTo>
                        <a:pt x="1180" y="329"/>
                      </a:lnTo>
                      <a:lnTo>
                        <a:pt x="1174" y="308"/>
                      </a:lnTo>
                      <a:lnTo>
                        <a:pt x="1189" y="262"/>
                      </a:lnTo>
                      <a:lnTo>
                        <a:pt x="1149" y="258"/>
                      </a:lnTo>
                      <a:lnTo>
                        <a:pt x="1149" y="235"/>
                      </a:lnTo>
                      <a:lnTo>
                        <a:pt x="1189" y="220"/>
                      </a:lnTo>
                      <a:lnTo>
                        <a:pt x="1226" y="220"/>
                      </a:lnTo>
                      <a:lnTo>
                        <a:pt x="1246" y="255"/>
                      </a:lnTo>
                      <a:lnTo>
                        <a:pt x="1243" y="312"/>
                      </a:lnTo>
                      <a:lnTo>
                        <a:pt x="1291" y="290"/>
                      </a:lnTo>
                      <a:lnTo>
                        <a:pt x="1291" y="255"/>
                      </a:lnTo>
                      <a:lnTo>
                        <a:pt x="1278" y="253"/>
                      </a:lnTo>
                      <a:lnTo>
                        <a:pt x="1265" y="249"/>
                      </a:lnTo>
                      <a:lnTo>
                        <a:pt x="1261" y="246"/>
                      </a:lnTo>
                      <a:lnTo>
                        <a:pt x="1256" y="243"/>
                      </a:lnTo>
                      <a:lnTo>
                        <a:pt x="1253" y="238"/>
                      </a:lnTo>
                      <a:lnTo>
                        <a:pt x="1252" y="234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985" name=""/>
            <p:cNvGrpSpPr/>
            <p:nvPr/>
          </p:nvGrpSpPr>
          <p:grpSpPr>
            <a:xfrm>
              <a:off x="3905280" y="3478320"/>
              <a:ext cx="1517040" cy="1749240"/>
              <a:chOff x="3905280" y="3478320"/>
              <a:chExt cx="1517040" cy="174924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3905280" y="3479760"/>
                <a:ext cx="1515240" cy="1747800"/>
                <a:chOff x="3905280" y="3479760"/>
                <a:chExt cx="1515240" cy="1747800"/>
              </a:xfrm>
            </p:grpSpPr>
            <p:sp>
              <p:nvSpPr>
                <p:cNvPr id="987" name="Freeform 137"/>
                <p:cNvSpPr/>
                <p:nvPr/>
              </p:nvSpPr>
              <p:spPr>
                <a:xfrm>
                  <a:off x="5232240" y="4630680"/>
                  <a:ext cx="188280" cy="34452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344520"/>
                    <a:gd name="textAreaBottom" fmla="*/ 344880 h 344520"/>
                  </a:gdLst>
                  <a:ahLst/>
                  <a:rect l="textAreaLeft" t="textAreaTop" r="textAreaRight" b="textAreaBottom"/>
                  <a:pathLst>
                    <a:path w="119" h="217">
                      <a:moveTo>
                        <a:pt x="119" y="69"/>
                      </a:moveTo>
                      <a:lnTo>
                        <a:pt x="107" y="22"/>
                      </a:lnTo>
                      <a:lnTo>
                        <a:pt x="92" y="0"/>
                      </a:lnTo>
                      <a:lnTo>
                        <a:pt x="73" y="22"/>
                      </a:lnTo>
                      <a:lnTo>
                        <a:pt x="35" y="57"/>
                      </a:lnTo>
                      <a:lnTo>
                        <a:pt x="29" y="62"/>
                      </a:lnTo>
                      <a:lnTo>
                        <a:pt x="18" y="71"/>
                      </a:lnTo>
                      <a:lnTo>
                        <a:pt x="11" y="77"/>
                      </a:lnTo>
                      <a:lnTo>
                        <a:pt x="6" y="84"/>
                      </a:lnTo>
                      <a:lnTo>
                        <a:pt x="2" y="92"/>
                      </a:lnTo>
                      <a:lnTo>
                        <a:pt x="0" y="99"/>
                      </a:lnTo>
                      <a:lnTo>
                        <a:pt x="2" y="116"/>
                      </a:lnTo>
                      <a:lnTo>
                        <a:pt x="6" y="135"/>
                      </a:lnTo>
                      <a:lnTo>
                        <a:pt x="12" y="156"/>
                      </a:lnTo>
                      <a:lnTo>
                        <a:pt x="12" y="199"/>
                      </a:lnTo>
                      <a:lnTo>
                        <a:pt x="17" y="203"/>
                      </a:lnTo>
                      <a:lnTo>
                        <a:pt x="30" y="211"/>
                      </a:lnTo>
                      <a:lnTo>
                        <a:pt x="36" y="214"/>
                      </a:lnTo>
                      <a:lnTo>
                        <a:pt x="42" y="217"/>
                      </a:lnTo>
                      <a:lnTo>
                        <a:pt x="47" y="217"/>
                      </a:lnTo>
                      <a:lnTo>
                        <a:pt x="49" y="215"/>
                      </a:lnTo>
                      <a:lnTo>
                        <a:pt x="50" y="214"/>
                      </a:lnTo>
                      <a:lnTo>
                        <a:pt x="65" y="159"/>
                      </a:lnTo>
                      <a:lnTo>
                        <a:pt x="89" y="102"/>
                      </a:lnTo>
                      <a:lnTo>
                        <a:pt x="119" y="69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8" name="Freeform 138"/>
                <p:cNvSpPr/>
                <p:nvPr/>
              </p:nvSpPr>
              <p:spPr>
                <a:xfrm>
                  <a:off x="3905280" y="3479760"/>
                  <a:ext cx="1485720" cy="1747800"/>
                </a:xfrm>
                <a:custGeom>
                  <a:avLst/>
                  <a:gdLst>
                    <a:gd name="textAreaLeft" fmla="*/ 0 w 1485720"/>
                    <a:gd name="textAreaRight" fmla="*/ 1486080 w 1485720"/>
                    <a:gd name="textAreaTop" fmla="*/ 0 h 1747800"/>
                    <a:gd name="textAreaBottom" fmla="*/ 1748160 h 1747800"/>
                  </a:gdLst>
                  <a:ahLst/>
                  <a:rect l="textAreaLeft" t="textAreaTop" r="textAreaRight" b="textAreaBottom"/>
                  <a:pathLst>
                    <a:path w="936" h="1101">
                      <a:moveTo>
                        <a:pt x="699" y="65"/>
                      </a:moveTo>
                      <a:lnTo>
                        <a:pt x="639" y="87"/>
                      </a:lnTo>
                      <a:lnTo>
                        <a:pt x="597" y="99"/>
                      </a:lnTo>
                      <a:lnTo>
                        <a:pt x="555" y="84"/>
                      </a:lnTo>
                      <a:lnTo>
                        <a:pt x="508" y="72"/>
                      </a:lnTo>
                      <a:lnTo>
                        <a:pt x="505" y="107"/>
                      </a:lnTo>
                      <a:lnTo>
                        <a:pt x="466" y="92"/>
                      </a:lnTo>
                      <a:lnTo>
                        <a:pt x="432" y="80"/>
                      </a:lnTo>
                      <a:lnTo>
                        <a:pt x="383" y="72"/>
                      </a:lnTo>
                      <a:lnTo>
                        <a:pt x="375" y="18"/>
                      </a:lnTo>
                      <a:lnTo>
                        <a:pt x="366" y="0"/>
                      </a:lnTo>
                      <a:lnTo>
                        <a:pt x="301" y="0"/>
                      </a:lnTo>
                      <a:lnTo>
                        <a:pt x="256" y="3"/>
                      </a:lnTo>
                      <a:lnTo>
                        <a:pt x="237" y="11"/>
                      </a:lnTo>
                      <a:lnTo>
                        <a:pt x="164" y="15"/>
                      </a:lnTo>
                      <a:lnTo>
                        <a:pt x="127" y="65"/>
                      </a:lnTo>
                      <a:lnTo>
                        <a:pt x="87" y="130"/>
                      </a:lnTo>
                      <a:lnTo>
                        <a:pt x="11" y="191"/>
                      </a:lnTo>
                      <a:lnTo>
                        <a:pt x="8" y="202"/>
                      </a:lnTo>
                      <a:lnTo>
                        <a:pt x="3" y="215"/>
                      </a:lnTo>
                      <a:lnTo>
                        <a:pt x="2" y="234"/>
                      </a:lnTo>
                      <a:lnTo>
                        <a:pt x="0" y="256"/>
                      </a:lnTo>
                      <a:lnTo>
                        <a:pt x="2" y="268"/>
                      </a:lnTo>
                      <a:lnTo>
                        <a:pt x="3" y="282"/>
                      </a:lnTo>
                      <a:lnTo>
                        <a:pt x="6" y="295"/>
                      </a:lnTo>
                      <a:lnTo>
                        <a:pt x="11" y="309"/>
                      </a:lnTo>
                      <a:lnTo>
                        <a:pt x="15" y="324"/>
                      </a:lnTo>
                      <a:lnTo>
                        <a:pt x="23" y="341"/>
                      </a:lnTo>
                      <a:lnTo>
                        <a:pt x="20" y="344"/>
                      </a:lnTo>
                      <a:lnTo>
                        <a:pt x="18" y="350"/>
                      </a:lnTo>
                      <a:lnTo>
                        <a:pt x="18" y="357"/>
                      </a:lnTo>
                      <a:lnTo>
                        <a:pt x="20" y="369"/>
                      </a:lnTo>
                      <a:lnTo>
                        <a:pt x="23" y="383"/>
                      </a:lnTo>
                      <a:lnTo>
                        <a:pt x="30" y="402"/>
                      </a:lnTo>
                      <a:lnTo>
                        <a:pt x="42" y="423"/>
                      </a:lnTo>
                      <a:lnTo>
                        <a:pt x="44" y="428"/>
                      </a:lnTo>
                      <a:lnTo>
                        <a:pt x="48" y="438"/>
                      </a:lnTo>
                      <a:lnTo>
                        <a:pt x="57" y="454"/>
                      </a:lnTo>
                      <a:lnTo>
                        <a:pt x="63" y="461"/>
                      </a:lnTo>
                      <a:lnTo>
                        <a:pt x="71" y="469"/>
                      </a:lnTo>
                      <a:lnTo>
                        <a:pt x="80" y="475"/>
                      </a:lnTo>
                      <a:lnTo>
                        <a:pt x="92" y="481"/>
                      </a:lnTo>
                      <a:lnTo>
                        <a:pt x="105" y="485"/>
                      </a:lnTo>
                      <a:lnTo>
                        <a:pt x="121" y="488"/>
                      </a:lnTo>
                      <a:lnTo>
                        <a:pt x="139" y="490"/>
                      </a:lnTo>
                      <a:lnTo>
                        <a:pt x="158" y="488"/>
                      </a:lnTo>
                      <a:lnTo>
                        <a:pt x="181" y="485"/>
                      </a:lnTo>
                      <a:lnTo>
                        <a:pt x="206" y="478"/>
                      </a:lnTo>
                      <a:lnTo>
                        <a:pt x="241" y="473"/>
                      </a:lnTo>
                      <a:lnTo>
                        <a:pt x="271" y="478"/>
                      </a:lnTo>
                      <a:lnTo>
                        <a:pt x="321" y="473"/>
                      </a:lnTo>
                      <a:lnTo>
                        <a:pt x="309" y="493"/>
                      </a:lnTo>
                      <a:lnTo>
                        <a:pt x="348" y="493"/>
                      </a:lnTo>
                      <a:lnTo>
                        <a:pt x="351" y="542"/>
                      </a:lnTo>
                      <a:lnTo>
                        <a:pt x="351" y="553"/>
                      </a:lnTo>
                      <a:lnTo>
                        <a:pt x="350" y="574"/>
                      </a:lnTo>
                      <a:lnTo>
                        <a:pt x="350" y="586"/>
                      </a:lnTo>
                      <a:lnTo>
                        <a:pt x="350" y="595"/>
                      </a:lnTo>
                      <a:lnTo>
                        <a:pt x="353" y="604"/>
                      </a:lnTo>
                      <a:lnTo>
                        <a:pt x="354" y="606"/>
                      </a:lnTo>
                      <a:lnTo>
                        <a:pt x="356" y="607"/>
                      </a:lnTo>
                      <a:lnTo>
                        <a:pt x="366" y="613"/>
                      </a:lnTo>
                      <a:lnTo>
                        <a:pt x="378" y="624"/>
                      </a:lnTo>
                      <a:lnTo>
                        <a:pt x="384" y="630"/>
                      </a:lnTo>
                      <a:lnTo>
                        <a:pt x="389" y="637"/>
                      </a:lnTo>
                      <a:lnTo>
                        <a:pt x="392" y="645"/>
                      </a:lnTo>
                      <a:lnTo>
                        <a:pt x="393" y="654"/>
                      </a:lnTo>
                      <a:lnTo>
                        <a:pt x="395" y="663"/>
                      </a:lnTo>
                      <a:lnTo>
                        <a:pt x="396" y="675"/>
                      </a:lnTo>
                      <a:lnTo>
                        <a:pt x="401" y="701"/>
                      </a:lnTo>
                      <a:lnTo>
                        <a:pt x="408" y="729"/>
                      </a:lnTo>
                      <a:lnTo>
                        <a:pt x="404" y="758"/>
                      </a:lnTo>
                      <a:lnTo>
                        <a:pt x="399" y="784"/>
                      </a:lnTo>
                      <a:lnTo>
                        <a:pt x="398" y="811"/>
                      </a:lnTo>
                      <a:lnTo>
                        <a:pt x="399" y="842"/>
                      </a:lnTo>
                      <a:lnTo>
                        <a:pt x="404" y="878"/>
                      </a:lnTo>
                      <a:lnTo>
                        <a:pt x="408" y="921"/>
                      </a:lnTo>
                      <a:lnTo>
                        <a:pt x="443" y="958"/>
                      </a:lnTo>
                      <a:lnTo>
                        <a:pt x="467" y="987"/>
                      </a:lnTo>
                      <a:lnTo>
                        <a:pt x="475" y="999"/>
                      </a:lnTo>
                      <a:lnTo>
                        <a:pt x="478" y="1005"/>
                      </a:lnTo>
                      <a:lnTo>
                        <a:pt x="475" y="1047"/>
                      </a:lnTo>
                      <a:lnTo>
                        <a:pt x="470" y="1082"/>
                      </a:lnTo>
                      <a:lnTo>
                        <a:pt x="532" y="1101"/>
                      </a:lnTo>
                      <a:lnTo>
                        <a:pt x="589" y="1089"/>
                      </a:lnTo>
                      <a:lnTo>
                        <a:pt x="619" y="1040"/>
                      </a:lnTo>
                      <a:lnTo>
                        <a:pt x="689" y="987"/>
                      </a:lnTo>
                      <a:lnTo>
                        <a:pt x="689" y="925"/>
                      </a:lnTo>
                      <a:lnTo>
                        <a:pt x="734" y="913"/>
                      </a:lnTo>
                      <a:lnTo>
                        <a:pt x="734" y="863"/>
                      </a:lnTo>
                      <a:lnTo>
                        <a:pt x="734" y="818"/>
                      </a:lnTo>
                      <a:lnTo>
                        <a:pt x="738" y="817"/>
                      </a:lnTo>
                      <a:lnTo>
                        <a:pt x="749" y="814"/>
                      </a:lnTo>
                      <a:lnTo>
                        <a:pt x="762" y="808"/>
                      </a:lnTo>
                      <a:lnTo>
                        <a:pt x="770" y="803"/>
                      </a:lnTo>
                      <a:lnTo>
                        <a:pt x="778" y="797"/>
                      </a:lnTo>
                      <a:lnTo>
                        <a:pt x="784" y="790"/>
                      </a:lnTo>
                      <a:lnTo>
                        <a:pt x="790" y="781"/>
                      </a:lnTo>
                      <a:lnTo>
                        <a:pt x="796" y="770"/>
                      </a:lnTo>
                      <a:lnTo>
                        <a:pt x="799" y="756"/>
                      </a:lnTo>
                      <a:lnTo>
                        <a:pt x="800" y="741"/>
                      </a:lnTo>
                      <a:lnTo>
                        <a:pt x="800" y="725"/>
                      </a:lnTo>
                      <a:lnTo>
                        <a:pt x="797" y="705"/>
                      </a:lnTo>
                      <a:lnTo>
                        <a:pt x="791" y="684"/>
                      </a:lnTo>
                      <a:lnTo>
                        <a:pt x="788" y="615"/>
                      </a:lnTo>
                      <a:lnTo>
                        <a:pt x="823" y="577"/>
                      </a:lnTo>
                      <a:lnTo>
                        <a:pt x="844" y="554"/>
                      </a:lnTo>
                      <a:lnTo>
                        <a:pt x="866" y="532"/>
                      </a:lnTo>
                      <a:lnTo>
                        <a:pt x="891" y="503"/>
                      </a:lnTo>
                      <a:lnTo>
                        <a:pt x="901" y="487"/>
                      </a:lnTo>
                      <a:lnTo>
                        <a:pt x="912" y="472"/>
                      </a:lnTo>
                      <a:lnTo>
                        <a:pt x="921" y="455"/>
                      </a:lnTo>
                      <a:lnTo>
                        <a:pt x="928" y="440"/>
                      </a:lnTo>
                      <a:lnTo>
                        <a:pt x="934" y="425"/>
                      </a:lnTo>
                      <a:lnTo>
                        <a:pt x="936" y="410"/>
                      </a:lnTo>
                      <a:lnTo>
                        <a:pt x="936" y="404"/>
                      </a:lnTo>
                      <a:lnTo>
                        <a:pt x="934" y="398"/>
                      </a:lnTo>
                      <a:lnTo>
                        <a:pt x="933" y="392"/>
                      </a:lnTo>
                      <a:lnTo>
                        <a:pt x="930" y="386"/>
                      </a:lnTo>
                      <a:lnTo>
                        <a:pt x="915" y="393"/>
                      </a:lnTo>
                      <a:lnTo>
                        <a:pt x="882" y="407"/>
                      </a:lnTo>
                      <a:lnTo>
                        <a:pt x="863" y="413"/>
                      </a:lnTo>
                      <a:lnTo>
                        <a:pt x="847" y="416"/>
                      </a:lnTo>
                      <a:lnTo>
                        <a:pt x="841" y="417"/>
                      </a:lnTo>
                      <a:lnTo>
                        <a:pt x="835" y="417"/>
                      </a:lnTo>
                      <a:lnTo>
                        <a:pt x="832" y="416"/>
                      </a:lnTo>
                      <a:lnTo>
                        <a:pt x="830" y="413"/>
                      </a:lnTo>
                      <a:lnTo>
                        <a:pt x="823" y="384"/>
                      </a:lnTo>
                      <a:lnTo>
                        <a:pt x="818" y="371"/>
                      </a:lnTo>
                      <a:lnTo>
                        <a:pt x="769" y="309"/>
                      </a:lnTo>
                      <a:lnTo>
                        <a:pt x="764" y="295"/>
                      </a:lnTo>
                      <a:lnTo>
                        <a:pt x="762" y="283"/>
                      </a:lnTo>
                      <a:lnTo>
                        <a:pt x="761" y="271"/>
                      </a:lnTo>
                      <a:lnTo>
                        <a:pt x="759" y="264"/>
                      </a:lnTo>
                      <a:lnTo>
                        <a:pt x="756" y="255"/>
                      </a:lnTo>
                      <a:lnTo>
                        <a:pt x="746" y="234"/>
                      </a:lnTo>
                      <a:lnTo>
                        <a:pt x="731" y="206"/>
                      </a:lnTo>
                      <a:lnTo>
                        <a:pt x="684" y="149"/>
                      </a:lnTo>
                      <a:lnTo>
                        <a:pt x="708" y="131"/>
                      </a:lnTo>
                      <a:lnTo>
                        <a:pt x="701" y="63"/>
                      </a:lnTo>
                      <a:lnTo>
                        <a:pt x="699" y="65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906360" y="3478320"/>
                <a:ext cx="1515960" cy="1747800"/>
                <a:chOff x="3906360" y="3478320"/>
                <a:chExt cx="1515960" cy="1747800"/>
              </a:xfrm>
            </p:grpSpPr>
            <p:sp>
              <p:nvSpPr>
                <p:cNvPr id="990" name="Freeform 140"/>
                <p:cNvSpPr/>
                <p:nvPr/>
              </p:nvSpPr>
              <p:spPr>
                <a:xfrm>
                  <a:off x="5233680" y="4629240"/>
                  <a:ext cx="188640" cy="34452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344520"/>
                    <a:gd name="textAreaBottom" fmla="*/ 344880 h 344520"/>
                  </a:gdLst>
                  <a:ahLst/>
                  <a:rect l="textAreaLeft" t="textAreaTop" r="textAreaRight" b="textAreaBottom"/>
                  <a:pathLst>
                    <a:path w="119" h="217">
                      <a:moveTo>
                        <a:pt x="119" y="69"/>
                      </a:moveTo>
                      <a:lnTo>
                        <a:pt x="107" y="22"/>
                      </a:lnTo>
                      <a:lnTo>
                        <a:pt x="92" y="0"/>
                      </a:lnTo>
                      <a:lnTo>
                        <a:pt x="73" y="22"/>
                      </a:lnTo>
                      <a:lnTo>
                        <a:pt x="35" y="57"/>
                      </a:lnTo>
                      <a:lnTo>
                        <a:pt x="29" y="62"/>
                      </a:lnTo>
                      <a:lnTo>
                        <a:pt x="18" y="71"/>
                      </a:lnTo>
                      <a:lnTo>
                        <a:pt x="11" y="77"/>
                      </a:lnTo>
                      <a:lnTo>
                        <a:pt x="6" y="84"/>
                      </a:lnTo>
                      <a:lnTo>
                        <a:pt x="2" y="92"/>
                      </a:lnTo>
                      <a:lnTo>
                        <a:pt x="0" y="99"/>
                      </a:lnTo>
                      <a:lnTo>
                        <a:pt x="2" y="116"/>
                      </a:lnTo>
                      <a:lnTo>
                        <a:pt x="6" y="135"/>
                      </a:lnTo>
                      <a:lnTo>
                        <a:pt x="12" y="156"/>
                      </a:lnTo>
                      <a:lnTo>
                        <a:pt x="12" y="199"/>
                      </a:lnTo>
                      <a:lnTo>
                        <a:pt x="17" y="203"/>
                      </a:lnTo>
                      <a:lnTo>
                        <a:pt x="30" y="211"/>
                      </a:lnTo>
                      <a:lnTo>
                        <a:pt x="36" y="214"/>
                      </a:lnTo>
                      <a:lnTo>
                        <a:pt x="42" y="217"/>
                      </a:lnTo>
                      <a:lnTo>
                        <a:pt x="47" y="217"/>
                      </a:lnTo>
                      <a:lnTo>
                        <a:pt x="49" y="215"/>
                      </a:lnTo>
                      <a:lnTo>
                        <a:pt x="50" y="214"/>
                      </a:lnTo>
                      <a:lnTo>
                        <a:pt x="65" y="159"/>
                      </a:lnTo>
                      <a:lnTo>
                        <a:pt x="89" y="102"/>
                      </a:lnTo>
                      <a:lnTo>
                        <a:pt x="119" y="6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1" name="Freeform 141"/>
                <p:cNvSpPr/>
                <p:nvPr/>
              </p:nvSpPr>
              <p:spPr>
                <a:xfrm>
                  <a:off x="3906360" y="3478320"/>
                  <a:ext cx="1486080" cy="1747800"/>
                </a:xfrm>
                <a:custGeom>
                  <a:avLst/>
                  <a:gdLst>
                    <a:gd name="textAreaLeft" fmla="*/ 0 w 1486080"/>
                    <a:gd name="textAreaRight" fmla="*/ 1486440 w 1486080"/>
                    <a:gd name="textAreaTop" fmla="*/ 0 h 1747800"/>
                    <a:gd name="textAreaBottom" fmla="*/ 1748160 h 1747800"/>
                  </a:gdLst>
                  <a:ahLst/>
                  <a:rect l="textAreaLeft" t="textAreaTop" r="textAreaRight" b="textAreaBottom"/>
                  <a:pathLst>
                    <a:path w="936" h="1101">
                      <a:moveTo>
                        <a:pt x="699" y="65"/>
                      </a:moveTo>
                      <a:lnTo>
                        <a:pt x="639" y="87"/>
                      </a:lnTo>
                      <a:lnTo>
                        <a:pt x="597" y="99"/>
                      </a:lnTo>
                      <a:lnTo>
                        <a:pt x="555" y="84"/>
                      </a:lnTo>
                      <a:lnTo>
                        <a:pt x="508" y="72"/>
                      </a:lnTo>
                      <a:lnTo>
                        <a:pt x="505" y="107"/>
                      </a:lnTo>
                      <a:lnTo>
                        <a:pt x="466" y="92"/>
                      </a:lnTo>
                      <a:lnTo>
                        <a:pt x="432" y="80"/>
                      </a:lnTo>
                      <a:lnTo>
                        <a:pt x="383" y="72"/>
                      </a:lnTo>
                      <a:lnTo>
                        <a:pt x="375" y="18"/>
                      </a:lnTo>
                      <a:lnTo>
                        <a:pt x="366" y="0"/>
                      </a:lnTo>
                      <a:lnTo>
                        <a:pt x="301" y="0"/>
                      </a:lnTo>
                      <a:lnTo>
                        <a:pt x="256" y="3"/>
                      </a:lnTo>
                      <a:lnTo>
                        <a:pt x="237" y="11"/>
                      </a:lnTo>
                      <a:lnTo>
                        <a:pt x="164" y="15"/>
                      </a:lnTo>
                      <a:lnTo>
                        <a:pt x="127" y="65"/>
                      </a:lnTo>
                      <a:lnTo>
                        <a:pt x="87" y="130"/>
                      </a:lnTo>
                      <a:lnTo>
                        <a:pt x="11" y="191"/>
                      </a:lnTo>
                      <a:lnTo>
                        <a:pt x="8" y="202"/>
                      </a:lnTo>
                      <a:lnTo>
                        <a:pt x="3" y="215"/>
                      </a:lnTo>
                      <a:lnTo>
                        <a:pt x="2" y="234"/>
                      </a:lnTo>
                      <a:lnTo>
                        <a:pt x="0" y="256"/>
                      </a:lnTo>
                      <a:lnTo>
                        <a:pt x="2" y="268"/>
                      </a:lnTo>
                      <a:lnTo>
                        <a:pt x="3" y="282"/>
                      </a:lnTo>
                      <a:lnTo>
                        <a:pt x="6" y="295"/>
                      </a:lnTo>
                      <a:lnTo>
                        <a:pt x="11" y="309"/>
                      </a:lnTo>
                      <a:lnTo>
                        <a:pt x="15" y="324"/>
                      </a:lnTo>
                      <a:lnTo>
                        <a:pt x="23" y="341"/>
                      </a:lnTo>
                      <a:lnTo>
                        <a:pt x="20" y="344"/>
                      </a:lnTo>
                      <a:lnTo>
                        <a:pt x="18" y="350"/>
                      </a:lnTo>
                      <a:lnTo>
                        <a:pt x="18" y="357"/>
                      </a:lnTo>
                      <a:lnTo>
                        <a:pt x="20" y="369"/>
                      </a:lnTo>
                      <a:lnTo>
                        <a:pt x="23" y="383"/>
                      </a:lnTo>
                      <a:lnTo>
                        <a:pt x="30" y="402"/>
                      </a:lnTo>
                      <a:lnTo>
                        <a:pt x="42" y="423"/>
                      </a:lnTo>
                      <a:lnTo>
                        <a:pt x="44" y="428"/>
                      </a:lnTo>
                      <a:lnTo>
                        <a:pt x="48" y="438"/>
                      </a:lnTo>
                      <a:lnTo>
                        <a:pt x="57" y="454"/>
                      </a:lnTo>
                      <a:lnTo>
                        <a:pt x="63" y="461"/>
                      </a:lnTo>
                      <a:lnTo>
                        <a:pt x="71" y="469"/>
                      </a:lnTo>
                      <a:lnTo>
                        <a:pt x="80" y="475"/>
                      </a:lnTo>
                      <a:lnTo>
                        <a:pt x="92" y="481"/>
                      </a:lnTo>
                      <a:lnTo>
                        <a:pt x="105" y="485"/>
                      </a:lnTo>
                      <a:lnTo>
                        <a:pt x="121" y="488"/>
                      </a:lnTo>
                      <a:lnTo>
                        <a:pt x="139" y="490"/>
                      </a:lnTo>
                      <a:lnTo>
                        <a:pt x="158" y="488"/>
                      </a:lnTo>
                      <a:lnTo>
                        <a:pt x="181" y="485"/>
                      </a:lnTo>
                      <a:lnTo>
                        <a:pt x="206" y="478"/>
                      </a:lnTo>
                      <a:lnTo>
                        <a:pt x="241" y="473"/>
                      </a:lnTo>
                      <a:lnTo>
                        <a:pt x="271" y="478"/>
                      </a:lnTo>
                      <a:lnTo>
                        <a:pt x="321" y="473"/>
                      </a:lnTo>
                      <a:lnTo>
                        <a:pt x="309" y="493"/>
                      </a:lnTo>
                      <a:lnTo>
                        <a:pt x="348" y="493"/>
                      </a:lnTo>
                      <a:lnTo>
                        <a:pt x="351" y="542"/>
                      </a:lnTo>
                      <a:lnTo>
                        <a:pt x="351" y="553"/>
                      </a:lnTo>
                      <a:lnTo>
                        <a:pt x="350" y="574"/>
                      </a:lnTo>
                      <a:lnTo>
                        <a:pt x="350" y="586"/>
                      </a:lnTo>
                      <a:lnTo>
                        <a:pt x="350" y="595"/>
                      </a:lnTo>
                      <a:lnTo>
                        <a:pt x="353" y="604"/>
                      </a:lnTo>
                      <a:lnTo>
                        <a:pt x="354" y="606"/>
                      </a:lnTo>
                      <a:lnTo>
                        <a:pt x="356" y="607"/>
                      </a:lnTo>
                      <a:lnTo>
                        <a:pt x="366" y="613"/>
                      </a:lnTo>
                      <a:lnTo>
                        <a:pt x="378" y="624"/>
                      </a:lnTo>
                      <a:lnTo>
                        <a:pt x="384" y="630"/>
                      </a:lnTo>
                      <a:lnTo>
                        <a:pt x="389" y="637"/>
                      </a:lnTo>
                      <a:lnTo>
                        <a:pt x="392" y="645"/>
                      </a:lnTo>
                      <a:lnTo>
                        <a:pt x="393" y="654"/>
                      </a:lnTo>
                      <a:lnTo>
                        <a:pt x="395" y="663"/>
                      </a:lnTo>
                      <a:lnTo>
                        <a:pt x="396" y="675"/>
                      </a:lnTo>
                      <a:lnTo>
                        <a:pt x="401" y="701"/>
                      </a:lnTo>
                      <a:lnTo>
                        <a:pt x="408" y="729"/>
                      </a:lnTo>
                      <a:lnTo>
                        <a:pt x="404" y="758"/>
                      </a:lnTo>
                      <a:lnTo>
                        <a:pt x="399" y="784"/>
                      </a:lnTo>
                      <a:lnTo>
                        <a:pt x="398" y="811"/>
                      </a:lnTo>
                      <a:lnTo>
                        <a:pt x="399" y="842"/>
                      </a:lnTo>
                      <a:lnTo>
                        <a:pt x="404" y="878"/>
                      </a:lnTo>
                      <a:lnTo>
                        <a:pt x="408" y="921"/>
                      </a:lnTo>
                      <a:lnTo>
                        <a:pt x="443" y="958"/>
                      </a:lnTo>
                      <a:lnTo>
                        <a:pt x="467" y="987"/>
                      </a:lnTo>
                      <a:lnTo>
                        <a:pt x="475" y="999"/>
                      </a:lnTo>
                      <a:lnTo>
                        <a:pt x="478" y="1005"/>
                      </a:lnTo>
                      <a:lnTo>
                        <a:pt x="475" y="1047"/>
                      </a:lnTo>
                      <a:lnTo>
                        <a:pt x="470" y="1082"/>
                      </a:lnTo>
                      <a:lnTo>
                        <a:pt x="532" y="1101"/>
                      </a:lnTo>
                      <a:lnTo>
                        <a:pt x="589" y="1089"/>
                      </a:lnTo>
                      <a:lnTo>
                        <a:pt x="619" y="1040"/>
                      </a:lnTo>
                      <a:lnTo>
                        <a:pt x="689" y="987"/>
                      </a:lnTo>
                      <a:lnTo>
                        <a:pt x="689" y="925"/>
                      </a:lnTo>
                      <a:lnTo>
                        <a:pt x="734" y="913"/>
                      </a:lnTo>
                      <a:lnTo>
                        <a:pt x="734" y="863"/>
                      </a:lnTo>
                      <a:lnTo>
                        <a:pt x="734" y="818"/>
                      </a:lnTo>
                      <a:lnTo>
                        <a:pt x="738" y="817"/>
                      </a:lnTo>
                      <a:lnTo>
                        <a:pt x="749" y="814"/>
                      </a:lnTo>
                      <a:lnTo>
                        <a:pt x="762" y="808"/>
                      </a:lnTo>
                      <a:lnTo>
                        <a:pt x="770" y="803"/>
                      </a:lnTo>
                      <a:lnTo>
                        <a:pt x="778" y="797"/>
                      </a:lnTo>
                      <a:lnTo>
                        <a:pt x="784" y="790"/>
                      </a:lnTo>
                      <a:lnTo>
                        <a:pt x="790" y="781"/>
                      </a:lnTo>
                      <a:lnTo>
                        <a:pt x="796" y="770"/>
                      </a:lnTo>
                      <a:lnTo>
                        <a:pt x="799" y="756"/>
                      </a:lnTo>
                      <a:lnTo>
                        <a:pt x="800" y="741"/>
                      </a:lnTo>
                      <a:lnTo>
                        <a:pt x="800" y="725"/>
                      </a:lnTo>
                      <a:lnTo>
                        <a:pt x="797" y="705"/>
                      </a:lnTo>
                      <a:lnTo>
                        <a:pt x="791" y="684"/>
                      </a:lnTo>
                      <a:lnTo>
                        <a:pt x="788" y="615"/>
                      </a:lnTo>
                      <a:lnTo>
                        <a:pt x="823" y="577"/>
                      </a:lnTo>
                      <a:lnTo>
                        <a:pt x="844" y="554"/>
                      </a:lnTo>
                      <a:lnTo>
                        <a:pt x="866" y="532"/>
                      </a:lnTo>
                      <a:lnTo>
                        <a:pt x="891" y="503"/>
                      </a:lnTo>
                      <a:lnTo>
                        <a:pt x="901" y="487"/>
                      </a:lnTo>
                      <a:lnTo>
                        <a:pt x="912" y="472"/>
                      </a:lnTo>
                      <a:lnTo>
                        <a:pt x="921" y="455"/>
                      </a:lnTo>
                      <a:lnTo>
                        <a:pt x="928" y="440"/>
                      </a:lnTo>
                      <a:lnTo>
                        <a:pt x="934" y="425"/>
                      </a:lnTo>
                      <a:lnTo>
                        <a:pt x="936" y="410"/>
                      </a:lnTo>
                      <a:lnTo>
                        <a:pt x="936" y="404"/>
                      </a:lnTo>
                      <a:lnTo>
                        <a:pt x="934" y="398"/>
                      </a:lnTo>
                      <a:lnTo>
                        <a:pt x="933" y="392"/>
                      </a:lnTo>
                      <a:lnTo>
                        <a:pt x="930" y="386"/>
                      </a:lnTo>
                      <a:lnTo>
                        <a:pt x="915" y="393"/>
                      </a:lnTo>
                      <a:lnTo>
                        <a:pt x="882" y="407"/>
                      </a:lnTo>
                      <a:lnTo>
                        <a:pt x="863" y="413"/>
                      </a:lnTo>
                      <a:lnTo>
                        <a:pt x="847" y="416"/>
                      </a:lnTo>
                      <a:lnTo>
                        <a:pt x="841" y="417"/>
                      </a:lnTo>
                      <a:lnTo>
                        <a:pt x="835" y="417"/>
                      </a:lnTo>
                      <a:lnTo>
                        <a:pt x="832" y="416"/>
                      </a:lnTo>
                      <a:lnTo>
                        <a:pt x="830" y="413"/>
                      </a:lnTo>
                      <a:lnTo>
                        <a:pt x="823" y="384"/>
                      </a:lnTo>
                      <a:lnTo>
                        <a:pt x="818" y="371"/>
                      </a:lnTo>
                      <a:lnTo>
                        <a:pt x="769" y="309"/>
                      </a:lnTo>
                      <a:lnTo>
                        <a:pt x="764" y="295"/>
                      </a:lnTo>
                      <a:lnTo>
                        <a:pt x="762" y="283"/>
                      </a:lnTo>
                      <a:lnTo>
                        <a:pt x="761" y="271"/>
                      </a:lnTo>
                      <a:lnTo>
                        <a:pt x="759" y="264"/>
                      </a:lnTo>
                      <a:lnTo>
                        <a:pt x="756" y="255"/>
                      </a:lnTo>
                      <a:lnTo>
                        <a:pt x="746" y="234"/>
                      </a:lnTo>
                      <a:lnTo>
                        <a:pt x="731" y="206"/>
                      </a:lnTo>
                      <a:lnTo>
                        <a:pt x="684" y="149"/>
                      </a:lnTo>
                      <a:lnTo>
                        <a:pt x="708" y="131"/>
                      </a:lnTo>
                      <a:lnTo>
                        <a:pt x="701" y="63"/>
                      </a:lnTo>
                      <a:lnTo>
                        <a:pt x="699" y="65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992" name=""/>
            <p:cNvGrpSpPr/>
            <p:nvPr/>
          </p:nvGrpSpPr>
          <p:grpSpPr>
            <a:xfrm>
              <a:off x="6746760" y="4362480"/>
              <a:ext cx="1486800" cy="1167840"/>
              <a:chOff x="6746760" y="4362480"/>
              <a:chExt cx="1486800" cy="1167840"/>
            </a:xfrm>
          </p:grpSpPr>
          <p:grpSp>
            <p:nvGrpSpPr>
              <p:cNvPr id="993" name=""/>
              <p:cNvGrpSpPr/>
              <p:nvPr/>
            </p:nvGrpSpPr>
            <p:grpSpPr>
              <a:xfrm>
                <a:off x="6746760" y="4363560"/>
                <a:ext cx="1486800" cy="1166760"/>
                <a:chOff x="6746760" y="4363560"/>
                <a:chExt cx="1486800" cy="1166760"/>
              </a:xfrm>
            </p:grpSpPr>
            <p:sp>
              <p:nvSpPr>
                <p:cNvPr id="994" name="Freeform 144"/>
                <p:cNvSpPr/>
                <p:nvPr/>
              </p:nvSpPr>
              <p:spPr>
                <a:xfrm>
                  <a:off x="7130520" y="4363560"/>
                  <a:ext cx="433080" cy="220680"/>
                </a:xfrm>
                <a:custGeom>
                  <a:avLst/>
                  <a:gdLst>
                    <a:gd name="textAreaLeft" fmla="*/ 0 w 433080"/>
                    <a:gd name="textAreaRight" fmla="*/ 433440 w 43308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73" h="139">
                      <a:moveTo>
                        <a:pt x="86" y="66"/>
                      </a:moveTo>
                      <a:lnTo>
                        <a:pt x="82" y="44"/>
                      </a:lnTo>
                      <a:lnTo>
                        <a:pt x="68" y="41"/>
                      </a:lnTo>
                      <a:lnTo>
                        <a:pt x="38" y="35"/>
                      </a:lnTo>
                      <a:lnTo>
                        <a:pt x="23" y="30"/>
                      </a:lnTo>
                      <a:lnTo>
                        <a:pt x="9" y="24"/>
                      </a:lnTo>
                      <a:lnTo>
                        <a:pt x="5" y="21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2" y="9"/>
                      </a:lnTo>
                      <a:lnTo>
                        <a:pt x="5" y="5"/>
                      </a:lnTo>
                      <a:lnTo>
                        <a:pt x="9" y="3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32" y="0"/>
                      </a:lnTo>
                      <a:lnTo>
                        <a:pt x="44" y="3"/>
                      </a:lnTo>
                      <a:lnTo>
                        <a:pt x="68" y="9"/>
                      </a:lnTo>
                      <a:lnTo>
                        <a:pt x="79" y="14"/>
                      </a:lnTo>
                      <a:lnTo>
                        <a:pt x="140" y="9"/>
                      </a:lnTo>
                      <a:lnTo>
                        <a:pt x="163" y="44"/>
                      </a:lnTo>
                      <a:lnTo>
                        <a:pt x="208" y="44"/>
                      </a:lnTo>
                      <a:lnTo>
                        <a:pt x="223" y="89"/>
                      </a:lnTo>
                      <a:lnTo>
                        <a:pt x="273" y="116"/>
                      </a:lnTo>
                      <a:lnTo>
                        <a:pt x="268" y="122"/>
                      </a:lnTo>
                      <a:lnTo>
                        <a:pt x="261" y="128"/>
                      </a:lnTo>
                      <a:lnTo>
                        <a:pt x="252" y="134"/>
                      </a:lnTo>
                      <a:lnTo>
                        <a:pt x="240" y="139"/>
                      </a:lnTo>
                      <a:lnTo>
                        <a:pt x="232" y="139"/>
                      </a:lnTo>
                      <a:lnTo>
                        <a:pt x="225" y="139"/>
                      </a:lnTo>
                      <a:lnTo>
                        <a:pt x="217" y="137"/>
                      </a:lnTo>
                      <a:lnTo>
                        <a:pt x="208" y="134"/>
                      </a:lnTo>
                      <a:lnTo>
                        <a:pt x="199" y="130"/>
                      </a:lnTo>
                      <a:lnTo>
                        <a:pt x="190" y="124"/>
                      </a:lnTo>
                      <a:lnTo>
                        <a:pt x="174" y="112"/>
                      </a:lnTo>
                      <a:lnTo>
                        <a:pt x="166" y="106"/>
                      </a:lnTo>
                      <a:lnTo>
                        <a:pt x="164" y="103"/>
                      </a:lnTo>
                      <a:lnTo>
                        <a:pt x="166" y="101"/>
                      </a:lnTo>
                      <a:lnTo>
                        <a:pt x="172" y="103"/>
                      </a:lnTo>
                      <a:lnTo>
                        <a:pt x="186" y="109"/>
                      </a:lnTo>
                      <a:lnTo>
                        <a:pt x="158" y="136"/>
                      </a:lnTo>
                      <a:lnTo>
                        <a:pt x="128" y="113"/>
                      </a:lnTo>
                      <a:lnTo>
                        <a:pt x="94" y="96"/>
                      </a:lnTo>
                      <a:lnTo>
                        <a:pt x="74" y="109"/>
                      </a:lnTo>
                      <a:lnTo>
                        <a:pt x="64" y="78"/>
                      </a:lnTo>
                      <a:lnTo>
                        <a:pt x="86" y="6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5" name="Freeform 145"/>
                <p:cNvSpPr/>
                <p:nvPr/>
              </p:nvSpPr>
              <p:spPr>
                <a:xfrm>
                  <a:off x="6746760" y="4595400"/>
                  <a:ext cx="872640" cy="693720"/>
                </a:xfrm>
                <a:custGeom>
                  <a:avLst/>
                  <a:gdLst>
                    <a:gd name="textAreaLeft" fmla="*/ 0 w 872640"/>
                    <a:gd name="textAreaRight" fmla="*/ 873000 w 872640"/>
                    <a:gd name="textAreaTop" fmla="*/ 0 h 693720"/>
                    <a:gd name="textAreaBottom" fmla="*/ 694080 h 693720"/>
                  </a:gdLst>
                  <a:ahLst/>
                  <a:rect l="textAreaLeft" t="textAreaTop" r="textAreaRight" b="textAreaBottom"/>
                  <a:pathLst>
                    <a:path w="550" h="437">
                      <a:moveTo>
                        <a:pt x="390" y="92"/>
                      </a:moveTo>
                      <a:lnTo>
                        <a:pt x="293" y="67"/>
                      </a:lnTo>
                      <a:lnTo>
                        <a:pt x="298" y="32"/>
                      </a:lnTo>
                      <a:lnTo>
                        <a:pt x="328" y="32"/>
                      </a:lnTo>
                      <a:lnTo>
                        <a:pt x="328" y="0"/>
                      </a:lnTo>
                      <a:lnTo>
                        <a:pt x="271" y="0"/>
                      </a:lnTo>
                      <a:lnTo>
                        <a:pt x="263" y="3"/>
                      </a:lnTo>
                      <a:lnTo>
                        <a:pt x="253" y="8"/>
                      </a:lnTo>
                      <a:lnTo>
                        <a:pt x="227" y="21"/>
                      </a:lnTo>
                      <a:lnTo>
                        <a:pt x="194" y="42"/>
                      </a:lnTo>
                      <a:lnTo>
                        <a:pt x="167" y="50"/>
                      </a:lnTo>
                      <a:lnTo>
                        <a:pt x="129" y="50"/>
                      </a:lnTo>
                      <a:lnTo>
                        <a:pt x="107" y="82"/>
                      </a:lnTo>
                      <a:lnTo>
                        <a:pt x="96" y="94"/>
                      </a:lnTo>
                      <a:lnTo>
                        <a:pt x="90" y="106"/>
                      </a:lnTo>
                      <a:lnTo>
                        <a:pt x="89" y="110"/>
                      </a:lnTo>
                      <a:lnTo>
                        <a:pt x="87" y="115"/>
                      </a:lnTo>
                      <a:lnTo>
                        <a:pt x="86" y="121"/>
                      </a:lnTo>
                      <a:lnTo>
                        <a:pt x="83" y="125"/>
                      </a:lnTo>
                      <a:lnTo>
                        <a:pt x="73" y="137"/>
                      </a:lnTo>
                      <a:lnTo>
                        <a:pt x="60" y="149"/>
                      </a:lnTo>
                      <a:lnTo>
                        <a:pt x="10" y="149"/>
                      </a:lnTo>
                      <a:lnTo>
                        <a:pt x="0" y="199"/>
                      </a:lnTo>
                      <a:lnTo>
                        <a:pt x="10" y="238"/>
                      </a:lnTo>
                      <a:lnTo>
                        <a:pt x="10" y="296"/>
                      </a:lnTo>
                      <a:lnTo>
                        <a:pt x="13" y="315"/>
                      </a:lnTo>
                      <a:lnTo>
                        <a:pt x="16" y="339"/>
                      </a:lnTo>
                      <a:lnTo>
                        <a:pt x="22" y="362"/>
                      </a:lnTo>
                      <a:lnTo>
                        <a:pt x="25" y="375"/>
                      </a:lnTo>
                      <a:lnTo>
                        <a:pt x="27" y="377"/>
                      </a:lnTo>
                      <a:lnTo>
                        <a:pt x="30" y="378"/>
                      </a:lnTo>
                      <a:lnTo>
                        <a:pt x="39" y="380"/>
                      </a:lnTo>
                      <a:lnTo>
                        <a:pt x="49" y="380"/>
                      </a:lnTo>
                      <a:lnTo>
                        <a:pt x="61" y="378"/>
                      </a:lnTo>
                      <a:lnTo>
                        <a:pt x="84" y="374"/>
                      </a:lnTo>
                      <a:lnTo>
                        <a:pt x="95" y="372"/>
                      </a:lnTo>
                      <a:lnTo>
                        <a:pt x="194" y="348"/>
                      </a:lnTo>
                      <a:lnTo>
                        <a:pt x="236" y="323"/>
                      </a:lnTo>
                      <a:lnTo>
                        <a:pt x="248" y="324"/>
                      </a:lnTo>
                      <a:lnTo>
                        <a:pt x="275" y="330"/>
                      </a:lnTo>
                      <a:lnTo>
                        <a:pt x="290" y="336"/>
                      </a:lnTo>
                      <a:lnTo>
                        <a:pt x="306" y="341"/>
                      </a:lnTo>
                      <a:lnTo>
                        <a:pt x="319" y="348"/>
                      </a:lnTo>
                      <a:lnTo>
                        <a:pt x="324" y="353"/>
                      </a:lnTo>
                      <a:lnTo>
                        <a:pt x="328" y="356"/>
                      </a:lnTo>
                      <a:lnTo>
                        <a:pt x="358" y="393"/>
                      </a:lnTo>
                      <a:lnTo>
                        <a:pt x="382" y="425"/>
                      </a:lnTo>
                      <a:lnTo>
                        <a:pt x="387" y="430"/>
                      </a:lnTo>
                      <a:lnTo>
                        <a:pt x="396" y="434"/>
                      </a:lnTo>
                      <a:lnTo>
                        <a:pt x="406" y="436"/>
                      </a:lnTo>
                      <a:lnTo>
                        <a:pt x="417" y="437"/>
                      </a:lnTo>
                      <a:lnTo>
                        <a:pt x="435" y="437"/>
                      </a:lnTo>
                      <a:lnTo>
                        <a:pt x="443" y="437"/>
                      </a:lnTo>
                      <a:lnTo>
                        <a:pt x="482" y="406"/>
                      </a:lnTo>
                      <a:lnTo>
                        <a:pt x="485" y="401"/>
                      </a:lnTo>
                      <a:lnTo>
                        <a:pt x="494" y="390"/>
                      </a:lnTo>
                      <a:lnTo>
                        <a:pt x="504" y="377"/>
                      </a:lnTo>
                      <a:lnTo>
                        <a:pt x="507" y="371"/>
                      </a:lnTo>
                      <a:lnTo>
                        <a:pt x="507" y="363"/>
                      </a:lnTo>
                      <a:lnTo>
                        <a:pt x="507" y="333"/>
                      </a:lnTo>
                      <a:lnTo>
                        <a:pt x="539" y="283"/>
                      </a:lnTo>
                      <a:lnTo>
                        <a:pt x="550" y="219"/>
                      </a:lnTo>
                      <a:lnTo>
                        <a:pt x="535" y="190"/>
                      </a:lnTo>
                      <a:lnTo>
                        <a:pt x="519" y="166"/>
                      </a:lnTo>
                      <a:lnTo>
                        <a:pt x="512" y="155"/>
                      </a:lnTo>
                      <a:lnTo>
                        <a:pt x="504" y="146"/>
                      </a:lnTo>
                      <a:lnTo>
                        <a:pt x="486" y="131"/>
                      </a:lnTo>
                      <a:lnTo>
                        <a:pt x="468" y="118"/>
                      </a:lnTo>
                      <a:lnTo>
                        <a:pt x="447" y="104"/>
                      </a:lnTo>
                      <a:lnTo>
                        <a:pt x="435" y="54"/>
                      </a:lnTo>
                      <a:lnTo>
                        <a:pt x="382" y="8"/>
                      </a:lnTo>
                      <a:lnTo>
                        <a:pt x="385" y="82"/>
                      </a:lnTo>
                      <a:lnTo>
                        <a:pt x="390" y="92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6" name="Freeform 146"/>
                <p:cNvSpPr/>
                <p:nvPr/>
              </p:nvSpPr>
              <p:spPr>
                <a:xfrm>
                  <a:off x="7357680" y="5344560"/>
                  <a:ext cx="193320" cy="10332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122" h="65">
                      <a:moveTo>
                        <a:pt x="65" y="65"/>
                      </a:moveTo>
                      <a:lnTo>
                        <a:pt x="35" y="45"/>
                      </a:lnTo>
                      <a:lnTo>
                        <a:pt x="0" y="15"/>
                      </a:lnTo>
                      <a:lnTo>
                        <a:pt x="31" y="0"/>
                      </a:lnTo>
                      <a:lnTo>
                        <a:pt x="73" y="3"/>
                      </a:lnTo>
                      <a:lnTo>
                        <a:pt x="122" y="10"/>
                      </a:lnTo>
                      <a:lnTo>
                        <a:pt x="100" y="38"/>
                      </a:lnTo>
                      <a:lnTo>
                        <a:pt x="65" y="65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7" name="Freeform 147"/>
                <p:cNvSpPr/>
                <p:nvPr/>
              </p:nvSpPr>
              <p:spPr>
                <a:xfrm>
                  <a:off x="7930800" y="5344560"/>
                  <a:ext cx="180360" cy="18576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14" h="117">
                      <a:moveTo>
                        <a:pt x="42" y="117"/>
                      </a:moveTo>
                      <a:lnTo>
                        <a:pt x="0" y="99"/>
                      </a:lnTo>
                      <a:lnTo>
                        <a:pt x="42" y="53"/>
                      </a:lnTo>
                      <a:lnTo>
                        <a:pt x="42" y="3"/>
                      </a:lnTo>
                      <a:lnTo>
                        <a:pt x="75" y="0"/>
                      </a:lnTo>
                      <a:lnTo>
                        <a:pt x="114" y="0"/>
                      </a:lnTo>
                      <a:lnTo>
                        <a:pt x="107" y="53"/>
                      </a:lnTo>
                      <a:lnTo>
                        <a:pt x="67" y="87"/>
                      </a:lnTo>
                      <a:lnTo>
                        <a:pt x="42" y="117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8" name="Freeform 148"/>
                <p:cNvSpPr/>
                <p:nvPr/>
              </p:nvSpPr>
              <p:spPr>
                <a:xfrm>
                  <a:off x="8064000" y="5179680"/>
                  <a:ext cx="169560" cy="133200"/>
                </a:xfrm>
                <a:custGeom>
                  <a:avLst/>
                  <a:gdLst>
                    <a:gd name="textAreaLeft" fmla="*/ 0 w 169560"/>
                    <a:gd name="textAreaRight" fmla="*/ 169560 w 1695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107" h="84">
                      <a:moveTo>
                        <a:pt x="26" y="77"/>
                      </a:moveTo>
                      <a:lnTo>
                        <a:pt x="0" y="27"/>
                      </a:lnTo>
                      <a:lnTo>
                        <a:pt x="26" y="0"/>
                      </a:lnTo>
                      <a:lnTo>
                        <a:pt x="30" y="3"/>
                      </a:lnTo>
                      <a:lnTo>
                        <a:pt x="42" y="12"/>
                      </a:lnTo>
                      <a:lnTo>
                        <a:pt x="57" y="19"/>
                      </a:lnTo>
                      <a:lnTo>
                        <a:pt x="65" y="22"/>
                      </a:lnTo>
                      <a:lnTo>
                        <a:pt x="72" y="22"/>
                      </a:lnTo>
                      <a:lnTo>
                        <a:pt x="86" y="24"/>
                      </a:lnTo>
                      <a:lnTo>
                        <a:pt x="92" y="25"/>
                      </a:lnTo>
                      <a:lnTo>
                        <a:pt x="98" y="27"/>
                      </a:lnTo>
                      <a:lnTo>
                        <a:pt x="102" y="30"/>
                      </a:lnTo>
                      <a:lnTo>
                        <a:pt x="105" y="35"/>
                      </a:lnTo>
                      <a:lnTo>
                        <a:pt x="107" y="39"/>
                      </a:lnTo>
                      <a:lnTo>
                        <a:pt x="107" y="47"/>
                      </a:lnTo>
                      <a:lnTo>
                        <a:pt x="104" y="53"/>
                      </a:lnTo>
                      <a:lnTo>
                        <a:pt x="99" y="59"/>
                      </a:lnTo>
                      <a:lnTo>
                        <a:pt x="95" y="65"/>
                      </a:lnTo>
                      <a:lnTo>
                        <a:pt x="89" y="71"/>
                      </a:lnTo>
                      <a:lnTo>
                        <a:pt x="80" y="78"/>
                      </a:lnTo>
                      <a:lnTo>
                        <a:pt x="75" y="80"/>
                      </a:lnTo>
                      <a:lnTo>
                        <a:pt x="50" y="84"/>
                      </a:lnTo>
                      <a:lnTo>
                        <a:pt x="26" y="77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6746760" y="4362480"/>
                <a:ext cx="1486800" cy="1166040"/>
                <a:chOff x="6746760" y="4362480"/>
                <a:chExt cx="1486800" cy="1166040"/>
              </a:xfrm>
            </p:grpSpPr>
            <p:sp>
              <p:nvSpPr>
                <p:cNvPr id="1000" name="Freeform 150"/>
                <p:cNvSpPr/>
                <p:nvPr/>
              </p:nvSpPr>
              <p:spPr>
                <a:xfrm>
                  <a:off x="7130520" y="4362480"/>
                  <a:ext cx="433080" cy="220320"/>
                </a:xfrm>
                <a:custGeom>
                  <a:avLst/>
                  <a:gdLst>
                    <a:gd name="textAreaLeft" fmla="*/ 0 w 433080"/>
                    <a:gd name="textAreaRight" fmla="*/ 433440 w 43308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273" h="139">
                      <a:moveTo>
                        <a:pt x="86" y="66"/>
                      </a:moveTo>
                      <a:lnTo>
                        <a:pt x="82" y="44"/>
                      </a:lnTo>
                      <a:lnTo>
                        <a:pt x="68" y="41"/>
                      </a:lnTo>
                      <a:lnTo>
                        <a:pt x="38" y="35"/>
                      </a:lnTo>
                      <a:lnTo>
                        <a:pt x="23" y="30"/>
                      </a:lnTo>
                      <a:lnTo>
                        <a:pt x="9" y="24"/>
                      </a:lnTo>
                      <a:lnTo>
                        <a:pt x="5" y="21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2" y="9"/>
                      </a:lnTo>
                      <a:lnTo>
                        <a:pt x="5" y="5"/>
                      </a:lnTo>
                      <a:lnTo>
                        <a:pt x="9" y="3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32" y="0"/>
                      </a:lnTo>
                      <a:lnTo>
                        <a:pt x="44" y="3"/>
                      </a:lnTo>
                      <a:lnTo>
                        <a:pt x="68" y="9"/>
                      </a:lnTo>
                      <a:lnTo>
                        <a:pt x="79" y="14"/>
                      </a:lnTo>
                      <a:lnTo>
                        <a:pt x="140" y="9"/>
                      </a:lnTo>
                      <a:lnTo>
                        <a:pt x="163" y="44"/>
                      </a:lnTo>
                      <a:lnTo>
                        <a:pt x="208" y="44"/>
                      </a:lnTo>
                      <a:lnTo>
                        <a:pt x="223" y="89"/>
                      </a:lnTo>
                      <a:lnTo>
                        <a:pt x="273" y="116"/>
                      </a:lnTo>
                      <a:lnTo>
                        <a:pt x="268" y="122"/>
                      </a:lnTo>
                      <a:lnTo>
                        <a:pt x="261" y="128"/>
                      </a:lnTo>
                      <a:lnTo>
                        <a:pt x="252" y="134"/>
                      </a:lnTo>
                      <a:lnTo>
                        <a:pt x="240" y="139"/>
                      </a:lnTo>
                      <a:lnTo>
                        <a:pt x="232" y="139"/>
                      </a:lnTo>
                      <a:lnTo>
                        <a:pt x="225" y="139"/>
                      </a:lnTo>
                      <a:lnTo>
                        <a:pt x="217" y="137"/>
                      </a:lnTo>
                      <a:lnTo>
                        <a:pt x="208" y="134"/>
                      </a:lnTo>
                      <a:lnTo>
                        <a:pt x="199" y="130"/>
                      </a:lnTo>
                      <a:lnTo>
                        <a:pt x="190" y="124"/>
                      </a:lnTo>
                      <a:lnTo>
                        <a:pt x="174" y="112"/>
                      </a:lnTo>
                      <a:lnTo>
                        <a:pt x="166" y="106"/>
                      </a:lnTo>
                      <a:lnTo>
                        <a:pt x="164" y="103"/>
                      </a:lnTo>
                      <a:lnTo>
                        <a:pt x="166" y="101"/>
                      </a:lnTo>
                      <a:lnTo>
                        <a:pt x="172" y="103"/>
                      </a:lnTo>
                      <a:lnTo>
                        <a:pt x="186" y="109"/>
                      </a:lnTo>
                      <a:lnTo>
                        <a:pt x="158" y="136"/>
                      </a:lnTo>
                      <a:lnTo>
                        <a:pt x="128" y="113"/>
                      </a:lnTo>
                      <a:lnTo>
                        <a:pt x="94" y="96"/>
                      </a:lnTo>
                      <a:lnTo>
                        <a:pt x="74" y="109"/>
                      </a:lnTo>
                      <a:lnTo>
                        <a:pt x="64" y="78"/>
                      </a:lnTo>
                      <a:lnTo>
                        <a:pt x="86" y="6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01" name="Freeform 151"/>
                <p:cNvSpPr/>
                <p:nvPr/>
              </p:nvSpPr>
              <p:spPr>
                <a:xfrm>
                  <a:off x="6746760" y="4593960"/>
                  <a:ext cx="872640" cy="693360"/>
                </a:xfrm>
                <a:custGeom>
                  <a:avLst/>
                  <a:gdLst>
                    <a:gd name="textAreaLeft" fmla="*/ 0 w 872640"/>
                    <a:gd name="textAreaRight" fmla="*/ 873000 w 87264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550" h="437">
                      <a:moveTo>
                        <a:pt x="390" y="92"/>
                      </a:moveTo>
                      <a:lnTo>
                        <a:pt x="293" y="67"/>
                      </a:lnTo>
                      <a:lnTo>
                        <a:pt x="298" y="32"/>
                      </a:lnTo>
                      <a:lnTo>
                        <a:pt x="328" y="32"/>
                      </a:lnTo>
                      <a:lnTo>
                        <a:pt x="328" y="0"/>
                      </a:lnTo>
                      <a:lnTo>
                        <a:pt x="271" y="0"/>
                      </a:lnTo>
                      <a:lnTo>
                        <a:pt x="263" y="3"/>
                      </a:lnTo>
                      <a:lnTo>
                        <a:pt x="253" y="8"/>
                      </a:lnTo>
                      <a:lnTo>
                        <a:pt x="227" y="21"/>
                      </a:lnTo>
                      <a:lnTo>
                        <a:pt x="194" y="42"/>
                      </a:lnTo>
                      <a:lnTo>
                        <a:pt x="167" y="50"/>
                      </a:lnTo>
                      <a:lnTo>
                        <a:pt x="129" y="50"/>
                      </a:lnTo>
                      <a:lnTo>
                        <a:pt x="107" y="82"/>
                      </a:lnTo>
                      <a:lnTo>
                        <a:pt x="96" y="94"/>
                      </a:lnTo>
                      <a:lnTo>
                        <a:pt x="90" y="106"/>
                      </a:lnTo>
                      <a:lnTo>
                        <a:pt x="89" y="110"/>
                      </a:lnTo>
                      <a:lnTo>
                        <a:pt x="87" y="115"/>
                      </a:lnTo>
                      <a:lnTo>
                        <a:pt x="86" y="121"/>
                      </a:lnTo>
                      <a:lnTo>
                        <a:pt x="83" y="125"/>
                      </a:lnTo>
                      <a:lnTo>
                        <a:pt x="73" y="137"/>
                      </a:lnTo>
                      <a:lnTo>
                        <a:pt x="60" y="149"/>
                      </a:lnTo>
                      <a:lnTo>
                        <a:pt x="10" y="149"/>
                      </a:lnTo>
                      <a:lnTo>
                        <a:pt x="0" y="199"/>
                      </a:lnTo>
                      <a:lnTo>
                        <a:pt x="10" y="238"/>
                      </a:lnTo>
                      <a:lnTo>
                        <a:pt x="10" y="296"/>
                      </a:lnTo>
                      <a:lnTo>
                        <a:pt x="13" y="315"/>
                      </a:lnTo>
                      <a:lnTo>
                        <a:pt x="16" y="339"/>
                      </a:lnTo>
                      <a:lnTo>
                        <a:pt x="22" y="362"/>
                      </a:lnTo>
                      <a:lnTo>
                        <a:pt x="25" y="375"/>
                      </a:lnTo>
                      <a:lnTo>
                        <a:pt x="27" y="377"/>
                      </a:lnTo>
                      <a:lnTo>
                        <a:pt x="30" y="378"/>
                      </a:lnTo>
                      <a:lnTo>
                        <a:pt x="39" y="380"/>
                      </a:lnTo>
                      <a:lnTo>
                        <a:pt x="49" y="380"/>
                      </a:lnTo>
                      <a:lnTo>
                        <a:pt x="61" y="378"/>
                      </a:lnTo>
                      <a:lnTo>
                        <a:pt x="84" y="374"/>
                      </a:lnTo>
                      <a:lnTo>
                        <a:pt x="95" y="372"/>
                      </a:lnTo>
                      <a:lnTo>
                        <a:pt x="194" y="348"/>
                      </a:lnTo>
                      <a:lnTo>
                        <a:pt x="236" y="323"/>
                      </a:lnTo>
                      <a:lnTo>
                        <a:pt x="248" y="324"/>
                      </a:lnTo>
                      <a:lnTo>
                        <a:pt x="275" y="330"/>
                      </a:lnTo>
                      <a:lnTo>
                        <a:pt x="290" y="336"/>
                      </a:lnTo>
                      <a:lnTo>
                        <a:pt x="306" y="341"/>
                      </a:lnTo>
                      <a:lnTo>
                        <a:pt x="319" y="348"/>
                      </a:lnTo>
                      <a:lnTo>
                        <a:pt x="324" y="353"/>
                      </a:lnTo>
                      <a:lnTo>
                        <a:pt x="328" y="356"/>
                      </a:lnTo>
                      <a:lnTo>
                        <a:pt x="358" y="393"/>
                      </a:lnTo>
                      <a:lnTo>
                        <a:pt x="382" y="425"/>
                      </a:lnTo>
                      <a:lnTo>
                        <a:pt x="387" y="430"/>
                      </a:lnTo>
                      <a:lnTo>
                        <a:pt x="396" y="434"/>
                      </a:lnTo>
                      <a:lnTo>
                        <a:pt x="406" y="436"/>
                      </a:lnTo>
                      <a:lnTo>
                        <a:pt x="417" y="437"/>
                      </a:lnTo>
                      <a:lnTo>
                        <a:pt x="435" y="437"/>
                      </a:lnTo>
                      <a:lnTo>
                        <a:pt x="443" y="437"/>
                      </a:lnTo>
                      <a:lnTo>
                        <a:pt x="482" y="406"/>
                      </a:lnTo>
                      <a:lnTo>
                        <a:pt x="485" y="401"/>
                      </a:lnTo>
                      <a:lnTo>
                        <a:pt x="494" y="390"/>
                      </a:lnTo>
                      <a:lnTo>
                        <a:pt x="504" y="377"/>
                      </a:lnTo>
                      <a:lnTo>
                        <a:pt x="507" y="371"/>
                      </a:lnTo>
                      <a:lnTo>
                        <a:pt x="507" y="363"/>
                      </a:lnTo>
                      <a:lnTo>
                        <a:pt x="507" y="333"/>
                      </a:lnTo>
                      <a:lnTo>
                        <a:pt x="539" y="283"/>
                      </a:lnTo>
                      <a:lnTo>
                        <a:pt x="550" y="219"/>
                      </a:lnTo>
                      <a:lnTo>
                        <a:pt x="535" y="190"/>
                      </a:lnTo>
                      <a:lnTo>
                        <a:pt x="519" y="166"/>
                      </a:lnTo>
                      <a:lnTo>
                        <a:pt x="512" y="155"/>
                      </a:lnTo>
                      <a:lnTo>
                        <a:pt x="504" y="146"/>
                      </a:lnTo>
                      <a:lnTo>
                        <a:pt x="486" y="131"/>
                      </a:lnTo>
                      <a:lnTo>
                        <a:pt x="468" y="118"/>
                      </a:lnTo>
                      <a:lnTo>
                        <a:pt x="447" y="104"/>
                      </a:lnTo>
                      <a:lnTo>
                        <a:pt x="435" y="54"/>
                      </a:lnTo>
                      <a:lnTo>
                        <a:pt x="382" y="8"/>
                      </a:lnTo>
                      <a:lnTo>
                        <a:pt x="385" y="82"/>
                      </a:lnTo>
                      <a:lnTo>
                        <a:pt x="390" y="92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02" name="Freeform 152"/>
                <p:cNvSpPr/>
                <p:nvPr/>
              </p:nvSpPr>
              <p:spPr>
                <a:xfrm>
                  <a:off x="7357680" y="5343120"/>
                  <a:ext cx="193320" cy="10296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122" h="65">
                      <a:moveTo>
                        <a:pt x="65" y="65"/>
                      </a:moveTo>
                      <a:lnTo>
                        <a:pt x="35" y="45"/>
                      </a:lnTo>
                      <a:lnTo>
                        <a:pt x="0" y="15"/>
                      </a:lnTo>
                      <a:lnTo>
                        <a:pt x="31" y="0"/>
                      </a:lnTo>
                      <a:lnTo>
                        <a:pt x="73" y="3"/>
                      </a:lnTo>
                      <a:lnTo>
                        <a:pt x="122" y="10"/>
                      </a:lnTo>
                      <a:lnTo>
                        <a:pt x="100" y="38"/>
                      </a:lnTo>
                      <a:lnTo>
                        <a:pt x="65" y="65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03" name="Freeform 153"/>
                <p:cNvSpPr/>
                <p:nvPr/>
              </p:nvSpPr>
              <p:spPr>
                <a:xfrm>
                  <a:off x="7930800" y="5343120"/>
                  <a:ext cx="180360" cy="18540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185400"/>
                    <a:gd name="textAreaBottom" fmla="*/ 185760 h 185400"/>
                  </a:gdLst>
                  <a:ahLst/>
                  <a:rect l="textAreaLeft" t="textAreaTop" r="textAreaRight" b="textAreaBottom"/>
                  <a:pathLst>
                    <a:path w="114" h="117">
                      <a:moveTo>
                        <a:pt x="42" y="117"/>
                      </a:moveTo>
                      <a:lnTo>
                        <a:pt x="0" y="99"/>
                      </a:lnTo>
                      <a:lnTo>
                        <a:pt x="42" y="53"/>
                      </a:lnTo>
                      <a:lnTo>
                        <a:pt x="42" y="3"/>
                      </a:lnTo>
                      <a:lnTo>
                        <a:pt x="75" y="0"/>
                      </a:lnTo>
                      <a:lnTo>
                        <a:pt x="114" y="0"/>
                      </a:lnTo>
                      <a:lnTo>
                        <a:pt x="107" y="53"/>
                      </a:lnTo>
                      <a:lnTo>
                        <a:pt x="67" y="87"/>
                      </a:lnTo>
                      <a:lnTo>
                        <a:pt x="42" y="117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04" name="Freeform 154"/>
                <p:cNvSpPr/>
                <p:nvPr/>
              </p:nvSpPr>
              <p:spPr>
                <a:xfrm>
                  <a:off x="8064000" y="5178240"/>
                  <a:ext cx="169560" cy="132840"/>
                </a:xfrm>
                <a:custGeom>
                  <a:avLst/>
                  <a:gdLst>
                    <a:gd name="textAreaLeft" fmla="*/ 0 w 169560"/>
                    <a:gd name="textAreaRight" fmla="*/ 169560 w 16956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107" h="84">
                      <a:moveTo>
                        <a:pt x="26" y="77"/>
                      </a:moveTo>
                      <a:lnTo>
                        <a:pt x="0" y="27"/>
                      </a:lnTo>
                      <a:lnTo>
                        <a:pt x="26" y="0"/>
                      </a:lnTo>
                      <a:lnTo>
                        <a:pt x="30" y="3"/>
                      </a:lnTo>
                      <a:lnTo>
                        <a:pt x="42" y="12"/>
                      </a:lnTo>
                      <a:lnTo>
                        <a:pt x="57" y="19"/>
                      </a:lnTo>
                      <a:lnTo>
                        <a:pt x="65" y="22"/>
                      </a:lnTo>
                      <a:lnTo>
                        <a:pt x="72" y="22"/>
                      </a:lnTo>
                      <a:lnTo>
                        <a:pt x="86" y="24"/>
                      </a:lnTo>
                      <a:lnTo>
                        <a:pt x="92" y="25"/>
                      </a:lnTo>
                      <a:lnTo>
                        <a:pt x="98" y="27"/>
                      </a:lnTo>
                      <a:lnTo>
                        <a:pt x="102" y="30"/>
                      </a:lnTo>
                      <a:lnTo>
                        <a:pt x="105" y="35"/>
                      </a:lnTo>
                      <a:lnTo>
                        <a:pt x="107" y="39"/>
                      </a:lnTo>
                      <a:lnTo>
                        <a:pt x="107" y="47"/>
                      </a:lnTo>
                      <a:lnTo>
                        <a:pt x="104" y="53"/>
                      </a:lnTo>
                      <a:lnTo>
                        <a:pt x="99" y="59"/>
                      </a:lnTo>
                      <a:lnTo>
                        <a:pt x="95" y="65"/>
                      </a:lnTo>
                      <a:lnTo>
                        <a:pt x="89" y="71"/>
                      </a:lnTo>
                      <a:lnTo>
                        <a:pt x="80" y="78"/>
                      </a:lnTo>
                      <a:lnTo>
                        <a:pt x="75" y="80"/>
                      </a:lnTo>
                      <a:lnTo>
                        <a:pt x="50" y="84"/>
                      </a:lnTo>
                      <a:lnTo>
                        <a:pt x="26" y="77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1005" name="AutoShape 155"/>
            <p:cNvSpPr/>
            <p:nvPr/>
          </p:nvSpPr>
          <p:spPr>
            <a:xfrm>
              <a:off x="4336920" y="148248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urope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6" name="AutoShape 156"/>
            <p:cNvSpPr/>
            <p:nvPr/>
          </p:nvSpPr>
          <p:spPr>
            <a:xfrm>
              <a:off x="7270920" y="400392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si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7" name="AutoShape 157"/>
            <p:cNvSpPr/>
            <p:nvPr/>
          </p:nvSpPr>
          <p:spPr>
            <a:xfrm>
              <a:off x="3454200" y="573120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ric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8" name="AutoShape 158"/>
            <p:cNvSpPr/>
            <p:nvPr/>
          </p:nvSpPr>
          <p:spPr>
            <a:xfrm>
              <a:off x="6424560" y="587556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strali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9" name="Oval 159"/>
            <p:cNvSpPr/>
            <p:nvPr/>
          </p:nvSpPr>
          <p:spPr>
            <a:xfrm>
              <a:off x="6497640" y="3282840"/>
              <a:ext cx="144360" cy="144360"/>
            </a:xfrm>
            <a:prstGeom prst="ellipse">
              <a:avLst/>
            </a:prstGeom>
            <a:solidFill>
              <a:srgbClr val="ff66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0" name="Oval 160"/>
            <p:cNvSpPr/>
            <p:nvPr/>
          </p:nvSpPr>
          <p:spPr>
            <a:xfrm>
              <a:off x="5056200" y="2706840"/>
              <a:ext cx="144360" cy="144360"/>
            </a:xfrm>
            <a:prstGeom prst="ellipse">
              <a:avLst/>
            </a:prstGeom>
            <a:solidFill>
              <a:srgbClr val="ff66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1" name="Oval 161"/>
            <p:cNvSpPr/>
            <p:nvPr/>
          </p:nvSpPr>
          <p:spPr>
            <a:xfrm>
              <a:off x="4840200" y="4219560"/>
              <a:ext cx="144360" cy="144360"/>
            </a:xfrm>
            <a:prstGeom prst="ellipse">
              <a:avLst/>
            </a:prstGeom>
            <a:solidFill>
              <a:srgbClr val="ff66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2" name="Oval 162"/>
            <p:cNvSpPr/>
            <p:nvPr/>
          </p:nvSpPr>
          <p:spPr>
            <a:xfrm>
              <a:off x="7145280" y="4794480"/>
              <a:ext cx="144360" cy="144360"/>
            </a:xfrm>
            <a:prstGeom prst="ellipse">
              <a:avLst/>
            </a:prstGeom>
            <a:solidFill>
              <a:srgbClr val="ff66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1013" name="AutoShape 163"/>
            <p:cNvCxnSpPr/>
            <p:nvPr/>
          </p:nvCxnSpPr>
          <p:spPr>
            <a:xfrm>
              <a:off x="5128920" y="1769760"/>
              <a:ext cx="1080" cy="92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AutoShape 164"/>
            <p:cNvCxnSpPr/>
            <p:nvPr/>
          </p:nvCxnSpPr>
          <p:spPr>
            <a:xfrm>
              <a:off x="6621120" y="3416040"/>
              <a:ext cx="649800" cy="73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5" name="AutoShape 165"/>
            <p:cNvCxnSpPr/>
            <p:nvPr/>
          </p:nvCxnSpPr>
          <p:spPr>
            <a:xfrm flipH="1">
              <a:off x="7216560" y="4948200"/>
              <a:ext cx="2160" cy="92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AutoShape 166"/>
            <p:cNvCxnSpPr/>
            <p:nvPr/>
          </p:nvCxnSpPr>
          <p:spPr>
            <a:xfrm flipH="1">
              <a:off x="4246200" y="4353120"/>
              <a:ext cx="614880" cy="137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017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2"/>
          <p:cNvSpPr/>
          <p:nvPr/>
        </p:nvSpPr>
        <p:spPr>
          <a:xfrm>
            <a:off x="0" y="692280"/>
            <a:ext cx="91440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0" y="147780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SC.CHINAZ.COM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0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12" descr="bg"/>
          <p:cNvPicPr/>
          <p:nvPr/>
        </p:nvPicPr>
        <p:blipFill>
          <a:blip r:embed="rId1"/>
          <a:stretch/>
        </p:blipFill>
        <p:spPr>
          <a:xfrm>
            <a:off x="0" y="5043600"/>
            <a:ext cx="9144000" cy="181440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6"/>
          <p:cNvSpPr/>
          <p:nvPr/>
        </p:nvSpPr>
        <p:spPr>
          <a:xfrm>
            <a:off x="1819080" y="1049400"/>
            <a:ext cx="5505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ng </a:t>
            </a: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파일은  크기조절과 이동이  자유롭고  가장자리가 투명하여 어느 배경에서도 조화롭게</a:t>
            </a:r>
            <a:r>
              <a:rPr b="0" lang="en-US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사용할 수 있습니다</a:t>
            </a:r>
            <a:r>
              <a:rPr b="0" lang="en-US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3" name="TextBox 13"/>
          <p:cNvSpPr/>
          <p:nvPr/>
        </p:nvSpPr>
        <p:spPr>
          <a:xfrm>
            <a:off x="0" y="287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View image sourc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4" name="모서리가 둥근 직사각형 32"/>
          <p:cNvSpPr/>
          <p:nvPr/>
        </p:nvSpPr>
        <p:spPr>
          <a:xfrm>
            <a:off x="696960" y="227484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1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5" name="모서리가 둥근 직사각형 32"/>
          <p:cNvSpPr/>
          <p:nvPr/>
        </p:nvSpPr>
        <p:spPr>
          <a:xfrm>
            <a:off x="6586560" y="306864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2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6" name="모서리가 둥근 직사각형 32"/>
          <p:cNvSpPr/>
          <p:nvPr/>
        </p:nvSpPr>
        <p:spPr>
          <a:xfrm>
            <a:off x="264960" y="5732640"/>
            <a:ext cx="1643040" cy="43308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3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27" name="Picture 34" descr="mam"/>
          <p:cNvPicPr/>
          <p:nvPr/>
        </p:nvPicPr>
        <p:blipFill>
          <a:blip r:embed="rId2"/>
          <a:stretch/>
        </p:blipFill>
        <p:spPr>
          <a:xfrm>
            <a:off x="4859280" y="1628640"/>
            <a:ext cx="2376720" cy="4321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9" descr="ch"/>
          <p:cNvPicPr/>
          <p:nvPr/>
        </p:nvPicPr>
        <p:blipFill>
          <a:blip r:embed="rId3"/>
          <a:stretch/>
        </p:blipFill>
        <p:spPr>
          <a:xfrm>
            <a:off x="2548080" y="2133720"/>
            <a:ext cx="2095200" cy="3384360"/>
          </a:xfrm>
          <a:prstGeom prst="rect">
            <a:avLst/>
          </a:prstGeom>
          <a:ln w="0">
            <a:noFill/>
          </a:ln>
        </p:spPr>
      </p:pic>
      <p:sp>
        <p:nvSpPr>
          <p:cNvPr id="1029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모서리가 둥근 직사각형 32"/>
          <p:cNvSpPr/>
          <p:nvPr/>
        </p:nvSpPr>
        <p:spPr>
          <a:xfrm>
            <a:off x="3564000" y="98100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5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1" name="모서리가 둥근 직사각형 32"/>
          <p:cNvSpPr/>
          <p:nvPr/>
        </p:nvSpPr>
        <p:spPr>
          <a:xfrm>
            <a:off x="826920" y="979560"/>
            <a:ext cx="164340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4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2" name="모서리가 둥근 직사각형 32"/>
          <p:cNvSpPr/>
          <p:nvPr/>
        </p:nvSpPr>
        <p:spPr>
          <a:xfrm>
            <a:off x="6372360" y="184464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6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3" name="모서리가 둥근 직사각형 32"/>
          <p:cNvSpPr/>
          <p:nvPr/>
        </p:nvSpPr>
        <p:spPr>
          <a:xfrm>
            <a:off x="6458040" y="386064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7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4" name="Picture 17" descr="img02"/>
          <p:cNvPicPr/>
          <p:nvPr/>
        </p:nvPicPr>
        <p:blipFill>
          <a:blip r:embed="rId1"/>
          <a:stretch/>
        </p:blipFill>
        <p:spPr>
          <a:xfrm>
            <a:off x="6432480" y="2421000"/>
            <a:ext cx="1739880" cy="1174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8" descr="f"/>
          <p:cNvPicPr/>
          <p:nvPr/>
        </p:nvPicPr>
        <p:blipFill>
          <a:blip r:embed="rId2"/>
          <a:stretch/>
        </p:blipFill>
        <p:spPr>
          <a:xfrm>
            <a:off x="663480" y="1989000"/>
            <a:ext cx="2540160" cy="3384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9" descr="f2"/>
          <p:cNvPicPr/>
          <p:nvPr/>
        </p:nvPicPr>
        <p:blipFill>
          <a:blip r:embed="rId3"/>
          <a:stretch/>
        </p:blipFill>
        <p:spPr>
          <a:xfrm>
            <a:off x="3265560" y="1773360"/>
            <a:ext cx="2098440" cy="3676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25" descr="img03"/>
          <p:cNvPicPr/>
          <p:nvPr/>
        </p:nvPicPr>
        <p:blipFill>
          <a:blip r:embed="rId4"/>
          <a:stretch/>
        </p:blipFill>
        <p:spPr>
          <a:xfrm>
            <a:off x="6659640" y="4675320"/>
            <a:ext cx="1187280" cy="914400"/>
          </a:xfrm>
          <a:prstGeom prst="rect">
            <a:avLst/>
          </a:prstGeom>
          <a:ln w="0">
            <a:noFill/>
          </a:ln>
        </p:spPr>
      </p:pic>
      <p:sp>
        <p:nvSpPr>
          <p:cNvPr id="1038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모서리가 둥근 직사각형 32"/>
          <p:cNvSpPr/>
          <p:nvPr/>
        </p:nvSpPr>
        <p:spPr>
          <a:xfrm>
            <a:off x="611280" y="76500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8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1" name="모서리가 둥근 직사각형 32"/>
          <p:cNvSpPr/>
          <p:nvPr/>
        </p:nvSpPr>
        <p:spPr>
          <a:xfrm>
            <a:off x="3132000" y="40464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9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2" name="모서리가 둥근 직사각형 32"/>
          <p:cNvSpPr/>
          <p:nvPr/>
        </p:nvSpPr>
        <p:spPr>
          <a:xfrm>
            <a:off x="6600960" y="184320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11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43" name="Picture 93" descr="c"/>
          <p:cNvPicPr/>
          <p:nvPr/>
        </p:nvPicPr>
        <p:blipFill>
          <a:blip r:embed="rId1"/>
          <a:stretch/>
        </p:blipFill>
        <p:spPr>
          <a:xfrm>
            <a:off x="34920" y="3595680"/>
            <a:ext cx="9144000" cy="3362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96" descr="img05"/>
          <p:cNvPicPr/>
          <p:nvPr/>
        </p:nvPicPr>
        <p:blipFill>
          <a:blip r:embed="rId2"/>
          <a:stretch/>
        </p:blipFill>
        <p:spPr>
          <a:xfrm>
            <a:off x="1836720" y="1949400"/>
            <a:ext cx="865080" cy="617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97" descr="img05"/>
          <p:cNvPicPr/>
          <p:nvPr/>
        </p:nvPicPr>
        <p:blipFill>
          <a:blip r:embed="rId3"/>
          <a:stretch/>
        </p:blipFill>
        <p:spPr>
          <a:xfrm>
            <a:off x="1260360" y="1487520"/>
            <a:ext cx="865440" cy="617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98" descr="img04"/>
          <p:cNvPicPr/>
          <p:nvPr/>
        </p:nvPicPr>
        <p:blipFill>
          <a:blip r:embed="rId4"/>
          <a:stretch/>
        </p:blipFill>
        <p:spPr>
          <a:xfrm>
            <a:off x="7304040" y="2543040"/>
            <a:ext cx="1371600" cy="885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99" descr="img04"/>
          <p:cNvPicPr/>
          <p:nvPr/>
        </p:nvPicPr>
        <p:blipFill>
          <a:blip r:embed="rId5"/>
          <a:stretch/>
        </p:blipFill>
        <p:spPr>
          <a:xfrm>
            <a:off x="5867280" y="2333520"/>
            <a:ext cx="1584360" cy="10242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01" descr="img05"/>
          <p:cNvPicPr/>
          <p:nvPr/>
        </p:nvPicPr>
        <p:blipFill>
          <a:blip r:embed="rId6"/>
          <a:stretch/>
        </p:blipFill>
        <p:spPr>
          <a:xfrm>
            <a:off x="2124000" y="119844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08" descr="img06"/>
          <p:cNvPicPr/>
          <p:nvPr/>
        </p:nvPicPr>
        <p:blipFill>
          <a:blip r:embed="rId7"/>
          <a:stretch/>
        </p:blipFill>
        <p:spPr>
          <a:xfrm>
            <a:off x="4414680" y="1317600"/>
            <a:ext cx="787680" cy="455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10" descr="img06"/>
          <p:cNvPicPr/>
          <p:nvPr/>
        </p:nvPicPr>
        <p:blipFill>
          <a:blip r:embed="rId8"/>
          <a:stretch/>
        </p:blipFill>
        <p:spPr>
          <a:xfrm>
            <a:off x="3479760" y="981000"/>
            <a:ext cx="1066680" cy="617760"/>
          </a:xfrm>
          <a:prstGeom prst="rect">
            <a:avLst/>
          </a:prstGeom>
          <a:ln w="0">
            <a:noFill/>
          </a:ln>
        </p:spPr>
      </p:pic>
      <p:sp>
        <p:nvSpPr>
          <p:cNvPr id="1051" name="모서리가 둥근 직사각형 32"/>
          <p:cNvSpPr/>
          <p:nvPr/>
        </p:nvSpPr>
        <p:spPr>
          <a:xfrm>
            <a:off x="480960" y="580536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12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2" name="모서리가 둥근 직사각형 32"/>
          <p:cNvSpPr/>
          <p:nvPr/>
        </p:nvSpPr>
        <p:spPr>
          <a:xfrm>
            <a:off x="3564000" y="211284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10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53" name="Picture 112" descr="img01"/>
          <p:cNvPicPr/>
          <p:nvPr/>
        </p:nvPicPr>
        <p:blipFill>
          <a:blip r:embed="rId9"/>
          <a:stretch/>
        </p:blipFill>
        <p:spPr>
          <a:xfrm>
            <a:off x="3780000" y="2735280"/>
            <a:ext cx="1109520" cy="1198440"/>
          </a:xfrm>
          <a:prstGeom prst="rect">
            <a:avLst/>
          </a:prstGeom>
          <a:ln w="0">
            <a:noFill/>
          </a:ln>
        </p:spPr>
      </p:pic>
      <p:sp>
        <p:nvSpPr>
          <p:cNvPr id="1054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1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25848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07640" y="433080"/>
            <a:ext cx="6823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5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2" descr="bg3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4" descr="bg"/>
          <p:cNvPicPr/>
          <p:nvPr/>
        </p:nvPicPr>
        <p:blipFill>
          <a:blip r:embed="rId2"/>
          <a:stretch/>
        </p:blipFill>
        <p:spPr>
          <a:xfrm>
            <a:off x="0" y="5359320"/>
            <a:ext cx="9144000" cy="14986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5680" y="476280"/>
            <a:ext cx="26416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HY헤드라인M"/>
              </a:rPr>
              <a:t>CONTENTS</a:t>
            </a:r>
            <a:endParaRPr b="0" lang="en-US" sz="43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3814920" y="1017720"/>
            <a:ext cx="4789440" cy="54108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3814920" y="163044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3814920" y="22431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4175280" y="1197000"/>
            <a:ext cx="305892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333" name="WordArt 8"/>
          <p:cNvSpPr txBox="1"/>
          <p:nvPr/>
        </p:nvSpPr>
        <p:spPr>
          <a:xfrm>
            <a:off x="4175280" y="1809720"/>
            <a:ext cx="305892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334" name="WordArt 9"/>
          <p:cNvSpPr txBox="1"/>
          <p:nvPr/>
        </p:nvSpPr>
        <p:spPr>
          <a:xfrm>
            <a:off x="4175280" y="2421000"/>
            <a:ext cx="305892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3814920" y="2852640"/>
            <a:ext cx="4789440" cy="54000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WordArt 11"/>
          <p:cNvSpPr txBox="1"/>
          <p:nvPr/>
        </p:nvSpPr>
        <p:spPr>
          <a:xfrm>
            <a:off x="4175280" y="3030480"/>
            <a:ext cx="305892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3814920" y="3465360"/>
            <a:ext cx="4789440" cy="54000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WordArt 13"/>
          <p:cNvSpPr txBox="1"/>
          <p:nvPr/>
        </p:nvSpPr>
        <p:spPr>
          <a:xfrm>
            <a:off x="4175280" y="3643200"/>
            <a:ext cx="305892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3814920" y="407664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WordArt 15"/>
          <p:cNvSpPr txBox="1"/>
          <p:nvPr/>
        </p:nvSpPr>
        <p:spPr>
          <a:xfrm>
            <a:off x="4175280" y="4254480"/>
            <a:ext cx="305892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341" name="AutoShape 16"/>
          <p:cNvSpPr/>
          <p:nvPr/>
        </p:nvSpPr>
        <p:spPr>
          <a:xfrm>
            <a:off x="3814920" y="4689360"/>
            <a:ext cx="4789440" cy="54000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WordArt 17"/>
          <p:cNvSpPr txBox="1"/>
          <p:nvPr/>
        </p:nvSpPr>
        <p:spPr>
          <a:xfrm>
            <a:off x="4175280" y="4867200"/>
            <a:ext cx="305892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343" name="Oval 18"/>
          <p:cNvSpPr/>
          <p:nvPr/>
        </p:nvSpPr>
        <p:spPr>
          <a:xfrm>
            <a:off x="3203640" y="105264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3368520" y="106200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203640" y="1665360"/>
            <a:ext cx="465120" cy="468360"/>
            <a:chOff x="3203640" y="1665360"/>
            <a:chExt cx="465120" cy="468360"/>
          </a:xfrm>
        </p:grpSpPr>
        <p:sp>
          <p:nvSpPr>
            <p:cNvPr id="346" name="Oval 21"/>
            <p:cNvSpPr/>
            <p:nvPr/>
          </p:nvSpPr>
          <p:spPr>
            <a:xfrm>
              <a:off x="3203640" y="166536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Oval 22"/>
            <p:cNvSpPr/>
            <p:nvPr/>
          </p:nvSpPr>
          <p:spPr>
            <a:xfrm>
              <a:off x="3368160" y="167472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48" name="Oval 23"/>
          <p:cNvSpPr/>
          <p:nvPr/>
        </p:nvSpPr>
        <p:spPr>
          <a:xfrm>
            <a:off x="3203640" y="2276640"/>
            <a:ext cx="465120" cy="4680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9" name="Oval 24"/>
          <p:cNvSpPr/>
          <p:nvPr/>
        </p:nvSpPr>
        <p:spPr>
          <a:xfrm>
            <a:off x="3368520" y="228600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203640" y="2889360"/>
            <a:ext cx="465120" cy="468360"/>
            <a:chOff x="3203640" y="2889360"/>
            <a:chExt cx="465120" cy="468360"/>
          </a:xfrm>
        </p:grpSpPr>
        <p:sp>
          <p:nvSpPr>
            <p:cNvPr id="351" name="Oval 26"/>
            <p:cNvSpPr/>
            <p:nvPr/>
          </p:nvSpPr>
          <p:spPr>
            <a:xfrm>
              <a:off x="3203640" y="288936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2" name="Oval 27"/>
            <p:cNvSpPr/>
            <p:nvPr/>
          </p:nvSpPr>
          <p:spPr>
            <a:xfrm>
              <a:off x="3368160" y="289872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53" name="Oval 28"/>
          <p:cNvSpPr/>
          <p:nvPr/>
        </p:nvSpPr>
        <p:spPr>
          <a:xfrm>
            <a:off x="3203640" y="350028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Oval 29"/>
          <p:cNvSpPr/>
          <p:nvPr/>
        </p:nvSpPr>
        <p:spPr>
          <a:xfrm>
            <a:off x="3368520" y="351000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203640" y="4113360"/>
            <a:ext cx="465120" cy="468000"/>
            <a:chOff x="3203640" y="4113360"/>
            <a:chExt cx="465120" cy="468000"/>
          </a:xfrm>
        </p:grpSpPr>
        <p:sp>
          <p:nvSpPr>
            <p:cNvPr id="356" name="Oval 31"/>
            <p:cNvSpPr/>
            <p:nvPr/>
          </p:nvSpPr>
          <p:spPr>
            <a:xfrm>
              <a:off x="3203640" y="4113360"/>
              <a:ext cx="465120" cy="468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7" name="Oval 32"/>
            <p:cNvSpPr/>
            <p:nvPr/>
          </p:nvSpPr>
          <p:spPr>
            <a:xfrm>
              <a:off x="3368160" y="412272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58" name="Oval 33"/>
          <p:cNvSpPr/>
          <p:nvPr/>
        </p:nvSpPr>
        <p:spPr>
          <a:xfrm>
            <a:off x="3203640" y="472428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Oval 34"/>
          <p:cNvSpPr/>
          <p:nvPr/>
        </p:nvSpPr>
        <p:spPr>
          <a:xfrm>
            <a:off x="3368520" y="473400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Rectangle 38"/>
          <p:cNvSpPr/>
          <p:nvPr/>
        </p:nvSpPr>
        <p:spPr>
          <a:xfrm>
            <a:off x="250920" y="1003320"/>
            <a:ext cx="2824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33"/>
                </a:solidFill>
                <a:latin typeface="HY헤드라인M"/>
                <a:ea typeface="HY헤드라인M"/>
              </a:rPr>
              <a:t>COMPANY LOGOTYPE INSER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61" name="Picture 45" descr="ch2"/>
          <p:cNvPicPr/>
          <p:nvPr/>
        </p:nvPicPr>
        <p:blipFill>
          <a:blip r:embed="rId3"/>
          <a:stretch/>
        </p:blipFill>
        <p:spPr>
          <a:xfrm>
            <a:off x="835200" y="2995560"/>
            <a:ext cx="1792080" cy="3241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6" descr="img05"/>
          <p:cNvPicPr/>
          <p:nvPr/>
        </p:nvPicPr>
        <p:blipFill>
          <a:blip r:embed="rId4"/>
          <a:stretch/>
        </p:blipFill>
        <p:spPr>
          <a:xfrm>
            <a:off x="1903320" y="5899320"/>
            <a:ext cx="723960" cy="51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7" descr="img05"/>
          <p:cNvPicPr/>
          <p:nvPr/>
        </p:nvPicPr>
        <p:blipFill>
          <a:blip r:embed="rId5"/>
          <a:stretch/>
        </p:blipFill>
        <p:spPr>
          <a:xfrm>
            <a:off x="2610000" y="573408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8" descr="img05"/>
          <p:cNvPicPr/>
          <p:nvPr/>
        </p:nvPicPr>
        <p:blipFill>
          <a:blip r:embed="rId6"/>
          <a:stretch/>
        </p:blipFill>
        <p:spPr>
          <a:xfrm>
            <a:off x="2394000" y="607392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9" descr="img04"/>
          <p:cNvPicPr/>
          <p:nvPr/>
        </p:nvPicPr>
        <p:blipFill>
          <a:blip r:embed="rId7"/>
          <a:stretch/>
        </p:blipFill>
        <p:spPr>
          <a:xfrm>
            <a:off x="3084480" y="5589720"/>
            <a:ext cx="1058760" cy="684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0" descr="img04"/>
          <p:cNvPicPr/>
          <p:nvPr/>
        </p:nvPicPr>
        <p:blipFill>
          <a:blip r:embed="rId8"/>
          <a:stretch/>
        </p:blipFill>
        <p:spPr>
          <a:xfrm>
            <a:off x="3492360" y="5769000"/>
            <a:ext cx="1059120" cy="684360"/>
          </a:xfrm>
          <a:prstGeom prst="rect">
            <a:avLst/>
          </a:prstGeom>
          <a:ln w="0">
            <a:noFill/>
          </a:ln>
        </p:spPr>
      </p:pic>
      <p:sp>
        <p:nvSpPr>
          <p:cNvPr id="367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0" descr="bg3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3" descr="bg"/>
          <p:cNvPicPr/>
          <p:nvPr/>
        </p:nvPicPr>
        <p:blipFill>
          <a:blip r:embed="rId2"/>
          <a:stretch/>
        </p:blipFill>
        <p:spPr>
          <a:xfrm>
            <a:off x="0" y="5359320"/>
            <a:ext cx="9144000" cy="149868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2735280" y="1989000"/>
            <a:ext cx="3600360" cy="354240"/>
            <a:chOff x="2735280" y="1989000"/>
            <a:chExt cx="3600360" cy="354240"/>
          </a:xfrm>
        </p:grpSpPr>
        <p:sp>
          <p:nvSpPr>
            <p:cNvPr id="371" name="WordArt 10"/>
            <p:cNvSpPr txBox="1"/>
            <p:nvPr/>
          </p:nvSpPr>
          <p:spPr>
            <a:xfrm>
              <a:off x="3130560" y="1989000"/>
              <a:ext cx="2809800" cy="1728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5400000" blurRad="0" rotWithShape="0">
                      <a:srgbClr val="000000">
                        <a:alpha val="50000"/>
                      </a:srgbClr>
                    </a:outerShdw>
                  </a:effectLst>
                  <a:latin typeface="HY헤드라인M"/>
                </a:rPr>
                <a:t>COMPANY LOGOTYPE INSERT</a:t>
              </a:r>
              <a:endParaRPr b="0" lang="en-US" sz="16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000000">
                      <a:alpha val="50000"/>
                    </a:srgbClr>
                  </a:outerShdw>
                </a:effectLst>
                <a:latin typeface="HY헤드라인M"/>
                <a:ea typeface="HY헤드라인M"/>
              </a:endParaRPr>
            </a:p>
          </p:txBody>
        </p:sp>
        <p:sp>
          <p:nvSpPr>
            <p:cNvPr id="372" name="WordArt 11"/>
            <p:cNvSpPr txBox="1"/>
            <p:nvPr/>
          </p:nvSpPr>
          <p:spPr>
            <a:xfrm>
              <a:off x="2735280" y="2233440"/>
              <a:ext cx="3600360" cy="1098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COPYRIGHT(C)2008 PPTKOREA CO.,LTD &amp; DESIGN COMPANY</a:t>
              </a:r>
              <a:endParaRPr b="0" lang="en-US" sz="16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3" name="TextBox 71"/>
          <p:cNvSpPr/>
          <p:nvPr/>
        </p:nvSpPr>
        <p:spPr>
          <a:xfrm>
            <a:off x="-34920" y="1125360"/>
            <a:ext cx="91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74" name="Picture 12" descr="img02"/>
          <p:cNvPicPr/>
          <p:nvPr/>
        </p:nvPicPr>
        <p:blipFill>
          <a:blip r:embed="rId3"/>
          <a:stretch/>
        </p:blipFill>
        <p:spPr>
          <a:xfrm>
            <a:off x="3192480" y="4221000"/>
            <a:ext cx="1739880" cy="1175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img03"/>
          <p:cNvPicPr/>
          <p:nvPr/>
        </p:nvPicPr>
        <p:blipFill>
          <a:blip r:embed="rId4"/>
          <a:stretch/>
        </p:blipFill>
        <p:spPr>
          <a:xfrm>
            <a:off x="3733920" y="5157720"/>
            <a:ext cx="1187280" cy="91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img05"/>
          <p:cNvPicPr/>
          <p:nvPr/>
        </p:nvPicPr>
        <p:blipFill>
          <a:blip r:embed="rId5"/>
          <a:stretch/>
        </p:blipFill>
        <p:spPr>
          <a:xfrm>
            <a:off x="2556000" y="5116680"/>
            <a:ext cx="865080" cy="617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img05"/>
          <p:cNvPicPr/>
          <p:nvPr/>
        </p:nvPicPr>
        <p:blipFill>
          <a:blip r:embed="rId6"/>
          <a:stretch/>
        </p:blipFill>
        <p:spPr>
          <a:xfrm>
            <a:off x="3121200" y="5086440"/>
            <a:ext cx="865080" cy="61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9" descr="img05"/>
          <p:cNvPicPr/>
          <p:nvPr/>
        </p:nvPicPr>
        <p:blipFill>
          <a:blip r:embed="rId7"/>
          <a:stretch/>
        </p:blipFill>
        <p:spPr>
          <a:xfrm>
            <a:off x="4786200" y="5351400"/>
            <a:ext cx="865440" cy="617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1" descr="img04"/>
          <p:cNvPicPr/>
          <p:nvPr/>
        </p:nvPicPr>
        <p:blipFill>
          <a:blip r:embed="rId8"/>
          <a:stretch/>
        </p:blipFill>
        <p:spPr>
          <a:xfrm>
            <a:off x="5146560" y="5207040"/>
            <a:ext cx="1371600" cy="885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2" descr="img04"/>
          <p:cNvPicPr/>
          <p:nvPr/>
        </p:nvPicPr>
        <p:blipFill>
          <a:blip r:embed="rId9"/>
          <a:stretch/>
        </p:blipFill>
        <p:spPr>
          <a:xfrm>
            <a:off x="5721480" y="5207040"/>
            <a:ext cx="1371600" cy="885960"/>
          </a:xfrm>
          <a:prstGeom prst="rect">
            <a:avLst/>
          </a:prstGeom>
          <a:ln w="0">
            <a:noFill/>
          </a:ln>
        </p:spPr>
      </p:pic>
      <p:sp>
        <p:nvSpPr>
          <p:cNvPr id="381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395280" y="1843200"/>
            <a:ext cx="8388360" cy="3673440"/>
            <a:chOff x="395280" y="1843200"/>
            <a:chExt cx="8388360" cy="3673440"/>
          </a:xfrm>
        </p:grpSpPr>
        <p:sp>
          <p:nvSpPr>
            <p:cNvPr id="383" name="Oval 3"/>
            <p:cNvSpPr/>
            <p:nvPr/>
          </p:nvSpPr>
          <p:spPr>
            <a:xfrm>
              <a:off x="6227640" y="1843200"/>
              <a:ext cx="2311560" cy="23223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4" name="Oval 4"/>
            <p:cNvSpPr/>
            <p:nvPr/>
          </p:nvSpPr>
          <p:spPr>
            <a:xfrm>
              <a:off x="7045200" y="1890720"/>
              <a:ext cx="615960" cy="62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5" name="Oval 5"/>
            <p:cNvSpPr/>
            <p:nvPr/>
          </p:nvSpPr>
          <p:spPr>
            <a:xfrm>
              <a:off x="3419640" y="1843200"/>
              <a:ext cx="2311200" cy="2322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4237200" y="1890720"/>
              <a:ext cx="615960" cy="62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AutoShape 7"/>
            <p:cNvSpPr/>
            <p:nvPr/>
          </p:nvSpPr>
          <p:spPr>
            <a:xfrm>
              <a:off x="3276720" y="3389400"/>
              <a:ext cx="2627280" cy="2127240"/>
            </a:xfrm>
            <a:prstGeom prst="roundRect">
              <a:avLst>
                <a:gd name="adj" fmla="val 5074"/>
              </a:avLst>
            </a:prstGeom>
            <a:solidFill>
              <a:srgbClr val="ffffff"/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8" name="AutoShape 8"/>
            <p:cNvSpPr/>
            <p:nvPr/>
          </p:nvSpPr>
          <p:spPr>
            <a:xfrm>
              <a:off x="6084720" y="3389400"/>
              <a:ext cx="2627640" cy="2127240"/>
            </a:xfrm>
            <a:prstGeom prst="roundRect">
              <a:avLst>
                <a:gd name="adj" fmla="val 5074"/>
              </a:avLst>
            </a:prstGeom>
            <a:solidFill>
              <a:srgbClr val="ffffff"/>
            </a:solidFill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Oval 9"/>
            <p:cNvSpPr/>
            <p:nvPr/>
          </p:nvSpPr>
          <p:spPr>
            <a:xfrm>
              <a:off x="719280" y="3330720"/>
              <a:ext cx="2087280" cy="744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Oval 10"/>
            <p:cNvSpPr/>
            <p:nvPr/>
          </p:nvSpPr>
          <p:spPr>
            <a:xfrm>
              <a:off x="611280" y="1843200"/>
              <a:ext cx="2311200" cy="2322360"/>
            </a:xfrm>
            <a:prstGeom prst="ellipse">
              <a:avLst/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1" name="Oval 11"/>
            <p:cNvSpPr/>
            <p:nvPr/>
          </p:nvSpPr>
          <p:spPr>
            <a:xfrm>
              <a:off x="1428840" y="1890720"/>
              <a:ext cx="615960" cy="62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2" name="AutoShape 12"/>
            <p:cNvSpPr/>
            <p:nvPr/>
          </p:nvSpPr>
          <p:spPr>
            <a:xfrm>
              <a:off x="468360" y="3390840"/>
              <a:ext cx="2627280" cy="2125800"/>
            </a:xfrm>
            <a:prstGeom prst="roundRect">
              <a:avLst>
                <a:gd name="adj" fmla="val 5801"/>
              </a:avLst>
            </a:prstGeom>
            <a:solidFill>
              <a:srgbClr val="ffffff"/>
            </a:solidFill>
            <a:ln w="57240">
              <a:solidFill>
                <a:srgbClr val="f69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3203640" y="3645000"/>
              <a:ext cx="2771640" cy="610920"/>
              <a:chOff x="3203640" y="3645000"/>
              <a:chExt cx="2771640" cy="610920"/>
            </a:xfrm>
          </p:grpSpPr>
          <p:sp>
            <p:nvSpPr>
              <p:cNvPr id="394" name="AutoShape 14"/>
              <p:cNvSpPr/>
              <p:nvPr/>
            </p:nvSpPr>
            <p:spPr>
              <a:xfrm>
                <a:off x="3203640" y="3953160"/>
                <a:ext cx="2771640" cy="30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6c6c6c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44840" y="3645000"/>
                <a:ext cx="2301840" cy="444960"/>
                <a:chOff x="3444840" y="3645000"/>
                <a:chExt cx="2301840" cy="444960"/>
              </a:xfrm>
            </p:grpSpPr>
            <p:sp>
              <p:nvSpPr>
                <p:cNvPr id="396" name="AutoShape 16"/>
                <p:cNvSpPr/>
                <p:nvPr/>
              </p:nvSpPr>
              <p:spPr>
                <a:xfrm>
                  <a:off x="3444840" y="3645000"/>
                  <a:ext cx="2301840" cy="444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99cc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7" name="Oval 17"/>
                <p:cNvSpPr/>
                <p:nvPr/>
              </p:nvSpPr>
              <p:spPr>
                <a:xfrm flipV="1">
                  <a:off x="3557880" y="3679560"/>
                  <a:ext cx="2075400" cy="10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3203640" y="4184640"/>
              <a:ext cx="2771640" cy="645840"/>
              <a:chOff x="3203640" y="4184640"/>
              <a:chExt cx="2771640" cy="645840"/>
            </a:xfrm>
          </p:grpSpPr>
          <p:sp>
            <p:nvSpPr>
              <p:cNvPr id="399" name="AutoShape 19"/>
              <p:cNvSpPr/>
              <p:nvPr/>
            </p:nvSpPr>
            <p:spPr>
              <a:xfrm>
                <a:off x="3203640" y="4510440"/>
                <a:ext cx="2771640" cy="32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6c6c6c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3444840" y="4184640"/>
                <a:ext cx="2301840" cy="470520"/>
                <a:chOff x="3444840" y="4184640"/>
                <a:chExt cx="2301840" cy="470520"/>
              </a:xfrm>
            </p:grpSpPr>
            <p:sp>
              <p:nvSpPr>
                <p:cNvPr id="401" name="AutoShape 21"/>
                <p:cNvSpPr/>
                <p:nvPr/>
              </p:nvSpPr>
              <p:spPr>
                <a:xfrm>
                  <a:off x="3444840" y="4184640"/>
                  <a:ext cx="2301840" cy="47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99cc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02" name="Oval 22"/>
                <p:cNvSpPr/>
                <p:nvPr/>
              </p:nvSpPr>
              <p:spPr>
                <a:xfrm flipV="1">
                  <a:off x="3557880" y="4220640"/>
                  <a:ext cx="2075400" cy="10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403" name=""/>
            <p:cNvGrpSpPr/>
            <p:nvPr/>
          </p:nvGrpSpPr>
          <p:grpSpPr>
            <a:xfrm>
              <a:off x="3203640" y="4759560"/>
              <a:ext cx="2771640" cy="612360"/>
              <a:chOff x="3203640" y="4759560"/>
              <a:chExt cx="2771640" cy="612360"/>
            </a:xfrm>
          </p:grpSpPr>
          <p:sp>
            <p:nvSpPr>
              <p:cNvPr id="404" name="AutoShape 24"/>
              <p:cNvSpPr/>
              <p:nvPr/>
            </p:nvSpPr>
            <p:spPr>
              <a:xfrm>
                <a:off x="3203640" y="5068440"/>
                <a:ext cx="2771640" cy="30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6c6c6c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3444840" y="4759560"/>
                <a:ext cx="2301840" cy="446040"/>
                <a:chOff x="3444840" y="4759560"/>
                <a:chExt cx="2301840" cy="446040"/>
              </a:xfrm>
            </p:grpSpPr>
            <p:sp>
              <p:nvSpPr>
                <p:cNvPr id="406" name="AutoShape 26"/>
                <p:cNvSpPr/>
                <p:nvPr/>
              </p:nvSpPr>
              <p:spPr>
                <a:xfrm>
                  <a:off x="3444840" y="4759560"/>
                  <a:ext cx="2301840" cy="446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99cc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07" name="Oval 27"/>
                <p:cNvSpPr/>
                <p:nvPr/>
              </p:nvSpPr>
              <p:spPr>
                <a:xfrm flipV="1">
                  <a:off x="3557880" y="4793400"/>
                  <a:ext cx="207540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408" name=""/>
            <p:cNvGrpSpPr/>
            <p:nvPr/>
          </p:nvGrpSpPr>
          <p:grpSpPr>
            <a:xfrm>
              <a:off x="6012000" y="3645000"/>
              <a:ext cx="2771640" cy="610920"/>
              <a:chOff x="6012000" y="3645000"/>
              <a:chExt cx="2771640" cy="610920"/>
            </a:xfrm>
          </p:grpSpPr>
          <p:sp>
            <p:nvSpPr>
              <p:cNvPr id="409" name="AutoShape 29"/>
              <p:cNvSpPr/>
              <p:nvPr/>
            </p:nvSpPr>
            <p:spPr>
              <a:xfrm>
                <a:off x="6012000" y="3953160"/>
                <a:ext cx="2771640" cy="30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6c6c6c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6253200" y="3645000"/>
                <a:ext cx="2301840" cy="444960"/>
                <a:chOff x="6253200" y="3645000"/>
                <a:chExt cx="2301840" cy="444960"/>
              </a:xfrm>
            </p:grpSpPr>
            <p:sp>
              <p:nvSpPr>
                <p:cNvPr id="411" name="AutoShape 31"/>
                <p:cNvSpPr/>
                <p:nvPr/>
              </p:nvSpPr>
              <p:spPr>
                <a:xfrm>
                  <a:off x="6253200" y="3645000"/>
                  <a:ext cx="2301840" cy="444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12" name="Oval 32"/>
                <p:cNvSpPr/>
                <p:nvPr/>
              </p:nvSpPr>
              <p:spPr>
                <a:xfrm flipV="1">
                  <a:off x="6366240" y="3679560"/>
                  <a:ext cx="2075400" cy="10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6012000" y="4184640"/>
              <a:ext cx="2771640" cy="645840"/>
              <a:chOff x="6012000" y="4184640"/>
              <a:chExt cx="2771640" cy="645840"/>
            </a:xfrm>
          </p:grpSpPr>
          <p:sp>
            <p:nvSpPr>
              <p:cNvPr id="414" name="AutoShape 34"/>
              <p:cNvSpPr/>
              <p:nvPr/>
            </p:nvSpPr>
            <p:spPr>
              <a:xfrm>
                <a:off x="6012000" y="4510440"/>
                <a:ext cx="2771640" cy="32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6c6c6c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6253200" y="4184640"/>
                <a:ext cx="2301840" cy="470520"/>
                <a:chOff x="6253200" y="4184640"/>
                <a:chExt cx="2301840" cy="470520"/>
              </a:xfrm>
            </p:grpSpPr>
            <p:sp>
              <p:nvSpPr>
                <p:cNvPr id="416" name="AutoShape 36"/>
                <p:cNvSpPr/>
                <p:nvPr/>
              </p:nvSpPr>
              <p:spPr>
                <a:xfrm>
                  <a:off x="6253200" y="4184640"/>
                  <a:ext cx="2301840" cy="47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17" name="Oval 37"/>
                <p:cNvSpPr/>
                <p:nvPr/>
              </p:nvSpPr>
              <p:spPr>
                <a:xfrm flipV="1">
                  <a:off x="6366240" y="4220640"/>
                  <a:ext cx="2075400" cy="10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418" name=""/>
            <p:cNvGrpSpPr/>
            <p:nvPr/>
          </p:nvGrpSpPr>
          <p:grpSpPr>
            <a:xfrm>
              <a:off x="6012000" y="4759560"/>
              <a:ext cx="2771640" cy="612360"/>
              <a:chOff x="6012000" y="4759560"/>
              <a:chExt cx="2771640" cy="612360"/>
            </a:xfrm>
          </p:grpSpPr>
          <p:sp>
            <p:nvSpPr>
              <p:cNvPr id="419" name="AutoShape 39"/>
              <p:cNvSpPr/>
              <p:nvPr/>
            </p:nvSpPr>
            <p:spPr>
              <a:xfrm>
                <a:off x="6012000" y="5068440"/>
                <a:ext cx="2771640" cy="30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6c6c6c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6253200" y="4759560"/>
                <a:ext cx="2301840" cy="446040"/>
                <a:chOff x="6253200" y="4759560"/>
                <a:chExt cx="2301840" cy="446040"/>
              </a:xfrm>
            </p:grpSpPr>
            <p:sp>
              <p:nvSpPr>
                <p:cNvPr id="421" name="AutoShape 41"/>
                <p:cNvSpPr/>
                <p:nvPr/>
              </p:nvSpPr>
              <p:spPr>
                <a:xfrm>
                  <a:off x="6253200" y="4759560"/>
                  <a:ext cx="2301840" cy="446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22" name="Oval 42"/>
                <p:cNvSpPr/>
                <p:nvPr/>
              </p:nvSpPr>
              <p:spPr>
                <a:xfrm flipV="1">
                  <a:off x="6366240" y="4793400"/>
                  <a:ext cx="207540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423" name="WordArt 43"/>
            <p:cNvSpPr txBox="1"/>
            <p:nvPr/>
          </p:nvSpPr>
          <p:spPr>
            <a:xfrm>
              <a:off x="3780000" y="4362480"/>
              <a:ext cx="1655640" cy="11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24" name="WordArt 44"/>
            <p:cNvSpPr txBox="1"/>
            <p:nvPr/>
          </p:nvSpPr>
          <p:spPr>
            <a:xfrm>
              <a:off x="3780000" y="3824280"/>
              <a:ext cx="1655640" cy="11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25" name="WordArt 45"/>
            <p:cNvSpPr txBox="1"/>
            <p:nvPr/>
          </p:nvSpPr>
          <p:spPr>
            <a:xfrm>
              <a:off x="3780000" y="4905360"/>
              <a:ext cx="1655640" cy="11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26" name="WordArt 46"/>
            <p:cNvSpPr txBox="1"/>
            <p:nvPr/>
          </p:nvSpPr>
          <p:spPr>
            <a:xfrm>
              <a:off x="6588000" y="4362480"/>
              <a:ext cx="1656000" cy="11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27" name="WordArt 47"/>
            <p:cNvSpPr txBox="1"/>
            <p:nvPr/>
          </p:nvSpPr>
          <p:spPr>
            <a:xfrm>
              <a:off x="6588000" y="3824280"/>
              <a:ext cx="1656000" cy="11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28" name="WordArt 48"/>
            <p:cNvSpPr txBox="1"/>
            <p:nvPr/>
          </p:nvSpPr>
          <p:spPr>
            <a:xfrm>
              <a:off x="6588000" y="4905360"/>
              <a:ext cx="1656000" cy="11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187280" y="2563920"/>
              <a:ext cx="1155600" cy="420840"/>
              <a:chOff x="1187280" y="2563920"/>
              <a:chExt cx="1155600" cy="420840"/>
            </a:xfrm>
          </p:grpSpPr>
          <p:sp>
            <p:nvSpPr>
              <p:cNvPr id="430" name="WordArt 50"/>
              <p:cNvSpPr txBox="1"/>
              <p:nvPr/>
            </p:nvSpPr>
            <p:spPr>
              <a:xfrm>
                <a:off x="1334880" y="256392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31" name="WordArt 51"/>
              <p:cNvSpPr txBox="1"/>
              <p:nvPr/>
            </p:nvSpPr>
            <p:spPr>
              <a:xfrm>
                <a:off x="1187280" y="28512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995640" y="2563920"/>
              <a:ext cx="1155600" cy="420840"/>
              <a:chOff x="3995640" y="2563920"/>
              <a:chExt cx="1155600" cy="420840"/>
            </a:xfrm>
          </p:grpSpPr>
          <p:sp>
            <p:nvSpPr>
              <p:cNvPr id="433" name="WordArt 53"/>
              <p:cNvSpPr txBox="1"/>
              <p:nvPr/>
            </p:nvSpPr>
            <p:spPr>
              <a:xfrm>
                <a:off x="4143240" y="256392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34" name="WordArt 54"/>
              <p:cNvSpPr txBox="1"/>
              <p:nvPr/>
            </p:nvSpPr>
            <p:spPr>
              <a:xfrm>
                <a:off x="3995640" y="28512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877080" y="2563920"/>
              <a:ext cx="1155600" cy="420840"/>
              <a:chOff x="6877080" y="2563920"/>
              <a:chExt cx="1155600" cy="420840"/>
            </a:xfrm>
          </p:grpSpPr>
          <p:sp>
            <p:nvSpPr>
              <p:cNvPr id="436" name="WordArt 56"/>
              <p:cNvSpPr txBox="1"/>
              <p:nvPr/>
            </p:nvSpPr>
            <p:spPr>
              <a:xfrm>
                <a:off x="7024680" y="256392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37" name="WordArt 57"/>
              <p:cNvSpPr txBox="1"/>
              <p:nvPr/>
            </p:nvSpPr>
            <p:spPr>
              <a:xfrm>
                <a:off x="6877080" y="28512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95280" y="3645000"/>
              <a:ext cx="2771640" cy="610920"/>
              <a:chOff x="395280" y="3645000"/>
              <a:chExt cx="2771640" cy="610920"/>
            </a:xfrm>
          </p:grpSpPr>
          <p:sp>
            <p:nvSpPr>
              <p:cNvPr id="439" name="AutoShape 59"/>
              <p:cNvSpPr/>
              <p:nvPr/>
            </p:nvSpPr>
            <p:spPr>
              <a:xfrm>
                <a:off x="395280" y="3953160"/>
                <a:ext cx="2771640" cy="30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6c6c6c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636480" y="3645000"/>
                <a:ext cx="2301840" cy="444960"/>
                <a:chOff x="636480" y="3645000"/>
                <a:chExt cx="2301840" cy="444960"/>
              </a:xfrm>
            </p:grpSpPr>
            <p:sp>
              <p:nvSpPr>
                <p:cNvPr id="441" name="AutoShape 61"/>
                <p:cNvSpPr/>
                <p:nvPr/>
              </p:nvSpPr>
              <p:spPr>
                <a:xfrm>
                  <a:off x="636480" y="3645000"/>
                  <a:ext cx="2301840" cy="444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69d2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42" name="Oval 62"/>
                <p:cNvSpPr/>
                <p:nvPr/>
              </p:nvSpPr>
              <p:spPr>
                <a:xfrm flipV="1">
                  <a:off x="749520" y="3679560"/>
                  <a:ext cx="2075400" cy="10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395280" y="4184640"/>
              <a:ext cx="2771640" cy="645840"/>
              <a:chOff x="395280" y="4184640"/>
              <a:chExt cx="2771640" cy="645840"/>
            </a:xfrm>
          </p:grpSpPr>
          <p:sp>
            <p:nvSpPr>
              <p:cNvPr id="444" name="AutoShape 64"/>
              <p:cNvSpPr/>
              <p:nvPr/>
            </p:nvSpPr>
            <p:spPr>
              <a:xfrm>
                <a:off x="395280" y="4510440"/>
                <a:ext cx="2771640" cy="32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6c6c6c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636480" y="4184640"/>
                <a:ext cx="2301840" cy="470520"/>
                <a:chOff x="636480" y="4184640"/>
                <a:chExt cx="2301840" cy="470520"/>
              </a:xfrm>
            </p:grpSpPr>
            <p:sp>
              <p:nvSpPr>
                <p:cNvPr id="446" name="AutoShape 66"/>
                <p:cNvSpPr/>
                <p:nvPr/>
              </p:nvSpPr>
              <p:spPr>
                <a:xfrm>
                  <a:off x="636480" y="4184640"/>
                  <a:ext cx="2301840" cy="47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69d2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47" name="Oval 67"/>
                <p:cNvSpPr/>
                <p:nvPr/>
              </p:nvSpPr>
              <p:spPr>
                <a:xfrm flipV="1">
                  <a:off x="749520" y="4220640"/>
                  <a:ext cx="2075400" cy="10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448" name=""/>
            <p:cNvGrpSpPr/>
            <p:nvPr/>
          </p:nvGrpSpPr>
          <p:grpSpPr>
            <a:xfrm>
              <a:off x="395280" y="4759560"/>
              <a:ext cx="2771640" cy="612360"/>
              <a:chOff x="395280" y="4759560"/>
              <a:chExt cx="2771640" cy="612360"/>
            </a:xfrm>
          </p:grpSpPr>
          <p:sp>
            <p:nvSpPr>
              <p:cNvPr id="449" name="AutoShape 69"/>
              <p:cNvSpPr/>
              <p:nvPr/>
            </p:nvSpPr>
            <p:spPr>
              <a:xfrm>
                <a:off x="395280" y="5068440"/>
                <a:ext cx="2771640" cy="30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6c6c6c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636480" y="4759560"/>
                <a:ext cx="2301840" cy="446040"/>
                <a:chOff x="636480" y="4759560"/>
                <a:chExt cx="2301840" cy="446040"/>
              </a:xfrm>
            </p:grpSpPr>
            <p:sp>
              <p:nvSpPr>
                <p:cNvPr id="451" name="AutoShape 71"/>
                <p:cNvSpPr/>
                <p:nvPr/>
              </p:nvSpPr>
              <p:spPr>
                <a:xfrm>
                  <a:off x="636480" y="4759560"/>
                  <a:ext cx="2301840" cy="446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69d2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52" name="Oval 72"/>
                <p:cNvSpPr/>
                <p:nvPr/>
              </p:nvSpPr>
              <p:spPr>
                <a:xfrm flipV="1">
                  <a:off x="749520" y="4793400"/>
                  <a:ext cx="207540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000000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453" name="WordArt 73"/>
            <p:cNvSpPr txBox="1"/>
            <p:nvPr/>
          </p:nvSpPr>
          <p:spPr>
            <a:xfrm>
              <a:off x="971640" y="4362480"/>
              <a:ext cx="1655640" cy="11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54" name="WordArt 74"/>
            <p:cNvSpPr txBox="1"/>
            <p:nvPr/>
          </p:nvSpPr>
          <p:spPr>
            <a:xfrm>
              <a:off x="971640" y="3824280"/>
              <a:ext cx="1655640" cy="11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55" name="WordArt 75"/>
            <p:cNvSpPr txBox="1"/>
            <p:nvPr/>
          </p:nvSpPr>
          <p:spPr>
            <a:xfrm>
              <a:off x="971640" y="4905360"/>
              <a:ext cx="1655640" cy="11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7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213000" y="5691240"/>
            <a:ext cx="2718000" cy="9064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042920" y="1376280"/>
            <a:ext cx="7093080" cy="4789440"/>
            <a:chOff x="1042920" y="1376280"/>
            <a:chExt cx="7093080" cy="4789440"/>
          </a:xfrm>
        </p:grpSpPr>
        <p:grpSp>
          <p:nvGrpSpPr>
            <p:cNvPr id="460" name=""/>
            <p:cNvGrpSpPr/>
            <p:nvPr/>
          </p:nvGrpSpPr>
          <p:grpSpPr>
            <a:xfrm>
              <a:off x="3274920" y="3498840"/>
              <a:ext cx="2595240" cy="2607840"/>
              <a:chOff x="3274920" y="3498840"/>
              <a:chExt cx="2595240" cy="2607840"/>
            </a:xfrm>
          </p:grpSpPr>
          <p:sp>
            <p:nvSpPr>
              <p:cNvPr id="461" name="Oval 5"/>
              <p:cNvSpPr/>
              <p:nvPr/>
            </p:nvSpPr>
            <p:spPr>
              <a:xfrm>
                <a:off x="3274920" y="3498840"/>
                <a:ext cx="2595240" cy="26078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7da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62" name="Oval 6"/>
              <p:cNvSpPr/>
              <p:nvPr/>
            </p:nvSpPr>
            <p:spPr>
              <a:xfrm>
                <a:off x="4192920" y="3552120"/>
                <a:ext cx="691560" cy="6969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63" name="Line 7"/>
            <p:cNvSpPr/>
            <p:nvPr/>
          </p:nvSpPr>
          <p:spPr>
            <a:xfrm>
              <a:off x="5435640" y="2852640"/>
              <a:ext cx="1440" cy="611280"/>
            </a:xfrm>
            <a:prstGeom prst="line">
              <a:avLst/>
            </a:prstGeom>
            <a:ln w="190440">
              <a:solidFill>
                <a:srgbClr val="0099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4" name="Line 8"/>
            <p:cNvSpPr/>
            <p:nvPr/>
          </p:nvSpPr>
          <p:spPr>
            <a:xfrm>
              <a:off x="3743280" y="2852640"/>
              <a:ext cx="1440" cy="611280"/>
            </a:xfrm>
            <a:prstGeom prst="line">
              <a:avLst/>
            </a:prstGeom>
            <a:ln w="190440">
              <a:solidFill>
                <a:srgbClr val="f69d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 flipH="1">
              <a:off x="6192000" y="2852640"/>
              <a:ext cx="934920" cy="1763640"/>
            </a:xfrm>
            <a:custGeom>
              <a:avLst/>
              <a:gdLst>
                <a:gd name="textAreaLeft" fmla="*/ -360 w 934920"/>
                <a:gd name="textAreaRight" fmla="*/ 934920 w 934920"/>
                <a:gd name="textAreaTop" fmla="*/ 0 h 1763640"/>
                <a:gd name="textAreaBottom" fmla="*/ 1764000 h 1763640"/>
              </a:gdLst>
              <a:ahLst/>
              <a:rect l="textAreaLeft" t="textAreaTop" r="textAreaRight" b="textAreaBottom"/>
              <a:pathLst>
                <a:path w="635" h="953">
                  <a:moveTo>
                    <a:pt x="0" y="0"/>
                  </a:moveTo>
                  <a:lnTo>
                    <a:pt x="0" y="953"/>
                  </a:lnTo>
                  <a:lnTo>
                    <a:pt x="635" y="953"/>
                  </a:lnTo>
                </a:path>
              </a:pathLst>
            </a:custGeom>
            <a:noFill/>
            <a:ln w="190440">
              <a:solidFill>
                <a:srgbClr val="f69d2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2050920" y="2852640"/>
              <a:ext cx="900000" cy="176364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1763640"/>
                <a:gd name="textAreaBottom" fmla="*/ 1764000 h 1763640"/>
              </a:gdLst>
              <a:ahLst/>
              <a:rect l="textAreaLeft" t="textAreaTop" r="textAreaRight" b="textAreaBottom"/>
              <a:pathLst>
                <a:path w="635" h="953">
                  <a:moveTo>
                    <a:pt x="0" y="0"/>
                  </a:moveTo>
                  <a:lnTo>
                    <a:pt x="0" y="953"/>
                  </a:lnTo>
                  <a:lnTo>
                    <a:pt x="635" y="953"/>
                  </a:lnTo>
                </a:path>
              </a:pathLst>
            </a:custGeom>
            <a:noFill/>
            <a:ln w="190440">
              <a:solidFill>
                <a:srgbClr val="0099cc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7" name="AutoShape 11"/>
            <p:cNvSpPr/>
            <p:nvPr/>
          </p:nvSpPr>
          <p:spPr>
            <a:xfrm>
              <a:off x="1042920" y="2635200"/>
              <a:ext cx="201600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8" name="AutoShape 12"/>
            <p:cNvSpPr/>
            <p:nvPr/>
          </p:nvSpPr>
          <p:spPr>
            <a:xfrm>
              <a:off x="1295280" y="1376280"/>
              <a:ext cx="1511280" cy="1474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c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9" name="AutoShape 13"/>
            <p:cNvSpPr/>
            <p:nvPr/>
          </p:nvSpPr>
          <p:spPr>
            <a:xfrm>
              <a:off x="1366920" y="1447560"/>
              <a:ext cx="1368360" cy="863640"/>
            </a:xfrm>
            <a:prstGeom prst="roundRect">
              <a:avLst>
                <a:gd name="adj" fmla="val 15806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0" name="AutoShape 14"/>
            <p:cNvSpPr/>
            <p:nvPr/>
          </p:nvSpPr>
          <p:spPr>
            <a:xfrm>
              <a:off x="2735280" y="2635200"/>
              <a:ext cx="201600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1" name="AutoShape 15"/>
            <p:cNvSpPr/>
            <p:nvPr/>
          </p:nvSpPr>
          <p:spPr>
            <a:xfrm>
              <a:off x="2987640" y="1376280"/>
              <a:ext cx="1511280" cy="1474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5e0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2" name="AutoShape 16"/>
            <p:cNvSpPr/>
            <p:nvPr/>
          </p:nvSpPr>
          <p:spPr>
            <a:xfrm>
              <a:off x="3058920" y="1447560"/>
              <a:ext cx="1368720" cy="863640"/>
            </a:xfrm>
            <a:prstGeom prst="roundRect">
              <a:avLst>
                <a:gd name="adj" fmla="val 15806"/>
              </a:avLst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3" name="AutoShape 17"/>
            <p:cNvSpPr/>
            <p:nvPr/>
          </p:nvSpPr>
          <p:spPr>
            <a:xfrm>
              <a:off x="4427640" y="2635200"/>
              <a:ext cx="201600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4" name="AutoShape 18"/>
            <p:cNvSpPr/>
            <p:nvPr/>
          </p:nvSpPr>
          <p:spPr>
            <a:xfrm>
              <a:off x="4680000" y="1376280"/>
              <a:ext cx="1511280" cy="1474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c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5" name="AutoShape 19"/>
            <p:cNvSpPr/>
            <p:nvPr/>
          </p:nvSpPr>
          <p:spPr>
            <a:xfrm>
              <a:off x="4751280" y="1447560"/>
              <a:ext cx="1368360" cy="863640"/>
            </a:xfrm>
            <a:prstGeom prst="roundRect">
              <a:avLst>
                <a:gd name="adj" fmla="val 15806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6" name="AutoShape 20"/>
            <p:cNvSpPr/>
            <p:nvPr/>
          </p:nvSpPr>
          <p:spPr>
            <a:xfrm>
              <a:off x="6119640" y="2635200"/>
              <a:ext cx="20163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7" name="AutoShape 21"/>
            <p:cNvSpPr/>
            <p:nvPr/>
          </p:nvSpPr>
          <p:spPr>
            <a:xfrm>
              <a:off x="6372000" y="1376280"/>
              <a:ext cx="1511280" cy="1474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5e0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8" name="AutoShape 22"/>
            <p:cNvSpPr/>
            <p:nvPr/>
          </p:nvSpPr>
          <p:spPr>
            <a:xfrm>
              <a:off x="6433920" y="1447560"/>
              <a:ext cx="1368720" cy="863640"/>
            </a:xfrm>
            <a:prstGeom prst="roundRect">
              <a:avLst>
                <a:gd name="adj" fmla="val 15806"/>
              </a:avLst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476360" y="1663560"/>
              <a:ext cx="1155600" cy="420840"/>
              <a:chOff x="1476360" y="1663560"/>
              <a:chExt cx="1155600" cy="420840"/>
            </a:xfrm>
          </p:grpSpPr>
          <p:sp>
            <p:nvSpPr>
              <p:cNvPr id="480" name="WordArt 24"/>
              <p:cNvSpPr txBox="1"/>
              <p:nvPr/>
            </p:nvSpPr>
            <p:spPr>
              <a:xfrm>
                <a:off x="1623960" y="166356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1" name="WordArt 25"/>
              <p:cNvSpPr txBox="1"/>
              <p:nvPr/>
            </p:nvSpPr>
            <p:spPr>
              <a:xfrm>
                <a:off x="1476360" y="195084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3165480" y="1663560"/>
              <a:ext cx="1155600" cy="420840"/>
              <a:chOff x="3165480" y="1663560"/>
              <a:chExt cx="1155600" cy="420840"/>
            </a:xfrm>
          </p:grpSpPr>
          <p:sp>
            <p:nvSpPr>
              <p:cNvPr id="483" name="WordArt 27"/>
              <p:cNvSpPr txBox="1"/>
              <p:nvPr/>
            </p:nvSpPr>
            <p:spPr>
              <a:xfrm>
                <a:off x="3313080" y="166356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4" name="WordArt 28"/>
              <p:cNvSpPr txBox="1"/>
              <p:nvPr/>
            </p:nvSpPr>
            <p:spPr>
              <a:xfrm>
                <a:off x="3165480" y="195084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859280" y="1663560"/>
              <a:ext cx="1155600" cy="420840"/>
              <a:chOff x="4859280" y="1663560"/>
              <a:chExt cx="1155600" cy="420840"/>
            </a:xfrm>
          </p:grpSpPr>
          <p:sp>
            <p:nvSpPr>
              <p:cNvPr id="486" name="WordArt 30"/>
              <p:cNvSpPr txBox="1"/>
              <p:nvPr/>
            </p:nvSpPr>
            <p:spPr>
              <a:xfrm>
                <a:off x="5006880" y="166356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7" name="WordArt 31"/>
              <p:cNvSpPr txBox="1"/>
              <p:nvPr/>
            </p:nvSpPr>
            <p:spPr>
              <a:xfrm>
                <a:off x="4859280" y="195084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6549840" y="1663560"/>
              <a:ext cx="1155600" cy="420840"/>
              <a:chOff x="6549840" y="1663560"/>
              <a:chExt cx="1155600" cy="420840"/>
            </a:xfrm>
          </p:grpSpPr>
          <p:sp>
            <p:nvSpPr>
              <p:cNvPr id="489" name="WordArt 33"/>
              <p:cNvSpPr txBox="1"/>
              <p:nvPr/>
            </p:nvSpPr>
            <p:spPr>
              <a:xfrm>
                <a:off x="6697440" y="166356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0" name="WordArt 34"/>
              <p:cNvSpPr txBox="1"/>
              <p:nvPr/>
            </p:nvSpPr>
            <p:spPr>
              <a:xfrm>
                <a:off x="6549840" y="195084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491" name="WordArt 35"/>
            <p:cNvSpPr txBox="1"/>
            <p:nvPr/>
          </p:nvSpPr>
          <p:spPr>
            <a:xfrm>
              <a:off x="1547640" y="2527200"/>
              <a:ext cx="10065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2" name="WordArt 36"/>
            <p:cNvSpPr txBox="1"/>
            <p:nvPr/>
          </p:nvSpPr>
          <p:spPr>
            <a:xfrm>
              <a:off x="3276360" y="2527200"/>
              <a:ext cx="10065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3" name="WordArt 37"/>
            <p:cNvSpPr txBox="1"/>
            <p:nvPr/>
          </p:nvSpPr>
          <p:spPr>
            <a:xfrm>
              <a:off x="4932360" y="2527200"/>
              <a:ext cx="10065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94" name="WordArt 38"/>
            <p:cNvSpPr txBox="1"/>
            <p:nvPr/>
          </p:nvSpPr>
          <p:spPr>
            <a:xfrm>
              <a:off x="6659640" y="2527200"/>
              <a:ext cx="10062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495" name="Picture 39" descr="그림1"/>
            <p:cNvPicPr/>
            <p:nvPr/>
          </p:nvPicPr>
          <p:blipFill>
            <a:blip r:embed="rId1"/>
            <a:stretch/>
          </p:blipFill>
          <p:spPr>
            <a:xfrm>
              <a:off x="3176640" y="3375000"/>
              <a:ext cx="2790720" cy="27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6" name=""/>
            <p:cNvGrpSpPr/>
            <p:nvPr/>
          </p:nvGrpSpPr>
          <p:grpSpPr>
            <a:xfrm>
              <a:off x="3527280" y="4543200"/>
              <a:ext cx="2089080" cy="431640"/>
              <a:chOff x="3527280" y="4543200"/>
              <a:chExt cx="2089080" cy="431640"/>
            </a:xfrm>
          </p:grpSpPr>
          <p:sp>
            <p:nvSpPr>
              <p:cNvPr id="497" name="WordArt 41"/>
              <p:cNvSpPr txBox="1"/>
              <p:nvPr/>
            </p:nvSpPr>
            <p:spPr>
              <a:xfrm>
                <a:off x="3671640" y="4543200"/>
                <a:ext cx="172872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8" name="WordArt 42"/>
              <p:cNvSpPr txBox="1"/>
              <p:nvPr/>
            </p:nvSpPr>
            <p:spPr>
              <a:xfrm>
                <a:off x="3527280" y="4841640"/>
                <a:ext cx="20890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0" name="矩形 3"/>
          <p:cNvSpPr/>
          <p:nvPr/>
        </p:nvSpPr>
        <p:spPr>
          <a:xfrm>
            <a:off x="7030800" y="655308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8:20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3:47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