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58B3-EE51-4234-BFFC-8892D5CC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A6B-8340-4377-9627-BEEF59A9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4CA-3C43-406E-B8A6-FDFE42F7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591-6F10-40F3-82BF-188F0518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D65-0D84-4F6E-A13D-9E952AB1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EAA-4238-4AA2-B08B-9BA77E23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89D-A59E-4794-B780-B2B5D9CC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748-F515-4EE5-83EB-37157047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E77-E994-4256-AC21-4A486680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FEBC-FC51-40BA-BE2D-86D12FB7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F4C-4743-4971-B22C-6607D054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75F-5C66-4AE7-9CD3-B4678F7A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0BCC-47E9-436B-BB5C-83F5492F7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345440" cy="5508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-170280"/>
            <a:ext cx="7772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10960" y="44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健康饮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4552560"/>
            <a:ext cx="79912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What do you think should go into a good me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Imagine you and your partner are going to invite some friends for dinner. What special food of your place would you offer them? Plan a me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61636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494136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Look at the title of the reading passage and the pictures. Predict what the passage is about. Then read it quickly to see if you wer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5542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81680" y="1773000"/>
            <a:ext cx="416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63640" y="3644640"/>
            <a:ext cx="3529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to the tape about the passage 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2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8000" y="981000"/>
            <a:ext cx="7056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fter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912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79280" y="1773360"/>
            <a:ext cx="482256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rehe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36352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passage carefully and think about the these statements. Tick the correct boxes in your textbook. Give the reasons for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54560" y="907920"/>
            <a:ext cx="478944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Usually Wang Peng`s restaurant was full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Yong Hui could make people thin in two weeks by giving them  good di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Wang Peng`s regular customers often became f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Yong Hui`s menu gave customers more energy-giving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Wang Peng`s menu gave customers more protective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Wang Peng decided to compete with Yong Hui by copying her me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5530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47530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c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g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h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d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ust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g Peng sat in his empty restaurant feeling ver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rust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王鹏坐在自己空荡荡的餐厅里，感到相当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沮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787640" y="256500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5186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98508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ng Peng 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was amazed 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is especially at the price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王鹏对此感到吃惊，特别是对他们的价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4920" y="2924280"/>
            <a:ext cx="84358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be amazed at / b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…感到惊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body was amazed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s weird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ould be amazed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difficult it w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0720" y="620280"/>
            <a:ext cx="43192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t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08000" y="1699920"/>
            <a:ext cx="45356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the pictures shown to you, judge the types of the foods in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39280" y="4365720"/>
            <a:ext cx="24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-building f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720" y="4941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ve f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37840" y="3789360"/>
            <a:ext cx="24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-giving f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640" y="5300280"/>
            <a:ext cx="18828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485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4920" y="4797000"/>
            <a:ext cx="2303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59280" y="0"/>
            <a:ext cx="560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700360" y="5877000"/>
            <a:ext cx="2890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bout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63272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24360" y="5734080"/>
            <a:ext cx="2098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762440" cy="6324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48000" y="198864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8560" y="3573360"/>
            <a:ext cx="4105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in groups what food you must eat to have a balanced diet. How much should you eat each 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48000" y="83628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4963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words and expressions from the text that mean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____  something that you say is not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____  not to be punished for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____  uncoo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____  the strong wish to know about something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____  someone who buys things or services from               a  shop, company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____  a particular quality that gives someone or something an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920" y="2492280"/>
            <a:ext cx="382752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ell a 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get away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r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urio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48360" y="1989000"/>
            <a:ext cx="3589200" cy="4248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your assignmen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Listen to the tape till you can understand every word of the passage. And do the best you can to recit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Read the passage again and again and try to recite the sentences on the page 81-82 in your text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Read the sentences and copy them in your notebooks, trying to keep them in your mind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You don`t like it? Ok, just drop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body has to eat, but do you eat a healthy diet? Do you know that the food you eat helps you grow in different w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682920" y="2599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, it end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ask me fo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459-E716-406F-8309-4750EFBDCD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139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e Major Types of F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84720" y="1197000"/>
            <a:ext cx="3059280" cy="4464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59280" y="1197000"/>
            <a:ext cx="3313080" cy="4448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3059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476856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that provides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g, energy-giving f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noodles spaghetti bread potatoes            chocolate butter cream oils n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392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58560" y="5057280"/>
            <a:ext cx="7273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that helps grow bones and mus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g, body-building f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t eggs cheese milk to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62643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4920" y="4265280"/>
            <a:ext cx="84358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that helps the body fight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g, protective f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vegetables (eg, beans, peas, cucumbers, eggplants, peppers, mushrooms, cabbages) and fruit (eg, apples, peaches, oranges, lem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3085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groups of food do you like best? Which do you eat most of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eat the three kinds of food each 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happen to you if you didn`t eat a balanced di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24360" y="476280"/>
            <a:ext cx="49528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3280" y="278100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39560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5:21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31:19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