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F2F-1A0D-42D8-8CFB-BC9A7396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F5F-5C5A-4D35-B3F6-C0471E34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4E2-0356-40A8-BAE0-90410C88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BA4-E069-470E-AF34-B4EEB17B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8BD-D36D-40E5-9DF6-72AAFF7D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5483-A307-41C9-A01A-28D09EF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ECC-4E3E-465B-A40C-F9C3CBB7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237-F270-4EFD-84C7-50A0FB46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0FB-688A-4AEA-B955-F588B306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87D-0A55-4568-839D-5FF529C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050-9B2E-49F0-B94A-9CB8CAE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C93-212B-441B-BD14-3B1571AE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4603-1AC8-4D4F-B637-834915CD3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801720" y="7650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C:\Program Files\Common Files\Microsoft Shared\Clipart\cagcat50\MP00640_.wmf"/>
          <p:cNvPicPr/>
          <p:nvPr/>
        </p:nvPicPr>
        <p:blipFill>
          <a:blip r:embed="rId2"/>
          <a:stretch/>
        </p:blipFill>
        <p:spPr>
          <a:xfrm>
            <a:off x="0" y="154080"/>
            <a:ext cx="2666880" cy="2590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43320" y="234936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假如没有灰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050"/>
          <p:cNvSpPr/>
          <p:nvPr/>
        </p:nvSpPr>
        <p:spPr>
          <a:xfrm>
            <a:off x="3288240" y="121932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灰尘颗粒的直径一般在万分之一到百万分之一毫米之间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中的“一般”能否删去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WordArt 2051"/>
          <p:cNvSpPr txBox="1"/>
          <p:nvPr/>
        </p:nvSpPr>
        <p:spPr>
          <a:xfrm>
            <a:off x="533520" y="533520"/>
            <a:ext cx="327636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体味用词的准确性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" name="Text Box 2052"/>
          <p:cNvSpPr/>
          <p:nvPr/>
        </p:nvSpPr>
        <p:spPr>
          <a:xfrm>
            <a:off x="4370040" y="2133720"/>
            <a:ext cx="68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不能，一般指通常，大多数情况，表明了灰尘的直径大多数是在万分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一到百万分之一的范围内，但也有特殊情况，这个词在这里有限制的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用，删去后不符合客观情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53"/>
          <p:cNvSpPr/>
          <p:nvPr/>
        </p:nvSpPr>
        <p:spPr>
          <a:xfrm>
            <a:off x="1923120" y="320040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庞然大物”的原意是什么？它与“灰尘的直径一般在万分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一到百万分之一毫米之间”是否矛盾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54"/>
          <p:cNvSpPr/>
          <p:nvPr/>
        </p:nvSpPr>
        <p:spPr>
          <a:xfrm>
            <a:off x="2262240" y="4038480"/>
            <a:ext cx="47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形容体积大而笨重的东西。不矛盾，这里的庞然大物是指颗粒比较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人肉眼能够看到的灰尘，它们与在高倍显微镜下才能看到的细小灰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相比，就显得巨大笨重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055"/>
          <p:cNvSpPr/>
          <p:nvPr/>
        </p:nvSpPr>
        <p:spPr>
          <a:xfrm>
            <a:off x="1999440" y="5105520"/>
            <a:ext cx="54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“阳光经过灰尘的反射，强度大大削弱一句中的“大大”有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么作用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56"/>
          <p:cNvSpPr/>
          <p:nvPr/>
        </p:nvSpPr>
        <p:spPr>
          <a:xfrm>
            <a:off x="2936880" y="601992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突出了反射后阳光强度被削弱的程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71F-DE4B-4829-8006-AEDF735E50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609480" y="685800"/>
            <a:ext cx="245772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2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华文彩云"/>
              </a:rPr>
              <a:t>灰尘的两面性</a:t>
            </a:r>
            <a:endParaRPr b="1" lang="en-US" sz="3200" spc="-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华文彩云"/>
              <a:ea typeface="华文彩云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914400" y="1828800"/>
            <a:ext cx="5734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有碍环境卫生，危害人体健康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838080" y="2590920"/>
            <a:ext cx="5734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对人类、地球的生存及大自然，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914400" y="3429000"/>
            <a:ext cx="3686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都具有巨大的作用。</a:t>
            </a:r>
            <a:endParaRPr b="1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892960" y="4308480"/>
            <a:ext cx="34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告诉我们：“任何事物都有它的两面性”。请你联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周围的事物，举一两个例子来说明这个道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734080"/>
            <a:ext cx="61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4192560" y="762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根据事物有两面性的观点，仿照下面的句子，再造两个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如：灰尘，一方面，有碍卫生，对人体健康有一定的危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，在削弱阳光调节气候等方面又有重要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10360" y="2789280"/>
            <a:ext cx="782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蛇毒，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　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908640" y="4348080"/>
            <a:ext cx="751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废品，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　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另一方面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             　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514600" y="762120"/>
            <a:ext cx="6019920" cy="2971800"/>
          </a:xfrm>
          <a:prstGeom prst="cloudCallout">
            <a:avLst>
              <a:gd name="adj1" fmla="val -62578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3352680" y="1219320"/>
            <a:ext cx="4876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假如自然界真的没有灰尘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" name="WordArt 4"/>
          <p:cNvSpPr txBox="1"/>
          <p:nvPr/>
        </p:nvSpPr>
        <p:spPr>
          <a:xfrm>
            <a:off x="2743200" y="1981080"/>
            <a:ext cx="5610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我们将面临怎样的境地呢？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48" name="Picture 5" descr="C:\Program Files\Common Files\Microsoft Shared\Clipart\cagcat50\BD06662_.WMF"/>
          <p:cNvPicPr/>
          <p:nvPr/>
        </p:nvPicPr>
        <p:blipFill>
          <a:blip r:embed="rId2"/>
          <a:stretch/>
        </p:blipFill>
        <p:spPr>
          <a:xfrm>
            <a:off x="838080" y="3809880"/>
            <a:ext cx="2971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Program Files\Common Files\Microsoft Shared\Clipart\cagcat50\SO01038_.wmf"/>
          <p:cNvPicPr/>
          <p:nvPr/>
        </p:nvPicPr>
        <p:blipFill>
          <a:blip r:embed="rId2"/>
          <a:stretch/>
        </p:blipFill>
        <p:spPr>
          <a:xfrm>
            <a:off x="2209680" y="914400"/>
            <a:ext cx="46483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482840" y="46483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假如大气中没有灰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207240" y="55627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强烈的阳光将使人无法睁开眼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My Documents\TN_CLOUD7.jpg"/>
          <p:cNvPicPr/>
          <p:nvPr/>
        </p:nvPicPr>
        <p:blipFill>
          <a:blip r:embed="rId2"/>
          <a:stretch/>
        </p:blipFill>
        <p:spPr>
          <a:xfrm>
            <a:off x="838080" y="457200"/>
            <a:ext cx="739152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914400" y="4648320"/>
            <a:ext cx="4572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假如空气中没有灰尘，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5649120" y="5486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文鼎中行书简"/>
              </a:rPr>
              <a:t>天空将变成白茫茫的一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33600" y="4800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假如大气中没有灰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990680" y="55627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文鼎CS长宋"/>
              </a:rPr>
              <a:t>生物将无法生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C:\My Documents\My Pictures\book1-4s.jpg"/>
          <p:cNvPicPr/>
          <p:nvPr/>
        </p:nvPicPr>
        <p:blipFill>
          <a:blip r:embed="rId2"/>
          <a:stretch/>
        </p:blipFill>
        <p:spPr>
          <a:xfrm>
            <a:off x="914400" y="685800"/>
            <a:ext cx="69343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1026"/>
          <p:cNvSpPr txBox="1"/>
          <p:nvPr/>
        </p:nvSpPr>
        <p:spPr>
          <a:xfrm>
            <a:off x="914400" y="685800"/>
            <a:ext cx="514368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假如空气中没有灰尘，</a:t>
            </a:r>
            <a:endParaRPr b="1" lang="en-US" sz="4000" spc="-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9" name="AutoShape 1027"/>
          <p:cNvSpPr/>
          <p:nvPr/>
        </p:nvSpPr>
        <p:spPr>
          <a:xfrm>
            <a:off x="3962520" y="25146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28"/>
          <p:cNvSpPr/>
          <p:nvPr/>
        </p:nvSpPr>
        <p:spPr>
          <a:xfrm>
            <a:off x="4572000" y="28954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029"/>
          <p:cNvSpPr/>
          <p:nvPr/>
        </p:nvSpPr>
        <p:spPr>
          <a:xfrm>
            <a:off x="5181480" y="2514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30" descr="C:\Program Files\Common Files\Microsoft Shared\Clipart\cagcat50\PE02097_.wmf"/>
          <p:cNvPicPr/>
          <p:nvPr/>
        </p:nvPicPr>
        <p:blipFill>
          <a:blip r:embed="rId2"/>
          <a:stretch/>
        </p:blipFill>
        <p:spPr>
          <a:xfrm>
            <a:off x="1676520" y="3505320"/>
            <a:ext cx="358128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31"/>
          <p:cNvSpPr/>
          <p:nvPr/>
        </p:nvSpPr>
        <p:spPr>
          <a:xfrm>
            <a:off x="5087880" y="16002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文鼎CS大隶书"/>
              </a:rPr>
              <a:t>大自然将多么单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My Documents\云1.jpg"/>
          <p:cNvPicPr/>
          <p:nvPr/>
        </p:nvPicPr>
        <p:blipFill>
          <a:blip r:embed="rId2"/>
          <a:stretch/>
        </p:blipFill>
        <p:spPr>
          <a:xfrm>
            <a:off x="838080" y="914400"/>
            <a:ext cx="769644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WordArt 3"/>
          <p:cNvSpPr txBox="1"/>
          <p:nvPr/>
        </p:nvSpPr>
        <p:spPr>
          <a:xfrm>
            <a:off x="3124080" y="5029200"/>
            <a:ext cx="2667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闲云迷雾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26" descr="C:\My Documents\5.jpg"/>
          <p:cNvPicPr/>
          <p:nvPr/>
        </p:nvPicPr>
        <p:blipFill>
          <a:blip r:embed="rId2"/>
          <a:stretch/>
        </p:blipFill>
        <p:spPr>
          <a:xfrm>
            <a:off x="990720" y="990720"/>
            <a:ext cx="7543800" cy="434808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27"/>
          <p:cNvSpPr txBox="1"/>
          <p:nvPr/>
        </p:nvSpPr>
        <p:spPr>
          <a:xfrm>
            <a:off x="3048120" y="556272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深沉的晚霞</a:t>
            </a:r>
            <a:endParaRPr b="1" lang="en-US" sz="40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483360" y="609480"/>
            <a:ext cx="14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下列句子，说说哪个表达效果更好，并说明理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灰尘大多具有吸湿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灰尘有的具有吸湿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609480" y="1981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“大多”指大多数，准确说明了灰尘中具有吸湿功能的灰尘的数量，而“有的”没有数量的意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059280" y="289548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分散的水汽便依附着灰尘而形成稳定的水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分散的水汽便依附着灰尘而变成稳定的水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081520" y="3733920"/>
            <a:ext cx="518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“形成”是逐渐发展生长而造成的，形象地写出了分散的水汽逐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吸附灰尘所形成水滴的过程。而“变成”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则指改变而成，这里水的本质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没有改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364200" y="4800600"/>
            <a:ext cx="182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只有正确地认识它们，才能趋利避害，造富人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只有认识它们，才能趋利避害，造富人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121840" y="5867280"/>
            <a:ext cx="505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句好，仅仅“认识”是不能区分利和弊的，“正确的认识”是趋利避害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前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699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7:17:46Z</dcterms:created>
  <dc:creator/>
  <dc:description/>
  <cp:keywords>幻灯片之家 http:/www.eeppt.com</cp:keywords>
  <dc:language>en-US</dc:language>
  <cp:lastModifiedBy/>
  <dcterms:modified xsi:type="dcterms:W3CDTF">2015-07-20T02:04:20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