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686A-C036-4532-BD54-9DCC74A13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0A3E-AEEB-4137-8453-A95DC6786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F72B-CB7E-4347-8A9B-3137CB63E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835D-EF87-4687-AD3A-2CCF8167E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7C83F-04A2-429C-9021-16C0972E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CB3A9-9C94-4591-A25C-759EB6C4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A61F0-99D8-448D-BB9D-358AC48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68D1E-DA0B-4C34-87E6-71779476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9F172-644F-4A62-B531-D1E69484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F15BE-E39A-4BFC-BCAA-C2F8836A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D4C45-91C2-45FA-970C-D33C723D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894F-77D7-4285-AED8-ABC906199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825F4-DA20-4A90-A02F-10D3578A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458E4-2A9A-4533-BABD-D3002D49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40E1E-98BD-4ACF-A526-B062CF7C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CEC1D-6FDB-4380-BA36-2969F629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6639E-1C97-452F-BEC5-FE146AD5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D0235-C4DE-4C14-9CBC-3F02D912F8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86AD3-6CD1-41AA-80CF-6027C13730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BA67-A38C-49DA-BCB0-F41543ABAC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C610D-DBCB-40DA-AE21-BCC826A94E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B21CA-076C-4EE3-B6F8-DFAB1047A6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8E0A-B1A5-4A09-B111-BF634653C4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4BEBD-A485-47F5-B927-3B1DDD485A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A36F1-8526-4527-A862-D473D68721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EED76-6C07-4CD0-AA99-69BFC7BCAF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DA969-1C34-41AB-8BA6-F053113D04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D621D-146E-43E4-AE65-7369DE39ED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B5927-F5B2-4B31-8864-52CC47E0B7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2170C-D28A-4070-B62D-33192742E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9501-1106-4005-B7A7-BDCEEDFB4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FBFF-D339-4A17-9AD4-514C78F1A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A7EB-99AE-442B-88D7-1888DE32F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16CB-4879-4BA5-89EE-D71CA4EEC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E801-A0B1-40C9-A27E-B7B1AB862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AD8B-CDD6-4C73-A38A-1185300E8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BDBB-C5DF-4CE9-A8E9-B598F612A6BE}" type="slidenum"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72AE-EFB9-4960-A586-0BDC640BEAA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AD00-109C-4E81-8F8E-B3607D8843A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1654-FDB2-424A-832E-38E3E8698657}" type="slidenum">
              <a:rPr b="0" lang="zh-TW" sz="10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47640" y="2134800"/>
            <a:ext cx="55674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523d3"/>
                </a:solidFill>
                <a:latin typeface="華康新特黑體"/>
                <a:ea typeface="華康新特黑體"/>
              </a:rPr>
              <a:t>纪实报导概论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7ED9-4816-4A55-92F6-7B7F1F3F6229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DFKai-SB"/>
                <a:ea typeface="DFKai-SB"/>
              </a:rPr>
              <a:t>部落的現況以及文化的狀態，必須透過原住民的眼睛觀察。時時加深對題材的分析能力，才能看出整體題材的原貌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4087-B763-456D-85A0-CC04C2E1EE52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越是在超然的角度記錄觀點，越是能看出事件發展的軌跡。報導題材或採訪現場越亂，你更是需要冷靜面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C9A2-F412-4104-AB81-3F5226663EC2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不要認為拿攝影機器或採訪設備最大，不可刻意展現自己的威權感，如果受訪對象抗拒，寧願下次再來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65C2-23D2-4567-816A-372AAD9DC25B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計畫製作有關部落的報導，必須了解部落資訊流通的管道或是場合，以方便取得最正確的報導資料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1B65-BC0D-4776-A7FF-1632F6CEF3FE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要時時確認自己的採訪資料，人事時地物的變化，是資料收集掌握的首要工作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E710-B2E5-4E86-B42A-B61CFCD6E500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不可看清任何流通的資訊，它可能會對報導創造意想不到的價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A64-59E5-49AB-B39E-67B9F58DFF67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語言或文字能力越強，可以蒐集的採訪訊息將越可觀，擴大吸收資訊的管道，對報導將事半功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1710-9241-4BE5-9C2D-D6CDD5CEAB32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99ccff"/>
                </a:solidFill>
                <a:latin typeface="Arial"/>
                <a:ea typeface="PMingLiU"/>
              </a:rPr>
              <a:t>　　　　　　</a:t>
            </a:r>
            <a:r>
              <a:rPr b="0" lang="zh-TW" sz="4000" spc="-1" strike="noStrike">
                <a:solidFill>
                  <a:srgbClr val="99ccff"/>
                </a:solidFill>
                <a:latin typeface="Arial"/>
                <a:ea typeface="華康新特黑體"/>
              </a:rPr>
              <a:t>前言</a:t>
            </a:r>
            <a:r>
              <a:rPr b="0" lang="zh-TW" sz="4000" spc="-1" strike="noStrike">
                <a:solidFill>
                  <a:srgbClr val="99ccff"/>
                </a:solidFill>
                <a:latin typeface="Arial"/>
                <a:ea typeface="PMingLiU"/>
              </a:rPr>
              <a:t> 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DFKai-SB"/>
              </a:rPr>
              <a:t>你知道遙遠外蒙古上的牧民遇到鏡頭的驚訝嗎？有沒有想過用鏡頭旅行？部落的祖父有問過你，攝影機內的人是真的人嗎？你有沒有用過照相機記錄自己家族的故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DFKai-SB"/>
              </a:rPr>
              <a:t>紀實報導的世界就像一趟星空之旅，有許多有趣的探險，都是真實的體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8573-B2ED-47F5-8BF6-6A34032257AD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紀實報導講求各項報導素材的精確性，也力求現場情況的完整記錄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8A68-8B6D-4E82-9CAB-6B70BF37CA3A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DFKai-SB"/>
                <a:ea typeface="DFKai-SB"/>
              </a:rPr>
              <a:t>每一個焦點或是情節，都是紀實報導的主題，不要放過任何一個可以感動你的紀錄，寧願多拍，不要不拍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7A59-B261-4AAB-B064-78C04A0736D5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把自己看成是電影導演，掌握故事的節奏，掌控所有工作的進行，想像自己正在製播一個劇情精采的電影。視野越大，報導的成品將越具可看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C6EB-2DFD-4AC6-9A82-6DBFA731176F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採訪作業開始前，應該研擬完備的企畫案，從人力及器材到採訪現場的配置都應該有一套完整的規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BBF5-01A1-42FD-9634-F2A5077B7487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最好是擬出一套採訪的進度表，按規劃的進度來完成應該有的成果，採訪團隊也必須依進度表行事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9752-CC4C-41B7-B6CF-39CEDE7A8148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在部落或是山區進行採訪必須掌控現場變數，危機的處理越快越好，最好可以事先勘查採訪周邊情況，確保採訪品質水平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AF6-9D82-4106-95EA-6C65BA609D03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ccff"/>
              </a:solidFill>
              <a:latin typeface="Arial"/>
              <a:ea typeface="PMingLiU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DFKai-SB"/>
              </a:rPr>
              <a:t>沒有萬全的準備，產生不出最佳的報導。尤其出外景或是出國採訪，準備工作更是不能馬虎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5D54-5919-4778-A274-9628C40D5F88}" type="slidenum">
              <a:rPr b="0" lang="zh-TW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7:00Z</dcterms:created>
  <dc:creator/>
  <dc:description/>
  <cp:keywords>纪实 报导 概论</cp:keywords>
  <dc:language>en-US</dc:language>
  <cp:lastModifiedBy>An</cp:lastModifiedBy>
  <dcterms:modified xsi:type="dcterms:W3CDTF">2016-05-01T00:57:0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