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AD2-7538-4D67-A5BD-CEAC2F73A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E58-944E-4150-9598-708BBADE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440-5090-41F5-9BA6-4A415B12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2942-4783-4203-8493-15889450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096C-DBB1-4FC0-B9F6-CBCD359CD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912-1FD7-4C7C-B162-281994C5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7960-C118-4B37-941D-341BC96A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C55D-E71D-4CCE-9C17-CCE0AFCE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0A5D-6B8C-4710-B56E-42501780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2D6-A88F-4889-8186-7C2E3C3A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F46-DA2E-4264-A519-DE7233E9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BBBF-DEB6-4EE3-B224-A95D2218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AA11-760C-40AA-9C4A-D360E3BA44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539640" y="765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28364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6"/>
          <p:cNvSpPr/>
          <p:nvPr/>
        </p:nvSpPr>
        <p:spPr>
          <a:xfrm>
            <a:off x="4212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41407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2600" y="16286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45AD-251A-4356-A681-887CD369E6D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7142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6355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2600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185472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12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64267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94860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64084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2568960" y="5286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2926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571212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94860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421200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60696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068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5429160" y="50007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285480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32119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497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948600" y="568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42836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1783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671256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948600" y="568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571212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3547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407016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948600" y="568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55695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640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4"/>
          <p:cNvSpPr/>
          <p:nvPr/>
        </p:nvSpPr>
        <p:spPr>
          <a:xfrm>
            <a:off x="27835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71212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948600" y="5684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6283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9"/>
          <p:cNvSpPr/>
          <p:nvPr/>
        </p:nvSpPr>
        <p:spPr>
          <a:xfrm>
            <a:off x="1997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428364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33:05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