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8884-AFFA-40AB-9BBC-78E49A321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A9BB-D9BC-4991-B8D4-D7EF1845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55811-6E0B-4657-9E8E-FAC85EB7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8B5AF-A26E-4FB6-AC04-613AFC5B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FB237-8B57-4AC8-BB36-30D8AA12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BD30BB-37C2-408C-A53F-E1AB9EF1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26CFA-0766-432D-BFE2-CB7823CA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298F0-2EF1-49E0-9041-0E46C337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513E95-5563-47D8-B4B5-01FEADA5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E02F6-1EA8-422E-BB37-95589FF43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E7323-52F2-49D7-8CEB-CE2D1430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ECB8-F46A-45A3-8F26-D090F618B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799F-5105-4789-8A76-72261D616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DAE0-DFB6-443E-BBD2-5B7A13AE3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01B9-A195-4557-8181-0A4BF00F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28B0-5FBE-42AB-A542-09B635B9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575C-6A51-4D7B-825D-3D682A4E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CEB8-8F5A-4137-A5A4-3B31439A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B0A8-2BB3-48D1-A39C-1286B8F4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2BE0-89D4-412A-963E-AC200E16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EDC3-9158-4198-8B88-BB6D49FA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5F00-76A2-422D-ACF3-3B117157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DCAF-63DF-4A0D-8CA0-61FD37CC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3C9C-2C0E-4899-ADCD-CF3F98FE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E552-DFA0-4F43-A896-DE7139F68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D761-D6FC-4427-B2F8-CC2BE3A86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66764-BB36-4C37-8CB8-1A01138A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04FAB-B9DF-4BCB-9DC8-C1DD78FA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77ED0-F590-4EC9-82A7-9A3A7C7A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B0476-C57C-407D-BC9B-0E5CCDB1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F1A56-E0EB-45EB-BBD1-9DE07D75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B124-2E2D-4C2D-9A86-6A61C2AA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10E1F-457C-4BDD-9CA0-F8BE62C1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1AEE4-D061-47C4-B12F-53043B86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F0FC1-9B06-4B21-A845-094B2421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79099-3940-4CD5-B274-FC4CA6C3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3D9BE-E48B-4988-A8B1-E189A6BD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1495A-D7D1-478F-B4A4-BBC04D3FE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0F2AF-5C22-4F48-B8A3-EE68145DB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80259-3D60-478D-BDC0-33D16F8F1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887BD-97D9-438D-922C-64CC8003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28EE9-FBFE-456F-8D04-127CE36C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7738-3BC7-457D-B0A4-AC06AE2F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396FC-4337-4133-A908-C4993E83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2C316-B994-4D46-8F0D-ADBF2DDA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ADF09-6F91-42FF-B130-B8CE6423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AF08F-D969-488B-9DE3-0BCD3BA2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D413E-F76B-45A4-A6C8-8590A8A2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D8423-0BC4-4D15-8AB9-8BE3A5B0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ED806-D88D-4F33-8D4A-CF68AF50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7BE2D-6A91-4184-8E0A-4B6F12EF5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BD13D-F544-4F3F-91CC-6C0637A3D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3D43A-DE53-473B-A914-738FB5283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CBE6-D58F-4567-A9D3-A6896AF6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D0CBA-2460-45A3-A75A-D48B7906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27392-3A00-4B01-A7B8-4D9255CB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5F809-00C8-4884-808D-9FE12342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B842C-1AEB-4080-8C61-50C7DCCF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3679A-C390-4BDE-A984-E9C79ECC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17F49-E017-4F69-B659-E5C23B32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594BC-3A5B-4314-8CFE-E52103A2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D604E-1C8E-43F9-BE24-8A9671FE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F0754-8A82-4049-A094-023C3809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029C7-0CC7-4E54-A7D0-B2B96400A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AB1B-18E7-45D5-B90B-CF996FE1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1B652-DB6E-455A-AA5B-BC9E3E6FC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E4137D-96DE-42A3-8373-91437FDEC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1CDC84-CBD1-499D-A0D8-0CF95C86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6B8235-245E-4E95-A749-47749332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301D30-529E-4397-96C7-7E35A95C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4A503E-EFD0-4EF0-BD91-C397BF7D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F0056A-9ECB-4AE6-B93F-5865D557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B5E02A-2756-47CC-B437-7B0B3B03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BCF212-2BD4-4965-952D-9BA8B3F4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E3C8ED-ACA3-4233-860A-E700E274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60B7-E742-4389-A2F8-B72C97F0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581885-542B-4839-A45A-3EB61D56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6C4C4E-394C-4C1A-9500-A4141D18F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8DEA2B-F21C-467B-B6B8-095740F60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7DA0D-9A12-4F4D-B56A-3A249BF7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2E260-4FD9-4335-9DA7-AF8850BC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62DE1-B097-4310-86AF-FAFA00FE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12ED4-CB6F-439E-91CF-AB117061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2C682-CBAA-4BB9-B615-D4E20866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7098A-7BD7-411D-8BC6-1B616DBC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3EC00-A157-4FA0-95C3-26E43A6C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C5B1-C4AF-4210-BB0D-6C0ECD08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FC3AF-DB69-458B-BB0E-DFCB4F75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A71F8-0F37-423C-AF16-BBB21096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B935B-98B3-437A-AB3B-C0BB9AA8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B5E1D-2BC2-478E-8D94-81679632F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03101-D0E3-44DC-9D86-EA1819393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F68F88-97F3-42CF-B77A-F2C0FC3B6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C21446-01B1-4C06-9E16-018ACEFD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F5825F-E1E7-4C5C-A385-19881EA5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F32CE5-C4C0-4414-9A61-EA921496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1C4EFE-65B7-4765-BBE6-B5FACAFD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8BB9-5864-4D9A-AF66-384FA42F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B11529-B257-48F7-AF10-9E574732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D7D584-B17D-44B2-9740-6B825E31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544526-FA2F-49DA-901A-0F874D7C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F4A221-8241-4FD2-9FAB-D7DA45D0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D07FA9-206E-4190-9D05-08CEBC7D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195C64-BAFB-4A8C-9DEC-5FA27EAC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F661F6-94BE-4FCD-8BBB-065999D41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B5AEEC-D811-4EF6-8D25-A7C84FDA2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D0FBE-AD49-499C-907B-B869E309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FE24A-A35C-4284-8F9A-92EC8469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024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任意多边形 10242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任意多边形 10243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任意多边形 10244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组合 10245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任意多边形 10246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组合 10247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任意多边形 10248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任意多边形 10249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任意多边形 10250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任意多边形 10251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任意多边形 10252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任意多边形 10253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组合 10254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任意多边形 10255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任意多边形 10256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任意多边形 10257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任意多边形 10258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任意多边形 10259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任意多边形 10260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4FB0-7563-4CD0-B0EC-07D66A3F0286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组合 24577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2" name="任意多边形 24578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任意多边形 24579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任意多边形 24580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任意多边形 24581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任意多边形 24582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任意多边形 24583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任意多边形 24584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任意多边形 24585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任意多边形 24586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矩形 24587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矩形 24588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任意多边形 24589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任意多边形 24590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任意多边形 24591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任意多边形 24592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任意多边形 24593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任意多边形 24594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任意多边形 24595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AD68-C9E7-428E-8219-5AC9A46A7AA5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0F71-439F-4B9A-828B-226EE7556AED}" type="slidenum">
              <a:rPr b="0" lang="zh-TW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39937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矩形 39938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矩形 39939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矩形 39940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矩形 39941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矩形 39942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矩形 39943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DC68-F96A-4805-B857-CF94539CFEAA}" type="slidenum">
              <a:rPr b="0" lang="zh-TW" sz="1400" spc="-1" strike="noStrike">
                <a:solidFill>
                  <a:srgbClr val="000000"/>
                </a:solidFill>
                <a:latin typeface="Tahoma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72BE-5899-4B7F-B9E8-AD5B9C48E29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4D64-9976-4472-9C31-F8017A776C8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组合 11265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52" name="任意多边形 11266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任意多边形 11267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4" name="任意多边形 11268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组合 11269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56" name="任意多边形 11270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7" name="组合 11271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58" name="任意多边形 11272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任意多边形 11273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任意多边形 11274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任意多边形 11275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任意多边形 11276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3" name="任意多边形 11277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组合 11278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65" name="任意多边形 11279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任意多边形 11280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任意多边形 11281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任意多边形 11282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任意多边形 11283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任意多边形 11284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8D29-A0EB-456A-A455-6F6668D294D4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组合 25601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13" name="任意多边形 25602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任意多边形 25603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任意多边形 25604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任意多边形 25605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任意多边形 25606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任意多边形 25607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任意多边形 25608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任意多边形 25609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任意多边形 25610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矩形 25611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矩形 25612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任意多边形 25613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任意多边形 25614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任意多边形 25615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任意多边形 25616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任意多边形 25617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任意多边形 25618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任意多边形 25619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8B3D-EBB9-4404-8110-6DB2C006CBE4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任意多边形 37891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2A36-1FAA-4024-B31F-89DAB3AC827D}" type="slidenum">
              <a:rPr b="0" lang="zh-TW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组合 40961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15" name="组合 40962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16" name="矩形 40963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矩形 40964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8" name="组合 40965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19" name="矩形 40966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矩形 40967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1" name="矩形 40968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矩形 40969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矩形 40970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5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0854-3290-4688-B98C-5B8FD1E1B65E}" type="slidenum">
              <a:rPr b="0" lang="zh-TW" sz="1400" spc="-1" strike="noStrike">
                <a:solidFill>
                  <a:srgbClr val="1c1c1c"/>
                </a:solidFill>
                <a:latin typeface="Tahoma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99"/>
                </a:solidFill>
                <a:latin typeface="Arial"/>
              </a:rPr>
              <a:t>XX</a:t>
            </a:r>
            <a:r>
              <a:rPr b="1" lang="zh-TW" sz="4000" spc="-1" strike="noStrike">
                <a:solidFill>
                  <a:srgbClr val="ff6699"/>
                </a:solidFill>
                <a:latin typeface="Arial"/>
              </a:rPr>
              <a:t>旅遊導覽</a:t>
            </a:r>
            <a:r>
              <a:rPr b="1" lang="en-US" sz="4000" spc="-1" strike="noStrike">
                <a:solidFill>
                  <a:srgbClr val="ff6699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66cc"/>
                </a:solidFill>
                <a:uFillTx/>
                <a:latin typeface="Arial"/>
              </a:rPr>
              <a:t>自然生態之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e3e3ff"/>
                </a:solidFill>
                <a:latin typeface="Arial"/>
              </a:rPr>
              <a:t>山之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柴山風景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壽山風景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壽山動物園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半屏山自然公園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e3e3ff"/>
                </a:solidFill>
                <a:latin typeface="Arial"/>
              </a:rPr>
              <a:t>海之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高雄港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西子灣風景區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旗津海岸公園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旗津風車公園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高字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e3e3ff"/>
                </a:solidFill>
                <a:latin typeface="Arial"/>
              </a:rPr>
              <a:t>河之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愛河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前鎮河親水公園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e3e3ff"/>
                </a:solidFill>
                <a:latin typeface="Arial"/>
              </a:rPr>
              <a:t>湖之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蓮池潭風景區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金獅湖風景區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澄清湖風景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99"/>
                </a:solidFill>
                <a:latin typeface="Arial"/>
              </a:rPr>
              <a:t>XX</a:t>
            </a:r>
            <a:r>
              <a:rPr b="0" lang="zh-TW" sz="4000" spc="-1" strike="noStrike">
                <a:solidFill>
                  <a:srgbClr val="ff6699"/>
                </a:solidFill>
                <a:latin typeface="Arial"/>
              </a:rPr>
              <a:t>旅遊導覽</a:t>
            </a:r>
            <a:r>
              <a:rPr b="0" lang="en-US" sz="4000" spc="-1" strike="noStrike">
                <a:solidFill>
                  <a:srgbClr val="feec94"/>
                </a:solidFill>
                <a:latin typeface="Arial"/>
              </a:rPr>
              <a:t> 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66cc"/>
                </a:solidFill>
                <a:uFillTx/>
                <a:latin typeface="Arial"/>
              </a:rPr>
              <a:t>歷史人文之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99"/>
                </a:solidFill>
                <a:latin typeface="Arial"/>
              </a:rPr>
              <a:t>古蹟之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原鳳山舊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孔廟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雄鎮北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元亨寺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前清英國領事館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旗津天后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99"/>
                </a:solidFill>
                <a:latin typeface="Arial"/>
              </a:rPr>
              <a:t>民俗之旅</a:t>
            </a: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愛河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蓮池潭風景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99"/>
                </a:solidFill>
                <a:latin typeface="Arial"/>
              </a:rPr>
              <a:t>藝文之旅</a:t>
            </a: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高雄市立美術館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高雄市立音樂館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市立中正文化中心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市立圖書館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市立電影圖書館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99"/>
                </a:solidFill>
                <a:latin typeface="Arial"/>
              </a:rPr>
              <a:t>博物之旅</a:t>
            </a: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國立科學工藝博物館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高雄市立歷史博物館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高雄市客家文物館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99"/>
                </a:solidFill>
                <a:latin typeface="Arial"/>
              </a:rPr>
              <a:t>XX</a:t>
            </a:r>
            <a:r>
              <a:rPr b="1" lang="zh-TW" sz="4000" spc="-1" strike="noStrike">
                <a:solidFill>
                  <a:srgbClr val="ff6699"/>
                </a:solidFill>
                <a:latin typeface="Arial"/>
              </a:rPr>
              <a:t>旅遊導覽</a:t>
            </a:r>
            <a:r>
              <a:rPr b="1" lang="en-US" sz="4000" spc="-1" strike="noStrike">
                <a:solidFill>
                  <a:srgbClr val="ff6699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0066cc"/>
                </a:solidFill>
                <a:uFillTx/>
                <a:latin typeface="Arial"/>
              </a:rPr>
              <a:t>休閒娛樂之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"/>
              </a:rPr>
              <a:t>賞光之旅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城市光廊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高雄光之塔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賞綠之旅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高雄都會公園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高雄市原生植物園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"/>
              </a:rPr>
              <a:t>遊樂之旅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旗津海岸公園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愛河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高雄港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"/>
              </a:rPr>
              <a:t>雅趣之旅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前清英國領事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Arial"/>
              </a:rPr>
              <a:t>XX</a:t>
            </a:r>
            <a:r>
              <a:rPr b="1" lang="zh-TW" sz="4400" spc="-1" strike="noStrike">
                <a:solidFill>
                  <a:srgbClr val="ff6699"/>
                </a:solidFill>
                <a:latin typeface="Arial"/>
              </a:rPr>
              <a:t>旅遊導覽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 u="sng">
                <a:solidFill>
                  <a:srgbClr val="0066cc"/>
                </a:solidFill>
                <a:uFillTx/>
                <a:latin typeface="Arial"/>
              </a:rPr>
              <a:t>美食購物之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3399ff"/>
                </a:solidFill>
                <a:latin typeface="Arial"/>
              </a:rPr>
              <a:t>海鮮之旅</a:t>
            </a:r>
            <a:r>
              <a:rPr b="1" lang="en-US" sz="1400" spc="-1" strike="noStrike">
                <a:solidFill>
                  <a:srgbClr val="3399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旗津海岸公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99ff"/>
                </a:solidFill>
                <a:latin typeface="Arial"/>
              </a:rPr>
              <a:t>小吃之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高雄小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六合觀光夜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南華觀光夜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興中觀光夜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光華觀光夜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99ff"/>
                </a:solidFill>
                <a:latin typeface="Arial"/>
              </a:rPr>
              <a:t>商圈之旅</a:t>
            </a:r>
            <a:r>
              <a:rPr b="1" lang="en-US" sz="1400" spc="-1" strike="noStrike">
                <a:solidFill>
                  <a:srgbClr val="3399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三多商圈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漢神大立商圈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新崛江商圈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尖美商圈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火車站商圈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文化中心商圈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鹽埕商圈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南華商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日期占位符 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99"/>
                </a:solidFill>
                <a:latin typeface="Arial"/>
              </a:rPr>
              <a:t>XX</a:t>
            </a:r>
            <a:r>
              <a:rPr b="1" lang="zh-TW" sz="4000" spc="-1" strike="noStrike">
                <a:solidFill>
                  <a:srgbClr val="ff6699"/>
                </a:solidFill>
                <a:latin typeface="Arial"/>
              </a:rPr>
              <a:t>旅遊導覽</a:t>
            </a: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ff"/>
                </a:solidFill>
                <a:latin typeface="Arial"/>
              </a:rPr>
              <a:t>商街之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三鳳中街（南北貨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興中花卉街（花市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大連商圈（皮鞋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原宿玉竹商圈（流行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新崛江商圈（新潮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鹽埕崛江商場（舶來品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長明商圈（成衣、電子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後驛商圈（成衣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新樂金仔街（金飾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新興區特色街道（婚紗、家俱、補教、汽車材料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十全玉市商場（玉石古玩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十全跳蚤商場（二手貨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日期占位符 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45:53Z</dcterms:created>
  <dc:creator/>
  <dc:description/>
  <cp:keywords>鏃呮父 瀵艰</cp:keywords>
  <dc:language>en-US</dc:language>
  <cp:lastModifiedBy>An</cp:lastModifiedBy>
  <dcterms:modified xsi:type="dcterms:W3CDTF">2016-05-01T00:45:5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