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F82-0A00-45E9-8822-F9D9937D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ED0-1974-400E-96BE-E2FDE17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D4F-368C-4AA6-BD62-B2A996D5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6F7-50DC-415B-889E-95E33B38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372-BAD7-4AE2-B124-2ABD7F8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4C2-89E4-48D1-9677-66D5F710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988-30FA-41FD-A70B-1047C53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516-1209-4FDB-B644-5D42D65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1DD-EB19-4218-B546-BB6C1C56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E24-CD8F-458E-A2A5-28953D2C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9B8-8603-4089-90AA-7DFA1C6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A6B-0FC3-4EA7-BFC4-EDA2DB7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4309-02A6-4416-933A-F7FA40768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7315200" cy="524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植物类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1036332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4722840"/>
            <a:ext cx="10112400" cy="15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598760"/>
            <a:ext cx="9215280" cy="138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6120"/>
            <a:ext cx="9144000" cy="91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2284560"/>
            <a:ext cx="9144000" cy="9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5760"/>
            <a:ext cx="9164520" cy="10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2085840"/>
            <a:ext cx="9144000" cy="8943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3032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47520" y="-4113360"/>
            <a:ext cx="9191520" cy="12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537-1398-44AB-8F9B-3798A1042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7750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103633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41800" y="609480"/>
            <a:ext cx="500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33480"/>
            <a:ext cx="75438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8:01:5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54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