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4" descr="1.png"/>
          <p:cNvPicPr/>
          <p:nvPr/>
        </p:nvPicPr>
        <p:blipFill>
          <a:blip r:embed="rId1"/>
          <a:stretch/>
        </p:blipFill>
        <p:spPr>
          <a:xfrm>
            <a:off x="11160" y="334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9" descr="2.png"/>
          <p:cNvPicPr/>
          <p:nvPr/>
        </p:nvPicPr>
        <p:blipFill>
          <a:blip r:embed="rId2"/>
          <a:stretch/>
        </p:blipFill>
        <p:spPr>
          <a:xfrm>
            <a:off x="419040" y="795240"/>
            <a:ext cx="2376720" cy="13906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55440" y="5372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06480" y="225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汽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6378480" y="14760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322360" y="1539720"/>
            <a:ext cx="4638960" cy="478080"/>
            <a:chOff x="2322360" y="1539720"/>
            <a:chExt cx="4638960" cy="478080"/>
          </a:xfrm>
        </p:grpSpPr>
        <p:grpSp>
          <p:nvGrpSpPr>
            <p:cNvPr id="45" name=""/>
            <p:cNvGrpSpPr/>
            <p:nvPr/>
          </p:nvGrpSpPr>
          <p:grpSpPr>
            <a:xfrm>
              <a:off x="2322360" y="1539720"/>
              <a:ext cx="4638960" cy="478080"/>
              <a:chOff x="2322360" y="1539720"/>
              <a:chExt cx="4638960" cy="478080"/>
            </a:xfrm>
          </p:grpSpPr>
          <p:pic>
            <p:nvPicPr>
              <p:cNvPr id="46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22360" y="1539720"/>
                <a:ext cx="4638960" cy="47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2410200" y="1589400"/>
                <a:ext cx="446868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2322360" y="1563480"/>
              <a:ext cx="4638960" cy="397080"/>
              <a:chOff x="2322360" y="1563480"/>
              <a:chExt cx="4638960" cy="397080"/>
            </a:xfrm>
          </p:grpSpPr>
          <p:pic>
            <p:nvPicPr>
              <p:cNvPr id="49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322360" y="1563480"/>
                <a:ext cx="4638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403360" y="1639800"/>
                <a:ext cx="448236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2322360" y="2266920"/>
            <a:ext cx="4638960" cy="477720"/>
            <a:chOff x="2322360" y="2266920"/>
            <a:chExt cx="4638960" cy="477720"/>
          </a:xfrm>
        </p:grpSpPr>
        <p:grpSp>
          <p:nvGrpSpPr>
            <p:cNvPr id="52" name=""/>
            <p:cNvGrpSpPr/>
            <p:nvPr/>
          </p:nvGrpSpPr>
          <p:grpSpPr>
            <a:xfrm>
              <a:off x="2322360" y="2266920"/>
              <a:ext cx="4638960" cy="477720"/>
              <a:chOff x="2322360" y="2266920"/>
              <a:chExt cx="4638960" cy="477720"/>
            </a:xfrm>
          </p:grpSpPr>
          <p:pic>
            <p:nvPicPr>
              <p:cNvPr id="53" name="AutoShap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2322360" y="226692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410200" y="231804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322360" y="2290680"/>
              <a:ext cx="4638960" cy="401400"/>
              <a:chOff x="2322360" y="2290680"/>
              <a:chExt cx="4638960" cy="401400"/>
            </a:xfrm>
          </p:grpSpPr>
          <p:pic>
            <p:nvPicPr>
              <p:cNvPr id="56" name="AutoShap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2322360" y="2290680"/>
                <a:ext cx="4638960" cy="40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2403360" y="236808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2322360" y="2995560"/>
            <a:ext cx="4638960" cy="476280"/>
            <a:chOff x="2322360" y="2995560"/>
            <a:chExt cx="4638960" cy="476280"/>
          </a:xfrm>
        </p:grpSpPr>
        <p:grpSp>
          <p:nvGrpSpPr>
            <p:cNvPr id="59" name=""/>
            <p:cNvGrpSpPr/>
            <p:nvPr/>
          </p:nvGrpSpPr>
          <p:grpSpPr>
            <a:xfrm>
              <a:off x="2322360" y="2995560"/>
              <a:ext cx="4638960" cy="476280"/>
              <a:chOff x="2322360" y="2995560"/>
              <a:chExt cx="4638960" cy="476280"/>
            </a:xfrm>
          </p:grpSpPr>
          <p:pic>
            <p:nvPicPr>
              <p:cNvPr id="60" name="AutoShap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322360" y="29955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2409840" y="3048480"/>
                <a:ext cx="44690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322360" y="3018960"/>
              <a:ext cx="4638960" cy="396360"/>
              <a:chOff x="2322360" y="3018960"/>
              <a:chExt cx="4638960" cy="396360"/>
            </a:xfrm>
          </p:grpSpPr>
          <p:pic>
            <p:nvPicPr>
              <p:cNvPr id="63" name="AutoShap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322360" y="3018960"/>
                <a:ext cx="4638960" cy="39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2403360" y="3097800"/>
                <a:ext cx="4482360" cy="2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322360" y="3722760"/>
            <a:ext cx="4638960" cy="477720"/>
            <a:chOff x="2322360" y="3722760"/>
            <a:chExt cx="4638960" cy="477720"/>
          </a:xfrm>
        </p:grpSpPr>
        <p:grpSp>
          <p:nvGrpSpPr>
            <p:cNvPr id="66" name=""/>
            <p:cNvGrpSpPr/>
            <p:nvPr/>
          </p:nvGrpSpPr>
          <p:grpSpPr>
            <a:xfrm>
              <a:off x="2322360" y="3722760"/>
              <a:ext cx="4638960" cy="477720"/>
              <a:chOff x="2322360" y="3722760"/>
              <a:chExt cx="4638960" cy="477720"/>
            </a:xfrm>
          </p:grpSpPr>
          <p:pic>
            <p:nvPicPr>
              <p:cNvPr id="67" name="AutoShape 3" descr=""/>
              <p:cNvPicPr/>
              <p:nvPr/>
            </p:nvPicPr>
            <p:blipFill>
              <a:blip r:embed="rId7"/>
              <a:stretch/>
            </p:blipFill>
            <p:spPr>
              <a:xfrm>
                <a:off x="2322360" y="3722760"/>
                <a:ext cx="4638960" cy="47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2410200" y="3772800"/>
                <a:ext cx="44686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2322360" y="3746520"/>
              <a:ext cx="4638960" cy="396720"/>
              <a:chOff x="2322360" y="3746520"/>
              <a:chExt cx="4638960" cy="396720"/>
            </a:xfrm>
          </p:grpSpPr>
          <p:pic>
            <p:nvPicPr>
              <p:cNvPr id="70" name="AutoShap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322360" y="3746520"/>
                <a:ext cx="463896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2403360" y="3823200"/>
                <a:ext cx="44823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4"/>
          <p:cNvSpPr/>
          <p:nvPr/>
        </p:nvSpPr>
        <p:spPr>
          <a:xfrm>
            <a:off x="6378480" y="14760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52520" y="2417760"/>
            <a:ext cx="4638960" cy="476280"/>
            <a:chOff x="2252520" y="2417760"/>
            <a:chExt cx="4638960" cy="476280"/>
          </a:xfrm>
        </p:grpSpPr>
        <p:grpSp>
          <p:nvGrpSpPr>
            <p:cNvPr id="74" name=""/>
            <p:cNvGrpSpPr/>
            <p:nvPr/>
          </p:nvGrpSpPr>
          <p:grpSpPr>
            <a:xfrm>
              <a:off x="2252520" y="2417760"/>
              <a:ext cx="4638960" cy="476280"/>
              <a:chOff x="2252520" y="2417760"/>
              <a:chExt cx="4638960" cy="476280"/>
            </a:xfrm>
          </p:grpSpPr>
          <p:pic>
            <p:nvPicPr>
              <p:cNvPr id="75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4177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2337480" y="246744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252520" y="2436480"/>
              <a:ext cx="4638960" cy="400320"/>
              <a:chOff x="2252520" y="2436480"/>
              <a:chExt cx="4638960" cy="400320"/>
            </a:xfrm>
          </p:grpSpPr>
          <p:pic>
            <p:nvPicPr>
              <p:cNvPr id="78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436480"/>
                <a:ext cx="4638960" cy="40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2330640" y="251712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920880" y="1712880"/>
            <a:ext cx="7715160" cy="2365560"/>
            <a:chOff x="920880" y="1712880"/>
            <a:chExt cx="7715160" cy="2365560"/>
          </a:xfrm>
        </p:grpSpPr>
        <p:grpSp>
          <p:nvGrpSpPr>
            <p:cNvPr id="81" name=""/>
            <p:cNvGrpSpPr/>
            <p:nvPr/>
          </p:nvGrpSpPr>
          <p:grpSpPr>
            <a:xfrm>
              <a:off x="920880" y="1712880"/>
              <a:ext cx="7715160" cy="2365560"/>
              <a:chOff x="920880" y="1712880"/>
              <a:chExt cx="7715160" cy="236556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920880" y="1712880"/>
                <a:ext cx="7715160" cy="2365560"/>
                <a:chOff x="920880" y="1712880"/>
                <a:chExt cx="7715160" cy="2365560"/>
              </a:xfrm>
            </p:grpSpPr>
            <p:pic>
              <p:nvPicPr>
                <p:cNvPr id="83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20880" y="1712880"/>
                  <a:ext cx="7715160" cy="236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>
                  <a:off x="1003680" y="1769040"/>
                  <a:ext cx="7553880" cy="22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926640" y="1828080"/>
                <a:ext cx="7703280" cy="2123280"/>
                <a:chOff x="926640" y="1828080"/>
                <a:chExt cx="7703280" cy="2123280"/>
              </a:xfrm>
            </p:grpSpPr>
            <p:pic>
              <p:nvPicPr>
                <p:cNvPr id="86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6640" y="1828080"/>
                  <a:ext cx="7703280" cy="212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>
                  <a:off x="1006200" y="1886040"/>
                  <a:ext cx="7548120" cy="19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" name="Text Box 11"/>
            <p:cNvSpPr/>
            <p:nvPr/>
          </p:nvSpPr>
          <p:spPr>
            <a:xfrm>
              <a:off x="1188360" y="2033640"/>
              <a:ext cx="7235640" cy="16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6"/>
          <p:cNvSpPr/>
          <p:nvPr/>
        </p:nvSpPr>
        <p:spPr>
          <a:xfrm>
            <a:off x="6378480" y="14760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032360" y="2335320"/>
            <a:ext cx="1503360" cy="1458720"/>
            <a:chOff x="4032360" y="2335320"/>
            <a:chExt cx="1503360" cy="1458720"/>
          </a:xfrm>
        </p:grpSpPr>
        <p:grpSp>
          <p:nvGrpSpPr>
            <p:cNvPr id="91" name=""/>
            <p:cNvGrpSpPr/>
            <p:nvPr/>
          </p:nvGrpSpPr>
          <p:grpSpPr>
            <a:xfrm>
              <a:off x="4032360" y="2335320"/>
              <a:ext cx="1503360" cy="1458720"/>
              <a:chOff x="4032360" y="2335320"/>
              <a:chExt cx="1503360" cy="14587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032360" y="2335320"/>
                <a:ext cx="1503360" cy="1458720"/>
                <a:chOff x="4032360" y="2335320"/>
                <a:chExt cx="1503360" cy="1458720"/>
              </a:xfrm>
            </p:grpSpPr>
            <p:pic>
              <p:nvPicPr>
                <p:cNvPr id="93" name="Oval 9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032360" y="2335320"/>
                  <a:ext cx="1503360" cy="1458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4299120" y="2570760"/>
                  <a:ext cx="978120" cy="94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4088160" y="2379960"/>
                <a:ext cx="1312920" cy="1274400"/>
                <a:chOff x="4088160" y="2379960"/>
                <a:chExt cx="1312920" cy="1274400"/>
              </a:xfrm>
            </p:grpSpPr>
            <p:pic>
              <p:nvPicPr>
                <p:cNvPr id="96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88160" y="2379960"/>
                  <a:ext cx="1312920" cy="127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>
                  <a:off x="4326480" y="2587680"/>
                  <a:ext cx="843120" cy="81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" name="Text Box 18"/>
            <p:cNvSpPr/>
            <p:nvPr/>
          </p:nvSpPr>
          <p:spPr>
            <a:xfrm>
              <a:off x="4107240" y="271656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22480" y="1390680"/>
            <a:ext cx="2775960" cy="1250280"/>
            <a:chOff x="2022480" y="1390680"/>
            <a:chExt cx="2775960" cy="1250280"/>
          </a:xfrm>
        </p:grpSpPr>
        <p:grpSp>
          <p:nvGrpSpPr>
            <p:cNvPr id="100" name=""/>
            <p:cNvGrpSpPr/>
            <p:nvPr/>
          </p:nvGrpSpPr>
          <p:grpSpPr>
            <a:xfrm>
              <a:off x="2022480" y="1390680"/>
              <a:ext cx="2775960" cy="1250280"/>
              <a:chOff x="2022480" y="1390680"/>
              <a:chExt cx="2775960" cy="12502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022480" y="1390680"/>
                <a:ext cx="2775960" cy="1250280"/>
                <a:chOff x="2022480" y="1390680"/>
                <a:chExt cx="2775960" cy="1250280"/>
              </a:xfrm>
            </p:grpSpPr>
            <p:sp>
              <p:nvSpPr>
                <p:cNvPr id="102" name="AutoShape 73"/>
                <p:cNvSpPr/>
                <p:nvPr/>
              </p:nvSpPr>
              <p:spPr>
                <a:xfrm rot="2700000">
                  <a:off x="3812760" y="1533600"/>
                  <a:ext cx="744840" cy="98892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圆角矩形 14"/>
                <p:cNvSpPr/>
                <p:nvPr/>
              </p:nvSpPr>
              <p:spPr>
                <a:xfrm>
                  <a:off x="2022480" y="1390680"/>
                  <a:ext cx="1836720" cy="6796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530160" y="1390680"/>
                <a:ext cx="702000" cy="680760"/>
                <a:chOff x="3530160" y="1390680"/>
                <a:chExt cx="702000" cy="68076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3530160" y="1390680"/>
                  <a:ext cx="702000" cy="680760"/>
                  <a:chOff x="3530160" y="1390680"/>
                  <a:chExt cx="702000" cy="680760"/>
                </a:xfrm>
              </p:grpSpPr>
              <p:pic>
                <p:nvPicPr>
                  <p:cNvPr id="106" name="椭圆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30160" y="1390680"/>
                    <a:ext cx="70200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7" name=""/>
                  <p:cNvSpPr/>
                  <p:nvPr/>
                </p:nvSpPr>
                <p:spPr>
                  <a:xfrm>
                    <a:off x="3674520" y="1509840"/>
                    <a:ext cx="420480" cy="401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3550680" y="1405800"/>
                  <a:ext cx="614520" cy="599760"/>
                  <a:chOff x="3550680" y="1405800"/>
                  <a:chExt cx="614520" cy="599760"/>
                </a:xfrm>
              </p:grpSpPr>
              <p:pic>
                <p:nvPicPr>
                  <p:cNvPr id="109" name="椭圆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0680" y="1405800"/>
                    <a:ext cx="6145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>
                    <a:off x="3681000" y="1514160"/>
                    <a:ext cx="359640" cy="34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1" name="Text Box 18"/>
            <p:cNvSpPr/>
            <p:nvPr/>
          </p:nvSpPr>
          <p:spPr>
            <a:xfrm>
              <a:off x="2102760" y="157860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3666600" y="15714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844520" y="1395360"/>
            <a:ext cx="2675520" cy="1330200"/>
            <a:chOff x="4844520" y="1395360"/>
            <a:chExt cx="2675520" cy="1330200"/>
          </a:xfrm>
        </p:grpSpPr>
        <p:grpSp>
          <p:nvGrpSpPr>
            <p:cNvPr id="114" name=""/>
            <p:cNvGrpSpPr/>
            <p:nvPr/>
          </p:nvGrpSpPr>
          <p:grpSpPr>
            <a:xfrm>
              <a:off x="4844520" y="1395360"/>
              <a:ext cx="2675520" cy="1330200"/>
              <a:chOff x="4844520" y="1395360"/>
              <a:chExt cx="2675520" cy="133020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4844520" y="1395360"/>
                <a:ext cx="2675520" cy="1330200"/>
                <a:chOff x="4844520" y="1395360"/>
                <a:chExt cx="2675520" cy="133020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4844520" y="1395360"/>
                  <a:ext cx="2675520" cy="1330200"/>
                  <a:chOff x="4844520" y="1395360"/>
                  <a:chExt cx="2675520" cy="1330200"/>
                </a:xfrm>
              </p:grpSpPr>
              <p:sp>
                <p:nvSpPr>
                  <p:cNvPr id="117" name="AutoShape 67"/>
                  <p:cNvSpPr/>
                  <p:nvPr/>
                </p:nvSpPr>
                <p:spPr>
                  <a:xfrm flipH="1" rot="18900000">
                    <a:off x="5058000" y="1626480"/>
                    <a:ext cx="822600" cy="94644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圆角矩形 54"/>
                  <p:cNvSpPr/>
                  <p:nvPr/>
                </p:nvSpPr>
                <p:spPr>
                  <a:xfrm>
                    <a:off x="5759640" y="1395360"/>
                    <a:ext cx="1760400" cy="7509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5311800" y="1395360"/>
                  <a:ext cx="702000" cy="680400"/>
                  <a:chOff x="5311800" y="1395360"/>
                  <a:chExt cx="702000" cy="680400"/>
                </a:xfrm>
              </p:grpSpPr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5311800" y="1395360"/>
                    <a:ext cx="702000" cy="680400"/>
                    <a:chOff x="5311800" y="1395360"/>
                    <a:chExt cx="702000" cy="680400"/>
                  </a:xfrm>
                </p:grpSpPr>
                <p:pic>
                  <p:nvPicPr>
                    <p:cNvPr id="121" name="椭圆 5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11800" y="1395360"/>
                      <a:ext cx="702000" cy="68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5456520" y="1513440"/>
                      <a:ext cx="417240" cy="40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5331960" y="1410480"/>
                    <a:ext cx="614880" cy="599400"/>
                    <a:chOff x="5331960" y="1410480"/>
                    <a:chExt cx="614880" cy="599400"/>
                  </a:xfrm>
                </p:grpSpPr>
                <p:pic>
                  <p:nvPicPr>
                    <p:cNvPr id="124" name="椭圆 1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1960" y="1410480"/>
                      <a:ext cx="614880" cy="59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5461920" y="1517400"/>
                      <a:ext cx="357840" cy="343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6" name="Rectangle 26"/>
              <p:cNvSpPr/>
              <p:nvPr/>
            </p:nvSpPr>
            <p:spPr>
              <a:xfrm>
                <a:off x="5458680" y="15757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8"/>
            <p:cNvSpPr/>
            <p:nvPr/>
          </p:nvSpPr>
          <p:spPr>
            <a:xfrm>
              <a:off x="6060600" y="15829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581800" y="2519280"/>
            <a:ext cx="2636640" cy="959040"/>
            <a:chOff x="5581800" y="2519280"/>
            <a:chExt cx="2636640" cy="959040"/>
          </a:xfrm>
        </p:grpSpPr>
        <p:grpSp>
          <p:nvGrpSpPr>
            <p:cNvPr id="129" name=""/>
            <p:cNvGrpSpPr/>
            <p:nvPr/>
          </p:nvGrpSpPr>
          <p:grpSpPr>
            <a:xfrm>
              <a:off x="5581800" y="2519280"/>
              <a:ext cx="2636640" cy="959040"/>
              <a:chOff x="5581800" y="2519280"/>
              <a:chExt cx="2636640" cy="9590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581800" y="2519280"/>
                <a:ext cx="2636640" cy="959040"/>
                <a:chOff x="5581800" y="2519280"/>
                <a:chExt cx="2636640" cy="95904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5581800" y="2519280"/>
                  <a:ext cx="2636640" cy="959040"/>
                  <a:chOff x="5581800" y="2519280"/>
                  <a:chExt cx="2636640" cy="959040"/>
                </a:xfrm>
              </p:grpSpPr>
              <p:sp>
                <p:nvSpPr>
                  <p:cNvPr id="132" name="AutoShape 49"/>
                  <p:cNvSpPr/>
                  <p:nvPr/>
                </p:nvSpPr>
                <p:spPr>
                  <a:xfrm flipH="1">
                    <a:off x="5581800" y="2519280"/>
                    <a:ext cx="768240" cy="959040"/>
                  </a:xfrm>
                  <a:prstGeom prst="rightArrow">
                    <a:avLst>
                      <a:gd name="adj1" fmla="val 70389"/>
                      <a:gd name="adj2" fmla="val 68255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圆角矩形 47"/>
                  <p:cNvSpPr/>
                  <p:nvPr/>
                </p:nvSpPr>
                <p:spPr>
                  <a:xfrm>
                    <a:off x="6381720" y="2657160"/>
                    <a:ext cx="1836720" cy="68292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021000" y="2658240"/>
                  <a:ext cx="702000" cy="680760"/>
                  <a:chOff x="6021000" y="2658240"/>
                  <a:chExt cx="702000" cy="680760"/>
                </a:xfrm>
              </p:grpSpPr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021000" y="2658240"/>
                    <a:ext cx="702000" cy="680760"/>
                    <a:chOff x="6021000" y="2658240"/>
                    <a:chExt cx="702000" cy="680760"/>
                  </a:xfrm>
                </p:grpSpPr>
                <p:pic>
                  <p:nvPicPr>
                    <p:cNvPr id="136" name="椭圆 4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21000" y="2658240"/>
                      <a:ext cx="702000" cy="68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163200" y="2777400"/>
                      <a:ext cx="420480" cy="40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6036480" y="2673360"/>
                    <a:ext cx="614520" cy="599760"/>
                    <a:chOff x="6036480" y="2673360"/>
                    <a:chExt cx="614520" cy="599760"/>
                  </a:xfrm>
                </p:grpSpPr>
                <p:pic>
                  <p:nvPicPr>
                    <p:cNvPr id="139" name="椭圆 11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36480" y="2673360"/>
                      <a:ext cx="614520" cy="59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169680" y="2781360"/>
                      <a:ext cx="359640" cy="344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1" name="Rectangle 26"/>
              <p:cNvSpPr/>
              <p:nvPr/>
            </p:nvSpPr>
            <p:spPr>
              <a:xfrm>
                <a:off x="6157440" y="28285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18"/>
            <p:cNvSpPr/>
            <p:nvPr/>
          </p:nvSpPr>
          <p:spPr>
            <a:xfrm>
              <a:off x="6731280" y="2846160"/>
              <a:ext cx="144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335240" y="2519280"/>
            <a:ext cx="2647800" cy="959040"/>
            <a:chOff x="1335240" y="2519280"/>
            <a:chExt cx="2647800" cy="959040"/>
          </a:xfrm>
        </p:grpSpPr>
        <p:grpSp>
          <p:nvGrpSpPr>
            <p:cNvPr id="144" name=""/>
            <p:cNvGrpSpPr/>
            <p:nvPr/>
          </p:nvGrpSpPr>
          <p:grpSpPr>
            <a:xfrm>
              <a:off x="1335240" y="2519280"/>
              <a:ext cx="2647800" cy="959040"/>
              <a:chOff x="1335240" y="2519280"/>
              <a:chExt cx="2647800" cy="9590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335240" y="2519280"/>
                <a:ext cx="2647800" cy="959040"/>
                <a:chOff x="1335240" y="2519280"/>
                <a:chExt cx="2647800" cy="959040"/>
              </a:xfrm>
            </p:grpSpPr>
            <p:sp>
              <p:nvSpPr>
                <p:cNvPr id="146" name="AutoShape 71"/>
                <p:cNvSpPr/>
                <p:nvPr/>
              </p:nvSpPr>
              <p:spPr>
                <a:xfrm>
                  <a:off x="3214800" y="2519280"/>
                  <a:ext cx="768240" cy="95904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圆角矩形 21"/>
                <p:cNvSpPr/>
                <p:nvPr/>
              </p:nvSpPr>
              <p:spPr>
                <a:xfrm>
                  <a:off x="1335240" y="2657160"/>
                  <a:ext cx="1836720" cy="6829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842560" y="2658240"/>
                <a:ext cx="702000" cy="680760"/>
                <a:chOff x="2842560" y="2658240"/>
                <a:chExt cx="702000" cy="68076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2842560" y="2658240"/>
                  <a:ext cx="702000" cy="680760"/>
                  <a:chOff x="2842560" y="2658240"/>
                  <a:chExt cx="702000" cy="680760"/>
                </a:xfrm>
              </p:grpSpPr>
              <p:pic>
                <p:nvPicPr>
                  <p:cNvPr id="150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42560" y="2658240"/>
                    <a:ext cx="70200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" name=""/>
                  <p:cNvSpPr/>
                  <p:nvPr/>
                </p:nvSpPr>
                <p:spPr>
                  <a:xfrm>
                    <a:off x="2987640" y="2777400"/>
                    <a:ext cx="420480" cy="401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2863080" y="2678400"/>
                  <a:ext cx="614520" cy="594360"/>
                  <a:chOff x="2863080" y="2678400"/>
                  <a:chExt cx="614520" cy="594360"/>
                </a:xfrm>
              </p:grpSpPr>
              <p:pic>
                <p:nvPicPr>
                  <p:cNvPr id="153" name="椭圆 1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63080" y="2678400"/>
                    <a:ext cx="614520" cy="5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"/>
                  <p:cNvSpPr/>
                  <p:nvPr/>
                </p:nvSpPr>
                <p:spPr>
                  <a:xfrm>
                    <a:off x="2994480" y="2781000"/>
                    <a:ext cx="359640" cy="34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5" name="Text Box 18"/>
            <p:cNvSpPr/>
            <p:nvPr/>
          </p:nvSpPr>
          <p:spPr>
            <a:xfrm>
              <a:off x="1447920" y="2846160"/>
              <a:ext cx="145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6"/>
            <p:cNvSpPr/>
            <p:nvPr/>
          </p:nvSpPr>
          <p:spPr>
            <a:xfrm>
              <a:off x="2979000" y="28285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022480" y="3403800"/>
            <a:ext cx="2694960" cy="1319040"/>
            <a:chOff x="2022480" y="3403800"/>
            <a:chExt cx="2694960" cy="1319040"/>
          </a:xfrm>
        </p:grpSpPr>
        <p:grpSp>
          <p:nvGrpSpPr>
            <p:cNvPr id="158" name=""/>
            <p:cNvGrpSpPr/>
            <p:nvPr/>
          </p:nvGrpSpPr>
          <p:grpSpPr>
            <a:xfrm>
              <a:off x="2022480" y="3403800"/>
              <a:ext cx="2694960" cy="1319040"/>
              <a:chOff x="2022480" y="3403800"/>
              <a:chExt cx="2694960" cy="13190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022480" y="3403800"/>
                <a:ext cx="2694960" cy="1319040"/>
                <a:chOff x="2022480" y="3403800"/>
                <a:chExt cx="2694960" cy="1319040"/>
              </a:xfrm>
            </p:grpSpPr>
            <p:sp>
              <p:nvSpPr>
                <p:cNvPr id="160" name="AutoShape 75"/>
                <p:cNvSpPr/>
                <p:nvPr/>
              </p:nvSpPr>
              <p:spPr>
                <a:xfrm rot="18900000">
                  <a:off x="3605760" y="3620880"/>
                  <a:ext cx="957960" cy="830520"/>
                </a:xfrm>
                <a:prstGeom prst="rightArrow">
                  <a:avLst>
                    <a:gd name="adj1" fmla="val 70389"/>
                    <a:gd name="adj2" fmla="val 75775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圆角矩形 31"/>
                <p:cNvSpPr/>
                <p:nvPr/>
              </p:nvSpPr>
              <p:spPr>
                <a:xfrm>
                  <a:off x="2022480" y="3965760"/>
                  <a:ext cx="175608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000000">
                    <a:alpha val="6000"/>
                  </a:srgbClr>
                </a:solidFill>
                <a:ln w="6480">
                  <a:solidFill>
                    <a:srgbClr val="59595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529800" y="4042800"/>
                <a:ext cx="702000" cy="680040"/>
                <a:chOff x="3529800" y="4042800"/>
                <a:chExt cx="702000" cy="6800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3529800" y="4042800"/>
                  <a:ext cx="702000" cy="680040"/>
                  <a:chOff x="3529800" y="4042800"/>
                  <a:chExt cx="702000" cy="680040"/>
                </a:xfrm>
              </p:grpSpPr>
              <p:pic>
                <p:nvPicPr>
                  <p:cNvPr id="164" name="椭圆 2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29800" y="4042800"/>
                    <a:ext cx="702000" cy="6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"/>
                  <p:cNvSpPr/>
                  <p:nvPr/>
                </p:nvSpPr>
                <p:spPr>
                  <a:xfrm>
                    <a:off x="3673440" y="4161960"/>
                    <a:ext cx="420120" cy="400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3550320" y="4062960"/>
                  <a:ext cx="614520" cy="594000"/>
                  <a:chOff x="3550320" y="4062960"/>
                  <a:chExt cx="614520" cy="594000"/>
                </a:xfrm>
              </p:grpSpPr>
              <p:pic>
                <p:nvPicPr>
                  <p:cNvPr id="167" name="椭圆 1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0320" y="4062960"/>
                    <a:ext cx="6145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3679200" y="4166640"/>
                    <a:ext cx="36036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9" name="Text Box 18"/>
            <p:cNvSpPr/>
            <p:nvPr/>
          </p:nvSpPr>
          <p:spPr>
            <a:xfrm>
              <a:off x="2054160" y="423072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3665880" y="4213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767120" y="3472920"/>
            <a:ext cx="2752920" cy="1230840"/>
            <a:chOff x="4767120" y="3472920"/>
            <a:chExt cx="2752920" cy="1230840"/>
          </a:xfrm>
        </p:grpSpPr>
        <p:grpSp>
          <p:nvGrpSpPr>
            <p:cNvPr id="172" name=""/>
            <p:cNvGrpSpPr/>
            <p:nvPr/>
          </p:nvGrpSpPr>
          <p:grpSpPr>
            <a:xfrm>
              <a:off x="4767120" y="3472920"/>
              <a:ext cx="2752920" cy="1230840"/>
              <a:chOff x="4767120" y="3472920"/>
              <a:chExt cx="2752920" cy="12308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4767120" y="3472920"/>
                <a:ext cx="2752920" cy="1230840"/>
                <a:chOff x="4767120" y="3472920"/>
                <a:chExt cx="2752920" cy="123084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4767120" y="3472920"/>
                  <a:ext cx="2752920" cy="1230840"/>
                  <a:chOff x="4767120" y="3472920"/>
                  <a:chExt cx="2752920" cy="1230840"/>
                </a:xfrm>
              </p:grpSpPr>
              <p:sp>
                <p:nvSpPr>
                  <p:cNvPr id="175" name="AutoShape 69"/>
                  <p:cNvSpPr/>
                  <p:nvPr/>
                </p:nvSpPr>
                <p:spPr>
                  <a:xfrm flipH="1" rot="2700000">
                    <a:off x="4885920" y="3713040"/>
                    <a:ext cx="988200" cy="745920"/>
                  </a:xfrm>
                  <a:prstGeom prst="rightArrow">
                    <a:avLst>
                      <a:gd name="adj1" fmla="val 70389"/>
                      <a:gd name="adj2" fmla="val 85560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圆角矩形 38"/>
                  <p:cNvSpPr/>
                  <p:nvPr/>
                </p:nvSpPr>
                <p:spPr>
                  <a:xfrm>
                    <a:off x="5683320" y="4022280"/>
                    <a:ext cx="1836720" cy="6814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000000">
                      <a:alpha val="6000"/>
                    </a:srgbClr>
                  </a:solidFill>
                  <a:ln w="6480">
                    <a:solidFill>
                      <a:srgbClr val="59595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5312160" y="4023360"/>
                  <a:ext cx="702000" cy="680400"/>
                  <a:chOff x="5312160" y="4023360"/>
                  <a:chExt cx="702000" cy="680400"/>
                </a:xfrm>
              </p:grpSpPr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5312160" y="4023360"/>
                    <a:ext cx="702000" cy="680400"/>
                    <a:chOff x="5312160" y="4023360"/>
                    <a:chExt cx="702000" cy="680400"/>
                  </a:xfrm>
                </p:grpSpPr>
                <p:pic>
                  <p:nvPicPr>
                    <p:cNvPr id="179" name="椭圆 35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312160" y="4023360"/>
                      <a:ext cx="702000" cy="68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5456880" y="4141800"/>
                      <a:ext cx="417240" cy="40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5332320" y="4038480"/>
                    <a:ext cx="614880" cy="599400"/>
                    <a:chOff x="5332320" y="4038480"/>
                    <a:chExt cx="614880" cy="599400"/>
                  </a:xfrm>
                </p:grpSpPr>
                <p:pic>
                  <p:nvPicPr>
                    <p:cNvPr id="182" name="椭圆 1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32320" y="4038480"/>
                      <a:ext cx="614880" cy="59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5463000" y="4145760"/>
                      <a:ext cx="356760" cy="343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4" name="Rectangle 26"/>
              <p:cNvSpPr/>
              <p:nvPr/>
            </p:nvSpPr>
            <p:spPr>
              <a:xfrm>
                <a:off x="5448240" y="41936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18"/>
            <p:cNvSpPr/>
            <p:nvPr/>
          </p:nvSpPr>
          <p:spPr>
            <a:xfrm>
              <a:off x="5964480" y="421128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6"/>
          <p:cNvSpPr/>
          <p:nvPr/>
        </p:nvSpPr>
        <p:spPr>
          <a:xfrm>
            <a:off x="6378480" y="14760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949320" y="1425600"/>
            <a:ext cx="7408800" cy="3495600"/>
            <a:chOff x="949320" y="1425600"/>
            <a:chExt cx="7408800" cy="3495600"/>
          </a:xfrm>
        </p:grpSpPr>
        <p:grpSp>
          <p:nvGrpSpPr>
            <p:cNvPr id="188" name=""/>
            <p:cNvGrpSpPr/>
            <p:nvPr/>
          </p:nvGrpSpPr>
          <p:grpSpPr>
            <a:xfrm>
              <a:off x="949320" y="1425600"/>
              <a:ext cx="7408800" cy="3495600"/>
              <a:chOff x="949320" y="1425600"/>
              <a:chExt cx="7408800" cy="3495600"/>
            </a:xfrm>
          </p:grpSpPr>
          <p:sp>
            <p:nvSpPr>
              <p:cNvPr id="189" name="AutoShape 5"/>
              <p:cNvSpPr/>
              <p:nvPr/>
            </p:nvSpPr>
            <p:spPr>
              <a:xfrm>
                <a:off x="949320" y="1425600"/>
                <a:ext cx="7408800" cy="349560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9"/>
              <p:cNvSpPr/>
              <p:nvPr/>
            </p:nvSpPr>
            <p:spPr>
              <a:xfrm>
                <a:off x="1071000" y="1530360"/>
                <a:ext cx="7165440" cy="3285720"/>
              </a:xfrm>
              <a:prstGeom prst="roundRect">
                <a:avLst>
                  <a:gd name="adj" fmla="val 3486"/>
                </a:avLst>
              </a:prstGeom>
              <a:solidFill>
                <a:srgbClr val="000000">
                  <a:alpha val="1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1375920" y="2007000"/>
              <a:ext cx="6475680" cy="2645280"/>
              <a:chOff x="1375920" y="2007000"/>
              <a:chExt cx="6475680" cy="2645280"/>
            </a:xfrm>
          </p:grpSpPr>
          <p:sp>
            <p:nvSpPr>
              <p:cNvPr id="192" name="Line 11"/>
              <p:cNvSpPr/>
              <p:nvPr/>
            </p:nvSpPr>
            <p:spPr>
              <a:xfrm>
                <a:off x="2983680" y="2399040"/>
                <a:ext cx="1440" cy="1902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2"/>
              <p:cNvSpPr/>
              <p:nvPr/>
            </p:nvSpPr>
            <p:spPr>
              <a:xfrm>
                <a:off x="4644720" y="2399040"/>
                <a:ext cx="1440" cy="1902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3"/>
              <p:cNvSpPr/>
              <p:nvPr/>
            </p:nvSpPr>
            <p:spPr>
              <a:xfrm>
                <a:off x="6294600" y="2399040"/>
                <a:ext cx="2880" cy="1902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6"/>
              <p:cNvSpPr/>
              <p:nvPr/>
            </p:nvSpPr>
            <p:spPr>
              <a:xfrm>
                <a:off x="1868400" y="43452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7"/>
              <p:cNvSpPr/>
              <p:nvPr/>
            </p:nvSpPr>
            <p:spPr>
              <a:xfrm>
                <a:off x="3527640" y="43452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58"/>
              <p:cNvSpPr/>
              <p:nvPr/>
            </p:nvSpPr>
            <p:spPr>
              <a:xfrm>
                <a:off x="5189760" y="43452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9"/>
              <p:cNvSpPr/>
              <p:nvPr/>
            </p:nvSpPr>
            <p:spPr>
              <a:xfrm>
                <a:off x="6858360" y="43452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25"/>
              <p:cNvSpPr/>
              <p:nvPr/>
            </p:nvSpPr>
            <p:spPr>
              <a:xfrm>
                <a:off x="1677600" y="4186440"/>
                <a:ext cx="479160" cy="118800"/>
              </a:xfrm>
              <a:prstGeom prst="rect">
                <a:avLst/>
              </a:prstGeom>
              <a:solidFill>
                <a:srgbClr val="262626">
                  <a:alpha val="7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26"/>
              <p:cNvSpPr/>
              <p:nvPr/>
            </p:nvSpPr>
            <p:spPr>
              <a:xfrm>
                <a:off x="3331800" y="3910320"/>
                <a:ext cx="476280" cy="395280"/>
              </a:xfrm>
              <a:prstGeom prst="rect">
                <a:avLst/>
              </a:prstGeom>
              <a:solidFill>
                <a:srgbClr val="262626">
                  <a:alpha val="7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27"/>
              <p:cNvSpPr/>
              <p:nvPr/>
            </p:nvSpPr>
            <p:spPr>
              <a:xfrm>
                <a:off x="4992480" y="3524400"/>
                <a:ext cx="479160" cy="781200"/>
              </a:xfrm>
              <a:prstGeom prst="rect">
                <a:avLst/>
              </a:prstGeom>
              <a:solidFill>
                <a:srgbClr val="262626">
                  <a:alpha val="7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28"/>
              <p:cNvSpPr/>
              <p:nvPr/>
            </p:nvSpPr>
            <p:spPr>
              <a:xfrm>
                <a:off x="6643800" y="3407040"/>
                <a:ext cx="477720" cy="898560"/>
              </a:xfrm>
              <a:prstGeom prst="rect">
                <a:avLst/>
              </a:prstGeom>
              <a:solidFill>
                <a:srgbClr val="262626">
                  <a:alpha val="7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29"/>
              <p:cNvSpPr/>
              <p:nvPr/>
            </p:nvSpPr>
            <p:spPr>
              <a:xfrm>
                <a:off x="2157120" y="3330360"/>
                <a:ext cx="465840" cy="9752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30"/>
              <p:cNvSpPr/>
              <p:nvPr/>
            </p:nvSpPr>
            <p:spPr>
              <a:xfrm>
                <a:off x="3807360" y="3484440"/>
                <a:ext cx="479160" cy="8215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31"/>
              <p:cNvSpPr/>
              <p:nvPr/>
            </p:nvSpPr>
            <p:spPr>
              <a:xfrm>
                <a:off x="5471280" y="3012120"/>
                <a:ext cx="465840" cy="1293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32"/>
              <p:cNvSpPr/>
              <p:nvPr/>
            </p:nvSpPr>
            <p:spPr>
              <a:xfrm>
                <a:off x="7121520" y="3247560"/>
                <a:ext cx="468720" cy="1058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56"/>
              <p:cNvSpPr/>
              <p:nvPr/>
            </p:nvSpPr>
            <p:spPr>
              <a:xfrm>
                <a:off x="2200320" y="3070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1731960" y="39276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6"/>
              <p:cNvSpPr/>
              <p:nvPr/>
            </p:nvSpPr>
            <p:spPr>
              <a:xfrm>
                <a:off x="3643200" y="321012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56"/>
              <p:cNvSpPr/>
              <p:nvPr/>
            </p:nvSpPr>
            <p:spPr>
              <a:xfrm>
                <a:off x="3379680" y="36450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56"/>
              <p:cNvSpPr/>
              <p:nvPr/>
            </p:nvSpPr>
            <p:spPr>
              <a:xfrm>
                <a:off x="5357520" y="2716200"/>
                <a:ext cx="7236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56"/>
              <p:cNvSpPr/>
              <p:nvPr/>
            </p:nvSpPr>
            <p:spPr>
              <a:xfrm>
                <a:off x="5026320" y="3260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56"/>
              <p:cNvSpPr/>
              <p:nvPr/>
            </p:nvSpPr>
            <p:spPr>
              <a:xfrm>
                <a:off x="7091280" y="299880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56"/>
              <p:cNvSpPr/>
              <p:nvPr/>
            </p:nvSpPr>
            <p:spPr>
              <a:xfrm>
                <a:off x="6685200" y="31431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8"/>
              <p:cNvSpPr/>
              <p:nvPr/>
            </p:nvSpPr>
            <p:spPr>
              <a:xfrm>
                <a:off x="1384920" y="2007000"/>
                <a:ext cx="0" cy="229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8"/>
              <p:cNvSpPr/>
              <p:nvPr/>
            </p:nvSpPr>
            <p:spPr>
              <a:xfrm>
                <a:off x="1375920" y="4301640"/>
                <a:ext cx="647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Box 6"/>
          <p:cNvSpPr/>
          <p:nvPr/>
        </p:nvSpPr>
        <p:spPr>
          <a:xfrm>
            <a:off x="6378480" y="14760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27200" y="1119240"/>
            <a:ext cx="6100920" cy="534600"/>
            <a:chOff x="1627200" y="1119240"/>
            <a:chExt cx="6100920" cy="534600"/>
          </a:xfrm>
        </p:grpSpPr>
        <p:grpSp>
          <p:nvGrpSpPr>
            <p:cNvPr id="219" name=""/>
            <p:cNvGrpSpPr/>
            <p:nvPr/>
          </p:nvGrpSpPr>
          <p:grpSpPr>
            <a:xfrm>
              <a:off x="1627200" y="1119240"/>
              <a:ext cx="6100920" cy="534600"/>
              <a:chOff x="1627200" y="1119240"/>
              <a:chExt cx="6100920" cy="53460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1627200" y="1119240"/>
                <a:ext cx="6100920" cy="534600"/>
                <a:chOff x="1627200" y="1119240"/>
                <a:chExt cx="6100920" cy="534600"/>
              </a:xfrm>
            </p:grpSpPr>
            <p:pic>
              <p:nvPicPr>
                <p:cNvPr id="221" name="AutoShap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27200" y="1119240"/>
                  <a:ext cx="6100920" cy="53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"/>
                <p:cNvSpPr/>
                <p:nvPr/>
              </p:nvSpPr>
              <p:spPr>
                <a:xfrm>
                  <a:off x="1717920" y="1172520"/>
                  <a:ext cx="5923440" cy="38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627200" y="1182960"/>
                <a:ext cx="6095160" cy="407160"/>
                <a:chOff x="1627200" y="1182960"/>
                <a:chExt cx="6095160" cy="407160"/>
              </a:xfrm>
            </p:grpSpPr>
            <p:pic>
              <p:nvPicPr>
                <p:cNvPr id="224" name="AutoShape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27200" y="1182960"/>
                  <a:ext cx="6095160" cy="40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>
                  <a:off x="1710000" y="1231200"/>
                  <a:ext cx="5936760" cy="27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6" name="Rectangle 13"/>
            <p:cNvSpPr/>
            <p:nvPr/>
          </p:nvSpPr>
          <p:spPr>
            <a:xfrm>
              <a:off x="4176000" y="11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84200" y="62856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6"/>
          <p:cNvSpPr/>
          <p:nvPr/>
        </p:nvSpPr>
        <p:spPr>
          <a:xfrm>
            <a:off x="6378480" y="14760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Documents and Settings\Administrator\My Documents\My Pictures\无标题10.bmp"/>
          <p:cNvPicPr/>
          <p:nvPr/>
        </p:nvPicPr>
        <p:blipFill>
          <a:blip r:embed="rId1"/>
          <a:stretch/>
        </p:blipFill>
        <p:spPr>
          <a:xfrm>
            <a:off x="1712880" y="841320"/>
            <a:ext cx="6004080" cy="33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4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6"/>
          <p:cNvSpPr/>
          <p:nvPr/>
        </p:nvSpPr>
        <p:spPr>
          <a:xfrm>
            <a:off x="4013280" y="1233360"/>
            <a:ext cx="38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 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9" descr="2.png"/>
          <p:cNvPicPr/>
          <p:nvPr/>
        </p:nvPicPr>
        <p:blipFill>
          <a:blip r:embed="rId2"/>
          <a:stretch/>
        </p:blipFill>
        <p:spPr>
          <a:xfrm>
            <a:off x="419040" y="795240"/>
            <a:ext cx="2376720" cy="1390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Documents and Settings\Administrator\桌面\新建文件夹 (2)\LOGO白副本.png"/>
          <p:cNvPicPr/>
          <p:nvPr/>
        </p:nvPicPr>
        <p:blipFill>
          <a:blip r:embed="rId3"/>
          <a:stretch/>
        </p:blipFill>
        <p:spPr>
          <a:xfrm>
            <a:off x="825480" y="5288040"/>
            <a:ext cx="66528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6:30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49:01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