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136-8F78-42BC-BBD7-6AAC23D2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6B1-F800-42DC-A5DA-F9C80DF3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211-6C1D-4653-9CCD-3387D342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31F-F456-4CDC-BBC1-413EE924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A43-E1AF-42EE-BC4B-70E06DF9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882-F2D9-421D-98AD-81064741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532-EC6D-4CAF-B375-FBB29459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2C4-8A4C-4EF6-9C56-011250AA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306-F15E-49E5-A94C-BB867684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660-F5A4-4BED-95A4-1304889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BE3-CA23-4FD1-8E9C-29FC7D9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A6C-B7FF-43C0-8678-520627AF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6866-036A-4956-A6E1-B4E7D4B8612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400-5550-4C86-BEDF-620C768443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238428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317680" y="238428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4637160" y="238428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4"/>
          <a:stretch/>
        </p:blipFill>
        <p:spPr>
          <a:xfrm>
            <a:off x="6954840" y="238428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5"/>
          <a:stretch/>
        </p:blipFill>
        <p:spPr>
          <a:xfrm>
            <a:off x="5724360" y="4508640"/>
            <a:ext cx="2187720" cy="21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1260360" y="4437000"/>
            <a:ext cx="2187720" cy="2189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320" y="3333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青花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762fcfbf-885e-49eb-96d9-1fb0911d7190.JPG"/>
          <p:cNvPicPr/>
          <p:nvPr/>
        </p:nvPicPr>
        <p:blipFill>
          <a:blip r:embed="rId1"/>
          <a:stretch/>
        </p:blipFill>
        <p:spPr>
          <a:xfrm>
            <a:off x="4438800" y="333360"/>
            <a:ext cx="4705200" cy="63244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1628220_102134047918_2.jpg"/>
          <p:cNvPicPr/>
          <p:nvPr/>
        </p:nvPicPr>
        <p:blipFill>
          <a:blip r:embed="rId2"/>
          <a:stretch/>
        </p:blipFill>
        <p:spPr>
          <a:xfrm>
            <a:off x="250920" y="1339920"/>
            <a:ext cx="3902040" cy="3855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59500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582840" y="0"/>
            <a:ext cx="20019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900" spc="-1" strike="noStrike">
                <a:solidFill>
                  <a:srgbClr val="002060"/>
                </a:solidFill>
                <a:latin typeface="方正粗活意简体"/>
                <a:ea typeface="方正粗活意简体"/>
              </a:rPr>
              <a:t>8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1619280" y="3500280"/>
            <a:ext cx="2097000" cy="288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3635280" y="475920"/>
            <a:ext cx="4321440" cy="4464360"/>
            <a:chOff x="3635280" y="475920"/>
            <a:chExt cx="4321440" cy="4464360"/>
          </a:xfrm>
        </p:grpSpPr>
        <p:grpSp>
          <p:nvGrpSpPr>
            <p:cNvPr id="55" name="组合 17"/>
            <p:cNvGrpSpPr/>
            <p:nvPr/>
          </p:nvGrpSpPr>
          <p:grpSpPr>
            <a:xfrm>
              <a:off x="3635280" y="620640"/>
              <a:ext cx="4321440" cy="4319640"/>
              <a:chOff x="3635280" y="620640"/>
              <a:chExt cx="4321440" cy="4319640"/>
            </a:xfrm>
          </p:grpSpPr>
          <p:sp>
            <p:nvSpPr>
              <p:cNvPr id="56" name="椭圆 6"/>
              <p:cNvSpPr/>
              <p:nvPr/>
            </p:nvSpPr>
            <p:spPr>
              <a:xfrm>
                <a:off x="3635280" y="620640"/>
                <a:ext cx="4321440" cy="4319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椭圆 7"/>
              <p:cNvSpPr/>
              <p:nvPr/>
            </p:nvSpPr>
            <p:spPr>
              <a:xfrm>
                <a:off x="3815280" y="800640"/>
                <a:ext cx="3961080" cy="3959280"/>
              </a:xfrm>
              <a:prstGeom prst="ellipse">
                <a:avLst/>
              </a:prstGeom>
              <a:solidFill>
                <a:srgbClr val="e5e7f5"/>
              </a:solidFill>
              <a:ln w="25560">
                <a:solidFill>
                  <a:srgbClr val="414b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8"/>
            <p:cNvSpPr/>
            <p:nvPr/>
          </p:nvSpPr>
          <p:spPr>
            <a:xfrm>
              <a:off x="4766040" y="1339920"/>
              <a:ext cx="2059560" cy="2880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0"/>
            <p:cNvSpPr/>
            <p:nvPr/>
          </p:nvSpPr>
          <p:spPr>
            <a:xfrm rot="19246800">
              <a:off x="3991680" y="928800"/>
              <a:ext cx="2008080" cy="161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B5A-080B-4280-A8C0-F5231129F8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9:0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16:16Z</dcterms:modified>
  <cp:revision>2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