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9FB-AA15-4667-948D-7678BCE84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B93-445A-482A-8AD5-7A0E4D81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619-8FD6-4D7C-8793-7C5BD521E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408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06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408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06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9A6-290D-4E02-B6D9-AD2ADC35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F276-D244-4CF8-A3FB-92CABD36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9D3A-E135-40CC-9751-993B74E7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C85D-32EC-4E2C-B9B5-5EA417FC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483E-6B63-4A95-82FC-1AF90DD8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44C6-8C62-4114-83F5-B01E2DF7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48D1-4383-4C93-A3C0-15471C38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A90-DEA8-4B87-B180-756E893D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B8D-387C-4E0C-B9A6-85B62D7E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67B5-B386-42CC-95DF-65487627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AC00-0668-498D-B964-8F457F2C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9395-1F70-4ED7-8A81-6F708034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ADBB-25A6-4970-9825-689FD932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408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06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408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06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A802-0C98-4618-9A46-F17555F4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0B54E-21BB-4FAC-9BA6-1AC49C1AA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3418-7BEE-4BFE-9498-92D06553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732D-EE78-4DC0-9AC9-3043BDB9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15E3E-1826-4E49-8085-542762D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1DAE2-1B5B-4FB7-A7E8-19EC9195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2598-E6A3-4CA8-84A2-98FB5ACC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AEF24-B1C0-4BF1-AC97-7C8F28EC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D2156-55C9-40B3-BEC3-944C5296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92F6-3A99-40CE-9DF9-6662DDED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21DA-C7C7-446D-9A20-86F4549C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BE0C-17E3-480F-B401-4250268B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2754F-CF98-4B9F-A161-34D4AC7B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408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0600" y="236196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408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0600" y="4312080"/>
            <a:ext cx="26251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D41FD-47D8-4CD2-8CBC-75286B8C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4FB5-CD30-46C6-85A8-B8C5CDEF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8A48-1D0D-49A3-BF34-0F54A94B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1920" y="1371600"/>
            <a:ext cx="81867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6D0-B986-462A-9DB9-8B7791B8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0B40-2436-4062-A3A2-67835D73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5360" y="431208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216C-53E8-40E9-9D2E-69559281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5360" y="2361960"/>
            <a:ext cx="397872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12080"/>
            <a:ext cx="81532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CB71-C2ED-4D47-91B0-CE93E255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a72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04760" y="617220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15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F031-7715-488D-AA96-F254CA762F1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933C-F8F3-44D4-B5BA-ECBB4FFD6329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AA07-C5B2-45CC-BE50-826B21A28BF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3a72f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668520" indent="-257040"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2" marL="102852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3" marL="144000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ff99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61960" y="6477120"/>
            <a:ext cx="4343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1028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99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2B39-8232-42BD-B0E7-D687FCBDBA54}" type="slidenum">
              <a:rPr b="1" lang="zh-CN" sz="1200" spc="-1" strike="noStrike">
                <a:solidFill>
                  <a:srgbClr val="ff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914400"/>
            <a:ext cx="54878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111111"/>
                </a:solidFill>
                <a:latin typeface="华文彩云"/>
                <a:ea typeface="华文彩云"/>
              </a:rPr>
              <a:t>群体心理</a:t>
            </a:r>
            <a:endParaRPr b="1" lang="en-US" sz="55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248160" y="1557000"/>
            <a:ext cx="2895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人际知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人际关系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群体心理规律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群体动力学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群体发展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幼圆"/>
                <a:ea typeface="幼圆"/>
              </a:rPr>
              <a:t>群体冲突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日期占位符 1"/>
          <p:cNvSpPr/>
          <p:nvPr/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动力学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士气和凝聚力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规范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3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发展阶段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建立阶段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紧张阶段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初步整合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完全整合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6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冲突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冲突的两种解决方式：武断和合作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有效和无效冲突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9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13313"/>
          <p:cNvSpPr/>
          <p:nvPr/>
        </p:nvSpPr>
        <p:spPr>
          <a:xfrm>
            <a:off x="1523880" y="914400"/>
            <a:ext cx="6705720" cy="4267080"/>
          </a:xfrm>
          <a:prstGeom prst="rect">
            <a:avLst/>
          </a:prstGeom>
          <a:solidFill>
            <a:srgbClr val="ffcc99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523880" y="4724280"/>
            <a:ext cx="6705720" cy="360"/>
            <a:chOff x="1523880" y="4724280"/>
            <a:chExt cx="6705720" cy="360"/>
          </a:xfrm>
        </p:grpSpPr>
        <p:sp>
          <p:nvSpPr>
            <p:cNvPr id="192" name="直接连接符 13314"/>
            <p:cNvSpPr/>
            <p:nvPr/>
          </p:nvSpPr>
          <p:spPr>
            <a:xfrm>
              <a:off x="1523880" y="4724280"/>
              <a:ext cx="6705720" cy="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523880" y="4724280"/>
              <a:ext cx="670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523880" y="1447920"/>
            <a:ext cx="6705720" cy="360"/>
            <a:chOff x="1523880" y="1447920"/>
            <a:chExt cx="6705720" cy="360"/>
          </a:xfrm>
        </p:grpSpPr>
        <p:sp>
          <p:nvSpPr>
            <p:cNvPr id="195" name="直接连接符 13315"/>
            <p:cNvSpPr/>
            <p:nvPr/>
          </p:nvSpPr>
          <p:spPr>
            <a:xfrm>
              <a:off x="1523880" y="1447920"/>
              <a:ext cx="6705720" cy="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1523880" y="1447920"/>
              <a:ext cx="670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819520" y="914400"/>
            <a:ext cx="360" cy="4267080"/>
            <a:chOff x="2819520" y="914400"/>
            <a:chExt cx="360" cy="4267080"/>
          </a:xfrm>
        </p:grpSpPr>
        <p:sp>
          <p:nvSpPr>
            <p:cNvPr id="198" name="直接连接符 13316"/>
            <p:cNvSpPr/>
            <p:nvPr/>
          </p:nvSpPr>
          <p:spPr>
            <a:xfrm>
              <a:off x="2819520" y="914400"/>
              <a:ext cx="0" cy="426708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2819520" y="91440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162920" y="914400"/>
            <a:ext cx="360" cy="4267080"/>
            <a:chOff x="7162920" y="914400"/>
            <a:chExt cx="360" cy="4267080"/>
          </a:xfrm>
        </p:grpSpPr>
        <p:sp>
          <p:nvSpPr>
            <p:cNvPr id="201" name="直接连接符 13317"/>
            <p:cNvSpPr/>
            <p:nvPr/>
          </p:nvSpPr>
          <p:spPr>
            <a:xfrm>
              <a:off x="7162920" y="914400"/>
              <a:ext cx="0" cy="426708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7162920" y="91440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523880" y="5181480"/>
            <a:ext cx="6705720" cy="360"/>
            <a:chOff x="1523880" y="5181480"/>
            <a:chExt cx="6705720" cy="360"/>
          </a:xfrm>
        </p:grpSpPr>
        <p:sp>
          <p:nvSpPr>
            <p:cNvPr id="204" name="直接连接符 13318"/>
            <p:cNvSpPr/>
            <p:nvPr/>
          </p:nvSpPr>
          <p:spPr>
            <a:xfrm>
              <a:off x="1523880" y="5181480"/>
              <a:ext cx="6705720" cy="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1523880" y="5181480"/>
              <a:ext cx="6705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523520" y="914040"/>
            <a:ext cx="360" cy="4267080"/>
            <a:chOff x="1523520" y="914040"/>
            <a:chExt cx="360" cy="4267080"/>
          </a:xfrm>
        </p:grpSpPr>
        <p:sp>
          <p:nvSpPr>
            <p:cNvPr id="207" name="直接连接符 13319"/>
            <p:cNvSpPr/>
            <p:nvPr/>
          </p:nvSpPr>
          <p:spPr>
            <a:xfrm flipV="1">
              <a:off x="1523880" y="914040"/>
              <a:ext cx="0" cy="4267080"/>
            </a:xfrm>
            <a:prstGeom prst="line">
              <a:avLst/>
            </a:prstGeom>
            <a:ln w="936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 rot="10800000">
              <a:off x="1523520" y="91404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523520" y="914040"/>
            <a:ext cx="360" cy="4267080"/>
            <a:chOff x="1523520" y="914040"/>
            <a:chExt cx="360" cy="4267080"/>
          </a:xfrm>
        </p:grpSpPr>
        <p:sp>
          <p:nvSpPr>
            <p:cNvPr id="210" name="直接连接符 13320"/>
            <p:cNvSpPr/>
            <p:nvPr/>
          </p:nvSpPr>
          <p:spPr>
            <a:xfrm flipV="1">
              <a:off x="1523880" y="914040"/>
              <a:ext cx="0" cy="426708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 rot="10800000">
              <a:off x="1523520" y="914040"/>
              <a:ext cx="360" cy="426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sp>
        <p:nvSpPr>
          <p:cNvPr id="212" name="文本框 13321"/>
          <p:cNvSpPr/>
          <p:nvPr/>
        </p:nvSpPr>
        <p:spPr>
          <a:xfrm>
            <a:off x="480060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合作方向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3" name="文本框 13322"/>
          <p:cNvSpPr/>
          <p:nvPr/>
        </p:nvSpPr>
        <p:spPr>
          <a:xfrm>
            <a:off x="838080" y="160020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武断方向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4" name="文本框 13323"/>
          <p:cNvSpPr/>
          <p:nvPr/>
        </p:nvSpPr>
        <p:spPr>
          <a:xfrm>
            <a:off x="1600200" y="4800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躲避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5" name="文本框 13324"/>
          <p:cNvSpPr/>
          <p:nvPr/>
        </p:nvSpPr>
        <p:spPr>
          <a:xfrm>
            <a:off x="7162920" y="990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合作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6" name="文本框 13325"/>
          <p:cNvSpPr/>
          <p:nvPr/>
        </p:nvSpPr>
        <p:spPr>
          <a:xfrm>
            <a:off x="4572000" y="2743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折衷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7" name="文本框 13326"/>
          <p:cNvSpPr/>
          <p:nvPr/>
        </p:nvSpPr>
        <p:spPr>
          <a:xfrm>
            <a:off x="72388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Times New Roman"/>
              </a:rPr>
              <a:t>通融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8" name="文本框 13327"/>
          <p:cNvSpPr/>
          <p:nvPr/>
        </p:nvSpPr>
        <p:spPr>
          <a:xfrm>
            <a:off x="1676520" y="990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竞争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93a72f"/>
              </a:solidFill>
              <a:latin typeface="Times New Roman"/>
              <a:ea typeface="华文彩云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1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拯救月球飞船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你是一名在月球工作小组的宇航员，原计划在月球光亮的一面与母船会合。然而，由于机械故障，你们的飞船被迫降落于会合点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２０公里之外。降落中，大部分装备报废。因为获救取决于到达母船，宇航员小组必须为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２０公里的路程挑选携带物。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下面给出了１５件剩余的完好物，你的工作是为小组到达会合点挑选装备。请按其重要性程度在后面标出数字，最重要的为第１，依此类推，排到第１５。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4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剩余物品清单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一盒火柴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压缩食品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５０米尼龙绳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降落伞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手提加热器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两只</a:t>
            </a:r>
            <a:r>
              <a:rPr b="0" lang="en-US" sz="2800" spc="-1" strike="noStrike">
                <a:solidFill>
                  <a:srgbClr val="ff9900"/>
                </a:solidFill>
                <a:latin typeface="黑体"/>
                <a:ea typeface="黑体"/>
              </a:rPr>
              <a:t>4.5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口径的手枪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一箱脱水特制奶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２个１００磅氧气瓶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月球星图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救生筏子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罗盘               </a:t>
            </a:r>
            <a:r>
              <a:rPr b="0" lang="en-US" sz="2800" spc="-1" strike="noStrike">
                <a:solidFill>
                  <a:srgbClr val="ff99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加仑水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信号弹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有注射针头的急救箱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太阳能调频收发报机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7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510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93a72f"/>
                </a:solidFill>
                <a:latin typeface="华文彩云"/>
                <a:ea typeface="华文彩云"/>
              </a:rPr>
              <a:t>请每个人排一个顺序</a:t>
            </a:r>
            <a:endParaRPr b="1" lang="en-US" sz="41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371240" y="5790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9900"/>
              </a:solidFill>
              <a:latin typeface="幼圆"/>
              <a:ea typeface="幼圆"/>
            </a:endParaRPr>
          </a:p>
        </p:txBody>
      </p:sp>
      <p:sp>
        <p:nvSpPr>
          <p:cNvPr id="230" name="日期占位符 1"/>
          <p:cNvSpPr/>
          <p:nvPr/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决策练习要点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避免为个人的判断而争吵，要根据任务的逻辑趋向决策问题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避免仅为达成一致，防止冲突而改变自己的观点；只支持那些你至少在某种程度上同意的解决办法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3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决策练习要点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避免使用诸如多数表决、平均、交易等“冲突减少”技术来达到赞同自己的目的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将他人的观点视为某种决策的帮助而不是障碍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避免讨论等级时作“输赢”论断，摒弃讨论中一些人赢，一些人输的观念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将初步的一致视为某种猜想，探索表面一致的背后原因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6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510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93a72f"/>
                </a:solidFill>
                <a:latin typeface="华文彩云"/>
                <a:ea typeface="华文彩云"/>
              </a:rPr>
              <a:t>结果分析</a:t>
            </a:r>
            <a:endParaRPr b="1" lang="en-US" sz="41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240" y="5790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9900"/>
              </a:solidFill>
              <a:latin typeface="幼圆"/>
              <a:ea typeface="幼圆"/>
            </a:endParaRPr>
          </a:p>
        </p:txBody>
      </p:sp>
      <p:sp>
        <p:nvSpPr>
          <p:cNvPr id="239" name="日期占位符 1"/>
          <p:cNvSpPr/>
          <p:nvPr/>
        </p:nvSpPr>
        <p:spPr>
          <a:xfrm>
            <a:off x="228600" y="64771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人际知觉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印象不是特征的线性相加，也不是混合，而是几种特质相互结合 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区分中心特质与外周特质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Solomon E. Asch(1946) 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的研究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只有一个形容词在描述中会稍有不同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（热情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冷酷的、客气的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</a:rPr>
              <a:t>—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生硬的）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判断知觉的时间特征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晕轮效应 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8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谢谢，再会！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5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上下级的看法误差</a:t>
            </a:r>
            <a:r>
              <a:rPr b="1" lang="en-US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(Likert,1961)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99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981080"/>
          <a:ext cx="7772400" cy="47624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87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内容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对“怎样对待优秀工作”的看法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上级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下级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1368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给特权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52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14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给责任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48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57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由奖赏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9900"/>
                          </a:solidFill>
                          <a:latin typeface="Times New Roman"/>
                          <a:ea typeface="幼圆"/>
                        </a:rPr>
                        <a:t>表达信任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80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576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幼圆"/>
                        </a:rPr>
                        <a:t>14%</a:t>
                      </a:r>
                      <a:endParaRPr b="0" lang="en-US" sz="2800" spc="-1" strike="noStrike">
                        <a:solidFill>
                          <a:srgbClr val="ff99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9900"/>
                      </a:solidFill>
                    </a:lnL>
                    <a:lnR w="13680">
                      <a:solidFill>
                        <a:srgbClr val="ff9900"/>
                      </a:solidFill>
                    </a:lnR>
                    <a:lnT w="5760">
                      <a:solidFill>
                        <a:srgbClr val="ff9900"/>
                      </a:solidFill>
                    </a:lnT>
                    <a:lnB w="1368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人际知觉的改进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全面、多角度的观察人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控制自己的情绪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</a:rPr>
              <a:t>确立用人的哲学观念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5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人际关系差异来源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思考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决策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利用时间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工作速度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谈话交际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处理情感问题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对待压力方式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  <a:p>
            <a:pPr marL="308520" indent="-30852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对冲突意见看待方式的差异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8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人际关系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人际关系的分析和观察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例如，人际距离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人际交往的改进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例如，</a:t>
            </a:r>
            <a:r>
              <a:rPr b="0" lang="en-US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PAC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  <a:ea typeface="黑体"/>
              </a:rPr>
              <a:t>分析</a:t>
            </a:r>
            <a:endParaRPr b="0" lang="en-US" sz="2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1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椭圆 38913"/>
          <p:cNvSpPr/>
          <p:nvPr/>
        </p:nvSpPr>
        <p:spPr>
          <a:xfrm>
            <a:off x="1905120" y="1752480"/>
            <a:ext cx="16761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椭圆 38914"/>
          <p:cNvSpPr/>
          <p:nvPr/>
        </p:nvSpPr>
        <p:spPr>
          <a:xfrm>
            <a:off x="1905120" y="3276720"/>
            <a:ext cx="1676160" cy="914400"/>
          </a:xfrm>
          <a:prstGeom prst="ellipse">
            <a:avLst/>
          </a:pr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4" name="椭圆 38915"/>
          <p:cNvSpPr/>
          <p:nvPr/>
        </p:nvSpPr>
        <p:spPr>
          <a:xfrm>
            <a:off x="1828800" y="4876920"/>
            <a:ext cx="1676520" cy="914400"/>
          </a:xfrm>
          <a:prstGeom prst="ellipse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5" name="椭圆 38916"/>
          <p:cNvSpPr/>
          <p:nvPr/>
        </p:nvSpPr>
        <p:spPr>
          <a:xfrm>
            <a:off x="5181480" y="4876920"/>
            <a:ext cx="167652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6" name="椭圆 38917"/>
          <p:cNvSpPr/>
          <p:nvPr/>
        </p:nvSpPr>
        <p:spPr>
          <a:xfrm>
            <a:off x="5181480" y="3429000"/>
            <a:ext cx="167652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椭圆 38918"/>
          <p:cNvSpPr/>
          <p:nvPr/>
        </p:nvSpPr>
        <p:spPr>
          <a:xfrm>
            <a:off x="5105520" y="1828800"/>
            <a:ext cx="1676160" cy="914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8" name="文本框 38919"/>
          <p:cNvSpPr/>
          <p:nvPr/>
        </p:nvSpPr>
        <p:spPr>
          <a:xfrm>
            <a:off x="24382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9" name="文本框 38920"/>
          <p:cNvSpPr/>
          <p:nvPr/>
        </p:nvSpPr>
        <p:spPr>
          <a:xfrm>
            <a:off x="5638680" y="1905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0" name="文本框 38921"/>
          <p:cNvSpPr/>
          <p:nvPr/>
        </p:nvSpPr>
        <p:spPr>
          <a:xfrm>
            <a:off x="2438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文本框 38922"/>
          <p:cNvSpPr/>
          <p:nvPr/>
        </p:nvSpPr>
        <p:spPr>
          <a:xfrm>
            <a:off x="55627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2" name="文本框 38923"/>
          <p:cNvSpPr/>
          <p:nvPr/>
        </p:nvSpPr>
        <p:spPr>
          <a:xfrm>
            <a:off x="2362320" y="5105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文本框 38924"/>
          <p:cNvSpPr/>
          <p:nvPr/>
        </p:nvSpPr>
        <p:spPr>
          <a:xfrm>
            <a:off x="56386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4" name="文本框 38925"/>
          <p:cNvSpPr/>
          <p:nvPr/>
        </p:nvSpPr>
        <p:spPr>
          <a:xfrm>
            <a:off x="2438280" y="990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文本框 38926"/>
          <p:cNvSpPr/>
          <p:nvPr/>
        </p:nvSpPr>
        <p:spPr>
          <a:xfrm>
            <a:off x="2133720" y="762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一个人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6" name="文本框 38927"/>
          <p:cNvSpPr/>
          <p:nvPr/>
        </p:nvSpPr>
        <p:spPr>
          <a:xfrm>
            <a:off x="5105520" y="838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另一人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58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行为规律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60" name="矩形 28674"/>
          <p:cNvSpPr/>
          <p:nvPr/>
        </p:nvSpPr>
        <p:spPr>
          <a:xfrm>
            <a:off x="4952880" y="2819520"/>
            <a:ext cx="2590920" cy="3047760"/>
          </a:xfrm>
          <a:prstGeom prst="rect">
            <a:avLst/>
          </a:prstGeom>
          <a:solidFill>
            <a:srgbClr val="fffff7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1" name="矩形 28675"/>
          <p:cNvSpPr/>
          <p:nvPr/>
        </p:nvSpPr>
        <p:spPr>
          <a:xfrm>
            <a:off x="1371600" y="2743200"/>
            <a:ext cx="2590920" cy="3200400"/>
          </a:xfrm>
          <a:prstGeom prst="rect">
            <a:avLst/>
          </a:prstGeom>
          <a:solidFill>
            <a:srgbClr val="fffff7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666880" y="3352680"/>
            <a:ext cx="360" cy="1600200"/>
            <a:chOff x="2666880" y="3352680"/>
            <a:chExt cx="360" cy="1600200"/>
          </a:xfrm>
        </p:grpSpPr>
        <p:sp>
          <p:nvSpPr>
            <p:cNvPr id="163" name="直接连接符 28676"/>
            <p:cNvSpPr/>
            <p:nvPr/>
          </p:nvSpPr>
          <p:spPr>
            <a:xfrm>
              <a:off x="2666880" y="3352680"/>
              <a:ext cx="0" cy="160020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666880" y="335268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324480" y="3429000"/>
            <a:ext cx="360" cy="1600200"/>
            <a:chOff x="6324480" y="3429000"/>
            <a:chExt cx="360" cy="1600200"/>
          </a:xfrm>
        </p:grpSpPr>
        <p:sp>
          <p:nvSpPr>
            <p:cNvPr id="166" name="直接连接符 28677"/>
            <p:cNvSpPr/>
            <p:nvPr/>
          </p:nvSpPr>
          <p:spPr>
            <a:xfrm>
              <a:off x="6324480" y="3429000"/>
              <a:ext cx="0" cy="160020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6324480" y="342900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133720" y="3352680"/>
            <a:ext cx="360" cy="1828800"/>
            <a:chOff x="2133720" y="3352680"/>
            <a:chExt cx="360" cy="1828800"/>
          </a:xfrm>
        </p:grpSpPr>
        <p:sp>
          <p:nvSpPr>
            <p:cNvPr id="169" name="直接连接符 28678"/>
            <p:cNvSpPr/>
            <p:nvPr/>
          </p:nvSpPr>
          <p:spPr>
            <a:xfrm>
              <a:off x="2133720" y="3352680"/>
              <a:ext cx="0" cy="182880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133720" y="3352680"/>
              <a:ext cx="36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276720" y="3048120"/>
            <a:ext cx="360" cy="2133360"/>
            <a:chOff x="3276720" y="3048120"/>
            <a:chExt cx="360" cy="2133360"/>
          </a:xfrm>
        </p:grpSpPr>
        <p:sp>
          <p:nvSpPr>
            <p:cNvPr id="172" name="直接连接符 28679"/>
            <p:cNvSpPr/>
            <p:nvPr/>
          </p:nvSpPr>
          <p:spPr>
            <a:xfrm>
              <a:off x="3276720" y="3048120"/>
              <a:ext cx="0" cy="2133360"/>
            </a:xfrm>
            <a:prstGeom prst="line">
              <a:avLst/>
            </a:prstGeom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276720" y="3048120"/>
              <a:ext cx="36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9900"/>
                </a:solidFill>
                <a:latin typeface="Times New Roman"/>
              </a:endParaRPr>
            </a:p>
          </p:txBody>
        </p:sp>
      </p:grpSp>
      <p:sp>
        <p:nvSpPr>
          <p:cNvPr id="174" name="文本框 28680"/>
          <p:cNvSpPr/>
          <p:nvPr/>
        </p:nvSpPr>
        <p:spPr>
          <a:xfrm>
            <a:off x="1752480" y="53341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A     B     C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5" name="文本框 28681"/>
          <p:cNvSpPr/>
          <p:nvPr/>
        </p:nvSpPr>
        <p:spPr>
          <a:xfrm>
            <a:off x="5334120" y="5257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X     </a:t>
            </a:r>
            <a:endParaRPr b="0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6" name="文本框 28682"/>
          <p:cNvSpPr/>
          <p:nvPr/>
        </p:nvSpPr>
        <p:spPr>
          <a:xfrm>
            <a:off x="4070880" y="205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从众</a:t>
            </a:r>
            <a:endParaRPr b="0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7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1920" y="1371600"/>
            <a:ext cx="8186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3a72f"/>
                </a:solidFill>
                <a:latin typeface="Times New Roman"/>
                <a:ea typeface="华文彩云"/>
              </a:rPr>
              <a:t>群体行为规律</a:t>
            </a:r>
            <a:endParaRPr b="1" lang="en-US" sz="3600" spc="-1" strike="noStrike">
              <a:solidFill>
                <a:srgbClr val="93a72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社会助长</a:t>
            </a:r>
            <a:r>
              <a:rPr b="0" lang="en-US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/</a:t>
            </a: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社会干扰作用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竞争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竞争的优点和缺点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个体竞争和群体竞争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竞争与合作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责任分摊效应</a:t>
            </a:r>
            <a:endParaRPr b="0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0" name="日期占位符 1"/>
          <p:cNvSpPr/>
          <p:nvPr/>
        </p:nvSpPr>
        <p:spPr>
          <a:xfrm>
            <a:off x="45720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58:37Z</dcterms:created>
  <dc:creator/>
  <dc:description/>
  <dc:language>en-US</dc:language>
  <cp:lastModifiedBy>An</cp:lastModifiedBy>
  <dcterms:modified xsi:type="dcterms:W3CDTF">2016-05-01T00:58:3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