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19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E4A-4490-4A5E-B710-874F7DAE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648-DF99-4F28-95E2-36364330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988-B873-4D44-8629-4492AF0A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503-4808-4DED-85DB-90240DBC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A3E1-67B5-420E-B835-A86EE136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F77E-2FCA-49CD-BB75-0055ABD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1184-E9E4-4888-9319-DC2698B5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2570-A1DA-454C-B9BF-FD45DA23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418E-D38A-4B93-95C9-90A56E4D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03C5-349A-4FD6-B3ED-A99104E3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0FE3-BA56-439B-B951-17F9F8FC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B7B-1C38-467C-B34D-0AD5BF96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5B2D-158B-4797-BBFB-77361FA5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E563-6A95-415A-AC4E-A2132159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0C20-BC0E-4FE3-AC28-B4A4EF47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0CCC-86C0-4CE3-9F2A-DE15FD0D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71FC-2AC1-4F32-8A61-54C65026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9519-91DE-4505-96CD-26451CDB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242B-F7C8-4540-89D7-9E876FAB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8438-773A-476A-99AC-CDFE55D9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64A44-F022-4F89-920E-5CEE3B6D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E70C-0A53-4D88-A44D-E47677DE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BEE-A400-4D8E-8341-07B1AB9B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D0BF-127A-4C0D-A8B3-B644F79D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9D4BE-D9E8-4AE6-A730-55690DC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59EE-12D7-405D-891C-90228C72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0EEF-43B7-410F-A2F4-4BEBD1E6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4BD3-958F-4E32-BEA3-2F9A43A3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9A2D-720C-4E56-9AA4-65B7F10A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AF59-DE34-4291-BF72-1197C180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16F-24B8-4E25-B118-3DA99741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069-E3D8-4D97-A584-63726B42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16E-39CC-469D-A528-B8EE1176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9CE-48E6-4F56-B1E9-2E1A002D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FF5-6DB0-4D8D-829C-75100663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8E7-6778-448F-8E6B-57E627F3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89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图片 38914" descr="框a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图片 38915" descr="框a2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图片 38916" descr="框a3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图片 38917" descr="框a4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3511-720E-4A8E-A109-BF1DC2E5C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4CBA-1025-4892-9D16-FBF32EA7923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F03A-F2D4-4A5D-A096-9418E79488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3993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图片 39938" descr="框a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图片 39939" descr="框a2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图片 39940" descr="框a3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39941" descr="框a4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图片 39942" descr="麒靈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C968-EFF0-41D2-9A4D-748C2CCA5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31746"/>
          <p:cNvSpPr txBox="1"/>
          <p:nvPr/>
        </p:nvSpPr>
        <p:spPr>
          <a:xfrm>
            <a:off x="1479600" y="2743200"/>
            <a:ext cx="64771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000000"/>
                  </a:solidFill>
                  <a:round/>
                </a:ln>
                <a:noFill/>
                <a:effectLst>
                  <a:outerShdw dist="107932" dir="18900000" blurRad="0" rotWithShape="0">
                    <a:srgbClr val="868686"/>
                  </a:outerShdw>
                </a:effectLst>
                <a:latin typeface="幼圆"/>
              </a:rPr>
              <a:t>手把手，教你剪纸！</a:t>
            </a:r>
            <a:endParaRPr b="1" lang="en-US" sz="2400" spc="1" strike="noStrike">
              <a:ln w="25560">
                <a:solidFill>
                  <a:srgbClr val="000000"/>
                </a:solidFill>
                <a:round/>
              </a:ln>
              <a:noFill/>
              <a:effectLst>
                <a:outerShdw dist="107932" dir="18900000" blurRad="0" rotWithShape="0">
                  <a:srgbClr val="868686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×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660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35841" descr="F:/[1]PPT模板资源/正在整理的PPT/http:/www.chinavista.com/culture/art/folkart/paper6.jpg"/>
          <p:cNvPicPr/>
          <p:nvPr/>
        </p:nvPicPr>
        <p:blipFill>
          <a:blip r:embed="rId1"/>
          <a:stretch/>
        </p:blipFill>
        <p:spPr>
          <a:xfrm>
            <a:off x="3886200" y="2895480"/>
            <a:ext cx="1676520" cy="2210040"/>
          </a:xfrm>
          <a:prstGeom prst="rect">
            <a:avLst/>
          </a:prstGeom>
          <a:ln w="0">
            <a:noFill/>
          </a:ln>
        </p:spPr>
      </p:pic>
      <p:sp>
        <p:nvSpPr>
          <p:cNvPr id="138" name="矩形 35843"/>
          <p:cNvSpPr/>
          <p:nvPr/>
        </p:nvSpPr>
        <p:spPr>
          <a:xfrm>
            <a:off x="45720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PMingLiU"/>
              </a:rPr>
              <a:t>下面的图案可是用剪刀剪出来的，漂亮吗？你能剪出这样的图案吗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图片 35848" descr="CAO1YBWR"/>
          <p:cNvPicPr/>
          <p:nvPr/>
        </p:nvPicPr>
        <p:blipFill>
          <a:blip r:embed="rId2"/>
          <a:stretch/>
        </p:blipFill>
        <p:spPr>
          <a:xfrm>
            <a:off x="1447920" y="2895480"/>
            <a:ext cx="1601640" cy="22100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5849" descr="CAG16AB3"/>
          <p:cNvPicPr/>
          <p:nvPr/>
        </p:nvPicPr>
        <p:blipFill>
          <a:blip r:embed="rId3"/>
          <a:stretch/>
        </p:blipFill>
        <p:spPr>
          <a:xfrm>
            <a:off x="6400800" y="2895480"/>
            <a:ext cx="1550880" cy="2210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34817"/>
          <p:cNvSpPr/>
          <p:nvPr/>
        </p:nvSpPr>
        <p:spPr>
          <a:xfrm>
            <a:off x="1116000" y="692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请你将一张长方形的纸片对折，并在上面画出以下图形，然后将其轮廓剪下来展开，看看它是什么图形？你能仿此方法剪出一个蜻蜓或其他的图案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组合 34818"/>
          <p:cNvGrpSpPr/>
          <p:nvPr/>
        </p:nvGrpSpPr>
        <p:grpSpPr>
          <a:xfrm>
            <a:off x="3564000" y="3141720"/>
            <a:ext cx="2041560" cy="2895480"/>
            <a:chOff x="3564000" y="3141720"/>
            <a:chExt cx="2041560" cy="2895480"/>
          </a:xfrm>
        </p:grpSpPr>
        <p:sp>
          <p:nvSpPr>
            <p:cNvPr id="143" name="矩形 34819"/>
            <p:cNvSpPr/>
            <p:nvPr/>
          </p:nvSpPr>
          <p:spPr>
            <a:xfrm>
              <a:off x="3564000" y="3141720"/>
              <a:ext cx="2041560" cy="2895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16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234400" y="3624120"/>
              <a:ext cx="370800" cy="803880"/>
              <a:chOff x="5234400" y="3624120"/>
              <a:chExt cx="370800" cy="803880"/>
            </a:xfrm>
          </p:grpSpPr>
          <p:sp>
            <p:nvSpPr>
              <p:cNvPr id="145" name="直接连接符 34820"/>
              <p:cNvSpPr/>
              <p:nvPr/>
            </p:nvSpPr>
            <p:spPr>
              <a:xfrm flipH="1">
                <a:off x="5234400" y="3624120"/>
                <a:ext cx="370800" cy="803880"/>
              </a:xfrm>
              <a:prstGeom prst="line">
                <a:avLst/>
              </a:prstGeom>
              <a:ln w="316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5234400" y="3624120"/>
                <a:ext cx="370800" cy="80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48280" y="4106160"/>
              <a:ext cx="185400" cy="321480"/>
              <a:chOff x="5048280" y="4106160"/>
              <a:chExt cx="185400" cy="321480"/>
            </a:xfrm>
          </p:grpSpPr>
          <p:sp>
            <p:nvSpPr>
              <p:cNvPr id="148" name="直接连接符 34821"/>
              <p:cNvSpPr/>
              <p:nvPr/>
            </p:nvSpPr>
            <p:spPr>
              <a:xfrm flipH="1" flipV="1">
                <a:off x="5048280" y="4106160"/>
                <a:ext cx="185400" cy="321480"/>
              </a:xfrm>
              <a:prstGeom prst="line">
                <a:avLst/>
              </a:prstGeom>
              <a:ln w="316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 rot="10800000">
                <a:off x="5048280" y="4106160"/>
                <a:ext cx="185400" cy="32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048640" y="4106520"/>
              <a:ext cx="360" cy="482400"/>
              <a:chOff x="5048640" y="4106520"/>
              <a:chExt cx="360" cy="482400"/>
            </a:xfrm>
          </p:grpSpPr>
          <p:sp>
            <p:nvSpPr>
              <p:cNvPr id="151" name="直接连接符 34822"/>
              <p:cNvSpPr/>
              <p:nvPr/>
            </p:nvSpPr>
            <p:spPr>
              <a:xfrm>
                <a:off x="5048640" y="4106520"/>
                <a:ext cx="0" cy="482400"/>
              </a:xfrm>
              <a:prstGeom prst="line">
                <a:avLst/>
              </a:prstGeom>
              <a:ln w="316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>
                <a:off x="5048640" y="4106520"/>
                <a:ext cx="360" cy="482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306320" y="4267080"/>
              <a:ext cx="742320" cy="321480"/>
              <a:chOff x="4306320" y="4267080"/>
              <a:chExt cx="742320" cy="321480"/>
            </a:xfrm>
          </p:grpSpPr>
          <p:sp>
            <p:nvSpPr>
              <p:cNvPr id="154" name="直接连接符 34823"/>
              <p:cNvSpPr/>
              <p:nvPr/>
            </p:nvSpPr>
            <p:spPr>
              <a:xfrm flipH="1" flipV="1">
                <a:off x="4306320" y="4267080"/>
                <a:ext cx="742320" cy="321480"/>
              </a:xfrm>
              <a:prstGeom prst="line">
                <a:avLst/>
              </a:prstGeom>
              <a:ln w="316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 rot="10800000">
                <a:off x="4306320" y="4267080"/>
                <a:ext cx="742320" cy="32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306320" y="4267440"/>
              <a:ext cx="556560" cy="965160"/>
              <a:chOff x="4306320" y="4267440"/>
              <a:chExt cx="556560" cy="965160"/>
            </a:xfrm>
          </p:grpSpPr>
          <p:sp>
            <p:nvSpPr>
              <p:cNvPr id="157" name="直接连接符 34824"/>
              <p:cNvSpPr/>
              <p:nvPr/>
            </p:nvSpPr>
            <p:spPr>
              <a:xfrm>
                <a:off x="4306320" y="4267440"/>
                <a:ext cx="556560" cy="965160"/>
              </a:xfrm>
              <a:prstGeom prst="line">
                <a:avLst/>
              </a:prstGeom>
              <a:ln w="316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4306320" y="4267440"/>
                <a:ext cx="556560" cy="9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77120" y="5232960"/>
              <a:ext cx="185760" cy="482400"/>
              <a:chOff x="4677120" y="5232960"/>
              <a:chExt cx="185760" cy="482400"/>
            </a:xfrm>
          </p:grpSpPr>
          <p:sp>
            <p:nvSpPr>
              <p:cNvPr id="160" name="直接连接符 34825"/>
              <p:cNvSpPr/>
              <p:nvPr/>
            </p:nvSpPr>
            <p:spPr>
              <a:xfrm flipH="1">
                <a:off x="4677120" y="5232960"/>
                <a:ext cx="185400" cy="482400"/>
              </a:xfrm>
              <a:prstGeom prst="line">
                <a:avLst/>
              </a:prstGeom>
              <a:ln w="316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4677480" y="5232960"/>
                <a:ext cx="185400" cy="482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677480" y="5071680"/>
              <a:ext cx="742320" cy="643320"/>
              <a:chOff x="4677480" y="5071680"/>
              <a:chExt cx="742320" cy="643320"/>
            </a:xfrm>
          </p:grpSpPr>
          <p:sp>
            <p:nvSpPr>
              <p:cNvPr id="163" name="直接连接符 34826"/>
              <p:cNvSpPr/>
              <p:nvPr/>
            </p:nvSpPr>
            <p:spPr>
              <a:xfrm flipV="1">
                <a:off x="4677480" y="5071680"/>
                <a:ext cx="742320" cy="643320"/>
              </a:xfrm>
              <a:prstGeom prst="line">
                <a:avLst/>
              </a:prstGeom>
              <a:ln w="316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 rot="10800000">
                <a:off x="4677480" y="5071680"/>
                <a:ext cx="742320" cy="64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234040" y="5072040"/>
              <a:ext cx="185760" cy="803880"/>
              <a:chOff x="5234040" y="5072040"/>
              <a:chExt cx="185760" cy="803880"/>
            </a:xfrm>
          </p:grpSpPr>
          <p:sp>
            <p:nvSpPr>
              <p:cNvPr id="166" name="直接连接符 34827"/>
              <p:cNvSpPr/>
              <p:nvPr/>
            </p:nvSpPr>
            <p:spPr>
              <a:xfrm flipH="1">
                <a:off x="5234040" y="5072040"/>
                <a:ext cx="185400" cy="803880"/>
              </a:xfrm>
              <a:prstGeom prst="line">
                <a:avLst/>
              </a:prstGeom>
              <a:ln w="316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5234400" y="5072040"/>
                <a:ext cx="185400" cy="80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234400" y="5876280"/>
              <a:ext cx="370800" cy="360"/>
              <a:chOff x="5234400" y="5876280"/>
              <a:chExt cx="370800" cy="360"/>
            </a:xfrm>
          </p:grpSpPr>
          <p:sp>
            <p:nvSpPr>
              <p:cNvPr id="169" name="直接连接符 34828"/>
              <p:cNvSpPr/>
              <p:nvPr/>
            </p:nvSpPr>
            <p:spPr>
              <a:xfrm>
                <a:off x="5234400" y="5876280"/>
                <a:ext cx="370800" cy="0"/>
              </a:xfrm>
              <a:prstGeom prst="line">
                <a:avLst/>
              </a:prstGeom>
              <a:ln w="316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5234400" y="5876280"/>
                <a:ext cx="370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1" name="图片 34829" descr="108122"/>
          <p:cNvPicPr/>
          <p:nvPr/>
        </p:nvPicPr>
        <p:blipFill>
          <a:blip r:embed="rId1"/>
          <a:stretch/>
        </p:blipFill>
        <p:spPr>
          <a:xfrm>
            <a:off x="380880" y="3808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41985"/>
          <p:cNvGrpSpPr/>
          <p:nvPr/>
        </p:nvGrpSpPr>
        <p:grpSpPr>
          <a:xfrm>
            <a:off x="0" y="609480"/>
            <a:ext cx="2971080" cy="947160"/>
            <a:chOff x="0" y="609480"/>
            <a:chExt cx="2971080" cy="947160"/>
          </a:xfrm>
        </p:grpSpPr>
        <p:grpSp>
          <p:nvGrpSpPr>
            <p:cNvPr id="173" name="组合 41986"/>
            <p:cNvGrpSpPr/>
            <p:nvPr/>
          </p:nvGrpSpPr>
          <p:grpSpPr>
            <a:xfrm>
              <a:off x="0" y="609480"/>
              <a:ext cx="2971080" cy="947160"/>
              <a:chOff x="0" y="609480"/>
              <a:chExt cx="2971080" cy="947160"/>
            </a:xfrm>
          </p:grpSpPr>
          <p:sp>
            <p:nvSpPr>
              <p:cNvPr id="174" name="矩形 41987"/>
              <p:cNvSpPr/>
              <p:nvPr/>
            </p:nvSpPr>
            <p:spPr>
              <a:xfrm>
                <a:off x="0" y="1024920"/>
                <a:ext cx="2765880" cy="314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ed0f4"/>
                  </a:gs>
                </a:gsLst>
                <a:lin ang="5400000"/>
              </a:gra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文本框 41988"/>
              <p:cNvSpPr/>
              <p:nvPr/>
            </p:nvSpPr>
            <p:spPr>
              <a:xfrm>
                <a:off x="926280" y="609480"/>
                <a:ext cx="2044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民间艺术家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任意多边形 41989"/>
              <p:cNvSpPr/>
              <p:nvPr/>
            </p:nvSpPr>
            <p:spPr>
              <a:xfrm>
                <a:off x="102600" y="961920"/>
                <a:ext cx="819360" cy="25164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任意多边形 41990"/>
              <p:cNvSpPr/>
              <p:nvPr/>
            </p:nvSpPr>
            <p:spPr>
              <a:xfrm>
                <a:off x="409680" y="1165320"/>
                <a:ext cx="204480" cy="125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任意多边形 41991"/>
              <p:cNvSpPr/>
              <p:nvPr/>
            </p:nvSpPr>
            <p:spPr>
              <a:xfrm>
                <a:off x="102600" y="709920"/>
                <a:ext cx="819360" cy="31464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椭圆 41992"/>
              <p:cNvSpPr/>
              <p:nvPr/>
            </p:nvSpPr>
            <p:spPr>
              <a:xfrm>
                <a:off x="102600" y="647280"/>
                <a:ext cx="817200" cy="12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椭圆 41993"/>
              <p:cNvSpPr/>
              <p:nvPr/>
            </p:nvSpPr>
            <p:spPr>
              <a:xfrm>
                <a:off x="409680" y="647280"/>
                <a:ext cx="204480" cy="626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文本框 41994"/>
            <p:cNvSpPr/>
            <p:nvPr/>
          </p:nvSpPr>
          <p:spPr>
            <a:xfrm>
              <a:off x="1031040" y="974520"/>
              <a:ext cx="148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文本框 41995"/>
          <p:cNvSpPr/>
          <p:nvPr/>
        </p:nvSpPr>
        <p:spPr>
          <a:xfrm>
            <a:off x="3593160" y="2209680"/>
            <a:ext cx="188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将一张正方形的白纸，沿对角线对折后，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到一个等腰直角三角形。在这张重叠的纸上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意剪出一个花纹，打开纸后得到的图案至少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有几条对称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43009"/>
          <p:cNvGrpSpPr/>
          <p:nvPr/>
        </p:nvGrpSpPr>
        <p:grpSpPr>
          <a:xfrm>
            <a:off x="0" y="380880"/>
            <a:ext cx="2361600" cy="947160"/>
            <a:chOff x="0" y="380880"/>
            <a:chExt cx="2361600" cy="947160"/>
          </a:xfrm>
        </p:grpSpPr>
        <p:grpSp>
          <p:nvGrpSpPr>
            <p:cNvPr id="184" name="组合 43010"/>
            <p:cNvGrpSpPr/>
            <p:nvPr/>
          </p:nvGrpSpPr>
          <p:grpSpPr>
            <a:xfrm>
              <a:off x="0" y="380880"/>
              <a:ext cx="2361600" cy="947160"/>
              <a:chOff x="0" y="380880"/>
              <a:chExt cx="2361600" cy="947160"/>
            </a:xfrm>
          </p:grpSpPr>
          <p:sp>
            <p:nvSpPr>
              <p:cNvPr id="185" name="矩形 43011"/>
              <p:cNvSpPr/>
              <p:nvPr/>
            </p:nvSpPr>
            <p:spPr>
              <a:xfrm>
                <a:off x="0" y="737640"/>
                <a:ext cx="2198520" cy="27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ed0f4"/>
                  </a:gs>
                </a:gsLst>
                <a:lin ang="5400000"/>
              </a:gra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文本框 43012"/>
              <p:cNvSpPr/>
              <p:nvPr/>
            </p:nvSpPr>
            <p:spPr>
              <a:xfrm>
                <a:off x="736200" y="380880"/>
                <a:ext cx="1625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找一找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任意多边形 43013"/>
              <p:cNvSpPr/>
              <p:nvPr/>
            </p:nvSpPr>
            <p:spPr>
              <a:xfrm>
                <a:off x="81360" y="683280"/>
                <a:ext cx="651240" cy="21600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任意多边形 43014"/>
              <p:cNvSpPr/>
              <p:nvPr/>
            </p:nvSpPr>
            <p:spPr>
              <a:xfrm>
                <a:off x="325800" y="857880"/>
                <a:ext cx="162720" cy="107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任意多边形 43015"/>
              <p:cNvSpPr/>
              <p:nvPr/>
            </p:nvSpPr>
            <p:spPr>
              <a:xfrm>
                <a:off x="81360" y="467280"/>
                <a:ext cx="651240" cy="2700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椭圆 43016"/>
              <p:cNvSpPr/>
              <p:nvPr/>
            </p:nvSpPr>
            <p:spPr>
              <a:xfrm>
                <a:off x="81360" y="413280"/>
                <a:ext cx="649800" cy="10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椭圆 43017"/>
              <p:cNvSpPr/>
              <p:nvPr/>
            </p:nvSpPr>
            <p:spPr>
              <a:xfrm>
                <a:off x="325800" y="413280"/>
                <a:ext cx="162720" cy="536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文本框 43018"/>
            <p:cNvSpPr/>
            <p:nvPr/>
          </p:nvSpPr>
          <p:spPr>
            <a:xfrm>
              <a:off x="819720" y="694080"/>
              <a:ext cx="1180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文本框 43019"/>
          <p:cNvSpPr/>
          <p:nvPr/>
        </p:nvSpPr>
        <p:spPr>
          <a:xfrm>
            <a:off x="1352880" y="11430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PMingLiU"/>
              </a:rPr>
              <a:t>你能找到它们的对称轴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图片 43023" descr="it13"/>
          <p:cNvPicPr/>
          <p:nvPr/>
        </p:nvPicPr>
        <p:blipFill>
          <a:blip r:embed="rId1"/>
          <a:stretch/>
        </p:blipFill>
        <p:spPr>
          <a:xfrm>
            <a:off x="5334120" y="2057400"/>
            <a:ext cx="1904760" cy="18255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43026" descr="CAA9KBKZ"/>
          <p:cNvPicPr/>
          <p:nvPr/>
        </p:nvPicPr>
        <p:blipFill>
          <a:blip r:embed="rId2"/>
          <a:stretch/>
        </p:blipFill>
        <p:spPr>
          <a:xfrm>
            <a:off x="1752480" y="19810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3031" descr="CAFJMV92"/>
          <p:cNvPicPr/>
          <p:nvPr/>
        </p:nvPicPr>
        <p:blipFill>
          <a:blip r:embed="rId3"/>
          <a:stretch/>
        </p:blipFill>
        <p:spPr>
          <a:xfrm>
            <a:off x="5334120" y="4343400"/>
            <a:ext cx="18684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3032" descr="CAQRCPYB"/>
          <p:cNvPicPr/>
          <p:nvPr/>
        </p:nvPicPr>
        <p:blipFill>
          <a:blip r:embed="rId4"/>
          <a:stretch/>
        </p:blipFill>
        <p:spPr>
          <a:xfrm>
            <a:off x="175248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43034" descr="BD00028_"/>
          <p:cNvPicPr/>
          <p:nvPr/>
        </p:nvPicPr>
        <p:blipFill>
          <a:blip r:embed="rId5"/>
          <a:stretch/>
        </p:blipFill>
        <p:spPr>
          <a:xfrm>
            <a:off x="5029200" y="990720"/>
            <a:ext cx="838080" cy="82044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44033" descr="ch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4551480"/>
          </a:xfrm>
          <a:prstGeom prst="rect">
            <a:avLst/>
          </a:prstGeom>
          <a:ln w="0">
            <a:noFill/>
          </a:ln>
        </p:spPr>
      </p:pic>
      <p:grpSp>
        <p:nvGrpSpPr>
          <p:cNvPr id="201" name="组合 44034"/>
          <p:cNvGrpSpPr/>
          <p:nvPr/>
        </p:nvGrpSpPr>
        <p:grpSpPr>
          <a:xfrm>
            <a:off x="0" y="0"/>
            <a:ext cx="2361600" cy="947160"/>
            <a:chOff x="0" y="0"/>
            <a:chExt cx="2361600" cy="947160"/>
          </a:xfrm>
        </p:grpSpPr>
        <p:grpSp>
          <p:nvGrpSpPr>
            <p:cNvPr id="202" name="组合 44035"/>
            <p:cNvGrpSpPr/>
            <p:nvPr/>
          </p:nvGrpSpPr>
          <p:grpSpPr>
            <a:xfrm>
              <a:off x="0" y="0"/>
              <a:ext cx="2361600" cy="947160"/>
              <a:chOff x="0" y="0"/>
              <a:chExt cx="2361600" cy="947160"/>
            </a:xfrm>
          </p:grpSpPr>
          <p:sp>
            <p:nvSpPr>
              <p:cNvPr id="203" name="矩形 44036"/>
              <p:cNvSpPr/>
              <p:nvPr/>
            </p:nvSpPr>
            <p:spPr>
              <a:xfrm>
                <a:off x="0" y="356400"/>
                <a:ext cx="2198520" cy="269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ed0f4"/>
                  </a:gs>
                </a:gsLst>
                <a:lin ang="5400000"/>
              </a:gra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文本框 44037"/>
              <p:cNvSpPr/>
              <p:nvPr/>
            </p:nvSpPr>
            <p:spPr>
              <a:xfrm>
                <a:off x="736200" y="0"/>
                <a:ext cx="1625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你能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任意多边形 44038"/>
              <p:cNvSpPr/>
              <p:nvPr/>
            </p:nvSpPr>
            <p:spPr>
              <a:xfrm>
                <a:off x="81360" y="302400"/>
                <a:ext cx="651240" cy="21600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任意多边形 44039"/>
              <p:cNvSpPr/>
              <p:nvPr/>
            </p:nvSpPr>
            <p:spPr>
              <a:xfrm>
                <a:off x="325800" y="477000"/>
                <a:ext cx="162720" cy="107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任意多边形 44040"/>
              <p:cNvSpPr/>
              <p:nvPr/>
            </p:nvSpPr>
            <p:spPr>
              <a:xfrm>
                <a:off x="81360" y="86400"/>
                <a:ext cx="651240" cy="2700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椭圆 44041"/>
              <p:cNvSpPr/>
              <p:nvPr/>
            </p:nvSpPr>
            <p:spPr>
              <a:xfrm>
                <a:off x="81360" y="32400"/>
                <a:ext cx="649800" cy="10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椭圆 44042"/>
              <p:cNvSpPr/>
              <p:nvPr/>
            </p:nvSpPr>
            <p:spPr>
              <a:xfrm>
                <a:off x="325800" y="32400"/>
                <a:ext cx="162720" cy="536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文本框 44043"/>
            <p:cNvSpPr/>
            <p:nvPr/>
          </p:nvSpPr>
          <p:spPr>
            <a:xfrm>
              <a:off x="819720" y="312840"/>
              <a:ext cx="1180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文本框 44044"/>
          <p:cNvSpPr/>
          <p:nvPr/>
        </p:nvSpPr>
        <p:spPr>
          <a:xfrm>
            <a:off x="2805840" y="8380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PMingLiU"/>
              </a:rPr>
              <a:t>你能找到它们的对称轴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45061" descr="booksandletters13[1]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13222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45071"/>
          <p:cNvSpPr/>
          <p:nvPr/>
        </p:nvSpPr>
        <p:spPr>
          <a:xfrm>
            <a:off x="1295280" y="18288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组合 45072"/>
          <p:cNvGrpSpPr/>
          <p:nvPr/>
        </p:nvGrpSpPr>
        <p:grpSpPr>
          <a:xfrm>
            <a:off x="3581280" y="1828800"/>
            <a:ext cx="2590200" cy="947160"/>
            <a:chOff x="3581280" y="1828800"/>
            <a:chExt cx="2590200" cy="947160"/>
          </a:xfrm>
        </p:grpSpPr>
        <p:grpSp>
          <p:nvGrpSpPr>
            <p:cNvPr id="218" name="组合 45073"/>
            <p:cNvGrpSpPr/>
            <p:nvPr/>
          </p:nvGrpSpPr>
          <p:grpSpPr>
            <a:xfrm>
              <a:off x="3581280" y="1828800"/>
              <a:ext cx="2590200" cy="947160"/>
              <a:chOff x="3581280" y="1828800"/>
              <a:chExt cx="2590200" cy="947160"/>
            </a:xfrm>
          </p:grpSpPr>
          <p:sp>
            <p:nvSpPr>
              <p:cNvPr id="219" name="矩形 45074"/>
              <p:cNvSpPr/>
              <p:nvPr/>
            </p:nvSpPr>
            <p:spPr>
              <a:xfrm>
                <a:off x="3581280" y="2287800"/>
                <a:ext cx="2411280" cy="347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ed0f4"/>
                  </a:gs>
                </a:gsLst>
                <a:lin ang="5400000"/>
              </a:gra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文本框 45075"/>
              <p:cNvSpPr/>
              <p:nvPr/>
            </p:nvSpPr>
            <p:spPr>
              <a:xfrm>
                <a:off x="4388760" y="1828800"/>
                <a:ext cx="17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收集欣赏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任意多边形 45076"/>
              <p:cNvSpPr/>
              <p:nvPr/>
            </p:nvSpPr>
            <p:spPr>
              <a:xfrm>
                <a:off x="3670560" y="2218320"/>
                <a:ext cx="714240" cy="27792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任意多边形 45077"/>
              <p:cNvSpPr/>
              <p:nvPr/>
            </p:nvSpPr>
            <p:spPr>
              <a:xfrm>
                <a:off x="3938400" y="2442960"/>
                <a:ext cx="178200" cy="1386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任意多边形 45078"/>
              <p:cNvSpPr/>
              <p:nvPr/>
            </p:nvSpPr>
            <p:spPr>
              <a:xfrm>
                <a:off x="3670560" y="1940040"/>
                <a:ext cx="714240" cy="34776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椭圆 45079"/>
              <p:cNvSpPr/>
              <p:nvPr/>
            </p:nvSpPr>
            <p:spPr>
              <a:xfrm>
                <a:off x="3670560" y="1870560"/>
                <a:ext cx="712440" cy="13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椭圆 45080"/>
              <p:cNvSpPr/>
              <p:nvPr/>
            </p:nvSpPr>
            <p:spPr>
              <a:xfrm>
                <a:off x="3938400" y="1870560"/>
                <a:ext cx="178200" cy="691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文本框 45081"/>
            <p:cNvSpPr/>
            <p:nvPr/>
          </p:nvSpPr>
          <p:spPr>
            <a:xfrm>
              <a:off x="4480200" y="2231640"/>
              <a:ext cx="129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文本框 45082"/>
          <p:cNvSpPr/>
          <p:nvPr/>
        </p:nvSpPr>
        <p:spPr>
          <a:xfrm>
            <a:off x="3369960" y="33526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收集并欣赏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个对称的中国民间剪纸图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3:15Z</dcterms:created>
  <dc:creator/>
  <dc:description/>
  <cp:keywords>剪纸 教学</cp:keywords>
  <dc:language>en-US</dc:language>
  <cp:lastModifiedBy>An</cp:lastModifiedBy>
  <dcterms:modified xsi:type="dcterms:W3CDTF">2016-05-01T00:43:1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