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A69-E027-4110-8BF1-0A7D47D8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FD2-458E-449A-BCA4-C00B9AC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421-183B-4D4E-A00C-FD687E5F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09B-AA0A-40D3-B395-0BE04DAC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373-0195-4B53-8C89-F770CF5C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5ED-7CDD-4481-9192-36F6917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DB9-0CE0-4398-BD37-6B55C99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661-19E5-4B4D-97B7-B3DEC3A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515-2ADC-4D6B-91A7-A8722E2C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D2E-FD58-4478-B791-2C07667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26B-4FE5-452C-8596-9CBAD22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5DD-49A7-490C-BEF6-A8CE2CB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0330-9576-40BD-8762-59EF47E5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64691418377"/>
          <p:cNvPicPr/>
          <p:nvPr/>
        </p:nvPicPr>
        <p:blipFill>
          <a:blip r:embed="rId1"/>
          <a:stretch/>
        </p:blipFill>
        <p:spPr>
          <a:xfrm>
            <a:off x="108000" y="0"/>
            <a:ext cx="586728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93320" y="155736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三顾茅庐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191763074_1_b"/>
          <p:cNvPicPr/>
          <p:nvPr/>
        </p:nvPicPr>
        <p:blipFill>
          <a:blip r:embed="rId1"/>
          <a:stretch/>
        </p:blipFill>
        <p:spPr>
          <a:xfrm>
            <a:off x="468360" y="330120"/>
            <a:ext cx="4716360" cy="6166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435640" y="836640"/>
            <a:ext cx="345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文根据罗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的著名古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历史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三十七回“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马徽再荐名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刘玄德三顾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庐”的内容改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而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B3B-88D6-4228-B6F9-2647D69E6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240_l6PUR4aE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79480" y="98100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顾茅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66760" y="2852640"/>
            <a:ext cx="47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：三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顾：拜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茅庐：指诸葛亮的住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721511451979209"/>
          <p:cNvPicPr/>
          <p:nvPr/>
        </p:nvPicPr>
        <p:blipFill>
          <a:blip r:embed="rId1"/>
          <a:stretch/>
        </p:blipFill>
        <p:spPr>
          <a:xfrm>
            <a:off x="250920" y="260280"/>
            <a:ext cx="3673440" cy="5473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706640" y="463680"/>
            <a:ext cx="354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略写刘备两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隆中拜访诸葛亮，都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见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-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具体写刘备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次拜访诸葛亮的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写刘备和诸葛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亲密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82520" y="561960"/>
            <a:ext cx="78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z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顾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o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zhū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葛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ě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亮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g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宜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cǎo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g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ōng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j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g)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shǎng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wǔ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tǎo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顾茅庐  蜿蜒起伏  青翠欲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秀丽宜人  群雄纷争  茅塞顿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721511451979209"/>
          <p:cNvPicPr/>
          <p:nvPr/>
        </p:nvPicPr>
        <p:blipFill>
          <a:blip r:embed="rId1"/>
          <a:stretch/>
        </p:blipFill>
        <p:spPr>
          <a:xfrm>
            <a:off x="539640" y="1052640"/>
            <a:ext cx="4830840" cy="4830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92720" y="1058760"/>
            <a:ext cx="185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课文讲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一个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样的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39:23Z</dcterms:created>
  <dc:creator/>
  <dc:description/>
  <cp:keywords>幻灯片之家 http:/www.eeppt.com</cp:keywords>
  <dc:language>en-US</dc:language>
  <cp:lastModifiedBy/>
  <dcterms:modified xsi:type="dcterms:W3CDTF">2015-07-20T02:04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