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9DC-833A-4F74-BD5B-0A8A8942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8B8-8011-4D17-A9F9-0FD54860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F3D-6AAD-4B28-8D92-FCE3D461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DF3-42FE-49CE-8FE1-265586D8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A58-80E0-4A6E-9990-1CA5C273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D7CE-F6D1-4578-A925-84C8454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07EC-0D52-4023-994E-94BF763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7CB-821F-4C10-B4DE-BAC17812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7728-7960-4F41-A1FC-1D3D0A59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3C95-C948-4A47-A4FA-C8707F5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2AAF-7E86-4EB0-9E10-F7D43B7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E5A-F33E-4EB7-8A0E-3430E14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8D9D-3560-4B3D-A133-8D644BC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11B7-0C33-490D-A4FB-31EE79B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7466-4579-4645-91DB-6C26200A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F18-384A-4A0B-B628-84477B7B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97C-14E8-4622-8BB6-B0371BCE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BD385-66EC-4084-8459-DBAC33E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D3E8C-D743-4F17-9186-7B1C824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B28B7-45E9-4685-A975-B633482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B2765-4A87-4E2D-8E6F-512A1FC2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BAF27-BF15-4E5A-A4D6-9851F2B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FE3-1885-467D-8858-D3FA725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95215-670C-46B1-8C4F-C9BE419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5096E-9E57-4FDA-B334-EC0C673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39477-4D2F-448C-87F2-6984F41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6908C-C6F5-44DE-AB6B-650BD20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CBA45-0D7A-4C57-9A48-7804E11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73740-A7E6-4359-A10F-B02259EB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4D113-020C-4631-BA5F-6F0A518D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3A1-45EF-4E64-8474-5EA54573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676-A6A2-4B6B-8FB8-BE2445E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70D-11A0-4B7B-B842-E9E875A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0C4-868F-44B0-8D27-57BCCFB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D34-2BE1-4300-A429-9AD7BF5E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23E-E467-4B90-A0C8-CEDADE4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2C2-6730-46D5-87C1-66FBEA129A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7F10-D02E-4AEA-9C18-1789AA888A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F683-38C4-4C35-B11C-D7CB09FBE3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20483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B0D-AE6F-4ED5-A0E8-014C00F6003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ffcc00"/>
                </a:solidFill>
                <a:latin typeface="宋体"/>
              </a:rPr>
              <a:t>水景构筑物的基础知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四）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  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水盘、壁流、水帘等的孔口，常用管嘴出流，可按孔口和管嘴形式选择，选择适当的出流公式进行计算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088800"/>
            <a:ext cx="82296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常用孔口为薄壁直边孔口，常用管嘴为直线形、流线形和收缩形外管嘴及直线形内管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2)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各种孔口和管嘴的基本计算公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=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式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出流量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h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出流速度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/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与孔口和管嘴直径及形式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有关的系数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静水头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常用孔口和管嘴的计算表见附录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S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表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S-5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4400" spc="-1" strike="noStrike">
                <a:solidFill>
                  <a:srgbClr val="ff9900"/>
                </a:solidFill>
                <a:latin typeface="宋体"/>
              </a:rPr>
              <a:t>.</a:t>
            </a:r>
            <a:r>
              <a:rPr b="1" lang="zh-CN" sz="4400" spc="-1" strike="noStrike">
                <a:solidFill>
                  <a:srgbClr val="ff9900"/>
                </a:solidFill>
                <a:latin typeface="宋体"/>
              </a:rPr>
              <a:t>水盘、壁流、水帘等的孔口出流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200" spc="-1" strike="noStrike">
                <a:solidFill>
                  <a:srgbClr val="00ff00"/>
                </a:solidFill>
                <a:latin typeface="宋体"/>
              </a:rPr>
              <a:t>常用管嘴出流，可按孔口和管嘴形式选择，选择适当的出流公式进行计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孔口为薄壁直边孔口，常用管嘴为直线形、流线形和收缩形外管嘴及直线形内管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景常用“堰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流及其特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堰和堰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明渠流中，为控制水位或控制流量而设置构筑物，使水流溢过构筑物的流动称为堰流，该构筑物称为堰。由于堰对水流的约束，使堰前水位壅高；然后水在堰上的水位跌落，流过堰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堰流的水力特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的上游水流受阻，水面壅高，势能增大；在堰顶上由于水深变小，速度变大，使动能增大，在势能转化为动能过程中，水面有下跌的现象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流一般从缓流向急流过渡，形成急变流。因此堰流的水力计算主要是局部阻力，其沿程阻力可忽略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水流在流过堰顶时，一般在惯性的作用下均会脱离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构筑物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在表面张力的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下，具有自由表面的液流，水流会收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（二）堰的分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般以堰顶的宽度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堰上水头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比值来进行分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薄壁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≤0.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舌离开堰顶后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重力作用下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然回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图片 6147" descr=""/>
          <p:cNvPicPr/>
          <p:nvPr/>
        </p:nvPicPr>
        <p:blipFill>
          <a:blip r:embed="rId1"/>
          <a:srcRect l="49585" t="62933" r="36840" b="24090"/>
          <a:stretch/>
        </p:blipFill>
        <p:spPr>
          <a:xfrm>
            <a:off x="4952880" y="1905120"/>
            <a:ext cx="365760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6148"/>
          <p:cNvSpPr/>
          <p:nvPr/>
        </p:nvSpPr>
        <p:spPr>
          <a:xfrm>
            <a:off x="6496200" y="4952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薄壁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6149"/>
          <p:cNvSpPr/>
          <p:nvPr/>
        </p:nvSpPr>
        <p:spPr>
          <a:xfrm>
            <a:off x="6787800" y="365760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②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实用堰（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0.6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／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≤2.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特点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堰顶的宽度大于薄壁堰，堰顶的宽度对水流有一定的影响，堰上的水流形成一连续的降落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用堰的剖面有连续的曲线型〔见下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a)]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折线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)]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在实际的水利工程中，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溢流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般都采用实用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图片 7171" descr=""/>
          <p:cNvPicPr/>
          <p:nvPr/>
        </p:nvPicPr>
        <p:blipFill>
          <a:blip r:embed="rId1"/>
          <a:srcRect l="36563" t="12288" r="29115" b="70733"/>
          <a:stretch/>
        </p:blipFill>
        <p:spPr>
          <a:xfrm>
            <a:off x="380880" y="4267080"/>
            <a:ext cx="8534520" cy="25909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7172"/>
          <p:cNvSpPr/>
          <p:nvPr/>
        </p:nvSpPr>
        <p:spPr>
          <a:xfrm>
            <a:off x="3581280" y="649116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7173"/>
          <p:cNvSpPr/>
          <p:nvPr/>
        </p:nvSpPr>
        <p:spPr>
          <a:xfrm>
            <a:off x="4114800" y="6324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实用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③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宽顶堰（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.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／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≤10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特点：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堰顶的宽度较大，对水流有显著影响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流在进入堰顶时形成一次跌落后，水流受堰顶较寬的影响，形成一段与堰顶近乎平行的水流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③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下游的水位较低水流在流出堰顶时将产生第二次跌落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图片 8195" descr=""/>
          <p:cNvPicPr/>
          <p:nvPr/>
        </p:nvPicPr>
        <p:blipFill>
          <a:blip r:embed="rId1"/>
          <a:srcRect l="30923" t="38135" r="34758" b="48578"/>
          <a:stretch/>
        </p:blipFill>
        <p:spPr>
          <a:xfrm>
            <a:off x="1905120" y="4876920"/>
            <a:ext cx="5562360" cy="198108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8196"/>
          <p:cNvSpPr/>
          <p:nvPr/>
        </p:nvSpPr>
        <p:spPr>
          <a:xfrm>
            <a:off x="205740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宽顶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三）瀑布、叠流、水帘、水盘等构筑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物的表面溢流计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按其堰口形式选择类似堰形进行计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常用堰形为宽顶堰（进水口分无侧面收缩和有侧面收缩，堰墙分直角、圆角、斜角和斜坡等）薄壁堰，均为非淹没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宋体"/>
              </a:rPr>
              <a:t>2)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各种堰流的基本计算公式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1048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q=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3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=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式中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q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溢流量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/h·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上流速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m/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K</a:t>
            </a:r>
            <a:r>
              <a:rPr b="1" lang="en-US" sz="3200" spc="-1" strike="noStrike" baseline="-30000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与堰形有关的系数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上静水头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最常用的宽顶堰和薄壁堰的计算表见附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4)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堰上静水头值由设计人根据要求的观瞻效果、跌落高差大小、水膜不断开高度等因素确定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8:56Z</dcterms:created>
  <dc:creator/>
  <dc:description/>
  <cp:keywords>水景 构筑物 基础知识</cp:keywords>
  <dc:language>en-US</dc:language>
  <cp:lastModifiedBy>An</cp:lastModifiedBy>
  <dcterms:modified xsi:type="dcterms:W3CDTF">2016-05-01T00:48:5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