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7.jpeg" ContentType="image/jpeg"/>
  <Override PartName="/ppt/media/image3.jpeg" ContentType="image/jpeg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905-B77E-47CA-9A1F-33F1F3A7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261-100A-44D8-A921-E887FA5B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E8D29-B05A-4D6A-9240-9B6E708E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020A0-F09D-4EE8-8228-C872BA9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C53EB-A882-47B4-8D21-1A6911D4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5E10A-DA97-45F9-B05E-33AFA8D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C9D91-8BE0-4E4F-97CE-C79E62A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70F1B-7F08-4F68-AC6A-2844CBB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9F4A0-3C73-496F-95BC-F34D6A6D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6F9C-7452-47F1-8A2B-10312093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A56F7-E4A3-4801-9575-10CD2D42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871-ABE2-48B8-9AF2-B713BFB4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8BB-321F-458E-BD79-CD613ECE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C5BD-6584-43C4-BFC6-C3250284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91F-2B5D-451F-B810-BBEF8585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BA58-7249-4ABF-A774-29D9610B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65ED-547E-4ECD-A76C-CC9407EA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DE06-493A-46D2-AF4A-AE2AF1E9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00B9-55F3-408E-9312-84405D5D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EEF-7DD5-4CC4-9481-6EB636A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43F-A36F-4890-BDBF-F319EC2C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7152-682C-4488-A73B-B834E24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AF3-2D7F-4BEB-A862-8C3F4E1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6531-A219-43E7-8503-686E6745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131E-4863-47AF-98B8-98A88728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6928-3377-4BD3-8514-CA68255F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4DA2-1637-4D91-9F0A-460EDEB0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B5CA-780A-45E5-B7C3-3336CD8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EEC5-C59E-4CB5-A2D8-7B6E1D67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FB26-D900-480A-8D16-196CC0B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49EE-06C6-4A44-9833-D8A6E9C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5F5-AA44-4FBF-B5E6-D809B616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ED6B-594F-4260-975E-D65212DA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7751-F59D-4E30-9101-4C64BBA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F4E8-DF36-4491-A03E-F1B3BB9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A49D-5B3C-41FF-AC0B-DAC40C3B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9CBB-C938-4756-98A8-5DE14706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387D-215A-424E-8BEE-9A42CEBB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6D92-9EFE-45DF-A4AA-BAE6265F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9955-65B9-4D48-9ADE-0BD701E1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45442-260C-48DA-BCDF-31F949D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E021-4074-45DA-A4B2-7E396F3D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CF8-A5E5-4B57-B8A6-950C276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97B0-5955-4A1C-B50A-7E11000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B2A3-1E28-4BF7-9102-44AEEA0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0C54-F6AB-4998-9381-6676724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7F06-B8FA-4554-B3FC-2CC7FF6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4ED9-BECB-4E76-AEBB-5B9E806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193D-C091-4750-B6F7-989B5DD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0ADF-4DD6-4DD9-9984-4A23C503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0CB2-8C74-4D6A-A67C-810B57A9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FB8B-734B-495C-B33B-A84605E1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7A8F-0613-4FBF-9C02-4B2FAFBA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C61-B531-41A3-B169-0CEC669C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DEB7-F708-42AF-B28B-D59D445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82E3-E0FE-4405-ABEE-F98D8995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E874-E73D-4991-A669-AF5D694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EC53-96B8-47CA-B777-15200250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DCD0-F748-45BD-9D8D-44E4E847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CEBE-0D63-4796-B80D-C5E1C84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8AF7-F7F2-426D-8E7A-C213CBE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8C3E-CBCC-4BBF-B77A-451B713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29E5-4A3A-477B-A440-4FFFDF4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DD96-DCF6-4FF2-A4A1-0569B893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C08-FF8C-494A-A2FD-9383048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DECD-73BB-4781-98FF-E48AAB6E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7C84-AA10-48AB-B5E5-528C958C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EB88-D9F0-4990-93BE-C7020A84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6365B-CA88-4A93-8F75-94D98FAD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E397-D220-46DA-8164-8350D01A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37B5-296D-457D-89EA-D9C25672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1091-DFCB-4B4B-83C5-F259430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37A8-D66C-4F4D-AB78-74CE26C9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1A2A-1D29-4928-AD35-DECF835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1D2E-ED57-4384-B514-BD0D885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F9D-6E5F-4C9A-8003-6C2677D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1867-CBB8-467B-80D7-C02FEEEE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EDBE-FBB0-4004-B5DE-D5D3BBBE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0E1B-812C-4890-9162-A3CA88E9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127B-303E-4ADA-9265-C7AFA3B7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20F8-E997-4495-AF31-F4E312E4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4BD79-121F-41DB-8C25-8F0A528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AE79-CDFE-4F56-B97C-0BC014E0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6A03-1D7F-427D-BED0-99A9677A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E525-E930-469A-AE0D-F358E9A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B51BD-DC6B-4816-BB2A-3FC5139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E3E-7DF8-4B7C-A245-B696629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33F1-D344-463F-8B18-E7D3CD04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F7D2-9AC2-499B-8DB1-8EFF3B7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2022-A052-4F64-8829-5507544B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8223D-7228-4A02-89CA-11A61950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C9B6-2646-4FA1-A6A8-1E1D6F2C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1BC20-640E-49A8-8115-FB91C469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87203-F2CB-4D25-B3B8-FFAD9204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261F-343A-4872-A786-965D052A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71840-9C52-422C-A164-D04856F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5600-6CEF-403E-8FBD-EBDF1129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C77-6457-40B1-82BD-5C63C90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71C08-FEF3-4F92-8F42-53A60474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2984-3D70-4CC1-AFDD-4E1BB66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C0AE-ED8D-4085-8F9E-A11D5FE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CBDC3-C61C-4380-AD9C-59DB21B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E4F6-789E-4F00-82DE-1F25831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19CE-32C9-48B1-B8D0-A9E2FDEE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2523E-F2AC-42BE-A4E1-D58A810E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E782C-926F-4DBD-884D-15DBC54D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26AE0-84A3-40A6-8820-8BA234D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DB00D-FF88-4F5F-9130-85501874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0481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任意多边形 20482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任意多边形 20483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任意多边形 20484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任意多边形 20485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椭圆 20486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椭圆 20487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椭圆 20488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C93-8C15-4802-94E7-4C6252FD21F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DA4E-8842-477A-A57F-0D252E9265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79873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91" name="任意多边形 79874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组合 79875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3" name="任意多边形 79876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任意多边形 79877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任意多边形 79878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任意多边形 79879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组合 79880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98" name="任意多边形 79881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任意多边形 79882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任意多边形 79883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任意多边形 79884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任意多边形 79885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" name="组合 79886"/>
              <p:cNvGrpSpPr/>
              <p:nvPr/>
            </p:nvGrpSpPr>
            <p:grpSpPr>
              <a:xfrm>
                <a:off x="852840" y="4055400"/>
                <a:ext cx="1832760" cy="1663200"/>
                <a:chOff x="852840" y="4055400"/>
                <a:chExt cx="1832760" cy="1663200"/>
              </a:xfrm>
            </p:grpSpPr>
            <p:sp>
              <p:nvSpPr>
                <p:cNvPr id="104" name="任意多边形 79887"/>
                <p:cNvSpPr/>
                <p:nvPr/>
              </p:nvSpPr>
              <p:spPr>
                <a:xfrm flipH="1" rot="7102800">
                  <a:off x="1263240" y="3944880"/>
                  <a:ext cx="474480" cy="1216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任意多边形 79888"/>
                <p:cNvSpPr/>
                <p:nvPr/>
              </p:nvSpPr>
              <p:spPr>
                <a:xfrm flipH="1" rot="7102800">
                  <a:off x="2327760" y="497340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79889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组合 79890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8" name="任意多边形 79891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任意多边形 79892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任意多边形 79893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79894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2" name="任意多边形 79895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任意多边形 79896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任意多边形 79897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79898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6" name="任意多边形 79899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任意多边形 79900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任意多边形 79901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任意多边形 79902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任意多边形 79903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任意多边形 79904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任意多边形 79905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任意多边形 79906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任意多边形 79907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任意多边形 79908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任意多边形 79909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任意多边形 79910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任意多边形 79911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任意多边形 79912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任意多边形 79913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任意多边形 79914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任意多边形 79915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F13-7B9A-4337-B950-D4BB62409A69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E2B-5ADA-415A-AE1E-84D4FF114A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712-9726-479C-8C65-C0D5CB23080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C0EC-DCB6-445F-9172-B73B7C2799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21505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7" name="任意多边形 21506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任意多边形 21507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任意多边形 21508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任意多边形 21509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椭圆 21510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椭圆 21511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椭圆 21512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C98-36F7-4313-BA9F-A66563A052B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769D-28D1-4B2F-BD1D-ACE1C593CF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80897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47" name="组合 80898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48" name="任意多边形 80899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任意多边形 80900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任意多边形 80901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任意多边形 80902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任意多边形 80903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任意多边形 80904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任意多边形 80905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任意多边形 80906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80907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80908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80909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80910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80911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组合 80912"/>
            <p:cNvGrpSpPr/>
            <p:nvPr/>
          </p:nvGrpSpPr>
          <p:grpSpPr>
            <a:xfrm>
              <a:off x="4138920" y="1037520"/>
              <a:ext cx="1017360" cy="1263240"/>
              <a:chOff x="4138920" y="1037520"/>
              <a:chExt cx="1017360" cy="1263240"/>
            </a:xfrm>
          </p:grpSpPr>
          <p:sp>
            <p:nvSpPr>
              <p:cNvPr id="362" name="任意多边形 80913"/>
              <p:cNvSpPr/>
              <p:nvPr/>
            </p:nvSpPr>
            <p:spPr>
              <a:xfrm rot="3220200">
                <a:off x="4554720" y="10753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任意多边形 80914"/>
              <p:cNvSpPr/>
              <p:nvPr/>
            </p:nvSpPr>
            <p:spPr>
              <a:xfrm rot="3220200">
                <a:off x="4639680" y="1609200"/>
                <a:ext cx="48924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任意多边形 80915"/>
              <p:cNvSpPr/>
              <p:nvPr/>
            </p:nvSpPr>
            <p:spPr>
              <a:xfrm rot="3220200">
                <a:off x="4099320" y="19670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80916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366" name="任意多边形 80917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任意多边形 80918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任意多边形 80919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组合 80920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70" name="任意多边形 80921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任意多边形 80922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任意多边形 80923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80924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374" name="任意多边形 80925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任意多边形 80926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任意多边形 80927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组合 80928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78" name="任意多边形 80929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任意多边形 80930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任意多边形 80931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任意多边形 80932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任意多边形 80933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任意多边形 80934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任意多边形 80935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任意多边形 80936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任意多边形 80937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任意多边形 80938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148E-71CD-4CA6-A027-87953F321893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970-7C16-4CD7-A5C0-6A964A2B5C0E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6390"/>
          <p:cNvSpPr txBox="1"/>
          <p:nvPr/>
        </p:nvSpPr>
        <p:spPr>
          <a:xfrm>
            <a:off x="468360" y="981000"/>
            <a:ext cx="81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数列的应用</a:t>
            </a:r>
            <a:endParaRPr b="0" lang="en-US" sz="6000" spc="1" strike="noStrike">
              <a:ln w="12600">
                <a:solidFill>
                  <a:srgbClr val="ffffff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1" name="文本框 16391"/>
          <p:cNvSpPr/>
          <p:nvPr/>
        </p:nvSpPr>
        <p:spPr>
          <a:xfrm>
            <a:off x="3995640" y="3573360"/>
            <a:ext cx="39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中数学科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9218"/>
          <p:cNvSpPr/>
          <p:nvPr/>
        </p:nvSpPr>
        <p:spPr>
          <a:xfrm>
            <a:off x="395280" y="333360"/>
            <a:ext cx="813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文本框 9219"/>
          <p:cNvSpPr/>
          <p:nvPr/>
        </p:nvSpPr>
        <p:spPr>
          <a:xfrm>
            <a:off x="34920" y="203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文本框 9220"/>
          <p:cNvSpPr/>
          <p:nvPr/>
        </p:nvSpPr>
        <p:spPr>
          <a:xfrm>
            <a:off x="431640" y="20350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.004575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…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=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对象 9221" descr=""/>
          <p:cNvPicPr/>
          <p:nvPr/>
        </p:nvPicPr>
        <p:blipFill>
          <a:blip r:embed="rId1"/>
          <a:stretch/>
        </p:blipFill>
        <p:spPr>
          <a:xfrm>
            <a:off x="1332000" y="2611440"/>
            <a:ext cx="5832360" cy="1104840"/>
          </a:xfrm>
          <a:prstGeom prst="rect">
            <a:avLst/>
          </a:prstGeom>
          <a:ln w="0">
            <a:noFill/>
          </a:ln>
        </p:spPr>
      </p:pic>
      <p:pic>
        <p:nvPicPr>
          <p:cNvPr id="572" name="对象 9223" descr=""/>
          <p:cNvPicPr/>
          <p:nvPr/>
        </p:nvPicPr>
        <p:blipFill>
          <a:blip r:embed="rId2"/>
          <a:stretch/>
        </p:blipFill>
        <p:spPr>
          <a:xfrm>
            <a:off x="1476360" y="3763800"/>
            <a:ext cx="6012000" cy="1105200"/>
          </a:xfrm>
          <a:prstGeom prst="rect">
            <a:avLst/>
          </a:prstGeom>
          <a:ln w="0">
            <a:noFill/>
          </a:ln>
        </p:spPr>
      </p:pic>
      <p:sp>
        <p:nvSpPr>
          <p:cNvPr id="573" name="文本框 9224"/>
          <p:cNvSpPr/>
          <p:nvPr/>
        </p:nvSpPr>
        <p:spPr>
          <a:xfrm>
            <a:off x="324000" y="5132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对象 9226" descr=""/>
          <p:cNvPicPr/>
          <p:nvPr/>
        </p:nvPicPr>
        <p:blipFill>
          <a:blip r:embed="rId3"/>
          <a:stretch/>
        </p:blipFill>
        <p:spPr>
          <a:xfrm>
            <a:off x="1763640" y="5086440"/>
            <a:ext cx="2087640" cy="439560"/>
          </a:xfrm>
          <a:prstGeom prst="rect">
            <a:avLst/>
          </a:prstGeom>
          <a:ln w="0">
            <a:noFill/>
          </a:ln>
        </p:spPr>
      </p:pic>
      <p:sp>
        <p:nvSpPr>
          <p:cNvPr id="575" name="文本框 9228"/>
          <p:cNvSpPr/>
          <p:nvPr/>
        </p:nvSpPr>
        <p:spPr>
          <a:xfrm>
            <a:off x="395280" y="59245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每月应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0.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文本框 9229"/>
          <p:cNvSpPr/>
          <p:nvPr/>
        </p:nvSpPr>
        <p:spPr>
          <a:xfrm>
            <a:off x="539640" y="4076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文本框 9230"/>
          <p:cNvSpPr/>
          <p:nvPr/>
        </p:nvSpPr>
        <p:spPr>
          <a:xfrm>
            <a:off x="216000" y="14590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x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…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x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x=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文本框 9234"/>
          <p:cNvSpPr/>
          <p:nvPr/>
        </p:nvSpPr>
        <p:spPr>
          <a:xfrm>
            <a:off x="144360" y="225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后根据到期偿还贷款的含义，即各月所付款额连同贷款付清时所生利息之和，等于贷款本金及到贷款付清时的利息之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：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对象 14339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2808000" cy="136836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4340"/>
          <p:cNvSpPr/>
          <p:nvPr/>
        </p:nvSpPr>
        <p:spPr>
          <a:xfrm>
            <a:off x="179280" y="14796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思考：一般地，采用上述分期付款的方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个月将款全部付清，月利率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，那么每月付款款额的计算公式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文本框 14341"/>
          <p:cNvSpPr/>
          <p:nvPr/>
        </p:nvSpPr>
        <p:spPr>
          <a:xfrm>
            <a:off x="684360" y="35575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设每月付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日期占位符 1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文本框 8193"/>
          <p:cNvSpPr/>
          <p:nvPr/>
        </p:nvSpPr>
        <p:spPr>
          <a:xfrm>
            <a:off x="468360" y="476280"/>
            <a:ext cx="611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文本框 8194"/>
          <p:cNvSpPr/>
          <p:nvPr/>
        </p:nvSpPr>
        <p:spPr>
          <a:xfrm>
            <a:off x="539640" y="8222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练习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文本框 8195"/>
          <p:cNvSpPr/>
          <p:nvPr/>
        </p:nvSpPr>
        <p:spPr>
          <a:xfrm>
            <a:off x="179280" y="162864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用分期付款的方式购买家用电器一件，价格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购买当天先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以后每月这一天都加付当时欠款的利息，并交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；月利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为，共交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次，若从交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以后的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个月开始算分期付款的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月，问：分期付款的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各月该交付多少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全部贷款付清后，买这件家店实际花费了多少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文本框 8196"/>
          <p:cNvSpPr/>
          <p:nvPr/>
        </p:nvSpPr>
        <p:spPr>
          <a:xfrm>
            <a:off x="1979640" y="4797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答案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5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日期占位符 1"/>
          <p:cNvSpPr/>
          <p:nvPr/>
        </p:nvSpPr>
        <p:spPr>
          <a:xfrm>
            <a:off x="301680" y="61722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2051"/>
          <p:cNvSpPr/>
          <p:nvPr/>
        </p:nvSpPr>
        <p:spPr>
          <a:xfrm>
            <a:off x="179280" y="1159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一</a:t>
            </a: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等差数列的应用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文本框 2052"/>
          <p:cNvSpPr/>
          <p:nvPr/>
        </p:nvSpPr>
        <p:spPr>
          <a:xfrm>
            <a:off x="324000" y="62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纸厂用若干台效率相同的抽水机从河里往蓄水池灌水，若所有机械同时开动，则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灌满水池．若一台一台的开动，每相临两台启动时间间隔都相同，那么到灌满水池时，第一台的工作时间是最后一台的七倍，问第一台的工作了多少时间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文本框 2053"/>
          <p:cNvSpPr/>
          <p:nvPr/>
        </p:nvSpPr>
        <p:spPr>
          <a:xfrm>
            <a:off x="324000" y="2421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解：设有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台抽水机．每相临两台启动的时间间隔为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小时，最后一台工作时间为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小时，依题意，得方程组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组合 2062"/>
          <p:cNvGrpSpPr/>
          <p:nvPr/>
        </p:nvGrpSpPr>
        <p:grpSpPr>
          <a:xfrm>
            <a:off x="2484360" y="3141720"/>
            <a:ext cx="3600000" cy="1656720"/>
            <a:chOff x="2484360" y="3141720"/>
            <a:chExt cx="3600000" cy="1656720"/>
          </a:xfrm>
        </p:grpSpPr>
        <p:pic>
          <p:nvPicPr>
            <p:cNvPr id="477" name="对象 2054" descr=""/>
            <p:cNvPicPr/>
            <p:nvPr/>
          </p:nvPicPr>
          <p:blipFill>
            <a:blip r:embed="rId1"/>
            <a:stretch/>
          </p:blipFill>
          <p:spPr>
            <a:xfrm>
              <a:off x="2704320" y="3141720"/>
              <a:ext cx="294084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对象 2055" descr=""/>
            <p:cNvPicPr/>
            <p:nvPr/>
          </p:nvPicPr>
          <p:blipFill>
            <a:blip r:embed="rId2"/>
            <a:stretch/>
          </p:blipFill>
          <p:spPr>
            <a:xfrm>
              <a:off x="2631600" y="3702240"/>
              <a:ext cx="3452760" cy="109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左大括号 2056"/>
            <p:cNvSpPr/>
            <p:nvPr/>
          </p:nvSpPr>
          <p:spPr>
            <a:xfrm>
              <a:off x="2484360" y="3381480"/>
              <a:ext cx="147240" cy="960480"/>
            </a:xfrm>
            <a:custGeom>
              <a:avLst/>
              <a:gdLst>
                <a:gd name="textAreaLeft" fmla="*/ 93960 w 147240"/>
                <a:gd name="textAreaRight" fmla="*/ 147600 w 147240"/>
                <a:gd name="textAreaTop" fmla="*/ 24840 h 960480"/>
                <a:gd name="textAreaBottom" fmla="*/ 93564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文本框 2058"/>
          <p:cNvSpPr/>
          <p:nvPr/>
        </p:nvSpPr>
        <p:spPr>
          <a:xfrm>
            <a:off x="2052720" y="526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组合 2063"/>
          <p:cNvGrpSpPr/>
          <p:nvPr/>
        </p:nvGrpSpPr>
        <p:grpSpPr>
          <a:xfrm>
            <a:off x="2627280" y="4653000"/>
            <a:ext cx="2881080" cy="1225080"/>
            <a:chOff x="2627280" y="4653000"/>
            <a:chExt cx="2881080" cy="1225080"/>
          </a:xfrm>
        </p:grpSpPr>
        <p:pic>
          <p:nvPicPr>
            <p:cNvPr id="482" name="对象 2059" descr=""/>
            <p:cNvPicPr/>
            <p:nvPr/>
          </p:nvPicPr>
          <p:blipFill>
            <a:blip r:embed="rId3"/>
            <a:stretch/>
          </p:blipFill>
          <p:spPr>
            <a:xfrm>
              <a:off x="2854440" y="4653000"/>
              <a:ext cx="22726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对象 2060" descr=""/>
            <p:cNvPicPr/>
            <p:nvPr/>
          </p:nvPicPr>
          <p:blipFill>
            <a:blip r:embed="rId4"/>
            <a:stretch/>
          </p:blipFill>
          <p:spPr>
            <a:xfrm>
              <a:off x="2779200" y="5312880"/>
              <a:ext cx="272916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左大括号 2061"/>
            <p:cNvSpPr/>
            <p:nvPr/>
          </p:nvSpPr>
          <p:spPr>
            <a:xfrm>
              <a:off x="2627280" y="4900320"/>
              <a:ext cx="76680" cy="825120"/>
            </a:xfrm>
            <a:custGeom>
              <a:avLst/>
              <a:gdLst>
                <a:gd name="textAreaLeft" fmla="*/ 48960 w 76680"/>
                <a:gd name="textAreaRight" fmla="*/ 77040 w 76680"/>
                <a:gd name="textAreaTop" fmla="*/ 21240 h 825120"/>
                <a:gd name="textAreaBottom" fmla="*/ 803880 h 82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文本框 2064"/>
          <p:cNvSpPr/>
          <p:nvPr/>
        </p:nvSpPr>
        <p:spPr>
          <a:xfrm>
            <a:off x="2050920" y="5877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框 2066"/>
          <p:cNvSpPr/>
          <p:nvPr/>
        </p:nvSpPr>
        <p:spPr>
          <a:xfrm>
            <a:off x="2050920" y="62946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第一台工作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3075"/>
          <p:cNvSpPr/>
          <p:nvPr/>
        </p:nvSpPr>
        <p:spPr>
          <a:xfrm>
            <a:off x="75564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文本框 3076"/>
          <p:cNvSpPr/>
          <p:nvPr/>
        </p:nvSpPr>
        <p:spPr>
          <a:xfrm>
            <a:off x="611280" y="1700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服装厂的三年生产计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年比前一年增产的服装件数相同，如果第三年比原计划多生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每一年比上一年的增长率相同，而且第三年生产的件数恰等于原计划生产件数的一半，求原计划生产服装的件数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文本框 3078"/>
          <p:cNvSpPr/>
          <p:nvPr/>
        </p:nvSpPr>
        <p:spPr>
          <a:xfrm>
            <a:off x="684360" y="4437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案：原计划每年生产的件数分别为４，６，８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日期占位符 1"/>
          <p:cNvSpPr/>
          <p:nvPr/>
        </p:nvSpPr>
        <p:spPr>
          <a:xfrm>
            <a:off x="301680" y="61722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5123"/>
          <p:cNvSpPr/>
          <p:nvPr/>
        </p:nvSpPr>
        <p:spPr>
          <a:xfrm>
            <a:off x="34920" y="115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二）增长率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文本框 5124"/>
          <p:cNvSpPr/>
          <p:nvPr/>
        </p:nvSpPr>
        <p:spPr>
          <a:xfrm>
            <a:off x="179280" y="801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某地现有居民住房的总面积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其中需要拆除的旧住房面积占了一半．当地有关部门决定在每年拆除一定数量旧住房的情况下，仍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住房增长率建设新住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文本框 5125"/>
          <p:cNvSpPr/>
          <p:nvPr/>
        </p:nvSpPr>
        <p:spPr>
          <a:xfrm>
            <a:off x="179280" y="19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１）如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后该地的住房总面积正好比目前翻一翻，那么每年应拆除的旧房总面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多少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示：计算时可取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文本框 5126"/>
          <p:cNvSpPr/>
          <p:nvPr/>
        </p:nvSpPr>
        <p:spPr>
          <a:xfrm>
            <a:off x="0" y="2852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２）过十年还未拆除的旧住房总面积占当时住房总面积的百分比是多少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留到小数点后第１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文本框 5134"/>
          <p:cNvSpPr/>
          <p:nvPr/>
        </p:nvSpPr>
        <p:spPr>
          <a:xfrm>
            <a:off x="108000" y="38131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文本框 5135"/>
          <p:cNvSpPr/>
          <p:nvPr/>
        </p:nvSpPr>
        <p:spPr>
          <a:xfrm>
            <a:off x="399960" y="4340160"/>
            <a:ext cx="41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文本框 5136"/>
          <p:cNvSpPr/>
          <p:nvPr/>
        </p:nvSpPr>
        <p:spPr>
          <a:xfrm>
            <a:off x="399960" y="54198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对象 5137" descr=""/>
          <p:cNvPicPr/>
          <p:nvPr/>
        </p:nvPicPr>
        <p:blipFill>
          <a:blip r:embed="rId1"/>
          <a:stretch/>
        </p:blipFill>
        <p:spPr>
          <a:xfrm>
            <a:off x="4067280" y="3649680"/>
            <a:ext cx="2374920" cy="690480"/>
          </a:xfrm>
          <a:prstGeom prst="rect">
            <a:avLst/>
          </a:prstGeom>
          <a:ln w="0">
            <a:noFill/>
          </a:ln>
        </p:spPr>
      </p:pic>
      <p:pic>
        <p:nvPicPr>
          <p:cNvPr id="500" name="对象 5138" descr=""/>
          <p:cNvPicPr/>
          <p:nvPr/>
        </p:nvPicPr>
        <p:blipFill>
          <a:blip r:embed="rId2"/>
          <a:stretch/>
        </p:blipFill>
        <p:spPr>
          <a:xfrm>
            <a:off x="826920" y="4700520"/>
            <a:ext cx="6337440" cy="673200"/>
          </a:xfrm>
          <a:prstGeom prst="rect">
            <a:avLst/>
          </a:prstGeom>
          <a:ln w="0">
            <a:noFill/>
          </a:ln>
        </p:spPr>
      </p:pic>
      <p:pic>
        <p:nvPicPr>
          <p:cNvPr id="501" name="对象 5139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7991280" cy="717480"/>
          </a:xfrm>
          <a:prstGeom prst="rect">
            <a:avLst/>
          </a:prstGeom>
          <a:ln w="0">
            <a:noFill/>
          </a:ln>
        </p:spPr>
      </p:pic>
      <p:sp>
        <p:nvSpPr>
          <p:cNvPr id="502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11271"/>
          <p:cNvSpPr/>
          <p:nvPr/>
        </p:nvSpPr>
        <p:spPr>
          <a:xfrm>
            <a:off x="826920" y="44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文本框 11272"/>
          <p:cNvSpPr/>
          <p:nvPr/>
        </p:nvSpPr>
        <p:spPr>
          <a:xfrm>
            <a:off x="755640" y="5475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对象 11275" descr=""/>
          <p:cNvPicPr/>
          <p:nvPr/>
        </p:nvPicPr>
        <p:blipFill>
          <a:blip r:embed="rId1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6" name="对象 11277" descr=""/>
          <p:cNvPicPr/>
          <p:nvPr/>
        </p:nvPicPr>
        <p:blipFill>
          <a:blip r:embed="rId2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7" name="对象 11278" descr=""/>
          <p:cNvPicPr/>
          <p:nvPr/>
        </p:nvPicPr>
        <p:blipFill>
          <a:blip r:embed="rId3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8" name="对象 11279" descr=""/>
          <p:cNvPicPr/>
          <p:nvPr/>
        </p:nvPicPr>
        <p:blipFill>
          <a:blip r:embed="rId4"/>
          <a:stretch/>
        </p:blipFill>
        <p:spPr>
          <a:xfrm>
            <a:off x="4514760" y="333864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9" name="对象 11287" descr=""/>
          <p:cNvPicPr/>
          <p:nvPr/>
        </p:nvPicPr>
        <p:blipFill>
          <a:blip r:embed="rId5"/>
          <a:stretch/>
        </p:blipFill>
        <p:spPr>
          <a:xfrm>
            <a:off x="1187280" y="907920"/>
            <a:ext cx="6985080" cy="648000"/>
          </a:xfrm>
          <a:prstGeom prst="rect">
            <a:avLst/>
          </a:prstGeom>
          <a:ln w="0">
            <a:noFill/>
          </a:ln>
        </p:spPr>
      </p:pic>
      <p:pic>
        <p:nvPicPr>
          <p:cNvPr id="510" name="对象 11288" descr=""/>
          <p:cNvPicPr/>
          <p:nvPr/>
        </p:nvPicPr>
        <p:blipFill>
          <a:blip r:embed="rId6"/>
          <a:stretch/>
        </p:blipFill>
        <p:spPr>
          <a:xfrm>
            <a:off x="826920" y="1484280"/>
            <a:ext cx="3961080" cy="1297080"/>
          </a:xfrm>
          <a:prstGeom prst="rect">
            <a:avLst/>
          </a:prstGeom>
          <a:ln w="0">
            <a:noFill/>
          </a:ln>
        </p:spPr>
      </p:pic>
      <p:pic>
        <p:nvPicPr>
          <p:cNvPr id="511" name="对象 11289" descr=""/>
          <p:cNvPicPr/>
          <p:nvPr/>
        </p:nvPicPr>
        <p:blipFill>
          <a:blip r:embed="rId7"/>
          <a:stretch/>
        </p:blipFill>
        <p:spPr>
          <a:xfrm>
            <a:off x="755640" y="2708280"/>
            <a:ext cx="3600360" cy="57636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11290"/>
          <p:cNvSpPr/>
          <p:nvPr/>
        </p:nvSpPr>
        <p:spPr>
          <a:xfrm>
            <a:off x="684360" y="347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题意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对象 11291" descr=""/>
          <p:cNvPicPr/>
          <p:nvPr/>
        </p:nvPicPr>
        <p:blipFill>
          <a:blip r:embed="rId8"/>
          <a:stretch/>
        </p:blipFill>
        <p:spPr>
          <a:xfrm>
            <a:off x="2771640" y="3357720"/>
            <a:ext cx="3889440" cy="57600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11292"/>
          <p:cNvSpPr/>
          <p:nvPr/>
        </p:nvSpPr>
        <p:spPr>
          <a:xfrm>
            <a:off x="682560" y="441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对象 11293" descr=""/>
          <p:cNvPicPr/>
          <p:nvPr/>
        </p:nvPicPr>
        <p:blipFill>
          <a:blip r:embed="rId9"/>
          <a:stretch/>
        </p:blipFill>
        <p:spPr>
          <a:xfrm>
            <a:off x="2700360" y="3933720"/>
            <a:ext cx="2735280" cy="115092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11294"/>
          <p:cNvSpPr/>
          <p:nvPr/>
        </p:nvSpPr>
        <p:spPr>
          <a:xfrm>
            <a:off x="108000" y="58514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对象 11296" descr=""/>
          <p:cNvPicPr/>
          <p:nvPr/>
        </p:nvPicPr>
        <p:blipFill>
          <a:blip r:embed="rId10"/>
          <a:stretch/>
        </p:blipFill>
        <p:spPr>
          <a:xfrm>
            <a:off x="1187280" y="4869000"/>
            <a:ext cx="4608720" cy="1655640"/>
          </a:xfrm>
          <a:prstGeom prst="rect">
            <a:avLst/>
          </a:prstGeom>
          <a:ln w="0">
            <a:noFill/>
          </a:ln>
        </p:spPr>
      </p:pic>
      <p:sp>
        <p:nvSpPr>
          <p:cNvPr id="518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10243"/>
          <p:cNvSpPr/>
          <p:nvPr/>
        </p:nvSpPr>
        <p:spPr>
          <a:xfrm>
            <a:off x="395280" y="404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文本框 10244"/>
          <p:cNvSpPr/>
          <p:nvPr/>
        </p:nvSpPr>
        <p:spPr>
          <a:xfrm>
            <a:off x="431640" y="98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企业经过调整后，第一年的资金增长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%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对象 10245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576000" cy="1079640"/>
          </a:xfrm>
          <a:prstGeom prst="rect">
            <a:avLst/>
          </a:prstGeom>
          <a:ln w="0">
            <a:noFill/>
          </a:ln>
        </p:spPr>
      </p:pic>
      <p:sp>
        <p:nvSpPr>
          <p:cNvPr id="522" name="文本框 10246"/>
          <p:cNvSpPr/>
          <p:nvPr/>
        </p:nvSpPr>
        <p:spPr>
          <a:xfrm>
            <a:off x="179280" y="1685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后每年的资金增长率都是前一年增长率的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文本框 10247"/>
          <p:cNvSpPr/>
          <p:nvPr/>
        </p:nvSpPr>
        <p:spPr>
          <a:xfrm>
            <a:off x="684360" y="2405160"/>
            <a:ext cx="88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后，企业的资金是原来资金的多少倍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文本框 10248"/>
          <p:cNvSpPr/>
          <p:nvPr/>
        </p:nvSpPr>
        <p:spPr>
          <a:xfrm>
            <a:off x="250920" y="31305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由于某种原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年损失资金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么经过多少年后企业的资金开始下降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文本框 10249"/>
          <p:cNvSpPr/>
          <p:nvPr/>
        </p:nvSpPr>
        <p:spPr>
          <a:xfrm>
            <a:off x="539640" y="465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案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对象 10251" descr=""/>
          <p:cNvPicPr/>
          <p:nvPr/>
        </p:nvPicPr>
        <p:blipFill>
          <a:blip r:embed="rId2"/>
          <a:stretch/>
        </p:blipFill>
        <p:spPr>
          <a:xfrm>
            <a:off x="2373480" y="4229280"/>
            <a:ext cx="903240" cy="121572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10252" descr=""/>
          <p:cNvPicPr/>
          <p:nvPr/>
        </p:nvPicPr>
        <p:blipFill>
          <a:blip r:embed="rId3"/>
          <a:stretch/>
        </p:blipFill>
        <p:spPr>
          <a:xfrm>
            <a:off x="4114800" y="3328920"/>
            <a:ext cx="914400" cy="19836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0253"/>
          <p:cNvSpPr/>
          <p:nvPr/>
        </p:nvSpPr>
        <p:spPr>
          <a:xfrm>
            <a:off x="1258920" y="537372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２）经过４年，从第五年起企业的资金开始下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文本框 10254"/>
          <p:cNvSpPr/>
          <p:nvPr/>
        </p:nvSpPr>
        <p:spPr>
          <a:xfrm>
            <a:off x="1187280" y="4589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１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日期占位符 1"/>
          <p:cNvSpPr/>
          <p:nvPr/>
        </p:nvSpPr>
        <p:spPr>
          <a:xfrm>
            <a:off x="301680" y="61722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文本框 6145"/>
          <p:cNvSpPr/>
          <p:nvPr/>
        </p:nvSpPr>
        <p:spPr>
          <a:xfrm>
            <a:off x="838080" y="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宋体"/>
              </a:rPr>
              <a:t>三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宋体"/>
              </a:rPr>
              <a:t>储蓄和分期付款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文本框 6146"/>
          <p:cNvSpPr/>
          <p:nvPr/>
        </p:nvSpPr>
        <p:spPr>
          <a:xfrm>
            <a:off x="15228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零整取储蓄是指分期存入后一次取出的一种储蓄方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某人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月第一天存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最后一天取出全部本金及其利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知月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65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他实际取出的本利和是多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利息税的税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文本框 6147"/>
          <p:cNvSpPr/>
          <p:nvPr/>
        </p:nvSpPr>
        <p:spPr>
          <a:xfrm>
            <a:off x="152280" y="19051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分析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分别计算每个月月末所存金额产生的利息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然后相加即得总利息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从中扣取利息税再加上本金即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文本框 6148"/>
          <p:cNvSpPr/>
          <p:nvPr/>
        </p:nvSpPr>
        <p:spPr>
          <a:xfrm>
            <a:off x="304920" y="278136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题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金共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且各月存款的利息如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文本框 6149"/>
          <p:cNvSpPr/>
          <p:nvPr/>
        </p:nvSpPr>
        <p:spPr>
          <a:xfrm>
            <a:off x="914400" y="3332160"/>
            <a:ext cx="76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文本框 6150"/>
          <p:cNvSpPr/>
          <p:nvPr/>
        </p:nvSpPr>
        <p:spPr>
          <a:xfrm>
            <a:off x="914400" y="3908520"/>
            <a:ext cx="69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文本框 6152"/>
          <p:cNvSpPr/>
          <p:nvPr/>
        </p:nvSpPr>
        <p:spPr>
          <a:xfrm>
            <a:off x="914400" y="4772160"/>
            <a:ext cx="73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文本框 6153"/>
          <p:cNvSpPr/>
          <p:nvPr/>
        </p:nvSpPr>
        <p:spPr>
          <a:xfrm>
            <a:off x="914400" y="549288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文本框 6154"/>
          <p:cNvSpPr/>
          <p:nvPr/>
        </p:nvSpPr>
        <p:spPr>
          <a:xfrm>
            <a:off x="990720" y="4267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文本框 6155"/>
          <p:cNvSpPr/>
          <p:nvPr/>
        </p:nvSpPr>
        <p:spPr>
          <a:xfrm>
            <a:off x="457200" y="606744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于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得的全部利息就是上面各期利息之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13315"/>
          <p:cNvSpPr/>
          <p:nvPr/>
        </p:nvSpPr>
        <p:spPr>
          <a:xfrm>
            <a:off x="250920" y="33577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设每期期初存入金额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a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连存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n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次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每期的利率为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p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那么到第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n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期期末将存款全部取出时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本利和共有多少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?(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利息税的税率为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2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文本框 13316"/>
          <p:cNvSpPr/>
          <p:nvPr/>
        </p:nvSpPr>
        <p:spPr>
          <a:xfrm>
            <a:off x="324000" y="234936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纳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87 × 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文本框 13317"/>
          <p:cNvSpPr/>
          <p:nvPr/>
        </p:nvSpPr>
        <p:spPr>
          <a:xfrm>
            <a:off x="268200" y="2852640"/>
            <a:ext cx="83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际取出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利和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+12.78-2.57=1210.3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文本框 13318"/>
          <p:cNvSpPr/>
          <p:nvPr/>
        </p:nvSpPr>
        <p:spPr>
          <a:xfrm>
            <a:off x="358920" y="333360"/>
            <a:ext cx="88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0.165%+100 × 0.165×2+…+100×0.16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文本框 13319"/>
          <p:cNvSpPr/>
          <p:nvPr/>
        </p:nvSpPr>
        <p:spPr>
          <a:xfrm>
            <a:off x="755640" y="126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0.165% × (1+2+…+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文本框 13320"/>
          <p:cNvSpPr/>
          <p:nvPr/>
        </p:nvSpPr>
        <p:spPr>
          <a:xfrm>
            <a:off x="755640" y="1844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16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78 = 12.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文本框 13321"/>
          <p:cNvSpPr/>
          <p:nvPr/>
        </p:nvSpPr>
        <p:spPr>
          <a:xfrm>
            <a:off x="973080" y="765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100×0.16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对象 13323" descr=""/>
          <p:cNvPicPr/>
          <p:nvPr/>
        </p:nvPicPr>
        <p:blipFill>
          <a:blip r:embed="rId1"/>
          <a:stretch/>
        </p:blipFill>
        <p:spPr>
          <a:xfrm>
            <a:off x="1332000" y="4508640"/>
            <a:ext cx="6191280" cy="1009440"/>
          </a:xfrm>
          <a:prstGeom prst="rect">
            <a:avLst/>
          </a:prstGeom>
          <a:ln w="0">
            <a:noFill/>
          </a:ln>
        </p:spPr>
      </p:pic>
      <p:pic>
        <p:nvPicPr>
          <p:cNvPr id="550" name="对象 13324" descr=""/>
          <p:cNvPicPr/>
          <p:nvPr/>
        </p:nvPicPr>
        <p:blipFill>
          <a:blip r:embed="rId2"/>
          <a:stretch/>
        </p:blipFill>
        <p:spPr>
          <a:xfrm>
            <a:off x="1049400" y="5516640"/>
            <a:ext cx="3666960" cy="1152360"/>
          </a:xfrm>
          <a:prstGeom prst="rect">
            <a:avLst/>
          </a:prstGeom>
          <a:ln w="0">
            <a:noFill/>
          </a:ln>
        </p:spPr>
      </p:pic>
      <p:sp>
        <p:nvSpPr>
          <p:cNvPr id="551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7170"/>
          <p:cNvSpPr/>
          <p:nvPr/>
        </p:nvSpPr>
        <p:spPr>
          <a:xfrm>
            <a:off x="228600" y="1890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例四</a:t>
            </a:r>
            <a:r>
              <a:rPr b="1" lang="en-US" sz="2400" spc="-1" strike="noStrike">
                <a:solidFill>
                  <a:srgbClr val="ff66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银行设立了教育助学贷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规定一年期以上贷款月均等额还本付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贷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年内还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利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475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每月应还多少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利息按月以复利计算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文本框 7171"/>
          <p:cNvSpPr/>
          <p:nvPr/>
        </p:nvSpPr>
        <p:spPr>
          <a:xfrm>
            <a:off x="34920" y="138276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分析：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到贷款两年付清时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0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元贷款的本金与它的利息之和是多少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文本框 7172"/>
          <p:cNvSpPr/>
          <p:nvPr/>
        </p:nvSpPr>
        <p:spPr>
          <a:xfrm>
            <a:off x="36360" y="1743120"/>
            <a:ext cx="91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  <a:ea typeface="宋体"/>
              </a:rPr>
              <a:t>　　　　　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设每月还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元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到贷款两年付清时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各月所付款 额与它的利息之和是多少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9280" y="2627280"/>
          <a:ext cx="4392720" cy="3840120"/>
        </p:xfrm>
        <a:graphic>
          <a:graphicData uri="http://schemas.openxmlformats.org/drawingml/2006/table">
            <a:tbl>
              <a:tblPr/>
              <a:tblGrid>
                <a:gridCol w="1368360"/>
                <a:gridCol w="302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贷款的本金与它的利息之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文本框 7222"/>
          <p:cNvSpPr/>
          <p:nvPr/>
        </p:nvSpPr>
        <p:spPr>
          <a:xfrm>
            <a:off x="1447920" y="4440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文本框 7223"/>
          <p:cNvSpPr/>
          <p:nvPr/>
        </p:nvSpPr>
        <p:spPr>
          <a:xfrm>
            <a:off x="1447920" y="386388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文本框 7224"/>
          <p:cNvSpPr/>
          <p:nvPr/>
        </p:nvSpPr>
        <p:spPr>
          <a:xfrm>
            <a:off x="1447920" y="545004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文本框 7225"/>
          <p:cNvSpPr/>
          <p:nvPr/>
        </p:nvSpPr>
        <p:spPr>
          <a:xfrm>
            <a:off x="1447920" y="5918040"/>
            <a:ext cx="34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文本框 7228"/>
          <p:cNvSpPr/>
          <p:nvPr/>
        </p:nvSpPr>
        <p:spPr>
          <a:xfrm>
            <a:off x="1447920" y="332568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716360" y="2604960"/>
          <a:ext cx="4176720" cy="3825720"/>
        </p:xfrm>
        <a:graphic>
          <a:graphicData uri="http://schemas.openxmlformats.org/drawingml/2006/table">
            <a:tbl>
              <a:tblPr/>
              <a:tblGrid>
                <a:gridCol w="2016000"/>
                <a:gridCol w="216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各月所付款额与它的利息之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2" name="文本框 7277"/>
          <p:cNvSpPr/>
          <p:nvPr/>
        </p:nvSpPr>
        <p:spPr>
          <a:xfrm>
            <a:off x="6629400" y="332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文本框 7282"/>
          <p:cNvSpPr/>
          <p:nvPr/>
        </p:nvSpPr>
        <p:spPr>
          <a:xfrm>
            <a:off x="6629400" y="3828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文本框 7283"/>
          <p:cNvSpPr/>
          <p:nvPr/>
        </p:nvSpPr>
        <p:spPr>
          <a:xfrm>
            <a:off x="6629400" y="43340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文本框 7284"/>
          <p:cNvSpPr/>
          <p:nvPr/>
        </p:nvSpPr>
        <p:spPr>
          <a:xfrm>
            <a:off x="6629400" y="53769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x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文本框 7285"/>
          <p:cNvSpPr/>
          <p:nvPr/>
        </p:nvSpPr>
        <p:spPr>
          <a:xfrm>
            <a:off x="6629400" y="59180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4:23Z</dcterms:created>
  <dc:creator/>
  <dc:description/>
  <cp:keywords>数列 应用</cp:keywords>
  <dc:language>en-US</dc:language>
  <cp:lastModifiedBy>An</cp:lastModifiedBy>
  <dcterms:modified xsi:type="dcterms:W3CDTF">2016-05-01T00:44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