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4AE3-E9C7-417A-A56D-C87C8BD00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5FBF-3182-4885-93E6-FE1D76C01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D7A6-3A7A-44F4-AB72-3D5B1F5B3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9FC2-E099-4AFA-A80B-0DBF38846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F7A04-34CA-49B3-8F69-16DE46176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0B396-74ED-45B8-9CF7-9D3F85F55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65FC8-B7FB-466A-9D82-A950C0720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89DB7-DF00-40E9-A47E-B1AEA6447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5D90F-EED2-4376-9339-06230A88B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2861-8104-4E60-B219-E4FC9F3E2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38981-A5DF-4ADC-84BC-3365C020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DFBB-E182-46B8-8C64-69AD875DF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B031A-0B7E-4A38-AD4C-95E8E054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A5D69-6475-43E9-98D3-28701F96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CC960-F8AE-42FD-B439-0CF55D0AF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7EFC4-ECF1-4F13-BC02-A3AD3C57A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733BF-C4D9-4446-A039-36F8A5072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E99803-3DC6-4EBA-B85D-00241ED33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CF6E33-A269-4C16-8260-48A2598EF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0970BD-02E3-4857-BD0D-4508E6401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37F6BA-2C7D-4A02-B377-1DFCD3D66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AD2F08-7890-4527-B703-0C1558F0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3D23-565B-4622-83D5-103B353EA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0CEC79-6206-40D9-9292-84A7AA584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3745A5-3B38-47A3-9ED1-55826CCE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936005-071F-4C32-AE81-14C3D383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9614C5-0D82-4872-A9AA-0A513F22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04A150-0D3A-41F8-8A00-B0CE7EDF6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41DD08-814C-4214-8B13-92379EBE3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DC51F0-B097-4FDB-9BDC-3CE5E7943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7B11-18CA-470A-B8CA-8E8B1E863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1A6C-63C4-4690-89DD-DEB12A896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52C9-7345-49EC-9ACA-1E6496A0E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0522-E6CB-4A85-BD5E-A57AD690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946B-8BBB-4673-97DB-F081EEEB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7CF9-DF6D-4658-A298-60BDDEA3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76CE6-651D-4A5D-8560-C7A12AD40D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4929C-102E-4FD7-B4C2-83C0284CECC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059E2-E07A-4351-9EF2-A7D4AC5C9E1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任意多边形 30723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CFBB6-6F97-44C8-98FD-7DC8866122DF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31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商品差价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    商品差价：是指同一种商品在流通中由于购销环节、地区、质量和季节的不同而形成的价格差额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-304920"/>
            <a:ext cx="7772400" cy="60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第二节  地区差价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一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地区差价的概念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      地区差价是指同一时间、同一品 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种在不同地区的相应环节的价格之间  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的差额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二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地区差价构成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  运杂费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  资金占压费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  商品损耗经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  营管理费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  利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42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三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地区差价形成的原因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由商品流通所引起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—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由于商品的生 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 产同消费在地区上的矛盾所致。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由生产而引起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—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由于生产条件差别   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 而引起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24740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四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地区差价的计算方法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对象 15362" descr=""/>
          <p:cNvPicPr/>
          <p:nvPr/>
        </p:nvPicPr>
        <p:blipFill>
          <a:blip r:embed="rId1"/>
          <a:stretch/>
        </p:blipFill>
        <p:spPr>
          <a:xfrm>
            <a:off x="838080" y="2514600"/>
            <a:ext cx="7391520" cy="110160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56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第三 节季节差价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一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季节差价的概念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季节差价是指同一商品在同一市场不 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同季节收购价格之间或销售价格之间 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的差额。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60120"/>
            <a:ext cx="7772400" cy="38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三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季节差价形成的原因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不同季节生产同一种产品的成本不 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 同。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生产与消费存在季节性的矛盾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对象 18433" descr=""/>
          <p:cNvPicPr/>
          <p:nvPr/>
        </p:nvPicPr>
        <p:blipFill>
          <a:blip r:embed="rId1"/>
          <a:stretch/>
        </p:blipFill>
        <p:spPr>
          <a:xfrm>
            <a:off x="1219320" y="2133720"/>
            <a:ext cx="7010280" cy="118728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58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四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季节差价计算方法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季节价格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基价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×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+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季节差率）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季节差价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季节价格－基价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注：基价为全年中的最低价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55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第四节    质量差价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一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质量差价的概念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    质量差价是指同一市场、同一时间、同种商品，由于质量不同所形成的价格差异。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                                品种差价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                                品质差价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质量差价形式        等级差价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                                规格差价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                                花色样式差价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343400" y="3657600"/>
            <a:ext cx="360" cy="2209680"/>
            <a:chOff x="4343400" y="3657600"/>
            <a:chExt cx="360" cy="2209680"/>
          </a:xfrm>
        </p:grpSpPr>
        <p:sp>
          <p:nvSpPr>
            <p:cNvPr id="147" name="直接连接符 19458"/>
            <p:cNvSpPr/>
            <p:nvPr/>
          </p:nvSpPr>
          <p:spPr>
            <a:xfrm>
              <a:off x="4343400" y="3657600"/>
              <a:ext cx="0" cy="220968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 txBox="1"/>
            <p:nvPr/>
          </p:nvSpPr>
          <p:spPr>
            <a:xfrm>
              <a:off x="4343400" y="3657600"/>
              <a:ext cx="360" cy="220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4343400" y="3657600"/>
            <a:ext cx="380880" cy="360"/>
            <a:chOff x="4343400" y="3657600"/>
            <a:chExt cx="380880" cy="360"/>
          </a:xfrm>
        </p:grpSpPr>
        <p:sp>
          <p:nvSpPr>
            <p:cNvPr id="150" name="直接连接符 19459"/>
            <p:cNvSpPr/>
            <p:nvPr/>
          </p:nvSpPr>
          <p:spPr>
            <a:xfrm>
              <a:off x="4343400" y="365760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 txBox="1"/>
            <p:nvPr/>
          </p:nvSpPr>
          <p:spPr>
            <a:xfrm>
              <a:off x="4343400" y="3657600"/>
              <a:ext cx="380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4343400" y="4267080"/>
            <a:ext cx="380880" cy="360"/>
            <a:chOff x="4343400" y="4267080"/>
            <a:chExt cx="380880" cy="360"/>
          </a:xfrm>
        </p:grpSpPr>
        <p:sp>
          <p:nvSpPr>
            <p:cNvPr id="153" name="直接连接符 19460"/>
            <p:cNvSpPr/>
            <p:nvPr/>
          </p:nvSpPr>
          <p:spPr>
            <a:xfrm>
              <a:off x="4343400" y="426708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>
              <a:off x="4343400" y="4267080"/>
              <a:ext cx="380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886200" y="4800600"/>
            <a:ext cx="838080" cy="360"/>
            <a:chOff x="3886200" y="4800600"/>
            <a:chExt cx="838080" cy="360"/>
          </a:xfrm>
        </p:grpSpPr>
        <p:sp>
          <p:nvSpPr>
            <p:cNvPr id="156" name="直接连接符 19461"/>
            <p:cNvSpPr/>
            <p:nvPr/>
          </p:nvSpPr>
          <p:spPr>
            <a:xfrm>
              <a:off x="3886200" y="4800600"/>
              <a:ext cx="838080" cy="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 txBox="1"/>
            <p:nvPr/>
          </p:nvSpPr>
          <p:spPr>
            <a:xfrm>
              <a:off x="3886200" y="4800600"/>
              <a:ext cx="838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4343400" y="5334120"/>
            <a:ext cx="380880" cy="360"/>
            <a:chOff x="4343400" y="5334120"/>
            <a:chExt cx="380880" cy="360"/>
          </a:xfrm>
        </p:grpSpPr>
        <p:sp>
          <p:nvSpPr>
            <p:cNvPr id="159" name="直接连接符 19462"/>
            <p:cNvSpPr/>
            <p:nvPr/>
          </p:nvSpPr>
          <p:spPr>
            <a:xfrm>
              <a:off x="4343400" y="533412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 txBox="1"/>
            <p:nvPr/>
          </p:nvSpPr>
          <p:spPr>
            <a:xfrm>
              <a:off x="4343400" y="5334120"/>
              <a:ext cx="380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4343400" y="5867280"/>
            <a:ext cx="380880" cy="360"/>
            <a:chOff x="4343400" y="5867280"/>
            <a:chExt cx="380880" cy="360"/>
          </a:xfrm>
        </p:grpSpPr>
        <p:sp>
          <p:nvSpPr>
            <p:cNvPr id="162" name="直接连接符 19463"/>
            <p:cNvSpPr/>
            <p:nvPr/>
          </p:nvSpPr>
          <p:spPr>
            <a:xfrm>
              <a:off x="4343400" y="586728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 txBox="1"/>
            <p:nvPr/>
          </p:nvSpPr>
          <p:spPr>
            <a:xfrm>
              <a:off x="4343400" y="5867280"/>
              <a:ext cx="380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 advTm="1000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772400" cy="44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二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质量差价形成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原材料质量水平差别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生产工具不同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劳动熟练程度不同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生产态度不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三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安排质量差价的原则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有利于生产者不断采用先进技术，  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 增加花色品种。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有利于贯彻按质论价原则。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有利于贯彻地区差价服从质量差价   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 原则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39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第一节     购销差价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一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购销差价的概念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     购销差价，也称进销差价，是指同一种商品在全国一产地，同一时间内，购进价格和销售价格之间的差额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四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质量差价的制订方法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划分商品类别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确定标准品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审定质量标准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审查标准品价格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制订非标准品质量差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五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质量差价计算方法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质量差价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费标准品价格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－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标准品价格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对象 23554" descr=""/>
          <p:cNvPicPr/>
          <p:nvPr/>
        </p:nvPicPr>
        <p:blipFill>
          <a:blip r:embed="rId1"/>
          <a:stretch/>
        </p:blipFill>
        <p:spPr>
          <a:xfrm>
            <a:off x="1295280" y="2971800"/>
            <a:ext cx="6858000" cy="250344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第五 节批零差价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一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批零差价的概念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     批零差价是指同一种商品，在同  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一市场，同一时间内，批发价格与零  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售价格之间的差额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77724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二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批零差价的构成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 批零差价构成：市内装卸搬运费、  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资金占压利息、商品损耗、经营管理 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费、应纳税金和利息构成的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50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三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安排批零差价的原则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正确处理国家、企业、个人三者利 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 益关系。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兼顾批发企业和零售企业的经济利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 益。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有利于市场竞争和各种流通渠道的 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 形成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809640"/>
            <a:ext cx="777240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四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批零差价计算方法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 批零差价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零售价格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－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批发价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对象 27650" descr=""/>
          <p:cNvPicPr/>
          <p:nvPr/>
        </p:nvPicPr>
        <p:blipFill>
          <a:blip r:embed="rId1"/>
          <a:stretch/>
        </p:blipFill>
        <p:spPr>
          <a:xfrm>
            <a:off x="1295280" y="3048120"/>
            <a:ext cx="6782040" cy="267480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77724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工业品进销差价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⑴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概念：指同一种工业品在同一产地，      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同一时间奈内，出厂价格和商业批 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发价格之间的差额。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⑵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构成：有由采购商品的资金占用利 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息、市内装卸搬运费、商品损耗、 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经营管理费及应纳税金和合理利润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构成的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7772400" cy="33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⑶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计算方法：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进销差价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产地批发价格－出厂价格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对象 6146" descr=""/>
          <p:cNvPicPr/>
          <p:nvPr/>
        </p:nvPicPr>
        <p:blipFill>
          <a:blip r:embed="rId1"/>
          <a:stretch/>
        </p:blipFill>
        <p:spPr>
          <a:xfrm>
            <a:off x="1143000" y="2438280"/>
            <a:ext cx="7162920" cy="1024200"/>
          </a:xfrm>
          <a:prstGeom prst="rect">
            <a:avLst/>
          </a:prstGeom>
          <a:ln w="0">
            <a:noFill/>
          </a:ln>
        </p:spPr>
      </p:pic>
      <p:pic>
        <p:nvPicPr>
          <p:cNvPr id="129" name="对象 6147" descr=""/>
          <p:cNvPicPr/>
          <p:nvPr/>
        </p:nvPicPr>
        <p:blipFill>
          <a:blip r:embed="rId2"/>
          <a:stretch/>
        </p:blipFill>
        <p:spPr>
          <a:xfrm>
            <a:off x="1219320" y="4267080"/>
            <a:ext cx="7010280" cy="100512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28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农产品购销差价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⑴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概念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农产品购销差价是指当地生产、当 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地销售同一种农产品，在同一时间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内收购价格与销售价格之间的差额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400" cy="39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⑵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农产品购销差价形式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●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购零差价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●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购批差价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●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原成差价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720360"/>
            <a:ext cx="7772400" cy="31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⑶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农产品购销差价构成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    商业部门购销农产品的流通费用、 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应纳税金及合理利润构成的。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35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⑷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计算方法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 购销差价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销售价格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－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购进价格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（零售价格、批发价格）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对象 10242" descr=""/>
          <p:cNvPicPr/>
          <p:nvPr/>
        </p:nvPicPr>
        <p:blipFill>
          <a:blip r:embed="rId1"/>
          <a:stretch/>
        </p:blipFill>
        <p:spPr>
          <a:xfrm>
            <a:off x="1447920" y="3886200"/>
            <a:ext cx="5638680" cy="124128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63160"/>
            <a:ext cx="7772400" cy="31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二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合理安排购销差价应掌握的原则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要合理安排工商利益和农商利益。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要区别不同商品特性、用途及供  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 求情况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1T00:34:42Z</dcterms:created>
  <dc:creator/>
  <dc:description/>
  <cp:keywords>商品 差价</cp:keywords>
  <dc:language>en-US</dc:language>
  <cp:lastModifiedBy>An</cp:lastModifiedBy>
  <dcterms:modified xsi:type="dcterms:W3CDTF">2016-05-01T00:34:43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