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19F-0E8D-4AD3-A5C3-014C95DB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908-4A38-491B-ACAC-2A36244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268-3C91-4E10-AA19-DE716745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3A3-BB58-4679-B63D-7E837C2B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43A-1769-4976-BC3F-5A54F4E8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91DE-2AA8-43A4-A354-3705057F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CB31-0855-4FED-8D54-E4AA40A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4645-A700-4B33-A8BC-5B1F6216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872-DBDC-45DA-A76B-2650918D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B09-87A6-4E76-B380-857489A0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F4F0-4AA8-4253-A192-3342010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C6D-D18E-4B1C-8309-C44FFF7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15B-C05A-431C-9BDB-9D1E2C3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BF0D-F05D-4F3C-80C6-DE73315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DC64-4D1D-476F-9B40-06F91195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8755-E83A-4A16-B365-C26719A6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E2EC-B428-4B1E-9862-7A70DC56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B66-EBF0-4D4A-8F5F-30C06A68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14D-1DB6-47F4-BB01-F3E3503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867-06AC-4EA4-AA33-498EAB86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031-9AA4-4CF3-9FAC-F69AAE7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EE4-99C6-467A-B815-AC32A20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34C-7D22-46F4-8EC9-BF7FFF4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7FC-370A-4C2D-A076-E9DA7E1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8C3-5DD8-4B79-BBA2-85A47A221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82A5-31B6-4F21-B9E4-73DDD51F5C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E39-1B1B-4FF3-A286-16C4E8577F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205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3" name="图片 2055" descr="CHAGCHE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2056"/>
            <p:cNvSpPr/>
            <p:nvPr/>
          </p:nvSpPr>
          <p:spPr>
            <a:xfrm>
              <a:off x="762120" y="2286000"/>
              <a:ext cx="5257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生态系统的多样性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文本框 2057"/>
          <p:cNvSpPr/>
          <p:nvPr/>
        </p:nvSpPr>
        <p:spPr>
          <a:xfrm>
            <a:off x="2514600" y="33526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设计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制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56" descr="风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45"/>
          <p:cNvSpPr/>
          <p:nvPr/>
        </p:nvSpPr>
        <p:spPr>
          <a:xfrm>
            <a:off x="2057400" y="3808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态系统的多样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6146"/>
          <p:cNvSpPr/>
          <p:nvPr/>
        </p:nvSpPr>
        <p:spPr>
          <a:xfrm>
            <a:off x="1263600" y="2743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陆地生态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147"/>
          <p:cNvSpPr/>
          <p:nvPr/>
        </p:nvSpPr>
        <p:spPr>
          <a:xfrm>
            <a:off x="1187280" y="5364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水域生态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左大括号 6148"/>
          <p:cNvSpPr/>
          <p:nvPr/>
        </p:nvSpPr>
        <p:spPr>
          <a:xfrm>
            <a:off x="4006800" y="1647720"/>
            <a:ext cx="152280" cy="281952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49"/>
          <p:cNvSpPr/>
          <p:nvPr/>
        </p:nvSpPr>
        <p:spPr>
          <a:xfrm>
            <a:off x="4159080" y="14619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森林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6150"/>
          <p:cNvSpPr/>
          <p:nvPr/>
        </p:nvSpPr>
        <p:spPr>
          <a:xfrm>
            <a:off x="4159080" y="21477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草原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6151"/>
          <p:cNvSpPr/>
          <p:nvPr/>
        </p:nvSpPr>
        <p:spPr>
          <a:xfrm>
            <a:off x="4159080" y="39765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田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6152"/>
          <p:cNvSpPr/>
          <p:nvPr/>
        </p:nvSpPr>
        <p:spPr>
          <a:xfrm>
            <a:off x="4159080" y="3322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沼泽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6153"/>
          <p:cNvSpPr/>
          <p:nvPr/>
        </p:nvSpPr>
        <p:spPr>
          <a:xfrm>
            <a:off x="4574880" y="2743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荒漠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6157"/>
          <p:cNvSpPr/>
          <p:nvPr/>
        </p:nvSpPr>
        <p:spPr>
          <a:xfrm>
            <a:off x="4159080" y="511956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海洋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6158"/>
          <p:cNvSpPr/>
          <p:nvPr/>
        </p:nvSpPr>
        <p:spPr>
          <a:xfrm>
            <a:off x="4581000" y="5699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淡水生态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左大括号 6159"/>
          <p:cNvSpPr/>
          <p:nvPr/>
        </p:nvSpPr>
        <p:spPr>
          <a:xfrm>
            <a:off x="3886200" y="5119560"/>
            <a:ext cx="272880" cy="1098720"/>
          </a:xfrm>
          <a:custGeom>
            <a:avLst/>
            <a:gdLst>
              <a:gd name="textAreaLeft" fmla="*/ 174240 w 272880"/>
              <a:gd name="textAreaRight" fmla="*/ 272880 w 27288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71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图片 7170" descr="CHAGCHE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7171"/>
            <p:cNvSpPr/>
            <p:nvPr/>
          </p:nvSpPr>
          <p:spPr>
            <a:xfrm>
              <a:off x="762120" y="2286000"/>
              <a:ext cx="556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生态系统中的物质流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文本框 7172"/>
          <p:cNvSpPr/>
          <p:nvPr/>
        </p:nvSpPr>
        <p:spPr>
          <a:xfrm>
            <a:off x="2514600" y="3352680"/>
            <a:ext cx="3809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设计：陈小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件制作：陈小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单位：北京劲松四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1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对象 11265" descr=""/>
          <p:cNvPicPr/>
          <p:nvPr/>
        </p:nvPicPr>
        <p:blipFill>
          <a:blip r:embed="rId1"/>
          <a:stretch/>
        </p:blipFill>
        <p:spPr>
          <a:xfrm>
            <a:off x="7178760" y="2292480"/>
            <a:ext cx="1492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11511"/>
          <p:cNvGrpSpPr/>
          <p:nvPr/>
        </p:nvGrpSpPr>
        <p:grpSpPr>
          <a:xfrm>
            <a:off x="3597120" y="493560"/>
            <a:ext cx="1847880" cy="914400"/>
            <a:chOff x="3597120" y="493560"/>
            <a:chExt cx="1847880" cy="914400"/>
          </a:xfrm>
        </p:grpSpPr>
        <p:sp>
          <p:nvSpPr>
            <p:cNvPr id="108" name="云形标注 11450"/>
            <p:cNvSpPr/>
            <p:nvPr/>
          </p:nvSpPr>
          <p:spPr>
            <a:xfrm>
              <a:off x="3597120" y="493560"/>
              <a:ext cx="1847880" cy="914400"/>
            </a:xfrm>
            <a:prstGeom prst="cloudCallout">
              <a:avLst>
                <a:gd name="adj1" fmla="val -45875"/>
                <a:gd name="adj2" fmla="val 199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ea8aa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文本框 11462"/>
            <p:cNvSpPr/>
            <p:nvPr/>
          </p:nvSpPr>
          <p:spPr>
            <a:xfrm>
              <a:off x="3749400" y="722160"/>
              <a:ext cx="154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二氧化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组合 11466"/>
          <p:cNvGrpSpPr/>
          <p:nvPr/>
        </p:nvGrpSpPr>
        <p:grpSpPr>
          <a:xfrm>
            <a:off x="720720" y="2494080"/>
            <a:ext cx="1628640" cy="1395360"/>
            <a:chOff x="720720" y="2494080"/>
            <a:chExt cx="1628640" cy="1395360"/>
          </a:xfrm>
        </p:grpSpPr>
        <p:grpSp>
          <p:nvGrpSpPr>
            <p:cNvPr id="111" name="组合 11461"/>
            <p:cNvGrpSpPr/>
            <p:nvPr/>
          </p:nvGrpSpPr>
          <p:grpSpPr>
            <a:xfrm>
              <a:off x="720720" y="2494080"/>
              <a:ext cx="1395360" cy="1395360"/>
              <a:chOff x="720720" y="2494080"/>
              <a:chExt cx="1395360" cy="1395360"/>
            </a:xfrm>
          </p:grpSpPr>
          <p:sp>
            <p:nvSpPr>
              <p:cNvPr id="112" name="椭圆 11442"/>
              <p:cNvSpPr/>
              <p:nvPr/>
            </p:nvSpPr>
            <p:spPr>
              <a:xfrm>
                <a:off x="720720" y="2494080"/>
                <a:ext cx="1395360" cy="1395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闪电形 11416"/>
              <p:cNvSpPr/>
              <p:nvPr/>
            </p:nvSpPr>
            <p:spPr>
              <a:xfrm flipH="1">
                <a:off x="1353240" y="310860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闪电形 11418"/>
              <p:cNvSpPr/>
              <p:nvPr/>
            </p:nvSpPr>
            <p:spPr>
              <a:xfrm flipH="1">
                <a:off x="1225440" y="289728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闪电形 11419"/>
              <p:cNvSpPr/>
              <p:nvPr/>
            </p:nvSpPr>
            <p:spPr>
              <a:xfrm flipH="1">
                <a:off x="1430280" y="366876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闪电形 11420"/>
              <p:cNvSpPr/>
              <p:nvPr/>
            </p:nvSpPr>
            <p:spPr>
              <a:xfrm flipH="1">
                <a:off x="948240" y="343548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任意多边形 11421"/>
              <p:cNvSpPr/>
              <p:nvPr/>
            </p:nvSpPr>
            <p:spPr>
              <a:xfrm>
                <a:off x="1201680" y="33321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任意多边形 11422"/>
              <p:cNvSpPr/>
              <p:nvPr/>
            </p:nvSpPr>
            <p:spPr>
              <a:xfrm>
                <a:off x="1582560" y="356400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任意多边形 11423"/>
              <p:cNvSpPr/>
              <p:nvPr/>
            </p:nvSpPr>
            <p:spPr>
              <a:xfrm>
                <a:off x="1125360" y="302760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任意多边形 11424"/>
              <p:cNvSpPr/>
              <p:nvPr/>
            </p:nvSpPr>
            <p:spPr>
              <a:xfrm>
                <a:off x="1430280" y="325620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11425"/>
              <p:cNvSpPr/>
              <p:nvPr/>
            </p:nvSpPr>
            <p:spPr>
              <a:xfrm>
                <a:off x="1658880" y="269568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11426"/>
              <p:cNvSpPr/>
              <p:nvPr/>
            </p:nvSpPr>
            <p:spPr>
              <a:xfrm>
                <a:off x="1225440" y="26431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任意多边形 11427"/>
              <p:cNvSpPr/>
              <p:nvPr/>
            </p:nvSpPr>
            <p:spPr>
              <a:xfrm>
                <a:off x="973080" y="28447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闪电形 11430"/>
              <p:cNvSpPr/>
              <p:nvPr/>
            </p:nvSpPr>
            <p:spPr>
              <a:xfrm flipH="1">
                <a:off x="1505520" y="313236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闪电形 11431"/>
              <p:cNvSpPr/>
              <p:nvPr/>
            </p:nvSpPr>
            <p:spPr>
              <a:xfrm flipH="1">
                <a:off x="973080" y="330696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闪电形 11432"/>
              <p:cNvSpPr/>
              <p:nvPr/>
            </p:nvSpPr>
            <p:spPr>
              <a:xfrm flipH="1">
                <a:off x="1838880" y="351000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闪电形 11433"/>
              <p:cNvSpPr/>
              <p:nvPr/>
            </p:nvSpPr>
            <p:spPr>
              <a:xfrm flipH="1">
                <a:off x="1124640" y="354168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任意多边形 11434"/>
              <p:cNvSpPr/>
              <p:nvPr/>
            </p:nvSpPr>
            <p:spPr>
              <a:xfrm>
                <a:off x="1353960" y="361656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任意多边形 11435"/>
              <p:cNvSpPr/>
              <p:nvPr/>
            </p:nvSpPr>
            <p:spPr>
              <a:xfrm>
                <a:off x="1711080" y="320688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11436"/>
              <p:cNvSpPr/>
              <p:nvPr/>
            </p:nvSpPr>
            <p:spPr>
              <a:xfrm rot="5400000">
                <a:off x="1252080" y="3205440"/>
                <a:ext cx="52200" cy="51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任意多边形 11437"/>
              <p:cNvSpPr/>
              <p:nvPr/>
            </p:nvSpPr>
            <p:spPr>
              <a:xfrm>
                <a:off x="1558800" y="343548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任意多边形 11438"/>
              <p:cNvSpPr/>
              <p:nvPr/>
            </p:nvSpPr>
            <p:spPr>
              <a:xfrm rot="16200000">
                <a:off x="1785600" y="320508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任意多边形 11439"/>
              <p:cNvSpPr/>
              <p:nvPr/>
            </p:nvSpPr>
            <p:spPr>
              <a:xfrm>
                <a:off x="920520" y="31305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任意多边形 11440"/>
              <p:cNvSpPr/>
              <p:nvPr/>
            </p:nvSpPr>
            <p:spPr>
              <a:xfrm>
                <a:off x="772920" y="300060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闪电形 11443"/>
              <p:cNvSpPr/>
              <p:nvPr/>
            </p:nvSpPr>
            <p:spPr>
              <a:xfrm flipH="1">
                <a:off x="1535040" y="280044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闪电形 11445"/>
              <p:cNvSpPr/>
              <p:nvPr/>
            </p:nvSpPr>
            <p:spPr>
              <a:xfrm flipH="1" rot="16200000">
                <a:off x="1175040" y="3615840"/>
                <a:ext cx="76320" cy="7416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闪电形 11446"/>
              <p:cNvSpPr/>
              <p:nvPr/>
            </p:nvSpPr>
            <p:spPr>
              <a:xfrm flipH="1">
                <a:off x="1581840" y="29527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闪电形 11447"/>
              <p:cNvSpPr/>
              <p:nvPr/>
            </p:nvSpPr>
            <p:spPr>
              <a:xfrm flipH="1">
                <a:off x="1353240" y="26431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任意多边形 11448"/>
              <p:cNvSpPr/>
              <p:nvPr/>
            </p:nvSpPr>
            <p:spPr>
              <a:xfrm>
                <a:off x="1125360" y="287496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闪电形 11451"/>
              <p:cNvSpPr/>
              <p:nvPr/>
            </p:nvSpPr>
            <p:spPr>
              <a:xfrm flipH="1">
                <a:off x="1838880" y="29527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闪电形 11452"/>
              <p:cNvSpPr/>
              <p:nvPr/>
            </p:nvSpPr>
            <p:spPr>
              <a:xfrm flipH="1">
                <a:off x="1763640" y="3256200"/>
                <a:ext cx="7560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闪电形 11453"/>
              <p:cNvSpPr/>
              <p:nvPr/>
            </p:nvSpPr>
            <p:spPr>
              <a:xfrm flipH="1">
                <a:off x="1710360" y="2844720"/>
                <a:ext cx="7596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闪电形 11454"/>
              <p:cNvSpPr/>
              <p:nvPr/>
            </p:nvSpPr>
            <p:spPr>
              <a:xfrm flipH="1">
                <a:off x="1838880" y="3308400"/>
                <a:ext cx="7596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闪电形 11455"/>
              <p:cNvSpPr/>
              <p:nvPr/>
            </p:nvSpPr>
            <p:spPr>
              <a:xfrm flipH="1" rot="4740000">
                <a:off x="1913400" y="3175200"/>
                <a:ext cx="75960" cy="7416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闪电形 11456"/>
              <p:cNvSpPr/>
              <p:nvPr/>
            </p:nvSpPr>
            <p:spPr>
              <a:xfrm flipH="1" rot="4740000">
                <a:off x="1912680" y="3383280"/>
                <a:ext cx="76320" cy="7452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任意多边形 11457"/>
              <p:cNvSpPr/>
              <p:nvPr/>
            </p:nvSpPr>
            <p:spPr>
              <a:xfrm>
                <a:off x="1763640" y="3584520"/>
                <a:ext cx="5184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闪电形 11458"/>
              <p:cNvSpPr/>
              <p:nvPr/>
            </p:nvSpPr>
            <p:spPr>
              <a:xfrm flipH="1">
                <a:off x="1330200" y="3382920"/>
                <a:ext cx="7560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任意多边形 11459"/>
              <p:cNvSpPr/>
              <p:nvPr/>
            </p:nvSpPr>
            <p:spPr>
              <a:xfrm>
                <a:off x="1406160" y="29275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cubicBezTo>
                      <a:pt x="11" y="22"/>
                      <a:pt x="33" y="0"/>
                      <a:pt x="33" y="0"/>
                    </a:cubicBezTo>
                    <a:cubicBezTo>
                      <a:pt x="33" y="0"/>
                      <a:pt x="11" y="22"/>
                      <a:pt x="0" y="33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闪电形 11460"/>
              <p:cNvSpPr/>
              <p:nvPr/>
            </p:nvSpPr>
            <p:spPr>
              <a:xfrm flipH="1">
                <a:off x="1101600" y="2643120"/>
                <a:ext cx="75600" cy="74880"/>
              </a:xfrm>
              <a:prstGeom prst="lightningBol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文本框 11464"/>
            <p:cNvSpPr/>
            <p:nvPr/>
          </p:nvSpPr>
          <p:spPr>
            <a:xfrm>
              <a:off x="720720" y="292572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细菌真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11467"/>
          <p:cNvGrpSpPr/>
          <p:nvPr/>
        </p:nvGrpSpPr>
        <p:grpSpPr>
          <a:xfrm>
            <a:off x="3273480" y="4456080"/>
            <a:ext cx="2381040" cy="1892160"/>
            <a:chOff x="3273480" y="4456080"/>
            <a:chExt cx="2381040" cy="1892160"/>
          </a:xfrm>
        </p:grpSpPr>
        <p:pic>
          <p:nvPicPr>
            <p:cNvPr id="152" name="对象 11266" descr=""/>
            <p:cNvPicPr/>
            <p:nvPr/>
          </p:nvPicPr>
          <p:blipFill>
            <a:blip r:embed="rId2"/>
            <a:stretch/>
          </p:blipFill>
          <p:spPr>
            <a:xfrm>
              <a:off x="3273480" y="4456080"/>
              <a:ext cx="238104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文本框 11465"/>
            <p:cNvSpPr/>
            <p:nvPr/>
          </p:nvSpPr>
          <p:spPr>
            <a:xfrm>
              <a:off x="3882960" y="5141880"/>
              <a:ext cx="121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动 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组合 11509"/>
          <p:cNvGrpSpPr/>
          <p:nvPr/>
        </p:nvGrpSpPr>
        <p:grpSpPr>
          <a:xfrm>
            <a:off x="5463360" y="341280"/>
            <a:ext cx="3392280" cy="2053440"/>
            <a:chOff x="5463360" y="341280"/>
            <a:chExt cx="3392280" cy="2053440"/>
          </a:xfrm>
        </p:grpSpPr>
        <p:sp>
          <p:nvSpPr>
            <p:cNvPr id="155" name="上弧形箭头 11470"/>
            <p:cNvSpPr/>
            <p:nvPr/>
          </p:nvSpPr>
          <p:spPr>
            <a:xfrm rot="1470600">
              <a:off x="5444640" y="1056960"/>
              <a:ext cx="3429000" cy="655920"/>
            </a:xfrm>
            <a:custGeom>
              <a:avLst/>
              <a:gdLst>
                <a:gd name="textAreaLeft" fmla="*/ 600120 w 3429000"/>
                <a:gd name="textAreaRight" fmla="*/ 2486160 w 3429000"/>
                <a:gd name="textAreaTop" fmla="*/ 87840 h 655920"/>
                <a:gd name="textAreaBottom" fmla="*/ 568080 h 65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组合 11487"/>
            <p:cNvGrpSpPr/>
            <p:nvPr/>
          </p:nvGrpSpPr>
          <p:grpSpPr>
            <a:xfrm>
              <a:off x="6416280" y="341280"/>
              <a:ext cx="1593360" cy="1068480"/>
              <a:chOff x="6416280" y="341280"/>
              <a:chExt cx="1593360" cy="1068480"/>
            </a:xfrm>
          </p:grpSpPr>
          <p:sp>
            <p:nvSpPr>
              <p:cNvPr id="157" name="文本框 11477"/>
              <p:cNvSpPr/>
              <p:nvPr/>
            </p:nvSpPr>
            <p:spPr>
              <a:xfrm>
                <a:off x="6416280" y="34128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矩形 11479"/>
              <p:cNvSpPr/>
              <p:nvPr/>
            </p:nvSpPr>
            <p:spPr>
              <a:xfrm>
                <a:off x="6899400" y="4935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合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矩形 11480"/>
              <p:cNvSpPr/>
              <p:nvPr/>
            </p:nvSpPr>
            <p:spPr>
              <a:xfrm>
                <a:off x="7261200" y="6458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矩形 11481"/>
              <p:cNvSpPr/>
              <p:nvPr/>
            </p:nvSpPr>
            <p:spPr>
              <a:xfrm>
                <a:off x="7585200" y="8283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组合 11508"/>
          <p:cNvGrpSpPr/>
          <p:nvPr/>
        </p:nvGrpSpPr>
        <p:grpSpPr>
          <a:xfrm>
            <a:off x="4916160" y="991440"/>
            <a:ext cx="2784240" cy="1599840"/>
            <a:chOff x="4916160" y="991440"/>
            <a:chExt cx="2784240" cy="1599840"/>
          </a:xfrm>
        </p:grpSpPr>
        <p:sp>
          <p:nvSpPr>
            <p:cNvPr id="162" name="上弧形箭头 11482"/>
            <p:cNvSpPr/>
            <p:nvPr/>
          </p:nvSpPr>
          <p:spPr>
            <a:xfrm flipH="1" flipV="1" rot="1470600">
              <a:off x="4882680" y="1562040"/>
              <a:ext cx="2850840" cy="458640"/>
            </a:xfrm>
            <a:custGeom>
              <a:avLst/>
              <a:gdLst>
                <a:gd name="textAreaLeft" fmla="*/ 498600 w 2850840"/>
                <a:gd name="textAreaRight" fmla="*/ 2066760 w 2850840"/>
                <a:gd name="textAreaTop" fmla="*/ 61200 h 458640"/>
                <a:gd name="textAreaBottom" fmla="*/ 397440 h 45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组合 11488"/>
            <p:cNvGrpSpPr/>
            <p:nvPr/>
          </p:nvGrpSpPr>
          <p:grpSpPr>
            <a:xfrm>
              <a:off x="5832720" y="1441440"/>
              <a:ext cx="1567440" cy="852840"/>
              <a:chOff x="5832720" y="1441440"/>
              <a:chExt cx="1567440" cy="852840"/>
            </a:xfrm>
          </p:grpSpPr>
          <p:sp>
            <p:nvSpPr>
              <p:cNvPr id="164" name="矩形 11483"/>
              <p:cNvSpPr/>
              <p:nvPr/>
            </p:nvSpPr>
            <p:spPr>
              <a:xfrm>
                <a:off x="5832720" y="14414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呼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矩形 11484"/>
              <p:cNvSpPr/>
              <p:nvPr/>
            </p:nvSpPr>
            <p:spPr>
              <a:xfrm>
                <a:off x="6194520" y="16239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矩形 11485"/>
              <p:cNvSpPr/>
              <p:nvPr/>
            </p:nvSpPr>
            <p:spPr>
              <a:xfrm>
                <a:off x="6575400" y="17128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矩形 11486"/>
              <p:cNvSpPr/>
              <p:nvPr/>
            </p:nvSpPr>
            <p:spPr>
              <a:xfrm>
                <a:off x="6975720" y="17128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组合 11515"/>
          <p:cNvGrpSpPr/>
          <p:nvPr/>
        </p:nvGrpSpPr>
        <p:grpSpPr>
          <a:xfrm>
            <a:off x="427320" y="3843360"/>
            <a:ext cx="2793960" cy="2082600"/>
            <a:chOff x="427320" y="3843360"/>
            <a:chExt cx="2793960" cy="2082600"/>
          </a:xfrm>
        </p:grpSpPr>
        <p:sp>
          <p:nvSpPr>
            <p:cNvPr id="169" name="矩形 11492"/>
            <p:cNvSpPr/>
            <p:nvPr/>
          </p:nvSpPr>
          <p:spPr>
            <a:xfrm>
              <a:off x="1589400" y="4562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组合 11506"/>
            <p:cNvGrpSpPr/>
            <p:nvPr/>
          </p:nvGrpSpPr>
          <p:grpSpPr>
            <a:xfrm>
              <a:off x="427320" y="3843360"/>
              <a:ext cx="2793960" cy="2082600"/>
              <a:chOff x="427320" y="3843360"/>
              <a:chExt cx="2793960" cy="2082600"/>
            </a:xfrm>
          </p:grpSpPr>
          <p:sp>
            <p:nvSpPr>
              <p:cNvPr id="171" name="上弧形箭头 11472"/>
              <p:cNvSpPr/>
              <p:nvPr/>
            </p:nvSpPr>
            <p:spPr>
              <a:xfrm flipH="1" flipV="1" rot="2002200">
                <a:off x="319680" y="4627800"/>
                <a:ext cx="3008160" cy="512640"/>
              </a:xfrm>
              <a:custGeom>
                <a:avLst/>
                <a:gdLst>
                  <a:gd name="textAreaLeft" fmla="*/ 526320 w 3008160"/>
                  <a:gd name="textAreaRight" fmla="*/ 2180880 w 3008160"/>
                  <a:gd name="textAreaTop" fmla="*/ 68400 h 512640"/>
                  <a:gd name="textAreaBottom" fmla="*/ 444240 h 51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906"/>
                    <a:lnTo>
                      <a:pt x="21168" y="14401"/>
                    </a:lnTo>
                    <a:lnTo>
                      <a:pt x="17280" y="21600"/>
                    </a:lnTo>
                    <a:lnTo>
                      <a:pt x="12528" y="14401"/>
                    </a:lnTo>
                    <a:lnTo>
                      <a:pt x="14688" y="14401"/>
                    </a:lnTo>
                    <a:arcTo wR="7560" hR="21600" stAng="-2717094" swAng="-2325471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矩形 11493"/>
              <p:cNvSpPr/>
              <p:nvPr/>
            </p:nvSpPr>
            <p:spPr>
              <a:xfrm>
                <a:off x="1899000" y="47602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组合 11512"/>
          <p:cNvGrpSpPr/>
          <p:nvPr/>
        </p:nvGrpSpPr>
        <p:grpSpPr>
          <a:xfrm>
            <a:off x="1237680" y="248760"/>
            <a:ext cx="2391840" cy="2142360"/>
            <a:chOff x="1237680" y="248760"/>
            <a:chExt cx="2391840" cy="2142360"/>
          </a:xfrm>
        </p:grpSpPr>
        <p:sp>
          <p:nvSpPr>
            <p:cNvPr id="174" name="上弧形箭头 11473"/>
            <p:cNvSpPr/>
            <p:nvPr/>
          </p:nvSpPr>
          <p:spPr>
            <a:xfrm flipH="1" flipV="1" rot="8391600">
              <a:off x="1108800" y="1035000"/>
              <a:ext cx="2649240" cy="568440"/>
            </a:xfrm>
            <a:custGeom>
              <a:avLst/>
              <a:gdLst>
                <a:gd name="textAreaLeft" fmla="*/ 463320 w 2649240"/>
                <a:gd name="textAreaRight" fmla="*/ 1920600 w 2649240"/>
                <a:gd name="textAreaTop" fmla="*/ 75960 h 568440"/>
                <a:gd name="textAreaBottom" fmla="*/ 49248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组合 11498"/>
            <p:cNvGrpSpPr/>
            <p:nvPr/>
          </p:nvGrpSpPr>
          <p:grpSpPr>
            <a:xfrm>
              <a:off x="1898640" y="798480"/>
              <a:ext cx="910440" cy="1344960"/>
              <a:chOff x="1898640" y="798480"/>
              <a:chExt cx="910440" cy="1344960"/>
            </a:xfrm>
          </p:grpSpPr>
          <p:sp>
            <p:nvSpPr>
              <p:cNvPr id="176" name="矩形 11494"/>
              <p:cNvSpPr/>
              <p:nvPr/>
            </p:nvSpPr>
            <p:spPr>
              <a:xfrm>
                <a:off x="1898640" y="15620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分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矩形 11495"/>
              <p:cNvSpPr/>
              <p:nvPr/>
            </p:nvSpPr>
            <p:spPr>
              <a:xfrm>
                <a:off x="1927440" y="12855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矩形 11496"/>
              <p:cNvSpPr/>
              <p:nvPr/>
            </p:nvSpPr>
            <p:spPr>
              <a:xfrm>
                <a:off x="2079720" y="10252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矩形 11497"/>
              <p:cNvSpPr/>
              <p:nvPr/>
            </p:nvSpPr>
            <p:spPr>
              <a:xfrm>
                <a:off x="2384640" y="7984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组合 11507"/>
          <p:cNvGrpSpPr/>
          <p:nvPr/>
        </p:nvGrpSpPr>
        <p:grpSpPr>
          <a:xfrm>
            <a:off x="4524480" y="1604160"/>
            <a:ext cx="672480" cy="3228840"/>
            <a:chOff x="4524480" y="1604160"/>
            <a:chExt cx="672480" cy="3228840"/>
          </a:xfrm>
        </p:grpSpPr>
        <p:sp>
          <p:nvSpPr>
            <p:cNvPr id="181" name="左箭头 11476"/>
            <p:cNvSpPr/>
            <p:nvPr/>
          </p:nvSpPr>
          <p:spPr>
            <a:xfrm flipV="1" rot="5400000">
              <a:off x="3001680" y="3126240"/>
              <a:ext cx="3228840" cy="183600"/>
            </a:xfrm>
            <a:prstGeom prst="leftArrow">
              <a:avLst>
                <a:gd name="adj1" fmla="val 50000"/>
                <a:gd name="adj2" fmla="val 439575"/>
              </a:avLst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文本框 11500"/>
            <p:cNvSpPr/>
            <p:nvPr/>
          </p:nvSpPr>
          <p:spPr>
            <a:xfrm>
              <a:off x="4644720" y="1858680"/>
              <a:ext cx="552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呼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文本框 11501"/>
          <p:cNvSpPr/>
          <p:nvPr/>
        </p:nvSpPr>
        <p:spPr>
          <a:xfrm>
            <a:off x="8550360" y="2643120"/>
            <a:ext cx="2030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1502"/>
          <p:cNvSpPr/>
          <p:nvPr/>
        </p:nvSpPr>
        <p:spPr>
          <a:xfrm>
            <a:off x="3673440" y="62085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11503"/>
          <p:cNvSpPr/>
          <p:nvPr/>
        </p:nvSpPr>
        <p:spPr>
          <a:xfrm>
            <a:off x="349920" y="2747880"/>
            <a:ext cx="3636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组合 11505"/>
          <p:cNvGrpSpPr/>
          <p:nvPr/>
        </p:nvGrpSpPr>
        <p:grpSpPr>
          <a:xfrm>
            <a:off x="2116080" y="3176640"/>
            <a:ext cx="5138640" cy="664200"/>
            <a:chOff x="2116080" y="3176640"/>
            <a:chExt cx="5138640" cy="664200"/>
          </a:xfrm>
        </p:grpSpPr>
        <p:sp>
          <p:nvSpPr>
            <p:cNvPr id="187" name="左箭头 11475"/>
            <p:cNvSpPr/>
            <p:nvPr/>
          </p:nvSpPr>
          <p:spPr>
            <a:xfrm>
              <a:off x="2116080" y="3176640"/>
              <a:ext cx="5138640" cy="258840"/>
            </a:xfrm>
            <a:prstGeom prst="leftArrow">
              <a:avLst>
                <a:gd name="adj1" fmla="val 50000"/>
                <a:gd name="adj2" fmla="val 496222"/>
              </a:avLst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文本框 11504"/>
            <p:cNvSpPr/>
            <p:nvPr/>
          </p:nvSpPr>
          <p:spPr>
            <a:xfrm>
              <a:off x="5292360" y="3259440"/>
              <a:ext cx="11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尸 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文本框 11516"/>
          <p:cNvSpPr/>
          <p:nvPr/>
        </p:nvSpPr>
        <p:spPr>
          <a:xfrm>
            <a:off x="162000" y="316080"/>
            <a:ext cx="35971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碳在自然界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的循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组合 11519"/>
          <p:cNvGrpSpPr/>
          <p:nvPr/>
        </p:nvGrpSpPr>
        <p:grpSpPr>
          <a:xfrm>
            <a:off x="5001480" y="4039920"/>
            <a:ext cx="3762720" cy="2586240"/>
            <a:chOff x="5001480" y="4039920"/>
            <a:chExt cx="3762720" cy="2586240"/>
          </a:xfrm>
        </p:grpSpPr>
        <p:sp>
          <p:nvSpPr>
            <p:cNvPr id="191" name="上弧形箭头 11471"/>
            <p:cNvSpPr/>
            <p:nvPr/>
          </p:nvSpPr>
          <p:spPr>
            <a:xfrm rot="8969400">
              <a:off x="4892040" y="5005080"/>
              <a:ext cx="3981240" cy="655560"/>
            </a:xfrm>
            <a:custGeom>
              <a:avLst/>
              <a:gdLst>
                <a:gd name="textAreaLeft" fmla="*/ 696600 w 3981240"/>
                <a:gd name="textAreaRight" fmla="*/ 2886480 w 3981240"/>
                <a:gd name="textAreaTop" fmla="*/ 87840 h 655560"/>
                <a:gd name="textAreaBottom" fmla="*/ 567720 h 6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组合 11518"/>
            <p:cNvGrpSpPr/>
            <p:nvPr/>
          </p:nvGrpSpPr>
          <p:grpSpPr>
            <a:xfrm>
              <a:off x="6747120" y="4629240"/>
              <a:ext cx="999360" cy="1033920"/>
              <a:chOff x="6747120" y="4629240"/>
              <a:chExt cx="999360" cy="1033920"/>
            </a:xfrm>
          </p:grpSpPr>
          <p:sp>
            <p:nvSpPr>
              <p:cNvPr id="193" name="文本框 11489"/>
              <p:cNvSpPr/>
              <p:nvPr/>
            </p:nvSpPr>
            <p:spPr>
              <a:xfrm>
                <a:off x="7007400" y="4906800"/>
                <a:ext cx="47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摄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矩形 11490"/>
              <p:cNvSpPr/>
              <p:nvPr/>
            </p:nvSpPr>
            <p:spPr>
              <a:xfrm>
                <a:off x="6747120" y="50817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食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矩形 11517"/>
              <p:cNvSpPr/>
              <p:nvPr/>
            </p:nvSpPr>
            <p:spPr>
              <a:xfrm>
                <a:off x="7322040" y="46292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被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b97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3401"/>
          <p:cNvGrpSpPr/>
          <p:nvPr/>
        </p:nvGrpSpPr>
        <p:grpSpPr>
          <a:xfrm>
            <a:off x="748080" y="2971800"/>
            <a:ext cx="5832000" cy="2590560"/>
            <a:chOff x="748080" y="2971800"/>
            <a:chExt cx="5832000" cy="2590560"/>
          </a:xfrm>
        </p:grpSpPr>
        <p:grpSp>
          <p:nvGrpSpPr>
            <p:cNvPr id="198" name="组合 13400"/>
            <p:cNvGrpSpPr/>
            <p:nvPr/>
          </p:nvGrpSpPr>
          <p:grpSpPr>
            <a:xfrm>
              <a:off x="2514600" y="5181480"/>
              <a:ext cx="4065480" cy="380880"/>
              <a:chOff x="2514600" y="5181480"/>
              <a:chExt cx="4065480" cy="380880"/>
            </a:xfrm>
          </p:grpSpPr>
          <p:sp>
            <p:nvSpPr>
              <p:cNvPr id="199" name="五边形 13317"/>
              <p:cNvSpPr/>
              <p:nvPr/>
            </p:nvSpPr>
            <p:spPr>
              <a:xfrm>
                <a:off x="4267080" y="5181480"/>
                <a:ext cx="2313000" cy="380880"/>
              </a:xfrm>
              <a:custGeom>
                <a:avLst/>
                <a:gdLst>
                  <a:gd name="textAreaLeft" fmla="*/ 0 w 2313000"/>
                  <a:gd name="textAreaRight" fmla="*/ 2313360 w 23130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" y="0"/>
                    </a:lnTo>
                    <a:lnTo>
                      <a:pt x="21600" y="10800"/>
                    </a:lnTo>
                    <a:lnTo>
                      <a:pt x="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cba00"/>
              </a:solidFill>
              <a:ln w="9360">
                <a:solidFill>
                  <a:srgbClr val="81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矩形 13318"/>
              <p:cNvSpPr/>
              <p:nvPr/>
            </p:nvSpPr>
            <p:spPr>
              <a:xfrm flipH="1">
                <a:off x="2514600" y="5181480"/>
                <a:ext cx="1752480" cy="380880"/>
              </a:xfrm>
              <a:prstGeom prst="rect">
                <a:avLst/>
              </a:prstGeom>
              <a:solidFill>
                <a:srgbClr val="7cba00"/>
              </a:solidFill>
              <a:ln w="9360">
                <a:solidFill>
                  <a:srgbClr val="81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组合 13398"/>
            <p:cNvGrpSpPr/>
            <p:nvPr/>
          </p:nvGrpSpPr>
          <p:grpSpPr>
            <a:xfrm>
              <a:off x="748080" y="2971800"/>
              <a:ext cx="2680200" cy="2514240"/>
              <a:chOff x="748080" y="2971800"/>
              <a:chExt cx="2680200" cy="2514240"/>
            </a:xfrm>
          </p:grpSpPr>
          <p:sp>
            <p:nvSpPr>
              <p:cNvPr id="202" name="右弧形箭头 13315"/>
              <p:cNvSpPr/>
              <p:nvPr/>
            </p:nvSpPr>
            <p:spPr>
              <a:xfrm flipH="1" flipV="1">
                <a:off x="882000" y="3267720"/>
                <a:ext cx="2545560" cy="2218320"/>
              </a:xfrm>
              <a:custGeom>
                <a:avLst/>
                <a:gdLst>
                  <a:gd name="textAreaLeft" fmla="*/ 340920 w 2545560"/>
                  <a:gd name="textAreaRight" fmla="*/ 2204640 w 2545560"/>
                  <a:gd name="textAreaTop" fmla="*/ 492840 h 2218320"/>
                  <a:gd name="textAreaBottom" fmla="*/ 1705680 h 221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9590" stAng="-5400000" swAng="5400000"/>
                    <a:lnTo>
                      <a:pt x="21600" y="11810"/>
                    </a:lnTo>
                    <a:arcTo wR="21600" hR="9590" stAng="0" swAng="3227795"/>
                    <a:lnTo>
                      <a:pt x="6676" y="21130"/>
                    </a:lnTo>
                    <a:lnTo>
                      <a:pt x="0" y="20290"/>
                    </a:lnTo>
                    <a:lnTo>
                      <a:pt x="6676" y="18510"/>
                    </a:lnTo>
                    <a:lnTo>
                      <a:pt x="6676" y="18710"/>
                    </a:lnTo>
                    <a:arcTo wR="21600" hR="9590" stAng="3227795" swAng="-3050096"/>
                    <a:lnTo>
                      <a:pt x="21455" y="10700"/>
                    </a:lnTo>
                    <a:arcTo wR="21600" hR="9590" stAng="-177699" swAng="-5222301"/>
                    <a:close/>
                  </a:path>
                  <a:path fill="darkenLess" w="21600" h="21600">
                    <a:moveTo>
                      <a:pt x="0" y="0"/>
                    </a:moveTo>
                    <a:arcTo wR="21600" hR="9590" stAng="-5400000" swAng="5400000"/>
                    <a:lnTo>
                      <a:pt x="21600" y="11810"/>
                    </a:lnTo>
                    <a:arcTo wR="21600" hR="9590" stAng="0" swAng="-177699"/>
                    <a:lnTo>
                      <a:pt x="21455" y="10700"/>
                    </a:lnTo>
                    <a:arcTo wR="21600" hR="9590" stAng="-177699" swAng="-5222301"/>
                    <a:close/>
                  </a:path>
                </a:pathLst>
              </a:custGeom>
              <a:solidFill>
                <a:srgbClr val="b2ef43"/>
              </a:solidFill>
              <a:ln w="9360">
                <a:solidFill>
                  <a:srgbClr val="09c3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组合 13319"/>
              <p:cNvGrpSpPr/>
              <p:nvPr/>
            </p:nvGrpSpPr>
            <p:grpSpPr>
              <a:xfrm>
                <a:off x="748080" y="2971800"/>
                <a:ext cx="2274840" cy="1141920"/>
                <a:chOff x="748080" y="2971800"/>
                <a:chExt cx="2274840" cy="1141920"/>
              </a:xfrm>
            </p:grpSpPr>
            <p:grpSp>
              <p:nvGrpSpPr>
                <p:cNvPr id="204" name="组合 13320"/>
                <p:cNvGrpSpPr/>
                <p:nvPr/>
              </p:nvGrpSpPr>
              <p:grpSpPr>
                <a:xfrm>
                  <a:off x="946800" y="2971800"/>
                  <a:ext cx="2076120" cy="993960"/>
                  <a:chOff x="946800" y="2971800"/>
                  <a:chExt cx="2076120" cy="993960"/>
                </a:xfrm>
              </p:grpSpPr>
              <p:sp>
                <p:nvSpPr>
                  <p:cNvPr id="205" name="矩形 13321"/>
                  <p:cNvSpPr/>
                  <p:nvPr/>
                </p:nvSpPr>
                <p:spPr>
                  <a:xfrm>
                    <a:off x="2659320" y="297180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水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矩形 13322"/>
                  <p:cNvSpPr/>
                  <p:nvPr/>
                </p:nvSpPr>
                <p:spPr>
                  <a:xfrm>
                    <a:off x="2395800" y="297180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生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矩形 13323"/>
                  <p:cNvSpPr/>
                  <p:nvPr/>
                </p:nvSpPr>
                <p:spPr>
                  <a:xfrm>
                    <a:off x="2170800" y="301644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矩形 13324"/>
                  <p:cNvSpPr/>
                  <p:nvPr/>
                </p:nvSpPr>
                <p:spPr>
                  <a:xfrm>
                    <a:off x="1868760" y="306288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物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矩形 13325"/>
                  <p:cNvSpPr/>
                  <p:nvPr/>
                </p:nvSpPr>
                <p:spPr>
                  <a:xfrm>
                    <a:off x="1605240" y="313632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的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矩形 13326"/>
                  <p:cNvSpPr/>
                  <p:nvPr/>
                </p:nvSpPr>
                <p:spPr>
                  <a:xfrm>
                    <a:off x="1341720" y="321192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矩形 13327"/>
                  <p:cNvSpPr/>
                  <p:nvPr/>
                </p:nvSpPr>
                <p:spPr>
                  <a:xfrm>
                    <a:off x="1143000" y="335808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合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矩形 13328"/>
                  <p:cNvSpPr/>
                  <p:nvPr/>
                </p:nvSpPr>
                <p:spPr>
                  <a:xfrm>
                    <a:off x="946800" y="3506040"/>
                    <a:ext cx="363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6c68f"/>
                        </a:solidFill>
                        <a:latin typeface="Times New Roman"/>
                        <a:ea typeface="隶书"/>
                      </a:rPr>
                      <a:t>作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矩形 13329"/>
                <p:cNvSpPr/>
                <p:nvPr/>
              </p:nvSpPr>
              <p:spPr>
                <a:xfrm>
                  <a:off x="748080" y="3654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" name="矩形 13330"/>
          <p:cNvSpPr/>
          <p:nvPr/>
        </p:nvSpPr>
        <p:spPr>
          <a:xfrm>
            <a:off x="5141880" y="-334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ccff"/>
                </a:solidFill>
                <a:latin typeface="Times New Roman"/>
              </a:rPr>
              <a:t>碳在自然界中的循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13331"/>
          <p:cNvSpPr/>
          <p:nvPr/>
        </p:nvSpPr>
        <p:spPr>
          <a:xfrm>
            <a:off x="3276720" y="1143000"/>
            <a:ext cx="2666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   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在大气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氧化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13332"/>
          <p:cNvSpPr/>
          <p:nvPr/>
        </p:nvSpPr>
        <p:spPr>
          <a:xfrm>
            <a:off x="3877920" y="3124080"/>
            <a:ext cx="154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99ff"/>
                </a:solidFill>
                <a:latin typeface="Times New Roman"/>
                <a:ea typeface="隶书"/>
              </a:rPr>
              <a:t>在水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二氧化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组合 13333"/>
          <p:cNvGrpSpPr/>
          <p:nvPr/>
        </p:nvGrpSpPr>
        <p:grpSpPr>
          <a:xfrm>
            <a:off x="5943600" y="533520"/>
            <a:ext cx="2819520" cy="5943600"/>
            <a:chOff x="5943600" y="533520"/>
            <a:chExt cx="2819520" cy="5943600"/>
          </a:xfrm>
        </p:grpSpPr>
        <p:sp>
          <p:nvSpPr>
            <p:cNvPr id="218" name="右弧形箭头 13334"/>
            <p:cNvSpPr/>
            <p:nvPr/>
          </p:nvSpPr>
          <p:spPr>
            <a:xfrm flipV="1">
              <a:off x="5943600" y="533160"/>
              <a:ext cx="2819520" cy="5943600"/>
            </a:xfrm>
            <a:custGeom>
              <a:avLst/>
              <a:gdLst>
                <a:gd name="textAreaLeft" fmla="*/ 377640 w 2819520"/>
                <a:gd name="textAreaRight" fmla="*/ 2441880 w 2819520"/>
                <a:gd name="textAreaTop" fmla="*/ 1233720 h 5943600"/>
                <a:gd name="textAreaBottom" fmla="*/ 4088160 h 594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966" stAng="-5400000" swAng="5400000"/>
                  <a:lnTo>
                    <a:pt x="21600" y="10373"/>
                  </a:lnTo>
                  <a:arcTo wR="21600" hR="8966" stAng="0" swAng="2974817"/>
                  <a:lnTo>
                    <a:pt x="7199" y="21087"/>
                  </a:lnTo>
                  <a:lnTo>
                    <a:pt x="0" y="18635"/>
                  </a:lnTo>
                  <a:lnTo>
                    <a:pt x="7199" y="15156"/>
                  </a:lnTo>
                  <a:lnTo>
                    <a:pt x="7199" y="17418"/>
                  </a:lnTo>
                  <a:arcTo wR="21600" hR="8966" stAng="2974817" swAng="-2862545"/>
                  <a:lnTo>
                    <a:pt x="21533" y="9669"/>
                  </a:lnTo>
                  <a:arcTo wR="21600" hR="8966" stAng="-112272" swAng="-5287728"/>
                  <a:close/>
                </a:path>
                <a:path fill="darkenLess" w="21600" h="21600">
                  <a:moveTo>
                    <a:pt x="0" y="0"/>
                  </a:moveTo>
                  <a:arcTo wR="21600" hR="8966" stAng="-5400000" swAng="5400000"/>
                  <a:lnTo>
                    <a:pt x="21600" y="10373"/>
                  </a:lnTo>
                  <a:arcTo wR="21600" hR="8966" stAng="0" swAng="-112272"/>
                  <a:lnTo>
                    <a:pt x="21533" y="9669"/>
                  </a:lnTo>
                  <a:arcTo wR="21600" hR="8966" stAng="-112272" swAng="-5287728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右弧形箭头 13335"/>
            <p:cNvSpPr/>
            <p:nvPr/>
          </p:nvSpPr>
          <p:spPr>
            <a:xfrm flipV="1">
              <a:off x="5943600" y="3047400"/>
              <a:ext cx="2362320" cy="3429000"/>
            </a:xfrm>
            <a:custGeom>
              <a:avLst/>
              <a:gdLst>
                <a:gd name="textAreaLeft" fmla="*/ 316440 w 2362320"/>
                <a:gd name="textAreaRight" fmla="*/ 2045880 w 2362320"/>
                <a:gd name="textAreaTop" fmla="*/ 699120 h 3429000"/>
                <a:gd name="textAreaBottom" fmla="*/ 239688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812" stAng="-5400000" swAng="5400000"/>
                  <a:lnTo>
                    <a:pt x="21600" y="10694"/>
                  </a:lnTo>
                  <a:arcTo wR="21600" hR="8812" stAng="0" swAng="2945473"/>
                  <a:lnTo>
                    <a:pt x="7199" y="21096"/>
                  </a:lnTo>
                  <a:lnTo>
                    <a:pt x="0" y="18565"/>
                  </a:lnTo>
                  <a:lnTo>
                    <a:pt x="7199" y="15026"/>
                  </a:lnTo>
                  <a:lnTo>
                    <a:pt x="7199" y="17120"/>
                  </a:lnTo>
                  <a:arcTo wR="21600" hR="8812" stAng="2945473" swAng="-2794943"/>
                  <a:lnTo>
                    <a:pt x="21476" y="9753"/>
                  </a:lnTo>
                  <a:arcTo wR="21600" hR="8812" stAng="-150530" swAng="-5249470"/>
                  <a:close/>
                </a:path>
                <a:path fill="darkenLess" w="21600" h="21600">
                  <a:moveTo>
                    <a:pt x="0" y="0"/>
                  </a:moveTo>
                  <a:arcTo wR="21600" hR="8812" stAng="-5400000" swAng="5400000"/>
                  <a:lnTo>
                    <a:pt x="21600" y="10694"/>
                  </a:lnTo>
                  <a:arcTo wR="21600" hR="8812" stAng="0" swAng="-150530"/>
                  <a:lnTo>
                    <a:pt x="21476" y="9753"/>
                  </a:lnTo>
                  <a:arcTo wR="21600" hR="8812" stAng="-150530" swAng="-524947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上箭头 13336"/>
          <p:cNvSpPr/>
          <p:nvPr/>
        </p:nvSpPr>
        <p:spPr>
          <a:xfrm>
            <a:off x="3809880" y="190512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上箭头 13337"/>
          <p:cNvSpPr/>
          <p:nvPr/>
        </p:nvSpPr>
        <p:spPr>
          <a:xfrm>
            <a:off x="4724280" y="190512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上箭头 13338"/>
          <p:cNvSpPr/>
          <p:nvPr/>
        </p:nvSpPr>
        <p:spPr>
          <a:xfrm flipV="1">
            <a:off x="4267080" y="198036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上箭头 13339"/>
          <p:cNvSpPr/>
          <p:nvPr/>
        </p:nvSpPr>
        <p:spPr>
          <a:xfrm flipV="1">
            <a:off x="5257800" y="198036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组合 13340"/>
          <p:cNvGrpSpPr/>
          <p:nvPr/>
        </p:nvGrpSpPr>
        <p:grpSpPr>
          <a:xfrm>
            <a:off x="2438280" y="5562720"/>
            <a:ext cx="2819160" cy="533160"/>
            <a:chOff x="2438280" y="5562720"/>
            <a:chExt cx="2819160" cy="533160"/>
          </a:xfrm>
        </p:grpSpPr>
        <p:sp>
          <p:nvSpPr>
            <p:cNvPr id="225" name="左弧形箭头 13341"/>
            <p:cNvSpPr/>
            <p:nvPr/>
          </p:nvSpPr>
          <p:spPr>
            <a:xfrm>
              <a:off x="312408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左弧形箭头 13342"/>
            <p:cNvSpPr/>
            <p:nvPr/>
          </p:nvSpPr>
          <p:spPr>
            <a:xfrm>
              <a:off x="243828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左弧形箭头 13343"/>
            <p:cNvSpPr/>
            <p:nvPr/>
          </p:nvSpPr>
          <p:spPr>
            <a:xfrm>
              <a:off x="388584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左弧形箭头 13344"/>
            <p:cNvSpPr/>
            <p:nvPr/>
          </p:nvSpPr>
          <p:spPr>
            <a:xfrm>
              <a:off x="4571640" y="556272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组合 13345"/>
          <p:cNvGrpSpPr/>
          <p:nvPr/>
        </p:nvGrpSpPr>
        <p:grpSpPr>
          <a:xfrm>
            <a:off x="62640" y="1312560"/>
            <a:ext cx="3366000" cy="4267080"/>
            <a:chOff x="62640" y="1312560"/>
            <a:chExt cx="3366000" cy="4267080"/>
          </a:xfrm>
        </p:grpSpPr>
        <p:sp>
          <p:nvSpPr>
            <p:cNvPr id="230" name="右弧形箭头 13346"/>
            <p:cNvSpPr/>
            <p:nvPr/>
          </p:nvSpPr>
          <p:spPr>
            <a:xfrm flipH="1" flipV="1">
              <a:off x="379800" y="1312200"/>
              <a:ext cx="3048120" cy="4267080"/>
            </a:xfrm>
            <a:custGeom>
              <a:avLst/>
              <a:gdLst>
                <a:gd name="textAreaLeft" fmla="*/ 408240 w 3048120"/>
                <a:gd name="textAreaRight" fmla="*/ 2639880 w 3048120"/>
                <a:gd name="textAreaTop" fmla="*/ 982440 h 4267080"/>
                <a:gd name="textAreaBottom" fmla="*/ 324468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950" stAng="-5400000" swAng="5400000"/>
                  <a:lnTo>
                    <a:pt x="21600" y="11451"/>
                  </a:lnTo>
                  <a:arcTo wR="21600" hR="9950" stAng="0" swAng="3149774"/>
                  <a:lnTo>
                    <a:pt x="7199" y="21031"/>
                  </a:lnTo>
                  <a:lnTo>
                    <a:pt x="0" y="20650"/>
                  </a:lnTo>
                  <a:lnTo>
                    <a:pt x="7199" y="19130"/>
                  </a:lnTo>
                  <a:lnTo>
                    <a:pt x="7199" y="19330"/>
                  </a:lnTo>
                  <a:arcTo wR="21600" hR="9950" stAng="3149774" swAng="-3030035"/>
                  <a:lnTo>
                    <a:pt x="21538" y="10700"/>
                  </a:lnTo>
                  <a:arcTo wR="21600" hR="9950" stAng="-119739" swAng="-5280261"/>
                  <a:close/>
                </a:path>
                <a:path fill="darkenLess" w="21600" h="21600">
                  <a:moveTo>
                    <a:pt x="0" y="0"/>
                  </a:moveTo>
                  <a:arcTo wR="21600" hR="9950" stAng="-5400000" swAng="5400000"/>
                  <a:lnTo>
                    <a:pt x="21600" y="11451"/>
                  </a:lnTo>
                  <a:arcTo wR="21600" hR="9950" stAng="0" swAng="-119739"/>
                  <a:lnTo>
                    <a:pt x="21538" y="10700"/>
                  </a:lnTo>
                  <a:arcTo wR="21600" hR="9950" stAng="-119739" swAng="-5280261"/>
                  <a:close/>
                </a:path>
              </a:pathLst>
            </a:custGeom>
            <a:solidFill>
              <a:srgbClr val="b2ef43"/>
            </a:solidFill>
            <a:ln w="9360">
              <a:solidFill>
                <a:srgbClr val="09c3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组合 13347"/>
            <p:cNvGrpSpPr/>
            <p:nvPr/>
          </p:nvGrpSpPr>
          <p:grpSpPr>
            <a:xfrm>
              <a:off x="62640" y="1312920"/>
              <a:ext cx="1842480" cy="1907640"/>
              <a:chOff x="62640" y="1312920"/>
              <a:chExt cx="1842480" cy="1907640"/>
            </a:xfrm>
          </p:grpSpPr>
          <p:grpSp>
            <p:nvGrpSpPr>
              <p:cNvPr id="232" name="组合 13348"/>
              <p:cNvGrpSpPr/>
              <p:nvPr/>
            </p:nvGrpSpPr>
            <p:grpSpPr>
              <a:xfrm>
                <a:off x="138960" y="1312920"/>
                <a:ext cx="1766160" cy="1679040"/>
                <a:chOff x="138960" y="1312920"/>
                <a:chExt cx="1766160" cy="1679040"/>
              </a:xfrm>
            </p:grpSpPr>
            <p:sp>
              <p:nvSpPr>
                <p:cNvPr id="233" name="矩形 13349"/>
                <p:cNvSpPr/>
                <p:nvPr/>
              </p:nvSpPr>
              <p:spPr>
                <a:xfrm>
                  <a:off x="1205640" y="13892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矩形 13350"/>
                <p:cNvSpPr/>
                <p:nvPr/>
              </p:nvSpPr>
              <p:spPr>
                <a:xfrm>
                  <a:off x="564120" y="192276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矩形 13351"/>
                <p:cNvSpPr/>
                <p:nvPr/>
              </p:nvSpPr>
              <p:spPr>
                <a:xfrm>
                  <a:off x="367560" y="20750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文本框 13352"/>
                <p:cNvSpPr/>
                <p:nvPr/>
              </p:nvSpPr>
              <p:spPr>
                <a:xfrm>
                  <a:off x="1447920" y="13129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矩形 13353"/>
                <p:cNvSpPr/>
                <p:nvPr/>
              </p:nvSpPr>
              <p:spPr>
                <a:xfrm>
                  <a:off x="977040" y="154152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矩形 13354"/>
                <p:cNvSpPr/>
                <p:nvPr/>
              </p:nvSpPr>
              <p:spPr>
                <a:xfrm>
                  <a:off x="748440" y="169416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物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文本框 13355"/>
                <p:cNvSpPr/>
                <p:nvPr/>
              </p:nvSpPr>
              <p:spPr>
                <a:xfrm>
                  <a:off x="152280" y="230364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合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矩形 13356"/>
                <p:cNvSpPr/>
                <p:nvPr/>
              </p:nvSpPr>
              <p:spPr>
                <a:xfrm>
                  <a:off x="138960" y="25322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6c68f"/>
                      </a:solidFill>
                      <a:latin typeface="Times New Roman"/>
                      <a:ea typeface="隶书"/>
                    </a:rPr>
                    <a:t>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矩形 13357"/>
              <p:cNvSpPr/>
              <p:nvPr/>
            </p:nvSpPr>
            <p:spPr>
              <a:xfrm>
                <a:off x="62640" y="27608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6c68f"/>
                    </a:solidFill>
                    <a:latin typeface="Times New Roman"/>
                    <a:ea typeface="隶书"/>
                  </a:rPr>
                  <a:t>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文本框 13358"/>
          <p:cNvSpPr/>
          <p:nvPr/>
        </p:nvSpPr>
        <p:spPr>
          <a:xfrm>
            <a:off x="24382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生物体中的有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组合 13359"/>
          <p:cNvGrpSpPr/>
          <p:nvPr/>
        </p:nvGrpSpPr>
        <p:grpSpPr>
          <a:xfrm>
            <a:off x="1219320" y="6019920"/>
            <a:ext cx="4724280" cy="459720"/>
            <a:chOff x="1219320" y="6019920"/>
            <a:chExt cx="4724280" cy="459720"/>
          </a:xfrm>
        </p:grpSpPr>
        <p:sp>
          <p:nvSpPr>
            <p:cNvPr id="244" name="五边形 13360"/>
            <p:cNvSpPr/>
            <p:nvPr/>
          </p:nvSpPr>
          <p:spPr>
            <a:xfrm>
              <a:off x="5410080" y="609588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组合 13361"/>
            <p:cNvGrpSpPr/>
            <p:nvPr/>
          </p:nvGrpSpPr>
          <p:grpSpPr>
            <a:xfrm>
              <a:off x="1219320" y="6019920"/>
              <a:ext cx="4724280" cy="459720"/>
              <a:chOff x="1219320" y="6019920"/>
              <a:chExt cx="4724280" cy="459720"/>
            </a:xfrm>
          </p:grpSpPr>
          <p:sp>
            <p:nvSpPr>
              <p:cNvPr id="246" name="五边形 13362"/>
              <p:cNvSpPr/>
              <p:nvPr/>
            </p:nvSpPr>
            <p:spPr>
              <a:xfrm>
                <a:off x="5486400" y="632448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32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组合 13363"/>
              <p:cNvGrpSpPr/>
              <p:nvPr/>
            </p:nvGrpSpPr>
            <p:grpSpPr>
              <a:xfrm>
                <a:off x="1219320" y="6019920"/>
                <a:ext cx="4724280" cy="459720"/>
                <a:chOff x="1219320" y="6019920"/>
                <a:chExt cx="4724280" cy="459720"/>
              </a:xfrm>
            </p:grpSpPr>
            <p:grpSp>
              <p:nvGrpSpPr>
                <p:cNvPr id="248" name="组合 13364"/>
                <p:cNvGrpSpPr/>
                <p:nvPr/>
              </p:nvGrpSpPr>
              <p:grpSpPr>
                <a:xfrm>
                  <a:off x="1219320" y="6019920"/>
                  <a:ext cx="4724280" cy="457200"/>
                  <a:chOff x="1219320" y="6019920"/>
                  <a:chExt cx="4724280" cy="457200"/>
                </a:xfrm>
              </p:grpSpPr>
              <p:grpSp>
                <p:nvGrpSpPr>
                  <p:cNvPr id="249" name="组合 13365"/>
                  <p:cNvGrpSpPr/>
                  <p:nvPr/>
                </p:nvGrpSpPr>
                <p:grpSpPr>
                  <a:xfrm>
                    <a:off x="1219320" y="6019920"/>
                    <a:ext cx="4419000" cy="457200"/>
                    <a:chOff x="1219320" y="6019920"/>
                    <a:chExt cx="4419000" cy="457200"/>
                  </a:xfrm>
                </p:grpSpPr>
                <p:sp>
                  <p:nvSpPr>
                    <p:cNvPr id="250" name="五边形 13366"/>
                    <p:cNvSpPr/>
                    <p:nvPr/>
                  </p:nvSpPr>
                  <p:spPr>
                    <a:xfrm flipH="1">
                      <a:off x="1219320" y="6019920"/>
                      <a:ext cx="2514240" cy="457200"/>
                    </a:xfrm>
                    <a:custGeom>
                      <a:avLst/>
                      <a:gdLst>
                        <a:gd name="textAreaLeft" fmla="*/ 360 w 2514240"/>
                        <a:gd name="textAreaRight" fmla="*/ 2514960 w 2514240"/>
                        <a:gd name="textAreaTop" fmla="*/ 0 h 457200"/>
                        <a:gd name="textAreaBottom" fmla="*/ 457560 h 4572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矩形 13367"/>
                    <p:cNvSpPr/>
                    <p:nvPr/>
                  </p:nvSpPr>
                  <p:spPr>
                    <a:xfrm>
                      <a:off x="3733560" y="6019920"/>
                      <a:ext cx="1904760" cy="45720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2" name="五边形 13368"/>
                  <p:cNvSpPr/>
                  <p:nvPr/>
                </p:nvSpPr>
                <p:spPr>
                  <a:xfrm>
                    <a:off x="5486400" y="6172200"/>
                    <a:ext cx="457200" cy="76320"/>
                  </a:xfrm>
                  <a:custGeom>
                    <a:avLst/>
                    <a:gdLst>
                      <a:gd name="textAreaLeft" fmla="*/ 0 w 457200"/>
                      <a:gd name="textAreaRight" fmla="*/ 457560 w 457200"/>
                      <a:gd name="textAreaTop" fmla="*/ 0 h 76320"/>
                      <a:gd name="textAreaBottom" fmla="*/ 76320 h 76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矩形 13369"/>
                <p:cNvSpPr/>
                <p:nvPr/>
              </p:nvSpPr>
              <p:spPr>
                <a:xfrm>
                  <a:off x="3430440" y="6019920"/>
                  <a:ext cx="109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8080"/>
                      </a:solidFill>
                      <a:latin typeface="Times New Roman"/>
                      <a:ea typeface="隶书"/>
                    </a:rPr>
                    <a:t>生物体残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4" name="组合 13370"/>
          <p:cNvGrpSpPr/>
          <p:nvPr/>
        </p:nvGrpSpPr>
        <p:grpSpPr>
          <a:xfrm>
            <a:off x="0" y="380880"/>
            <a:ext cx="3124080" cy="2667240"/>
            <a:chOff x="0" y="380880"/>
            <a:chExt cx="3124080" cy="2667240"/>
          </a:xfrm>
        </p:grpSpPr>
        <p:sp>
          <p:nvSpPr>
            <p:cNvPr id="255" name="椭圆 13371"/>
            <p:cNvSpPr/>
            <p:nvPr/>
          </p:nvSpPr>
          <p:spPr>
            <a:xfrm>
              <a:off x="304920" y="533520"/>
              <a:ext cx="914400" cy="9144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990720"/>
              <a:ext cx="1447920" cy="360"/>
              <a:chOff x="0" y="990720"/>
              <a:chExt cx="1447920" cy="360"/>
            </a:xfrm>
          </p:grpSpPr>
          <p:sp>
            <p:nvSpPr>
              <p:cNvPr id="257" name="直接连接符 13372"/>
              <p:cNvSpPr/>
              <p:nvPr/>
            </p:nvSpPr>
            <p:spPr>
              <a:xfrm>
                <a:off x="0" y="990720"/>
                <a:ext cx="1447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99072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53120" y="455760"/>
              <a:ext cx="15480" cy="1295280"/>
              <a:chOff x="753120" y="455760"/>
              <a:chExt cx="15480" cy="1295280"/>
            </a:xfrm>
          </p:grpSpPr>
          <p:sp>
            <p:nvSpPr>
              <p:cNvPr id="260" name="直接连接符 13373"/>
              <p:cNvSpPr/>
              <p:nvPr/>
            </p:nvSpPr>
            <p:spPr>
              <a:xfrm>
                <a:off x="754920" y="455760"/>
                <a:ext cx="1188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5364000">
                <a:off x="113040" y="1102320"/>
                <a:ext cx="12952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600" y="533520"/>
              <a:ext cx="1143000" cy="990360"/>
              <a:chOff x="228600" y="533520"/>
              <a:chExt cx="1143000" cy="990360"/>
            </a:xfrm>
          </p:grpSpPr>
          <p:sp>
            <p:nvSpPr>
              <p:cNvPr id="263" name="直接连接符 13374"/>
              <p:cNvSpPr/>
              <p:nvPr/>
            </p:nvSpPr>
            <p:spPr>
              <a:xfrm>
                <a:off x="228600" y="533520"/>
                <a:ext cx="114300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228600" y="533520"/>
                <a:ext cx="11430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04560" y="380880"/>
              <a:ext cx="1067040" cy="1143000"/>
              <a:chOff x="304560" y="380880"/>
              <a:chExt cx="1067040" cy="1143000"/>
            </a:xfrm>
          </p:grpSpPr>
          <p:sp>
            <p:nvSpPr>
              <p:cNvPr id="266" name="直接连接符 13375"/>
              <p:cNvSpPr/>
              <p:nvPr/>
            </p:nvSpPr>
            <p:spPr>
              <a:xfrm flipH="1">
                <a:off x="304560" y="380880"/>
                <a:ext cx="1066680" cy="1143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304920" y="380880"/>
                <a:ext cx="106668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33520" y="457200"/>
              <a:ext cx="609480" cy="1371600"/>
              <a:chOff x="533520" y="457200"/>
              <a:chExt cx="609480" cy="1371600"/>
            </a:xfrm>
          </p:grpSpPr>
          <p:sp>
            <p:nvSpPr>
              <p:cNvPr id="269" name="直接连接符 13376"/>
              <p:cNvSpPr/>
              <p:nvPr/>
            </p:nvSpPr>
            <p:spPr>
              <a:xfrm>
                <a:off x="533520" y="457200"/>
                <a:ext cx="60948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533520" y="457200"/>
                <a:ext cx="60948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57200" y="380880"/>
              <a:ext cx="533520" cy="1371600"/>
              <a:chOff x="457200" y="380880"/>
              <a:chExt cx="533520" cy="1371600"/>
            </a:xfrm>
          </p:grpSpPr>
          <p:sp>
            <p:nvSpPr>
              <p:cNvPr id="272" name="直接连接符 13377"/>
              <p:cNvSpPr/>
              <p:nvPr/>
            </p:nvSpPr>
            <p:spPr>
              <a:xfrm flipH="1">
                <a:off x="457200" y="380880"/>
                <a:ext cx="533520" cy="137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457200" y="380880"/>
                <a:ext cx="53352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51920" y="609480"/>
              <a:ext cx="1296000" cy="685800"/>
              <a:chOff x="151920" y="609480"/>
              <a:chExt cx="1296000" cy="685800"/>
            </a:xfrm>
          </p:grpSpPr>
          <p:sp>
            <p:nvSpPr>
              <p:cNvPr id="275" name="直接连接符 13378"/>
              <p:cNvSpPr/>
              <p:nvPr/>
            </p:nvSpPr>
            <p:spPr>
              <a:xfrm flipH="1">
                <a:off x="151920" y="609480"/>
                <a:ext cx="12956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52280" y="609480"/>
                <a:ext cx="129564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04920" y="762120"/>
              <a:ext cx="1371600" cy="533160"/>
              <a:chOff x="304920" y="762120"/>
              <a:chExt cx="1371600" cy="533160"/>
            </a:xfrm>
          </p:grpSpPr>
          <p:sp>
            <p:nvSpPr>
              <p:cNvPr id="278" name="直接连接符 13379"/>
              <p:cNvSpPr/>
              <p:nvPr/>
            </p:nvSpPr>
            <p:spPr>
              <a:xfrm>
                <a:off x="304920" y="762120"/>
                <a:ext cx="137160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304920" y="762120"/>
                <a:ext cx="1371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143000" y="1828800"/>
              <a:ext cx="685800" cy="1219320"/>
              <a:chOff x="1143000" y="1828800"/>
              <a:chExt cx="685800" cy="1219320"/>
            </a:xfrm>
          </p:grpSpPr>
          <p:sp>
            <p:nvSpPr>
              <p:cNvPr id="281" name="直接连接符 13380"/>
              <p:cNvSpPr/>
              <p:nvPr/>
            </p:nvSpPr>
            <p:spPr>
              <a:xfrm>
                <a:off x="1143000" y="1828800"/>
                <a:ext cx="685800" cy="121932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143000" y="1828800"/>
                <a:ext cx="68580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371600" y="1523880"/>
              <a:ext cx="1752480" cy="1524240"/>
              <a:chOff x="1371600" y="1523880"/>
              <a:chExt cx="1752480" cy="1524240"/>
            </a:xfrm>
          </p:grpSpPr>
          <p:sp>
            <p:nvSpPr>
              <p:cNvPr id="284" name="直接连接符 13381"/>
              <p:cNvSpPr/>
              <p:nvPr/>
            </p:nvSpPr>
            <p:spPr>
              <a:xfrm>
                <a:off x="1371600" y="1523880"/>
                <a:ext cx="1752480" cy="152424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371600" y="1523880"/>
                <a:ext cx="1752480" cy="15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76520" y="1295280"/>
              <a:ext cx="1295280" cy="457200"/>
              <a:chOff x="1676520" y="1295280"/>
              <a:chExt cx="1295280" cy="457200"/>
            </a:xfrm>
          </p:grpSpPr>
          <p:sp>
            <p:nvSpPr>
              <p:cNvPr id="287" name="直接连接符 13382"/>
              <p:cNvSpPr/>
              <p:nvPr/>
            </p:nvSpPr>
            <p:spPr>
              <a:xfrm>
                <a:off x="1676520" y="1295280"/>
                <a:ext cx="1295280" cy="45720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1676520" y="1295280"/>
                <a:ext cx="12952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371600" y="990720"/>
              <a:ext cx="1143000" cy="360"/>
              <a:chOff x="1371600" y="990720"/>
              <a:chExt cx="1143000" cy="360"/>
            </a:xfrm>
          </p:grpSpPr>
          <p:sp>
            <p:nvSpPr>
              <p:cNvPr id="290" name="直接连接符 13383"/>
              <p:cNvSpPr/>
              <p:nvPr/>
            </p:nvSpPr>
            <p:spPr>
              <a:xfrm>
                <a:off x="1371600" y="990720"/>
                <a:ext cx="1143000" cy="0"/>
              </a:xfrm>
              <a:prstGeom prst="line">
                <a:avLst/>
              </a:prstGeom>
              <a:ln w="28440">
                <a:solidFill>
                  <a:srgbClr val="f491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371600" y="9907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13384"/>
            <p:cNvSpPr/>
            <p:nvPr/>
          </p:nvSpPr>
          <p:spPr>
            <a:xfrm>
              <a:off x="380880" y="7621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99"/>
                  </a:solidFill>
                  <a:latin typeface="Times New Roman"/>
                  <a:ea typeface="隶书"/>
                </a:rPr>
                <a:t>太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13385"/>
          <p:cNvGrpSpPr/>
          <p:nvPr/>
        </p:nvGrpSpPr>
        <p:grpSpPr>
          <a:xfrm>
            <a:off x="2362320" y="4723920"/>
            <a:ext cx="2819160" cy="533160"/>
            <a:chOff x="2362320" y="4723920"/>
            <a:chExt cx="2819160" cy="533160"/>
          </a:xfrm>
        </p:grpSpPr>
        <p:sp>
          <p:nvSpPr>
            <p:cNvPr id="294" name="左弧形箭头 13386"/>
            <p:cNvSpPr/>
            <p:nvPr/>
          </p:nvSpPr>
          <p:spPr>
            <a:xfrm flipV="1">
              <a:off x="304812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左弧形箭头 13387"/>
            <p:cNvSpPr/>
            <p:nvPr/>
          </p:nvSpPr>
          <p:spPr>
            <a:xfrm flipV="1">
              <a:off x="236232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左弧形箭头 13388"/>
            <p:cNvSpPr/>
            <p:nvPr/>
          </p:nvSpPr>
          <p:spPr>
            <a:xfrm flipV="1">
              <a:off x="380988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左弧形箭头 13389"/>
            <p:cNvSpPr/>
            <p:nvPr/>
          </p:nvSpPr>
          <p:spPr>
            <a:xfrm flipV="1">
              <a:off x="4495680" y="4723560"/>
              <a:ext cx="685800" cy="53316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13396"/>
          <p:cNvGrpSpPr/>
          <p:nvPr/>
        </p:nvGrpSpPr>
        <p:grpSpPr>
          <a:xfrm>
            <a:off x="2209680" y="4343400"/>
            <a:ext cx="6095880" cy="459720"/>
            <a:chOff x="2209680" y="4343400"/>
            <a:chExt cx="6095880" cy="459720"/>
          </a:xfrm>
        </p:grpSpPr>
        <p:grpSp>
          <p:nvGrpSpPr>
            <p:cNvPr id="299" name="组合 13391"/>
            <p:cNvGrpSpPr/>
            <p:nvPr/>
          </p:nvGrpSpPr>
          <p:grpSpPr>
            <a:xfrm>
              <a:off x="2209680" y="4495680"/>
              <a:ext cx="6095880" cy="228600"/>
              <a:chOff x="2209680" y="4495680"/>
              <a:chExt cx="6095880" cy="228600"/>
            </a:xfrm>
          </p:grpSpPr>
          <p:sp>
            <p:nvSpPr>
              <p:cNvPr id="300" name="五边形 13392"/>
              <p:cNvSpPr/>
              <p:nvPr/>
            </p:nvSpPr>
            <p:spPr>
              <a:xfrm flipH="1">
                <a:off x="2209680" y="4495680"/>
                <a:ext cx="3468240" cy="228600"/>
              </a:xfrm>
              <a:custGeom>
                <a:avLst/>
                <a:gdLst>
                  <a:gd name="textAreaLeft" fmla="*/ 360 w 3468240"/>
                  <a:gd name="textAreaRight" fmla="*/ 3468960 w 3468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0"/>
                    </a:lnTo>
                    <a:lnTo>
                      <a:pt x="21600" y="10800"/>
                    </a:lnTo>
                    <a:lnTo>
                      <a:pt x="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矩形 13393"/>
              <p:cNvSpPr/>
              <p:nvPr/>
            </p:nvSpPr>
            <p:spPr>
              <a:xfrm>
                <a:off x="5677920" y="4495680"/>
                <a:ext cx="2627640" cy="22860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cc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13394"/>
            <p:cNvSpPr/>
            <p:nvPr/>
          </p:nvSpPr>
          <p:spPr>
            <a:xfrm>
              <a:off x="5486400" y="43434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6600"/>
                  </a:solidFill>
                  <a:latin typeface="Times New Roman"/>
                  <a:ea typeface="隶书"/>
                </a:rPr>
                <a:t>有机体呼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矩形 13395"/>
          <p:cNvSpPr/>
          <p:nvPr/>
        </p:nvSpPr>
        <p:spPr>
          <a:xfrm>
            <a:off x="5487840" y="563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Times New Roman"/>
                <a:ea typeface="隶书"/>
              </a:rPr>
              <a:t>微生物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1"/>
            </a:gs>
            <a:gs pos="100000">
              <a:srgbClr val="ffc38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对象 14337" descr=""/>
          <p:cNvPicPr/>
          <p:nvPr/>
        </p:nvPicPr>
        <p:blipFill>
          <a:blip r:embed="rId1"/>
          <a:stretch/>
        </p:blipFill>
        <p:spPr>
          <a:xfrm>
            <a:off x="3886200" y="4943520"/>
            <a:ext cx="1492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14459"/>
          <p:cNvGrpSpPr/>
          <p:nvPr/>
        </p:nvGrpSpPr>
        <p:grpSpPr>
          <a:xfrm>
            <a:off x="7469280" y="1444320"/>
            <a:ext cx="1674360" cy="2443680"/>
            <a:chOff x="7469280" y="1444320"/>
            <a:chExt cx="1674360" cy="2443680"/>
          </a:xfrm>
        </p:grpSpPr>
        <p:sp>
          <p:nvSpPr>
            <p:cNvPr id="307" name="任意多边形 14452"/>
            <p:cNvSpPr/>
            <p:nvPr/>
          </p:nvSpPr>
          <p:spPr>
            <a:xfrm>
              <a:off x="7888320" y="1928520"/>
              <a:ext cx="874800" cy="51120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上弧形箭头 14434"/>
            <p:cNvSpPr/>
            <p:nvPr/>
          </p:nvSpPr>
          <p:spPr>
            <a:xfrm flipH="1" flipV="1" rot="14955000">
              <a:off x="6894360" y="2437920"/>
              <a:ext cx="2440080" cy="456480"/>
            </a:xfrm>
            <a:custGeom>
              <a:avLst/>
              <a:gdLst>
                <a:gd name="textAreaLeft" fmla="*/ 378360 w 2440080"/>
                <a:gd name="textAreaRight" fmla="*/ 1817640 w 2440080"/>
                <a:gd name="textAreaTop" fmla="*/ 61200 h 456480"/>
                <a:gd name="textAreaBottom" fmla="*/ 395280 h 45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00" hR="21600" stAng="10800000" swAng="5400000"/>
                  <a:lnTo>
                    <a:pt x="12741" y="0"/>
                  </a:lnTo>
                  <a:arcTo wR="6700" hR="21600" stAng="-5400000" swAng="2326042"/>
                  <a:lnTo>
                    <a:pt x="21150" y="13818"/>
                  </a:lnTo>
                  <a:lnTo>
                    <a:pt x="16420" y="21600"/>
                  </a:lnTo>
                  <a:lnTo>
                    <a:pt x="10789" y="13818"/>
                  </a:lnTo>
                  <a:lnTo>
                    <a:pt x="12949" y="13818"/>
                  </a:lnTo>
                  <a:arcTo wR="6700" hR="21600" stAng="-3073958" swAng="-1791813"/>
                  <a:lnTo>
                    <a:pt x="9720" y="2320"/>
                  </a:lnTo>
                  <a:arcTo wR="6700" hR="21600" stAng="-5934229" swAng="-4865771"/>
                  <a:close/>
                </a:path>
                <a:path fill="darkenLess" w="21600" h="21600">
                  <a:moveTo>
                    <a:pt x="0" y="21600"/>
                  </a:moveTo>
                  <a:arcTo wR="6700" hR="21600" stAng="10800000" swAng="5400000"/>
                  <a:lnTo>
                    <a:pt x="6700" y="0"/>
                  </a:lnTo>
                  <a:arcTo wR="6700" hR="21600" stAng="-5400000" swAng="534229"/>
                  <a:lnTo>
                    <a:pt x="9720" y="2320"/>
                  </a:lnTo>
                  <a:arcTo wR="6700" hR="21600" stAng="-5934229" swAng="-4865771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文本框 14340"/>
            <p:cNvSpPr/>
            <p:nvPr/>
          </p:nvSpPr>
          <p:spPr>
            <a:xfrm>
              <a:off x="8345160" y="2439720"/>
              <a:ext cx="798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CO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文本框 14381"/>
          <p:cNvSpPr/>
          <p:nvPr/>
        </p:nvSpPr>
        <p:spPr>
          <a:xfrm>
            <a:off x="5943600" y="1160640"/>
            <a:ext cx="2300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细菌真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分解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组合 14382"/>
          <p:cNvGrpSpPr/>
          <p:nvPr/>
        </p:nvGrpSpPr>
        <p:grpSpPr>
          <a:xfrm>
            <a:off x="404640" y="171360"/>
            <a:ext cx="2381400" cy="1892160"/>
            <a:chOff x="404640" y="171360"/>
            <a:chExt cx="2381400" cy="1892160"/>
          </a:xfrm>
        </p:grpSpPr>
        <p:pic>
          <p:nvPicPr>
            <p:cNvPr id="312" name="对象 14383" descr=""/>
            <p:cNvPicPr/>
            <p:nvPr/>
          </p:nvPicPr>
          <p:blipFill>
            <a:blip r:embed="rId2"/>
            <a:stretch/>
          </p:blipFill>
          <p:spPr>
            <a:xfrm>
              <a:off x="404640" y="171360"/>
              <a:ext cx="238140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文本框 14384"/>
            <p:cNvSpPr/>
            <p:nvPr/>
          </p:nvSpPr>
          <p:spPr>
            <a:xfrm>
              <a:off x="1014480" y="85716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动 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组合 14451"/>
          <p:cNvGrpSpPr/>
          <p:nvPr/>
        </p:nvGrpSpPr>
        <p:grpSpPr>
          <a:xfrm>
            <a:off x="0" y="1895040"/>
            <a:ext cx="1452240" cy="2543760"/>
            <a:chOff x="0" y="1895040"/>
            <a:chExt cx="1452240" cy="2543760"/>
          </a:xfrm>
        </p:grpSpPr>
        <p:sp>
          <p:nvSpPr>
            <p:cNvPr id="315" name="上弧形箭头 14386"/>
            <p:cNvSpPr/>
            <p:nvPr/>
          </p:nvSpPr>
          <p:spPr>
            <a:xfrm flipH="1" rot="17136600">
              <a:off x="-398880" y="2877840"/>
              <a:ext cx="2479680" cy="577440"/>
            </a:xfrm>
            <a:custGeom>
              <a:avLst/>
              <a:gdLst>
                <a:gd name="textAreaLeft" fmla="*/ 434160 w 2479680"/>
                <a:gd name="textAreaRight" fmla="*/ 1798200 w 2479680"/>
                <a:gd name="textAreaTop" fmla="*/ 77400 h 577440"/>
                <a:gd name="textAreaBottom" fmla="*/ 500040 h 5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文本框 14418"/>
            <p:cNvSpPr/>
            <p:nvPr/>
          </p:nvSpPr>
          <p:spPr>
            <a:xfrm>
              <a:off x="0" y="2854440"/>
              <a:ext cx="552600" cy="7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文本框 14425"/>
          <p:cNvSpPr/>
          <p:nvPr/>
        </p:nvSpPr>
        <p:spPr>
          <a:xfrm>
            <a:off x="7162920" y="3625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土壤中的水或地表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文本框 14426"/>
          <p:cNvSpPr/>
          <p:nvPr/>
        </p:nvSpPr>
        <p:spPr>
          <a:xfrm>
            <a:off x="0" y="4281480"/>
            <a:ext cx="21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7d29"/>
                </a:solidFill>
                <a:latin typeface="Times New Roman"/>
              </a:rPr>
              <a:t>大气中的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组合 14457"/>
          <p:cNvGrpSpPr/>
          <p:nvPr/>
        </p:nvGrpSpPr>
        <p:grpSpPr>
          <a:xfrm>
            <a:off x="2779200" y="315000"/>
            <a:ext cx="4663440" cy="744120"/>
            <a:chOff x="2779200" y="315000"/>
            <a:chExt cx="4663440" cy="744120"/>
          </a:xfrm>
        </p:grpSpPr>
        <p:sp>
          <p:nvSpPr>
            <p:cNvPr id="320" name="上弧形箭头 14410"/>
            <p:cNvSpPr/>
            <p:nvPr/>
          </p:nvSpPr>
          <p:spPr>
            <a:xfrm flipH="1" flipV="1" rot="10882800">
              <a:off x="2786040" y="370440"/>
              <a:ext cx="4649760" cy="632160"/>
            </a:xfrm>
            <a:custGeom>
              <a:avLst/>
              <a:gdLst>
                <a:gd name="textAreaLeft" fmla="*/ 813600 w 4649760"/>
                <a:gd name="textAreaRight" fmla="*/ 3371040 w 4649760"/>
                <a:gd name="textAreaTop" fmla="*/ 84600 h 632160"/>
                <a:gd name="textAreaBottom" fmla="*/ 547560 h 63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文本框 14427"/>
            <p:cNvSpPr/>
            <p:nvPr/>
          </p:nvSpPr>
          <p:spPr>
            <a:xfrm>
              <a:off x="2867040" y="444600"/>
              <a:ext cx="17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尸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组合 14460"/>
          <p:cNvGrpSpPr/>
          <p:nvPr/>
        </p:nvGrpSpPr>
        <p:grpSpPr>
          <a:xfrm>
            <a:off x="5477040" y="1944720"/>
            <a:ext cx="2239200" cy="3950280"/>
            <a:chOff x="5477040" y="1944720"/>
            <a:chExt cx="2239200" cy="3950280"/>
          </a:xfrm>
        </p:grpSpPr>
        <p:sp>
          <p:nvSpPr>
            <p:cNvPr id="323" name="上弧形箭头 14430"/>
            <p:cNvSpPr/>
            <p:nvPr/>
          </p:nvSpPr>
          <p:spPr>
            <a:xfrm flipV="1" rot="17609400">
              <a:off x="4595400" y="3568320"/>
              <a:ext cx="4002120" cy="702000"/>
            </a:xfrm>
            <a:custGeom>
              <a:avLst/>
              <a:gdLst>
                <a:gd name="textAreaLeft" fmla="*/ 700200 w 4002120"/>
                <a:gd name="textAreaRight" fmla="*/ 2901600 w 4002120"/>
                <a:gd name="textAreaTop" fmla="*/ 93960 h 702000"/>
                <a:gd name="textAreaBottom" fmla="*/ 60804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文本框 14432"/>
            <p:cNvSpPr/>
            <p:nvPr/>
          </p:nvSpPr>
          <p:spPr>
            <a:xfrm flipH="1" rot="2370600">
              <a:off x="5658840" y="5065920"/>
              <a:ext cx="6685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尸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组合 14445"/>
          <p:cNvGrpSpPr/>
          <p:nvPr/>
        </p:nvGrpSpPr>
        <p:grpSpPr>
          <a:xfrm>
            <a:off x="3243240" y="4135320"/>
            <a:ext cx="1405080" cy="807840"/>
            <a:chOff x="3243240" y="4135320"/>
            <a:chExt cx="1405080" cy="807840"/>
          </a:xfrm>
        </p:grpSpPr>
        <p:sp>
          <p:nvSpPr>
            <p:cNvPr id="326" name="云形标注 14339"/>
            <p:cNvSpPr/>
            <p:nvPr/>
          </p:nvSpPr>
          <p:spPr>
            <a:xfrm>
              <a:off x="3243240" y="4135320"/>
              <a:ext cx="1252440" cy="655560"/>
            </a:xfrm>
            <a:prstGeom prst="cloudCallout">
              <a:avLst>
                <a:gd name="adj1" fmla="val -58111"/>
                <a:gd name="adj2" fmla="val 1253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云形标注 14444"/>
            <p:cNvSpPr/>
            <p:nvPr/>
          </p:nvSpPr>
          <p:spPr>
            <a:xfrm>
              <a:off x="3395520" y="4287600"/>
              <a:ext cx="1252800" cy="655560"/>
            </a:xfrm>
            <a:prstGeom prst="cloudCallout">
              <a:avLst>
                <a:gd name="adj1" fmla="val -58111"/>
                <a:gd name="adj2" fmla="val 1253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文本框 14443"/>
            <p:cNvSpPr/>
            <p:nvPr/>
          </p:nvSpPr>
          <p:spPr>
            <a:xfrm>
              <a:off x="3652920" y="4287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3c2"/>
                  </a:solidFill>
                  <a:latin typeface="Times New Roman"/>
                  <a:ea typeface="隶书"/>
                </a:rPr>
                <a:t>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右箭头 14453"/>
          <p:cNvSpPr/>
          <p:nvPr/>
        </p:nvSpPr>
        <p:spPr>
          <a:xfrm>
            <a:off x="1860480" y="4406760"/>
            <a:ext cx="1339920" cy="365400"/>
          </a:xfrm>
          <a:prstGeom prst="rightArrow">
            <a:avLst>
              <a:gd name="adj1" fmla="val 50000"/>
              <a:gd name="adj2" fmla="val 91658"/>
            </a:avLst>
          </a:prstGeom>
          <a:solidFill>
            <a:srgbClr val="dc8300"/>
          </a:solidFill>
          <a:ln w="9360">
            <a:solidFill>
              <a:srgbClr val="dc8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下弧形箭头 14455"/>
          <p:cNvSpPr/>
          <p:nvPr/>
        </p:nvSpPr>
        <p:spPr>
          <a:xfrm>
            <a:off x="4648320" y="4530600"/>
            <a:ext cx="3590640" cy="412920"/>
          </a:xfrm>
          <a:custGeom>
            <a:avLst/>
            <a:gdLst>
              <a:gd name="textAreaLeft" fmla="*/ 628200 w 3590640"/>
              <a:gd name="textAreaRight" fmla="*/ 2603160 w 3590640"/>
              <a:gd name="textAreaTop" fmla="*/ 55080 h 412920"/>
              <a:gd name="textAreaBottom" fmla="*/ 3578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c8300"/>
          </a:solidFill>
          <a:ln w="9360">
            <a:solidFill>
              <a:srgbClr val="dc8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文本框 14456"/>
          <p:cNvSpPr/>
          <p:nvPr/>
        </p:nvSpPr>
        <p:spPr>
          <a:xfrm>
            <a:off x="2233440" y="2198520"/>
            <a:ext cx="32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水在自然界中的循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组合 14474"/>
          <p:cNvGrpSpPr/>
          <p:nvPr/>
        </p:nvGrpSpPr>
        <p:grpSpPr>
          <a:xfrm>
            <a:off x="4915800" y="4604760"/>
            <a:ext cx="3712680" cy="2500200"/>
            <a:chOff x="4915800" y="4604760"/>
            <a:chExt cx="3712680" cy="2500200"/>
          </a:xfrm>
        </p:grpSpPr>
        <p:sp>
          <p:nvSpPr>
            <p:cNvPr id="333" name="上弧形箭头 14462"/>
            <p:cNvSpPr/>
            <p:nvPr/>
          </p:nvSpPr>
          <p:spPr>
            <a:xfrm rot="8969400">
              <a:off x="4781160" y="5576760"/>
              <a:ext cx="3981600" cy="555840"/>
            </a:xfrm>
            <a:custGeom>
              <a:avLst/>
              <a:gdLst>
                <a:gd name="textAreaLeft" fmla="*/ 696600 w 3981600"/>
                <a:gd name="textAreaRight" fmla="*/ 2886840 w 3981600"/>
                <a:gd name="textAreaTop" fmla="*/ 74160 h 555840"/>
                <a:gd name="textAreaBottom" fmla="*/ 48168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组合 14467"/>
            <p:cNvGrpSpPr/>
            <p:nvPr/>
          </p:nvGrpSpPr>
          <p:grpSpPr>
            <a:xfrm>
              <a:off x="6553080" y="5191200"/>
              <a:ext cx="1040760" cy="943560"/>
              <a:chOff x="6553080" y="5191200"/>
              <a:chExt cx="1040760" cy="943560"/>
            </a:xfrm>
          </p:grpSpPr>
          <p:sp>
            <p:nvSpPr>
              <p:cNvPr id="335" name="文本框 14402"/>
              <p:cNvSpPr/>
              <p:nvPr/>
            </p:nvSpPr>
            <p:spPr>
              <a:xfrm>
                <a:off x="6858000" y="542412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文本框 14464"/>
              <p:cNvSpPr/>
              <p:nvPr/>
            </p:nvSpPr>
            <p:spPr>
              <a:xfrm>
                <a:off x="6553080" y="555336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收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矩形 14466"/>
              <p:cNvSpPr/>
              <p:nvPr/>
            </p:nvSpPr>
            <p:spPr>
              <a:xfrm>
                <a:off x="7169400" y="51912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被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组合 14472"/>
          <p:cNvGrpSpPr/>
          <p:nvPr/>
        </p:nvGrpSpPr>
        <p:grpSpPr>
          <a:xfrm>
            <a:off x="361080" y="4402080"/>
            <a:ext cx="3500640" cy="2548080"/>
            <a:chOff x="361080" y="4402080"/>
            <a:chExt cx="3500640" cy="2548080"/>
          </a:xfrm>
        </p:grpSpPr>
        <p:sp>
          <p:nvSpPr>
            <p:cNvPr id="339" name="上弧形箭头 14407"/>
            <p:cNvSpPr/>
            <p:nvPr/>
          </p:nvSpPr>
          <p:spPr>
            <a:xfrm flipH="1" flipV="1" rot="2002200">
              <a:off x="183960" y="5419440"/>
              <a:ext cx="3854160" cy="512640"/>
            </a:xfrm>
            <a:custGeom>
              <a:avLst/>
              <a:gdLst>
                <a:gd name="textAreaLeft" fmla="*/ 674640 w 3854160"/>
                <a:gd name="textAreaRight" fmla="*/ 2794680 w 3854160"/>
                <a:gd name="textAreaTop" fmla="*/ 68400 h 512640"/>
                <a:gd name="textAreaBottom" fmla="*/ 44424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906"/>
                  <a:lnTo>
                    <a:pt x="21168" y="14401"/>
                  </a:lnTo>
                  <a:lnTo>
                    <a:pt x="17280" y="21600"/>
                  </a:lnTo>
                  <a:lnTo>
                    <a:pt x="12528" y="14401"/>
                  </a:lnTo>
                  <a:lnTo>
                    <a:pt x="14688" y="14401"/>
                  </a:lnTo>
                  <a:arcTo wR="7560" hR="21600" stAng="-2717094" swAng="-2325471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dc8300"/>
            </a:solidFill>
            <a:ln w="9360">
              <a:solidFill>
                <a:srgbClr val="dc8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组合 14471"/>
            <p:cNvGrpSpPr/>
            <p:nvPr/>
          </p:nvGrpSpPr>
          <p:grpSpPr>
            <a:xfrm>
              <a:off x="1702080" y="5288040"/>
              <a:ext cx="1491480" cy="1084680"/>
              <a:chOff x="1702080" y="5288040"/>
              <a:chExt cx="1491480" cy="1084680"/>
            </a:xfrm>
          </p:grpSpPr>
          <p:sp>
            <p:nvSpPr>
              <p:cNvPr id="341" name="矩形 14405"/>
              <p:cNvSpPr/>
              <p:nvPr/>
            </p:nvSpPr>
            <p:spPr>
              <a:xfrm>
                <a:off x="1702080" y="52880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矩形 14408"/>
              <p:cNvSpPr/>
              <p:nvPr/>
            </p:nvSpPr>
            <p:spPr>
              <a:xfrm>
                <a:off x="1987920" y="55926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腾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矩形 14469"/>
              <p:cNvSpPr/>
              <p:nvPr/>
            </p:nvSpPr>
            <p:spPr>
              <a:xfrm>
                <a:off x="2387880" y="574524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作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矩形 14470"/>
              <p:cNvSpPr/>
              <p:nvPr/>
            </p:nvSpPr>
            <p:spPr>
              <a:xfrm>
                <a:off x="2769120" y="579132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用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6386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6387"/>
          <p:cNvSpPr/>
          <p:nvPr/>
        </p:nvSpPr>
        <p:spPr>
          <a:xfrm>
            <a:off x="601560" y="2438280"/>
            <a:ext cx="5951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一、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生态环境的多样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文本框 16388"/>
          <p:cNvSpPr/>
          <p:nvPr/>
        </p:nvSpPr>
        <p:spPr>
          <a:xfrm>
            <a:off x="601560" y="3581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ccff"/>
                </a:solidFill>
                <a:latin typeface="Times New Roman"/>
                <a:ea typeface="隶书"/>
              </a:rPr>
              <a:t>二、生态系统中的物质流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文本框 16389"/>
          <p:cNvSpPr/>
          <p:nvPr/>
        </p:nvSpPr>
        <p:spPr>
          <a:xfrm>
            <a:off x="601560" y="44053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1·</a:t>
            </a:r>
            <a:r>
              <a:rPr b="1" i="1" lang="zh-CN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碳在自然界中的循环（教材</a:t>
            </a:r>
            <a:r>
              <a:rPr b="1" i="1" lang="en-US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P·52</a:t>
            </a:r>
            <a:r>
              <a:rPr b="1" i="1" lang="zh-CN" sz="4000" spc="-1" strike="noStrike">
                <a:solidFill>
                  <a:srgbClr val="ccccff"/>
                </a:solidFill>
                <a:latin typeface="Times New Roman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组合 16470"/>
          <p:cNvGrpSpPr/>
          <p:nvPr/>
        </p:nvGrpSpPr>
        <p:grpSpPr>
          <a:xfrm>
            <a:off x="685800" y="0"/>
            <a:ext cx="8458200" cy="2438280"/>
            <a:chOff x="685800" y="0"/>
            <a:chExt cx="8458200" cy="2438280"/>
          </a:xfrm>
        </p:grpSpPr>
        <p:sp>
          <p:nvSpPr>
            <p:cNvPr id="354" name="矩形 16385"/>
            <p:cNvSpPr/>
            <p:nvPr/>
          </p:nvSpPr>
          <p:spPr>
            <a:xfrm>
              <a:off x="685800" y="838080"/>
              <a:ext cx="4952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本节课内容小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对象 16468" descr=""/>
            <p:cNvPicPr/>
            <p:nvPr/>
          </p:nvPicPr>
          <p:blipFill>
            <a:blip r:embed="rId2"/>
            <a:stretch/>
          </p:blipFill>
          <p:spPr>
            <a:xfrm>
              <a:off x="5638680" y="0"/>
              <a:ext cx="350532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矩形 16469"/>
          <p:cNvSpPr/>
          <p:nvPr/>
        </p:nvSpPr>
        <p:spPr>
          <a:xfrm>
            <a:off x="1517760" y="5626080"/>
            <a:ext cx="334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2·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</a:rPr>
              <a:t>水在自然界中的循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文本框 16471"/>
          <p:cNvSpPr/>
          <p:nvPr/>
        </p:nvSpPr>
        <p:spPr>
          <a:xfrm>
            <a:off x="1074600" y="5106960"/>
            <a:ext cx="76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是以二氧化碳的形式在自然界进行循环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2:18Z</dcterms:created>
  <dc:creator/>
  <dc:description/>
  <cp:keywords>生态系统 多样性</cp:keywords>
  <dc:language>en-US</dc:language>
  <cp:lastModifiedBy>An</cp:lastModifiedBy>
  <dcterms:modified xsi:type="dcterms:W3CDTF">2016-05-01T00:52:1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