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11F-ACAA-4F95-B245-04851347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87CF-DAFD-4DA3-897C-9B163037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A7D-A50D-4E3A-8053-826DBF85E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4366-6773-4F2D-97EE-EAAB77A1B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5CC-938D-4738-A4B7-80FA09F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1BEA-577B-4F5A-984A-031525E7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E09-8D64-48DC-95C2-5AAB5F05F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32E9-6420-4DAB-81A7-2693694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26E-E0FC-408A-B68E-3060CE89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EE0-3270-4B6C-B843-70D72C6F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9A9-BD95-46BF-8D43-F84B6E6E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8B2B-3B3F-4A51-9971-238B8B6D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9F06-98AE-4EF8-900B-E22F7A7A4E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8"/>
          <p:cNvSpPr/>
          <p:nvPr/>
        </p:nvSpPr>
        <p:spPr>
          <a:xfrm>
            <a:off x="4070880" y="3773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5"/>
          <p:cNvSpPr/>
          <p:nvPr/>
        </p:nvSpPr>
        <p:spPr>
          <a:xfrm>
            <a:off x="3997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4069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41407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17600" y="4046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桃花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670-DFAE-430D-8BDC-2C42E53FBA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4997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4070880" y="3416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349776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1425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497600" y="484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838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678384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6"/>
          <p:cNvSpPr/>
          <p:nvPr/>
        </p:nvSpPr>
        <p:spPr>
          <a:xfrm>
            <a:off x="6856920" y="484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149760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5214960" y="31431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29260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1354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06952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140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69267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452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40690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23562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7"/>
          <p:cNvSpPr/>
          <p:nvPr/>
        </p:nvSpPr>
        <p:spPr>
          <a:xfrm>
            <a:off x="5712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10911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571212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9"/>
          <p:cNvSpPr/>
          <p:nvPr/>
        </p:nvSpPr>
        <p:spPr>
          <a:xfrm>
            <a:off x="23547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85480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56896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542664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56956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8"/>
          <p:cNvSpPr/>
          <p:nvPr/>
        </p:nvSpPr>
        <p:spPr>
          <a:xfrm>
            <a:off x="9165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9"/>
          <p:cNvSpPr/>
          <p:nvPr/>
        </p:nvSpPr>
        <p:spPr>
          <a:xfrm>
            <a:off x="18547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6212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399780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6:46:21Z</dcterms:modified>
  <cp:revision>5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