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7BB-3FDB-49C6-87AE-48914AFC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75B-104B-494B-970E-7747493F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F318-622D-4CB8-AC5E-2C9D9ACE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DA8-0356-4885-9797-6B63E5D8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CB0E-0898-4EBB-889A-08DA7A37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8C82-E059-4ED5-BA7F-CDF306A7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EE7C-5222-4194-8C50-3E199919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D396-9176-4261-A90B-C0C69C6B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2A95-0579-4551-B1EC-6FE3BA9B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3A63-EB6D-483A-B70E-5A2C546C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B6D9-265A-411F-A97C-423CF0E7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A73-E1A6-4E61-8932-93D1361F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5111-30F2-4DEE-9766-DC05229A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7C1F-8C76-42DE-838E-4C26B55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A4C5-4EC1-46C6-8602-69A83B2C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1977-CB02-4469-A12A-788086CD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A06D-A8CD-4898-B122-C956FF8B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C1EC-DAF7-4F52-AF0D-C126F9CD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82C7B-01F0-42C2-A54D-3C7C2E27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C363-7987-4206-AA1E-CDA2206B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776F-6BD3-4882-A4BE-F2E3A420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F2209-6270-4EC4-8E2A-3C7DDAFB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131-3F57-4AEC-99CE-529C63B9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E085A-13C7-45C9-A7DD-E19FC119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570A-29A8-478F-8C0A-671A8B5F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7105-E65F-4CE2-89F1-CC88BDF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4A24-6A01-4384-9507-5F42C4BC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E7A0-4F5A-47E4-BAFA-B614B576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792E-4174-429C-9E95-B6BCDB5A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287D-6B77-473A-A223-143947BE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906-EEAE-4B1A-B13D-AF713984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D1E-7523-4B09-8B66-B2ED8A23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466-AB27-4CF9-8E59-26279DD4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729-79AE-4783-8A30-B1F1D21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752-600D-4022-A92D-D084211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83E-1BBB-4888-977F-E4CD2A87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DDBC-CC9D-42FE-805E-D64627BD4FE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156C-2A60-41A5-A87C-73D8BF96C9F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9721-CC83-46F8-8D60-2CD94D6B48E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ECC-7F2C-455B-9F9D-1019D6D5A278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623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b7e7ff"/>
                </a:solidFill>
                <a:latin typeface="Times New Roman"/>
                <a:ea typeface="DFKai-SB"/>
              </a:rPr>
              <a:t>本 章 架 構</a:t>
            </a:r>
            <a:endParaRPr b="0" lang="en-US" sz="40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28280"/>
            <a:ext cx="8540640" cy="32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1.1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學在商業與管理的應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1.2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敘述統計與推論統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1.3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學的方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3054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例</a:t>
            </a:r>
            <a:r>
              <a:rPr b="1" lang="en-US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1.4  XXX</a:t>
            </a:r>
            <a:r>
              <a:rPr b="1" lang="zh-TW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年的全國失業率</a:t>
            </a:r>
            <a:endParaRPr b="0" lang="en-US" sz="32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敘述統計之實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1.1 XXXXX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全國失業率的統計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矩形 33796"/>
          <p:cNvSpPr/>
          <p:nvPr/>
        </p:nvSpPr>
        <p:spPr>
          <a:xfrm>
            <a:off x="25812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图片 33795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93432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21368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例</a:t>
            </a:r>
            <a:r>
              <a:rPr b="1" lang="en-US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1.5  </a:t>
            </a:r>
            <a:r>
              <a:rPr b="1" lang="zh-TW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加權指數前十二大漲、跌點數</a:t>
            </a:r>
            <a:endParaRPr b="0" lang="en-US" sz="32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敘述統計之實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表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1.2  </a:t>
            </a: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台灣加權指數前十二大漲、跌點數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(</a:t>
            </a: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民國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79</a:t>
            </a: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年至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90</a:t>
            </a:r>
            <a:r>
              <a:rPr b="0" lang="zh-TW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DFKai-SB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对象 75779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837120" cy="4464000"/>
          </a:xfrm>
          <a:prstGeom prst="rect">
            <a:avLst/>
          </a:prstGeom>
          <a:ln w="0">
            <a:noFill/>
          </a:ln>
        </p:spPr>
      </p:pic>
      <p:sp>
        <p:nvSpPr>
          <p:cNvPr id="159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623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.2  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敘述統計與推論統計</a:t>
            </a: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(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續</a:t>
            </a: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母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population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研究某一現象的全部個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樣本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sample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從母體中抽取部分個體作為研究調查的對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參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parameter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用來描述母體的特徵值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量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statistic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樣本資料所形成的函數，其主要目的是用來推論母體參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8720" y="228600"/>
            <a:ext cx="7623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.2  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敘述統計與推論統計（續</a:t>
            </a: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）</a:t>
            </a:r>
            <a:r>
              <a:rPr b="0" lang="zh-TW" sz="4000" spc="-1" strike="noStrike">
                <a:solidFill>
                  <a:srgbClr val="b7e7ff"/>
                </a:solidFill>
                <a:latin typeface="Times New Roman"/>
                <a:ea typeface="DFKai-SB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Times New Roman"/>
            </a:endParaRPr>
          </a:p>
        </p:txBody>
      </p:sp>
      <p:grpSp>
        <p:nvGrpSpPr>
          <p:cNvPr id="164" name="组合 11306"/>
          <p:cNvGrpSpPr/>
          <p:nvPr/>
        </p:nvGrpSpPr>
        <p:grpSpPr>
          <a:xfrm>
            <a:off x="4343400" y="3124080"/>
            <a:ext cx="1143000" cy="587520"/>
            <a:chOff x="4343400" y="3124080"/>
            <a:chExt cx="1143000" cy="587520"/>
          </a:xfrm>
        </p:grpSpPr>
        <p:sp>
          <p:nvSpPr>
            <p:cNvPr id="165" name="右箭头 11271"/>
            <p:cNvSpPr/>
            <p:nvPr/>
          </p:nvSpPr>
          <p:spPr>
            <a:xfrm>
              <a:off x="4343400" y="3505320"/>
              <a:ext cx="1143000" cy="206280"/>
            </a:xfrm>
            <a:prstGeom prst="rightArrow">
              <a:avLst>
                <a:gd name="adj1" fmla="val 50000"/>
                <a:gd name="adj2" fmla="val 1385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文本框 11272"/>
            <p:cNvSpPr/>
            <p:nvPr/>
          </p:nvSpPr>
          <p:spPr>
            <a:xfrm>
              <a:off x="4665240" y="3124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抽樣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组合 11309"/>
          <p:cNvGrpSpPr/>
          <p:nvPr/>
        </p:nvGrpSpPr>
        <p:grpSpPr>
          <a:xfrm>
            <a:off x="4343040" y="4898880"/>
            <a:ext cx="1143000" cy="587520"/>
            <a:chOff x="4343040" y="4898880"/>
            <a:chExt cx="1143000" cy="587520"/>
          </a:xfrm>
        </p:grpSpPr>
        <p:sp>
          <p:nvSpPr>
            <p:cNvPr id="168" name="右箭头 11273"/>
            <p:cNvSpPr/>
            <p:nvPr/>
          </p:nvSpPr>
          <p:spPr>
            <a:xfrm flipH="1">
              <a:off x="4342680" y="5280120"/>
              <a:ext cx="1143000" cy="206280"/>
            </a:xfrm>
            <a:prstGeom prst="rightArrow">
              <a:avLst>
                <a:gd name="adj1" fmla="val 50000"/>
                <a:gd name="adj2" fmla="val 138500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文本框 11274"/>
            <p:cNvSpPr/>
            <p:nvPr/>
          </p:nvSpPr>
          <p:spPr>
            <a:xfrm>
              <a:off x="4665240" y="4898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推論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组合 11310"/>
          <p:cNvGrpSpPr/>
          <p:nvPr/>
        </p:nvGrpSpPr>
        <p:grpSpPr>
          <a:xfrm>
            <a:off x="2988720" y="4529160"/>
            <a:ext cx="455040" cy="1020600"/>
            <a:chOff x="2988720" y="4529160"/>
            <a:chExt cx="455040" cy="1020600"/>
          </a:xfrm>
        </p:grpSpPr>
        <p:grpSp>
          <p:nvGrpSpPr>
            <p:cNvPr id="171" name="组合 11278"/>
            <p:cNvGrpSpPr/>
            <p:nvPr/>
          </p:nvGrpSpPr>
          <p:grpSpPr>
            <a:xfrm>
              <a:off x="3087720" y="4529160"/>
              <a:ext cx="228600" cy="647280"/>
              <a:chOff x="3087720" y="4529160"/>
              <a:chExt cx="228600" cy="647280"/>
            </a:xfrm>
          </p:grpSpPr>
          <p:sp>
            <p:nvSpPr>
              <p:cNvPr id="172" name="矩形 11276"/>
              <p:cNvSpPr/>
              <p:nvPr/>
            </p:nvSpPr>
            <p:spPr>
              <a:xfrm>
                <a:off x="3146400" y="4795560"/>
                <a:ext cx="108000" cy="38088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等腰三角形 11277"/>
              <p:cNvSpPr/>
              <p:nvPr/>
            </p:nvSpPr>
            <p:spPr>
              <a:xfrm>
                <a:off x="3087720" y="452916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文本框 11286"/>
            <p:cNvSpPr/>
            <p:nvPr/>
          </p:nvSpPr>
          <p:spPr>
            <a:xfrm>
              <a:off x="2988720" y="5181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參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组合 11308"/>
          <p:cNvGrpSpPr/>
          <p:nvPr/>
        </p:nvGrpSpPr>
        <p:grpSpPr>
          <a:xfrm>
            <a:off x="6020280" y="4529160"/>
            <a:ext cx="729360" cy="1020600"/>
            <a:chOff x="6020280" y="4529160"/>
            <a:chExt cx="729360" cy="1020600"/>
          </a:xfrm>
        </p:grpSpPr>
        <p:grpSp>
          <p:nvGrpSpPr>
            <p:cNvPr id="176" name="组合 11285"/>
            <p:cNvGrpSpPr/>
            <p:nvPr/>
          </p:nvGrpSpPr>
          <p:grpSpPr>
            <a:xfrm>
              <a:off x="6248520" y="4529160"/>
              <a:ext cx="228600" cy="647640"/>
              <a:chOff x="6248520" y="4529160"/>
              <a:chExt cx="228600" cy="647640"/>
            </a:xfrm>
          </p:grpSpPr>
          <p:sp>
            <p:nvSpPr>
              <p:cNvPr id="177" name="矩形 11283"/>
              <p:cNvSpPr/>
              <p:nvPr/>
            </p:nvSpPr>
            <p:spPr>
              <a:xfrm flipV="1">
                <a:off x="6307200" y="4529160"/>
                <a:ext cx="108000" cy="3808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33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等腰三角形 11284"/>
              <p:cNvSpPr/>
              <p:nvPr/>
            </p:nvSpPr>
            <p:spPr>
              <a:xfrm flipV="1">
                <a:off x="6248520" y="487224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" name="文本框 11287"/>
            <p:cNvSpPr/>
            <p:nvPr/>
          </p:nvSpPr>
          <p:spPr>
            <a:xfrm>
              <a:off x="6020280" y="5181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統計量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矩形 11288"/>
          <p:cNvSpPr/>
          <p:nvPr/>
        </p:nvSpPr>
        <p:spPr>
          <a:xfrm>
            <a:off x="1752480" y="2057400"/>
            <a:ext cx="5943600" cy="3886200"/>
          </a:xfrm>
          <a:prstGeom prst="rect">
            <a:avLst/>
          </a:prstGeom>
          <a:noFill/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组合 11305"/>
          <p:cNvGrpSpPr/>
          <p:nvPr/>
        </p:nvGrpSpPr>
        <p:grpSpPr>
          <a:xfrm>
            <a:off x="2286000" y="2209680"/>
            <a:ext cx="1828800" cy="2286000"/>
            <a:chOff x="2286000" y="2209680"/>
            <a:chExt cx="1828800" cy="2286000"/>
          </a:xfrm>
        </p:grpSpPr>
        <p:sp>
          <p:nvSpPr>
            <p:cNvPr id="182" name="椭圆 11268"/>
            <p:cNvSpPr/>
            <p:nvPr/>
          </p:nvSpPr>
          <p:spPr>
            <a:xfrm>
              <a:off x="2286000" y="2666880"/>
              <a:ext cx="1828800" cy="182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平均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比　例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變異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文本框 11303"/>
            <p:cNvSpPr/>
            <p:nvPr/>
          </p:nvSpPr>
          <p:spPr>
            <a:xfrm>
              <a:off x="2988720" y="220968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母　體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组合 11307"/>
          <p:cNvGrpSpPr/>
          <p:nvPr/>
        </p:nvGrpSpPr>
        <p:grpSpPr>
          <a:xfrm>
            <a:off x="5715000" y="2209680"/>
            <a:ext cx="1295280" cy="2286000"/>
            <a:chOff x="5715000" y="2209680"/>
            <a:chExt cx="1295280" cy="2286000"/>
          </a:xfrm>
        </p:grpSpPr>
        <p:sp>
          <p:nvSpPr>
            <p:cNvPr id="185" name="椭圆 11270"/>
            <p:cNvSpPr/>
            <p:nvPr/>
          </p:nvSpPr>
          <p:spPr>
            <a:xfrm>
              <a:off x="5715000" y="2666880"/>
              <a:ext cx="1295280" cy="182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樣本平均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樣本比例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cc0000"/>
                  </a:solidFill>
                  <a:latin typeface="Times New Roman"/>
                  <a:ea typeface="DFKai-SB"/>
                </a:rPr>
                <a:t>樣本變異數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文本框 11304"/>
            <p:cNvSpPr/>
            <p:nvPr/>
          </p:nvSpPr>
          <p:spPr>
            <a:xfrm>
              <a:off x="6004800" y="220968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Times New Roman"/>
                  <a:ea typeface="DFKai-SB"/>
                </a:rPr>
                <a:t>樣　本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矩形 11311"/>
          <p:cNvSpPr/>
          <p:nvPr/>
        </p:nvSpPr>
        <p:spPr>
          <a:xfrm>
            <a:off x="106668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圖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1.2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母體與樣本的關係圖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343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.3 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統計學的方法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演繹的統計分析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deductive statistical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假設母體為已知的情形下，推導出樣本的特性。例如根據過去的經驗，工廠裡某一生產線的產品瑕疵率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2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，則我們任意抽取一組樣本，其瑕疵率即假設為百分之二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歸納的統計分析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(inductive statistical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利用樣本資料來推估及臆測未知的母體參數。例如，民國八十九年總統大選前，某民調單位公佈陳水扁總統的支持率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38%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，若抽樣誤差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3 %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，則我們推估陳總統的得票率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35%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41%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28600"/>
            <a:ext cx="8200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.1 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統計學在商業與管理的應用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學的功能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用來蒐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collection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、組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organization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、呈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presentation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、分析與解釋資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data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及數據所隱含的意義，並進一步地利用統計的技巧來作商情預測與管理決策制定之參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學在商業與管理的應用實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財務風險分析、顧客行為分析、商品市場的變化趨勢及經濟環境的研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……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等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資料採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data mining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資料採礦乃以統計方法為基礎，輔以電腦儲存運算能力。其主要功能為在龐大資料庫中尋找有價值的訊息，作為決策支援之用，進而提昇企業之競爭優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文本框 3075"/>
          <p:cNvSpPr/>
          <p:nvPr/>
        </p:nvSpPr>
        <p:spPr>
          <a:xfrm>
            <a:off x="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統計學在財務領域的應用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財務分析的結果是對企業的償債能力、盈利能力和抵抗風險能力作出評價，或找出存在的問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財務分析的一般目的可以概括為：評價過去的經營業績、衡量現在的財務狀況、預測未來的發展趨勢。根據分析的具體目的，財務分析可以分為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1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流動性分析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2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盈利性分析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3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財務風險分析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4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專題分析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為達成上述目的，我們均可使用統計數量方法，提供精確的財務比率與衡量指標，輔佐管理者制定適當的決策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顧客關係管理</a:t>
            </a:r>
            <a:r>
              <a:rPr b="0" lang="zh-TW" sz="4400" spc="-1" strike="noStrike">
                <a:solidFill>
                  <a:srgbClr val="b7e7ff"/>
                </a:solidFill>
                <a:latin typeface="Times New Roman"/>
                <a:ea typeface="DFKai-SB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「顧客關係管理」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Customer Relationship Management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一詞，即意謂建立良好的顧客關係，以提供客製化服務為宗旨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CRM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可以強化企業核心作業的競爭性，協助企業掌握與客戶間的有效互動，而透過市場調查、資料採礦技術與資料庫行銷功能，可強化行銷及客服能力，提供顧客客製化的產品及服務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由上述可知，統計方法與工具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CRM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扮演相當重要的角色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資料採礦的進行步驟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資料採礦既然可以增加企業智慧，提昇企業競爭優勢，到底應該如何進行呢？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1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理解資料與進行的工作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2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獲取相關知識與技術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Acquisition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3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整合與查核資料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Integration and checking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4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去除錯誤或不一致的資料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Data cleaning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5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發展模式與假設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Model and hypothesis development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6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實際資料採礦工作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7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測試與檢核所採礦的資料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Testing and verification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8.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解釋與使用資料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Interpretation and use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由上述步驟可看出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Data Mining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牽涉了大量的準備工作與規劃過程 ，而這些過程都植基於統計學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132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例</a:t>
            </a:r>
            <a:r>
              <a:rPr b="1" lang="en-US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1.2</a:t>
            </a:r>
            <a:r>
              <a:rPr b="0" lang="en-US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  </a:t>
            </a:r>
            <a:r>
              <a:rPr b="1" lang="zh-TW" sz="3200" spc="-1" strike="noStrike">
                <a:solidFill>
                  <a:srgbClr val="b7e7ff"/>
                </a:solidFill>
                <a:latin typeface="Times New Roman"/>
                <a:ea typeface="DFKai-SB"/>
              </a:rPr>
              <a:t>幾個結帳櫃台才足夠？</a:t>
            </a:r>
            <a:r>
              <a:rPr b="0" lang="zh-TW" sz="4800" spc="-1" strike="noStrike">
                <a:solidFill>
                  <a:srgbClr val="b7e7ff"/>
                </a:solidFill>
                <a:latin typeface="Times New Roman"/>
                <a:ea typeface="DFKai-SB"/>
              </a:rPr>
              <a:t> </a:t>
            </a:r>
            <a:endParaRPr b="0" lang="en-US" sz="48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320" y="1817280"/>
            <a:ext cx="80233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我們知道大賣場每個時段的消費人數會有很大差異，因此可利用簡單的統計資料，來幫助管理者解決問題，以利安排及開放合適的結帳櫃台數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203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1.2  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敘述統計與推論統計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76592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統計學的類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敘述統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descriptive statistics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利用統計圖表與統計量數來呈現與彙整所蒐集的資料。例如全體同學的統計學期中考平均成績，即是利用敘述統計來表達全體同學成績的中心分數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推論統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inferential statistics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 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根據樣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sample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資料推測母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population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之某一特性或作區間估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interval estimation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與假設檢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(testing hypothesis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。例如以民調來預測選舉結果， 即是利用推論統計來推測全體民眾對各候選人的支持狀況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敘述統計的實例</a:t>
            </a: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—</a:t>
            </a: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共同基金績效評估指標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如何衡量基金的投資績效？大家習慣用報酬率及排名來作為衡量績效的指標，然而風險與報酬具有一體兩面的關係，投資人在承擔風險的同時就是希望可以獲得相對的報酬。因此，我們可選擇考量風險後的指標：年化標準差、貝他係數、夏普指標，來評估共同基金的投資績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這些共同基金的績效評估指標，便是敘述統計的實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b7e7ff"/>
                </a:solidFill>
                <a:latin typeface="Times New Roman"/>
                <a:ea typeface="DFKai-SB"/>
              </a:rPr>
              <a:t>民調在選舉中能夠發揮預測之功能？</a:t>
            </a:r>
            <a:endParaRPr b="0" lang="en-US" sz="36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原則上，每一份民調結果的呈現，都牽涉到其使用民調模式與應用時機的差異，是否能準確預測選舉結果，見仁見智。以民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89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年的總統大選為例，要準確以民調測出總統大選結果，必須在投票前十天左右，精確掌握選舉的變動因素，定出一套預測模型，直接在問卷設計上掌握關鍵點偵測，從而判斷預測模型的正確性。以民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89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年的總統大選來看，只要透過民調能偵測到連陣營即將崩盤、國民黨票源將為宋楚瑜所侵蝕，那就是一份很成功的調查，不過似乎很少有民調測出這種結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（資料來源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:XXXXXXXX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教授）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DFKai-S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日期占位符 1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7:20Z</dcterms:created>
  <dc:creator/>
  <dc:description/>
  <cp:keywords>统计学 应用 架构</cp:keywords>
  <dc:language>en-US</dc:language>
  <cp:lastModifiedBy>An</cp:lastModifiedBy>
  <dcterms:modified xsi:type="dcterms:W3CDTF">2016-05-01T00:57:2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