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9244-2072-4455-89C6-7AD0074C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DAF2-9E7C-41EA-BCDD-6D81BAF2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7230-B9BA-4F37-9BDF-43C4F3F1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9881-8326-4F7C-A855-DAB778C26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3437-CA69-4020-9E05-3BAD9B57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FA97-0BA5-41B6-BDF9-172E986C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590-A0AD-4CD8-B2DC-DD304A42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AC4A-837B-4F65-9ACB-FF745E5D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0606-1DBB-4281-B8A4-AD047FD1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5152-8418-41F3-90F6-8B4F266E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22ED-6C8F-4126-BF8C-9894C26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40E9-D813-456B-9AC4-F9047A40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CB71-F1E3-40E5-BE64-A905A96834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课文插图1"/>
          <p:cNvPicPr/>
          <p:nvPr/>
        </p:nvPicPr>
        <p:blipFill>
          <a:blip r:embed="rId1"/>
          <a:srcRect l="3526" t="961" r="2919" b="5143"/>
          <a:stretch/>
        </p:blipFill>
        <p:spPr>
          <a:xfrm>
            <a:off x="2843280" y="87480"/>
            <a:ext cx="5491080" cy="59338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611280" y="333360"/>
            <a:ext cx="1371600" cy="60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05200" y="765000"/>
            <a:ext cx="215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《挑山工》课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1692360" y="154152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D:\My Documents\dd\第九册课件\挑山工\挑山工 摄影2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923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28720" y="595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2" descr="D:\My Documents\dd\第九册课件\挑山工\挑山工 摄影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" descr="D:\My Documents\dd\第九册课件\挑山工\挑山工 摄影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400" spc="-1" strike="noStrike">
                <a:solidFill>
                  <a:srgbClr val="cc0000"/>
                </a:solidFill>
                <a:latin typeface="Times New Roman"/>
              </a:rPr>
              <a:t>合作梳理“三遇三见”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要求：在阅读课文基础上，以小组合作方式填写下表规定的内容。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0" y="2743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2709720"/>
          <a:ext cx="9144000" cy="4140360"/>
        </p:xfrm>
        <a:graphic>
          <a:graphicData uri="http://schemas.openxmlformats.org/drawingml/2006/table">
            <a:tbl>
              <a:tblPr/>
              <a:tblGrid>
                <a:gridCol w="2209680"/>
                <a:gridCol w="2438640"/>
                <a:gridCol w="4495680"/>
              </a:tblGrid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相遇次数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相遇地点</a:t>
                      </a:r>
                      <a:r>
                        <a:rPr b="0" lang="en-US" sz="2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看见挑山工在干什么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第一次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第二次</a:t>
                      </a:r>
                      <a:r>
                        <a:rPr b="0" lang="en-US" sz="2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第一次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883-A343-4535-B7DA-5C59A76B3A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28951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我们哪里有近道，还不和你们走的一条道？你们肩膀上没有挑子，是走得快，可是一路上东看西看，玩玩闹闹，总得停下来嘛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! </a:t>
            </a: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我们跟你们不一样。不像你们那么随便，高兴怎么就怎么。一步踩不实不行，更不能耽误工夫。我们得一个劲儿往前走。别看我们慢，走长了就跑到你们前边去了。您看，是不是这个理儿？”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</a:rPr>
              <a:t>细细咀嚼这些句子，从中你发现“挑山工”与“游人”在登山的过程中有哪些不同点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我们”指（谁）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____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你们”指（谁）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_______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负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速度负重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901"/>
              </a:spcBef>
              <a:buClr>
                <a:srgbClr val="0066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宋体"/>
              </a:rPr>
              <a:t>登山特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-226080">
              <a:lnSpc>
                <a:spcPct val="100000"/>
              </a:lnSpc>
              <a:spcBef>
                <a:spcPts val="400"/>
              </a:spcBef>
              <a:buClr>
                <a:srgbClr val="cc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结果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（谁）跑到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（谁）前边去了</a:t>
            </a:r>
            <a:br>
              <a:rPr sz="3600"/>
            </a:br>
            <a:br>
              <a:rPr sz="1600"/>
            </a:br>
            <a:r>
              <a:rPr b="1" lang="zh-CN" sz="16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6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82680" y="6297480"/>
            <a:ext cx="6759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模板下载请访问：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0:50:13Z</dcterms:created>
  <dc:creator/>
  <dc:description/>
  <cp:keywords>幻灯片之家 http:/www.eeppt.com</cp:keywords>
  <dc:language>en-US</dc:language>
  <cp:lastModifiedBy/>
  <dcterms:modified xsi:type="dcterms:W3CDTF">2015-07-17T15:09:16Z</dcterms:modified>
  <cp:revision>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