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14BE-AC26-40EE-B29B-E17464C4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C7A-EE84-4A05-8FA1-6F22DBE0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DAA-1838-420B-86EB-4665B4A0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06AA-A586-4769-8D50-E35027C55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FC9-B153-4472-B6F6-DA0CB6BA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F1A-7B5C-419A-8A4B-29E44DD5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AF7-5038-4C1C-869F-396457AE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012-94BA-41DC-8DDD-434509AC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271-EE55-4CE3-A9D8-6DBC06AB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327B-B4CF-49A3-BC33-B8F7A92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354-7CC5-40DD-860F-8845F410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3BC-77BF-4782-B13C-B974FF41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E7FB-EF23-4D24-9A60-CE745ADF2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ejianhome.com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《文成公主进藏》课件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10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6937200" y="630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5075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文成公主知书达理，不畏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险，远嫁吐蕃，为促进唐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蕃之间经济文化交流，增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汉藏两族人民亲密友好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关系做出了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历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性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藏族人民热爱美丽的文成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，把她当成神一样崇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因此，民间流传着许多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于文成公主进藏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今天，我们要读的，是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一个故事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11787185317251198"/>
          <p:cNvPicPr/>
          <p:nvPr/>
        </p:nvPicPr>
        <p:blipFill>
          <a:blip r:embed="rId3"/>
          <a:stretch/>
        </p:blipFill>
        <p:spPr>
          <a:xfrm>
            <a:off x="4932360" y="333360"/>
            <a:ext cx="4116240" cy="5832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字词质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使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碰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隆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908000" y="17002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由一个国家派驻在另一个国家的外交代表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或由一个国派遣到另一个国家去办理事务的代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908000" y="2852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刚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835280" y="407664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Arial"/>
              </a:rPr>
              <a:t>盛大庄重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93D-359D-4D70-956C-BA5FA1D7D3C3}" type="slidenum">
              <a:t>4</a:t>
            </a:fld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99"/>
                </a:solidFill>
                <a:latin typeface="Arial"/>
              </a:rPr>
              <a:t>课文按什么顺序写文成公主进藏的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求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1547640" y="177336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484360" y="1484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接见使臣考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>
            <a:off x="5651640" y="17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516720" y="1484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允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7667640" y="17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468360" y="2708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进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1476360" y="299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484360" y="2708280"/>
            <a:ext cx="64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给西藏带去了先进的生产技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242100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0,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文成公主进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476360" y="765000"/>
            <a:ext cx="4586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1692360" y="620640"/>
            <a:ext cx="287280" cy="4897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7440 h 4897440"/>
              <a:gd name="textAreaBottom" fmla="*/ 4770000 h 489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2050920" y="404640"/>
            <a:ext cx="25196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求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接见使臣考智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允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进藏途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99ff"/>
                </a:solidFill>
                <a:latin typeface="Arial"/>
              </a:rPr>
              <a:t>给西藏带去了生产技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4356000" y="765000"/>
            <a:ext cx="289080" cy="863640"/>
          </a:xfrm>
          <a:custGeom>
            <a:avLst/>
            <a:gdLst>
              <a:gd name="textAreaLeft" fmla="*/ 184680 w 289080"/>
              <a:gd name="textAreaRight" fmla="*/ 289080 w 289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43"/>
                </a:lnTo>
                <a:cubicBezTo>
                  <a:pt x="10800" y="9543"/>
                  <a:pt x="5400" y="10443"/>
                  <a:pt x="0" y="10443"/>
                </a:cubicBezTo>
                <a:cubicBezTo>
                  <a:pt x="5400" y="10443"/>
                  <a:pt x="10800" y="11343"/>
                  <a:pt x="10800" y="1224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788000" y="692280"/>
            <a:ext cx="208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辩认马母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识别公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3348000" y="2997360"/>
            <a:ext cx="360360" cy="201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708360" y="2781360"/>
            <a:ext cx="3888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a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河挡住去路，树干搭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沼泽地撒羊毛，走过去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c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恶乌鸦谎报，修石头房子纪念松赞干布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d,</a:t>
            </a:r>
            <a:r>
              <a:rPr b="0" lang="zh-CN" sz="2400" spc="-1" strike="noStrike">
                <a:solidFill>
                  <a:srgbClr val="00cc00"/>
                </a:solidFill>
                <a:latin typeface="Arial"/>
              </a:rPr>
              <a:t>背走乃巴山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2:45:10Z</dcterms:created>
  <dc:creator/>
  <dc:description/>
  <cp:keywords>幻灯片之家 http:/www.eeppt.com</cp:keywords>
  <dc:language>en-US</dc:language>
  <cp:lastModifiedBy/>
  <dcterms:modified xsi:type="dcterms:W3CDTF">2015-07-20T05:24:08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