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gif" ContentType="image/gif"/>
  <Override PartName="/ppt/media/image8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4.gif" ContentType="image/gif"/>
  <Override PartName="/ppt/media/image19.gif" ContentType="image/gif"/>
  <Override PartName="/ppt/media/image18.gif" ContentType="image/gif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1.png" ContentType="image/png"/>
  <Override PartName="/ppt/media/image16.gif" ContentType="image/gif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7C9-8E41-4FFF-BC18-ABD7E9D8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771-130F-4F7B-8786-45963F2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8A2-7113-4AD8-B927-B3E657C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D53-AE2B-4868-9A73-0FD7D655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475-9BBE-4B91-99AE-C60D277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D0C-4A7C-4253-889B-238CF394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DB9-DC20-441D-AFEF-9DA0B11F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3F9-C27F-4DA6-8208-D925B161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4FA-7247-4BF8-98B4-97F1EB2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A3D-D511-4737-9D79-2F598F47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4AB-F12E-4373-BEA0-AD2A0FF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79C-AB59-4D8E-A25F-E559FA4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39D-FE42-46EE-AF36-45E1BA8928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7690-BA6D-4AE7-99D5-BD49510A8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1885" t="5604" r="6676" b="1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2920" y="112392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5060880" y="378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28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44936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的大学生活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2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2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30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15">
                                          <p:stCondLst>
                                            <p:cond delay="16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5">
                                          <p:stCondLst>
                                            <p:cond delay="20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33" fill="hold">
                                          <p:stCondLst>
                                            <p:cond delay="8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207" fill="hold">
                                          <p:stCondLst>
                                            <p:cond delay="84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33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207" fill="hold">
                                          <p:stCondLst>
                                            <p:cond delay="1673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3" fill="hold">
                                          <p:stCondLst>
                                            <p:cond delay="205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207" fill="hold">
                                          <p:stCondLst>
                                            <p:cond delay="20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3" fill="hold">
                                          <p:stCondLst>
                                            <p:cond delay="226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207" fill="hold">
                                          <p:stCondLst>
                                            <p:cond delay="2293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736000" y="37180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我的大学生活似乎已经开始了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222120" y="530064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"/>
              </a:rPr>
              <a:t>New life begin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060800" y="6602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踏上火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290840" y="148428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366800" y="2205000"/>
            <a:ext cx="36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我的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old friends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4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6" descr=""/>
          <p:cNvPicPr/>
          <p:nvPr/>
        </p:nvPicPr>
        <p:blipFill>
          <a:blip r:embed="rId1"/>
          <a:stretch/>
        </p:blipFill>
        <p:spPr>
          <a:xfrm>
            <a:off x="8028000" y="522144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4"/>
          <p:cNvSpPr/>
          <p:nvPr/>
        </p:nvSpPr>
        <p:spPr>
          <a:xfrm>
            <a:off x="925200" y="3940200"/>
            <a:ext cx="35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多亏了他们，我才能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找到宿舍，他们还帮我把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搬上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4" descr=""/>
          <p:cNvPicPr/>
          <p:nvPr/>
        </p:nvPicPr>
        <p:blipFill>
          <a:blip r:embed="rId2"/>
          <a:srcRect l="22085" t="0" r="24252" b="0"/>
          <a:stretch/>
        </p:blipFill>
        <p:spPr>
          <a:xfrm>
            <a:off x="6599160" y="830160"/>
            <a:ext cx="172872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3"/>
          <a:srcRect l="15214" t="0" r="17157" b="0"/>
          <a:stretch/>
        </p:blipFill>
        <p:spPr>
          <a:xfrm>
            <a:off x="5292720" y="843120"/>
            <a:ext cx="1943280" cy="314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611280" y="692280"/>
            <a:ext cx="58323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d050"/>
                </a:solidFill>
                <a:latin typeface="华文琥珀"/>
                <a:ea typeface="华文琥珀"/>
              </a:rPr>
              <a:t>报到的那天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Harlow Solid Italic"/>
              </a:rPr>
              <a:t>The first day at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4"/>
          <a:srcRect l="9235" t="3449" r="3912" b="0"/>
          <a:stretch/>
        </p:blipFill>
        <p:spPr>
          <a:xfrm>
            <a:off x="5580000" y="24163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68400" y="1371600"/>
            <a:ext cx="50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幸正当我为如山的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发愁时，马上就有好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学长学姐来帮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1" descr=""/>
          <p:cNvPicPr/>
          <p:nvPr/>
        </p:nvPicPr>
        <p:blipFill>
          <a:blip r:embed="rId5"/>
          <a:stretch/>
        </p:blipFill>
        <p:spPr>
          <a:xfrm rot="1336800">
            <a:off x="3677760" y="2049480"/>
            <a:ext cx="1260720" cy="126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4836240" y="938160"/>
            <a:ext cx="352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告别家人，本以为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自理能力已经很强了，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现，事实并非如此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730080" y="216540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感动啊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~~~~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3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1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7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350"/>
                            </p:stCondLst>
                            <p:childTnLst>
                              <p:par>
                                <p:cTn id="1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85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851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901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3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451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452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1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252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952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4952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22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68240" y="1700280"/>
            <a:ext cx="7797960" cy="749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61844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微软雅黑"/>
                <a:ea typeface="微软雅黑"/>
              </a:rPr>
              <a:t>起初，对身边的一切事物都很好奇，因为对于我来说，处处都是新鲜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3"/>
          <a:stretch/>
        </p:blipFill>
        <p:spPr>
          <a:xfrm>
            <a:off x="7791480" y="141300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063320" y="256536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舒体"/>
                <a:ea typeface="方正舒体"/>
              </a:rPr>
              <a:t>几乎每一天都有活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78200" y="1209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才艺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161600" y="1278000"/>
            <a:ext cx="82080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楷体"/>
                <a:ea typeface="华文楷体"/>
              </a:rPr>
              <a:t>辩论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872760" y="1236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112400" y="435276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各种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954480" y="437832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各种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3933000" y="3854520"/>
            <a:ext cx="127800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各种社团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1" descr=""/>
          <p:cNvPicPr/>
          <p:nvPr/>
        </p:nvPicPr>
        <p:blipFill>
          <a:blip r:embed="rId2"/>
          <a:stretch/>
        </p:blipFill>
        <p:spPr>
          <a:xfrm>
            <a:off x="2724120" y="1619280"/>
            <a:ext cx="727200" cy="7286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2" descr=""/>
          <p:cNvPicPr/>
          <p:nvPr/>
        </p:nvPicPr>
        <p:blipFill>
          <a:blip r:embed="rId3"/>
          <a:stretch/>
        </p:blipFill>
        <p:spPr>
          <a:xfrm>
            <a:off x="5619600" y="1531800"/>
            <a:ext cx="741600" cy="7430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3" descr=""/>
          <p:cNvPicPr/>
          <p:nvPr/>
        </p:nvPicPr>
        <p:blipFill>
          <a:blip r:embed="rId4"/>
          <a:stretch/>
        </p:blipFill>
        <p:spPr>
          <a:xfrm>
            <a:off x="2724120" y="4797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6" descr=""/>
          <p:cNvPicPr/>
          <p:nvPr/>
        </p:nvPicPr>
        <p:blipFill>
          <a:blip r:embed="rId5"/>
          <a:stretch/>
        </p:blipFill>
        <p:spPr>
          <a:xfrm>
            <a:off x="5629320" y="4797360"/>
            <a:ext cx="731880" cy="730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63640" y="189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"/>
          <p:cNvPicPr/>
          <p:nvPr/>
        </p:nvPicPr>
        <p:blipFill>
          <a:blip r:embed="rId1"/>
          <a:srcRect l="2848" t="5101" r="2698" b="6282"/>
          <a:stretch/>
        </p:blipFill>
        <p:spPr>
          <a:xfrm>
            <a:off x="1547640" y="16992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729080" y="4761000"/>
            <a:ext cx="518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，问题出现了，那些最初以为不怎么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课程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让我抓狂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每到交作业的前一晚，我就有一夜回到高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的感觉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8028000" y="31399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tretch/>
        </p:blipFill>
        <p:spPr>
          <a:xfrm>
            <a:off x="322200" y="6922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60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6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601"/>
                            </p:stCondLst>
                            <p:childTnLst>
                              <p:par>
                                <p:cTn id="2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201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601"/>
                            </p:stCondLst>
                            <p:childTnLst>
                              <p:par>
                                <p:cTn id="26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601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55640" y="76500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-221760" y="620640"/>
            <a:ext cx="95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   </a:t>
            </a: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现在，我明白不该再让自己迷失，要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自己最初的梦想，找到自己的方向，让每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都过得有意义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I  will  greet  this  day  with  love  in  my 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How   about   you   ? </a:t>
            </a:r>
            <a:r>
              <a:rPr b="0" lang="en-US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6300720" y="1133640"/>
            <a:ext cx="245268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25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50"/>
                            </p:stCondLst>
                            <p:childTnLst>
                              <p:par>
                                <p:cTn id="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50"/>
                            </p:stCondLst>
                            <p:childTnLst>
                              <p:par>
                                <p:cTn id="2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25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250"/>
                            </p:stCondLst>
                            <p:childTnLst>
                              <p:par>
                                <p:cTn id="3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1B3-A3BD-431A-B3BF-7715E8F00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2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24:01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