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A986-EC48-49A4-AC08-1F3B8FF7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932E-03DA-4F59-AFDA-CED9797E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3772-7C68-4093-9B60-0F0CA303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5C67-7B6C-4697-8676-97D7285A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6D61-1C0E-452D-BD35-B6ED564F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DEE1-CF0A-4531-9761-91068889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758C-34C9-424F-8ACC-304440C1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48EB-E2DA-4C91-AE6F-C46F44CC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D510-B625-4679-8082-D75DC890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7871-4649-4CCD-A76C-F5B0163D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3592-4A7E-4909-9947-86856C53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F1D7-B0AE-485B-8E54-5FFFD67E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E36B-FD43-4000-A43B-9E22F2D5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2E89-71ED-469D-BC2D-2AF4DCA1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6F63-3D3F-4E4E-A5A4-FD242CCF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F16D-7EFD-4522-8C75-2143851C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456D-DDF1-49A4-BBC3-ACAFDA7E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FCC43-8427-47A4-BA86-48AAEDA7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DC392-E14E-4D5D-B7E9-B296B94F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B598C-D13F-4CD7-9436-2A227A85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849CF-9628-4532-9E2D-D0A07731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2E818-07A6-47A3-BA0C-7C1F45D9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80BA-3417-493B-8302-333055B6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1C96B-AD6D-455F-A408-5EDE33CD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9C12A-2E89-4419-86AB-9072ACE5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C95A1-E06D-4282-95C1-3A6C50FB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19BC2-7659-4380-85F8-606D94FA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28C5C-FB59-4C4E-91FA-121DEAA0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90419-1B81-4D7F-93B9-381C4A76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FC42C-7ACA-417F-B216-91CB6BB9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0773F-55E9-4478-8641-5C2AA042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CC56B-8EC6-416A-B56C-AD7C0AEC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E40E9-3A16-4546-AA6F-34FC7584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D7C6-BF5F-4ECF-93BB-00281B04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711D6-75E2-4237-A644-FDF75597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C36DB-DEE7-4DCC-A5BC-59079AA9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D3749-BAC8-45AC-A8C2-12CD877E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AA08D-DD63-4D42-8FA4-910A3E2D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C3A13-8BF9-4020-ABFE-C9B34CED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EA888-D5A5-4402-8F79-7101525E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4B316-AD05-4EBE-8904-7539B5CA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527F9-E7F2-461E-8DEB-F511FA6C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F0766-3BBB-4694-8EE9-3425BEC2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EDB9-E1F1-43F4-AD31-BC28780D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4E77-7C65-4AA3-9F32-0622B57C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8E92-AE95-44E7-95B3-75601F97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7BFE-08E6-40A1-A0A1-C695EDC8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AD7-7179-449E-AD4E-F38FFB5B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BB25-AEF8-4437-80DF-D202DBAA9E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7" descr="图片2"/>
          <p:cNvPicPr/>
          <p:nvPr/>
        </p:nvPicPr>
        <p:blipFill>
          <a:blip r:embed="rId2"/>
          <a:srcRect l="14091" t="30956" r="4908" b="0"/>
          <a:stretch/>
        </p:blipFill>
        <p:spPr>
          <a:xfrm>
            <a:off x="6400800" y="0"/>
            <a:ext cx="1752480" cy="22096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图片2"/>
          <p:cNvPicPr/>
          <p:nvPr/>
        </p:nvPicPr>
        <p:blipFill>
          <a:blip r:embed="rId3"/>
          <a:srcRect l="14091" t="35906" r="4908" b="0"/>
          <a:stretch/>
        </p:blipFill>
        <p:spPr>
          <a:xfrm>
            <a:off x="5638680" y="0"/>
            <a:ext cx="1301760" cy="1523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图片2"/>
          <p:cNvPicPr/>
          <p:nvPr/>
        </p:nvPicPr>
        <p:blipFill>
          <a:blip r:embed="rId4"/>
          <a:srcRect l="14091" t="28571" r="15372" b="0"/>
          <a:stretch/>
        </p:blipFill>
        <p:spPr>
          <a:xfrm>
            <a:off x="7542360" y="0"/>
            <a:ext cx="1830240" cy="2743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勋章"/>
          <p:cNvPicPr/>
          <p:nvPr/>
        </p:nvPicPr>
        <p:blipFill>
          <a:blip r:embed="rId5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1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0" y="1219320"/>
            <a:ext cx="9144000" cy="4114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ff0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480060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勋章"/>
          <p:cNvPicPr/>
          <p:nvPr/>
        </p:nvPicPr>
        <p:blipFill>
          <a:blip r:embed="rId2"/>
          <a:stretch/>
        </p:blipFill>
        <p:spPr>
          <a:xfrm>
            <a:off x="2538360" y="0"/>
            <a:ext cx="386244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E462-A321-4963-BA6C-0845CB9248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2008123022822100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93ED-0CD6-4C3B-9CA1-5EC66324C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1" descr="图片01"/>
          <p:cNvPicPr/>
          <p:nvPr/>
        </p:nvPicPr>
        <p:blipFill>
          <a:blip r:embed="rId3"/>
          <a:srcRect l="10654" t="25875" r="21915" b="0"/>
          <a:stretch/>
        </p:blipFill>
        <p:spPr>
          <a:xfrm>
            <a:off x="0" y="167652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飘带与权杖"/>
          <p:cNvPicPr/>
          <p:nvPr/>
        </p:nvPicPr>
        <p:blipFill>
          <a:blip r:embed="rId4">
            <a:lum bright="72000"/>
          </a:blip>
          <a:srcRect l="62257" t="7874" r="0" b="42266"/>
          <a:stretch/>
        </p:blipFill>
        <p:spPr>
          <a:xfrm>
            <a:off x="4648320" y="762120"/>
            <a:ext cx="4456080" cy="60958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3"/>
          <p:cNvSpPr/>
          <p:nvPr/>
        </p:nvSpPr>
        <p:spPr>
          <a:xfrm>
            <a:off x="0" y="228600"/>
            <a:ext cx="91440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" descr="飘带与权杖"/>
          <p:cNvPicPr/>
          <p:nvPr/>
        </p:nvPicPr>
        <p:blipFill>
          <a:blip r:embed="rId5"/>
          <a:srcRect l="62257" t="7874" r="0" b="42266"/>
          <a:stretch/>
        </p:blipFill>
        <p:spPr>
          <a:xfrm>
            <a:off x="7175520" y="4495680"/>
            <a:ext cx="1968480" cy="2362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寿险横式简称"/>
          <p:cNvPicPr/>
          <p:nvPr/>
        </p:nvPicPr>
        <p:blipFill>
          <a:blip r:embed="rId6"/>
          <a:stretch/>
        </p:blipFill>
        <p:spPr>
          <a:xfrm>
            <a:off x="6705720" y="149400"/>
            <a:ext cx="2438280" cy="6127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1AC9-9280-48E6-AE92-6FCE00B72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6400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17480" y="152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晚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复件 31401_165456084876_2"/>
          <p:cNvPicPr/>
          <p:nvPr/>
        </p:nvPicPr>
        <p:blipFill>
          <a:blip r:embed="rId1"/>
          <a:srcRect l="50775" t="5000" r="3676" b="512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066680" y="632448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A4918-4AFD-4758-86FE-3B92F9455C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1T11:50:2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7:02:16Z</dcterms:modified>
  <cp:revision>2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